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48B24-B613-4208-BAE9-57DA58274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1044-8E1A-4C8E-9771-11B2ED56B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F0B30-AFAB-4C51-A3CE-BDD9F3479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F8BE8-8ABF-4735-992F-0A1FED207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8645D-71AE-4FBD-AC15-CF4C7FC9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5E63A-C6AD-4328-83A4-82842BF8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B46E3-FC13-431E-A588-DB3A13E2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A41AA-8DA9-4A37-92D5-C0D231A5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FDC43-E32C-4B4B-B8F8-A23B9DF0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E5004-B639-4C5D-82FA-8A9B4559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CF328-1A3C-4D10-AF67-CD746C6B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12050-C601-4A6F-B099-057559AE5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66442-29E4-4F6C-9382-3DEFE38C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DA1A6-37AB-4524-B5E9-759DCE73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DC18C-53B6-43A3-A0F3-F559417E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41823-27DE-4866-BB85-A537B56D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028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90920" y="114300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0964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028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90920" y="3729960"/>
            <a:ext cx="256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70D27-7690-42BE-9D56-068C38D8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B23BB-B474-4518-AA5F-9712FC22E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DD03B-78E5-4077-9454-BCEB378A9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D04F4-4B2A-4AEE-A975-49F253D11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B981B-53D4-497E-9106-79643975C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5AEE-6D30-4D2E-B2C9-CE4C46C5E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87360" y="372996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58797-2EBA-4E43-AC0A-0F1D0512C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7360" y="1143000"/>
            <a:ext cx="3883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3729960"/>
            <a:ext cx="7958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3913-1BEE-406C-A954-269D92A0A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838080"/>
            <a:ext cx="8686800" cy="6019920"/>
          </a:xfrm>
          <a:prstGeom prst="rect">
            <a:avLst/>
          </a:prstGeom>
          <a:solidFill>
            <a:srgbClr val="000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28600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428840" indent="-228600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1771560" indent="-2286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876920" y="6552720"/>
            <a:ext cx="3962160" cy="2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D65D-CC6A-40F5-8793-C38A856132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914400"/>
            <a:ext cx="7238880" cy="5029200"/>
          </a:xfrm>
          <a:prstGeom prst="rect">
            <a:avLst/>
          </a:prstGeom>
          <a:solidFill>
            <a:srgbClr val="000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23E-9C68-42E4-B9E5-AE0A497AD027}" type="slidenum">
              <a:rPr b="0" lang="en-US" sz="1400" spc="-1" strike="noStrike">
                <a:solidFill>
                  <a:srgbClr val="ff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857160" algn="ctr">
              <a:spcBef>
                <a:spcPts val="45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1200240" algn="ctr">
              <a:spcBef>
                <a:spcPts val="451"/>
              </a:spcBef>
              <a:buClr>
                <a:srgbClr val="ffff00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6" Type="http://schemas.openxmlformats.org/officeDocument/2006/relationships/image" Target="../media/image1.jpeg"/><Relationship Id="rId7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8" Type="http://schemas.openxmlformats.org/officeDocument/2006/relationships/image" Target="../media/image1.jpeg"/><Relationship Id="rId9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0" Type="http://schemas.openxmlformats.org/officeDocument/2006/relationships/image" Target="../media/image1.jpeg"/><Relationship Id="rId1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www.classicsavers.com/casablanca.jpg&amp;imgrefurl=http://www.classicsavers.com/Casablanca.html&amp;h=600&amp;w=800&amp;sz=72&amp;tbnid=wSXOd5UUibIJ:&amp;tbnh=106&amp;tbnw=141&amp;start=3&amp;prev=/images%3Fq%3Dcasablanca%26hl%3Den%26lr%3D%26ie%3DUTF-8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9640" y="15015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n Kernels, Margins, and Low-dimensional Mapp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2590920"/>
            <a:ext cx="6662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Kernels versus feat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4237200"/>
            <a:ext cx="333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Nina Balcan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Avrim Blum         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CM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Santosh Vempala 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M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Key fact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Claim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fect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hp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Proof: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examples drawn so far.  Assu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=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8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02280" y="3200400"/>
            <a:ext cx="533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proj(w,span(S))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w –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008480" y="5181120"/>
            <a:ext cx="1387800" cy="711720"/>
            <a:chOff x="7008480" y="5181120"/>
            <a:chExt cx="1387800" cy="711720"/>
          </a:xfrm>
        </p:grpSpPr>
        <p:sp>
          <p:nvSpPr>
            <p:cNvPr id="167" name=""/>
            <p:cNvSpPr/>
            <p:nvPr/>
          </p:nvSpPr>
          <p:spPr>
            <a:xfrm rot="21470400">
              <a:off x="7016400" y="5409720"/>
              <a:ext cx="1371600" cy="457200"/>
            </a:xfrm>
            <a:prstGeom prst="parallelogram">
              <a:avLst>
                <a:gd name="adj" fmla="val 75000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086600" y="5181120"/>
              <a:ext cx="838080" cy="6858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086600" y="5638320"/>
              <a:ext cx="838080" cy="22860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924680" y="5181480"/>
              <a:ext cx="0" cy="457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69320" y="3713040"/>
            <a:ext cx="796572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larg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)|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¸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 else </a:t>
            </a:r>
            <a:r>
              <a:rPr b="1" lang="en-US" sz="2400" spc="-1" strike="noStrike">
                <a:solidFill>
                  <a:srgbClr val="ff6699"/>
                </a:solidFill>
                <a:latin typeface="Comic Sans MS"/>
              </a:rPr>
              <a:t>smal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small, then done: w’ =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se, next z has at leas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b of improving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5000" y="5257800"/>
            <a:ext cx="357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Ã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|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ou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|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–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8760" y="5792760"/>
            <a:ext cx="51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happen at most 4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imes.</a:t>
            </a:r>
            <a:r>
              <a:rPr b="0" lang="en-US" sz="2400" spc="-1" strike="noStrike">
                <a:solidFill>
                  <a:srgbClr val="ffffff"/>
                </a:solidFill>
                <a:latin typeface="stmary10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o....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234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dra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then whp exist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for so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[sign(w’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]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notice tha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+ ... +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vect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a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good separator in the feature space: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margin not preserved because of length of target, exampl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preserve margin? (mapping #2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 kno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pan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...,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error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·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given a new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just want to do an orthogonal projection into that span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preserves dot-product, decreas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|x|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 so only increases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or all i,j=1,...,d.  Get matr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ompos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 = 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pping #2) = (mapping #1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U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ff33cc"/>
                </a:solidFill>
                <a:latin typeface="stmary10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How to improve dimension?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1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rent mapping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ohnson-Lindenstrauss giv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log 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is nice because can hav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Good if alg wants data to be perfectly separable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(Learning a separator of margin 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can be done in time poly(1/</a:t>
            </a: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, but if no perfect separator exists, minimizing error is NP-hard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swer: just combine the two..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4343400"/>
            <a:ext cx="3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6200" y="5111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55320" y="4976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41240" y="5160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03120" y="5003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93520" y="4879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56760" y="53103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17120" y="5467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26800" y="5186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07320" y="52243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3280" y="5019840"/>
            <a:ext cx="1582560" cy="500040"/>
          </a:xfrm>
          <a:custGeom>
            <a:avLst/>
            <a:gdLst/>
            <a:ahLst/>
            <a:rect l="l" t="t" r="r" b="b"/>
            <a:pathLst>
              <a:path w="1104" h="392">
                <a:moveTo>
                  <a:pt x="0" y="0"/>
                </a:moveTo>
                <a:cubicBezTo>
                  <a:pt x="84" y="148"/>
                  <a:pt x="168" y="296"/>
                  <a:pt x="240" y="336"/>
                </a:cubicBezTo>
                <a:cubicBezTo>
                  <a:pt x="312" y="376"/>
                  <a:pt x="360" y="232"/>
                  <a:pt x="432" y="240"/>
                </a:cubicBezTo>
                <a:cubicBezTo>
                  <a:pt x="504" y="248"/>
                  <a:pt x="600" y="392"/>
                  <a:pt x="672" y="384"/>
                </a:cubicBezTo>
                <a:cubicBezTo>
                  <a:pt x="744" y="376"/>
                  <a:pt x="792" y="224"/>
                  <a:pt x="864" y="192"/>
                </a:cubicBezTo>
                <a:cubicBezTo>
                  <a:pt x="936" y="160"/>
                  <a:pt x="1064" y="192"/>
                  <a:pt x="1104" y="19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98440" y="4635360"/>
            <a:ext cx="2200320" cy="1257480"/>
          </a:xfrm>
          <a:custGeom>
            <a:avLst/>
            <a:gdLst/>
            <a:ahLst/>
            <a:rect l="l" t="t" r="r" b="b"/>
            <a:pathLst>
              <a:path w="1672" h="984">
                <a:moveTo>
                  <a:pt x="152" y="336"/>
                </a:moveTo>
                <a:cubicBezTo>
                  <a:pt x="208" y="272"/>
                  <a:pt x="232" y="120"/>
                  <a:pt x="344" y="96"/>
                </a:cubicBezTo>
                <a:cubicBezTo>
                  <a:pt x="456" y="72"/>
                  <a:pt x="720" y="208"/>
                  <a:pt x="824" y="192"/>
                </a:cubicBezTo>
                <a:cubicBezTo>
                  <a:pt x="928" y="176"/>
                  <a:pt x="888" y="0"/>
                  <a:pt x="968" y="0"/>
                </a:cubicBezTo>
                <a:cubicBezTo>
                  <a:pt x="1048" y="0"/>
                  <a:pt x="1192" y="152"/>
                  <a:pt x="1304" y="192"/>
                </a:cubicBezTo>
                <a:cubicBezTo>
                  <a:pt x="1416" y="232"/>
                  <a:pt x="1608" y="144"/>
                  <a:pt x="1640" y="240"/>
                </a:cubicBezTo>
                <a:cubicBezTo>
                  <a:pt x="1672" y="336"/>
                  <a:pt x="1544" y="648"/>
                  <a:pt x="1496" y="768"/>
                </a:cubicBezTo>
                <a:cubicBezTo>
                  <a:pt x="1448" y="888"/>
                  <a:pt x="1408" y="936"/>
                  <a:pt x="1352" y="960"/>
                </a:cubicBezTo>
                <a:cubicBezTo>
                  <a:pt x="1296" y="984"/>
                  <a:pt x="1256" y="912"/>
                  <a:pt x="1160" y="912"/>
                </a:cubicBezTo>
                <a:cubicBezTo>
                  <a:pt x="1064" y="912"/>
                  <a:pt x="880" y="968"/>
                  <a:pt x="776" y="960"/>
                </a:cubicBezTo>
                <a:cubicBezTo>
                  <a:pt x="672" y="952"/>
                  <a:pt x="632" y="904"/>
                  <a:pt x="536" y="864"/>
                </a:cubicBezTo>
                <a:cubicBezTo>
                  <a:pt x="440" y="824"/>
                  <a:pt x="288" y="784"/>
                  <a:pt x="200" y="720"/>
                </a:cubicBezTo>
                <a:cubicBezTo>
                  <a:pt x="112" y="656"/>
                  <a:pt x="16" y="552"/>
                  <a:pt x="8" y="480"/>
                </a:cubicBezTo>
                <a:cubicBezTo>
                  <a:pt x="0" y="408"/>
                  <a:pt x="96" y="400"/>
                  <a:pt x="152" y="336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3581280"/>
            <a:ext cx="2743200" cy="1219320"/>
          </a:xfrm>
          <a:prstGeom prst="parallelogram">
            <a:avLst>
              <a:gd name="adj" fmla="val 36330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20800" y="3813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76440" y="41162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60600" y="38545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36560" y="41590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32000" y="4389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36560" y="35496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68520" y="4464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0840" y="3549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1960" y="3870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46600" y="3684600"/>
            <a:ext cx="355680" cy="1039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5877000"/>
            <a:ext cx="2438640" cy="798480"/>
          </a:xfrm>
          <a:prstGeom prst="parallelogram">
            <a:avLst>
              <a:gd name="adj" fmla="val 77625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2080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68520" y="6369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6120" y="58402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9800" y="606096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41200" y="636912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07960" y="62164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6240" y="6095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68520" y="57913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7120" y="586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554800" y="5902200"/>
            <a:ext cx="387360" cy="674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38600" y="5530680"/>
            <a:ext cx="6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335268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4038480"/>
            <a:ext cx="1676520" cy="609840"/>
          </a:xfrm>
          <a:custGeom>
            <a:avLst/>
            <a:gdLst/>
            <a:ahLst/>
            <a:rect l="l" t="t" r="r" b="b"/>
            <a:pathLst>
              <a:path w="1104" h="816">
                <a:moveTo>
                  <a:pt x="0" y="816"/>
                </a:moveTo>
                <a:cubicBezTo>
                  <a:pt x="148" y="596"/>
                  <a:pt x="296" y="376"/>
                  <a:pt x="480" y="240"/>
                </a:cubicBezTo>
                <a:cubicBezTo>
                  <a:pt x="664" y="104"/>
                  <a:pt x="884" y="52"/>
                  <a:pt x="1104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13255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4967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55840" y="5637240"/>
            <a:ext cx="1295640" cy="6778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cubicBezTo>
                  <a:pt x="48" y="136"/>
                  <a:pt x="96" y="272"/>
                  <a:pt x="192" y="384"/>
                </a:cubicBezTo>
                <a:cubicBezTo>
                  <a:pt x="288" y="496"/>
                  <a:pt x="504" y="624"/>
                  <a:pt x="576" y="672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29000" y="5410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1447920"/>
            <a:ext cx="1905120" cy="3581280"/>
          </a:xfrm>
          <a:custGeom>
            <a:avLst/>
            <a:gdLst/>
            <a:ahLst/>
            <a:rect l="l" t="t" r="r" b="b"/>
            <a:pathLst>
              <a:path w="1008" h="1872">
                <a:moveTo>
                  <a:pt x="0" y="1872"/>
                </a:moveTo>
                <a:cubicBezTo>
                  <a:pt x="32" y="1624"/>
                  <a:pt x="64" y="1376"/>
                  <a:pt x="144" y="1152"/>
                </a:cubicBezTo>
                <a:cubicBezTo>
                  <a:pt x="224" y="928"/>
                  <a:pt x="336" y="720"/>
                  <a:pt x="480" y="528"/>
                </a:cubicBezTo>
                <a:cubicBezTo>
                  <a:pt x="624" y="336"/>
                  <a:pt x="816" y="168"/>
                  <a:pt x="1008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838080"/>
            <a:ext cx="4343400" cy="1067040"/>
          </a:xfrm>
          <a:prstGeom prst="parallelogram">
            <a:avLst>
              <a:gd name="adj" fmla="val 65731"/>
            </a:avLst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20800" y="1492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3080" y="1187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4612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8400" y="11430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717520" y="152388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79640" y="914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8728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77800" y="914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63800" y="8985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029200" y="914400"/>
            <a:ext cx="5335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83808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3657600"/>
            <a:ext cx="554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2362320" y="2438280"/>
            <a:ext cx="380880" cy="762120"/>
          </a:xfrm>
          <a:prstGeom prst="lightningBolt">
            <a:avLst/>
          </a:prstGeom>
          <a:solidFill>
            <a:srgbClr val="ffff00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799880" y="2514600"/>
            <a:ext cx="304920" cy="685800"/>
          </a:xfrm>
          <a:prstGeom prst="lightningBolt">
            <a:avLst/>
          </a:prstGeom>
          <a:solidFill>
            <a:srgbClr val="ffff99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229600" y="2286000"/>
            <a:ext cx="380880" cy="838080"/>
          </a:xfrm>
          <a:prstGeom prst="lightningBolt">
            <a:avLst/>
          </a:prstGeom>
          <a:solidFill>
            <a:srgbClr val="ffff00">
              <a:alpha val="1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Cloud"/>
          <p:cNvSpPr/>
          <p:nvPr/>
        </p:nvSpPr>
        <p:spPr>
          <a:xfrm>
            <a:off x="990720" y="2133720"/>
            <a:ext cx="7924680" cy="533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c5c3e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4876920"/>
            <a:ext cx="457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pping #3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JL(mapping2(x)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JL says: fix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,w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Random projec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log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with prob (1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’) preserve margin of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p to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4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’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all y, 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D, 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ure on y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r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[fail on prob mass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 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, we get desired dimension (# features), though sample-complexity remains as in mapping #2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Lower bound (on necessity of access to D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234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arbitrary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-box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an’t hope to convert to small feature space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sid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={0,1}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nd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½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of siz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n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uniform ove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 =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rbitrary function (so learning is hopeless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we have this magic kernel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y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1,0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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X’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 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po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x) = (-½,-</a:t>
            </a:r>
            <a:r>
              <a:rPr b="0" lang="en-US" sz="20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3/2)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if x </a:t>
            </a:r>
            <a:r>
              <a:rPr b="0" lang="en-US" sz="2000" spc="-1" strike="noStrike">
                <a:solidFill>
                  <a:srgbClr val="ffffff"/>
                </a:solidFill>
                <a:latin typeface="cmsy10"/>
              </a:rPr>
              <a:t>2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X’, c(x)=neg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57200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p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3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857640" y="518148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5562720"/>
            <a:ext cx="655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, without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ll attempts at running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give answer of 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162920" y="4267080"/>
            <a:ext cx="1841760" cy="1816200"/>
            <a:chOff x="7162920" y="4267080"/>
            <a:chExt cx="1841760" cy="1816200"/>
          </a:xfrm>
        </p:grpSpPr>
        <p:grpSp>
          <p:nvGrpSpPr>
            <p:cNvPr id="248" name=""/>
            <p:cNvGrpSpPr/>
            <p:nvPr/>
          </p:nvGrpSpPr>
          <p:grpSpPr>
            <a:xfrm>
              <a:off x="7162920" y="4267080"/>
              <a:ext cx="1371600" cy="1816200"/>
              <a:chOff x="7162920" y="4267080"/>
              <a:chExt cx="1371600" cy="1816200"/>
            </a:xfrm>
          </p:grpSpPr>
          <p:grpSp>
            <p:nvGrpSpPr>
              <p:cNvPr id="249" name=""/>
              <p:cNvGrpSpPr/>
              <p:nvPr/>
            </p:nvGrpSpPr>
            <p:grpSpPr>
              <a:xfrm>
                <a:off x="7162920" y="4495680"/>
                <a:ext cx="1371600" cy="1371600"/>
                <a:chOff x="7162920" y="4495680"/>
                <a:chExt cx="1371600" cy="1371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7848720" y="518148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H="1">
                  <a:off x="7413480" y="5175360"/>
                  <a:ext cx="414720" cy="546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 flipH="1" flipV="1">
                  <a:off x="7465680" y="4604400"/>
                  <a:ext cx="376920" cy="57276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162920" y="4495680"/>
                  <a:ext cx="1371600" cy="1371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89200" y="4267080"/>
                <a:ext cx="362160" cy="1816200"/>
                <a:chOff x="7189200" y="4267080"/>
                <a:chExt cx="362160" cy="1816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6360" y="4267080"/>
                  <a:ext cx="315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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89200" y="5715000"/>
                  <a:ext cx="257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8499240" y="4952880"/>
              <a:ext cx="50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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Open Problem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specific, natural kernels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k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K(x,y) = (1 + x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y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s there an efficient (probability distribution over) mappings that is good for any P = (c,D) for which the kernel is good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.e., an efficient analog to JL for these kerne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, at least can these mappings be constructed using less sample-complexity (fewer accesses to D)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9640" y="1143000"/>
            <a:ext cx="795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set of images:                 , want to learn a linear separator to distinguish men from wom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: pixel representation no go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95680" y="762120"/>
            <a:ext cx="1295280" cy="761760"/>
            <a:chOff x="4495680" y="762120"/>
            <a:chExt cx="1295280" cy="761760"/>
          </a:xfrm>
        </p:grpSpPr>
        <p:pic>
          <p:nvPicPr>
            <p:cNvPr id="89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4495680" y="7621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5257440" y="7621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"/>
          <p:cNvSpPr/>
          <p:nvPr/>
        </p:nvSpPr>
        <p:spPr>
          <a:xfrm>
            <a:off x="838080" y="26668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2670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33920" y="4419720"/>
            <a:ext cx="1295280" cy="761760"/>
            <a:chOff x="3733920" y="4419720"/>
            <a:chExt cx="1295280" cy="761760"/>
          </a:xfrm>
        </p:grpSpPr>
        <p:pic>
          <p:nvPicPr>
            <p:cNvPr id="94" name="images" descr="">
              <a:hlinkClick r:id="rId5"/>
            </p:cNvPr>
            <p:cNvPicPr/>
            <p:nvPr/>
          </p:nvPicPr>
          <p:blipFill>
            <a:blip r:embed="rId6"/>
            <a:srcRect l="9469" t="0" r="57459" b="38540"/>
            <a:stretch/>
          </p:blipFill>
          <p:spPr>
            <a:xfrm>
              <a:off x="3733920" y="44197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images" descr="">
              <a:hlinkClick r:id="rId7"/>
            </p:cNvPr>
            <p:cNvPicPr/>
            <p:nvPr/>
          </p:nvPicPr>
          <p:blipFill>
            <a:blip r:embed="rId8"/>
            <a:srcRect l="42561" t="18882" r="24347" b="18213"/>
            <a:stretch/>
          </p:blipFill>
          <p:spPr>
            <a:xfrm>
              <a:off x="4495680" y="44197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6" name="images" descr="">
            <a:hlinkClick r:id="rId9"/>
          </p:cNvPr>
          <p:cNvPicPr/>
          <p:nvPr/>
        </p:nvPicPr>
        <p:blipFill>
          <a:blip r:embed="rId10"/>
          <a:srcRect l="9469" t="0" r="57459" b="38540"/>
          <a:stretch/>
        </p:blipFill>
        <p:spPr>
          <a:xfrm>
            <a:off x="5867280" y="44197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>
            <a:hlinkClick r:id="rId11"/>
          </p:cNvPr>
          <p:cNvPicPr/>
          <p:nvPr/>
        </p:nvPicPr>
        <p:blipFill>
          <a:blip r:embed="rId12"/>
          <a:srcRect l="42561" t="18882" r="24347" b="18213"/>
          <a:stretch/>
        </p:blipFill>
        <p:spPr>
          <a:xfrm>
            <a:off x="6934320" y="44197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55627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Generic problem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Old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ick a better set of featur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ut seems ad-hoc.  Not scientific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66688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New style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 a Kernel!   K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,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s implicit, high-dimensional mapp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733920" y="2819520"/>
            <a:ext cx="1295280" cy="761760"/>
            <a:chOff x="3733920" y="2819520"/>
            <a:chExt cx="1295280" cy="761760"/>
          </a:xfrm>
        </p:grpSpPr>
        <p:pic>
          <p:nvPicPr>
            <p:cNvPr id="103" name="images" descr="">
              <a:hlinkClick r:id="rId1"/>
            </p:cNvPr>
            <p:cNvPicPr/>
            <p:nvPr/>
          </p:nvPicPr>
          <p:blipFill>
            <a:blip r:embed="rId2"/>
            <a:srcRect l="9469" t="0" r="57459" b="38540"/>
            <a:stretch/>
          </p:blipFill>
          <p:spPr>
            <a:xfrm>
              <a:off x="3733920" y="2819520"/>
              <a:ext cx="53316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images" descr="">
              <a:hlinkClick r:id="rId3"/>
            </p:cNvPr>
            <p:cNvPicPr/>
            <p:nvPr/>
          </p:nvPicPr>
          <p:blipFill>
            <a:blip r:embed="rId4"/>
            <a:srcRect l="42561" t="18882" r="24347" b="18213"/>
            <a:stretch/>
          </p:blipFill>
          <p:spPr>
            <a:xfrm>
              <a:off x="4495680" y="2819520"/>
              <a:ext cx="5335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images" descr=""/>
          <p:cNvPicPr/>
          <p:nvPr/>
        </p:nvPicPr>
        <p:blipFill>
          <a:blip r:embed="rId5"/>
          <a:srcRect l="9469" t="0" r="57459" b="38540"/>
          <a:stretch/>
        </p:blipFill>
        <p:spPr>
          <a:xfrm>
            <a:off x="5867280" y="2819520"/>
            <a:ext cx="53352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images" descr=""/>
          <p:cNvPicPr/>
          <p:nvPr/>
        </p:nvPicPr>
        <p:blipFill>
          <a:blip r:embed="rId6"/>
          <a:srcRect l="42561" t="18882" r="24347" b="18213"/>
          <a:stretch/>
        </p:blipFill>
        <p:spPr>
          <a:xfrm>
            <a:off x="6934320" y="2819520"/>
            <a:ext cx="533160" cy="761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080" y="39625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unds more scientific.  Many algorithms can be “kernelized”. Use “magic” of implicit high-dim’l space.  Don’t pay for it if exists a large margin sepa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518148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.g., K(x,y) = (x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y + 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(n-diml space)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!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n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diml 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You give me a kernel, I give you a set of features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in point of this work: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view new method as way of conducting old method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iven a kernel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as a black-box program K(x,y)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nd access to typical inputs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samples from D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Claim: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run K and reverse-engineer an explicit (small) set of features, such that if K is good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large-margin separator in </a:t>
            </a:r>
            <a:r>
              <a:rPr b="0" lang="en-US" sz="2400" spc="-1" strike="noStrike">
                <a:solidFill>
                  <a:srgbClr val="ff6699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-space for D,c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this is a good feature set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6699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 almost-as-good separator]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E.g., sample 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from D.   Given x, define 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mplic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actical: alternative to kernelizing the algorith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ceptual:  View kernel as (principled) way of doing feature generation.  View as similarity function, rather than “magic power of implicit high dimensional space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Basic setup, definitions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958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ance space X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84800" y="5029200"/>
            <a:ext cx="3025080" cy="1523880"/>
            <a:chOff x="784800" y="5029200"/>
            <a:chExt cx="3025080" cy="1523880"/>
          </a:xfrm>
        </p:grpSpPr>
        <p:sp>
          <p:nvSpPr>
            <p:cNvPr id="117" name=""/>
            <p:cNvSpPr/>
            <p:nvPr/>
          </p:nvSpPr>
          <p:spPr>
            <a:xfrm>
              <a:off x="784800" y="56386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5029200"/>
              <a:ext cx="2590560" cy="1523880"/>
            </a:xfrm>
            <a:prstGeom prst="ellipse">
              <a:avLst/>
            </a:prstGeom>
            <a:solidFill>
              <a:srgbClr val="ff6699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905120" y="5410080"/>
              <a:ext cx="1295280" cy="762120"/>
              <a:chOff x="1905120" y="5410080"/>
              <a:chExt cx="1295280" cy="762120"/>
            </a:xfrm>
          </p:grpSpPr>
          <p:pic>
            <p:nvPicPr>
              <p:cNvPr id="120" name="images" descr="">
                <a:hlinkClick r:id="rId1"/>
              </p:cNvPr>
              <p:cNvPicPr/>
              <p:nvPr/>
            </p:nvPicPr>
            <p:blipFill>
              <a:blip r:embed="rId2"/>
              <a:srcRect l="9469" t="0" r="57459" b="38540"/>
              <a:stretch/>
            </p:blipFill>
            <p:spPr>
              <a:xfrm>
                <a:off x="1905120" y="5410080"/>
                <a:ext cx="53316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images" descr="">
                <a:hlinkClick r:id="rId3"/>
              </p:cNvPr>
              <p:cNvPicPr/>
              <p:nvPr/>
            </p:nvPicPr>
            <p:blipFill>
              <a:blip r:embed="rId4"/>
              <a:srcRect l="42561" t="18882" r="24347" b="18213"/>
              <a:stretch/>
            </p:blipFill>
            <p:spPr>
              <a:xfrm>
                <a:off x="2666880" y="5410080"/>
                <a:ext cx="533520" cy="762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" name=""/>
          <p:cNvSpPr/>
          <p:nvPr/>
        </p:nvSpPr>
        <p:spPr>
          <a:xfrm>
            <a:off x="457200" y="1295280"/>
            <a:ext cx="795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tribution D, target c.  Use P = (D,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752480"/>
            <a:ext cx="8458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(x,y) =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y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096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 i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 if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 s.t. P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(x,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)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msy10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 P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cmmi10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 </a:t>
            </a:r>
            <a:r>
              <a:rPr b="0" lang="en-US" sz="2400" spc="-1" strike="noStrike">
                <a:solidFill>
                  <a:srgbClr val="ffffff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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ormalizing |w|=1, |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x)|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56386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=(D,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581280" y="1981080"/>
            <a:ext cx="5380200" cy="3353040"/>
            <a:chOff x="3581280" y="1981080"/>
            <a:chExt cx="5380200" cy="3353040"/>
          </a:xfrm>
        </p:grpSpPr>
        <p:sp>
          <p:nvSpPr>
            <p:cNvPr id="127" name=""/>
            <p:cNvSpPr/>
            <p:nvPr/>
          </p:nvSpPr>
          <p:spPr>
            <a:xfrm flipV="1">
              <a:off x="3581280" y="2971800"/>
              <a:ext cx="3657600" cy="23623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1981080"/>
              <a:ext cx="1646280" cy="968400"/>
            </a:xfrm>
            <a:prstGeom prst="cloudCallout">
              <a:avLst>
                <a:gd name="adj1" fmla="val -49518"/>
                <a:gd name="adj2" fmla="val 48194"/>
              </a:avLst>
            </a:prstGeom>
            <a:solidFill>
              <a:srgbClr val="82e482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53440" y="3917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7010640" y="1752480"/>
            <a:ext cx="1104480" cy="1600200"/>
            <a:chOff x="7010640" y="1752480"/>
            <a:chExt cx="1104480" cy="1600200"/>
          </a:xfrm>
        </p:grpSpPr>
        <p:sp>
          <p:nvSpPr>
            <p:cNvPr id="131" name=""/>
            <p:cNvSpPr/>
            <p:nvPr/>
          </p:nvSpPr>
          <p:spPr>
            <a:xfrm>
              <a:off x="8115120" y="1752480"/>
              <a:ext cx="0" cy="1600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200720" y="2438280"/>
              <a:ext cx="9144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10640" y="2133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57200" y="3581280"/>
            <a:ext cx="3429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replace “0” with “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9400" y="3962520"/>
            <a:ext cx="2133720" cy="2590560"/>
          </a:xfrm>
          <a:prstGeom prst="wedgeRoundRectCallout">
            <a:avLst>
              <a:gd name="adj1" fmla="val -49703"/>
              <a:gd name="adj2" fmla="val -8518"/>
              <a:gd name="adj3" fmla="val 16667"/>
            </a:avLst>
          </a:prstGeom>
          <a:solidFill>
            <a:srgbClr val="000066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oal is to use K to get mapping to low-dim’l 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Idea: Johnson-Lindenstrauss lemma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P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ith prob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-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rando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inear projection down to space of dimens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O((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log[1/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]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ll have a linear separator of err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&lt;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AV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2160" y="2133720"/>
            <a:ext cx="7901640" cy="4572000"/>
            <a:chOff x="632160" y="2133720"/>
            <a:chExt cx="7901640" cy="4572000"/>
          </a:xfrm>
        </p:grpSpPr>
        <p:grpSp>
          <p:nvGrpSpPr>
            <p:cNvPr id="139" name=""/>
            <p:cNvGrpSpPr/>
            <p:nvPr/>
          </p:nvGrpSpPr>
          <p:grpSpPr>
            <a:xfrm>
              <a:off x="632160" y="5181840"/>
              <a:ext cx="3025080" cy="1523880"/>
              <a:chOff x="632160" y="5181840"/>
              <a:chExt cx="302508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632160" y="579132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066680" y="5181840"/>
                <a:ext cx="2590560" cy="1523880"/>
              </a:xfrm>
              <a:prstGeom prst="ellipse">
                <a:avLst/>
              </a:prstGeom>
              <a:solidFill>
                <a:srgbClr val="ff6699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752480" y="5562720"/>
                <a:ext cx="1295280" cy="762120"/>
                <a:chOff x="1752480" y="5562720"/>
                <a:chExt cx="1295280" cy="762120"/>
              </a:xfrm>
            </p:grpSpPr>
            <p:pic>
              <p:nvPicPr>
                <p:cNvPr id="143" name="images" descr="">
                  <a:hlinkClick r:id="rId1"/>
                </p:cNvPr>
                <p:cNvPicPr/>
                <p:nvPr/>
              </p:nvPicPr>
              <p:blipFill>
                <a:blip r:embed="rId2"/>
                <a:srcRect l="9469" t="0" r="57459" b="38540"/>
                <a:stretch/>
              </p:blipFill>
              <p:spPr>
                <a:xfrm>
                  <a:off x="1752480" y="5562720"/>
                  <a:ext cx="533160" cy="744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4" name="images" descr="">
                  <a:hlinkClick r:id="rId3"/>
                </p:cNvPr>
                <p:cNvPicPr/>
                <p:nvPr/>
              </p:nvPicPr>
              <p:blipFill>
                <a:blip r:embed="rId4"/>
                <a:srcRect l="42561" t="18882" r="24347" b="18213"/>
                <a:stretch/>
              </p:blipFill>
              <p:spPr>
                <a:xfrm>
                  <a:off x="2514240" y="5562720"/>
                  <a:ext cx="533520" cy="76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5" name=""/>
            <p:cNvSpPr/>
            <p:nvPr/>
          </p:nvSpPr>
          <p:spPr>
            <a:xfrm>
              <a:off x="3733560" y="5791320"/>
              <a:ext cx="1219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P=(D,c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28640" y="2133720"/>
              <a:ext cx="5105160" cy="3351960"/>
              <a:chOff x="3428640" y="2133720"/>
              <a:chExt cx="5105160" cy="335196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3428640" y="3176280"/>
                <a:ext cx="3540600" cy="230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86800" y="2133720"/>
                <a:ext cx="1647000" cy="968040"/>
              </a:xfrm>
              <a:prstGeom prst="cloudCallout">
                <a:avLst>
                  <a:gd name="adj1" fmla="val -42083"/>
                  <a:gd name="adj2" fmla="val 53365"/>
                </a:avLst>
              </a:prstGeom>
              <a:solidFill>
                <a:srgbClr val="82e482">
                  <a:alpha val="50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Lucida Console"/>
                  </a:rPr>
                  <a:t>+   -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00440" y="407052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6553080" y="3124080"/>
            <a:ext cx="1828800" cy="3429000"/>
            <a:chOff x="6553080" y="3124080"/>
            <a:chExt cx="1828800" cy="3429000"/>
          </a:xfrm>
        </p:grpSpPr>
        <p:sp>
          <p:nvSpPr>
            <p:cNvPr id="151" name=""/>
            <p:cNvSpPr/>
            <p:nvPr/>
          </p:nvSpPr>
          <p:spPr>
            <a:xfrm flipH="1">
              <a:off x="7391160" y="5029200"/>
              <a:ext cx="114120" cy="1523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5334120"/>
              <a:ext cx="18288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 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Lucida Console"/>
                </a:rPr>
                <a:t>+  -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0235000">
              <a:off x="7010280" y="5181120"/>
              <a:ext cx="990720" cy="990720"/>
            </a:xfrm>
            <a:prstGeom prst="rect">
              <a:avLst/>
            </a:prstGeom>
            <a:solidFill>
              <a:srgbClr val="000066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619760" y="3124080"/>
              <a:ext cx="152280" cy="19051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33520" y="259092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vectors 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then  can view as featur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=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x)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¢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r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3581280"/>
            <a:ext cx="4419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Problem: uses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. Can we do directly, using K as black-box, without computing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5181480"/>
            <a:ext cx="3276720" cy="533520"/>
          </a:xfrm>
          <a:custGeom>
            <a:avLst/>
            <a:gdLst/>
            <a:ahLst/>
            <a:rect l="l" t="t" r="r" b="b"/>
            <a:pathLst>
              <a:path w="2064" h="336">
                <a:moveTo>
                  <a:pt x="0" y="336"/>
                </a:moveTo>
                <a:cubicBezTo>
                  <a:pt x="181" y="280"/>
                  <a:pt x="744" y="0"/>
                  <a:pt x="1088" y="0"/>
                </a:cubicBezTo>
                <a:cubicBezTo>
                  <a:pt x="1432" y="0"/>
                  <a:pt x="1861" y="266"/>
                  <a:pt x="2064" y="336"/>
                </a:cubicBezTo>
              </a:path>
            </a:pathLst>
          </a:custGeom>
          <a:noFill/>
          <a:ln w="28440">
            <a:solidFill>
              <a:srgbClr val="ff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3 methods (from simplest to best)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raw d examples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,...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from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 Us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(x) = (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, ..., K(x,z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).   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[So, “x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” = K(x,z</a:t>
            </a:r>
            <a:r>
              <a:rPr b="0" lang="en-US" sz="2400" spc="-1" strike="noStrike" baseline="30000">
                <a:solidFill>
                  <a:srgbClr val="66ff33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66ff33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= (8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[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30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+ ln 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],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f P was separable with marg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space, then whp this will be separable with error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(but this method doesn’t preserve margin)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but a little more complicated.  Separable with error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t margin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/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ffff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mbin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th further projection as in JL lemma.  Get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ith log dependence 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1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rather than linear.  So, can set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msy10"/>
              </a:rPr>
              <a:t>¿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1/d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5334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All these methods need access to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, unlike JL.  Can this be removed?  We show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ff33cc"/>
                </a:solidFill>
                <a:latin typeface="Comic Sans MS"/>
              </a:rPr>
              <a:t> for generic K, but may be possible for natural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690732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ctually, the argument is pretty easy...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295280" y="3581280"/>
            <a:ext cx="666288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e482"/>
                </a:solidFill>
                <a:latin typeface="Comic Sans MS"/>
              </a:rPr>
              <a:t>(though we did try a lot of things first that didn’t work...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3:58:22Z</dcterms:created>
  <dc:creator>Avrim Blum</dc:creator>
  <dc:description/>
  <dc:language>en-US</dc:language>
  <cp:lastModifiedBy>Avrim Blum</cp:lastModifiedBy>
  <dcterms:modified xsi:type="dcterms:W3CDTF">2004-10-15T17:31:06Z</dcterms:modified>
  <cp:revision>29</cp:revision>
  <dc:subject/>
  <dc:title>On Kernels, Margins, and Low-dimensional Mappings</dc:title>
</cp:coreProperties>
</file>