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04844-8C2D-4BFA-BED7-05E94A3D1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C88C-3F08-4120-BB00-09C76FC6D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80A19-ED79-4589-AE86-19342B2E1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E4F90-897A-46BF-9A13-A21D00C34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B03A4-B1BB-4BE6-B79C-439E281F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7EC26-9D96-450C-AB42-F39AAA86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2A184-964C-46E2-AF7F-77AC72C0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C6CCD-730B-465C-AEB2-3AB42AB3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5F9CF-6313-4BE4-A39F-F092E275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703EB-5669-4CCE-BFA5-40A518F6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40141-7210-4904-9120-04FEF5DE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F3DBC-7147-458C-AF30-160206DA0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17107-F3A7-4B2E-97BB-89A90A72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ED11D-2000-4696-9834-E4743793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23F51-A5BF-4A65-B3D3-EB6F50C1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ABCA9-DEF7-460F-94DE-71EF7BF1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9EBEB-C674-4678-8BE3-072B613E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9F37-AFAE-4217-B3A6-EDD58B4C9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912D-9678-40E4-90DC-43A61EC60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E9DF-52A2-49A0-9948-C11DBAB20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93C8-BFDF-4A60-965F-2D0C73AD1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171C-B6B3-443E-9757-8B9725FE6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AEC7-AED3-4655-9DEF-A77EA96D2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6ADE-BB85-47EF-BCA5-E503BBCB3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9DCF-0255-4977-B1C4-46CD17343F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98B4-94AC-45A0-B738-25FE183CD06B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1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Kernels, Margins, and Low-dimensional Mappin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662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ernels versus featur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4237200"/>
            <a:ext cx="33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ina Balcan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vrim Blum 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antosh Vempala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ey fac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167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69320" y="3713040"/>
            <a:ext cx="796572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8760" y="5792760"/>
            <a:ext cx="51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</a:t>
            </a:r>
            <a:r>
              <a:rPr b="0" lang="en-US" sz="2400" spc="-1" strike="noStrike">
                <a:solidFill>
                  <a:srgbClr val="ffffff"/>
                </a:solidFill>
                <a:latin typeface="stmary10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.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23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rgin not preserved because of length of target, examp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preserve margin? (mapping #2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kno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just want to do an orthogonal projection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x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improve dimension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is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ood if alg wants data to be perfectly separab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Learning a separator of margin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can be done in time poly(1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, but if no perfect separator exists, minimizing error is NP-hard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pping #3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JL(mapping2(x)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says: f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,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Random projec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log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with prob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) preserve margin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p to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all y, 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, 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 on prob mas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we get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wer bound (on necessity of access to 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248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pecific, natural kernels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k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(1 + x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y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there an efficient (probability distribution over) mappings that is good for any P = (c,D) for which the kernel is goo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.e., an efficient analog to JL for these kerne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at least can these mappings be constructed using less sample-complexity (fewer accesses to D)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set of images:                 , want to learn a linear separator to distinguish men from wom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pixel representation no go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495680" y="762120"/>
            <a:ext cx="1295280" cy="761760"/>
            <a:chOff x="4495680" y="762120"/>
            <a:chExt cx="1295280" cy="761760"/>
          </a:xfrm>
        </p:grpSpPr>
        <p:pic>
          <p:nvPicPr>
            <p:cNvPr id="89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495680" y="7621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257440" y="7621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838080" y="26668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2670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733920" y="4419720"/>
            <a:ext cx="1295280" cy="761760"/>
            <a:chOff x="3733920" y="4419720"/>
            <a:chExt cx="1295280" cy="761760"/>
          </a:xfrm>
        </p:grpSpPr>
        <p:pic>
          <p:nvPicPr>
            <p:cNvPr id="94" name="images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733920" y="4419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s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495680" y="4419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images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5867280" y="44197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97" name="images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6934320" y="44197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55627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6668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33920" y="2819520"/>
            <a:ext cx="1295280" cy="761760"/>
            <a:chOff x="3733920" y="2819520"/>
            <a:chExt cx="1295280" cy="761760"/>
          </a:xfrm>
        </p:grpSpPr>
        <p:pic>
          <p:nvPicPr>
            <p:cNvPr id="103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733920" y="28195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495680" y="28195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images" descr=""/>
          <p:cNvPicPr/>
          <p:nvPr/>
        </p:nvPicPr>
        <p:blipFill>
          <a:blip r:embed="rId5"/>
          <a:srcRect l="9469" t="0" r="57459" b="38540"/>
          <a:stretch/>
        </p:blipFill>
        <p:spPr>
          <a:xfrm>
            <a:off x="5867280" y="28195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106" name="images" descr=""/>
          <p:cNvPicPr/>
          <p:nvPr/>
        </p:nvPicPr>
        <p:blipFill>
          <a:blip r:embed="rId6"/>
          <a:srcRect l="42561" t="18882" r="24347" b="18213"/>
          <a:stretch/>
        </p:blipFill>
        <p:spPr>
          <a:xfrm>
            <a:off x="6934320" y="28195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39625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1814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K(x,y) = (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y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(n-diml space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diml 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You give me a kernel, I give you a set of features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E.g., sample 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from D.   Given x, define 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19112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 View kernel as (principled) way of doing feature generation.  View as similarity function, rather than “magic power of implicit high dimensional spac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asic setup, defini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95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ce space X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84800" y="5029200"/>
            <a:ext cx="3025080" cy="1523880"/>
            <a:chOff x="784800" y="5029200"/>
            <a:chExt cx="3025080" cy="1523880"/>
          </a:xfrm>
        </p:grpSpPr>
        <p:sp>
          <p:nvSpPr>
            <p:cNvPr id="117" name=""/>
            <p:cNvSpPr/>
            <p:nvPr/>
          </p:nvSpPr>
          <p:spPr>
            <a:xfrm>
              <a:off x="784800" y="5638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5029200"/>
              <a:ext cx="2590560" cy="1523880"/>
            </a:xfrm>
            <a:prstGeom prst="ellipse">
              <a:avLst/>
            </a:prstGeom>
            <a:solidFill>
              <a:srgbClr val="ff66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905120" y="5410080"/>
              <a:ext cx="1295280" cy="762120"/>
              <a:chOff x="1905120" y="5410080"/>
              <a:chExt cx="1295280" cy="762120"/>
            </a:xfrm>
          </p:grpSpPr>
          <p:pic>
            <p:nvPicPr>
              <p:cNvPr id="120" name="images" descr="">
                <a:hlinkClick r:id="rId1"/>
              </p:cNvPr>
              <p:cNvPicPr/>
              <p:nvPr/>
            </p:nvPicPr>
            <p:blipFill>
              <a:blip r:embed="rId2"/>
              <a:srcRect l="9469" t="0" r="57459" b="38540"/>
              <a:stretch/>
            </p:blipFill>
            <p:spPr>
              <a:xfrm>
                <a:off x="1905120" y="5410080"/>
                <a:ext cx="53316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images" descr="">
                <a:hlinkClick r:id="rId3"/>
              </p:cNvPr>
              <p:cNvPicPr/>
              <p:nvPr/>
            </p:nvPicPr>
            <p:blipFill>
              <a:blip r:embed="rId4"/>
              <a:srcRect l="42561" t="18882" r="24347" b="18213"/>
              <a:stretch/>
            </p:blipFill>
            <p:spPr>
              <a:xfrm>
                <a:off x="2666880" y="5410080"/>
                <a:ext cx="533520" cy="76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" name=""/>
          <p:cNvSpPr/>
          <p:nvPr/>
        </p:nvSpPr>
        <p:spPr>
          <a:xfrm>
            <a:off x="457200" y="1295280"/>
            <a:ext cx="79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tribution D, target c.  Use P = (D,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y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09680"/>
            <a:ext cx="6019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 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 s.t. 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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rmalizing |w|=1, |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|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56386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=(D,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581280" y="1981080"/>
            <a:ext cx="5380200" cy="3353040"/>
            <a:chOff x="3581280" y="1981080"/>
            <a:chExt cx="5380200" cy="3353040"/>
          </a:xfrm>
        </p:grpSpPr>
        <p:sp>
          <p:nvSpPr>
            <p:cNvPr id="127" name=""/>
            <p:cNvSpPr/>
            <p:nvPr/>
          </p:nvSpPr>
          <p:spPr>
            <a:xfrm flipV="1">
              <a:off x="3581280" y="2971800"/>
              <a:ext cx="365760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1981080"/>
              <a:ext cx="1646280" cy="968400"/>
            </a:xfrm>
            <a:prstGeom prst="cloudCallout">
              <a:avLst>
                <a:gd name="adj1" fmla="val -49518"/>
                <a:gd name="adj2" fmla="val 48194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3440" y="3917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010640" y="1752480"/>
            <a:ext cx="1104480" cy="1600200"/>
            <a:chOff x="7010640" y="1752480"/>
            <a:chExt cx="1104480" cy="1600200"/>
          </a:xfrm>
        </p:grpSpPr>
        <p:sp>
          <p:nvSpPr>
            <p:cNvPr id="131" name=""/>
            <p:cNvSpPr/>
            <p:nvPr/>
          </p:nvSpPr>
          <p:spPr>
            <a:xfrm>
              <a:off x="8115120" y="1752480"/>
              <a:ext cx="0" cy="1600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200720" y="243828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640" y="2133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57200" y="358128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replace “0” with “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3962520"/>
            <a:ext cx="2133720" cy="2590560"/>
          </a:xfrm>
          <a:prstGeom prst="wedgeRoundRectCallout">
            <a:avLst>
              <a:gd name="adj1" fmla="val -49703"/>
              <a:gd name="adj2" fmla="val -8518"/>
              <a:gd name="adj3" fmla="val 16667"/>
            </a:avLst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al is to use K to get mapping to low-dim’l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dea: Johnson-Lindenstrauss lem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P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AV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139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140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99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143" name="images" descr="">
                  <a:hlinkClick r:id="rId1"/>
                </p:cNvPr>
                <p:cNvPicPr/>
                <p:nvPr/>
              </p:nvPicPr>
              <p:blipFill>
                <a:blip r:embed="rId2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images" descr="">
                  <a:hlinkClick r:id="rId3"/>
                </p:cNvPr>
                <p:cNvPicPr/>
                <p:nvPr/>
              </p:nvPicPr>
              <p:blipFill>
                <a:blip r:embed="rId4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5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=(D,c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00440" y="407052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151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0000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 can view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3 methods (from simplest to best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P wa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ctually, the argument is pretty easy..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95280" y="3581280"/>
            <a:ext cx="666288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3:58:22Z</dcterms:created>
  <dc:creator>Avrim Blum</dc:creator>
  <dc:description/>
  <dc:language>en-US</dc:language>
  <cp:lastModifiedBy>Avrim Blum</cp:lastModifiedBy>
  <dcterms:modified xsi:type="dcterms:W3CDTF">2004-10-15T17:31:06Z</dcterms:modified>
  <cp:revision>29</cp:revision>
  <dc:subject/>
  <dc:title>On Kernels, Margins, and Low-dimensional Mappings</dc:title>
</cp:coreProperties>
</file>