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5D80-8816-43DB-B98F-30C470C49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sets as sharabl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wrt possibl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people only move if improvement &gt; epsilon.  Then can view as better-resp in original setting so OK.  (But remember, we are not trying to come up with an algorithm, we are trying to see if system is stable.  So stability would *depend* on people not moving when they have little to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order in byzantine model: good question.  Current bound depends on lured-players not moving until common set is emptied out.  Might be able to have bound where have a tree of sets like this and random order doesn’t help.  Not sure.  Of course, eventually the bad order would happen, so you’d want to talk about polynomial number of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567-8FB4-4B1B-8F49-AF5FF9E2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BF1-E841-4884-91BC-9CECFC02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CCB-E026-4275-B65D-41F67DF9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E61-44B2-4AC9-BEBC-401ED294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B1D-AF64-49C7-AB19-C7CDD671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906-E3A0-4108-ADCA-ED564949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D6E-91C9-4978-8222-22524859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CE9-C01B-429A-8F33-B3E34994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1A6-F797-4550-8A91-2D7BBC19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ABB-0773-400E-9C5F-F3F587BB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787-5B8B-4819-8B7C-2225A93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E1F-0BD6-4C0C-A4D2-17513CBD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20C1-020C-48F4-9237-486FCC840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086600" cy="5105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ice of Uncert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-Florina Balcan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vrim Blum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shay Mansour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-Aviv/Goo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242040" y="61722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CM-EC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alternatively, one or more Byzantine players who move between time ste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begins in a low-cos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ad can things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58588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6576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One way to look at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graph: one node for each state.  Edge u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 if perturbation can cause BR to move from u to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the reachable                                       set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5330160"/>
            <a:ext cx="2527920" cy="995400"/>
            <a:chOff x="5181480" y="5330160"/>
            <a:chExt cx="2527920" cy="995400"/>
          </a:xfrm>
        </p:grpSpPr>
        <p:sp>
          <p:nvSpPr>
            <p:cNvPr id="189" name=""/>
            <p:cNvSpPr/>
            <p:nvPr/>
          </p:nvSpPr>
          <p:spPr>
            <a:xfrm>
              <a:off x="5181480" y="609588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571500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5791320"/>
              <a:ext cx="7596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95880"/>
              <a:ext cx="7596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53928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57800" y="57913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6400" y="5486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5486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67280" y="5867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486040" y="5791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504600">
              <a:off x="7277040" y="58593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04600">
              <a:off x="7122960" y="53434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2504600">
              <a:off x="7334280" y="62355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367400" y="5686920"/>
              <a:ext cx="27900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953400" y="5913360"/>
              <a:ext cx="3099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6346080" y="5414760"/>
              <a:ext cx="549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31040" y="5949000"/>
              <a:ext cx="252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7320" y="5431680"/>
              <a:ext cx="1231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92560" y="5408640"/>
              <a:ext cx="212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2504600">
              <a:off x="7619760" y="563832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504600">
              <a:off x="6864120" y="598140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95520" y="54100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84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578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layers (po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sets, with cos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layer chooses some set that covers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split cost with all others choosing same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2057400"/>
            <a:ext cx="3505320" cy="1523880"/>
            <a:chOff x="2895480" y="2057400"/>
            <a:chExt cx="3505320" cy="1523880"/>
          </a:xfrm>
        </p:grpSpPr>
        <p:sp>
          <p:nvSpPr>
            <p:cNvPr id="218" name=""/>
            <p:cNvSpPr/>
            <p:nvPr/>
          </p:nvSpPr>
          <p:spPr>
            <a:xfrm>
              <a:off x="4952880" y="228600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133720"/>
              <a:ext cx="1447920" cy="121896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266688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057400"/>
              <a:ext cx="1447920" cy="144792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2286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6920" y="2362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4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08280" y="4460760"/>
            <a:ext cx="4224960" cy="1863720"/>
            <a:chOff x="2708280" y="4460760"/>
            <a:chExt cx="4224960" cy="1863720"/>
          </a:xfrm>
        </p:grpSpPr>
        <p:grpSp>
          <p:nvGrpSpPr>
            <p:cNvPr id="229" name=""/>
            <p:cNvGrpSpPr/>
            <p:nvPr/>
          </p:nvGrpSpPr>
          <p:grpSpPr>
            <a:xfrm>
              <a:off x="2708280" y="4876920"/>
              <a:ext cx="4190760" cy="1447560"/>
              <a:chOff x="2708280" y="4876920"/>
              <a:chExt cx="4190760" cy="1447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8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0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32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4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56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8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463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558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56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751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846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78388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252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41640" y="5334120"/>
                <a:ext cx="3049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9846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01284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232160" y="5334120"/>
                <a:ext cx="1522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514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1372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8916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622680" y="5334120"/>
                <a:ext cx="75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744280" y="451332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3200" y="44956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2480" y="447840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1880" y="4460760"/>
              <a:ext cx="44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anarchy =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stability = O(log(n)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ost, cost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(n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0600" y="1143000"/>
            <a:ext cx="1905120" cy="1811160"/>
            <a:chOff x="4800600" y="1143000"/>
            <a:chExt cx="1905120" cy="1811160"/>
          </a:xfrm>
        </p:grpSpPr>
        <p:sp>
          <p:nvSpPr>
            <p:cNvPr id="259" name=""/>
            <p:cNvSpPr/>
            <p:nvPr/>
          </p:nvSpPr>
          <p:spPr>
            <a:xfrm>
              <a:off x="5105520" y="1506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1506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2801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181120" y="1963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486040" y="19638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2880" y="19638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41008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876920" y="1963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8640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19920" y="19638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62320" y="114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-</a:t>
              </a:r>
              <a:r>
                <a:rPr b="0" lang="en-US" sz="20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6440" y="121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6095880" y="1980720"/>
              <a:ext cx="533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Set-cover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for any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 0, PoU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, a single Byzantine player can take state from a PNE of cost O(OPT) to one of c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39280" y="4038480"/>
            <a:ext cx="77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p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0280" y="4586400"/>
            <a:ext cx="73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w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s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“better-response” is easy to lure astray.  Can make state exponentially worse by using even an exponentially-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cus on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6920" y="4073400"/>
            <a:ext cx="7066800" cy="885960"/>
            <a:chOff x="916920" y="4073400"/>
            <a:chExt cx="7066800" cy="885960"/>
          </a:xfrm>
        </p:grpSpPr>
        <p:sp>
          <p:nvSpPr>
            <p:cNvPr id="282" name=""/>
            <p:cNvSpPr/>
            <p:nvPr/>
          </p:nvSpPr>
          <p:spPr>
            <a:xfrm>
              <a:off x="1371600" y="47242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0120" y="4648320"/>
              <a:ext cx="15228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6920" y="44956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560" y="44956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4456080"/>
              <a:ext cx="3124080" cy="268200"/>
            </a:xfrm>
            <a:custGeom>
              <a:avLst/>
              <a:gdLst/>
              <a:ahLst/>
              <a:rect l="l" t="t" r="r" b="b"/>
              <a:pathLst>
                <a:path w="1968" h="169">
                  <a:moveTo>
                    <a:pt x="0" y="169"/>
                  </a:moveTo>
                  <a:cubicBezTo>
                    <a:pt x="159" y="141"/>
                    <a:pt x="627" y="0"/>
                    <a:pt x="955" y="0"/>
                  </a:cubicBezTo>
                  <a:cubicBezTo>
                    <a:pt x="1283" y="0"/>
                    <a:pt x="1757" y="134"/>
                    <a:pt x="1968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4073400"/>
              <a:ext cx="6230880" cy="655920"/>
            </a:xfrm>
            <a:custGeom>
              <a:avLst/>
              <a:gdLst/>
              <a:ahLst/>
              <a:rect l="l" t="t" r="r" b="b"/>
              <a:pathLst>
                <a:path w="3925" h="413">
                  <a:moveTo>
                    <a:pt x="3925" y="396"/>
                  </a:moveTo>
                  <a:cubicBezTo>
                    <a:pt x="3573" y="332"/>
                    <a:pt x="2467" y="0"/>
                    <a:pt x="1813" y="3"/>
                  </a:cubicBezTo>
                  <a:cubicBezTo>
                    <a:pt x="1159" y="6"/>
                    <a:pt x="378" y="328"/>
                    <a:pt x="0" y="4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0480" y="4419720"/>
              <a:ext cx="3149640" cy="296640"/>
            </a:xfrm>
            <a:custGeom>
              <a:avLst/>
              <a:gdLst/>
              <a:ahLst/>
              <a:rect l="l" t="t" r="r" b="b"/>
              <a:pathLst>
                <a:path w="1984" h="187">
                  <a:moveTo>
                    <a:pt x="0" y="187"/>
                  </a:moveTo>
                  <a:cubicBezTo>
                    <a:pt x="162" y="157"/>
                    <a:pt x="640" y="0"/>
                    <a:pt x="971" y="0"/>
                  </a:cubicBezTo>
                  <a:cubicBezTo>
                    <a:pt x="1302" y="0"/>
                    <a:pt x="1773" y="148"/>
                    <a:pt x="19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3920" y="4702320"/>
              <a:ext cx="1465200" cy="23472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2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84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86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6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26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14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2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67360" y="4605480"/>
              <a:ext cx="72900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464832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ny play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ach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pair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n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m)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 then PoU = O(1) even for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or general number of play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strategy sets are bases of matroid. E.g., set-cover where must choose k se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 for fair cost-sha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GAP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sponse not enoug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lso positive results for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-nice games, bounds for consensus, job schedu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low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wo kinds of play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of Class 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1 of Class I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Plus one Byzantine player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es bound for case that costs can fluctuate by factor of 2.  More complicated ex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140000" y="1295280"/>
            <a:ext cx="2984760" cy="2151720"/>
            <a:chOff x="4140000" y="1295280"/>
            <a:chExt cx="2984760" cy="2151720"/>
          </a:xfrm>
        </p:grpSpPr>
        <p:sp>
          <p:nvSpPr>
            <p:cNvPr id="307" name=""/>
            <p:cNvSpPr/>
            <p:nvPr/>
          </p:nvSpPr>
          <p:spPr>
            <a:xfrm>
              <a:off x="5105520" y="1371600"/>
              <a:ext cx="38088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14479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1480" y="1295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2960" y="1905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140000" y="2666880"/>
              <a:ext cx="2984760" cy="780120"/>
              <a:chOff x="4140000" y="2666880"/>
              <a:chExt cx="2984760" cy="78012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0080" y="266688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99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00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98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1936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292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782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106160" y="4022640"/>
            <a:ext cx="3015000" cy="780120"/>
            <a:chOff x="4106160" y="4022640"/>
            <a:chExt cx="3015000" cy="780120"/>
          </a:xfrm>
        </p:grpSpPr>
        <p:sp>
          <p:nvSpPr>
            <p:cNvPr id="325" name=""/>
            <p:cNvSpPr/>
            <p:nvPr/>
          </p:nvSpPr>
          <p:spPr>
            <a:xfrm>
              <a:off x="416736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68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6320" y="402264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616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604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552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86080" y="44038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1840" y="440388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267080"/>
              <a:ext cx="15264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upp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r upper bound, think of players in sets as a stack 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sition in stack j as having co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i.  Load chips with value equal to init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layer moves from j to k, move top chip.  Cost of position goes up by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227720" y="2119320"/>
            <a:ext cx="1524600" cy="1050120"/>
            <a:chOff x="7227720" y="2119320"/>
            <a:chExt cx="1524600" cy="1050120"/>
          </a:xfrm>
        </p:grpSpPr>
        <p:grpSp>
          <p:nvGrpSpPr>
            <p:cNvPr id="342" name=""/>
            <p:cNvGrpSpPr/>
            <p:nvPr/>
          </p:nvGrpSpPr>
          <p:grpSpPr>
            <a:xfrm>
              <a:off x="7227720" y="2119320"/>
              <a:ext cx="381240" cy="1050120"/>
              <a:chOff x="7227720" y="2119320"/>
              <a:chExt cx="381240" cy="105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722772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0404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04040" y="2271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04040" y="2119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0404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3720" y="2728800"/>
                <a:ext cx="34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8354880" y="2195280"/>
              <a:ext cx="397440" cy="974160"/>
              <a:chOff x="8354880" y="2195280"/>
              <a:chExt cx="397440" cy="974160"/>
            </a:xfrm>
          </p:grpSpPr>
          <p:sp>
            <p:nvSpPr>
              <p:cNvPr id="350" name=""/>
              <p:cNvSpPr/>
              <p:nvPr/>
            </p:nvSpPr>
            <p:spPr>
              <a:xfrm>
                <a:off x="835488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3120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43120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70360" y="2728800"/>
                <a:ext cx="38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7456320" y="1828800"/>
            <a:ext cx="1067040" cy="291960"/>
          </a:xfrm>
          <a:custGeom>
            <a:avLst/>
            <a:gdLst/>
            <a:ahLst/>
            <a:rect l="l" t="t" r="r" b="b"/>
            <a:pathLst>
              <a:path w="672" h="184">
                <a:moveTo>
                  <a:pt x="0" y="183"/>
                </a:moveTo>
                <a:cubicBezTo>
                  <a:pt x="57" y="153"/>
                  <a:pt x="229" y="0"/>
                  <a:pt x="341" y="0"/>
                </a:cubicBezTo>
                <a:cubicBezTo>
                  <a:pt x="453" y="0"/>
                  <a:pt x="603" y="146"/>
                  <a:pt x="672" y="1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5720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most mn different positions.   So, following the path of any chip and removing loops, cost of final set is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n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s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88200" y="6019920"/>
            <a:ext cx="64566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So, if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ts/payoffs are a function of players actions. No external influ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repeatedly play same way, get exact same pay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all players incentives are mode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86000" y="4235400"/>
            <a:ext cx="4190760" cy="2165040"/>
            <a:chOff x="2286000" y="4235400"/>
            <a:chExt cx="4190760" cy="2165040"/>
          </a:xfrm>
        </p:grpSpPr>
        <p:sp>
          <p:nvSpPr>
            <p:cNvPr id="56" name=""/>
            <p:cNvSpPr/>
            <p:nvPr/>
          </p:nvSpPr>
          <p:spPr>
            <a:xfrm>
              <a:off x="4419360" y="53337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960" y="53337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419360" y="45716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4480" y="60195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 rot="20493600">
              <a:off x="5029200" y="43434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1384200">
              <a:off x="5104800" y="57909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7760" y="47782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troid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n matroid games, can think of each player as controlling a </a:t>
            </a:r>
            <a:r>
              <a:rPr b="0" i="1" lang="en-US" sz="2800" spc="-1" strike="noStrike">
                <a:solidFill>
                  <a:srgbClr val="cc3399"/>
                </a:solidFill>
                <a:latin typeface="Comic Sans MS"/>
              </a:rPr>
              <a:t>set 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property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st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response in matroi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always order the move so that each individual chip is doing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previous arg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s for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ere, can get player to do kind of binary counting, bad even for exponentially-sm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952880" y="2119320"/>
            <a:ext cx="3783240" cy="682560"/>
            <a:chOff x="4952880" y="2119320"/>
            <a:chExt cx="3783240" cy="682560"/>
          </a:xfrm>
        </p:grpSpPr>
        <p:sp>
          <p:nvSpPr>
            <p:cNvPr id="360" name=""/>
            <p:cNvSpPr/>
            <p:nvPr/>
          </p:nvSpPr>
          <p:spPr>
            <a:xfrm>
              <a:off x="722772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0404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040" y="22716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4040" y="211932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404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488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120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120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243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8600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004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6360" y="2438280"/>
              <a:ext cx="152280" cy="152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636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Fair cost sharing in general graph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f many players of each type, can also show best-response dynamics can’t do ba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of argu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analyze cost of state directly, instead track upper bound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= cost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hanges at most m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layers of each typ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erage cost of each is low compared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hange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Main focus: games with both good and bad equilibr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mall fluctuations or single Byzantine player cause behavior to move from good to b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also have cases where state can get worse even than worst equilibri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-sharing: 2 vs log(n) even for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380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nice games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[AAEMS-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C08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: incentives grow stronger as cost gets above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times optimal (typically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PoA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at least can show state won’t get above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imes optimal, even with substantial perturbation or many Byzantine players (random ord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786040" y="4614840"/>
            <a:ext cx="2714760" cy="1668600"/>
          </a:xfrm>
          <a:custGeom>
            <a:avLst/>
            <a:gdLst/>
            <a:ahLst/>
            <a:rect l="l" t="t" r="r" b="b"/>
            <a:pathLst>
              <a:path w="1710" h="1051">
                <a:moveTo>
                  <a:pt x="0" y="46"/>
                </a:moveTo>
                <a:cubicBezTo>
                  <a:pt x="149" y="212"/>
                  <a:pt x="611" y="1051"/>
                  <a:pt x="896" y="1043"/>
                </a:cubicBezTo>
                <a:cubicBezTo>
                  <a:pt x="1181" y="1035"/>
                  <a:pt x="1541" y="217"/>
                  <a:pt x="171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3240" y="60930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ummary and open problem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Looking at: when can small perturbations or a few bad players lead natural dynamics astr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it safe to turn your bac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243828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/lower bounds for a number of classes of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053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gap for set-cover [1/(mn),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ase of fair cost-sharing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order best r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73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90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07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18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32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43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igh-level ques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" y="8856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ways this could happ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changes cause good equilibria to disappear, only bad ones left.    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economy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behavior by a few players causes pain for all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uk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ther of above, but instead through more subtle interaction with dynamic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158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35240"/>
            <a:ext cx="901800" cy="5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24440" y="548640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cus here on this las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556 L 3.33333E-006 -0.49943 E">
                                      <p:cBhvr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Focus of this work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es with the following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games, best/better-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Price of Stability. 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good equilibria exi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me has good equilibria even after               perturb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gap between potential and                              soc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erturbation can’t make                           dynamics do bad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ndividual player can influence                        cost of others by too mu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90560" y="2895480"/>
            <a:ext cx="2705040" cy="3353040"/>
            <a:chOff x="6190560" y="2895480"/>
            <a:chExt cx="2705040" cy="3353040"/>
          </a:xfrm>
        </p:grpSpPr>
        <p:sp>
          <p:nvSpPr>
            <p:cNvPr id="171" name=""/>
            <p:cNvSpPr/>
            <p:nvPr/>
          </p:nvSpPr>
          <p:spPr>
            <a:xfrm>
              <a:off x="7321680" y="28954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502920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4038480"/>
              <a:ext cx="15264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6480" y="48942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560" y="3962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S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0560" y="457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64480" y="419076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9-07-10T14:52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