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C31E-BC62-4CF4-A047-99A29B136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sets as sharable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wrt possibl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people only move if improvement &gt; epsilon.  Then can view as better-resp in original setting so OK.  (But remember, we are not trying to come up with an algorithm, we are trying to see if system is stable.  So stability would *depend* on people not moving when they have little to 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order in byzantine model: good question.  Current bound depends on lured-players not moving until common set is emptied out.  Might be able to have bound where have a tree of sets like this and random order doesn’t help.  Not sure.  Of course, eventually the bad order would happen, so you’d want to talk about polynomial number of ste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D67-DAB8-4196-B116-7B6D0606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2B1-4567-413E-98C9-81D0BC09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CDB-42A3-4109-87C6-C8C888C4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5A7-F540-4009-A388-080A8B22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DC05-FC7E-4BA3-A846-6DA27E53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29F7-4D06-4D3C-8AEF-EF05ED4B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E310-736C-4E8C-B573-3D1F1F7B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0B38-58E1-481E-8563-70E22319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83B-034F-4FC8-8F35-9D6901B1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6EC-72AC-45CA-803D-569B07FF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5149-20A0-46C7-8197-36388415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E983-70D3-4AF8-8211-0B286E76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FFA2-5F73-4F0E-BB62-931B01BBA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457200"/>
            <a:ext cx="7086600" cy="5105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e Price of Uncertain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ia-Florina Balcan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orgia Te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vrim Blum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negie Mell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ishay Mansour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-Aviv/Goog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242040" y="617220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ACM-EC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alternatively, one or more Byzantine players who move between time step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 begins in a low-cost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bad can things g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87692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35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58588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65760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One way to look at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e graph: one node for each state.  Edge u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 if perturbation can cause BR to move from u to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the reachable                                       sets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181480" y="5330160"/>
            <a:ext cx="2527920" cy="995400"/>
            <a:chOff x="5181480" y="5330160"/>
            <a:chExt cx="2527920" cy="995400"/>
          </a:xfrm>
        </p:grpSpPr>
        <p:sp>
          <p:nvSpPr>
            <p:cNvPr id="189" name=""/>
            <p:cNvSpPr/>
            <p:nvPr/>
          </p:nvSpPr>
          <p:spPr>
            <a:xfrm>
              <a:off x="5181480" y="6095880"/>
              <a:ext cx="7632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5715000"/>
              <a:ext cx="7632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000" y="5392800"/>
              <a:ext cx="7632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920" y="5791320"/>
              <a:ext cx="7596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91320" y="6095880"/>
              <a:ext cx="7596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81480" y="5392800"/>
              <a:ext cx="7632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257800" y="57913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86400" y="5486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57800" y="5486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867280" y="58672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486040" y="57913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2504600">
              <a:off x="7277040" y="58593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2504600">
              <a:off x="7122960" y="53434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2504600">
              <a:off x="7334280" y="62355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367400" y="5686920"/>
              <a:ext cx="27900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953400" y="5913360"/>
              <a:ext cx="30996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6346080" y="5414760"/>
              <a:ext cx="5497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31040" y="5949000"/>
              <a:ext cx="25200" cy="27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77320" y="5431680"/>
              <a:ext cx="12312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892560" y="5408640"/>
              <a:ext cx="212040" cy="59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2504600">
              <a:off x="7619760" y="5638320"/>
              <a:ext cx="759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2504600">
              <a:off x="6864120" y="5981400"/>
              <a:ext cx="759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095520" y="541008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78400" y="5392800"/>
              <a:ext cx="7632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5780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players (poin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sets, with cost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player chooses some set that covers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split cost with all others choosing same s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895480" y="2057400"/>
            <a:ext cx="3505320" cy="1523880"/>
            <a:chOff x="2895480" y="2057400"/>
            <a:chExt cx="3505320" cy="1523880"/>
          </a:xfrm>
        </p:grpSpPr>
        <p:sp>
          <p:nvSpPr>
            <p:cNvPr id="218" name=""/>
            <p:cNvSpPr/>
            <p:nvPr/>
          </p:nvSpPr>
          <p:spPr>
            <a:xfrm>
              <a:off x="4952880" y="2286000"/>
              <a:ext cx="1447920" cy="91440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2133720"/>
              <a:ext cx="1447920" cy="121896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81280" y="2666880"/>
              <a:ext cx="1447920" cy="91440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5480" y="2057400"/>
              <a:ext cx="1447920" cy="144792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0400" y="2819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81280" y="2286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86200" y="3048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76920" y="2362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00600" y="3048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8640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08280" y="4460760"/>
            <a:ext cx="4224960" cy="1863720"/>
            <a:chOff x="2708280" y="4460760"/>
            <a:chExt cx="4224960" cy="1863720"/>
          </a:xfrm>
        </p:grpSpPr>
        <p:grpSp>
          <p:nvGrpSpPr>
            <p:cNvPr id="229" name=""/>
            <p:cNvGrpSpPr/>
            <p:nvPr/>
          </p:nvGrpSpPr>
          <p:grpSpPr>
            <a:xfrm>
              <a:off x="2708280" y="4876920"/>
              <a:ext cx="4190760" cy="1447560"/>
              <a:chOff x="2708280" y="4876920"/>
              <a:chExt cx="4190760" cy="1447560"/>
            </a:xfrm>
          </p:grpSpPr>
          <p:sp>
            <p:nvSpPr>
              <p:cNvPr id="230" name=""/>
              <p:cNvSpPr/>
              <p:nvPr/>
            </p:nvSpPr>
            <p:spPr>
              <a:xfrm>
                <a:off x="270828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70040" y="487692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23216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9428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56040" y="487692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1816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3688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4636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55840" y="617220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76568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7516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84640" y="617220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2783880" y="5334120"/>
                <a:ext cx="2286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5222520" y="5334120"/>
                <a:ext cx="2286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841640" y="5334120"/>
                <a:ext cx="3049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984640" y="533412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3012840" y="5334120"/>
                <a:ext cx="5335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232160" y="5334120"/>
                <a:ext cx="1522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5451480" y="5334120"/>
                <a:ext cx="457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137280" y="5334120"/>
                <a:ext cx="457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89160" y="5334120"/>
                <a:ext cx="5335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3622680" y="5334120"/>
                <a:ext cx="7596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2744280" y="451332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63200" y="449568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82480" y="447840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91880" y="4460760"/>
              <a:ext cx="44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of anarchy =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of stability = O(log(n))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enti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ost, cost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(n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800600" y="1143000"/>
            <a:ext cx="1905120" cy="1811160"/>
            <a:chOff x="4800600" y="1143000"/>
            <a:chExt cx="1905120" cy="1811160"/>
          </a:xfrm>
        </p:grpSpPr>
        <p:sp>
          <p:nvSpPr>
            <p:cNvPr id="259" name=""/>
            <p:cNvSpPr/>
            <p:nvPr/>
          </p:nvSpPr>
          <p:spPr>
            <a:xfrm>
              <a:off x="5105520" y="150660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67280" y="150660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412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4360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3080" y="280188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0060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5181120" y="19638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5486040" y="1963800"/>
              <a:ext cx="11430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952880" y="1963800"/>
              <a:ext cx="9144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5410080" y="196380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876920" y="1963800"/>
              <a:ext cx="304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486400" y="196380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019920" y="1963800"/>
              <a:ext cx="759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62320" y="114300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-</a:t>
              </a:r>
              <a:r>
                <a:rPr b="0" lang="en-US" sz="2000" spc="-1" strike="noStrike">
                  <a:solidFill>
                    <a:srgbClr val="cc3399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6440" y="1216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6095880" y="1980720"/>
              <a:ext cx="533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Set-cover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log 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for any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&gt; 0, PoU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so, a single Byzantine player can take state from a PNE of cost O(OPT) to one of c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539280" y="4038480"/>
            <a:ext cx="77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pper bounds hold even f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ette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0280" y="4586400"/>
            <a:ext cx="73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wer bounds hold even f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est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General fair-cost-sharing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Matroid congestion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“better-response” is easy to lure astray.  Can make state exponentially worse by using even an exponentially-smal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focus on best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16920" y="4073400"/>
            <a:ext cx="7066800" cy="885960"/>
            <a:chOff x="916920" y="4073400"/>
            <a:chExt cx="7066800" cy="885960"/>
          </a:xfrm>
        </p:grpSpPr>
        <p:sp>
          <p:nvSpPr>
            <p:cNvPr id="282" name=""/>
            <p:cNvSpPr/>
            <p:nvPr/>
          </p:nvSpPr>
          <p:spPr>
            <a:xfrm>
              <a:off x="1371600" y="47242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0120" y="4648320"/>
              <a:ext cx="15228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6920" y="449568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11560" y="449568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1600" y="4456080"/>
              <a:ext cx="3124080" cy="268200"/>
            </a:xfrm>
            <a:custGeom>
              <a:avLst/>
              <a:gdLst/>
              <a:ahLst/>
              <a:rect l="l" t="t" r="r" b="b"/>
              <a:pathLst>
                <a:path w="1968" h="169">
                  <a:moveTo>
                    <a:pt x="0" y="169"/>
                  </a:moveTo>
                  <a:cubicBezTo>
                    <a:pt x="159" y="141"/>
                    <a:pt x="627" y="0"/>
                    <a:pt x="955" y="0"/>
                  </a:cubicBezTo>
                  <a:cubicBezTo>
                    <a:pt x="1283" y="0"/>
                    <a:pt x="1757" y="134"/>
                    <a:pt x="1968" y="16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60440" y="4073400"/>
              <a:ext cx="6230880" cy="655920"/>
            </a:xfrm>
            <a:custGeom>
              <a:avLst/>
              <a:gdLst/>
              <a:ahLst/>
              <a:rect l="l" t="t" r="r" b="b"/>
              <a:pathLst>
                <a:path w="3925" h="413">
                  <a:moveTo>
                    <a:pt x="3925" y="396"/>
                  </a:moveTo>
                  <a:cubicBezTo>
                    <a:pt x="3573" y="332"/>
                    <a:pt x="2467" y="0"/>
                    <a:pt x="1813" y="3"/>
                  </a:cubicBezTo>
                  <a:cubicBezTo>
                    <a:pt x="1159" y="6"/>
                    <a:pt x="378" y="328"/>
                    <a:pt x="0" y="41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0480" y="4419720"/>
              <a:ext cx="3149640" cy="296640"/>
            </a:xfrm>
            <a:custGeom>
              <a:avLst/>
              <a:gdLst/>
              <a:ahLst/>
              <a:rect l="l" t="t" r="r" b="b"/>
              <a:pathLst>
                <a:path w="1984" h="187">
                  <a:moveTo>
                    <a:pt x="0" y="187"/>
                  </a:moveTo>
                  <a:cubicBezTo>
                    <a:pt x="162" y="157"/>
                    <a:pt x="640" y="0"/>
                    <a:pt x="971" y="0"/>
                  </a:cubicBezTo>
                  <a:cubicBezTo>
                    <a:pt x="1302" y="0"/>
                    <a:pt x="1773" y="148"/>
                    <a:pt x="1984" y="18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3920" y="4702320"/>
              <a:ext cx="1465200" cy="23472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782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784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786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792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668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526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1476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28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5780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6276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67360" y="4605480"/>
              <a:ext cx="72900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5280" y="4648320"/>
              <a:ext cx="15264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General fair-cost-sharing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any play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each 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pair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n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= 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m)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 then PoU = O(1) even for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&gt;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for general number of play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Matroid congestion games: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strategy sets are bases of matroid. E.g., set-cover where must choose k se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log n) for fair cost-shar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GAP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t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response not enough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Also positive results for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-nice games, bounds for consensus, job schedu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(lower bound)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Two kinds of player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of Class 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-1 of Class I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Plus one Byzantine player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ies bound for case that costs can fluctuate by factor of 2.  More complicated ex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140000" y="1295280"/>
            <a:ext cx="2984760" cy="2151720"/>
            <a:chOff x="4140000" y="1295280"/>
            <a:chExt cx="2984760" cy="2151720"/>
          </a:xfrm>
        </p:grpSpPr>
        <p:sp>
          <p:nvSpPr>
            <p:cNvPr id="307" name=""/>
            <p:cNvSpPr/>
            <p:nvPr/>
          </p:nvSpPr>
          <p:spPr>
            <a:xfrm>
              <a:off x="5105520" y="1371600"/>
              <a:ext cx="38088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814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81480" y="14479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81480" y="12952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814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42960" y="19051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4140000" y="2666880"/>
              <a:ext cx="2984760" cy="780120"/>
              <a:chOff x="4140000" y="2666880"/>
              <a:chExt cx="2984760" cy="780120"/>
            </a:xfrm>
          </p:grpSpPr>
          <p:sp>
            <p:nvSpPr>
              <p:cNvPr id="314" name=""/>
              <p:cNvSpPr/>
              <p:nvPr/>
            </p:nvSpPr>
            <p:spPr>
              <a:xfrm>
                <a:off x="419112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0060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10080" y="266688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1992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2940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4000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0988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31936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2920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7828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4106160" y="4022640"/>
            <a:ext cx="3015000" cy="780120"/>
            <a:chOff x="4106160" y="4022640"/>
            <a:chExt cx="3015000" cy="780120"/>
          </a:xfrm>
        </p:grpSpPr>
        <p:sp>
          <p:nvSpPr>
            <p:cNvPr id="325" name=""/>
            <p:cNvSpPr/>
            <p:nvPr/>
          </p:nvSpPr>
          <p:spPr>
            <a:xfrm>
              <a:off x="416736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7684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86320" y="402264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0564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0616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7604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8552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86080" y="44038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31840" y="4403880"/>
              <a:ext cx="58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67080" y="4267080"/>
              <a:ext cx="15264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7692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640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0572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267080" y="28954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(upper bound)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For upper bound, think of players in sets as a stack of chi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ew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osition in stack j as having cos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i.  Load chips with value equal to initial co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player moves from j to k, move top chip.  Cost of position goes up by at most 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227720" y="2119320"/>
            <a:ext cx="1524600" cy="1050120"/>
            <a:chOff x="7227720" y="2119320"/>
            <a:chExt cx="1524600" cy="1050120"/>
          </a:xfrm>
        </p:grpSpPr>
        <p:grpSp>
          <p:nvGrpSpPr>
            <p:cNvPr id="342" name=""/>
            <p:cNvGrpSpPr/>
            <p:nvPr/>
          </p:nvGrpSpPr>
          <p:grpSpPr>
            <a:xfrm>
              <a:off x="7227720" y="2119320"/>
              <a:ext cx="381240" cy="1050120"/>
              <a:chOff x="7227720" y="2119320"/>
              <a:chExt cx="381240" cy="1050120"/>
            </a:xfrm>
          </p:grpSpPr>
          <p:sp>
            <p:nvSpPr>
              <p:cNvPr id="343" name=""/>
              <p:cNvSpPr/>
              <p:nvPr/>
            </p:nvSpPr>
            <p:spPr>
              <a:xfrm>
                <a:off x="7227720" y="2195280"/>
                <a:ext cx="381240" cy="592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04040" y="24238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04040" y="2271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04040" y="21193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304040" y="2576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63720" y="2728800"/>
                <a:ext cx="340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cc3399"/>
                    </a:solidFill>
                    <a:latin typeface="Comic Sans MS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8354880" y="2195280"/>
              <a:ext cx="397440" cy="974160"/>
              <a:chOff x="8354880" y="2195280"/>
              <a:chExt cx="397440" cy="974160"/>
            </a:xfrm>
          </p:grpSpPr>
          <p:sp>
            <p:nvSpPr>
              <p:cNvPr id="350" name=""/>
              <p:cNvSpPr/>
              <p:nvPr/>
            </p:nvSpPr>
            <p:spPr>
              <a:xfrm>
                <a:off x="8354880" y="2195280"/>
                <a:ext cx="381240" cy="592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431200" y="24238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431200" y="2576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370360" y="2728800"/>
                <a:ext cx="38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cc3399"/>
                    </a:solidFill>
                    <a:latin typeface="Comic Sans MS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7456320" y="1828800"/>
            <a:ext cx="1067040" cy="291960"/>
          </a:xfrm>
          <a:custGeom>
            <a:avLst/>
            <a:gdLst/>
            <a:ahLst/>
            <a:rect l="l" t="t" r="r" b="b"/>
            <a:pathLst>
              <a:path w="672" h="184">
                <a:moveTo>
                  <a:pt x="0" y="183"/>
                </a:moveTo>
                <a:cubicBezTo>
                  <a:pt x="57" y="153"/>
                  <a:pt x="229" y="0"/>
                  <a:pt x="341" y="0"/>
                </a:cubicBezTo>
                <a:cubicBezTo>
                  <a:pt x="453" y="0"/>
                  <a:pt x="603" y="146"/>
                  <a:pt x="672" y="18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4572000"/>
            <a:ext cx="8763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most mn different positions.   So, following the path of any chip and removing loops, cost of final set is at most 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n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imes its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88200" y="6019920"/>
            <a:ext cx="6456600" cy="520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So, if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= O(1/nm) then PoU = O(log 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sts/payoffs are a function of players actions. No external influ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ll repeatedly play same way, get exact same payo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all players incentives are mode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High-level question: What happens to natural dynamics if these don’t quite ho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069920" cy="120312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2286000" y="4235400"/>
            <a:ext cx="4190760" cy="2165040"/>
            <a:chOff x="2286000" y="4235400"/>
            <a:chExt cx="4190760" cy="2165040"/>
          </a:xfrm>
        </p:grpSpPr>
        <p:sp>
          <p:nvSpPr>
            <p:cNvPr id="56" name=""/>
            <p:cNvSpPr/>
            <p:nvPr/>
          </p:nvSpPr>
          <p:spPr>
            <a:xfrm>
              <a:off x="4419360" y="53337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61960" y="53337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419360" y="45716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24480" y="44956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24480" y="60195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0" y="52574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43400" y="52574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 rot="20493600">
              <a:off x="5029200" y="43434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 rot="1384200">
              <a:off x="5104800" y="57909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3047760" y="47782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troid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In matroid games, can think of each player as controlling a </a:t>
            </a:r>
            <a:r>
              <a:rPr b="0" i="1" lang="en-US" sz="2800" spc="-1" strike="noStrike">
                <a:solidFill>
                  <a:srgbClr val="cc3399"/>
                </a:solidFill>
                <a:latin typeface="Comic Sans MS"/>
              </a:rPr>
              <a:t>set 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of chi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ce property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est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response in matroid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n always order the move so that each individual chip is doing better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 previous argum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ls for better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ere, can get player to do kind of binary counting, bad even for exponentially-small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952880" y="2119320"/>
            <a:ext cx="3783240" cy="682560"/>
            <a:chOff x="4952880" y="2119320"/>
            <a:chExt cx="3783240" cy="682560"/>
          </a:xfrm>
        </p:grpSpPr>
        <p:sp>
          <p:nvSpPr>
            <p:cNvPr id="360" name=""/>
            <p:cNvSpPr/>
            <p:nvPr/>
          </p:nvSpPr>
          <p:spPr>
            <a:xfrm>
              <a:off x="7227720" y="2195640"/>
              <a:ext cx="381240" cy="591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04040" y="242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04040" y="227160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4040" y="2119320"/>
              <a:ext cx="152280" cy="1522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4040" y="25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54880" y="2195640"/>
              <a:ext cx="381240" cy="591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431200" y="242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431200" y="25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52880" y="2209680"/>
              <a:ext cx="38124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29200" y="243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29200" y="2286000"/>
              <a:ext cx="152280" cy="1522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920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80040" y="2209680"/>
              <a:ext cx="38124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56360" y="2438280"/>
              <a:ext cx="152280" cy="15264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5636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Fair cost sharing in general graph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If many players of each type, can also show best-response dynamics can’t do bad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line of argumen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d to analyze cost of state directly, instead track upper bound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= cost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changes at most m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players of each typ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verage cost of each is low compared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ch change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sm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PoU versus Price of Anarchy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Main focus: games with both good and bad equilibri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small fluctuations or single Byzantine player cause behavior to move from good to ba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also have cases where state can get worse even than worst equilibriu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et-sharing: 2 vs log(n) even for best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93880" y="5019840"/>
            <a:ext cx="6878520" cy="1533240"/>
            <a:chOff x="893880" y="5019840"/>
            <a:chExt cx="6878520" cy="1533240"/>
          </a:xfrm>
        </p:grpSpPr>
        <p:sp>
          <p:nvSpPr>
            <p:cNvPr id="380" name=""/>
            <p:cNvSpPr/>
            <p:nvPr/>
          </p:nvSpPr>
          <p:spPr>
            <a:xfrm>
              <a:off x="893880" y="5019840"/>
              <a:ext cx="2960640" cy="1533240"/>
            </a:xfrm>
            <a:custGeom>
              <a:avLst/>
              <a:gdLst/>
              <a:ahLst/>
              <a:rect l="l" t="t" r="r" b="b"/>
              <a:pathLst>
                <a:path w="1865" h="966">
                  <a:moveTo>
                    <a:pt x="0" y="467"/>
                  </a:moveTo>
                  <a:cubicBezTo>
                    <a:pt x="91" y="541"/>
                    <a:pt x="344" y="966"/>
                    <a:pt x="539" y="910"/>
                  </a:cubicBezTo>
                  <a:cubicBezTo>
                    <a:pt x="734" y="854"/>
                    <a:pt x="996" y="240"/>
                    <a:pt x="1170" y="128"/>
                  </a:cubicBezTo>
                  <a:cubicBezTo>
                    <a:pt x="1344" y="16"/>
                    <a:pt x="1465" y="259"/>
                    <a:pt x="1581" y="238"/>
                  </a:cubicBezTo>
                  <a:cubicBezTo>
                    <a:pt x="1697" y="217"/>
                    <a:pt x="1806" y="50"/>
                    <a:pt x="186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97360" y="5092560"/>
              <a:ext cx="2975040" cy="1454400"/>
            </a:xfrm>
            <a:custGeom>
              <a:avLst/>
              <a:gdLst/>
              <a:ahLst/>
              <a:rect l="l" t="t" r="r" b="b"/>
              <a:pathLst>
                <a:path w="1874" h="916">
                  <a:moveTo>
                    <a:pt x="0" y="436"/>
                  </a:moveTo>
                  <a:cubicBezTo>
                    <a:pt x="91" y="510"/>
                    <a:pt x="410" y="842"/>
                    <a:pt x="539" y="879"/>
                  </a:cubicBezTo>
                  <a:cubicBezTo>
                    <a:pt x="668" y="916"/>
                    <a:pt x="716" y="704"/>
                    <a:pt x="777" y="658"/>
                  </a:cubicBezTo>
                  <a:cubicBezTo>
                    <a:pt x="838" y="612"/>
                    <a:pt x="839" y="697"/>
                    <a:pt x="905" y="603"/>
                  </a:cubicBezTo>
                  <a:cubicBezTo>
                    <a:pt x="971" y="509"/>
                    <a:pt x="1056" y="163"/>
                    <a:pt x="1170" y="97"/>
                  </a:cubicBezTo>
                  <a:cubicBezTo>
                    <a:pt x="1284" y="31"/>
                    <a:pt x="1474" y="226"/>
                    <a:pt x="1591" y="210"/>
                  </a:cubicBezTo>
                  <a:cubicBezTo>
                    <a:pt x="1708" y="194"/>
                    <a:pt x="1815" y="44"/>
                    <a:pt x="187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96960" y="631188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3000" y="593100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73480" y="61596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245280" y="547380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PoU versus Price of Anarchy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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nice games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[AAEMS-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EC08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: incentives grow stronger as cost gets above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times optimal (typically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= PoA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at least can show state won’t get above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imes optimal, even with substantial perturbation or many Byzantine players (random order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2786040" y="4614840"/>
            <a:ext cx="2714760" cy="1668600"/>
          </a:xfrm>
          <a:custGeom>
            <a:avLst/>
            <a:gdLst/>
            <a:ahLst/>
            <a:rect l="l" t="t" r="r" b="b"/>
            <a:pathLst>
              <a:path w="1710" h="1051">
                <a:moveTo>
                  <a:pt x="0" y="46"/>
                </a:moveTo>
                <a:cubicBezTo>
                  <a:pt x="149" y="212"/>
                  <a:pt x="611" y="1051"/>
                  <a:pt x="896" y="1043"/>
                </a:cubicBezTo>
                <a:cubicBezTo>
                  <a:pt x="1181" y="1035"/>
                  <a:pt x="1541" y="217"/>
                  <a:pt x="171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43240" y="6093000"/>
            <a:ext cx="15264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ummary and open problem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Looking at: when can small perturbations or a few bad players lead natural dynamics astra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s it safe to turn your back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0" y="2438280"/>
            <a:ext cx="6324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per/lower bounds for a number of classes of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5053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Open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ose gap for set-cover [1/(mn), 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case of fair cost-sharing ga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yclic order best r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High-level question: What happens to natural dynamics if these don’t quite ho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069920" cy="1203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73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114800" y="2362320"/>
            <a:ext cx="573120" cy="60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819000" cy="846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90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114800" y="2362320"/>
            <a:ext cx="573120" cy="60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819000" cy="846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onsider a typical gam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few players acting unpredictabl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107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2286000" y="2406240"/>
            <a:ext cx="4191120" cy="2165760"/>
            <a:chOff x="2286000" y="2406240"/>
            <a:chExt cx="4191120" cy="2165760"/>
          </a:xfrm>
        </p:grpSpPr>
        <p:sp>
          <p:nvSpPr>
            <p:cNvPr id="118" name=""/>
            <p:cNvSpPr/>
            <p:nvPr/>
          </p:nvSpPr>
          <p:spPr>
            <a:xfrm>
              <a:off x="4419720" y="3505320"/>
              <a:ext cx="1981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62320" y="35053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419720" y="2742840"/>
              <a:ext cx="1981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4480" y="266688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9112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434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 rot="20493600">
              <a:off x="5029200" y="2514240"/>
              <a:ext cx="76212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 rot="1384200">
              <a:off x="5105160" y="396252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048120" y="2949480"/>
              <a:ext cx="7617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few players acting unpredictabl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132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2286000" y="2406240"/>
            <a:ext cx="4191120" cy="2165760"/>
            <a:chOff x="2286000" y="2406240"/>
            <a:chExt cx="4191120" cy="2165760"/>
          </a:xfrm>
        </p:grpSpPr>
        <p:sp>
          <p:nvSpPr>
            <p:cNvPr id="143" name=""/>
            <p:cNvSpPr/>
            <p:nvPr/>
          </p:nvSpPr>
          <p:spPr>
            <a:xfrm>
              <a:off x="4419720" y="3505320"/>
              <a:ext cx="1981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62320" y="35053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419720" y="2742840"/>
              <a:ext cx="1981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266688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24480" y="419112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4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 rot="20493600">
              <a:off x="5029200" y="2514240"/>
              <a:ext cx="76212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 rot="1384200">
              <a:off x="5105160" y="396252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048120" y="2949480"/>
              <a:ext cx="7617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onsider a typical gam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High-level ques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60" y="88560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ew ways this could happ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 changes cause good equilibria to disappear, only bad ones left.    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economy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d behavior by a few players causes pain for all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nuk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ither of above, but instead through more subtle interaction with dynamics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93880" y="5019840"/>
            <a:ext cx="6878520" cy="1533240"/>
            <a:chOff x="893880" y="5019840"/>
            <a:chExt cx="6878520" cy="1533240"/>
          </a:xfrm>
        </p:grpSpPr>
        <p:sp>
          <p:nvSpPr>
            <p:cNvPr id="158" name=""/>
            <p:cNvSpPr/>
            <p:nvPr/>
          </p:nvSpPr>
          <p:spPr>
            <a:xfrm>
              <a:off x="893880" y="5019840"/>
              <a:ext cx="2960640" cy="1533240"/>
            </a:xfrm>
            <a:custGeom>
              <a:avLst/>
              <a:gdLst/>
              <a:ahLst/>
              <a:rect l="l" t="t" r="r" b="b"/>
              <a:pathLst>
                <a:path w="1865" h="966">
                  <a:moveTo>
                    <a:pt x="0" y="467"/>
                  </a:moveTo>
                  <a:cubicBezTo>
                    <a:pt x="91" y="541"/>
                    <a:pt x="344" y="966"/>
                    <a:pt x="539" y="910"/>
                  </a:cubicBezTo>
                  <a:cubicBezTo>
                    <a:pt x="734" y="854"/>
                    <a:pt x="996" y="240"/>
                    <a:pt x="1170" y="128"/>
                  </a:cubicBezTo>
                  <a:cubicBezTo>
                    <a:pt x="1344" y="16"/>
                    <a:pt x="1465" y="259"/>
                    <a:pt x="1581" y="238"/>
                  </a:cubicBezTo>
                  <a:cubicBezTo>
                    <a:pt x="1697" y="217"/>
                    <a:pt x="1806" y="50"/>
                    <a:pt x="186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97360" y="5092560"/>
              <a:ext cx="2975040" cy="1454400"/>
            </a:xfrm>
            <a:custGeom>
              <a:avLst/>
              <a:gdLst/>
              <a:ahLst/>
              <a:rect l="l" t="t" r="r" b="b"/>
              <a:pathLst>
                <a:path w="1874" h="916">
                  <a:moveTo>
                    <a:pt x="0" y="436"/>
                  </a:moveTo>
                  <a:cubicBezTo>
                    <a:pt x="91" y="510"/>
                    <a:pt x="410" y="842"/>
                    <a:pt x="539" y="879"/>
                  </a:cubicBezTo>
                  <a:cubicBezTo>
                    <a:pt x="668" y="916"/>
                    <a:pt x="716" y="704"/>
                    <a:pt x="777" y="658"/>
                  </a:cubicBezTo>
                  <a:cubicBezTo>
                    <a:pt x="838" y="612"/>
                    <a:pt x="839" y="697"/>
                    <a:pt x="905" y="603"/>
                  </a:cubicBezTo>
                  <a:cubicBezTo>
                    <a:pt x="971" y="509"/>
                    <a:pt x="1056" y="163"/>
                    <a:pt x="1170" y="97"/>
                  </a:cubicBezTo>
                  <a:cubicBezTo>
                    <a:pt x="1284" y="31"/>
                    <a:pt x="1474" y="226"/>
                    <a:pt x="1591" y="210"/>
                  </a:cubicBezTo>
                  <a:cubicBezTo>
                    <a:pt x="1708" y="194"/>
                    <a:pt x="1815" y="44"/>
                    <a:pt x="187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96960" y="631188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3000" y="593100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3480" y="61596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245280" y="547380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00600" y="44197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38680" y="3135240"/>
            <a:ext cx="901800" cy="52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24440" y="5486400"/>
            <a:ext cx="49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Focus here on this last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556 L 3.33333E-006 -0.49943 E">
                                      <p:cBhvr>
                                        <p:cTn id="150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Focus of this work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mes with the following propert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ential games, best/better-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 Price of Stability. 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good equilibria exis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me has good equilibria even after               perturb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 gap between potential and                              social co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ngle perturbation can’t make                           dynamics do bad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individual player can influence                        cost of others by too mu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190560" y="2895480"/>
            <a:ext cx="2705040" cy="3353040"/>
            <a:chOff x="6190560" y="2895480"/>
            <a:chExt cx="2705040" cy="3353040"/>
          </a:xfrm>
        </p:grpSpPr>
        <p:sp>
          <p:nvSpPr>
            <p:cNvPr id="171" name=""/>
            <p:cNvSpPr/>
            <p:nvPr/>
          </p:nvSpPr>
          <p:spPr>
            <a:xfrm>
              <a:off x="7321680" y="2895480"/>
              <a:ext cx="0" cy="33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45360" y="5029200"/>
              <a:ext cx="15264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45360" y="4038480"/>
              <a:ext cx="152640" cy="1526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76480" y="489420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5560" y="3962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S </a:t>
              </a:r>
              <a:r>
                <a:rPr b="0" lang="en-US" sz="20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O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0560" y="457200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864480" y="419076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9-07-10T14:52:23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