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EE5-DA5A-4E34-B65D-CB130B02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D58-32D5-4714-B31B-43465FC2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3B1-C460-45FD-A189-7ED1F0AA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E3C-A5A6-4E43-888D-4F2F1696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C5A-A4E2-483A-87CA-1E5FA3FD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C8A-C7F8-498E-89EB-A58DD38A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87A-1998-481C-9A1A-2378462D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A6E-C646-42D0-A123-258D5F4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236-D7F9-4184-980E-867FD10C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68F-5D5B-45E4-B838-CB42970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72B-A70F-4B98-8C6D-AE7028CB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9CC-2D2D-4966-9758-D1A2005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C052-79B1-4831-BE27-9F0162B32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186" t="13155" r="17504" b="17248"/>
          <a:stretch/>
        </p:blipFill>
        <p:spPr>
          <a:xfrm>
            <a:off x="1143000" y="0"/>
            <a:ext cx="6629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4761" t="16187" r="7619" b="5466"/>
          <a:stretch/>
        </p:blipFill>
        <p:spPr>
          <a:xfrm>
            <a:off x="990720" y="0"/>
            <a:ext cx="66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3812" t="16187" r="9522" b="12888"/>
          <a:stretch/>
        </p:blipFill>
        <p:spPr>
          <a:xfrm>
            <a:off x="838080" y="0"/>
            <a:ext cx="69343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4289" t="12888" r="9050" b="12888"/>
          <a:stretch/>
        </p:blipFill>
        <p:spPr>
          <a:xfrm>
            <a:off x="9144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4289" t="15362" r="9999" b="12888"/>
          <a:stretch/>
        </p:blipFill>
        <p:spPr>
          <a:xfrm>
            <a:off x="990720" y="0"/>
            <a:ext cx="6858000" cy="6629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54100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334120"/>
            <a:ext cx="1981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err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4289" t="17010" r="6192" b="5466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6933960" y="3048120"/>
            <a:ext cx="2210040" cy="2014200"/>
            <a:chOff x="6933960" y="3048120"/>
            <a:chExt cx="2210040" cy="2014200"/>
          </a:xfrm>
        </p:grpSpPr>
        <p:sp>
          <p:nvSpPr>
            <p:cNvPr id="58" name=""/>
            <p:cNvSpPr/>
            <p:nvPr/>
          </p:nvSpPr>
          <p:spPr>
            <a:xfrm>
              <a:off x="7467480" y="3048120"/>
              <a:ext cx="16765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y learner that outputs a hypothesis consistent with all training examp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6933960" y="3276720"/>
              <a:ext cx="5331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6294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4289" t="15362" r="7142" b="10414"/>
          <a:stretch/>
        </p:blipFill>
        <p:spPr>
          <a:xfrm>
            <a:off x="914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335" t="12888" r="8096" b="12888"/>
          <a:stretch/>
        </p:blipFill>
        <p:spPr>
          <a:xfrm>
            <a:off x="83808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4289" t="12888" r="9050" b="12888"/>
          <a:stretch/>
        </p:blipFill>
        <p:spPr>
          <a:xfrm>
            <a:off x="9144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381" t="12888" r="6192" b="12888"/>
          <a:stretch/>
        </p:blipFill>
        <p:spPr>
          <a:xfrm>
            <a:off x="76212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0968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e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19520" y="5867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ining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495680" y="586692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6248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gree of over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638320" y="58672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f H is not fin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use our result for finite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ome other measure of complexity for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pnik-Chervonenkis dimen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3997" t="13114" r="6094" b="13114"/>
          <a:stretch/>
        </p:blipFill>
        <p:spPr>
          <a:xfrm>
            <a:off x="1447920" y="0"/>
            <a:ext cx="693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4289" t="12850" r="6192" b="18628"/>
          <a:stretch/>
        </p:blipFill>
        <p:spPr>
          <a:xfrm>
            <a:off x="914400" y="0"/>
            <a:ext cx="7162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4289" t="12850" r="5238" b="19455"/>
          <a:stretch/>
        </p:blipFill>
        <p:spPr>
          <a:xfrm>
            <a:off x="914400" y="0"/>
            <a:ext cx="7238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6192" t="12850" r="6192" b="12850"/>
          <a:stretch/>
        </p:blipFill>
        <p:spPr>
          <a:xfrm>
            <a:off x="1066680" y="0"/>
            <a:ext cx="701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4289" t="12850" r="8096" b="12850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3335" t="12850" r="5238" b="12850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4289" t="12850" r="7142" b="16150"/>
          <a:stretch/>
        </p:blipFill>
        <p:spPr>
          <a:xfrm>
            <a:off x="914400" y="0"/>
            <a:ext cx="7086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4289" t="12850" r="8096" b="12850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2362320"/>
            <a:ext cx="54104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3335" t="12850" r="6192" b="12850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876920" y="914400"/>
            <a:ext cx="4267080" cy="147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 VS to all hypotheses in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raining exam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from VS all hyps. that misclassify this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276360" y="19810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3335" t="16977" r="9999" b="12850"/>
          <a:stretch/>
        </p:blipFill>
        <p:spPr>
          <a:xfrm>
            <a:off x="914400" y="0"/>
            <a:ext cx="6934320" cy="6477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76520" y="5638680"/>
            <a:ext cx="5638680" cy="60984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8560" t="24272" r="9459" b="13817"/>
          <a:stretch/>
        </p:blipFill>
        <p:spPr>
          <a:xfrm>
            <a:off x="1066680" y="685800"/>
            <a:ext cx="6934320" cy="586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6680" y="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ighted Majorit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2666880"/>
            <a:ext cx="175284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0, equivalent to the Halving algorith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812" t="8248" r="2858" b="17528"/>
          <a:stretch/>
        </p:blipFill>
        <p:spPr>
          <a:xfrm>
            <a:off x="99072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5857" t="13821" r="12162" b="27487"/>
          <a:stretch/>
        </p:blipFill>
        <p:spPr>
          <a:xfrm>
            <a:off x="838080" y="0"/>
            <a:ext cx="693432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629400" y="609480"/>
            <a:ext cx="228600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n algorithms that learn or change over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105160" y="13716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4289" t="12888" r="6192" b="15362"/>
          <a:stretch/>
        </p:blipFill>
        <p:spPr>
          <a:xfrm>
            <a:off x="914400" y="0"/>
            <a:ext cx="7162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6192" t="16433" r="9999" b="3814"/>
          <a:stretch/>
        </p:blipFill>
        <p:spPr>
          <a:xfrm>
            <a:off x="1447920" y="0"/>
            <a:ext cx="62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289" t="12888" r="6192" b="12888"/>
          <a:stretch/>
        </p:blipFill>
        <p:spPr>
          <a:xfrm>
            <a:off x="914400" y="0"/>
            <a:ext cx="716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238" t="17010" r="6192" b="10414"/>
          <a:stretch/>
        </p:blipFill>
        <p:spPr>
          <a:xfrm>
            <a:off x="990720" y="0"/>
            <a:ext cx="7086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7142" t="12888" r="6192" b="12888"/>
          <a:stretch/>
        </p:blipFill>
        <p:spPr>
          <a:xfrm>
            <a:off x="11430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289" t="12888" r="5238" b="12888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0:32:22Z</dcterms:created>
  <dc:creator>Steven Minton</dc:creator>
  <dc:description/>
  <dc:language>en-US</dc:language>
  <cp:lastModifiedBy>Tom M. Mitchell</cp:lastModifiedBy>
  <dcterms:modified xsi:type="dcterms:W3CDTF">2003-10-10T17:44:00Z</dcterms:modified>
  <cp:revision>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87833772</vt:r8>
  </property>
  <property fmtid="{D5CDD505-2E9C-101B-9397-08002B2CF9AE}" pid="3" name="_AuthorEmail">
    <vt:lpwstr>Steve.Minton@fetch.com</vt:lpwstr>
  </property>
  <property fmtid="{D5CDD505-2E9C-101B-9397-08002B2CF9AE}" pid="4" name="_AuthorEmailDisplayName">
    <vt:lpwstr>Steve Minton</vt:lpwstr>
  </property>
  <property fmtid="{D5CDD505-2E9C-101B-9397-08002B2CF9AE}" pid="5" name="_EmailSubject">
    <vt:lpwstr>CALO Learning effort</vt:lpwstr>
  </property>
</Properties>
</file>