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AD9-B974-4F94-A515-BE650B97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067-A6BE-4B5C-BE62-56CA10A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5E6-E39B-4F4D-BF76-BDFB7840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24B-88C7-4B4D-87D2-45FD0884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D50-2810-4A81-9B8D-CE313F2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E32-F0F1-466B-A8D8-119FC8C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F84-EB9E-4322-BC8F-FCB2CFBE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AAA-42FF-43BC-9306-DBCA6F1F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E08-C8D3-46C2-B3BC-C986C7E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F08-C2CD-444F-B970-70D6077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233-DBC1-4788-AF3D-2C0FECD5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DE0-6273-4A31-81C3-DE297F7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D4A1-F09A-488C-A266-D47048CB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186" t="13155" r="17504" b="17248"/>
          <a:stretch/>
        </p:blipFill>
        <p:spPr>
          <a:xfrm>
            <a:off x="1143000" y="0"/>
            <a:ext cx="6629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761" t="16187" r="7619" b="5466"/>
          <a:stretch/>
        </p:blipFill>
        <p:spPr>
          <a:xfrm>
            <a:off x="990720" y="0"/>
            <a:ext cx="66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812" t="16187" r="9522" b="12888"/>
          <a:stretch/>
        </p:blipFill>
        <p:spPr>
          <a:xfrm>
            <a:off x="838080" y="0"/>
            <a:ext cx="6934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289" t="12888" r="9050" b="12888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4289" t="15362" r="9999" b="12888"/>
          <a:stretch/>
        </p:blipFill>
        <p:spPr>
          <a:xfrm>
            <a:off x="990720" y="0"/>
            <a:ext cx="685800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5410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334120"/>
            <a:ext cx="198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4289" t="17010" r="6192" b="5466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933960" y="3048120"/>
            <a:ext cx="2210040" cy="2014200"/>
            <a:chOff x="6933960" y="3048120"/>
            <a:chExt cx="2210040" cy="2014200"/>
          </a:xfrm>
        </p:grpSpPr>
        <p:sp>
          <p:nvSpPr>
            <p:cNvPr id="58" name=""/>
            <p:cNvSpPr/>
            <p:nvPr/>
          </p:nvSpPr>
          <p:spPr>
            <a:xfrm>
              <a:off x="7467480" y="3048120"/>
              <a:ext cx="1676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y learner that outputs a hypothesis consistent with all training exam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933960" y="3276720"/>
              <a:ext cx="53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6294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289" t="15362" r="7142" b="10414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335" t="12888" r="8096" b="12888"/>
          <a:stretch/>
        </p:blipFill>
        <p:spPr>
          <a:xfrm>
            <a:off x="83808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4289" t="12888" r="9050" b="12888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381" t="12888" r="6192" b="12888"/>
          <a:stretch/>
        </p:blipFill>
        <p:spPr>
          <a:xfrm>
            <a:off x="7621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19520" y="5867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ining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95680" y="586692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248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gree of over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638320" y="58672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H is not fin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our result for finite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ome other measure of complexity fo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nik-Chervonenkis dim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3997" t="13114" r="6094" b="13114"/>
          <a:stretch/>
        </p:blipFill>
        <p:spPr>
          <a:xfrm>
            <a:off x="1447920" y="0"/>
            <a:ext cx="69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4289" t="12850" r="6192" b="18628"/>
          <a:stretch/>
        </p:blipFill>
        <p:spPr>
          <a:xfrm>
            <a:off x="914400" y="0"/>
            <a:ext cx="7162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4289" t="12850" r="5238" b="19455"/>
          <a:stretch/>
        </p:blipFill>
        <p:spPr>
          <a:xfrm>
            <a:off x="914400" y="0"/>
            <a:ext cx="7238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6192" t="12850" r="6192" b="12850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4289" t="12850" r="8096" b="12850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35" t="12850" r="5238" b="12850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289" t="12850" r="7142" b="16150"/>
          <a:stretch/>
        </p:blipFill>
        <p:spPr>
          <a:xfrm>
            <a:off x="914400" y="0"/>
            <a:ext cx="708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289" t="12850" r="8096" b="12850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2362320"/>
            <a:ext cx="54104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3335" t="12850" r="6192" b="12850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876920" y="914400"/>
            <a:ext cx="4267080" cy="14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VS to all hypotheses in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raining exam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from VS all hyps. that misclassify thi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76360" y="1981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3335" t="16977" r="9999" b="12850"/>
          <a:stretch/>
        </p:blipFill>
        <p:spPr>
          <a:xfrm>
            <a:off x="914400" y="0"/>
            <a:ext cx="6934320" cy="647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76520" y="5638680"/>
            <a:ext cx="5638680" cy="60984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8560" t="24272" r="9459" b="13817"/>
          <a:stretch/>
        </p:blipFill>
        <p:spPr>
          <a:xfrm>
            <a:off x="1066680" y="685800"/>
            <a:ext cx="6934320" cy="586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ed Majorit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2666880"/>
            <a:ext cx="175284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equivalent to the Halving algorith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812" t="8248" r="2858" b="17528"/>
          <a:stretch/>
        </p:blipFill>
        <p:spPr>
          <a:xfrm>
            <a:off x="9907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5857" t="13821" r="12162" b="27487"/>
          <a:stretch/>
        </p:blipFill>
        <p:spPr>
          <a:xfrm>
            <a:off x="838080" y="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29400" y="609480"/>
            <a:ext cx="228600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 algorithms that learn or change over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105160" y="1371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4289" t="12888" r="6192" b="15362"/>
          <a:stretch/>
        </p:blipFill>
        <p:spPr>
          <a:xfrm>
            <a:off x="914400" y="0"/>
            <a:ext cx="716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192" t="16433" r="9999" b="3814"/>
          <a:stretch/>
        </p:blipFill>
        <p:spPr>
          <a:xfrm>
            <a:off x="1447920" y="0"/>
            <a:ext cx="62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289" t="12888" r="6192" b="12888"/>
          <a:stretch/>
        </p:blipFill>
        <p:spPr>
          <a:xfrm>
            <a:off x="91440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238" t="17010" r="6192" b="10414"/>
          <a:stretch/>
        </p:blipFill>
        <p:spPr>
          <a:xfrm>
            <a:off x="990720" y="0"/>
            <a:ext cx="7086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142" t="12888" r="6192" b="12888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289" t="12888" r="5238" b="12888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0:32:22Z</dcterms:created>
  <dc:creator>Steven Minton</dc:creator>
  <dc:description/>
  <dc:language>en-US</dc:language>
  <cp:lastModifiedBy>Tom M. Mitchell</cp:lastModifiedBy>
  <dcterms:modified xsi:type="dcterms:W3CDTF">2003-10-10T17:44:00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7833772</vt:r8>
  </property>
  <property fmtid="{D5CDD505-2E9C-101B-9397-08002B2CF9AE}" pid="3" name="_AuthorEmail">
    <vt:lpwstr>Steve.Minton@fetch.com</vt:lpwstr>
  </property>
  <property fmtid="{D5CDD505-2E9C-101B-9397-08002B2CF9AE}" pid="4" name="_AuthorEmailDisplayName">
    <vt:lpwstr>Steve Minton</vt:lpwstr>
  </property>
  <property fmtid="{D5CDD505-2E9C-101B-9397-08002B2CF9AE}" pid="5" name="_EmailSubject">
    <vt:lpwstr>CALO Learning effort</vt:lpwstr>
  </property>
</Properties>
</file>