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E29-6CFE-414B-A51E-B98E42FB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F60-582F-4BBE-813D-9BBFCED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D55-3C12-40DE-9777-5E45FC0E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409-D33B-44A5-9924-42020765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49B-A5A4-4A7C-8EEA-9C4A82F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94F-9D0A-461D-8221-222654C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C94-50F2-4B97-B6E9-89C53A9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F40-BB54-48B0-8BC6-4041A4C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BCD-4D51-4F56-96BB-581F25C8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A09-4D4A-4250-A16E-E1ED7BA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950-93FC-4140-AE06-1850EA2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302-A5A0-44A3-9258-7B12661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8D1B-27FB-4270-8793-A9AF2EE1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186" t="13155" r="17504" b="17248"/>
          <a:stretch/>
        </p:blipFill>
        <p:spPr>
          <a:xfrm>
            <a:off x="1143000" y="0"/>
            <a:ext cx="6629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761" t="16187" r="7619" b="5466"/>
          <a:stretch/>
        </p:blipFill>
        <p:spPr>
          <a:xfrm>
            <a:off x="99072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812" t="16187" r="9522" b="12888"/>
          <a:stretch/>
        </p:blipFill>
        <p:spPr>
          <a:xfrm>
            <a:off x="838080" y="0"/>
            <a:ext cx="693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4289" t="15362" r="9999" b="12888"/>
          <a:stretch/>
        </p:blipFill>
        <p:spPr>
          <a:xfrm>
            <a:off x="990720" y="0"/>
            <a:ext cx="685800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5410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334120"/>
            <a:ext cx="198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4289" t="17010" r="6192" b="5466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933960" y="3048120"/>
            <a:ext cx="2210040" cy="2014200"/>
            <a:chOff x="6933960" y="3048120"/>
            <a:chExt cx="2210040" cy="2014200"/>
          </a:xfrm>
        </p:grpSpPr>
        <p:sp>
          <p:nvSpPr>
            <p:cNvPr id="58" name=""/>
            <p:cNvSpPr/>
            <p:nvPr/>
          </p:nvSpPr>
          <p:spPr>
            <a:xfrm>
              <a:off x="7467480" y="3048120"/>
              <a:ext cx="1676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y learner that outputs a hypothesis consistent with all training exam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933960" y="32767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6294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289" t="15362" r="7142" b="10414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335" t="12888" r="8096" b="12888"/>
          <a:stretch/>
        </p:blipFill>
        <p:spPr>
          <a:xfrm>
            <a:off x="83808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381" t="12888" r="6192" b="12888"/>
          <a:stretch/>
        </p:blipFill>
        <p:spPr>
          <a:xfrm>
            <a:off x="7621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19520" y="5867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in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95680" y="586692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248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gree of over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638320" y="5867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H is not fin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our result for finite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ome other measure of complexity fo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nik-Chervonenkis dim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3997" t="13114" r="6094" b="13114"/>
          <a:stretch/>
        </p:blipFill>
        <p:spPr>
          <a:xfrm>
            <a:off x="1447920" y="0"/>
            <a:ext cx="69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4289" t="12850" r="6192" b="18628"/>
          <a:stretch/>
        </p:blipFill>
        <p:spPr>
          <a:xfrm>
            <a:off x="914400" y="0"/>
            <a:ext cx="7162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4289" t="12850" r="5238" b="19455"/>
          <a:stretch/>
        </p:blipFill>
        <p:spPr>
          <a:xfrm>
            <a:off x="914400" y="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6192" t="12850" r="6192" b="12850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35" t="12850" r="5238" b="12850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289" t="12850" r="7142" b="16150"/>
          <a:stretch/>
        </p:blipFill>
        <p:spPr>
          <a:xfrm>
            <a:off x="914400" y="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2362320"/>
            <a:ext cx="54104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3335" t="12850" r="6192" b="12850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876920" y="914400"/>
            <a:ext cx="4267080" cy="14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VS to all hypotheses in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raining exam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from VS all hyps. that misclassify thi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76360" y="1981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335" t="16977" r="9999" b="12850"/>
          <a:stretch/>
        </p:blipFill>
        <p:spPr>
          <a:xfrm>
            <a:off x="914400" y="0"/>
            <a:ext cx="6934320" cy="647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5638680"/>
            <a:ext cx="5638680" cy="60984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8560" t="24272" r="9459" b="13817"/>
          <a:stretch/>
        </p:blipFill>
        <p:spPr>
          <a:xfrm>
            <a:off x="1066680" y="685800"/>
            <a:ext cx="693432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ed Majorit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2666880"/>
            <a:ext cx="17528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equivalent to the Halving algorith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812" t="8248" r="2858" b="17528"/>
          <a:stretch/>
        </p:blipFill>
        <p:spPr>
          <a:xfrm>
            <a:off x="9907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5857" t="13821" r="12162" b="27487"/>
          <a:stretch/>
        </p:blipFill>
        <p:spPr>
          <a:xfrm>
            <a:off x="838080" y="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609480"/>
            <a:ext cx="228600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 algorithms that learn or change over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05160" y="1371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4289" t="12888" r="6192" b="15362"/>
          <a:stretch/>
        </p:blipFill>
        <p:spPr>
          <a:xfrm>
            <a:off x="914400" y="0"/>
            <a:ext cx="716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192" t="16433" r="9999" b="3814"/>
          <a:stretch/>
        </p:blipFill>
        <p:spPr>
          <a:xfrm>
            <a:off x="1447920" y="0"/>
            <a:ext cx="62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289" t="12888" r="6192" b="12888"/>
          <a:stretch/>
        </p:blipFill>
        <p:spPr>
          <a:xfrm>
            <a:off x="91440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238" t="17010" r="6192" b="10414"/>
          <a:stretch/>
        </p:blipFill>
        <p:spPr>
          <a:xfrm>
            <a:off x="990720" y="0"/>
            <a:ext cx="708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142" t="12888" r="6192" b="12888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89" t="12888" r="5238" b="12888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0:32:22Z</dcterms:created>
  <dc:creator>Steven Minton</dc:creator>
  <dc:description/>
  <dc:language>en-US</dc:language>
  <cp:lastModifiedBy>Tom M. Mitchell</cp:lastModifiedBy>
  <dcterms:modified xsi:type="dcterms:W3CDTF">2003-10-10T17:44:00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7833772</vt:r8>
  </property>
  <property fmtid="{D5CDD505-2E9C-101B-9397-08002B2CF9AE}" pid="3" name="_AuthorEmail">
    <vt:lpwstr>Steve.Minton@fetch.com</vt:lpwstr>
  </property>
  <property fmtid="{D5CDD505-2E9C-101B-9397-08002B2CF9AE}" pid="4" name="_AuthorEmailDisplayName">
    <vt:lpwstr>Steve Minton</vt:lpwstr>
  </property>
  <property fmtid="{D5CDD505-2E9C-101B-9397-08002B2CF9AE}" pid="5" name="_EmailSubject">
    <vt:lpwstr>CALO Learning effort</vt:lpwstr>
  </property>
</Properties>
</file>