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F77-8F2D-4A1B-9C02-ECABFD2B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11D-5BFD-4469-BE6F-71CA3FD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E55-6A97-463E-AEA0-0A5BE93D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2C7-0C81-45D3-8DD9-77692667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A0C-CDE6-4E7E-A2F4-4D16BD2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EA2-9532-493F-BC97-8DB4473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562-40AD-4673-A1D7-7502C39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26C-3AF9-455D-B14E-082F3E44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52280"/>
            <a:ext cx="855648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605-94A1-4E52-90C2-504E221C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C3F-C719-4AA4-B2FC-931CA58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9BA-24A7-4AC8-A0C4-4371990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080-E47F-4C9E-9343-7601D3E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B8DC-B365-4DC1-875A-8B03B773A402}" type="slidenum">
              <a:rPr b="0" lang="it-IT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80" t="14322" r="8690" b="14322"/>
          <a:stretch/>
        </p:blipFill>
        <p:spPr>
          <a:xfrm>
            <a:off x="608040" y="-219240"/>
            <a:ext cx="8078760" cy="710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B06-0B86-419D-B4F7-64B59E3D4D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64" t="6953" r="9499" b="3784"/>
          <a:stretch/>
        </p:blipFill>
        <p:spPr>
          <a:xfrm>
            <a:off x="1303200" y="0"/>
            <a:ext cx="614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987-72E8-48FB-B58D-7CAB87C72E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926" t="7399" r="7044" b="20533"/>
          <a:stretch/>
        </p:blipFill>
        <p:spPr>
          <a:xfrm>
            <a:off x="388800" y="0"/>
            <a:ext cx="78868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CE7-43D7-41E0-8B4D-91DE28AB27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80" t="7714" r="5231" b="4379"/>
          <a:stretch/>
        </p:blipFill>
        <p:spPr>
          <a:xfrm>
            <a:off x="1201680" y="0"/>
            <a:ext cx="657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76F-1BA3-46D2-A6F8-C6C8AA30C4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764" t="6953" r="5394" b="19327"/>
          <a:stretch/>
        </p:blipFill>
        <p:spPr>
          <a:xfrm>
            <a:off x="695160" y="0"/>
            <a:ext cx="8047080" cy="70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2D0-2577-4EF4-B6AD-01E0392910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4105" t="6788" r="5898" b="4526"/>
          <a:stretch/>
        </p:blipFill>
        <p:spPr>
          <a:xfrm>
            <a:off x="1306440" y="0"/>
            <a:ext cx="64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0CC-EF62-4BF8-BA36-500CECBB7C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40" t="9366" r="2789" b="8459"/>
          <a:stretch/>
        </p:blipFill>
        <p:spPr>
          <a:xfrm>
            <a:off x="-176040" y="0"/>
            <a:ext cx="9320040" cy="71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083-833B-4703-BF99-B2A24FC3AF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019" t="6807" r="5019" b="11629"/>
          <a:stretch/>
        </p:blipFill>
        <p:spPr>
          <a:xfrm>
            <a:off x="896760" y="0"/>
            <a:ext cx="7320240" cy="68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7AF-AA98-4D30-B3AF-1D062BCD6F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637" t="6807" r="5482" b="4840"/>
          <a:stretch/>
        </p:blipFill>
        <p:spPr>
          <a:xfrm>
            <a:off x="1538280" y="0"/>
            <a:ext cx="6653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EF6-6D6B-4001-A2EC-40599551E8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211" t="6492" r="9079" b="6193"/>
          <a:stretch/>
        </p:blipFill>
        <p:spPr>
          <a:xfrm>
            <a:off x="1227240" y="0"/>
            <a:ext cx="634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8BC-6ABE-4CD5-A589-2D378C88FF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079" t="6507" r="5326" b="4675"/>
          <a:stretch/>
        </p:blipFill>
        <p:spPr>
          <a:xfrm>
            <a:off x="15048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810-71EB-4073-9FE9-6C5EED510B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740" t="7399" r="6219" b="7845"/>
          <a:stretch/>
        </p:blipFill>
        <p:spPr>
          <a:xfrm>
            <a:off x="905040" y="-68400"/>
            <a:ext cx="693396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C59-A390-456D-81A1-B1A4C9A8CF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7521" t="6492" r="7040" b="4080"/>
          <a:stretch/>
        </p:blipFill>
        <p:spPr>
          <a:xfrm>
            <a:off x="1089000" y="0"/>
            <a:ext cx="631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5ED-0144-4910-92FA-8355484F34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366" t="6642" r="4542" b="3915"/>
          <a:stretch/>
        </p:blipFill>
        <p:spPr>
          <a:xfrm>
            <a:off x="1689120" y="0"/>
            <a:ext cx="6513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05-9754-4F47-AC94-A00F1D56E4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924" t="6807" r="7984" b="26876"/>
          <a:stretch/>
        </p:blipFill>
        <p:spPr>
          <a:xfrm>
            <a:off x="431640" y="0"/>
            <a:ext cx="8164800" cy="63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6FA-5783-43B1-9279-B298F6286E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326" t="6642" r="5637" b="16915"/>
          <a:stretch/>
        </p:blipFill>
        <p:spPr>
          <a:xfrm>
            <a:off x="892080" y="0"/>
            <a:ext cx="8251920" cy="734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F15-DC52-490A-8F15-E819251E52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749" t="6492" r="4386" b="18863"/>
          <a:stretch/>
        </p:blipFill>
        <p:spPr>
          <a:xfrm>
            <a:off x="630360" y="0"/>
            <a:ext cx="851364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D3F-DB52-49DC-ADD6-D53866C6A1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809" t="6507" r="7040" b="19477"/>
          <a:stretch/>
        </p:blipFill>
        <p:spPr>
          <a:xfrm>
            <a:off x="746280" y="0"/>
            <a:ext cx="803592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D9B-0AB0-4EFA-951C-9811CFFDB6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5789" t="6938" r="8462" b="14322"/>
          <a:stretch/>
        </p:blipFill>
        <p:spPr>
          <a:xfrm>
            <a:off x="1200240" y="0"/>
            <a:ext cx="7162560" cy="682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483-76A7-43FB-9B1F-32FB645D6A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9079" t="6642" r="13155" b="4990"/>
          <a:stretch/>
        </p:blipFill>
        <p:spPr>
          <a:xfrm>
            <a:off x="146988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73C-0E67-4762-B8A4-8A5B25391D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980" t="6657" r="2824" b="10126"/>
          <a:stretch/>
        </p:blipFill>
        <p:spPr>
          <a:xfrm>
            <a:off x="896760" y="0"/>
            <a:ext cx="7409160" cy="678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E64-BDDE-4998-A306-0C941FB974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4542" t="6642" r="7211" b="6953"/>
          <a:stretch/>
        </p:blipFill>
        <p:spPr>
          <a:xfrm>
            <a:off x="1055520" y="0"/>
            <a:ext cx="6755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82C-CDF0-4EE2-AAB1-85DFA09F64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036" t="6642" r="6219" b="8455"/>
          <a:stretch/>
        </p:blipFill>
        <p:spPr>
          <a:xfrm>
            <a:off x="1227240" y="-301680"/>
            <a:ext cx="7223040" cy="725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756-7623-41E0-92AA-4B26B7D53A7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668" t="6953" r="2708" b="17360"/>
          <a:stretch/>
        </p:blipFill>
        <p:spPr>
          <a:xfrm>
            <a:off x="392040" y="0"/>
            <a:ext cx="8435880" cy="685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31040" y="3094200"/>
            <a:ext cx="2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0120" y="1770120"/>
            <a:ext cx="4441680" cy="842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933440" y="1320840"/>
            <a:ext cx="1016280" cy="392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3880" y="113184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iginal error f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785-63E5-4D46-80C8-6D21823AB5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115" t="6342" r="7040" b="8159"/>
          <a:stretch/>
        </p:blipFill>
        <p:spPr>
          <a:xfrm>
            <a:off x="1095480" y="0"/>
            <a:ext cx="6718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58B-B1BB-4DCE-AC6E-9542184ED73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2960" t="8679" r="23425" b="2996"/>
          <a:stretch/>
        </p:blipFill>
        <p:spPr>
          <a:xfrm>
            <a:off x="20239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8900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Neuroscience Models Based on ANN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7960" y="623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cClelland &amp; Roge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DB3-4AC3-43E4-8C13-FD04F5EE3BD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5440" t="8382" r="10753" b="3898"/>
          <a:stretch/>
        </p:blipFill>
        <p:spPr>
          <a:xfrm>
            <a:off x="328680" y="0"/>
            <a:ext cx="8597880" cy="85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4E0-A322-489F-B3E0-F4A46FC68954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898" t="6788" r="6719" b="12243"/>
          <a:stretch/>
        </p:blipFill>
        <p:spPr>
          <a:xfrm>
            <a:off x="665280" y="0"/>
            <a:ext cx="6821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2BA-3670-4517-A022-450F84BD5E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280" t="11333" r="6560" b="18417"/>
          <a:stretch/>
        </p:blipFill>
        <p:spPr>
          <a:xfrm>
            <a:off x="345960" y="0"/>
            <a:ext cx="7986960" cy="675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B1C-B26B-4CF9-9F2C-72F0420089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764" t="6807" r="7044" b="10108"/>
          <a:stretch/>
        </p:blipFill>
        <p:spPr>
          <a:xfrm>
            <a:off x="1173240" y="0"/>
            <a:ext cx="6786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998-05DB-4576-AD5A-0F2AA6D4DC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09" t="6642" r="10003" b="26115"/>
          <a:stretch/>
        </p:blipFill>
        <p:spPr>
          <a:xfrm>
            <a:off x="811080" y="174600"/>
            <a:ext cx="7812360" cy="64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5BB-4767-406A-9BFE-A648688F04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764" t="6953" r="5572" b="24003"/>
          <a:stretch/>
        </p:blipFill>
        <p:spPr>
          <a:xfrm>
            <a:off x="476280" y="0"/>
            <a:ext cx="8031240" cy="663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360-87F8-496E-8304-BCAE6C9019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64" t="6642" r="8190" b="31087"/>
          <a:stretch/>
        </p:blipFill>
        <p:spPr>
          <a:xfrm>
            <a:off x="636480" y="0"/>
            <a:ext cx="7755120" cy="59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51C-8C1F-4647-9E5A-7A6C23A807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2:10:03Z</dcterms:created>
  <dc:creator>Tom M. Mitchell</dc:creator>
  <dc:description/>
  <dc:language>en-US</dc:language>
  <cp:lastModifiedBy>Tom M. Mitchell</cp:lastModifiedBy>
  <dcterms:modified xsi:type="dcterms:W3CDTF">2003-09-25T14:28:03Z</dcterms:modified>
  <cp:revision>961</cp:revision>
  <dc:subject/>
  <dc:title>Neural nets</dc:title>
</cp:coreProperties>
</file>