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EA7-F323-41DF-9D39-B773C13F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0C6-DBC8-4B33-AEF6-1901990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2C-3E5B-4C2B-9303-66E81749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4000"/>
            <a:ext cx="25023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FB5-78A6-4043-82EA-7EAE22FA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67D-8BD0-45E5-A4C8-95ADEA2E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01E-7C8D-4806-B5A3-4D0929E7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626-B87E-477F-977E-4D376F84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CC5-75E9-46D6-99E6-272088B0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840" y="152280"/>
            <a:ext cx="855648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4E2-3E7F-4082-8454-2D40B96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5C7-1206-49EA-A769-319E9D4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40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73F-0AE7-4CF9-9D57-63A31CD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840" y="145080"/>
            <a:ext cx="8556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400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FA1-C1B1-4951-B7BE-32B7ED01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840" y="152280"/>
            <a:ext cx="8556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2FCA-D1E8-4D52-AF9B-000144EC4BA8}" type="slidenum">
              <a:rPr b="0" lang="it-IT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80" t="14322" r="8690" b="14322"/>
          <a:stretch/>
        </p:blipFill>
        <p:spPr>
          <a:xfrm>
            <a:off x="608040" y="-219240"/>
            <a:ext cx="8078760" cy="710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BE2-4D63-4560-AB68-70D791370B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64" t="6953" r="9499" b="3784"/>
          <a:stretch/>
        </p:blipFill>
        <p:spPr>
          <a:xfrm>
            <a:off x="1303200" y="0"/>
            <a:ext cx="614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964-562B-4E90-9175-36EE99B6D4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926" t="7399" r="7044" b="20533"/>
          <a:stretch/>
        </p:blipFill>
        <p:spPr>
          <a:xfrm>
            <a:off x="388800" y="0"/>
            <a:ext cx="78868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9B7-62FC-4E99-9ED8-67972E669C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80" t="7714" r="5231" b="4379"/>
          <a:stretch/>
        </p:blipFill>
        <p:spPr>
          <a:xfrm>
            <a:off x="1201680" y="0"/>
            <a:ext cx="657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E2A-272C-45E5-9940-2C349DADD6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764" t="6953" r="5394" b="19327"/>
          <a:stretch/>
        </p:blipFill>
        <p:spPr>
          <a:xfrm>
            <a:off x="695160" y="0"/>
            <a:ext cx="8047080" cy="70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54B-1A5C-41B9-BE2D-B3C5296674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4105" t="6788" r="5898" b="4526"/>
          <a:stretch/>
        </p:blipFill>
        <p:spPr>
          <a:xfrm>
            <a:off x="1306440" y="0"/>
            <a:ext cx="64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92A-D66C-416E-8C57-6AA49D3BEA5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40" t="9366" r="2789" b="8459"/>
          <a:stretch/>
        </p:blipFill>
        <p:spPr>
          <a:xfrm>
            <a:off x="-176040" y="0"/>
            <a:ext cx="9320040" cy="71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7EC-9D32-4307-B676-82D574A3CCE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019" t="6807" r="5019" b="11629"/>
          <a:stretch/>
        </p:blipFill>
        <p:spPr>
          <a:xfrm>
            <a:off x="896760" y="0"/>
            <a:ext cx="7320240" cy="68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E81-2DD9-4309-A311-22A04F64EC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637" t="6807" r="5482" b="4840"/>
          <a:stretch/>
        </p:blipFill>
        <p:spPr>
          <a:xfrm>
            <a:off x="1538280" y="0"/>
            <a:ext cx="6653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739-B771-4A3A-819D-633CE5F16C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211" t="6492" r="9079" b="6193"/>
          <a:stretch/>
        </p:blipFill>
        <p:spPr>
          <a:xfrm>
            <a:off x="1227240" y="0"/>
            <a:ext cx="634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47-ED8D-495E-BE78-9FBBB41C51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079" t="6507" r="5326" b="4675"/>
          <a:stretch/>
        </p:blipFill>
        <p:spPr>
          <a:xfrm>
            <a:off x="15048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25E-077C-4106-A454-362EFB5528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740" t="7399" r="6219" b="7845"/>
          <a:stretch/>
        </p:blipFill>
        <p:spPr>
          <a:xfrm>
            <a:off x="905040" y="-68400"/>
            <a:ext cx="693396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E6D-0713-47C9-AD13-063248F898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7521" t="6492" r="7040" b="4080"/>
          <a:stretch/>
        </p:blipFill>
        <p:spPr>
          <a:xfrm>
            <a:off x="1089000" y="0"/>
            <a:ext cx="631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ECA-FA65-4028-A8B7-9B25A82362C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366" t="6642" r="4542" b="3915"/>
          <a:stretch/>
        </p:blipFill>
        <p:spPr>
          <a:xfrm>
            <a:off x="1689120" y="0"/>
            <a:ext cx="6513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DCE-8BD3-4035-A5C5-37A7E582D4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924" t="6807" r="7984" b="26876"/>
          <a:stretch/>
        </p:blipFill>
        <p:spPr>
          <a:xfrm>
            <a:off x="431640" y="0"/>
            <a:ext cx="8164800" cy="63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7BD-4755-46A2-B948-AE2FA1B579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326" t="6642" r="5637" b="16915"/>
          <a:stretch/>
        </p:blipFill>
        <p:spPr>
          <a:xfrm>
            <a:off x="892080" y="0"/>
            <a:ext cx="8251920" cy="734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516-CCC9-4871-8787-C90C9E2AD15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749" t="6492" r="4386" b="18863"/>
          <a:stretch/>
        </p:blipFill>
        <p:spPr>
          <a:xfrm>
            <a:off x="630360" y="0"/>
            <a:ext cx="851364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10A-16BE-4DC6-9474-3D4BE5B658D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809" t="6507" r="7040" b="19477"/>
          <a:stretch/>
        </p:blipFill>
        <p:spPr>
          <a:xfrm>
            <a:off x="746280" y="0"/>
            <a:ext cx="803592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A3F-7743-4B34-97B5-653DD21C9D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5789" t="6938" r="8462" b="14322"/>
          <a:stretch/>
        </p:blipFill>
        <p:spPr>
          <a:xfrm>
            <a:off x="1200240" y="0"/>
            <a:ext cx="7162560" cy="682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51D-951C-4A18-8987-B3A3AB620E9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9079" t="6642" r="13155" b="4990"/>
          <a:stretch/>
        </p:blipFill>
        <p:spPr>
          <a:xfrm>
            <a:off x="146988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1AE-3EE6-4CED-8AC5-A6199574DE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980" t="6657" r="2824" b="10126"/>
          <a:stretch/>
        </p:blipFill>
        <p:spPr>
          <a:xfrm>
            <a:off x="896760" y="0"/>
            <a:ext cx="7409160" cy="678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FB8-64C6-4C53-B88D-E51D1AE9795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4542" t="6642" r="7211" b="6953"/>
          <a:stretch/>
        </p:blipFill>
        <p:spPr>
          <a:xfrm>
            <a:off x="1055520" y="0"/>
            <a:ext cx="6755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F38-231B-49C7-9E3A-9F2CC690C8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036" t="6642" r="6219" b="8455"/>
          <a:stretch/>
        </p:blipFill>
        <p:spPr>
          <a:xfrm>
            <a:off x="1227240" y="-301680"/>
            <a:ext cx="7223040" cy="725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65E-E5F3-4B22-BB72-9A4516D813D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668" t="6953" r="2708" b="17360"/>
          <a:stretch/>
        </p:blipFill>
        <p:spPr>
          <a:xfrm>
            <a:off x="392040" y="0"/>
            <a:ext cx="8435880" cy="685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31040" y="3094200"/>
            <a:ext cx="2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0120" y="1770120"/>
            <a:ext cx="4441680" cy="842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933440" y="1320840"/>
            <a:ext cx="1016280" cy="392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3880" y="113184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iginal error f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5B4-8978-4297-9360-1C654BB43C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115" t="6342" r="7040" b="8159"/>
          <a:stretch/>
        </p:blipFill>
        <p:spPr>
          <a:xfrm>
            <a:off x="1095480" y="0"/>
            <a:ext cx="6718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BA8-56D9-42A4-8FF3-E74D71D2A17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2960" t="8679" r="23425" b="2996"/>
          <a:stretch/>
        </p:blipFill>
        <p:spPr>
          <a:xfrm>
            <a:off x="20239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8900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Neuroscience Models Based on ANN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7960" y="623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cClelland &amp; Roge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64F-0DF6-4FFF-9144-4CAA13D7283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5440" t="8382" r="10753" b="3898"/>
          <a:stretch/>
        </p:blipFill>
        <p:spPr>
          <a:xfrm>
            <a:off x="328680" y="0"/>
            <a:ext cx="8597880" cy="85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F4-425A-4872-8E6D-7D98799236B3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898" t="6788" r="6719" b="12243"/>
          <a:stretch/>
        </p:blipFill>
        <p:spPr>
          <a:xfrm>
            <a:off x="665280" y="0"/>
            <a:ext cx="6821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81A-1D92-4E53-A4B6-65A50BA15F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280" t="11333" r="6560" b="18417"/>
          <a:stretch/>
        </p:blipFill>
        <p:spPr>
          <a:xfrm>
            <a:off x="345960" y="0"/>
            <a:ext cx="7986960" cy="675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25C-1097-4D06-9132-FA6933A539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764" t="6807" r="7044" b="10108"/>
          <a:stretch/>
        </p:blipFill>
        <p:spPr>
          <a:xfrm>
            <a:off x="1173240" y="0"/>
            <a:ext cx="6786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43E-30C5-4D6A-B617-691DDC0331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09" t="6642" r="10003" b="26115"/>
          <a:stretch/>
        </p:blipFill>
        <p:spPr>
          <a:xfrm>
            <a:off x="811080" y="174600"/>
            <a:ext cx="7812360" cy="64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F27-9F80-4C43-87E8-8DC8DB6A41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764" t="6953" r="5572" b="24003"/>
          <a:stretch/>
        </p:blipFill>
        <p:spPr>
          <a:xfrm>
            <a:off x="476280" y="0"/>
            <a:ext cx="8031240" cy="663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712-DA66-404D-BB4F-5775D89A1C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64" t="6642" r="8190" b="31087"/>
          <a:stretch/>
        </p:blipFill>
        <p:spPr>
          <a:xfrm>
            <a:off x="636480" y="0"/>
            <a:ext cx="7755120" cy="59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CCC-146E-4F61-A8F8-5FEDB508B3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2:10:03Z</dcterms:created>
  <dc:creator>Tom M. Mitchell</dc:creator>
  <dc:description/>
  <dc:language>en-US</dc:language>
  <cp:lastModifiedBy>Tom M. Mitchell</cp:lastModifiedBy>
  <dcterms:modified xsi:type="dcterms:W3CDTF">2003-09-25T14:28:03Z</dcterms:modified>
  <cp:revision>961</cp:revision>
  <dc:subject/>
  <dc:title>Neural nets</dc:title>
</cp:coreProperties>
</file>