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EEC-9761-410C-A77E-A6D68A04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977-EF8E-4436-BA68-EE20FBB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8E1-5092-4E48-82C0-AEBBFDA6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935-BBB1-4A6E-A8D4-A84BE50D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53F-5596-4A79-820E-3BCE802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F27-4CBF-49D5-8235-F9771DF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286-42D3-4737-9A85-D464826D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5BE-2F45-4482-9CC2-BB67877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52280"/>
            <a:ext cx="855648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959-D36B-41E3-B5BB-662A824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6E6-10AE-4816-A784-3317987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4FD-1D5E-451B-8C98-1AB2FA5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2F4-0BEC-4EE2-A7C3-21A04E4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087F-2F36-4099-B6FA-79E181FC1EF3}" type="slidenum">
              <a:rPr b="0" lang="it-IT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280" t="14322" r="8690" b="14322"/>
          <a:stretch/>
        </p:blipFill>
        <p:spPr>
          <a:xfrm>
            <a:off x="608040" y="-219240"/>
            <a:ext cx="8078760" cy="710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1A5-F28E-41C1-96C9-C6F36C9576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764" t="6953" r="9499" b="3784"/>
          <a:stretch/>
        </p:blipFill>
        <p:spPr>
          <a:xfrm>
            <a:off x="1303200" y="0"/>
            <a:ext cx="614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D5E-4C92-432C-AFB6-F2B8602477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926" t="7399" r="7044" b="20533"/>
          <a:stretch/>
        </p:blipFill>
        <p:spPr>
          <a:xfrm>
            <a:off x="388800" y="0"/>
            <a:ext cx="78868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805-50A6-40ED-BDA1-20842F3FE6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280" t="7714" r="5231" b="4379"/>
          <a:stretch/>
        </p:blipFill>
        <p:spPr>
          <a:xfrm>
            <a:off x="1201680" y="0"/>
            <a:ext cx="6578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1B2-3C6F-428D-B407-D1E3C7524E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764" t="6953" r="5394" b="19327"/>
          <a:stretch/>
        </p:blipFill>
        <p:spPr>
          <a:xfrm>
            <a:off x="695160" y="0"/>
            <a:ext cx="8047080" cy="708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2B9-40DF-4A40-BC38-B3D1FEFAC6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4105" t="6788" r="5898" b="4526"/>
          <a:stretch/>
        </p:blipFill>
        <p:spPr>
          <a:xfrm>
            <a:off x="1306440" y="0"/>
            <a:ext cx="64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9A1-6900-4D0E-B319-2855EB3583C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40" t="9366" r="2789" b="8459"/>
          <a:stretch/>
        </p:blipFill>
        <p:spPr>
          <a:xfrm>
            <a:off x="-176040" y="0"/>
            <a:ext cx="9320040" cy="71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790-3803-4099-88BE-C7BF58D3ED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019" t="6807" r="5019" b="11629"/>
          <a:stretch/>
        </p:blipFill>
        <p:spPr>
          <a:xfrm>
            <a:off x="896760" y="0"/>
            <a:ext cx="7320240" cy="68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328-BAB3-4CDB-8410-8DB59ED3CE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637" t="6807" r="5482" b="4840"/>
          <a:stretch/>
        </p:blipFill>
        <p:spPr>
          <a:xfrm>
            <a:off x="1538280" y="0"/>
            <a:ext cx="6653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968-F5DF-4E19-9ED8-C1771F890A1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7211" t="6492" r="9079" b="6193"/>
          <a:stretch/>
        </p:blipFill>
        <p:spPr>
          <a:xfrm>
            <a:off x="1227240" y="0"/>
            <a:ext cx="634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653-406E-4B8C-BF35-DDB7CCC98A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079" t="6507" r="5326" b="4675"/>
          <a:stretch/>
        </p:blipFill>
        <p:spPr>
          <a:xfrm>
            <a:off x="1504800" y="0"/>
            <a:ext cx="6373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D16-C044-4C38-931E-734BCFDAAD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740" t="7399" r="6219" b="7845"/>
          <a:stretch/>
        </p:blipFill>
        <p:spPr>
          <a:xfrm>
            <a:off x="905040" y="-68400"/>
            <a:ext cx="693396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20A-363D-40D0-A26A-D025ABF9177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7521" t="6492" r="7040" b="4080"/>
          <a:stretch/>
        </p:blipFill>
        <p:spPr>
          <a:xfrm>
            <a:off x="1089000" y="0"/>
            <a:ext cx="631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AF4-9F79-43ED-8F6C-48DC9DCCAC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366" t="6642" r="4542" b="3915"/>
          <a:stretch/>
        </p:blipFill>
        <p:spPr>
          <a:xfrm>
            <a:off x="1689120" y="0"/>
            <a:ext cx="6513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05A-44E1-47A6-9550-5DBD00243A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924" t="6807" r="7984" b="26876"/>
          <a:stretch/>
        </p:blipFill>
        <p:spPr>
          <a:xfrm>
            <a:off x="431640" y="0"/>
            <a:ext cx="8164800" cy="63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491-6D87-4644-8A5E-656081A39A1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326" t="6642" r="5637" b="16915"/>
          <a:stretch/>
        </p:blipFill>
        <p:spPr>
          <a:xfrm>
            <a:off x="892080" y="0"/>
            <a:ext cx="8251920" cy="734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315-7D5A-4DE1-A542-7708BBE250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749" t="6492" r="4386" b="18863"/>
          <a:stretch/>
        </p:blipFill>
        <p:spPr>
          <a:xfrm>
            <a:off x="630360" y="0"/>
            <a:ext cx="851364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E0C-2EFB-40D2-966F-C41D06354F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809" t="6507" r="7040" b="19477"/>
          <a:stretch/>
        </p:blipFill>
        <p:spPr>
          <a:xfrm>
            <a:off x="746280" y="0"/>
            <a:ext cx="8035920" cy="684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5E0-1960-45D4-B89E-F993CE8E416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5789" t="6938" r="8462" b="14322"/>
          <a:stretch/>
        </p:blipFill>
        <p:spPr>
          <a:xfrm>
            <a:off x="1200240" y="0"/>
            <a:ext cx="7162560" cy="682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782-EB35-4E0B-89A0-A5AE25C80E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9079" t="6642" r="13155" b="4990"/>
          <a:stretch/>
        </p:blipFill>
        <p:spPr>
          <a:xfrm>
            <a:off x="146988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5BA-C84B-42EE-B0B0-9DDF9E4174E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980" t="6657" r="2824" b="10126"/>
          <a:stretch/>
        </p:blipFill>
        <p:spPr>
          <a:xfrm>
            <a:off x="896760" y="0"/>
            <a:ext cx="7409160" cy="678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F30-1D0A-4D4C-9CB2-6B10D36F9D5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4542" t="6642" r="7211" b="6953"/>
          <a:stretch/>
        </p:blipFill>
        <p:spPr>
          <a:xfrm>
            <a:off x="1055520" y="0"/>
            <a:ext cx="6755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C18-E673-4A84-819D-381D206E1E1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036" t="6642" r="6219" b="8455"/>
          <a:stretch/>
        </p:blipFill>
        <p:spPr>
          <a:xfrm>
            <a:off x="1227240" y="-301680"/>
            <a:ext cx="7223040" cy="725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BE3-C272-47FA-8247-6BB30F55157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668" t="6953" r="2708" b="17360"/>
          <a:stretch/>
        </p:blipFill>
        <p:spPr>
          <a:xfrm>
            <a:off x="392040" y="0"/>
            <a:ext cx="8435880" cy="6851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31040" y="3094200"/>
            <a:ext cx="2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0120" y="1770120"/>
            <a:ext cx="4441680" cy="842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933440" y="1320840"/>
            <a:ext cx="1016280" cy="392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73880" y="113184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iginal error f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0D9-83CF-4643-A1E8-1AE11C8767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115" t="6342" r="7040" b="8159"/>
          <a:stretch/>
        </p:blipFill>
        <p:spPr>
          <a:xfrm>
            <a:off x="1095480" y="0"/>
            <a:ext cx="6718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857-9C27-4982-9B7A-EF4D4151E18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2960" t="8679" r="23425" b="2996"/>
          <a:stretch/>
        </p:blipFill>
        <p:spPr>
          <a:xfrm>
            <a:off x="20239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8900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Neuroscience Models Based on ANN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7960" y="623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cClelland &amp; Roge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153-7D72-4D2A-AB2D-EF9AB0047C5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5440" t="8382" r="10753" b="3898"/>
          <a:stretch/>
        </p:blipFill>
        <p:spPr>
          <a:xfrm>
            <a:off x="328680" y="0"/>
            <a:ext cx="8597880" cy="85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01D-9CFA-434A-87B9-A0D646C8587B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898" t="6788" r="6719" b="12243"/>
          <a:stretch/>
        </p:blipFill>
        <p:spPr>
          <a:xfrm>
            <a:off x="665280" y="0"/>
            <a:ext cx="6821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C8A-6E53-4A37-8DC1-A7D9CF58E2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280" t="11333" r="6560" b="18417"/>
          <a:stretch/>
        </p:blipFill>
        <p:spPr>
          <a:xfrm>
            <a:off x="345960" y="0"/>
            <a:ext cx="7986960" cy="675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3B0-5642-4363-B599-1A770B6017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764" t="6807" r="7044" b="10108"/>
          <a:stretch/>
        </p:blipFill>
        <p:spPr>
          <a:xfrm>
            <a:off x="1173240" y="0"/>
            <a:ext cx="6786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B50-1242-43B6-9655-ED4EBD2E77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09" t="6642" r="10003" b="26115"/>
          <a:stretch/>
        </p:blipFill>
        <p:spPr>
          <a:xfrm>
            <a:off x="811080" y="174600"/>
            <a:ext cx="7812360" cy="64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6E3-BB99-4988-8DE4-C8F0803F74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764" t="6953" r="5572" b="24003"/>
          <a:stretch/>
        </p:blipFill>
        <p:spPr>
          <a:xfrm>
            <a:off x="476280" y="0"/>
            <a:ext cx="8031240" cy="663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F66-FC08-48F8-8985-90175DC672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264" t="6642" r="8190" b="31087"/>
          <a:stretch/>
        </p:blipFill>
        <p:spPr>
          <a:xfrm>
            <a:off x="636480" y="0"/>
            <a:ext cx="7755120" cy="59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C25-CC69-45BE-BAEB-390EA60832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2:10:03Z</dcterms:created>
  <dc:creator>Tom M. Mitchell</dc:creator>
  <dc:description/>
  <dc:language>en-US</dc:language>
  <cp:lastModifiedBy>Tom M. Mitchell</cp:lastModifiedBy>
  <dcterms:modified xsi:type="dcterms:W3CDTF">2003-09-25T14:28:03Z</dcterms:modified>
  <cp:revision>961</cp:revision>
  <dc:subject/>
  <dc:title>Neural nets</dc:title>
</cp:coreProperties>
</file>