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C90-EEF1-425A-87BD-AE57FF9A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F3E-DEBD-45ED-B4D5-9FAB6ECC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DCE-237A-4986-8C96-F7F5576B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93A-7774-413C-9E34-E7655724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8B2-69C8-4778-AF3F-D8C8EA20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CA9-6EFE-4C2D-8913-99C4B05F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C3C-642E-4A0A-AA0A-1127C603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B26-972B-4CA2-9873-48BEFCF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B97-7114-41F2-9FA3-7B5BCF15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66E-0B54-49EF-904B-F2D10519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119-3EFB-46AF-BB00-0284EAC1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1CB-EA1F-4DE4-8A44-96431194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2E7F-EAE5-43F6-A1DC-0747F9A56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s.cmu.edu/~tom/mlboo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752480"/>
            <a:ext cx="4686480" cy="96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76240" y="3657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ich is shorthan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4406760"/>
            <a:ext cx="84452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6250" t="14844" r="26250" b="24220"/>
          <a:stretch/>
        </p:blipFill>
        <p:spPr>
          <a:xfrm>
            <a:off x="457200" y="0"/>
            <a:ext cx="701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line: Bag of Words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182" t="17399" r="10038" b="2704"/>
          <a:stretch/>
        </p:blipFill>
        <p:spPr>
          <a:xfrm>
            <a:off x="133200" y="1676520"/>
            <a:ext cx="4600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6400800" y="1752480"/>
            <a:ext cx="1428840" cy="441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rdva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xi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i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i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048120"/>
            <a:ext cx="156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14271" t="15908" r="11696" b="100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8125" t="17970" r="25001" b="16405"/>
          <a:stretch/>
        </p:blipFill>
        <p:spPr>
          <a:xfrm>
            <a:off x="380880" y="0"/>
            <a:ext cx="716292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751" t="17970" r="30625" b="28126"/>
          <a:stretch/>
        </p:blipFill>
        <p:spPr>
          <a:xfrm>
            <a:off x="762120" y="304920"/>
            <a:ext cx="7391160" cy="629604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514600" y="1295280"/>
            <a:ext cx="6629400" cy="2438640"/>
            <a:chOff x="2514600" y="1295280"/>
            <a:chExt cx="6629400" cy="2438640"/>
          </a:xfrm>
        </p:grpSpPr>
        <p:sp>
          <p:nvSpPr>
            <p:cNvPr id="49" name=""/>
            <p:cNvSpPr/>
            <p:nvPr/>
          </p:nvSpPr>
          <p:spPr>
            <a:xfrm>
              <a:off x="5410080" y="1295280"/>
              <a:ext cx="3733920" cy="7038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hat form of distribution should we assume?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514600" y="1981080"/>
              <a:ext cx="3733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048120" y="1981080"/>
              <a:ext cx="358128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8125" t="17970" r="29376" b="33597"/>
          <a:stretch/>
        </p:blipFill>
        <p:spPr>
          <a:xfrm>
            <a:off x="762120" y="457200"/>
            <a:ext cx="6400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5001" t="17188" r="23126" b="10938"/>
          <a:stretch/>
        </p:blipFill>
        <p:spPr>
          <a:xfrm>
            <a:off x="533520" y="0"/>
            <a:ext cx="73911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6876" t="17188" r="26875" b="10155"/>
          <a:stretch/>
        </p:blipFill>
        <p:spPr>
          <a:xfrm>
            <a:off x="90648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8125" t="17188" r="28127" b="9376"/>
          <a:stretch/>
        </p:blipFill>
        <p:spPr>
          <a:xfrm>
            <a:off x="533520" y="0"/>
            <a:ext cx="62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9376" t="17970" r="28127" b="10155"/>
          <a:stretch/>
        </p:blipFill>
        <p:spPr>
          <a:xfrm>
            <a:off x="0" y="0"/>
            <a:ext cx="6122880" cy="670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990720"/>
            <a:ext cx="4038480" cy="11365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r code, se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www.cs.cmu.edu/~tom/mlbook.htm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lick on “Software and Da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6250" t="14844" r="32500" b="42191"/>
          <a:stretch/>
        </p:blipFill>
        <p:spPr>
          <a:xfrm>
            <a:off x="457200" y="0"/>
            <a:ext cx="6248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02:20:52Z</dcterms:created>
  <dc:creator>Tom M. Mitchell</dc:creator>
  <dc:description/>
  <dc:language>en-US</dc:language>
  <cp:lastModifiedBy>Tom M. Mitchell</cp:lastModifiedBy>
  <dcterms:modified xsi:type="dcterms:W3CDTF">2003-09-25T13:53:41Z</dcterms:modified>
  <cp:revision>8</cp:revision>
  <dc:subject/>
  <dc:title>PowerPoint Presentation</dc:title>
</cp:coreProperties>
</file>