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AA0-523B-493C-BA76-62BBCD6D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524-7D44-4A2B-BFC7-CB91103A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0F4-BAFF-47D1-8DEE-EE553F1B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E20-CE20-47F7-B59C-B14A7214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A64-F069-4511-9856-318D4D61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0B5-3212-446A-B45C-BBFF3EA9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192-5216-4F46-8E85-421496FB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3E4-3687-4C97-A1D1-50FCE165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5B1-A38D-4ACB-9ECB-97DA0819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AB6-E4AF-4123-BF22-28784C3E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0BC-B72C-425A-B1D6-39D1E56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439-A3ED-4A41-BE62-75C1B3D3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469B-DD5E-46C9-909D-95249B142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s.cmu.edu/~tom/mlboo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yes Ru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752480"/>
            <a:ext cx="4686480" cy="96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76240" y="3657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ich is shorthan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4406760"/>
            <a:ext cx="84452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6250" t="14844" r="26250" b="24220"/>
          <a:stretch/>
        </p:blipFill>
        <p:spPr>
          <a:xfrm>
            <a:off x="457200" y="0"/>
            <a:ext cx="701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line: Bag of Words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182" t="17399" r="10038" b="2704"/>
          <a:stretch/>
        </p:blipFill>
        <p:spPr>
          <a:xfrm>
            <a:off x="133200" y="1676520"/>
            <a:ext cx="4600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6400800" y="1752480"/>
            <a:ext cx="1428840" cy="441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rdva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xi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i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i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048120"/>
            <a:ext cx="156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14271" t="15908" r="11696" b="100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8125" t="17970" r="25001" b="16405"/>
          <a:stretch/>
        </p:blipFill>
        <p:spPr>
          <a:xfrm>
            <a:off x="380880" y="0"/>
            <a:ext cx="716292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751" t="17970" r="30625" b="28126"/>
          <a:stretch/>
        </p:blipFill>
        <p:spPr>
          <a:xfrm>
            <a:off x="762120" y="304920"/>
            <a:ext cx="7391160" cy="629604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514600" y="1295280"/>
            <a:ext cx="6629400" cy="2438640"/>
            <a:chOff x="2514600" y="1295280"/>
            <a:chExt cx="6629400" cy="2438640"/>
          </a:xfrm>
        </p:grpSpPr>
        <p:sp>
          <p:nvSpPr>
            <p:cNvPr id="49" name=""/>
            <p:cNvSpPr/>
            <p:nvPr/>
          </p:nvSpPr>
          <p:spPr>
            <a:xfrm>
              <a:off x="5410080" y="1295280"/>
              <a:ext cx="3733920" cy="7038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hat form of distribution should we assume?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514600" y="1981080"/>
              <a:ext cx="3733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048120" y="1981080"/>
              <a:ext cx="358128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8125" t="17970" r="29376" b="33597"/>
          <a:stretch/>
        </p:blipFill>
        <p:spPr>
          <a:xfrm>
            <a:off x="762120" y="457200"/>
            <a:ext cx="6400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5001" t="17188" r="23126" b="10938"/>
          <a:stretch/>
        </p:blipFill>
        <p:spPr>
          <a:xfrm>
            <a:off x="533520" y="0"/>
            <a:ext cx="73911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6876" t="17188" r="26875" b="10155"/>
          <a:stretch/>
        </p:blipFill>
        <p:spPr>
          <a:xfrm>
            <a:off x="90648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8125" t="17188" r="28127" b="9376"/>
          <a:stretch/>
        </p:blipFill>
        <p:spPr>
          <a:xfrm>
            <a:off x="533520" y="0"/>
            <a:ext cx="62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9376" t="17970" r="28127" b="10155"/>
          <a:stretch/>
        </p:blipFill>
        <p:spPr>
          <a:xfrm>
            <a:off x="0" y="0"/>
            <a:ext cx="6122880" cy="670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990720"/>
            <a:ext cx="4038480" cy="11365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r code, se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www.cs.cmu.edu/~tom/mlbook.htm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lick on “Software and Da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6250" t="14844" r="32500" b="42191"/>
          <a:stretch/>
        </p:blipFill>
        <p:spPr>
          <a:xfrm>
            <a:off x="457200" y="0"/>
            <a:ext cx="6248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02:20:52Z</dcterms:created>
  <dc:creator>Tom M. Mitchell</dc:creator>
  <dc:description/>
  <dc:language>en-US</dc:language>
  <cp:lastModifiedBy>Tom M. Mitchell</cp:lastModifiedBy>
  <dcterms:modified xsi:type="dcterms:W3CDTF">2003-09-25T13:53:41Z</dcterms:modified>
  <cp:revision>8</cp:revision>
  <dc:subject/>
  <dc:title>PowerPoint Presentation</dc:title>
</cp:coreProperties>
</file>