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63B-689A-408E-ADCB-244DB6C4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D89-C425-4398-BB72-F49AD10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7EE-813F-4007-ACB8-7FBBD34A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78D-13CE-46A5-B92F-DF637683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58F-31A7-47B1-8BAE-176D7831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8B9-F2F1-46D9-81E0-C2A79DB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794-8310-4D5C-BF83-9D2687D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E84-B776-4D90-A306-D78A052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FB6-C523-497F-9DBE-EB3B23D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CE9-479C-4EB2-9D36-BDC6595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18E-6A73-4A40-9888-1A7BE1B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372-F071-454A-A971-C72BD84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547-F564-4D0A-8D83-409FCC93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s.cmu.edu/~tom/mlboo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752480"/>
            <a:ext cx="4686480" cy="96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240" y="3657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ich is shorthan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4406760"/>
            <a:ext cx="84452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6250" t="14844" r="26250" b="24220"/>
          <a:stretch/>
        </p:blipFill>
        <p:spPr>
          <a:xfrm>
            <a:off x="457200" y="0"/>
            <a:ext cx="701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line: Bag of Word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182" t="17399" r="10038" b="2704"/>
          <a:stretch/>
        </p:blipFill>
        <p:spPr>
          <a:xfrm>
            <a:off x="133200" y="1676520"/>
            <a:ext cx="4600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400800" y="1752480"/>
            <a:ext cx="1428840" cy="441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dv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x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i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04812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4271" t="15908" r="11696" b="100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8125" t="17970" r="25001" b="16405"/>
          <a:stretch/>
        </p:blipFill>
        <p:spPr>
          <a:xfrm>
            <a:off x="380880" y="0"/>
            <a:ext cx="716292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751" t="17970" r="30625" b="28126"/>
          <a:stretch/>
        </p:blipFill>
        <p:spPr>
          <a:xfrm>
            <a:off x="762120" y="304920"/>
            <a:ext cx="7391160" cy="62960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514600" y="1295280"/>
            <a:ext cx="6629400" cy="2438640"/>
            <a:chOff x="2514600" y="1295280"/>
            <a:chExt cx="6629400" cy="2438640"/>
          </a:xfrm>
        </p:grpSpPr>
        <p:sp>
          <p:nvSpPr>
            <p:cNvPr id="49" name=""/>
            <p:cNvSpPr/>
            <p:nvPr/>
          </p:nvSpPr>
          <p:spPr>
            <a:xfrm>
              <a:off x="5410080" y="1295280"/>
              <a:ext cx="3733920" cy="703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hat form of distribution should we assume?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514600" y="1981080"/>
              <a:ext cx="3733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048120" y="1981080"/>
              <a:ext cx="35812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125" t="17970" r="29376" b="33597"/>
          <a:stretch/>
        </p:blipFill>
        <p:spPr>
          <a:xfrm>
            <a:off x="762120" y="457200"/>
            <a:ext cx="640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5001" t="17188" r="23126" b="10938"/>
          <a:stretch/>
        </p:blipFill>
        <p:spPr>
          <a:xfrm>
            <a:off x="533520" y="0"/>
            <a:ext cx="7391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6876" t="17188" r="26875" b="10155"/>
          <a:stretch/>
        </p:blipFill>
        <p:spPr>
          <a:xfrm>
            <a:off x="90648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8125" t="17188" r="28127" b="9376"/>
          <a:stretch/>
        </p:blipFill>
        <p:spPr>
          <a:xfrm>
            <a:off x="533520" y="0"/>
            <a:ext cx="62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9376" t="17970" r="28127" b="10155"/>
          <a:stretch/>
        </p:blipFill>
        <p:spPr>
          <a:xfrm>
            <a:off x="0" y="0"/>
            <a:ext cx="6122880" cy="670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990720"/>
            <a:ext cx="4038480" cy="11365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 code, se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cs.cmu.edu/~tom/mlbook.htm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ick on “Software and 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250" t="14844" r="32500" b="42191"/>
          <a:stretch/>
        </p:blipFill>
        <p:spPr>
          <a:xfrm>
            <a:off x="457200" y="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2:20:52Z</dcterms:created>
  <dc:creator>Tom M. Mitchell</dc:creator>
  <dc:description/>
  <dc:language>en-US</dc:language>
  <cp:lastModifiedBy>Tom M. Mitchell</cp:lastModifiedBy>
  <dcterms:modified xsi:type="dcterms:W3CDTF">2003-09-25T13:53:41Z</dcterms:modified>
  <cp:revision>8</cp:revision>
  <dc:subject/>
  <dc:title>PowerPoint Presentation</dc:title>
</cp:coreProperties>
</file>