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937320" y="652140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3FEA29-239A-4D9F-9F8F-F320A04D2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of quei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uess variance is 1/2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a more realist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ell does it work; reserach papers WHY it works so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rando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 are random from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n queue gets immediat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106040" y="6318360"/>
            <a:ext cx="187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 Spr.‘98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CB </a:t>
            </a:r>
            <a:fld id="{F92442A6-61AC-4351-9955-43809856D4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120" y="2285640"/>
            <a:ext cx="8934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13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I/O: A Little Queuing Theory, RAID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or David A.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640" y="418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Variable Service Ti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480" y="2743200"/>
            <a:ext cx="8896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pends a variable amount of time with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f1xT1 + f2xT2 +...+ fnXTn)/F  (F=f1+f2+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ared coefficient of varianc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response time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 ­ 1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majority seeks &lt; avera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usually pick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 = 1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impl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useful value is averag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wait for server to complete task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1(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just 1/2 x m1 because doesn’t capture var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riv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(z) = 1/2 x m1 x (1 + 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No variance =&gt; C= 0 =&gt; m1(z) = 1/2 x m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235240" y="1508040"/>
            <a:ext cx="4559400" cy="1292400"/>
            <a:chOff x="2235240" y="1508040"/>
            <a:chExt cx="4559400" cy="1292400"/>
          </a:xfrm>
        </p:grpSpPr>
        <p:sp>
          <p:nvSpPr>
            <p:cNvPr id="166" name=""/>
            <p:cNvSpPr/>
            <p:nvPr/>
          </p:nvSpPr>
          <p:spPr>
            <a:xfrm>
              <a:off x="3448080" y="1752480"/>
              <a:ext cx="333360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35240" y="21207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17680" y="236232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83160" y="22734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286160" y="22604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133880" y="22604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3680" y="15303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3320" y="249552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54760" y="21970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60520" y="236232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44920" y="249552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12640" y="236232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64240" y="2495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92840" y="22734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66520" y="190800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44840" y="185724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01440" y="150804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4520" y="74304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verage Wait Ti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76280" y="144792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ng average wait time in 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omething at server, it takes to complete on averag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(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ce server is busy =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average delay i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(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ustomers in line must complete; each avg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m1(z)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+  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1/2 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(1 + C) + 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L</a:t>
            </a:r>
            <a:r>
              <a:rPr b="1" i="1" lang="en-US" sz="2000" spc="-1" strike="noStrike" u="sng" baseline="-25000">
                <a:solidFill>
                  <a:srgbClr val="fc0128"/>
                </a:solidFill>
                <a:uFillTx/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1/2 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(1 + C) + 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 T</a:t>
            </a:r>
            <a:r>
              <a:rPr b="1" i="1" lang="en-US" sz="2000" spc="-1" strike="noStrike" u="sng" baseline="-25000">
                <a:solidFill>
                  <a:srgbClr val="fc0128"/>
                </a:solidFill>
                <a:uFillTx/>
                <a:latin typeface="Arial"/>
              </a:rPr>
              <a:t>s er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1/2 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(1 + C) + 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u x T</a:t>
            </a:r>
            <a:r>
              <a:rPr b="1" i="1" lang="en-US" sz="2000" spc="-1" strike="noStrike" u="sng" baseline="-25000">
                <a:solidFill>
                  <a:srgbClr val="fc0128"/>
                </a:solidFill>
                <a:uFillTx/>
                <a:latin typeface="Arial"/>
              </a:rPr>
              <a:t>q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(1 – 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 u  x (1 + C) /2</a:t>
            </a:r>
            <a:br>
              <a:rPr sz="20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x  u  x  (1 + C) / (2 x (1 – u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number of arriving customers/second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 to service a customer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/customer in queue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2680" y="51444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/G/1 and M/M/1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62080"/>
            <a:ext cx="8744040" cy="531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so f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in equilib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between two successive arrivals in line are rand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can start on next customer immediately after prior finis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limit to the queue: works First-In-First-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ward, all customers in line must complete; each avg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d “memoryless” or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kovian request arriv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 for C=1 exponentially random),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al service distribution (no restrictions), 1 server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/G/1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rvice times have C = 1,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/M/1 queue</a:t>
            </a:r>
            <a:br>
              <a:rPr sz="1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x  u  x (1 + C) /(2 x (1 – u)) =  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x  u  / (1 –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614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n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01760"/>
            <a:ext cx="8877240" cy="530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ends 10 x 8KB disk I/Os per second,  requests &amp; service exponentially distrib., avg. disk service =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 = 1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 = 20 ms (0.02s)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s = 0.2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/ (1 – u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 x 0.2/(1-0.2) = 20 x 0.25 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5 m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 .005s)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25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05s 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0.05 requests in queue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5s 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0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S 252 Administriv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2680" y="13906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URL of initial project home page to 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events in CS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-Mar Wed  I/O 3: Tertiary Storage &amp; Network In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-Mar Thu  Send in Project Survey #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ar  Fri Networks 2: Interface, Switches, Ro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-Mar to 27-Mar Spring Br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342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Another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0440" y="1378080"/>
            <a:ext cx="8801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ends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8KB disk I/Os per sec,  requests &amp; service exponentially distrib., avg. disk service =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1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a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= 2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= 12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 x .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/ (1 – u)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 x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quests in que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 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 x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52200" y="342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Another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440" y="1378080"/>
            <a:ext cx="8801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ends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8KB disk I/Os per sec,  requests &amp; service exponentially distrib., avg. disk service =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1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a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= 2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= 12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/s x .012s = 0.24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/ (1 – u)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2 x 0.24/(1-0.24) = 12 x 0.32 = 3.8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5.8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/s x .0038s = 0.076 requests in que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 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/s x .016s = 0.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Yet Another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240" y="1758960"/>
            <a:ext cx="9029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processor sends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8KB disk I/Os per second, 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squared coef. var.(C) = 1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vg. disk service time =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a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= 1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= 20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s = 0.2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x (1 + C) /(2 x (1 – u))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 x 0.2(2.5)/2(1 – 0.2) = 20 x 0.32 = 6.25 m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6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06s = 0.06 requests in queue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 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6s = 0.2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itfall of Not us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32-bit minicomputer (VAX-11/78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big should write buffer b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s 10% of instructions, 1 M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ffer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vg. Queue Length =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 low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Disk Device Terminolog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62080" y="1682640"/>
            <a:ext cx="6692760" cy="248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680" y="4317840"/>
            <a:ext cx="7860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Latency = Queuing Time + Seek Time + Rotation Time + Xf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9080" y="4851360"/>
            <a:ext cx="5337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der of magnitude times for 4K byte transf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15520" y="5219640"/>
            <a:ext cx="543636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: 12 m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e: 4.2 ms @ 7200 rpm (8.3 ms @ 3600 rpm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fer: 1 ms @ 7200 rpm (2 ms @ 3600 rp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9280" y="500040"/>
            <a:ext cx="724860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Network Attached Storag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84840" y="1136520"/>
            <a:ext cx="3068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Decreasing Disk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79720" y="5911920"/>
            <a:ext cx="3469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Network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83640" y="3067200"/>
            <a:ext cx="2487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 Fil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00360" y="2368440"/>
            <a:ext cx="2336760" cy="2273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orag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a High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8120" y="1441440"/>
            <a:ext cx="1409760" cy="125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1280" y="1606680"/>
            <a:ext cx="60620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4" » 10" » 8" » 5.25" » 3.5" » 2.5" » 1.8" » 1.3" »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igh bandwidth disk systems based on arrays of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89360" y="4476600"/>
            <a:ext cx="1181160" cy="134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71040" y="5086440"/>
            <a:ext cx="633168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Mb/s » 10Mb/s » 50 Mb/s » 100 Mb/s » 1 Gb/s 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 G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s capable of sustaining high bandwidth 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4400" y="3041640"/>
            <a:ext cx="25416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rov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 defined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logical interfa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parate CPU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orage syste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76440" y="35179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8840" y="3727440"/>
            <a:ext cx="2148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85600" y="328320"/>
            <a:ext cx="7149960" cy="9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ufacturing Advantages                        of Disk Array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70280" y="6054840"/>
            <a:ext cx="765360" cy="160200"/>
          </a:xfrm>
          <a:custGeom>
            <a:avLst/>
            <a:gdLst/>
            <a:ahLst/>
            <a:rect l="l" t="t" r="r" b="b"/>
            <a:pathLst>
              <a:path w="482" h="101">
                <a:moveTo>
                  <a:pt x="0" y="0"/>
                </a:moveTo>
                <a:lnTo>
                  <a:pt x="481" y="0"/>
                </a:lnTo>
                <a:lnTo>
                  <a:pt x="481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60920" y="6006960"/>
            <a:ext cx="812520" cy="217800"/>
          </a:xfrm>
          <a:custGeom>
            <a:avLst/>
            <a:gdLst/>
            <a:ahLst/>
            <a:rect l="l" t="t" r="r" b="b"/>
            <a:pathLst>
              <a:path w="512" h="137">
                <a:moveTo>
                  <a:pt x="0" y="0"/>
                </a:moveTo>
                <a:lnTo>
                  <a:pt x="511" y="0"/>
                </a:lnTo>
                <a:lnTo>
                  <a:pt x="511" y="13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67040" y="5860800"/>
            <a:ext cx="27936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65520" y="5870160"/>
            <a:ext cx="25272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46440" y="6028920"/>
            <a:ext cx="268560" cy="18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052880" y="5864400"/>
            <a:ext cx="765360" cy="161640"/>
            <a:chOff x="4052880" y="5864400"/>
            <a:chExt cx="765360" cy="161640"/>
          </a:xfrm>
        </p:grpSpPr>
        <p:sp>
          <p:nvSpPr>
            <p:cNvPr id="220" name=""/>
            <p:cNvSpPr/>
            <p:nvPr/>
          </p:nvSpPr>
          <p:spPr>
            <a:xfrm>
              <a:off x="4052880" y="586440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18240" y="58705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53160" y="5846760"/>
            <a:ext cx="1268280" cy="398520"/>
          </a:xfrm>
          <a:custGeom>
            <a:avLst/>
            <a:gdLst/>
            <a:ahLst/>
            <a:rect l="l" t="t" r="r" b="b"/>
            <a:pathLst>
              <a:path w="799" h="251">
                <a:moveTo>
                  <a:pt x="0" y="0"/>
                </a:moveTo>
                <a:lnTo>
                  <a:pt x="798" y="0"/>
                </a:lnTo>
                <a:lnTo>
                  <a:pt x="798" y="250"/>
                </a:lnTo>
                <a:lnTo>
                  <a:pt x="0" y="250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88080" y="5721120"/>
            <a:ext cx="19368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29360" y="5708520"/>
            <a:ext cx="216000" cy="1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87880" y="5718240"/>
            <a:ext cx="1254240" cy="341280"/>
            <a:chOff x="5087880" y="5718240"/>
            <a:chExt cx="1254240" cy="341280"/>
          </a:xfrm>
        </p:grpSpPr>
        <p:sp>
          <p:nvSpPr>
            <p:cNvPr id="226" name=""/>
            <p:cNvSpPr/>
            <p:nvPr/>
          </p:nvSpPr>
          <p:spPr>
            <a:xfrm>
              <a:off x="5087880" y="5718240"/>
              <a:ext cx="12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42120" y="572436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>
            <a:off x="6167520" y="6055920"/>
            <a:ext cx="18072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40200" y="2898720"/>
            <a:ext cx="1258920" cy="322200"/>
          </a:xfrm>
          <a:custGeom>
            <a:avLst/>
            <a:gdLst/>
            <a:ahLst/>
            <a:rect l="l" t="t" r="r" b="b"/>
            <a:pathLst>
              <a:path w="793" h="203">
                <a:moveTo>
                  <a:pt x="0" y="0"/>
                </a:moveTo>
                <a:lnTo>
                  <a:pt x="792" y="0"/>
                </a:lnTo>
                <a:lnTo>
                  <a:pt x="792" y="202"/>
                </a:lnTo>
                <a:lnTo>
                  <a:pt x="0" y="20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40200" y="2898720"/>
            <a:ext cx="1268640" cy="331920"/>
          </a:xfrm>
          <a:custGeom>
            <a:avLst/>
            <a:gdLst/>
            <a:ahLst/>
            <a:rect l="l" t="t" r="r" b="b"/>
            <a:pathLst>
              <a:path w="799" h="209">
                <a:moveTo>
                  <a:pt x="0" y="0"/>
                </a:moveTo>
                <a:lnTo>
                  <a:pt x="798" y="0"/>
                </a:lnTo>
                <a:lnTo>
                  <a:pt x="798" y="208"/>
                </a:lnTo>
                <a:lnTo>
                  <a:pt x="0" y="208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846680" y="2761920"/>
            <a:ext cx="27792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87960" y="2768760"/>
            <a:ext cx="25416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111640" y="2768760"/>
            <a:ext cx="1236600" cy="285480"/>
            <a:chOff x="5111640" y="2768760"/>
            <a:chExt cx="1236600" cy="285480"/>
          </a:xfrm>
        </p:grpSpPr>
        <p:sp>
          <p:nvSpPr>
            <p:cNvPr id="234" name=""/>
            <p:cNvSpPr/>
            <p:nvPr/>
          </p:nvSpPr>
          <p:spPr>
            <a:xfrm>
              <a:off x="5111640" y="2768760"/>
              <a:ext cx="12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8240" y="2774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6126120" y="3060720"/>
            <a:ext cx="22860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03480" y="3007800"/>
            <a:ext cx="519120" cy="138600"/>
            <a:chOff x="3003480" y="3007800"/>
            <a:chExt cx="519120" cy="138600"/>
          </a:xfrm>
        </p:grpSpPr>
        <p:sp>
          <p:nvSpPr>
            <p:cNvPr id="238" name=""/>
            <p:cNvSpPr/>
            <p:nvPr/>
          </p:nvSpPr>
          <p:spPr>
            <a:xfrm>
              <a:off x="3003480" y="3106800"/>
              <a:ext cx="231840" cy="30240"/>
            </a:xfrm>
            <a:custGeom>
              <a:avLst/>
              <a:gdLst/>
              <a:ahLst/>
              <a:rect l="l" t="t" r="r" b="b"/>
              <a:pathLst>
                <a:path w="146" h="19">
                  <a:moveTo>
                    <a:pt x="0" y="0"/>
                  </a:moveTo>
                  <a:lnTo>
                    <a:pt x="145" y="0"/>
                  </a:lnTo>
                  <a:lnTo>
                    <a:pt x="145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03480" y="3106800"/>
              <a:ext cx="241200" cy="39600"/>
            </a:xfrm>
            <a:custGeom>
              <a:avLst/>
              <a:gdLst/>
              <a:ahLst/>
              <a:rect l="l" t="t" r="r" b="b"/>
              <a:pathLst>
                <a:path w="152" h="25">
                  <a:moveTo>
                    <a:pt x="0" y="0"/>
                  </a:moveTo>
                  <a:lnTo>
                    <a:pt x="151" y="0"/>
                  </a:lnTo>
                  <a:lnTo>
                    <a:pt x="15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009960" y="3007800"/>
              <a:ext cx="26496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249720" y="3007800"/>
              <a:ext cx="26676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249720" y="3041280"/>
              <a:ext cx="26676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87880" y="30146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22600" y="3021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943360" y="6045120"/>
            <a:ext cx="541080" cy="146160"/>
            <a:chOff x="2943360" y="6045120"/>
            <a:chExt cx="541080" cy="146160"/>
          </a:xfrm>
        </p:grpSpPr>
        <p:sp>
          <p:nvSpPr>
            <p:cNvPr id="246" name=""/>
            <p:cNvSpPr/>
            <p:nvPr/>
          </p:nvSpPr>
          <p:spPr>
            <a:xfrm>
              <a:off x="2943360" y="6145200"/>
              <a:ext cx="242640" cy="3168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0"/>
                  </a:moveTo>
                  <a:lnTo>
                    <a:pt x="152" y="0"/>
                  </a:lnTo>
                  <a:lnTo>
                    <a:pt x="152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43360" y="6145200"/>
              <a:ext cx="253800" cy="41400"/>
            </a:xfrm>
            <a:custGeom>
              <a:avLst/>
              <a:gdLst/>
              <a:ahLst/>
              <a:rect l="l" t="t" r="r" b="b"/>
              <a:pathLst>
                <a:path w="160" h="26">
                  <a:moveTo>
                    <a:pt x="0" y="0"/>
                  </a:moveTo>
                  <a:lnTo>
                    <a:pt x="159" y="0"/>
                  </a:lnTo>
                  <a:lnTo>
                    <a:pt x="159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49480" y="6045120"/>
              <a:ext cx="27936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201840" y="6045120"/>
              <a:ext cx="2764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201840" y="6084720"/>
              <a:ext cx="2764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41800" y="605160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84440" y="605808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692520" y="2957400"/>
            <a:ext cx="790560" cy="263520"/>
            <a:chOff x="3692520" y="2957400"/>
            <a:chExt cx="790560" cy="263520"/>
          </a:xfrm>
        </p:grpSpPr>
        <p:sp>
          <p:nvSpPr>
            <p:cNvPr id="254" name=""/>
            <p:cNvSpPr/>
            <p:nvPr/>
          </p:nvSpPr>
          <p:spPr>
            <a:xfrm>
              <a:off x="3692520" y="3143160"/>
              <a:ext cx="361800" cy="68400"/>
            </a:xfrm>
            <a:custGeom>
              <a:avLst/>
              <a:gdLst/>
              <a:ahLst/>
              <a:rect l="l" t="t" r="r" b="b"/>
              <a:pathLst>
                <a:path w="228" h="43">
                  <a:moveTo>
                    <a:pt x="0" y="0"/>
                  </a:moveTo>
                  <a:lnTo>
                    <a:pt x="227" y="0"/>
                  </a:lnTo>
                  <a:lnTo>
                    <a:pt x="227" y="42"/>
                  </a:lnTo>
                  <a:lnTo>
                    <a:pt x="0" y="42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92520" y="3143160"/>
              <a:ext cx="371520" cy="77760"/>
            </a:xfrm>
            <a:custGeom>
              <a:avLst/>
              <a:gdLst/>
              <a:ahLst/>
              <a:rect l="l" t="t" r="r" b="b"/>
              <a:pathLst>
                <a:path w="234" h="49">
                  <a:moveTo>
                    <a:pt x="0" y="0"/>
                  </a:moveTo>
                  <a:lnTo>
                    <a:pt x="233" y="0"/>
                  </a:lnTo>
                  <a:lnTo>
                    <a:pt x="233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699000" y="2957400"/>
              <a:ext cx="41112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056120" y="2957400"/>
              <a:ext cx="40788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056120" y="3027240"/>
              <a:ext cx="40788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22720" y="296388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83080" y="297036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373880" y="2095560"/>
            <a:ext cx="455760" cy="102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515280" y="5083200"/>
            <a:ext cx="1285560" cy="1303200"/>
          </a:xfrm>
          <a:custGeom>
            <a:avLst/>
            <a:gdLst/>
            <a:ahLst/>
            <a:rect l="l" t="t" r="r" b="b"/>
            <a:pathLst>
              <a:path w="810" h="821">
                <a:moveTo>
                  <a:pt x="0" y="0"/>
                </a:moveTo>
                <a:lnTo>
                  <a:pt x="809" y="0"/>
                </a:lnTo>
                <a:lnTo>
                  <a:pt x="809" y="820"/>
                </a:lnTo>
                <a:lnTo>
                  <a:pt x="0" y="820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73840" y="4888080"/>
            <a:ext cx="126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47160" y="4894200"/>
            <a:ext cx="0" cy="12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773840" y="4895640"/>
            <a:ext cx="35424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821720" y="6162480"/>
            <a:ext cx="32544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81800" y="4874760"/>
            <a:ext cx="37944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62800" y="2432160"/>
            <a:ext cx="1184040" cy="1047600"/>
          </a:xfrm>
          <a:custGeom>
            <a:avLst/>
            <a:gdLst/>
            <a:ahLst/>
            <a:rect l="l" t="t" r="r" b="b"/>
            <a:pathLst>
              <a:path w="746" h="660">
                <a:moveTo>
                  <a:pt x="0" y="0"/>
                </a:moveTo>
                <a:lnTo>
                  <a:pt x="745" y="0"/>
                </a:lnTo>
                <a:lnTo>
                  <a:pt x="745" y="659"/>
                </a:lnTo>
                <a:lnTo>
                  <a:pt x="0" y="659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62800" y="2432160"/>
            <a:ext cx="1193760" cy="1057320"/>
          </a:xfrm>
          <a:custGeom>
            <a:avLst/>
            <a:gdLst/>
            <a:ahLst/>
            <a:rect l="l" t="t" r="r" b="b"/>
            <a:pathLst>
              <a:path w="752" h="666">
                <a:moveTo>
                  <a:pt x="0" y="0"/>
                </a:moveTo>
                <a:lnTo>
                  <a:pt x="751" y="0"/>
                </a:lnTo>
                <a:lnTo>
                  <a:pt x="751" y="665"/>
                </a:lnTo>
                <a:lnTo>
                  <a:pt x="0" y="66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86440" y="2238480"/>
            <a:ext cx="122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21600" y="2244600"/>
            <a:ext cx="0" cy="10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568920" y="2231640"/>
            <a:ext cx="27972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761240" y="2238120"/>
            <a:ext cx="35424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780320" y="3267000"/>
            <a:ext cx="379440" cy="1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0680" y="3195720"/>
            <a:ext cx="847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14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81760" y="3252960"/>
            <a:ext cx="904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1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8240" y="3252960"/>
            <a:ext cx="1261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5.2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7880" y="3252960"/>
            <a:ext cx="1262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3.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57200" y="5862600"/>
            <a:ext cx="1262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3.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4320" y="4948200"/>
            <a:ext cx="2657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isk Array:    1 disk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7080" y="2471760"/>
            <a:ext cx="26766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Conventional:                 4 disk 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266920" y="6058080"/>
            <a:ext cx="552600" cy="95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38520" y="4014720"/>
            <a:ext cx="178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Low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53360" y="3995640"/>
            <a:ext cx="178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igh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02160" y="4229280"/>
            <a:ext cx="2006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12040" y="3968640"/>
            <a:ext cx="44640" cy="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73360" y="3905280"/>
            <a:ext cx="562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47800" y="39304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05920" y="39117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73360" y="4705200"/>
            <a:ext cx="562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67040" y="1690560"/>
            <a:ext cx="3971880" cy="47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isk Product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70720" y="5122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72160" y="52768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72160" y="542916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66040" y="55656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67480" y="570060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67480" y="587232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66040" y="60372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67480" y="61912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67480" y="634356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61040" y="5127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62840" y="52815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62840" y="543384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56360" y="5570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58160" y="5705640"/>
            <a:ext cx="22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58160" y="587700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56360" y="6041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58160" y="6186600"/>
            <a:ext cx="22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58160" y="633888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7040" y="5127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29400" y="52815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8480" y="543384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2360" y="5570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43800" y="570564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587700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2360" y="6041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61959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3800" y="633888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17960" y="5908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10040" y="60627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760" y="622476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80200" y="5904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81640" y="60580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00720" y="622944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46760" y="5884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48200" y="60483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622944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33640" y="60436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24280" y="618660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60339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09920" y="618660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8960" y="616752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27240" y="3122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760920" y="3141720"/>
            <a:ext cx="285480" cy="85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418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place Small # of Large Disks with Large # of Small Disks! (1988 Disks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2880" y="2063880"/>
            <a:ext cx="1754280" cy="31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Capac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/O 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TF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08920" y="1631880"/>
            <a:ext cx="155160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390 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G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 cu. 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 I/O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0 K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5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55160" y="1631880"/>
            <a:ext cx="165960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.5" 00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 M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 cu. 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I/O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K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78720" y="1631880"/>
            <a:ext cx="1310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3 G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1 cu. 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900 IO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??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$15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8880" y="1898640"/>
            <a:ext cx="547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27200" y="1905120"/>
            <a:ext cx="0" cy="323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73680" y="3429000"/>
            <a:ext cx="1359000" cy="12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2080" y="5950080"/>
            <a:ext cx="3418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Arrays have potential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53640" y="5492880"/>
            <a:ext cx="40752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data and I/O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MB per cu. ft., high MB per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981600" y="563832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06800" y="60897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06800" y="6146640"/>
            <a:ext cx="558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98400" y="742680"/>
            <a:ext cx="4438440" cy="6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rray Reliabil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9960" y="1806480"/>
            <a:ext cx="854100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 of N disks = Reliability of 1 Disk ÷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Hours ÷ 70 disks = 700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ystem MTTF: Drops from 6 years  to 1 mont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(without redundancy) too unreliable to be use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7400" y="4632480"/>
            <a:ext cx="7789320" cy="73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spares support reconstruction in paralle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: very high media availability can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6800" y="266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Redundant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Arrays of Dis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7880" y="1289160"/>
            <a:ext cx="664596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s are "striped" across multiple spi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cy yields high data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99640" y="2165400"/>
            <a:ext cx="729396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 will 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s reconstructed from data redundantly stored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21440" y="2978280"/>
            <a:ext cx="331020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penalty to stor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 penalty to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310500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354960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20520" y="3956040"/>
            <a:ext cx="48114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rroring/Shadowing   (high capacity c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izontal Hamming Codes  (overk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&amp; Reed-Solomo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Prediction  (no capacity overhead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xSimPlus — Technique is controvers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74040" y="4603680"/>
            <a:ext cx="1528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768760" y="4165200"/>
            <a:ext cx="87624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781360" y="4533480"/>
            <a:ext cx="88884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68760" y="4788000"/>
            <a:ext cx="90144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3200" y="4889520"/>
            <a:ext cx="93996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89280" y="4819680"/>
            <a:ext cx="3353040" cy="39384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dundant Arrays of Disks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AID 1: Disk Mirroring/Shadow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40520" y="159372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40520" y="2190600"/>
            <a:ext cx="850680" cy="279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27920" y="17715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04160" y="17463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96120" y="159372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96120" y="2190600"/>
            <a:ext cx="851040" cy="2797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83520" y="17715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59760" y="17463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73760" y="1339920"/>
            <a:ext cx="2628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11320" y="156852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11320" y="216540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98720" y="17463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74960" y="172080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6920" y="156852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66920" y="216540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54320" y="17463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30560" y="172080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4560" y="1314360"/>
            <a:ext cx="2628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7120" y="3014640"/>
            <a:ext cx="7623000" cy="28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disk is fully duplicated onto its "shadow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high availability can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sacrifice on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 write = two physical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may be opt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expensive solution: 100% capacity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03680" y="6089760"/>
            <a:ext cx="63871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geted for high I/O rate , high availability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2360" y="1987560"/>
            <a:ext cx="12672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64000" y="19875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83040" y="19875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511440" y="1415880"/>
            <a:ext cx="952560" cy="20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23960" y="1136520"/>
            <a:ext cx="11307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dundant Arrays of Disks RAID 3: Parity Disk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24360" y="13906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24360" y="198756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11760" y="1568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88000" y="15429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79960" y="139068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79960" y="198756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67360" y="1568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15429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10360" y="13906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10360" y="198756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97760" y="1568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4000" y="15429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65960" y="139068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65960" y="198756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53360" y="156852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229600" y="15429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45000" y="1238400"/>
            <a:ext cx="485136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92760" y="1708200"/>
            <a:ext cx="333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63720" y="1401120"/>
            <a:ext cx="1193400" cy="102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0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8840" y="2470320"/>
            <a:ext cx="16812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88960" y="259704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44560" y="26100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00160" y="26352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68720" y="26478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1136520"/>
            <a:ext cx="990720" cy="14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079600" y="1111320"/>
            <a:ext cx="901800" cy="14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7160" y="2952720"/>
            <a:ext cx="19476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ed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679840" y="3143160"/>
            <a:ext cx="1346040" cy="3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1520" y="4165560"/>
            <a:ext cx="869292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ity computed across recovery group to protect agains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hard disk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% capacity cost for parity in thi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r arrays reduce capacity costs, decrease expected availabil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reconstruc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s logically synchronized, spindles rotationally synchr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ally a single high capacity, high transfer rate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7160" y="6127920"/>
            <a:ext cx="79128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geted for high bandwidth applications: Scientific, Image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132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dundant Arrays of Disks RAID 5+: High I/O Rate Par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9840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10484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149868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189216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2273400" y="1231920"/>
            <a:ext cx="215640" cy="279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69800" y="1219320"/>
            <a:ext cx="2121120" cy="317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1320" y="1720800"/>
            <a:ext cx="2367000" cy="288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ogical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es f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I/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e becaus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eaved p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d-Solo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 ("Q")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d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21040" y="1397160"/>
            <a:ext cx="476244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4600" y="1231920"/>
            <a:ext cx="245088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16120" y="1206360"/>
            <a:ext cx="4978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16120" y="1536840"/>
            <a:ext cx="27936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73320" y="15494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49560" y="15494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51360" y="15494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8360" y="156204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30920" y="1587600"/>
            <a:ext cx="571680" cy="571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73320" y="22986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49560" y="22986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51360" y="22986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360" y="2311560"/>
            <a:ext cx="571680" cy="571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0920" y="233676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73320" y="303516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49560" y="303516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51360" y="3035160"/>
            <a:ext cx="571680" cy="571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78360" y="304812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30920" y="307332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73320" y="378468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49560" y="3784680"/>
            <a:ext cx="571680" cy="571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51360" y="378468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78360" y="379728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30920" y="38228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73320" y="4559400"/>
            <a:ext cx="571680" cy="571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49560" y="455940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51360" y="455940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78360" y="45720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30920" y="459756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86280" y="53467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53467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63960" y="534672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91320" y="5359320"/>
            <a:ext cx="57132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43880" y="5384880"/>
            <a:ext cx="571320" cy="571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4560" y="58672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38200" y="58420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52600" y="58672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79600" y="590544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2160" y="58672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00360" y="6172200"/>
            <a:ext cx="17053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760" y="1523880"/>
            <a:ext cx="134748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69280" y="2527200"/>
            <a:ext cx="0" cy="118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3708360"/>
            <a:ext cx="4381560" cy="76212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67480" y="4114800"/>
            <a:ext cx="59688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61040" y="4191120"/>
            <a:ext cx="8290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27800" y="4419720"/>
            <a:ext cx="64764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67520" y="4724280"/>
            <a:ext cx="8290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94040" y="4699080"/>
            <a:ext cx="927000" cy="196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9800" y="1549440"/>
            <a:ext cx="63720" cy="16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9840" y="4699080"/>
            <a:ext cx="22388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geted for 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23560" y="114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roblems of Disk Arrays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mall Writ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92440" y="218448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68680" y="218448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70480" y="218448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97480" y="219708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040" y="2222640"/>
            <a:ext cx="571320" cy="571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82680" y="2197080"/>
            <a:ext cx="571680" cy="57168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87520" y="3772080"/>
            <a:ext cx="266760" cy="26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72400" y="3759120"/>
            <a:ext cx="315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2781360"/>
            <a:ext cx="787320" cy="97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77960" y="2793960"/>
            <a:ext cx="39384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17840" y="449568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03080" y="4470480"/>
            <a:ext cx="315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3975120"/>
            <a:ext cx="166392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597200" y="2819520"/>
            <a:ext cx="2057400" cy="1714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90920" y="6032520"/>
            <a:ext cx="571320" cy="57132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67160" y="60325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68960" y="60325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95960" y="6045120"/>
            <a:ext cx="57132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6070680"/>
            <a:ext cx="571320" cy="57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10160" y="4749840"/>
            <a:ext cx="1905120" cy="1308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00200" y="2781360"/>
            <a:ext cx="1270080" cy="323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88920" y="3048120"/>
            <a:ext cx="6508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81080" y="3022560"/>
            <a:ext cx="6508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97480" y="3086280"/>
            <a:ext cx="803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46160" y="4495680"/>
            <a:ext cx="6768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52480" y="3746520"/>
            <a:ext cx="6768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0560" y="3162240"/>
            <a:ext cx="1146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. 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2200" y="3200400"/>
            <a:ext cx="1146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. 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04400" y="5410080"/>
            <a:ext cx="11599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. Wr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31880" y="5435640"/>
            <a:ext cx="11599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. Wr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37440" y="1365120"/>
            <a:ext cx="34718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ID-5: Small Write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91320" y="1746360"/>
            <a:ext cx="6141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Logical Write = 2 Physical Reads + 2  Physical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5201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rrored Large Disks vs. Arrayed Small Dis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7"/>
          <a:stretch/>
        </p:blipFill>
        <p:spPr>
          <a:xfrm>
            <a:off x="704880" y="565200"/>
            <a:ext cx="7759800" cy="607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0" name=""/>
          <p:cNvSpPr/>
          <p:nvPr/>
        </p:nvSpPr>
        <p:spPr>
          <a:xfrm>
            <a:off x="1503720" y="1028880"/>
            <a:ext cx="1848600" cy="106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9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. Seek:  18.5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ation:  16.7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fer Rate:  2.8 M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:  1200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3720" y="2120760"/>
            <a:ext cx="1848600" cy="106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M Small Disk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. Seek:  12.5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ation:  14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fer Rate:  2.4 M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:  300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78720" y="1092240"/>
            <a:ext cx="1022760" cy="126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is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62440" y="1015920"/>
            <a:ext cx="1270080" cy="497844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37520" y="6157800"/>
            <a:ext cx="14889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12760" y="6145200"/>
            <a:ext cx="14187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9080" y="5156280"/>
            <a:ext cx="1551600" cy="3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rrored RA90'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95400" y="1511280"/>
            <a:ext cx="1583640" cy="3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+2 Array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-128880" y="3069720"/>
            <a:ext cx="1097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7160" y="129528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industry growing rapidly, improv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40%/yr 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l density 60%/year, $/MB fas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 + controller + seek + rotate +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d average seek time benchmark much greater than average seek time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 vs. Bandwidth trade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of faster response ti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7sec off response saves 4.9 sec and 2.0 sec (70%) total time per transaction =&gt; greater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one gets more done with faster response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novice with fast response = expert with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: today peripheral processors, DMA, I/O bus,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72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bsystem Organiz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1333440"/>
            <a:ext cx="977760" cy="90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86280" y="1320840"/>
            <a:ext cx="111744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28120" y="135360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86880" y="156204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86880" y="215892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73920" y="17398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750160" y="17146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93040" y="1447920"/>
            <a:ext cx="74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255160" y="1460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02560" y="253476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61320" y="274320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61320" y="334008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48720" y="29210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724960" y="2895480"/>
            <a:ext cx="0" cy="5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67480" y="2629080"/>
            <a:ext cx="74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229600" y="2641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28120" y="366480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86880" y="387360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86880" y="44704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73920" y="40514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50160" y="40258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93040" y="3759120"/>
            <a:ext cx="74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55160" y="3772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28120" y="482076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86880" y="502920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86880" y="56260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873920" y="52070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750160" y="5181480"/>
            <a:ext cx="0" cy="5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93040" y="4915080"/>
            <a:ext cx="74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55160" y="4927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41880" y="1447920"/>
            <a:ext cx="1663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84880" y="168912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97480" y="2921040"/>
            <a:ext cx="482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215960" y="1676520"/>
            <a:ext cx="1181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67360" y="1955880"/>
            <a:ext cx="0" cy="20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79960" y="4013280"/>
            <a:ext cx="82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215960" y="19177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762440" y="2146320"/>
            <a:ext cx="0" cy="30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75040" y="5194440"/>
            <a:ext cx="113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216320" y="2133720"/>
            <a:ext cx="55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54360" y="1346040"/>
            <a:ext cx="977760" cy="90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57680" y="179064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08240" y="17524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0480" y="2489040"/>
            <a:ext cx="21855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ost, D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2040" y="3289320"/>
            <a:ext cx="21412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, buffe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39400" y="4076640"/>
            <a:ext cx="18702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19240" y="2844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387520" y="223488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81080" y="358128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45000" y="2234880"/>
            <a:ext cx="0" cy="1359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17720" y="439416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543480" y="2145960"/>
            <a:ext cx="2361960" cy="226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078160" y="5753160"/>
            <a:ext cx="27082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ften piggy-b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small format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6400" y="4920840"/>
            <a:ext cx="3841920" cy="1486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ing software off-loaded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to array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pplications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duction of host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1360" y="950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System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Availability: Orthogonal RAI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1040" y="965160"/>
            <a:ext cx="1155600" cy="4038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10920" y="100944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10920" y="174600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98320" y="244476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10920" y="314316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10920" y="385452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10920" y="454032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31840" y="12574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31840" y="19432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31840" y="2641680"/>
            <a:ext cx="317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31840" y="33400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31840" y="40006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31840" y="46864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83160" y="102888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08360" y="176544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83160" y="2451240"/>
            <a:ext cx="383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08360" y="317484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83160" y="387360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8360" y="4559400"/>
            <a:ext cx="382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140360" y="11048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4127400" y="1828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4152960" y="25401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4152960" y="32637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4165560" y="39243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6"/>
          <a:stretch/>
        </p:blipFill>
        <p:spPr>
          <a:xfrm>
            <a:off x="4165560" y="46353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356000" y="10414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56000" y="17780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81560" y="248904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381560" y="32130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94160" y="3886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94160" y="45720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4902120" y="11048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8"/>
          <a:stretch/>
        </p:blipFill>
        <p:spPr>
          <a:xfrm>
            <a:off x="4889520" y="1828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9"/>
          <a:stretch/>
        </p:blipFill>
        <p:spPr>
          <a:xfrm>
            <a:off x="4915080" y="25401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10"/>
          <a:stretch/>
        </p:blipFill>
        <p:spPr>
          <a:xfrm>
            <a:off x="4915080" y="32637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11"/>
          <a:stretch/>
        </p:blipFill>
        <p:spPr>
          <a:xfrm>
            <a:off x="4927680" y="39243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12"/>
          <a:stretch/>
        </p:blipFill>
        <p:spPr>
          <a:xfrm>
            <a:off x="4927680" y="46353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5118120" y="10414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18120" y="17780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43680" y="248904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43680" y="32130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56280" y="3886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56280" y="45720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3"/>
          <a:stretch/>
        </p:blipFill>
        <p:spPr>
          <a:xfrm>
            <a:off x="5626080" y="10922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4"/>
          <a:stretch/>
        </p:blipFill>
        <p:spPr>
          <a:xfrm>
            <a:off x="5613480" y="18162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5"/>
          <a:stretch/>
        </p:blipFill>
        <p:spPr>
          <a:xfrm>
            <a:off x="5638680" y="2527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6"/>
          <a:stretch/>
        </p:blipFill>
        <p:spPr>
          <a:xfrm>
            <a:off x="5638680" y="32511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7"/>
          <a:stretch/>
        </p:blipFill>
        <p:spPr>
          <a:xfrm>
            <a:off x="5651640" y="39117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8"/>
          <a:stretch/>
        </p:blipFill>
        <p:spPr>
          <a:xfrm>
            <a:off x="5651640" y="46227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5842080" y="10288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42080" y="17654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67280" y="247644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67280" y="32004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80240" y="38736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80240" y="4559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9"/>
          <a:stretch/>
        </p:blipFill>
        <p:spPr>
          <a:xfrm>
            <a:off x="7289640" y="11048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0"/>
          <a:stretch/>
        </p:blipFill>
        <p:spPr>
          <a:xfrm>
            <a:off x="7277040" y="1828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1"/>
          <a:stretch/>
        </p:blipFill>
        <p:spPr>
          <a:xfrm>
            <a:off x="7302600" y="25401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22"/>
          <a:stretch/>
        </p:blipFill>
        <p:spPr>
          <a:xfrm>
            <a:off x="7302600" y="32637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3"/>
          <a:stretch/>
        </p:blipFill>
        <p:spPr>
          <a:xfrm>
            <a:off x="7315200" y="39243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4"/>
          <a:stretch/>
        </p:blipFill>
        <p:spPr>
          <a:xfrm>
            <a:off x="7315200" y="46353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505640" y="10414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505640" y="17780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31200" y="248904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31200" y="32130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886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45720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359040" y="123192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84240" y="191772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09800" y="266688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09800" y="339084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47960" y="403848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47960" y="472428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89240" y="939960"/>
            <a:ext cx="584280" cy="4381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49360" y="4508640"/>
            <a:ext cx="5473800" cy="77472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46640" y="5676840"/>
            <a:ext cx="5250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Recovery Group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it of data redund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43040" y="6070680"/>
            <a:ext cx="82040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dundant Support Component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s, power supplies, controller, c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493040" y="5283000"/>
            <a:ext cx="0" cy="8254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356000" y="5321160"/>
            <a:ext cx="0" cy="3938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7800" y="6464160"/>
            <a:ext cx="6879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d to End Data Integ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ernal parity protected data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71640" y="95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ystem-Level Availabil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99200" y="1390680"/>
            <a:ext cx="2433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lly dual redu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0280" y="1434960"/>
            <a:ext cx="1644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9800" y="1434960"/>
            <a:ext cx="1644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0560" y="2400120"/>
            <a:ext cx="1932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58240" y="2400120"/>
            <a:ext cx="1932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24200" y="178452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45160" y="22795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36800" y="1936800"/>
            <a:ext cx="367020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83320" y="178452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949040" y="1911240"/>
            <a:ext cx="374652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49400" y="22543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5640" y="178452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88160" y="1784520"/>
            <a:ext cx="0" cy="62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924200" y="31939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2635200" y="31813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3359160" y="31813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057560" y="31813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276880" y="319392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4676760" y="330840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6"/>
          <a:stretch/>
        </p:blipFill>
        <p:spPr>
          <a:xfrm>
            <a:off x="1911240" y="4133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7"/>
          <a:stretch/>
        </p:blipFill>
        <p:spPr>
          <a:xfrm>
            <a:off x="2622600" y="412128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8"/>
          <a:stretch/>
        </p:blipFill>
        <p:spPr>
          <a:xfrm>
            <a:off x="3346560" y="412128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9"/>
          <a:stretch/>
        </p:blipFill>
        <p:spPr>
          <a:xfrm>
            <a:off x="4044960" y="412128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10"/>
          <a:stretch/>
        </p:blipFill>
        <p:spPr>
          <a:xfrm>
            <a:off x="5264280" y="41338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4664160" y="424800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1"/>
          <a:stretch/>
        </p:blipFill>
        <p:spPr>
          <a:xfrm>
            <a:off x="1936800" y="5137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12"/>
          <a:stretch/>
        </p:blipFill>
        <p:spPr>
          <a:xfrm>
            <a:off x="2647800" y="51246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13"/>
          <a:stretch/>
        </p:blipFill>
        <p:spPr>
          <a:xfrm>
            <a:off x="3371760" y="51246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14"/>
          <a:stretch/>
        </p:blipFill>
        <p:spPr>
          <a:xfrm>
            <a:off x="4070520" y="51246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15"/>
          <a:stretch/>
        </p:blipFill>
        <p:spPr>
          <a:xfrm>
            <a:off x="5289480" y="51372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689360" y="525132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08200" y="2749680"/>
            <a:ext cx="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720800" y="3117960"/>
            <a:ext cx="3759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50080" y="2774880"/>
            <a:ext cx="0" cy="104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720440" y="382896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5280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52800" y="3753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5120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76400" y="3753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75160" y="313056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0360" y="372744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28616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99120" y="3753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9288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30680" y="372744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454040" y="4057560"/>
            <a:ext cx="402588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1720440" y="4781520"/>
            <a:ext cx="452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15280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52800" y="470520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85120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76400" y="470520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75160" y="408312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600360" y="468000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8616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99120" y="470520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9288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30680" y="468000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4680" y="5048280"/>
            <a:ext cx="4305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720800" y="5772240"/>
            <a:ext cx="4826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5280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52800" y="569592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5120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876400" y="569592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75160" y="507348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0360" y="5670720"/>
            <a:ext cx="0" cy="8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8616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99120" y="569592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9288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30680" y="5670720"/>
            <a:ext cx="0" cy="8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41440" y="274968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62080" y="2749680"/>
            <a:ext cx="0" cy="23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1200" y="276228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29440" y="2749680"/>
            <a:ext cx="0" cy="201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59560" y="2749680"/>
            <a:ext cx="0" cy="30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70440" y="278748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60480" y="3041640"/>
            <a:ext cx="584280" cy="36576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023560" y="591192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9280" y="6153120"/>
            <a:ext cx="12070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73480" y="3734640"/>
            <a:ext cx="188676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No Si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352520" y="93312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254640" y="92052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3040" y="1035000"/>
            <a:ext cx="664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54000" y="1060560"/>
            <a:ext cx="664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89680" y="5981760"/>
            <a:ext cx="5583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duplicated paths, higher performance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when there are no fail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560" y="328680"/>
            <a:ext cx="773136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nterconnect Tren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98440" y="2527200"/>
            <a:ext cx="7505640" cy="323856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77640" y="836640"/>
            <a:ext cx="846108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connect = glue that interfaces computer system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speed hardware interfaces + logical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, channels, backpla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42440" y="5911920"/>
            <a:ext cx="19670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ma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 path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ized 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834920" y="5911920"/>
            <a:ext cx="19944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row path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943440" y="6261120"/>
            <a:ext cx="173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26800" y="366840"/>
            <a:ext cx="693108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ackplane Architectur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596880" y="1092240"/>
            <a:ext cx="8242200" cy="289548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769400" y="4316400"/>
            <a:ext cx="5859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ctions begin to bl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 channel is like a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Bus is like a channel (disconnect/reconn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PI forms links in high speed switching fab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3312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-Based Interconnec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560" y="1352520"/>
            <a:ext cx="8629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: a shared communication link between sub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cost: a single set of wires is shared multiple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tility: Easy to add new devices &amp; peripherals may even be ported between computers using common 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munication bottleneck, possibly limiting the maximum I/O 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speed is limited by physical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s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devices (and, hence, bus loading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physical limits prevent arbitrary bus speedup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3312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-Based Interconnec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56800" y="1352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eneric types of bus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busses: lengthy, many types of devices connected, wide range in the data bandwidth), and follow a bus stand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ometimes called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han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U–memory buses: high speed, matched to the memory system to maximize memory–CPU bandwidth, single device (sometimes called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backpl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ower costs, low cost (older) systems combine toge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trans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address &amp; receiving or send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18640" y="266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 Protocol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384200" y="851040"/>
            <a:ext cx="96516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84200" y="1905120"/>
            <a:ext cx="3251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84200" y="2209680"/>
            <a:ext cx="3251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84200" y="2514600"/>
            <a:ext cx="332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676520" y="16128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05120" y="1612800"/>
            <a:ext cx="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16128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851040"/>
            <a:ext cx="96516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71800" y="16128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1612800"/>
            <a:ext cx="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429000" y="16128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975120" y="1162080"/>
            <a:ext cx="529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 ° 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85280" y="1085760"/>
            <a:ext cx="861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79840" y="1085760"/>
            <a:ext cx="72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812120" y="1771560"/>
            <a:ext cx="1602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13200" y="2076480"/>
            <a:ext cx="1701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13200" y="238140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2440" y="2768760"/>
            <a:ext cx="81086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7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bus:  20 address, 16 data, 5 control, 50ns P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59880" y="3441600"/>
            <a:ext cx="7455240" cy="2797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has ability to control the bus, initiates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Sla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module activated by the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Communication 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specification of sequence of events and timing requirements in transferring inform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Bus Transfers:  control lines (req., ack.) serve to orchestrate sequen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Bus Transfers:  sequence relative to common c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49360" y="264960"/>
            <a:ext cx="788976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ynchronous Bus Protocols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270400" y="4737240"/>
            <a:ext cx="279360" cy="27936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22840" y="4737240"/>
            <a:ext cx="279360" cy="2793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80000" y="1314360"/>
            <a:ext cx="10404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965320" y="2590920"/>
            <a:ext cx="90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603520" y="1282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27200" y="130824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273040" y="129528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2273040" y="160020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08440" y="129528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08440" y="160020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22840" y="130824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3822840" y="1282320"/>
            <a:ext cx="35532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203720" y="1295280"/>
            <a:ext cx="287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80040" y="160020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365640" y="18158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89320" y="184140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273400" y="182880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2273400" y="2133720"/>
            <a:ext cx="109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70200" y="18288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70200" y="21337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60920" y="18414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660920" y="18158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41800" y="1828800"/>
            <a:ext cx="20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18120" y="2133720"/>
            <a:ext cx="1955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98600" y="236232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03520" y="2374920"/>
            <a:ext cx="35568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898800" y="2349360"/>
            <a:ext cx="35568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98600" y="1143000"/>
            <a:ext cx="20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2514600" y="8251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27200" y="8380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76720" y="851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89320" y="11430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3962520" y="8251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75120" y="8380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24280" y="851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37240" y="11430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410080" y="8251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23040" y="8380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72200" y="851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84800" y="1143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746520" y="28321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336760" y="2819520"/>
            <a:ext cx="14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27400" y="31240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5194440" y="2806560"/>
            <a:ext cx="35532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1460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1308240"/>
            <a:ext cx="0" cy="218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6252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2428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79640" y="933480"/>
            <a:ext cx="74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80000" y="4210200"/>
            <a:ext cx="10404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603520" y="4178160"/>
            <a:ext cx="27936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27200" y="42037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73040" y="419112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273040" y="449568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08440" y="419112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08440" y="449568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22840" y="420372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3822840" y="4178160"/>
            <a:ext cx="35532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365640" y="4711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89320" y="473724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2273400" y="472428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2273400" y="5029200"/>
            <a:ext cx="109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70200" y="47242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670200" y="5029200"/>
            <a:ext cx="111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822840" y="57020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46520" y="572760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27400" y="57150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18120" y="57276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5118120" y="57020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76720" y="4203720"/>
            <a:ext cx="0" cy="218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2428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1008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1480" y="3753000"/>
            <a:ext cx="4489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d/Split transaction Bus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64360" y="56894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03720" y="419112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03720" y="44956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270400" y="4203720"/>
            <a:ext cx="43200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5270400" y="4178160"/>
            <a:ext cx="3556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908080" y="42102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670200" y="481968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03360" y="42102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03000" y="5734080"/>
            <a:ext cx="762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813200" y="4711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37240" y="4737240"/>
            <a:ext cx="35532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118120" y="472428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18120" y="50292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18120" y="481968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575320" y="419112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75320" y="44956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642000" y="4203720"/>
            <a:ext cx="43200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6642000" y="4178160"/>
            <a:ext cx="3556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74960" y="42102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489720" y="57276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489720" y="57020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574960" y="5734080"/>
            <a:ext cx="66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75320" y="601992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184800" y="4711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108840" y="4737240"/>
            <a:ext cx="35532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89720" y="472428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89720" y="50292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89720" y="481968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17220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8168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73080" y="3171960"/>
            <a:ext cx="12574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755800" y="2596680"/>
            <a:ext cx="507960" cy="57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60960" y="2362320"/>
            <a:ext cx="286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92560" y="2409840"/>
            <a:ext cx="17146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4730400" y="2755800"/>
            <a:ext cx="444600" cy="31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46480" y="60199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37160" y="5695920"/>
            <a:ext cx="92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synchronous Handshak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80044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305400" y="113652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137240" y="1523880"/>
            <a:ext cx="10404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355840" y="2800440"/>
            <a:ext cx="477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60760" y="14918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84440" y="151776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2330280" y="150480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2330280" y="1809720"/>
            <a:ext cx="33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65320" y="150480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65320" y="180972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151776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6089760" y="1491840"/>
            <a:ext cx="35532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0640" y="150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546960" y="180972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2660760" y="202536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84440" y="20509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2330280" y="203832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330280" y="2343240"/>
            <a:ext cx="33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65320" y="203832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65320" y="234324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089760" y="205092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089760" y="2025360"/>
            <a:ext cx="35532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70640" y="20383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546960" y="234324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67840" y="1523880"/>
            <a:ext cx="273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sserts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967840" y="2057400"/>
            <a:ext cx="231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ssert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24000" y="1523880"/>
            <a:ext cx="1598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054080" y="52322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355840" y="2571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0760" y="2584440"/>
            <a:ext cx="35532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089760" y="2558880"/>
            <a:ext cx="3553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0640" y="257184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55840" y="32576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346560" y="3016080"/>
            <a:ext cx="20304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75160" y="3029040"/>
            <a:ext cx="15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75360" y="3041640"/>
            <a:ext cx="2030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03960" y="325764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32160" y="3714840"/>
            <a:ext cx="142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879720" y="3473280"/>
            <a:ext cx="20340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08320" y="3486240"/>
            <a:ext cx="15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08520" y="3498840"/>
            <a:ext cx="20340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937120" y="371484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0992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84820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8880" y="874800"/>
            <a:ext cx="2702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1940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23872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728440" y="4267080"/>
            <a:ext cx="383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     t1       t2                 t3     t4   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98840" y="3193920"/>
            <a:ext cx="35568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4108320" y="3168720"/>
            <a:ext cx="96516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03960" y="3117960"/>
            <a:ext cx="355320" cy="35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12880" y="4641480"/>
            <a:ext cx="7835760" cy="2038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:  Master has obtained control and asserts address, direction,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a specified amount of time for slaves to decode target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:   Master asserts request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2:   Slave asserts ack, indicating data recei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3:   Master releases re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4:   Slave releases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07640" y="3305160"/>
            <a:ext cx="215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ycle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80840" y="3240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ad Transac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74320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248520" y="77472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080000" y="1162080"/>
            <a:ext cx="10404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2603520" y="11300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527200" y="115560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2273040" y="114300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273040" y="144792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08440" y="1143000"/>
            <a:ext cx="30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08440" y="1447920"/>
            <a:ext cx="30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032520" y="11556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032520" y="11300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413400" y="114300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89720" y="144792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575160" y="1663560"/>
            <a:ext cx="27936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17920" y="16891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2273400" y="1676520"/>
            <a:ext cx="126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2273400" y="1981080"/>
            <a:ext cx="13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79720" y="1676520"/>
            <a:ext cx="212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98800" y="1981080"/>
            <a:ext cx="2108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32520" y="168912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032520" y="1663560"/>
            <a:ext cx="3556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13400" y="167652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89720" y="19810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910600" y="1162080"/>
            <a:ext cx="273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sserts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566760" y="1162080"/>
            <a:ext cx="1598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98600" y="22096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603520" y="2222640"/>
            <a:ext cx="12708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261120" y="2197080"/>
            <a:ext cx="12708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13400" y="220968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298600" y="289548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3289320" y="2654280"/>
            <a:ext cx="20304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517920" y="2666880"/>
            <a:ext cx="15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18120" y="2679840"/>
            <a:ext cx="2030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46720" y="289548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374920" y="3352680"/>
            <a:ext cx="142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3822840" y="3111480"/>
            <a:ext cx="20304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51440" y="3124080"/>
            <a:ext cx="15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51640" y="3137040"/>
            <a:ext cx="2030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80240" y="3352680"/>
            <a:ext cx="126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5268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9132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8148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47520" y="3600360"/>
            <a:ext cx="383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     t1       t2                 t3     t4   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441600" y="2832120"/>
            <a:ext cx="35568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051440" y="2806200"/>
            <a:ext cx="96516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46720" y="2755800"/>
            <a:ext cx="35568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527200" y="2197080"/>
            <a:ext cx="35568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08440" y="2209680"/>
            <a:ext cx="317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08840" y="2222640"/>
            <a:ext cx="2793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413400" y="243828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2273040" y="243828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57000" y="5999040"/>
            <a:ext cx="763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Multiplexed Bus: address and data share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98040" y="3917520"/>
            <a:ext cx="7836120" cy="2038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:  Master has obtained control and asserts address, direction,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a specified amount of time for slaves to decode target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:   Master asserts request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2:   Slave asserts ack, indicating ready to transm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3:   Master releases req, data recei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4:   Slave releases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293160" y="2943360"/>
            <a:ext cx="215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ycle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7720" y="34308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 Arbitr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0640" y="781200"/>
            <a:ext cx="378792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(Centralized)  Arbi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Arbitration (daisy chai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55600" y="1155600"/>
            <a:ext cx="332748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08240" y="2070000"/>
            <a:ext cx="6602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447920" y="15876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828800" y="16128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31560" y="1390680"/>
            <a:ext cx="92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60160" y="215280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00200" y="2527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451240" y="2070000"/>
            <a:ext cx="6602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590920" y="15876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971800" y="16128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74560" y="1390680"/>
            <a:ext cx="92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03160" y="215280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743200" y="2527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594240" y="2070000"/>
            <a:ext cx="6602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3733920" y="15876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4800" y="16128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17560" y="1390680"/>
            <a:ext cx="92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46160" y="215280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2527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612800" y="2666880"/>
            <a:ext cx="226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55600" y="3365640"/>
            <a:ext cx="965160" cy="104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832120" y="3365640"/>
            <a:ext cx="111744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213000" y="36766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30320" y="3448080"/>
            <a:ext cx="120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i   B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048120" y="4127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505320" y="41274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08440" y="3905280"/>
            <a:ext cx="456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32320" y="3365640"/>
            <a:ext cx="111744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813200" y="36766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30520" y="3448080"/>
            <a:ext cx="120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i   B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48320" y="4127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41274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08640" y="3905280"/>
            <a:ext cx="456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956200" y="3365640"/>
            <a:ext cx="111780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337080" y="36766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54760" y="3448080"/>
            <a:ext cx="120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i   B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172200" y="4127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629400" y="41274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032880" y="3905280"/>
            <a:ext cx="456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975120" y="3581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575320" y="35812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2120400" y="4267080"/>
            <a:ext cx="4064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2120760" y="3581280"/>
            <a:ext cx="71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765080" y="3448080"/>
            <a:ext cx="4705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155600" y="3753000"/>
            <a:ext cx="58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908440" y="5118120"/>
            <a:ext cx="965160" cy="8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84760" y="5734080"/>
            <a:ext cx="9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A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136680" y="52768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24080" y="595620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05320" y="59562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733920" y="59562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03720" y="5118120"/>
            <a:ext cx="965160" cy="8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80040" y="5734080"/>
            <a:ext cx="9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A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31960" y="52768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19720" y="595620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800600" y="59562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029200" y="59562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499000" y="5118120"/>
            <a:ext cx="965160" cy="8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575680" y="5734080"/>
            <a:ext cx="9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A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727600" y="52768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715000" y="595620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095880" y="59562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24480" y="59562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2577600" y="6172200"/>
            <a:ext cx="314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577960" y="6324480"/>
            <a:ext cx="353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720960" y="6477120"/>
            <a:ext cx="2616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17920" y="441972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765440" y="5118120"/>
            <a:ext cx="812520" cy="142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146680" y="5975280"/>
            <a:ext cx="456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765080" y="5353200"/>
            <a:ext cx="58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9440" y="1122480"/>
            <a:ext cx="2042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G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 Option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704880" y="16765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add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x add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data 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data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r is f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rower is cheap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32 bi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8 bi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words h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word trans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bus over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simp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mas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quires arbitratio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 arbitr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—sepa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—continuo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ac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and Re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 is cheap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gets hig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has lower la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eeds multiple mast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0 Bus Survey (P&amp;H, 1st Ed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71320" y="1117440"/>
            <a:ext cx="8172360" cy="5426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E    FutureBus  Multibus 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/Data mu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- 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B/s (0ns, word) 25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37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25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.5 (asy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5 (syn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ns wo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0ns block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27.9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95.2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ns 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dev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me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     IEEE 1014   IEEE 896.1 ANSI/IEEE ANSI X3.129 ANSI X3.13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V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96-pin conn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defined as standard, rest customer def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 command &amp; power/ground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-360" y="95400"/>
            <a:ext cx="9048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CSI: Small Computer System Interfa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34720" y="72396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: 5 MHz / 10 MHz (fast) / 20 MHz (ultr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th: n = 8 bits / 16 bits (wide);  up to n – 1 devices to communicate on a bus or “str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s can be slave (“target”) or master(“initiator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SI protocol: a series of “phases”, during which specif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actions are taken by the controller and the SCSI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 F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No device is currently accessing the 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rbi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When the SCSI bus goes free, multiple devices may request (arbitrate for) the bus; fixed priority by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e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informs the target that it will participate 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sel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disconnec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mm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he initiator reads the SCSI command bytes from host memory and sends them to the 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ata Transf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ata in or out,  initiator: 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essage Ph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essage in or out,  initiator: target (identify, save/restore data pointer, disconnect, command compl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us Ph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arget, just before command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93280" y="404640"/>
            <a:ext cx="809316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CSI “Bus”: Channel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2781360" y="990720"/>
            <a:ext cx="6210360" cy="561312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190440" y="2990880"/>
            <a:ext cx="25657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-to-peer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or/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yt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nect/reconn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75920" y="476280"/>
            <a:ext cx="82486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3 I/O Bus Survey (P&amp;H, 2nd Ed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40840" y="1307880"/>
            <a:ext cx="8750520" cy="402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boChan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Chan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Rate (MHz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izes (bi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24,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24,32,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24,32,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it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bit read (MB/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ak (MB/s)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9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75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11 (2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Power (W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1723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3 MP Server Memory Bus Surve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193400" y="793440"/>
            <a:ext cx="6921720" cy="550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D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Rate (MHz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transactio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4 (par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izes (bi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/trans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ak (MB/s)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96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20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0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it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ses/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?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i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0840" y="19008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Disk I/O Performan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3080" y="5715000"/>
            <a:ext cx="536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 = Queue + Device 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32280" y="2768760"/>
            <a:ext cx="1474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36200" y="3854520"/>
            <a:ext cx="583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449960" y="1206360"/>
            <a:ext cx="3481200" cy="3444840"/>
            <a:chOff x="4449960" y="1206360"/>
            <a:chExt cx="3481200" cy="3444840"/>
          </a:xfrm>
        </p:grpSpPr>
        <p:sp>
          <p:nvSpPr>
            <p:cNvPr id="60" name=""/>
            <p:cNvSpPr/>
            <p:nvPr/>
          </p:nvSpPr>
          <p:spPr>
            <a:xfrm flipV="1">
              <a:off x="5048280" y="1206360"/>
              <a:ext cx="0" cy="261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0880" y="3809880"/>
              <a:ext cx="287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37200" y="1238400"/>
              <a:ext cx="12186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(m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96800" y="4133880"/>
              <a:ext cx="1477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pu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% total B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03320" y="3778200"/>
              <a:ext cx="226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49960" y="2863800"/>
              <a:ext cx="4248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49960" y="2101680"/>
              <a:ext cx="4248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49960" y="1339920"/>
              <a:ext cx="4248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84200" y="3930480"/>
              <a:ext cx="384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213520" y="3263760"/>
              <a:ext cx="10411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280200" y="3035160"/>
              <a:ext cx="3556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661080" y="2577600"/>
              <a:ext cx="43200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118280" y="1892160"/>
              <a:ext cx="432000" cy="71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575480" y="1587240"/>
              <a:ext cx="127080" cy="3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241720" y="4762440"/>
            <a:ext cx="4546440" cy="806400"/>
            <a:chOff x="2241720" y="4762440"/>
            <a:chExt cx="4546440" cy="806400"/>
          </a:xfrm>
        </p:grpSpPr>
        <p:sp>
          <p:nvSpPr>
            <p:cNvPr id="75" name=""/>
            <p:cNvSpPr/>
            <p:nvPr/>
          </p:nvSpPr>
          <p:spPr>
            <a:xfrm>
              <a:off x="2241720" y="4908600"/>
              <a:ext cx="812520" cy="660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7680" y="51436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89280" y="5060880"/>
              <a:ext cx="73656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28616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3388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90000" y="4762440"/>
              <a:ext cx="8118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798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60880" y="4984920"/>
              <a:ext cx="584280" cy="58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60520" y="51436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514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2640" y="51436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0720" y="5276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99320" y="5060880"/>
              <a:ext cx="888840" cy="43200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9160" y="1351080"/>
            <a:ext cx="263448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84080" y="423720"/>
            <a:ext cx="773136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ommunications Networ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27040" y="1136520"/>
            <a:ext cx="82803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28600" indent="-228600">
              <a:lnSpc>
                <a:spcPct val="97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limiter is memory system, OS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1631880" y="1943280"/>
            <a:ext cx="6375600" cy="323820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719640" y="5268960"/>
            <a:ext cx="76219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/receive queues in processor mem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controller copies back and forth via 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ost interventio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host when message sent or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02800" y="404640"/>
            <a:ext cx="788364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/O Controlle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920880" y="1092240"/>
            <a:ext cx="7657920" cy="416556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2369880" y="5484960"/>
            <a:ext cx="5004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/response block interfa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door access to host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781000" y="709560"/>
            <a:ext cx="344484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/O Data Flow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615960" y="2419200"/>
            <a:ext cx="7924680" cy="247680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761400" y="1566720"/>
            <a:ext cx="7450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diment to high performance: multiple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A Little 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5040" y="251424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ing models assume state of equilibrium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rate = output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 (tradtionally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µ = 1/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system 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1110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5715000" y="522144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502128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621504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540480" y="522144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540480" y="502128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540480" y="621504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340760" y="5221440"/>
            <a:ext cx="70452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340760" y="5021280"/>
            <a:ext cx="70452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40760" y="6215040"/>
            <a:ext cx="70452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140680" y="523404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140680" y="503388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140680" y="622764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28880" y="190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Redundant Arrays of Disks (RAID) Techniq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33000" y="1295280"/>
            <a:ext cx="42552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Mirroring, Shadowing (RAID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959040" y="1714680"/>
            <a:ext cx="527004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disk is fully duplicated onto its "shado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write = two physical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% capacity 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74040" y="3193920"/>
            <a:ext cx="44395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ity Data Bandwidth Array (RAID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08640" y="3625920"/>
            <a:ext cx="407520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computed horizont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ly a single high data bw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30920" y="4686480"/>
            <a:ext cx="41482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 I/O Rate Parity Array (RAID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68040" y="5067360"/>
            <a:ext cx="375372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eaved parity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reads and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write = 2 reads + 2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+ Reed-Solomo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861160" y="6356520"/>
            <a:ext cx="41904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699240" y="5162400"/>
            <a:ext cx="4190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86560" y="5175360"/>
            <a:ext cx="41904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61160" y="5492880"/>
            <a:ext cx="41904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699240" y="5492880"/>
            <a:ext cx="41904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99440" y="5518080"/>
            <a:ext cx="41904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861160" y="5784840"/>
            <a:ext cx="419040" cy="21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499520" y="5784840"/>
            <a:ext cx="419040" cy="216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299440" y="5797440"/>
            <a:ext cx="419040" cy="21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499520" y="6064200"/>
            <a:ext cx="419040" cy="216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299440" y="6089760"/>
            <a:ext cx="419040" cy="215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699240" y="6089760"/>
            <a:ext cx="419040" cy="215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861160" y="5175360"/>
            <a:ext cx="419040" cy="215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699240" y="6369120"/>
            <a:ext cx="419040" cy="216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99520" y="6356520"/>
            <a:ext cx="419040" cy="215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86840" y="5187960"/>
            <a:ext cx="419040" cy="216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499520" y="5492880"/>
            <a:ext cx="419040" cy="215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699240" y="5784840"/>
            <a:ext cx="419040" cy="216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61160" y="6064200"/>
            <a:ext cx="419040" cy="216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299440" y="6369120"/>
            <a:ext cx="419040" cy="216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445080" y="1449360"/>
            <a:ext cx="704880" cy="120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445080" y="1249200"/>
            <a:ext cx="704880" cy="435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445080" y="2443320"/>
            <a:ext cx="704880" cy="43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359480" y="1436760"/>
            <a:ext cx="704880" cy="1203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59480" y="123660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359480" y="243036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715000" y="332280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15000" y="312264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431640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540480" y="332280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540480" y="312264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40480" y="431640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340760" y="3322800"/>
            <a:ext cx="70452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340760" y="3122640"/>
            <a:ext cx="70452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340760" y="4316400"/>
            <a:ext cx="70452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140680" y="3335400"/>
            <a:ext cx="704880" cy="1203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140680" y="313524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140680" y="432900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922360" y="314964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773400" y="313704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560720" y="312408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373600" y="312408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652800" y="12762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567200" y="12636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ueue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7240" y="34286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64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long as nothing in black box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91400" y="200988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63560" y="20098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Not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040" y="251424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ing models assume state of equilibrium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rate = output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number of arriving customers/second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 to service a customer (tradtionally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µ = 1/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r /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=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+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length of queue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length of system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99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09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255276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time completions vs. waiting time for a busy server: randomly arriving event joins a queue of arbitrary length when server is busy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 serviced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imited length queues key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ingle server 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ombination of a servicing facility that accomodates 1 customer at a tim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waiting area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together called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pends a variable amount of time with customers;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ow do you characterize variabi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a random variable: histogram? curv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119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440" y="2457360"/>
            <a:ext cx="8858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pends a variable amount of time with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f1 x T1 + f2 x T2 +...+ fn x Tn)/F  (F=f1 + f2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varianc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1 x T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f2 x T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...+ fn x T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/F – m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keep track of unit of measure (100 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0.1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Squared coefficient of vari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 = variance/m1</a:t>
            </a:r>
            <a:r>
              <a:rPr b="1" i="1" lang="en-US" sz="2000" spc="-1" strike="noStrike" baseline="30000">
                <a:solidFill>
                  <a:srgbClr val="fc0128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less measure (100 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0.1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xponential distribution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 =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st short relative to average, few others long; 90% &lt; 2.3 x average, 63% &lt;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ypoexponential distribution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C &lt;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st close to averag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=0.5 =&gt; 90% &lt; 2.0 x average, only 57% &lt;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yperexponential distribution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C &gt;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further from averag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=2.0 =&gt; 90% &lt; 2.8 x average, 69% &lt;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139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077320" y="3860640"/>
            <a:ext cx="0" cy="71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1360" y="4610160"/>
            <a:ext cx="117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56440" y="4032720"/>
            <a:ext cx="65988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3080" y="3994560"/>
            <a:ext cx="545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913880" y="4019400"/>
            <a:ext cx="355320" cy="62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7829640" y="4000680"/>
            <a:ext cx="430920" cy="58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6720" y="345744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6:20:49Z</dcterms:created>
  <dc:creator>David A. Patterson</dc:creator>
  <dc:description/>
  <dc:language>en-US</dc:language>
  <cp:lastModifiedBy>Randal E. Bryant</cp:lastModifiedBy>
  <cp:lastPrinted>1998-03-18T08:08:49Z</cp:lastPrinted>
  <dcterms:modified xsi:type="dcterms:W3CDTF">1998-10-21T20:45:43Z</dcterms:modified>
  <cp:revision>17</cp:revision>
  <dc:subject/>
  <dc:title>Lecture 13: I/O Queuing Theory, RAID</dc:title>
</cp:coreProperties>
</file>