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79432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977115B-6D88-4000-BB00-804790A05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estor of Java had no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 vs. Periph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vs. Second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s portable, PDA exci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106040" y="6318360"/>
            <a:ext cx="1879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 Spr.‘98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CB </a:t>
            </a:r>
            <a:fld id="{739C45BA-466E-4C9D-BD1E-9B9D9AB654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120" y="2285640"/>
            <a:ext cx="8934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Lecture 12: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 I/O Introduction: Storage Devices, Metrics, &amp; Productivit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essor David A. Patt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25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ing 199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isk Histor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" y="4303800"/>
            <a:ext cx="2281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3 Mbit/sq.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,000 M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06760" y="4322880"/>
            <a:ext cx="2453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7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50 Mbit/sq.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00 M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0360" y="6048360"/>
            <a:ext cx="7373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: New York Times, 2/23/98, page C3,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Makers of disk drives crowd even mroe data into even smaller spac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3040" y="1682640"/>
            <a:ext cx="8731440" cy="2565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554880" y="4322880"/>
            <a:ext cx="2453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7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90 Mbit/sq.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100 M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Bits per square inch: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RAM as % of Disk over tim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04920" y="1733400"/>
          <a:ext cx="862488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33400"/>
                    <a:ext cx="862488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80360" y="6048360"/>
            <a:ext cx="7373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: New York Times, 2/23/98, page C3,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Makers of disk drives crowd even mroe data into even smaller spac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39040" y="4048200"/>
            <a:ext cx="2034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70 v. 3000 Mb/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61280" y="1704960"/>
            <a:ext cx="1592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 v. 22 Mb/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41640" y="4809960"/>
            <a:ext cx="1847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  v. 1.7 Mb/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lternative Data Storage Technologies: Early 1990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37760" y="1371240"/>
            <a:ext cx="8210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P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PI*TP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Xf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B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illion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KByte/s) 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ntional Tap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tridge (.25"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1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9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u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3490 (.5"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8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0.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ical Scan Tap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 (8mm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6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32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3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7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49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 se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 (4mm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1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18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se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netic &amp; Optical Disk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Disk (5.25") 12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52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8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6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3390  (10.5") 38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9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3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6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ny MO (5.25"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1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7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2880" y="2038320"/>
            <a:ext cx="767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41720" y="1403280"/>
            <a:ext cx="0" cy="64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4600" y="3556080"/>
            <a:ext cx="7785000" cy="108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17320" y="385560"/>
            <a:ext cx="7940520" cy="40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0806"/>
                </a:solidFill>
                <a:latin typeface="Arial"/>
              </a:rPr>
              <a:t>Devices: Magnetic Disk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42080" y="2502000"/>
            <a:ext cx="12445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64200" y="2546280"/>
            <a:ext cx="800280" cy="21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42080" y="2273400"/>
            <a:ext cx="12445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16520" y="2095560"/>
            <a:ext cx="12445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16520" y="1943280"/>
            <a:ext cx="12445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19880" y="2114640"/>
            <a:ext cx="24120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94320" y="2089080"/>
            <a:ext cx="5968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39000" y="2025720"/>
            <a:ext cx="799920" cy="216000"/>
          </a:xfrm>
          <a:prstGeom prst="ellipse">
            <a:avLst/>
          </a:prstGeom>
          <a:noFill/>
          <a:ln w="12600">
            <a:solidFill>
              <a:srgbClr val="dd0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699240" y="1504440"/>
            <a:ext cx="291960" cy="72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640" y="1339920"/>
            <a:ext cx="837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280200" y="1187280"/>
            <a:ext cx="368280" cy="82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93480" y="1022400"/>
            <a:ext cx="7354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32520" y="212724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32440" y="2127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2495520"/>
            <a:ext cx="55872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54520" y="2406600"/>
            <a:ext cx="10418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13480" y="2070000"/>
            <a:ext cx="0" cy="63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00880" y="2057400"/>
            <a:ext cx="39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26080" y="2336760"/>
            <a:ext cx="291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26080" y="252720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26080" y="2743200"/>
            <a:ext cx="368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194080" y="243828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3440" y="2736720"/>
            <a:ext cx="25416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74080" y="2978280"/>
            <a:ext cx="6850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67520" y="2838600"/>
            <a:ext cx="36828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67840" y="2774880"/>
            <a:ext cx="837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0440" y="762120"/>
            <a:ext cx="4819680" cy="55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-term, nonvolatile sto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ge, inexpensive, slow level in the storage hierarc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k Time (~8 ms av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al lat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tational lat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fer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out a sector per m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(5-15 MB/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gaby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druples every 3 years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(aerodynamic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80760" y="3613320"/>
            <a:ext cx="37897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200 RPM = 120 RPS =&gt; 8 ms per r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e rot. latency = 4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8 sectors per track =&gt; 0.25 ms per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KB per sector =&gt; 16 MB /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294800" y="5143680"/>
            <a:ext cx="4599000" cy="1046160"/>
            <a:chOff x="4294800" y="5143680"/>
            <a:chExt cx="4599000" cy="1046160"/>
          </a:xfrm>
        </p:grpSpPr>
        <p:sp>
          <p:nvSpPr>
            <p:cNvPr id="157" name=""/>
            <p:cNvSpPr/>
            <p:nvPr/>
          </p:nvSpPr>
          <p:spPr>
            <a:xfrm>
              <a:off x="4294800" y="5143680"/>
              <a:ext cx="45990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sponse 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Queue + Controller + Seek + Rot + Xf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40560" y="5664240"/>
              <a:ext cx="143496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7188120" y="5651640"/>
              <a:ext cx="151128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04600" y="5905440"/>
              <a:ext cx="14716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ice 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isk Device Terminolog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62080" y="1682640"/>
            <a:ext cx="6692760" cy="2489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74200" y="4317840"/>
            <a:ext cx="623016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Latency = Queuing Time + Controller time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k Time + Rotation Time + Xfer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9080" y="4851360"/>
            <a:ext cx="53370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rder of magnitude times for 4K byte transf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15160" y="5219640"/>
            <a:ext cx="3093840" cy="12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k: 8 ms or 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tate: 4.2 ms @ 7200 r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fer: 1 ms @ 7200 r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dvantages of Small Formfactor Disk Driv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16000" y="1625760"/>
            <a:ext cx="3720960" cy="2844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165560" y="1714680"/>
            <a:ext cx="4813200" cy="4635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05760" y="4616280"/>
            <a:ext cx="2176200" cy="102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 cost/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MB/vo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MB/wa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 cost/Actu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2200" y="5962680"/>
            <a:ext cx="41454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st and Environmental Effici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28880" y="3427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S 252 Administrivia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2680" y="139068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37240" indent="-2372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d March 4 Quiz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189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zza at LaVal’s 8:30 – 10P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ail URL of initial project home page to TA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189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share some knowledge gained with other pro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189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 faculty, TA to make suggesto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189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“report” will be a UR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189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 access to cs.berkeley for n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coming events in CS 25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-Mar  Fri I/O 2: Queuing Theory and Bu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-Mar Wed  I/O 3: Tertiary Storage &amp; Network Int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-Mar  Fri Networks 2: Interface, Switches, Ro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-Mar to 27-Mar Spring Brea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19440" y="392040"/>
            <a:ext cx="5781600" cy="4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Tape vs. Disk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8000" y="1193760"/>
            <a:ext cx="8400600" cy="54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itudinal tape uses same technology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 disk; tracks its density impro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 head flies above surface, tape head lies on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 fixed, tape remo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erent cost-performance based on geomet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ed rotating platters with ga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andom access, limited area, 1 media / rea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ovable long strips  wound on s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equential access, "unlimited" length,  multiple / rea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technology tren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ical Scan (VCR, Camcoder, DA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s head at angle to tape to improve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520" y="595080"/>
            <a:ext cx="7883640" cy="40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urrent Drawbacks to Tap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pe wear ou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ical 100s of passes to 1000s for longitudina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 wear out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 hours for helic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must be accounted for in economic / reliability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rewind, eject, load, spin-up times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inherent, just no need in marketplace (so fa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ed for archiv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6560" y="428760"/>
            <a:ext cx="7184880" cy="62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utomated Cartridge System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19000" y="2244600"/>
            <a:ext cx="1727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C 4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06560" y="4185720"/>
            <a:ext cx="7035840" cy="16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02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00  x   0.8 GB 3490 tapes = 5 TBytes in 1992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500,000 O.E.M. Pr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2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00  x 10 GB  D3 tapes =  60  TBytes in 1998                         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2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of Congress: all information in the world; in 1992, ASCII of all books = 30 TB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90960" y="1657440"/>
            <a:ext cx="2492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86280" y="1898640"/>
            <a:ext cx="0" cy="125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97080" y="2959200"/>
            <a:ext cx="2492640" cy="368280"/>
          </a:xfrm>
          <a:prstGeom prst="ellipse">
            <a:avLst/>
          </a:prstGeom>
          <a:solidFill>
            <a:srgbClr val="5eb2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81800" y="1900080"/>
            <a:ext cx="0" cy="125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73760" y="1790640"/>
            <a:ext cx="0" cy="1225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62680" y="2187720"/>
            <a:ext cx="1058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b209"/>
                </a:solidFill>
                <a:latin typeface="Arial"/>
              </a:rPr>
              <a:t>8 f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33800" y="3492360"/>
            <a:ext cx="24829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14840" y="3597120"/>
            <a:ext cx="1256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b209"/>
                </a:solidFill>
                <a:latin typeface="Arial"/>
              </a:rPr>
              <a:t>10 f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200" y="17100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otivation: Who Cares About I/O?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50480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 Performance: 60% per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/O system performance limited by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mechanical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delays (disk I/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&lt; 10% per year (IO per sec or MB per se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dahl's Law: system speed-up limited by the slowest par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  IO &amp;    10x CPU =&gt;   5x Performance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(lose 50%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  IO &amp;  100x CPU =&gt; 10x Performance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(lose 90%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ottleneck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iminishing fraction of time in CP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iminishing value of faster CP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Library vs. Storag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books today as quaint as the way I learned to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nch cards, batch proc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der thru shelves, anticipatory purcha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$1 per book to check 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30 for a catalogue en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% of all books never checked 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only journal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tal library can transform campu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have lecture on getting electronic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360" y="361440"/>
            <a:ext cx="8020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lative Cost of Storage Technology—Late 1995/Early 1996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7906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4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netic Di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5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1 G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12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.23/MB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98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.22/M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5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3 G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19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.27/MB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9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.23/M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14 M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9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.58/MB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1 G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34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.33/M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cal Di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5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6 G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695+19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.41/MB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499+18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.39/M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MCIA C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c R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0 M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7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75/M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sh R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.0 M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3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32/M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5 M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36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0.50/M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Lecture Outlin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33480" y="1542960"/>
            <a:ext cx="7905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ntext of Storage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ary and Tertiary Storage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torage I/O Performanc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 Interface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80840" y="190080"/>
            <a:ext cx="75438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isk I/O Performanc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73080" y="5715000"/>
            <a:ext cx="5367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e time = Queue + Device Servic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32280" y="2768760"/>
            <a:ext cx="14749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936200" y="3854520"/>
            <a:ext cx="5832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048280" y="1206360"/>
            <a:ext cx="0" cy="261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60880" y="3809880"/>
            <a:ext cx="2870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37200" y="1238400"/>
            <a:ext cx="1218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(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96800" y="4133880"/>
            <a:ext cx="14778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p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% total B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03320" y="3778200"/>
            <a:ext cx="2264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49960" y="2863800"/>
            <a:ext cx="424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49960" y="2101680"/>
            <a:ext cx="424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49960" y="1339920"/>
            <a:ext cx="424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84200" y="3930480"/>
            <a:ext cx="384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213520" y="3263760"/>
            <a:ext cx="1041120" cy="177840"/>
          </a:xfrm>
          <a:prstGeom prst="line">
            <a:avLst/>
          </a:prstGeom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280200" y="3035160"/>
            <a:ext cx="355680" cy="254160"/>
          </a:xfrm>
          <a:prstGeom prst="line">
            <a:avLst/>
          </a:prstGeom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661080" y="2577600"/>
            <a:ext cx="432000" cy="482760"/>
          </a:xfrm>
          <a:prstGeom prst="line">
            <a:avLst/>
          </a:prstGeom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118280" y="1892160"/>
            <a:ext cx="432000" cy="711360"/>
          </a:xfrm>
          <a:prstGeom prst="line">
            <a:avLst/>
          </a:prstGeom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575480" y="1587240"/>
            <a:ext cx="127080" cy="330120"/>
          </a:xfrm>
          <a:prstGeom prst="line">
            <a:avLst/>
          </a:prstGeom>
          <a:ln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241720" y="4762440"/>
            <a:ext cx="4546440" cy="806400"/>
            <a:chOff x="2241720" y="4762440"/>
            <a:chExt cx="4546440" cy="806400"/>
          </a:xfrm>
        </p:grpSpPr>
        <p:sp>
          <p:nvSpPr>
            <p:cNvPr id="213" name=""/>
            <p:cNvSpPr/>
            <p:nvPr/>
          </p:nvSpPr>
          <p:spPr>
            <a:xfrm>
              <a:off x="2241720" y="4908600"/>
              <a:ext cx="812520" cy="660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17680" y="514368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89280" y="5060880"/>
              <a:ext cx="736560" cy="35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286160" y="5035320"/>
              <a:ext cx="0" cy="40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133880" y="5035320"/>
              <a:ext cx="0" cy="40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90000" y="4762440"/>
              <a:ext cx="8118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79800" y="5276880"/>
              <a:ext cx="58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60880" y="4984920"/>
              <a:ext cx="584280" cy="583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60520" y="514368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51400" y="5276880"/>
              <a:ext cx="58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12640" y="514368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70720" y="52768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99320" y="5060880"/>
              <a:ext cx="888840" cy="432000"/>
            </a:xfrm>
            <a:prstGeom prst="roundRect">
              <a:avLst>
                <a:gd name="adj" fmla="val 12495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659160" y="1351080"/>
            <a:ext cx="263448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28880" y="3427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sponse Time vs. Productivit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160" y="1467000"/>
            <a:ext cx="81342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environment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interaction or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ransac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3 par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Entry 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time for user to enter comm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System Response 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time between user entry &amp; system repl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618f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18ffd"/>
                </a:solidFill>
                <a:latin typeface="Arial"/>
              </a:rPr>
              <a:t>Think 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Time from response until user begins next comm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st transa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nd trans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to transaction time as shrink system response time from 1.0 sec to 0.3 sec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Keyboard: 4.0 sec entry, 9.4 sec think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Graphics:  0.25 sec entry, 1.6 sec think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368440" y="3873600"/>
            <a:ext cx="3168720" cy="577800"/>
            <a:chOff x="2368440" y="3873600"/>
            <a:chExt cx="3168720" cy="577800"/>
          </a:xfrm>
        </p:grpSpPr>
        <p:sp>
          <p:nvSpPr>
            <p:cNvPr id="230" name=""/>
            <p:cNvSpPr/>
            <p:nvPr/>
          </p:nvSpPr>
          <p:spPr>
            <a:xfrm>
              <a:off x="2368440" y="3873600"/>
              <a:ext cx="1570320" cy="5778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51360" y="3873600"/>
              <a:ext cx="511200" cy="57780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89560" y="3873600"/>
              <a:ext cx="1047600" cy="5778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549760" y="4483080"/>
            <a:ext cx="3168720" cy="577800"/>
            <a:chOff x="5549760" y="4483080"/>
            <a:chExt cx="3168720" cy="577800"/>
          </a:xfrm>
        </p:grpSpPr>
        <p:sp>
          <p:nvSpPr>
            <p:cNvPr id="234" name=""/>
            <p:cNvSpPr/>
            <p:nvPr/>
          </p:nvSpPr>
          <p:spPr>
            <a:xfrm>
              <a:off x="5549760" y="4483080"/>
              <a:ext cx="1570320" cy="5778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132680" y="4483080"/>
              <a:ext cx="511200" cy="57780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70880" y="4483080"/>
              <a:ext cx="1047600" cy="5778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49160" y="800280"/>
            <a:ext cx="7480440" cy="44067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09800" y="132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sponse Time &amp; Productivit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09520" y="4876560"/>
            <a:ext cx="882648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7sec off response saves 4.9 sec (34%) and 2.0 sec (70%) total time per transaction =&gt; greater producti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her study: everyone gets more done with faster response, but novice with fast response = expert with s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2854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isk Time Exampl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1440" y="1466640"/>
            <a:ext cx="8439480" cy="47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 Paramet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size is 8K by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ertised average seek is 12 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k spins at 7200 RP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rate is 4 MB/s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ler overhead is 2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that disk is idle so no queuing del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Average Disk Access Time for a Sect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 seek + ave rot delay + transfer time + controller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ms + 0.5/(7200 RPM/60) + 8 KB/4 MB/s + 2 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+ 4.15 + 2 + 2 = 20 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ertised seek time assumes no locality: typically 1/4 to 1/3 advertised seek time: 20 ms =&gt; 12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Lecture Outlin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33480" y="1542960"/>
            <a:ext cx="7905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ntext of Storage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ary and Tertiary Storage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age I/O Performanc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rocessor Interface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ndant Arrarys of Inexpensive Disks (RAI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Processor Interface Issu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 mapped I/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Control Stru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/O Controll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/O Process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y, Access Time, Bandwid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conne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50880" y="538200"/>
            <a:ext cx="7693200" cy="4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0806"/>
                </a:solidFill>
                <a:latin typeface="Arial"/>
              </a:rPr>
              <a:t>I/O Interfac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800" y="1727280"/>
            <a:ext cx="2354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dependent I/O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56160" y="1314000"/>
            <a:ext cx="6091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98600" y="2101680"/>
            <a:ext cx="15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73320" y="164448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18080" y="2647440"/>
            <a:ext cx="107856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38920" y="2647440"/>
            <a:ext cx="107856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38280" y="2114640"/>
            <a:ext cx="0" cy="469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59120" y="2114640"/>
            <a:ext cx="0" cy="469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09720" y="3396960"/>
            <a:ext cx="12445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38280" y="29401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19480" y="3396960"/>
            <a:ext cx="12445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46520" y="291456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1327320"/>
            <a:ext cx="0" cy="736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29000" y="1479600"/>
            <a:ext cx="1092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24960" y="1314000"/>
            <a:ext cx="100224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84600" y="1479600"/>
            <a:ext cx="520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60120" y="1689120"/>
            <a:ext cx="1014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67880" y="2610000"/>
            <a:ext cx="3675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erate I/O instructions (in,o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82960" y="4158720"/>
            <a:ext cx="6091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8400" y="4971960"/>
            <a:ext cx="351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00480" y="4489560"/>
            <a:ext cx="0" cy="444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60800" y="5517720"/>
            <a:ext cx="107856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81640" y="5517720"/>
            <a:ext cx="107856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81360" y="4984920"/>
            <a:ext cx="0" cy="469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02200" y="4984920"/>
            <a:ext cx="0" cy="469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52440" y="6266880"/>
            <a:ext cx="12445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81360" y="581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62200" y="6266880"/>
            <a:ext cx="12445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89240" y="582300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06760" y="5505120"/>
            <a:ext cx="100224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70080" y="4959360"/>
            <a:ext cx="0" cy="482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07120" y="4222800"/>
            <a:ext cx="32792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s distinguish betw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 and memory trans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5280" y="4495680"/>
            <a:ext cx="2030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mo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amp; I/O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83360" y="5124600"/>
            <a:ext cx="118044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ME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bus-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59880" y="4870440"/>
            <a:ext cx="1942560" cy="14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Mbytes/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st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MIP 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rates the bu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286680" y="4838400"/>
            <a:ext cx="774360" cy="36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61120" y="5702400"/>
            <a:ext cx="660240" cy="50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8400" y="5048280"/>
            <a:ext cx="351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torage System Issues: 1.5 week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33480" y="1542960"/>
            <a:ext cx="7905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istorical Context of Storage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econdary and Tertiary Storage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torage I/O Performanc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rocessor Interface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ittle Queuing The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ndant Arrarys of Inexpensive Disks (RAI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u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s of UNIX File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enchma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UNIX File System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2840" y="500040"/>
            <a:ext cx="8131320" cy="4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0806"/>
                </a:solidFill>
                <a:latin typeface="Arial"/>
              </a:rPr>
              <a:t>Memory Mapped I/O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63920" y="1549440"/>
            <a:ext cx="3202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ngle Memory &amp; I/O B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 Separate I/O 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03600" y="1314000"/>
            <a:ext cx="6091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9040" y="2127240"/>
            <a:ext cx="351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20760" y="164448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81440" y="2673000"/>
            <a:ext cx="107856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02280" y="2673000"/>
            <a:ext cx="107856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02000" y="2139840"/>
            <a:ext cx="0" cy="470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22840" y="2139840"/>
            <a:ext cx="0" cy="470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73080" y="3422160"/>
            <a:ext cx="12445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02000" y="29653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82840" y="3422160"/>
            <a:ext cx="12445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9880" y="2978280"/>
            <a:ext cx="0" cy="444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7400" y="2660040"/>
            <a:ext cx="100224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2114640"/>
            <a:ext cx="0" cy="482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18040" y="1816200"/>
            <a:ext cx="236232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18040" y="245124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18040" y="306072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24520" y="3060720"/>
            <a:ext cx="2349360" cy="749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43520" y="2013120"/>
            <a:ext cx="6609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43880" y="2622600"/>
            <a:ext cx="647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56920" y="3943440"/>
            <a:ext cx="433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42560" y="3948840"/>
            <a:ext cx="226440" cy="266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68560" y="425448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51400" y="3625920"/>
            <a:ext cx="5022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74720" y="3594240"/>
            <a:ext cx="736560" cy="660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68560" y="509256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51040" y="5562720"/>
            <a:ext cx="1879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49240" y="4844880"/>
            <a:ext cx="4842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2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74720" y="4737240"/>
            <a:ext cx="736560" cy="35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34680" y="5226120"/>
            <a:ext cx="11959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 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89560" y="6057000"/>
            <a:ext cx="810360" cy="266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57480" y="5562720"/>
            <a:ext cx="0" cy="482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45960" y="6057000"/>
            <a:ext cx="1194120" cy="266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 Adap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52760" y="5562720"/>
            <a:ext cx="0" cy="482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38560" y="5562720"/>
            <a:ext cx="0" cy="482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60720" y="556272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35240" y="5276880"/>
            <a:ext cx="904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2400" y="709560"/>
            <a:ext cx="8474040" cy="4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0806"/>
                </a:solidFill>
                <a:latin typeface="Arial"/>
              </a:rPr>
              <a:t>Programmed I/O (Polling)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791000" y="1777680"/>
            <a:ext cx="6091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6560" y="2590920"/>
            <a:ext cx="2768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08160" y="210816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65000" y="3136320"/>
            <a:ext cx="53424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19520" y="2629080"/>
            <a:ext cx="0" cy="469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87880" y="3885840"/>
            <a:ext cx="8377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819520" y="3429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44920" y="3123720"/>
            <a:ext cx="100224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08240" y="2577960"/>
            <a:ext cx="0" cy="482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59400" y="2235960"/>
            <a:ext cx="875880" cy="758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73880" y="3428640"/>
            <a:ext cx="609120" cy="53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73880" y="4482720"/>
            <a:ext cx="685080" cy="53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52880" y="3022560"/>
            <a:ext cx="0" cy="368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78440" y="39877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78440" y="504180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40280" y="1701720"/>
            <a:ext cx="0" cy="495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91040" y="5435640"/>
            <a:ext cx="812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816520" y="1866960"/>
            <a:ext cx="0" cy="358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927320" y="1879560"/>
            <a:ext cx="901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91040" y="3124080"/>
            <a:ext cx="812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81920" y="3156120"/>
            <a:ext cx="50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447520" y="2851200"/>
            <a:ext cx="40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26680" y="5137200"/>
            <a:ext cx="814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78440" y="5448240"/>
            <a:ext cx="0" cy="241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21960" y="5175360"/>
            <a:ext cx="40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07480" y="5505480"/>
            <a:ext cx="50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158880" y="2241720"/>
            <a:ext cx="224892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y wait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n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y to use the 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less the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very fas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323400" y="3879720"/>
            <a:ext cx="21362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checks for I/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ion c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ersed am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ation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nsiv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41360" y="366480"/>
            <a:ext cx="8378640" cy="40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0806"/>
                </a:solidFill>
                <a:latin typeface="Arial"/>
              </a:rPr>
              <a:t>Interrupt Driven Data Transfer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791000" y="920160"/>
            <a:ext cx="6091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36560" y="1733400"/>
            <a:ext cx="2768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08160" y="1251000"/>
            <a:ext cx="0" cy="444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65000" y="2279160"/>
            <a:ext cx="53424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19520" y="1771560"/>
            <a:ext cx="0" cy="470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87880" y="3028320"/>
            <a:ext cx="8377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257184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44920" y="2266560"/>
            <a:ext cx="100224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08240" y="1720800"/>
            <a:ext cx="0" cy="482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311880" y="933480"/>
            <a:ext cx="0" cy="34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946080"/>
            <a:ext cx="0" cy="347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75960" y="990720"/>
            <a:ext cx="50688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324480" y="1225440"/>
            <a:ext cx="120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324480" y="1454040"/>
            <a:ext cx="120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337440" y="996840"/>
            <a:ext cx="1193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324480" y="1682640"/>
            <a:ext cx="120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324480" y="1911240"/>
            <a:ext cx="120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299280" y="2152800"/>
            <a:ext cx="1231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400800" y="3390840"/>
            <a:ext cx="63504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324480" y="3422520"/>
            <a:ext cx="120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324480" y="3613320"/>
            <a:ext cx="1193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24480" y="3841920"/>
            <a:ext cx="120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311880" y="4070520"/>
            <a:ext cx="1193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37440" y="4299120"/>
            <a:ext cx="1193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39680" y="4444920"/>
            <a:ext cx="10144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772400" y="1333440"/>
            <a:ext cx="10540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81960" y="1009800"/>
            <a:ext cx="216000" cy="34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7556400" y="1809360"/>
            <a:ext cx="203400" cy="34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70680" y="920880"/>
            <a:ext cx="228600" cy="177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6045120" y="1149480"/>
            <a:ext cx="25416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70680" y="1263600"/>
            <a:ext cx="203040" cy="63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6070320" y="1390680"/>
            <a:ext cx="22860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5880" y="1504800"/>
            <a:ext cx="20340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60920" y="1682640"/>
            <a:ext cx="1676520" cy="12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57160" y="1460520"/>
            <a:ext cx="1067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079600" y="1720800"/>
            <a:ext cx="1219320" cy="444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268160" y="2197080"/>
            <a:ext cx="1357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save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37240" y="2444760"/>
            <a:ext cx="0" cy="482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229640" y="2921040"/>
            <a:ext cx="14716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 interru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84880" y="3397320"/>
            <a:ext cx="914400" cy="101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911360" y="3556080"/>
            <a:ext cx="106776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56400" y="3435480"/>
            <a:ext cx="381240" cy="12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7556400" y="4197240"/>
            <a:ext cx="39384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5803920" y="3879360"/>
            <a:ext cx="520560" cy="34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816520" y="215280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842080" y="1809720"/>
            <a:ext cx="45720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51280" y="4038480"/>
            <a:ext cx="406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7840" y="5378400"/>
            <a:ext cx="79333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 xfer rate = 10 MBytes/sec =&gt; 0 .1 x 10   sec/byte =&gt; 0.1 µsec/by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&gt; 1000 bytes = 100 µse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transfers x 100 µsecs = 100 ms = 0.1 CPU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5226120"/>
            <a:ext cx="33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3400" y="3651120"/>
            <a:ext cx="6747840" cy="14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gram progress only halted du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transfers at 1 ms eac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interrupts @ 2 µsec per interru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interrupt service @ 98 µsec each = 0.1 CPU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0400" y="6254640"/>
            <a:ext cx="6451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ill far from device transfer rate! 1/2 in interrupt over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93280" y="233280"/>
            <a:ext cx="7635960" cy="4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0806"/>
                </a:solidFill>
                <a:latin typeface="Arial"/>
              </a:rPr>
              <a:t>Direct Memory Acces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816200" y="2577600"/>
            <a:ext cx="6091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74720" y="3390840"/>
            <a:ext cx="2768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133720" y="2908440"/>
            <a:ext cx="0" cy="444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022200" y="3936600"/>
            <a:ext cx="53424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3403440"/>
            <a:ext cx="0" cy="470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45080" y="4685760"/>
            <a:ext cx="8377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29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8960" y="3924000"/>
            <a:ext cx="100224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31920" y="3378240"/>
            <a:ext cx="0" cy="482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981440" y="3911760"/>
            <a:ext cx="81180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98600" y="3403440"/>
            <a:ext cx="0" cy="482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575880" y="755640"/>
            <a:ext cx="4227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to do 1000 xfers at 1 msec eac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090680" y="1073160"/>
            <a:ext cx="44024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DMA set-up sequence @ 50 µ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interrupt @ 2 µ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interrupt service sequence @ 48 µ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0001 second of CPU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6000" y="1536840"/>
            <a:ext cx="349236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sends a starting addres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ion,  and length count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MAC. Then issues "start"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3040" y="5194440"/>
            <a:ext cx="565200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MAC provides handshake signals for 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, and Memory Addresses and handsh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s for Memo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 flipV="1">
            <a:off x="1168560" y="2273040"/>
            <a:ext cx="596880" cy="36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29760" y="4260960"/>
            <a:ext cx="1644840" cy="86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375240" y="2463840"/>
            <a:ext cx="2248200" cy="391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375240" y="2946240"/>
            <a:ext cx="2248200" cy="48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6240" y="2355840"/>
            <a:ext cx="253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48080" y="2558880"/>
            <a:ext cx="6609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75240" y="4533840"/>
            <a:ext cx="2248200" cy="292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86600" y="3867120"/>
            <a:ext cx="647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375240" y="5613480"/>
            <a:ext cx="2248200" cy="11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94640" y="5124600"/>
            <a:ext cx="1370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pher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061760" y="5924520"/>
            <a:ext cx="811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6920" y="6165720"/>
            <a:ext cx="2674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811760" y="3600360"/>
            <a:ext cx="13618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ed 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02800" y="366480"/>
            <a:ext cx="7635960" cy="40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0806"/>
                </a:solidFill>
                <a:latin typeface="Arial"/>
              </a:rPr>
              <a:t>Input/Output Processor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079640" y="1167840"/>
            <a:ext cx="60912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393280" y="1142640"/>
            <a:ext cx="52200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79640" y="2044080"/>
            <a:ext cx="64728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02200" y="1104480"/>
            <a:ext cx="41868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02200" y="1625040"/>
            <a:ext cx="41868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095360" y="2463480"/>
            <a:ext cx="432360" cy="30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927000" y="1714680"/>
            <a:ext cx="2273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384200" y="1498680"/>
            <a:ext cx="0" cy="50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29080" y="1473120"/>
            <a:ext cx="0" cy="24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46520" y="1041480"/>
            <a:ext cx="0" cy="185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946240" y="1295280"/>
            <a:ext cx="78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784680" y="2629080"/>
            <a:ext cx="25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759120" y="175248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59120" y="123192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371600" y="1701720"/>
            <a:ext cx="25560" cy="38160"/>
          </a:xfrm>
          <a:prstGeom prst="ellipse">
            <a:avLst/>
          </a:prstGeom>
          <a:solidFill>
            <a:srgbClr val="0000d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049280" y="2025720"/>
            <a:ext cx="575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15040" y="1733400"/>
            <a:ext cx="16117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50440" y="2711520"/>
            <a:ext cx="5342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78120" y="3371760"/>
            <a:ext cx="6091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723960" y="3479760"/>
            <a:ext cx="317520" cy="19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9160" y="3695760"/>
            <a:ext cx="241560" cy="203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182320" y="3371760"/>
            <a:ext cx="282348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s instruction to 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ts when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7160" y="3562200"/>
            <a:ext cx="406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185200" y="4527720"/>
            <a:ext cx="10144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498680" y="4089240"/>
            <a:ext cx="6732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1282320" y="4177800"/>
            <a:ext cx="749160" cy="520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688760" y="3994200"/>
            <a:ext cx="406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307880" y="4451400"/>
            <a:ext cx="406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1511280" y="3759120"/>
            <a:ext cx="26676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1523880" y="3556080"/>
            <a:ext cx="25416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65080" y="3486240"/>
            <a:ext cx="406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97960" y="5099040"/>
            <a:ext cx="30078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 to/from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ers are control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the IOP direct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P steals memory cyc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537160" y="3441600"/>
            <a:ext cx="25146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360" y="3460680"/>
            <a:ext cx="24897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   Device  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019920" y="34416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972480" y="34416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956920" y="2724120"/>
            <a:ext cx="15357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985440" y="2978280"/>
            <a:ext cx="19929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cmnds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6464160" y="2997360"/>
            <a:ext cx="470160" cy="419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7556400" y="3213000"/>
            <a:ext cx="254160" cy="20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47880" y="3828960"/>
            <a:ext cx="3582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s in memory for comm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37160" y="4546440"/>
            <a:ext cx="25146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521680" y="4565520"/>
            <a:ext cx="2558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   Addr   Cnt  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981760" y="45464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730920" y="45464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277040" y="45464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88080" y="5048280"/>
            <a:ext cx="688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35600" y="5543640"/>
            <a:ext cx="7873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959520" y="5556240"/>
            <a:ext cx="736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849080" y="5048280"/>
            <a:ext cx="1078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524560" y="4851000"/>
            <a:ext cx="253800" cy="406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6324480" y="4851360"/>
            <a:ext cx="50760" cy="749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7022880" y="4851000"/>
            <a:ext cx="228600" cy="72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7670520" y="4851360"/>
            <a:ext cx="228600" cy="419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-360" y="552600"/>
            <a:ext cx="91314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lationship to Processor Architectur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90040" y="1275840"/>
            <a:ext cx="8153640" cy="346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instructions have largely disappea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rupt vectors have been replaced by jump tabl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 &lt;- M [ IVA + interrupt number ]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 &lt;- IVA + interrupt numb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rup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 replaced by shadow regis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ler saves registers and re-enables higher priority int'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rupt types reduced in number; handler must query interrupt control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-360" y="514440"/>
            <a:ext cx="91314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lationship to Processor Architectur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520" y="1314000"/>
            <a:ext cx="8286480" cy="371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s required for processor performance cause problems for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ushing is expensive, I/O polutes ca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 is borrowed from shared memory multiprocessors "snooping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memory frustrates D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/store architecture at odds with atomic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 locked, store conditio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ful processors hard to context swit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71640" y="323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57160" y="1295280"/>
            <a:ext cx="7562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 industry growing rapidly, improve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175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width 40%/yr 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175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al density 60%/year, $/MB faste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ue + controller + seek + rotate + trans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ertised average seek time benchmark much greater than average seek time in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time vs. Bandwidth tradeoff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of faster response tim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175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7sec off response saves 4.9 sec and 2.0 sec (70%) total time per transaction =&gt; greater productiv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175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one gets more done with faster response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novice with fast response = expert with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 Interface: today peripheral processors, DMA, I/O bus, interru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09520" y="4876920"/>
            <a:ext cx="8826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ummary: Relationship to Processor Architectur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14080" y="1352520"/>
            <a:ext cx="824868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instructions have disappea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rupt vectors have been replaced by jump t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rupt stack replaced by shadow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rupt types reduced in nu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s required for processor performance cause problems for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memory frustrates D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/store architecture at odds with atomic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ful processors hard to context swit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4377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ummary: Storage System Issu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33480" y="1542960"/>
            <a:ext cx="7905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istorical Context of Storage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econdary and Tertiary Storage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torage I/O Performanc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rocessor Interface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ittle Queuing The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ndant Arrarys of Inexpensive Disks (RAI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u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s of UNIX File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enchma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UNIX File System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I/O System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3240" y="3079800"/>
            <a:ext cx="5994720" cy="279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27480" y="4756320"/>
            <a:ext cx="58428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79560" y="1251000"/>
            <a:ext cx="1346400" cy="58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6600" y="1333440"/>
            <a:ext cx="12430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08520" y="2171880"/>
            <a:ext cx="811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97800" y="3086280"/>
            <a:ext cx="20080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- I/O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5880" y="2089080"/>
            <a:ext cx="111744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0120" y="3848040"/>
            <a:ext cx="10022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480" y="3848040"/>
            <a:ext cx="1220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14880" y="4838760"/>
            <a:ext cx="609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03240" y="3689280"/>
            <a:ext cx="1194120" cy="1193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27480" y="3689280"/>
            <a:ext cx="1346040" cy="66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27480" y="5137200"/>
            <a:ext cx="584280" cy="127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27480" y="4680000"/>
            <a:ext cx="584280" cy="127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89240" y="4756320"/>
            <a:ext cx="58428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77000" y="4838760"/>
            <a:ext cx="609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89240" y="5137200"/>
            <a:ext cx="584280" cy="127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89240" y="4680000"/>
            <a:ext cx="584280" cy="127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324160" y="335880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324160" y="252108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324160" y="1834920"/>
            <a:ext cx="0" cy="25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24360" y="335880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619440" y="434952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381560" y="434952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38040" y="3848040"/>
            <a:ext cx="1220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75040" y="3689280"/>
            <a:ext cx="1346400" cy="66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372280" y="335880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62280" y="3848040"/>
            <a:ext cx="12200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99280" y="3689280"/>
            <a:ext cx="1346040" cy="66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896160" y="335880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89160" y="4762440"/>
            <a:ext cx="1118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51360" y="4680000"/>
            <a:ext cx="1193760" cy="43164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372280" y="434952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96160" y="437508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10320" y="4838760"/>
            <a:ext cx="1028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375240" y="4654440"/>
            <a:ext cx="111780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25960" y="1467000"/>
            <a:ext cx="3682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96160" y="1479600"/>
            <a:ext cx="0" cy="15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372280" y="1454040"/>
            <a:ext cx="0" cy="1625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924360" y="1454040"/>
            <a:ext cx="0" cy="1625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9920" y="1193760"/>
            <a:ext cx="9594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8720" y="1422360"/>
            <a:ext cx="5994360" cy="28828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Technology Trend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03840" y="2184480"/>
            <a:ext cx="2552760" cy="12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sk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doubl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eve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months; bef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0 every 36 motn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400" y="4622760"/>
            <a:ext cx="728028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ay: Processing Power Doubles Every 18 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ay: Memory Size Doubles Every 18 months(4X/3y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ay: Disk Capacity Doubles Every 18 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sk Positioning Rate (Seek + Rotate) Doubles Every Ten Year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58120" y="4826160"/>
            <a:ext cx="95868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torage Technology Driver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en by the prevailing computing paradig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50s: migration from batch to on-line proc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0s: migration to ubiquitous compu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s in phones, books, cars, video cameras,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wide fiber optical network with wireless tai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s on storage indust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bedded sto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er, cheaper, more reliable, lower p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util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capacity, hierarchically managed sto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7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Historical Perspectiv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040" y="8190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191160" indent="-191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6 IBM Ramac — early 1970s Winche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53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for mainframe computers, proprietary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53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ady shrink in form factor: 27 in. to 14 i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160" indent="-191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70s develop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53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25 inch floppy disk formfactor (microcode into mainfram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53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emergence of industry standard disk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65720" indent="-153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506, SASI, SMD, ESD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160" indent="-191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rly 1980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53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s and first generation works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160" indent="-191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 1980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53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ent/server computi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53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alized storage on file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65720" indent="-153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lerates disk downsizing: 8 inch to 5.25 i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530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ss market disk drives become a re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65720" indent="-153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ustry standards: SCSI, IPI, 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5720" indent="-153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5 inch drives for standalone PCs, End of proprietary interf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isk Histor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33440" y="1758960"/>
            <a:ext cx="7150320" cy="3173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720" y="2371680"/>
            <a:ext cx="13791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bit/sq. 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360" y="3514680"/>
            <a:ext cx="14418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ty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Sh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ga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04800" y="4989600"/>
            <a:ext cx="2286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7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7 Mbit/sq.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0 M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62440" y="4989600"/>
            <a:ext cx="2286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7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7 Mbit/sq.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,300 M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0360" y="6048360"/>
            <a:ext cx="7373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: New York Times, 2/23/98, page C3,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Makers of disk drives crowd even mroe data into even smaller spac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Historical Perspectiv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 1980s/Early 1990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tops, notebooks, (palmtop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5 inch, 2.5 inch, (1.8 inch formfacto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factor plus capacity drives market, not so much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ly Bandwidth improving at 40%/ ye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d by DRAM, flash RAM in PCMCIA c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 expensive, Intel promises but doesn’t deli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attractive MBytes per cubic i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cal disk fails on performace (e.g., NEXT) but finds niche (CD RO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3T16:50:33Z</dcterms:created>
  <dc:creator>David A. Patterson</dc:creator>
  <dc:description/>
  <dc:language>en-US</dc:language>
  <cp:lastModifiedBy>Randal E. Bryant</cp:lastModifiedBy>
  <cp:lastPrinted>1998-03-04T06:20:29Z</cp:lastPrinted>
  <dcterms:modified xsi:type="dcterms:W3CDTF">1998-10-21T20:38:21Z</dcterms:modified>
  <cp:revision>150</cp:revision>
  <dc:subject/>
  <dc:title>Lecture 6: Vector</dc:title>
</cp:coreProperties>
</file>