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6043CF-B1FE-435F-A77B-F28FF80E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estor of Java had no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 vs.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vs. 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s portable, PDA exc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AA1C6452-BC2F-43BF-A3CD-1E2E380EB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2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 Introduction: Storage Devices, Metrics,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" y="4303800"/>
            <a:ext cx="2281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,0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676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3040" y="1682640"/>
            <a:ext cx="873144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5488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9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Bits per square inch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RAM as % of Disk over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733400"/>
          <a:ext cx="862488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33400"/>
                    <a:ext cx="86248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9040" y="404820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 v. 3000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1280" y="1704960"/>
            <a:ext cx="159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 v. 22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1640" y="4809960"/>
            <a:ext cx="184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  v. 1.7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lternative Data Storage Technologies: Early 1990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7760" y="1371240"/>
            <a:ext cx="8210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*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Xf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Byte/s) 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al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ridge (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1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490 (.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8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0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cal Scan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(8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 (4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8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tic &amp; Optical Dis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 (5.25") 1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5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 (10.5") 3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9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y MO (5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1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2038320"/>
            <a:ext cx="767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720" y="14032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4600" y="3556080"/>
            <a:ext cx="7785000" cy="108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320" y="385560"/>
            <a:ext cx="794052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evices: Magnetic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2080" y="25020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64200" y="2546280"/>
            <a:ext cx="80028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080" y="22734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6520" y="209556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6520" y="194328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19880" y="2114640"/>
            <a:ext cx="24120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4320" y="2089080"/>
            <a:ext cx="5968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39000" y="2025720"/>
            <a:ext cx="799920" cy="216000"/>
          </a:xfrm>
          <a:prstGeom prst="ellipse">
            <a:avLst/>
          </a:prstGeom>
          <a:noFill/>
          <a:ln w="1260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99240" y="1504440"/>
            <a:ext cx="29196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640" y="133992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80200" y="1187280"/>
            <a:ext cx="368280" cy="8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3480" y="1022400"/>
            <a:ext cx="73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32520" y="21272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32440" y="2127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2495520"/>
            <a:ext cx="55872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4520" y="2406600"/>
            <a:ext cx="104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13480" y="2070000"/>
            <a:ext cx="0" cy="63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2057400"/>
            <a:ext cx="39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6080" y="2336760"/>
            <a:ext cx="29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252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6080" y="274320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94080" y="243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3440" y="2736720"/>
            <a:ext cx="25416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74080" y="2978280"/>
            <a:ext cx="685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7520" y="2838600"/>
            <a:ext cx="36828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840" y="277488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440" y="762120"/>
            <a:ext cx="4819680" cy="55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, nonvolatile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, inexpensive, slow level in the storage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 Time (~8 ms av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a sector per m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5-15 MB/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ga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uples every 3 years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aerodynami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0760" y="3613320"/>
            <a:ext cx="3789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0 RPM = 120 RPS =&gt; 8 ms per r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 rot. latency = 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 sectors per track =&gt; 0.25 ms per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KB per sector =&gt; 16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94800" y="5143680"/>
            <a:ext cx="4599000" cy="1046160"/>
            <a:chOff x="4294800" y="5143680"/>
            <a:chExt cx="4599000" cy="1046160"/>
          </a:xfrm>
        </p:grpSpPr>
        <p:sp>
          <p:nvSpPr>
            <p:cNvPr id="157" name=""/>
            <p:cNvSpPr/>
            <p:nvPr/>
          </p:nvSpPr>
          <p:spPr>
            <a:xfrm>
              <a:off x="4294800" y="5143680"/>
              <a:ext cx="459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Queue + Controller + Seek + Rot + X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0560" y="5664240"/>
              <a:ext cx="1434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88120" y="5651640"/>
              <a:ext cx="1511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4600" y="5905440"/>
              <a:ext cx="14716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200" y="4317840"/>
            <a:ext cx="6230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Controller tim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5160" y="5219640"/>
            <a:ext cx="30938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8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dvantages of Small Formfactor Disk Driv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6000" y="1625760"/>
            <a:ext cx="3720960" cy="28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165560" y="1714680"/>
            <a:ext cx="4813200" cy="463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5760" y="4616280"/>
            <a:ext cx="2176200" cy="102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w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Act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200" y="5962680"/>
            <a:ext cx="41454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 and Environmental Effici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March 4 Quiz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 at LaVal’s 8:30 – 10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share some knowledge gained with oth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aculty, TA to make suggesto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“report” will be a 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 access to cs.berkeley for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-Mar  Fri I/O 2: Queuing Theory and Bu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19440" y="392040"/>
            <a:ext cx="5781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ape vs.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" y="1193760"/>
            <a:ext cx="8400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inal tape uses same technology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disk; tracks its dens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head flies above surface, tape head lies o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fixed, tape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ent cost-performance based on geome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rotating platters with ga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ndom access, limited area, 1 media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able long strips  wound on s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quential access, "unlimited" length,  multiple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echnology tre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Scan (VCR, Camcoder, D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s head at angle to tape to improv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520" y="595080"/>
            <a:ext cx="7883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urrent Drawbacks to Tap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 wear o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ical 100s of passes to 1000s for longitudi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wear out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hours for hel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must be accounted for in economic / reliability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rewind, eject, load, spin-up time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inherent, just no need in marketplace (so f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for archi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560" y="428760"/>
            <a:ext cx="718488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utomated Cartridge System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9000" y="2244600"/>
            <a:ext cx="172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C 4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6560" y="4185720"/>
            <a:ext cx="7035840" cy="16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  0.8 GB 3490 tapes = 5 TBytes in 1992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0,000 O.E.M.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10 GB  D3 tapes =  60  TBytes in 1998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Congress: all information in the world; in 1992, ASCII of all books = 30 TB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90960" y="1657440"/>
            <a:ext cx="2492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6280" y="1898640"/>
            <a:ext cx="0" cy="12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7080" y="2959200"/>
            <a:ext cx="2492640" cy="368280"/>
          </a:xfrm>
          <a:prstGeom prst="ellipse">
            <a:avLst/>
          </a:prstGeom>
          <a:solidFill>
            <a:srgbClr val="5eb2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190008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3760" y="1790640"/>
            <a:ext cx="0" cy="1225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2680" y="2187720"/>
            <a:ext cx="105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8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3492360"/>
            <a:ext cx="2482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3597120"/>
            <a:ext cx="125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10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otivation: Who Cares About I/O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Performance: 60%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system performance limited by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chanical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delays (disk I/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&lt; 10% per year (IO per sec or MB per se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ahl's Law: system speed-up limited by the slowest par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  10x CPU =&gt;   5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5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100x CPU =&gt; 10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9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ttleneck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fraction of time i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value of faster C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ibrary vs.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books today as quaint as the way I learned to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ch cards, batch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der thru shelves, anticipatory purcha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1 per book to check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0 for a catalogue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 of all books never checked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ly journal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 can transform camp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have lecture on getting electron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3614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ve Cost of Storage Technology—Late 1995/Early 199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906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1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8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3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7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4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58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al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6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695+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41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99+18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9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CIA 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75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5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.50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48280" y="1206360"/>
            <a:ext cx="0" cy="261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0880" y="38098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37200" y="1238400"/>
            <a:ext cx="121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96800" y="4133880"/>
            <a:ext cx="1477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% total B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03320" y="377820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960" y="286380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49960" y="210168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9960" y="133992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84200" y="393048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13520" y="3263760"/>
            <a:ext cx="1041120" cy="17784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80200" y="3035160"/>
            <a:ext cx="355680" cy="2541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61080" y="2577600"/>
            <a:ext cx="432000" cy="4827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118280" y="1892160"/>
            <a:ext cx="432000" cy="7113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575480" y="1587240"/>
            <a:ext cx="127080" cy="33012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213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vs.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467000"/>
            <a:ext cx="8134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environme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teraction o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ransa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3 par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Entry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or user to enter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System Respons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between user entry &amp; system re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Think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rom response until user begins next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st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nd trans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ransaction time as shrink system response time from 1.0 sec to 0.3 sec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Keyboard: 4.0 sec entry, 9.4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aphics:  0.25 sec entry, 1.6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68440" y="3873600"/>
            <a:ext cx="3168720" cy="577800"/>
            <a:chOff x="2368440" y="3873600"/>
            <a:chExt cx="3168720" cy="577800"/>
          </a:xfrm>
        </p:grpSpPr>
        <p:sp>
          <p:nvSpPr>
            <p:cNvPr id="230" name=""/>
            <p:cNvSpPr/>
            <p:nvPr/>
          </p:nvSpPr>
          <p:spPr>
            <a:xfrm>
              <a:off x="2368440" y="387360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1360" y="387360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9560" y="387360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49760" y="4483080"/>
            <a:ext cx="3168720" cy="577800"/>
            <a:chOff x="5549760" y="4483080"/>
            <a:chExt cx="3168720" cy="577800"/>
          </a:xfrm>
        </p:grpSpPr>
        <p:sp>
          <p:nvSpPr>
            <p:cNvPr id="234" name=""/>
            <p:cNvSpPr/>
            <p:nvPr/>
          </p:nvSpPr>
          <p:spPr>
            <a:xfrm>
              <a:off x="5549760" y="448308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32680" y="448308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0880" y="448308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49160" y="800280"/>
            <a:ext cx="7480440" cy="4406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9520" y="4876560"/>
            <a:ext cx="88264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sec off response saves 4.9 sec (34%) and 2.0 sec (70%) total time per transaction =&gt; greater produ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tudy: everyone gets more done with faster response, but novice with fast response = expert with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285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Time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1440" y="1466640"/>
            <a:ext cx="843948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size is 8K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d average seek is 1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 spins at 7200 R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ate is 4 MB/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overhead is 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disk is idle so no queuing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verage Disk Access Time for a Se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 seek + ave rot delay + transfer time + controll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ms + 0.5/(7200 RPM/60) + 8 KB/4 MB/s + 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+ 4.15 + 2 + 2 = 2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seek time assumes no locality: typically 1/4 to 1/3 advertised seek time: 20 ms =&gt; 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pped I/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Contro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Control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, Access Time, 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880" y="538200"/>
            <a:ext cx="76932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/O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800" y="1727280"/>
            <a:ext cx="2354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5616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98600" y="210168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332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808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3892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972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940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948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6520" y="2914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327320"/>
            <a:ext cx="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14796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960" y="131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84600" y="1479600"/>
            <a:ext cx="520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0120" y="1689120"/>
            <a:ext cx="101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7880" y="2610000"/>
            <a:ext cx="3675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erate I/O instructions (in,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82960" y="415872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400" y="497196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00480" y="44895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6080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64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8136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0220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244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81360" y="581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220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89240" y="5823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6760" y="55051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0080" y="49593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7120" y="4222800"/>
            <a:ext cx="3279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s distinguish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and memory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280" y="4495680"/>
            <a:ext cx="203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o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amp;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3360" y="5124600"/>
            <a:ext cx="1180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bus-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59880" y="4870440"/>
            <a:ext cx="19425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Mbyte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IP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s the 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286680" y="4838400"/>
            <a:ext cx="77436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61120" y="5702400"/>
            <a:ext cx="6602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8400" y="504828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System Issues: 1.5 wee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2840" y="500040"/>
            <a:ext cx="813132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Memory Mapped I/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63920" y="1549440"/>
            <a:ext cx="3202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ngle Memory &amp; I/O B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eparate I/O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0360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040" y="212724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2076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44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228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200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2284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308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2000" y="2965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284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978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7400" y="266004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1146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18040" y="1816200"/>
            <a:ext cx="236232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18040" y="245124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0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4520" y="3060720"/>
            <a:ext cx="2349360" cy="74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43520" y="201312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43880" y="262260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920" y="3943440"/>
            <a:ext cx="43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42560" y="3948840"/>
            <a:ext cx="22644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8560" y="425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51400" y="3625920"/>
            <a:ext cx="502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4720" y="3594240"/>
            <a:ext cx="736560" cy="660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8560" y="5092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040" y="5562720"/>
            <a:ext cx="187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9240" y="4844880"/>
            <a:ext cx="484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737240"/>
            <a:ext cx="7365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4680" y="5226120"/>
            <a:ext cx="119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560" y="6057000"/>
            <a:ext cx="81036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5748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5960" y="6057000"/>
            <a:ext cx="119412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 Ada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27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385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5562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35240" y="5276880"/>
            <a:ext cx="90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400" y="709560"/>
            <a:ext cx="847404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Programmed I/O (Polling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1000" y="177768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6560" y="2590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08160" y="21081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5000" y="313632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26290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7880" y="388584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44920" y="31237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08240" y="25779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59400" y="2235960"/>
            <a:ext cx="875880" cy="75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3880" y="3428640"/>
            <a:ext cx="60912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73880" y="4482720"/>
            <a:ext cx="68508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0225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8440" y="3987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78440" y="50418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40280" y="1701720"/>
            <a:ext cx="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1040" y="543564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16520" y="186696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927320" y="1879560"/>
            <a:ext cx="9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91040" y="31240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1920" y="315612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47520" y="285120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6680" y="5137200"/>
            <a:ext cx="81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78440" y="544824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21960" y="517536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07480" y="550548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58880" y="2241720"/>
            <a:ext cx="22489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 wait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n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use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ess the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very fa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3400" y="3879720"/>
            <a:ext cx="2136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hecks for I/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ion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ersed am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v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1360" y="366480"/>
            <a:ext cx="8378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terrupt Driven Data Transfer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1000" y="92016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6560" y="173340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8160" y="1251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65000" y="227916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177156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87880" y="302832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5718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4920" y="226656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08240" y="172080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11880" y="933480"/>
            <a:ext cx="0" cy="34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946080"/>
            <a:ext cx="0" cy="347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5960" y="990720"/>
            <a:ext cx="5068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12254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14540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7440" y="99684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16826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19112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99280" y="2152800"/>
            <a:ext cx="123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3390840"/>
            <a:ext cx="63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34225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6133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38419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11880" y="40705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37440" y="42991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39680" y="44449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72400" y="1333440"/>
            <a:ext cx="10540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1960" y="1009800"/>
            <a:ext cx="2160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556400" y="1809360"/>
            <a:ext cx="20340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70680" y="920880"/>
            <a:ext cx="22860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045120" y="1149480"/>
            <a:ext cx="25416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70680" y="1263600"/>
            <a:ext cx="203040" cy="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70320" y="1390680"/>
            <a:ext cx="22860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1504800"/>
            <a:ext cx="2034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1682640"/>
            <a:ext cx="167652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57160" y="1460520"/>
            <a:ext cx="106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79600" y="1720800"/>
            <a:ext cx="121932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8160" y="2197080"/>
            <a:ext cx="135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save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37240" y="24447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29640" y="2921040"/>
            <a:ext cx="1471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84880" y="3397320"/>
            <a:ext cx="914400" cy="10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1360" y="3556080"/>
            <a:ext cx="10677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0" y="3435480"/>
            <a:ext cx="38124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56400" y="4197240"/>
            <a:ext cx="3938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803920" y="3879360"/>
            <a:ext cx="52056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816520" y="2152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842080" y="1809720"/>
            <a:ext cx="45720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1280" y="403848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7840" y="5378400"/>
            <a:ext cx="7933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xfer rate = 10 MBytes/sec =&gt; 0 .1 x 10   sec/byte =&gt; 0.1 µsec/b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1000 bytes = 100 µs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x 100 µsecs = 100 ms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522612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3400" y="3651120"/>
            <a:ext cx="674784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gram progress only halted 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at 1 ms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s @ 2 µsec per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 service @ 98 µsec each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400" y="6254640"/>
            <a:ext cx="6451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ll far from device transfer rate! 1/2 in interrupt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3280" y="233280"/>
            <a:ext cx="76359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irect Memory Acces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16200" y="25776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74720" y="339084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0844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22200" y="393660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034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5080" y="468576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29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960" y="392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31920" y="33782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81440" y="3911760"/>
            <a:ext cx="8118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98600" y="340344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75880" y="755640"/>
            <a:ext cx="4227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o 1000 xfers at 1 msec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90680" y="1073160"/>
            <a:ext cx="44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DMA set-up sequence @ 50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@ 2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service sequence @ 48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0001 second of CPU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6000" y="1536840"/>
            <a:ext cx="34923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nds a starting addr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,  and length cou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. Then issues "start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3040" y="5194440"/>
            <a:ext cx="56520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 provides handshake signals for 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, and Memory Addresses and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for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1168560" y="2273040"/>
            <a:ext cx="59688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9760" y="4260960"/>
            <a:ext cx="1644840" cy="86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75240" y="2463840"/>
            <a:ext cx="2248200" cy="391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75240" y="2946240"/>
            <a:ext cx="224820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6240" y="235584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48080" y="25588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75240" y="4533840"/>
            <a:ext cx="2248200" cy="29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386712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5240" y="5613480"/>
            <a:ext cx="2248200" cy="11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94640" y="5124600"/>
            <a:ext cx="1370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61760" y="592452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6920" y="6165720"/>
            <a:ext cx="267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11760" y="3600360"/>
            <a:ext cx="1361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02800" y="366480"/>
            <a:ext cx="763596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put/Output Processo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79640" y="116784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93280" y="1142640"/>
            <a:ext cx="5220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79640" y="2044080"/>
            <a:ext cx="6472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02200" y="110448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02200" y="162504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95360" y="2463480"/>
            <a:ext cx="4323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27000" y="1714680"/>
            <a:ext cx="227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84200" y="149868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29080" y="1473120"/>
            <a:ext cx="0" cy="2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46520" y="1041480"/>
            <a:ext cx="0" cy="18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46240" y="1295280"/>
            <a:ext cx="78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84680" y="26290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9120" y="1752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59120" y="12319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701720"/>
            <a:ext cx="25560" cy="38160"/>
          </a:xfrm>
          <a:prstGeom prst="ellipse">
            <a:avLst/>
          </a:prstGeom>
          <a:solidFill>
            <a:srgbClr val="0000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49280" y="2025720"/>
            <a:ext cx="575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15040" y="1733400"/>
            <a:ext cx="1611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0440" y="2711520"/>
            <a:ext cx="534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78120" y="3371760"/>
            <a:ext cx="60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23960" y="3479760"/>
            <a:ext cx="31752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160" y="3695760"/>
            <a:ext cx="241560" cy="20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82320" y="3371760"/>
            <a:ext cx="28234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instruction to 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s when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7160" y="3562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85200" y="45277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98680" y="4089240"/>
            <a:ext cx="6732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282320" y="4177800"/>
            <a:ext cx="74916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8760" y="3994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07880" y="44514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511280" y="3759120"/>
            <a:ext cx="2667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1523880" y="3556080"/>
            <a:ext cx="2541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65080" y="348624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7960" y="5099040"/>
            <a:ext cx="3007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to/fro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s are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IOP direc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 steals memory cy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37160" y="344160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360" y="3460680"/>
            <a:ext cx="248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Device  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7248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56920" y="2724120"/>
            <a:ext cx="1535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85440" y="2978280"/>
            <a:ext cx="1992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mnd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464160" y="2997360"/>
            <a:ext cx="47016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56400" y="3213000"/>
            <a:ext cx="25416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47880" y="3828960"/>
            <a:ext cx="358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in memory for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7160" y="454644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21680" y="4565520"/>
            <a:ext cx="255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Addr   Cnt  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8176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3092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7704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88080" y="5048280"/>
            <a:ext cx="688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35600" y="5543640"/>
            <a:ext cx="787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59520" y="5556240"/>
            <a:ext cx="73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49080" y="5048280"/>
            <a:ext cx="1078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24560" y="4851000"/>
            <a:ext cx="25380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324480" y="4851360"/>
            <a:ext cx="50760" cy="74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022880" y="4851000"/>
            <a:ext cx="22860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7670520" y="4851360"/>
            <a:ext cx="228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55260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153640" cy="34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largely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M [ IVA + interrupt number 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IVA + interrupt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 replaced by shadow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r saves registers and re-enables higher priority int'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 types reduced in number; handler must query interrup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51444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28648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shing is expensive, I/O polutes c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borrowed from shared memory multiprocessors "snooping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locked, store condit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82486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stack replaced by shadow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types reduced i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Syste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3240" y="3079800"/>
            <a:ext cx="5994720" cy="27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2748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9560" y="1251000"/>
            <a:ext cx="134640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6600" y="1333440"/>
            <a:ext cx="1243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8520" y="217188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7800" y="3086280"/>
            <a:ext cx="200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-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2089080"/>
            <a:ext cx="11174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0120" y="3848040"/>
            <a:ext cx="1002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4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88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3240" y="3689280"/>
            <a:ext cx="1194120" cy="119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74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2748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2748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924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7700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924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924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24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5210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24160" y="1834920"/>
            <a:ext cx="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243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1944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8156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3804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5040" y="3689280"/>
            <a:ext cx="134640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7228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622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2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896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89160" y="4762440"/>
            <a:ext cx="111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1360" y="4680000"/>
            <a:ext cx="1193760" cy="4316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7228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6160" y="43750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10320" y="4838760"/>
            <a:ext cx="102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75240" y="4654440"/>
            <a:ext cx="1117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25960" y="1467000"/>
            <a:ext cx="36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96160" y="1479600"/>
            <a:ext cx="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37228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2436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920" y="1193760"/>
            <a:ext cx="959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720" y="1422360"/>
            <a:ext cx="599436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echnology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03840" y="2184480"/>
            <a:ext cx="25527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ubl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;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 every 36 motn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400" y="4622760"/>
            <a:ext cx="728028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Processing Power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Memory Size Doubles Every 18 months(4X/3y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Disk Capacity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Positioning Rate (Seek + Rotate) Doubles Every Ten Yea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8120" y="4826160"/>
            <a:ext cx="9586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Technology Driv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the prevailing computing paradi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s: migration from batch to on-line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s: migration to ubiquitous comp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s in phones, books, cars, video camera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wide fiber optical network with wireless 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on storage indust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, cheaper, more reliable, lower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ut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apacity, hierarchically manag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040" y="819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6 IBM Ramac — early 1970s Winche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for mainframe computers, proprietary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dy shrink in form factor: 27 in. to 14 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s develop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5 inch floppy disk formfactor (microcode into mainfr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emergence of industry standard disk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506, SASI, SMD, ES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s and first generation work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/server compu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ed storage on file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es disk downsizing: 8 inch to 5.25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market disk drives become a re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standards: SCSI, IPI, 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 inch drives for standalone PCs, End of proprietary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3440" y="1758960"/>
            <a:ext cx="7150320" cy="317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720" y="2371680"/>
            <a:ext cx="1379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bit/sq.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60" y="3514680"/>
            <a:ext cx="1441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a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480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980s/Early 1990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s, notebooks, (palmt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 inch, 2.5 inch, (1.8 inch formfac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factor plus capacity drives market, not so much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Bandwidth improving at 40%/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d by DRAM, flash RAM in PCMCIA c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expensive, Intel promises but doesn’t del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ractive MBytes per cubic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 disk fails on performace (e.g., NEXT) but finds niche (CD R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3T16:50:33Z</dcterms:created>
  <dc:creator>David A. Patterson</dc:creator>
  <dc:description/>
  <dc:language>en-US</dc:language>
  <cp:lastModifiedBy>Randal E. Bryant</cp:lastModifiedBy>
  <cp:lastPrinted>1998-03-04T06:20:29Z</cp:lastPrinted>
  <dcterms:modified xsi:type="dcterms:W3CDTF">1998-10-21T20:38:21Z</dcterms:modified>
  <cp:revision>150</cp:revision>
  <dc:subject/>
  <dc:title>Lecture 6: Vector</dc:title>
</cp:coreProperties>
</file>