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F9399F-9D32-4C58-8E69-37BFA5E98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estor of Java had no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 vs. Periph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vs. Seco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s portable, PDA exc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106040" y="6318360"/>
            <a:ext cx="187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 Spr.‘98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CB </a:t>
            </a:r>
            <a:fld id="{0BB4A8EF-EC4B-4795-98DE-C06471ADEE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120" y="2285640"/>
            <a:ext cx="8934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12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I/O Introduction: Storage Devices, Metrics, &amp;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or David A.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His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" y="4303800"/>
            <a:ext cx="2281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,0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6760" y="4322880"/>
            <a:ext cx="245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0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3040" y="1682640"/>
            <a:ext cx="873144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54880" y="4322880"/>
            <a:ext cx="245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90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Bits per square inch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RAM as % of Disk over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733400"/>
          <a:ext cx="862488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33400"/>
                    <a:ext cx="86248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9040" y="404820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0 v. 3000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61280" y="1704960"/>
            <a:ext cx="159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 v. 22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1640" y="4809960"/>
            <a:ext cx="184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  v. 1.7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lternative Data Storage Technologies: Early 1990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7760" y="1371240"/>
            <a:ext cx="8210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PI*T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Xf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B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KByte/s) 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al Ta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ridge (.2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1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9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490 (.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8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0.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cal Scan Ta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(8m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49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se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 (4m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8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se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tic &amp; Optical Dis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Disk (5.25") 1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5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6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390  (10.5") 38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9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y MO (5.2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1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" y="2038320"/>
            <a:ext cx="767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1720" y="140328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4600" y="3556080"/>
            <a:ext cx="7785000" cy="108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7320" y="385560"/>
            <a:ext cx="794052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Devices: Magnetic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2080" y="250200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64200" y="2546280"/>
            <a:ext cx="80028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42080" y="227340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6520" y="209556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16520" y="194328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19880" y="2114640"/>
            <a:ext cx="24120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4320" y="2089080"/>
            <a:ext cx="5968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39000" y="2025720"/>
            <a:ext cx="799920" cy="216000"/>
          </a:xfrm>
          <a:prstGeom prst="ellipse">
            <a:avLst/>
          </a:prstGeom>
          <a:noFill/>
          <a:ln w="1260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699240" y="1504440"/>
            <a:ext cx="29196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640" y="1339920"/>
            <a:ext cx="83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80200" y="1187280"/>
            <a:ext cx="368280" cy="8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3480" y="1022400"/>
            <a:ext cx="735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32520" y="212724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32440" y="2127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2495520"/>
            <a:ext cx="55872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4520" y="2406600"/>
            <a:ext cx="1041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13480" y="2070000"/>
            <a:ext cx="0" cy="63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2057400"/>
            <a:ext cx="39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26080" y="2336760"/>
            <a:ext cx="29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6080" y="25272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26080" y="2743200"/>
            <a:ext cx="36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94080" y="243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3440" y="2736720"/>
            <a:ext cx="25416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74080" y="2978280"/>
            <a:ext cx="685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7520" y="2838600"/>
            <a:ext cx="36828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840" y="2774880"/>
            <a:ext cx="83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440" y="762120"/>
            <a:ext cx="4819680" cy="55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term, nonvolatile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, inexpensive, slow level in the storage hierarc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 Time (~8 ms av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al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ional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a sector per m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5-15 MB/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ga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uples every 3 years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(aerodynami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0760" y="3613320"/>
            <a:ext cx="3789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00 RPM = 120 RPS =&gt; 8 ms per r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 rot. latency = 4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 sectors per track =&gt; 0.25 ms per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KB per sector =&gt; 16 MB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294800" y="5143680"/>
            <a:ext cx="4599000" cy="1046160"/>
            <a:chOff x="4294800" y="5143680"/>
            <a:chExt cx="4599000" cy="1046160"/>
          </a:xfrm>
        </p:grpSpPr>
        <p:sp>
          <p:nvSpPr>
            <p:cNvPr id="157" name=""/>
            <p:cNvSpPr/>
            <p:nvPr/>
          </p:nvSpPr>
          <p:spPr>
            <a:xfrm>
              <a:off x="4294800" y="5143680"/>
              <a:ext cx="4599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pons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Queue + Controller + Seek + Rot + X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40560" y="5664240"/>
              <a:ext cx="1434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88120" y="5651640"/>
              <a:ext cx="1511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04600" y="5905440"/>
              <a:ext cx="14716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Device Terminolog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62080" y="1682640"/>
            <a:ext cx="6692760" cy="2489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200" y="4317840"/>
            <a:ext cx="6230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Latency = Queuing Time + Controller tim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 Time + Rotation Time + Xf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9080" y="4851360"/>
            <a:ext cx="5337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r of magnitude times for 4K byte transf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15160" y="5219640"/>
            <a:ext cx="309384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: 8 m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e: 4.2 ms @ 7200 r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fer: 1 ms @ 7200 r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dvantages of Small Formfactor Disk Driv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6000" y="1625760"/>
            <a:ext cx="3720960" cy="284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165560" y="1714680"/>
            <a:ext cx="4813200" cy="4635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5760" y="4616280"/>
            <a:ext cx="2176200" cy="102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/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/wa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/Act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2200" y="5962680"/>
            <a:ext cx="41454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 and Environmental Effici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S 252 Administriv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13906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March 4 Quiz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zza at LaVal’s 8:30 – 10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URL of initial project home page to 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share some knowledge gained with other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faculty, TA to make suggesto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“report” will be a 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 access to cs.berkeley for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events in CS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-Mar  Fri I/O 2: Queuing Theory and Bu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-Mar Wed  I/O 3: Tertiary Storage &amp; Network In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ar  Fri Networks 2: Interface, Switches, Ro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-Mar to 27-Mar Spring Br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19440" y="392040"/>
            <a:ext cx="5781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ape vs. Disk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" y="1193760"/>
            <a:ext cx="840060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itudinal tape uses same technology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disk; tracks its density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head flies above surface, tape head lies on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fixed, tape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ent cost-performance based on geome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 rotating platters with ga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andom access, limited area, 1 media / rea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able long strips  wound on s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quential access, "unlimited" length,  multiple / rea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echnology tre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al Scan (VCR, Camcoder, DA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s head at angle to tape to improv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520" y="595080"/>
            <a:ext cx="78836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urrent Drawbacks to Tap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 wear o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ical 100s of passes to 1000s for longitudin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wear out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 hours for hel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must be accounted for in economic / reliability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rewind, eject, load, spin-up times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inherent, just no need in marketplace (so f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 for archi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6560" y="428760"/>
            <a:ext cx="718488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utomated Cartridge System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19000" y="2244600"/>
            <a:ext cx="172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C 4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6560" y="4185720"/>
            <a:ext cx="7035840" cy="16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  x   0.8 GB 3490 tapes = 5 TBytes in 1992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00,000 O.E.M.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  x 10 GB  D3 tapes =  60  TBytes in 1998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f Congress: all information in the world; in 1992, ASCII of all books = 30 TB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90960" y="1657440"/>
            <a:ext cx="2492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86280" y="1898640"/>
            <a:ext cx="0" cy="12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7080" y="2959200"/>
            <a:ext cx="2492640" cy="368280"/>
          </a:xfrm>
          <a:prstGeom prst="ellipse">
            <a:avLst/>
          </a:prstGeom>
          <a:solidFill>
            <a:srgbClr val="5eb2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1800" y="190008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3760" y="1790640"/>
            <a:ext cx="0" cy="1225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62680" y="2187720"/>
            <a:ext cx="105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b209"/>
                </a:solidFill>
                <a:latin typeface="Arial"/>
              </a:rPr>
              <a:t>8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3492360"/>
            <a:ext cx="2482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3597120"/>
            <a:ext cx="125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b209"/>
                </a:solidFill>
                <a:latin typeface="Arial"/>
              </a:rPr>
              <a:t>10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17100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otivation: Who Cares About I/O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048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Performance: 60%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system performance limited by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chanical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delays (disk I/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&lt; 10% per year (IO per sec or MB per se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ahl's Law: system speed-up limited by the slowest par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 IO &amp;    10x CPU =&gt;   5x Performanc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lose 50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 IO &amp;  100x CPU =&gt; 10x Performanc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lose 90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ttleneck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minishing fraction of time in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minishing value of faster CP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ibrary vs. Storag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books today as quaint as the way I learned to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ch cards, batch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der thru shelves, anticipatory purcha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1 per book to check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0 for a catalogue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 of all books never checked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only journal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 can transform camp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have lecture on getting electron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3614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ve Cost of Storage Technology—Late 1995/Early 199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906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ic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1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12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3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98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2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3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1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7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3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4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58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33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cal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6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695+1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41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499+18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39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MCIA 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R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0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75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 R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.0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3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2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5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6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0.50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0840" y="19008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I/O Performan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73080" y="5715000"/>
            <a:ext cx="536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 = Queue + Device 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32280" y="2768760"/>
            <a:ext cx="1474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36200" y="3854520"/>
            <a:ext cx="583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048280" y="1206360"/>
            <a:ext cx="0" cy="261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60880" y="3809880"/>
            <a:ext cx="287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37200" y="1238400"/>
            <a:ext cx="1218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96800" y="4133880"/>
            <a:ext cx="1477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% total B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03320" y="377820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960" y="286380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49960" y="210168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9960" y="133992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84200" y="3930480"/>
            <a:ext cx="384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213520" y="3263760"/>
            <a:ext cx="1041120" cy="17784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280200" y="3035160"/>
            <a:ext cx="355680" cy="2541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661080" y="2577600"/>
            <a:ext cx="432000" cy="4827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118280" y="1892160"/>
            <a:ext cx="432000" cy="7113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575480" y="1587240"/>
            <a:ext cx="127080" cy="33012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41720" y="4762440"/>
            <a:ext cx="4546440" cy="806400"/>
            <a:chOff x="2241720" y="4762440"/>
            <a:chExt cx="4546440" cy="806400"/>
          </a:xfrm>
        </p:grpSpPr>
        <p:sp>
          <p:nvSpPr>
            <p:cNvPr id="213" name=""/>
            <p:cNvSpPr/>
            <p:nvPr/>
          </p:nvSpPr>
          <p:spPr>
            <a:xfrm>
              <a:off x="2241720" y="4908600"/>
              <a:ext cx="812520" cy="660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7680" y="51436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9280" y="5060880"/>
              <a:ext cx="7365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8616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13388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90000" y="4762440"/>
              <a:ext cx="811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798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60880" y="4984920"/>
              <a:ext cx="58428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60520" y="51436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514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12640" y="51436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70720" y="5276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9320" y="5060880"/>
              <a:ext cx="888840" cy="43200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59160" y="1351080"/>
            <a:ext cx="263448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sponse Time vs.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467000"/>
            <a:ext cx="8134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environment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nteraction o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ransa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3 par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Entry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for user to enter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System Respons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between user entry &amp; system rep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Think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from response until user begins next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st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nd trans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ransaction time as shrink system response time from 1.0 sec to 0.3 sec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Keyboard: 4.0 sec entry, 9.4 sec think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Graphics:  0.25 sec entry, 1.6 sec think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368440" y="3873600"/>
            <a:ext cx="3168720" cy="577800"/>
            <a:chOff x="2368440" y="3873600"/>
            <a:chExt cx="3168720" cy="577800"/>
          </a:xfrm>
        </p:grpSpPr>
        <p:sp>
          <p:nvSpPr>
            <p:cNvPr id="230" name=""/>
            <p:cNvSpPr/>
            <p:nvPr/>
          </p:nvSpPr>
          <p:spPr>
            <a:xfrm>
              <a:off x="2368440" y="3873600"/>
              <a:ext cx="1570320" cy="577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51360" y="3873600"/>
              <a:ext cx="511200" cy="5778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89560" y="3873600"/>
              <a:ext cx="1047600" cy="577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549760" y="4483080"/>
            <a:ext cx="3168720" cy="577800"/>
            <a:chOff x="5549760" y="4483080"/>
            <a:chExt cx="3168720" cy="577800"/>
          </a:xfrm>
        </p:grpSpPr>
        <p:sp>
          <p:nvSpPr>
            <p:cNvPr id="234" name=""/>
            <p:cNvSpPr/>
            <p:nvPr/>
          </p:nvSpPr>
          <p:spPr>
            <a:xfrm>
              <a:off x="5549760" y="4483080"/>
              <a:ext cx="1570320" cy="577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32680" y="4483080"/>
              <a:ext cx="511200" cy="5778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70880" y="4483080"/>
              <a:ext cx="1047600" cy="577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49160" y="800280"/>
            <a:ext cx="7480440" cy="44067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980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sponse Time &amp;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09520" y="4876560"/>
            <a:ext cx="88264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sec off response saves 4.9 sec (34%) and 2.0 sec (70%) total time per transaction =&gt; greater produ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tudy: everyone gets more done with faster response, but novice with fast response = expert with s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2854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Time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1440" y="1466640"/>
            <a:ext cx="843948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size is 8K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ed average seek is 12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 spins at 7200 R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ate is 4 MB/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r overhead is 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disk is idle so no queuing d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verage Disk Access Time for a Se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 seek + ave rot delay + transfer time + controller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ms + 0.5/(7200 RPM/60) + 8 KB/4 MB/s + 2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+ 4.15 + 2 + 2 = 2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seek time assumes no locality: typically 1/4 to 1/3 advertised seek time: 20 ms =&gt; 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pped I/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Control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Controll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, Access Time, Bandwid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880" y="538200"/>
            <a:ext cx="76932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/O Interfa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800" y="1727280"/>
            <a:ext cx="2354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pendent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56160" y="13140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98600" y="2101680"/>
            <a:ext cx="15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3320" y="164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8080" y="264744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38920" y="264744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14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59120" y="2114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09720" y="33969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940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19480" y="33969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6520" y="2914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327320"/>
            <a:ext cx="0" cy="73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147960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24960" y="131400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84600" y="1479600"/>
            <a:ext cx="520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0120" y="1689120"/>
            <a:ext cx="1014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7880" y="2610000"/>
            <a:ext cx="3675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erate I/O instructions (in,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82960" y="415872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400" y="497196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00480" y="448956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60800" y="551772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640" y="551772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81360" y="498492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02200" y="498492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52440" y="626688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81360" y="581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62200" y="626688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89240" y="58230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6760" y="550512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0080" y="49593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7120" y="4222800"/>
            <a:ext cx="3279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s distinguish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and memory 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5280" y="4495680"/>
            <a:ext cx="2030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o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amp;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3360" y="5124600"/>
            <a:ext cx="11804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E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bus-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59880" y="4870440"/>
            <a:ext cx="194256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Mbyte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IP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s the 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286680" y="4838400"/>
            <a:ext cx="77436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61120" y="5702400"/>
            <a:ext cx="66024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8400" y="504828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orage System Issues: 1.5 wee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2840" y="500040"/>
            <a:ext cx="813132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Memory Mapped I/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63920" y="1549440"/>
            <a:ext cx="3202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ngle Memory &amp; I/O B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Separate I/O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03600" y="13140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040" y="212724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20760" y="164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1440" y="267300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02280" y="267300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2000" y="21398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22840" y="21398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73080" y="34221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2000" y="2965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82840" y="34221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97828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7400" y="266004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11464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18040" y="1816200"/>
            <a:ext cx="236232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18040" y="245124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07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24520" y="3060720"/>
            <a:ext cx="2349360" cy="749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43520" y="201312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43880" y="2622600"/>
            <a:ext cx="64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6920" y="3943440"/>
            <a:ext cx="43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42560" y="3948840"/>
            <a:ext cx="22644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68560" y="425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51400" y="3625920"/>
            <a:ext cx="502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4720" y="3594240"/>
            <a:ext cx="736560" cy="660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68560" y="5092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1040" y="5562720"/>
            <a:ext cx="187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9240" y="4844880"/>
            <a:ext cx="484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4720" y="4737240"/>
            <a:ext cx="7365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34680" y="5226120"/>
            <a:ext cx="1195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560" y="6057000"/>
            <a:ext cx="81036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5748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45960" y="6057000"/>
            <a:ext cx="119412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 Ada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276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3856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55627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35240" y="5276880"/>
            <a:ext cx="90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2400" y="709560"/>
            <a:ext cx="847404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Programmed I/O (Polling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91000" y="177768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6560" y="2590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08160" y="21081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5000" y="313632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9520" y="26290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7880" y="388584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3429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44920" y="312372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08240" y="25779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59400" y="2235960"/>
            <a:ext cx="875880" cy="75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73880" y="3428640"/>
            <a:ext cx="609120" cy="5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73880" y="4482720"/>
            <a:ext cx="685080" cy="5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02256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8440" y="3987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78440" y="50418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40280" y="1701720"/>
            <a:ext cx="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1040" y="543564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16520" y="186696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927320" y="1879560"/>
            <a:ext cx="9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91040" y="312408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81920" y="3156120"/>
            <a:ext cx="50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47520" y="2851200"/>
            <a:ext cx="40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6680" y="5137200"/>
            <a:ext cx="81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78440" y="544824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21960" y="5175360"/>
            <a:ext cx="40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07480" y="5505480"/>
            <a:ext cx="50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58880" y="2241720"/>
            <a:ext cx="22489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 wait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n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 to use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ess the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very fa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23400" y="3879720"/>
            <a:ext cx="21362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hecks for I/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ion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ersed am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v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1360" y="366480"/>
            <a:ext cx="83786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nterrupt Driven Data Transfer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1000" y="92016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6560" y="173340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8160" y="12510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65000" y="227916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9520" y="177156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87880" y="302832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257184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44920" y="226656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08240" y="172080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11880" y="933480"/>
            <a:ext cx="0" cy="34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946080"/>
            <a:ext cx="0" cy="347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75960" y="990720"/>
            <a:ext cx="5068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12254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14540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37440" y="99684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24480" y="16826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24480" y="19112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99280" y="2152800"/>
            <a:ext cx="1231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3390840"/>
            <a:ext cx="63504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24480" y="342252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6133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24480" y="384192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11880" y="40705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37440" y="42991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39680" y="4444920"/>
            <a:ext cx="101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72400" y="1333440"/>
            <a:ext cx="10540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81960" y="1009800"/>
            <a:ext cx="21600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556400" y="1809360"/>
            <a:ext cx="203400" cy="34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70680" y="920880"/>
            <a:ext cx="228600" cy="17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045120" y="1149480"/>
            <a:ext cx="25416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70680" y="1263600"/>
            <a:ext cx="203040" cy="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70320" y="1390680"/>
            <a:ext cx="22860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1504800"/>
            <a:ext cx="2034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1682640"/>
            <a:ext cx="167652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57160" y="1460520"/>
            <a:ext cx="1067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79600" y="1720800"/>
            <a:ext cx="121932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8160" y="2197080"/>
            <a:ext cx="1357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save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37240" y="24447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29640" y="2921040"/>
            <a:ext cx="1471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84880" y="3397320"/>
            <a:ext cx="914400" cy="10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11360" y="3556080"/>
            <a:ext cx="10677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0" y="3435480"/>
            <a:ext cx="38124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556400" y="4197240"/>
            <a:ext cx="3938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5803920" y="3879360"/>
            <a:ext cx="520560" cy="34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816520" y="2152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842080" y="1809720"/>
            <a:ext cx="45720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1280" y="403848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7840" y="5378400"/>
            <a:ext cx="7933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xfer rate = 10 MBytes/sec =&gt; 0 .1 x 10   sec/byte =&gt; 0.1 µsec/by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1000 bytes = 100 µs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transfers x 100 µsecs = 100 ms = 0.1 CPU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522612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3400" y="3651120"/>
            <a:ext cx="674784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gram progress only halted 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transfers at 1 ms e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interrupts @ 2 µsec per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interrupt service @ 98 µsec each = 0.1 CPU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0400" y="6254640"/>
            <a:ext cx="6451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ll far from device transfer rate! 1/2 in interrupt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3280" y="233280"/>
            <a:ext cx="763596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Direct Memory Acces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16200" y="25776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74720" y="339084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0844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22200" y="393660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034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5080" y="468576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29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8960" y="392400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31920" y="337824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81440" y="3911760"/>
            <a:ext cx="81180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98600" y="340344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75880" y="755640"/>
            <a:ext cx="4227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do 1000 xfers at 1 msec e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90680" y="1073160"/>
            <a:ext cx="44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DMA set-up sequence @ 50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nterrupt @ 2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nterrupt service sequence @ 48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0001 second of CPU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6000" y="1536840"/>
            <a:ext cx="34923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nds a starting addres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,  and length coun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. Then issues "start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3040" y="5194440"/>
            <a:ext cx="56520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 provides handshake signals for 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, and Memory Addresses and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 for Mem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1168560" y="2273040"/>
            <a:ext cx="59688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29760" y="4260960"/>
            <a:ext cx="1644840" cy="86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75240" y="2463840"/>
            <a:ext cx="2248200" cy="391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75240" y="2946240"/>
            <a:ext cx="2248200" cy="48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6240" y="235584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48080" y="255888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75240" y="4533840"/>
            <a:ext cx="2248200" cy="29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86600" y="3867120"/>
            <a:ext cx="64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5240" y="5613480"/>
            <a:ext cx="2248200" cy="11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94640" y="5124600"/>
            <a:ext cx="1370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61760" y="5924520"/>
            <a:ext cx="81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6920" y="6165720"/>
            <a:ext cx="267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11760" y="3600360"/>
            <a:ext cx="1361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02800" y="366480"/>
            <a:ext cx="763596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nput/Output Processo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79640" y="116784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93280" y="1142640"/>
            <a:ext cx="52200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79640" y="2044080"/>
            <a:ext cx="6472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02200" y="1104480"/>
            <a:ext cx="4186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02200" y="1625040"/>
            <a:ext cx="4186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95360" y="2463480"/>
            <a:ext cx="4323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27000" y="1714680"/>
            <a:ext cx="227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84200" y="149868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29080" y="1473120"/>
            <a:ext cx="0" cy="2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46520" y="1041480"/>
            <a:ext cx="0" cy="18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46240" y="1295280"/>
            <a:ext cx="78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84680" y="26290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59120" y="1752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59120" y="123192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1701720"/>
            <a:ext cx="25560" cy="38160"/>
          </a:xfrm>
          <a:prstGeom prst="ellipse">
            <a:avLst/>
          </a:prstGeom>
          <a:solidFill>
            <a:srgbClr val="0000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49280" y="2025720"/>
            <a:ext cx="575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15040" y="1733400"/>
            <a:ext cx="1611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50440" y="2711520"/>
            <a:ext cx="534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78120" y="3371760"/>
            <a:ext cx="609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23960" y="3479760"/>
            <a:ext cx="31752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9160" y="3695760"/>
            <a:ext cx="241560" cy="20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82320" y="3371760"/>
            <a:ext cx="28234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 instruction to 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s when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7160" y="35622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85200" y="4527720"/>
            <a:ext cx="101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98680" y="4089240"/>
            <a:ext cx="6732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1282320" y="4177800"/>
            <a:ext cx="749160" cy="5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88760" y="39942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07880" y="44514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511280" y="3759120"/>
            <a:ext cx="2667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1523880" y="3556080"/>
            <a:ext cx="2541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65080" y="348624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7960" y="5099040"/>
            <a:ext cx="30078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to/from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s are cont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IOP direc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 steals memory cy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37160" y="3441600"/>
            <a:ext cx="2514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360" y="3460680"/>
            <a:ext cx="248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   Device  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3441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72480" y="3441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56920" y="2724120"/>
            <a:ext cx="1535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85440" y="2978280"/>
            <a:ext cx="1992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mnd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464160" y="2997360"/>
            <a:ext cx="47016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556400" y="3213000"/>
            <a:ext cx="25416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47880" y="3828960"/>
            <a:ext cx="358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in memory for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37160" y="4546440"/>
            <a:ext cx="2514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21680" y="4565520"/>
            <a:ext cx="255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   Addr   Cnt  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8176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3092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7704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88080" y="5048280"/>
            <a:ext cx="688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35600" y="5543640"/>
            <a:ext cx="787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59520" y="5556240"/>
            <a:ext cx="736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49080" y="5048280"/>
            <a:ext cx="1078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524560" y="4851000"/>
            <a:ext cx="25380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324480" y="4851360"/>
            <a:ext cx="50760" cy="74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7022880" y="4851000"/>
            <a:ext cx="22860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7670520" y="4851360"/>
            <a:ext cx="228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552600"/>
            <a:ext cx="9131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90040" y="1275840"/>
            <a:ext cx="8153640" cy="34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instructions have largely disappe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vectors have been replaced by jump tab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&lt;- M [ IVA + interrupt number ]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&lt;- IVA + interrupt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 replaced by shadow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r saves registers and re-enables higher priority int'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 types reduced in number; handler must query interrup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514440"/>
            <a:ext cx="9131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28648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s required for processor performance cause problems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shing is expensive, I/O polutes ca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borrowed from shared memory multiprocessors "snooping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 frustrates D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 at odds with atom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locked, store conditio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ful processors hard to context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57160" y="129528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industry growing rapidly, improv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40%/yr 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l density 60%/year, $/MB fas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+ controller + seek + rotate +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average seek time benchmark much greater than average seek time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 vs. Bandwidth 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faster response ti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sec off response saves 4.9 sec and 2.0 sec (70%) total time per transaction =&gt; greater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one gets more done with faster response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novice with fast response = expert with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: today peripheral processors, DMA, I/O bus,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080" y="1352520"/>
            <a:ext cx="82486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instructions have disappe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vectors have been replaced by jump 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stack replaced by shadow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types reduced in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s required for processor performance cause problems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 frustrates D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 at odds with atom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ful processors hard to context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Syste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3240" y="3079800"/>
            <a:ext cx="5994720" cy="27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27480" y="4756320"/>
            <a:ext cx="584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79560" y="1251000"/>
            <a:ext cx="134640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6600" y="1333440"/>
            <a:ext cx="1243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08520" y="2171880"/>
            <a:ext cx="81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7800" y="3086280"/>
            <a:ext cx="200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-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5880" y="2089080"/>
            <a:ext cx="11174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0120" y="3848040"/>
            <a:ext cx="1002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48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4880" y="483876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03240" y="3689280"/>
            <a:ext cx="1194120" cy="119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27480" y="3689280"/>
            <a:ext cx="134604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27480" y="51372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27480" y="46800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9240" y="4756320"/>
            <a:ext cx="584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77000" y="483876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9240" y="51372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89240" y="46800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241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5210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24160" y="1834920"/>
            <a:ext cx="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243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1944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8156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3804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75040" y="3689280"/>
            <a:ext cx="134640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37228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6228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9280" y="3689280"/>
            <a:ext cx="134604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8961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89160" y="4762440"/>
            <a:ext cx="111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51360" y="4680000"/>
            <a:ext cx="1193760" cy="4316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7228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96160" y="43750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10320" y="4838760"/>
            <a:ext cx="102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75240" y="4654440"/>
            <a:ext cx="1117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25960" y="1467000"/>
            <a:ext cx="36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96160" y="1479600"/>
            <a:ext cx="0" cy="15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372280" y="1454040"/>
            <a:ext cx="0" cy="16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924360" y="1454040"/>
            <a:ext cx="0" cy="16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920" y="1193760"/>
            <a:ext cx="959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720" y="1422360"/>
            <a:ext cx="5994360" cy="2882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echnology Tren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03840" y="2184480"/>
            <a:ext cx="255276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ubl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e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;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 every 36 motn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400" y="4622760"/>
            <a:ext cx="728028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Processing Power Doubles Every 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Memory Size Doubles Every 18 months(4X/3y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Disk Capacity Doubles Every 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Positioning Rate (Seek + Rotate) Doubles Every Ten Yea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58120" y="4826160"/>
            <a:ext cx="9586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orage Technology Drive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n by the prevailing computing paradig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0s: migration from batch to on-line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0s: migration to ubiquitous comp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s in phones, books, cars, video camera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wide fiber optical network with wireless 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 on storage indust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dded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, cheaper, more reliable, lower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ut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capacity, hierarchically manag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istorical Perspectiv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040" y="8190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6 IBM Ramac — early 1970s Winche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for mainframe computers, proprietary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ady shrink in form factor: 27 in. to 14 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0s develop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5 inch floppy disk formfactor (microcode into mainfra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emergence of industry standard disk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506, SASI, SMD, ESD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198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s and first generation work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 198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/server compu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ed storage on file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es disk downsizing: 8 inch to 5.25 i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market disk drives become a re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y standards: SCSI, IPI, 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 inch drives for standalone PCs, End of proprietary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His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3440" y="1758960"/>
            <a:ext cx="7150320" cy="3173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720" y="2371680"/>
            <a:ext cx="13791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bit/sq. 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60" y="3514680"/>
            <a:ext cx="1441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a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04800" y="4989600"/>
            <a:ext cx="2286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7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62440" y="4989600"/>
            <a:ext cx="2286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7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,3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istorical Perspectiv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980s/Early 1990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tops, notebooks, (palmtop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 inch, 2.5 inch, (1.8 inch formfact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factor plus capacity drives market, not so much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 Bandwidth improving at 40%/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d by DRAM, flash RAM in PCMCIA c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expensive, Intel promises but doesn’t del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ractive MBytes per cubic i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cal disk fails on performace (e.g., NEXT) but finds niche (CD RO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3T16:50:33Z</dcterms:created>
  <dc:creator>David A. Patterson</dc:creator>
  <dc:description/>
  <dc:language>en-US</dc:language>
  <cp:lastModifiedBy>Randal E. Bryant</cp:lastModifiedBy>
  <cp:lastPrinted>1998-03-04T06:20:29Z</cp:lastPrinted>
  <dcterms:modified xsi:type="dcterms:W3CDTF">1998-10-21T20:38:21Z</dcterms:modified>
  <cp:revision>150</cp:revision>
  <dc:subject/>
  <dc:title>Lecture 6: Vector</dc:title>
</cp:coreProperties>
</file>