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54880" y="652788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fld id="{06A57C5D-6B3F-4287-9233-90ED72C37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87600" y="1905120"/>
            <a:ext cx="6045120" cy="109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amming with Thread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pril 30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34880" y="3111480"/>
            <a:ext cx="52578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37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eed for synchron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chronizing with semaph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chronizing with mutex and condition vari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safety and reentra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ces and dead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11.5-11.8, 12.6 (Beta) 13.3-13.8 (New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11.1 (Beta), 13.24 (New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execution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rrect ordering: two threads increment the counter, but the result is 1 instead of 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1932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1932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193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193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193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193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193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193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193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193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44800" y="26575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44800" y="29289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448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448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448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448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448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448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448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48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94200" y="26575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94200" y="29289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942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942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942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942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42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942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942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942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8312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8312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831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831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831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831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831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831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831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41200" y="22856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6160" y="22849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4360" y="23014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8400" y="22849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77080" y="22849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25640" y="51951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execution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about this order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1932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1932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1932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1932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1932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1932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1932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1932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1932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1932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44800" y="2048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44800" y="2319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44800" y="2581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4800" y="2852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44800" y="3114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4800" y="3386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44800" y="3648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4800" y="3919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4800" y="4181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44800" y="4452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94200" y="2048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94200" y="2319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94200" y="2581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94200" y="2852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4200" y="3114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4200" y="3386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94200" y="3648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4200" y="3919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94200" y="4181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94200" y="4452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8312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8312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8312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8312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8312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8312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8312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8312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312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8312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41200" y="167616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6160" y="167544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4360" y="1692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8400" y="167544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5288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5288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288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77080" y="167544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3520" y="524196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clarify our understanding of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on with the help of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gress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92440" y="228600"/>
            <a:ext cx="3759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ess graph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31000" y="1009440"/>
            <a:ext cx="307944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gress grap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pi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scre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 sp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n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axis correspond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quential ord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in a thre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oint correspond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ssib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ecution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n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(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denotes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 thread 1 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d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has completed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66040" y="1218960"/>
            <a:ext cx="5361840" cy="4513320"/>
            <a:chOff x="266040" y="1218960"/>
            <a:chExt cx="5361840" cy="4513320"/>
          </a:xfrm>
        </p:grpSpPr>
        <p:sp>
          <p:nvSpPr>
            <p:cNvPr id="264" name=""/>
            <p:cNvSpPr/>
            <p:nvPr/>
          </p:nvSpPr>
          <p:spPr>
            <a:xfrm>
              <a:off x="811080" y="5375160"/>
              <a:ext cx="380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811080" y="1534680"/>
              <a:ext cx="0" cy="384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72360" y="536148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69680" y="5361480"/>
              <a:ext cx="369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9520" y="536148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86640" y="536148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12760" y="5361480"/>
              <a:ext cx="369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7400" y="4802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6200" y="4107240"/>
              <a:ext cx="369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7400" y="338652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8200" y="270576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0080" y="1986480"/>
              <a:ext cx="369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20560" y="4657680"/>
              <a:ext cx="360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85560" y="4645080"/>
              <a:ext cx="378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84320" y="464508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89200" y="464508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85800" y="4645080"/>
              <a:ext cx="3636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20560" y="3957480"/>
              <a:ext cx="360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85560" y="3944880"/>
              <a:ext cx="378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84320" y="3944880"/>
              <a:ext cx="360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89200" y="3944880"/>
              <a:ext cx="360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85800" y="3944880"/>
              <a:ext cx="3636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20560" y="324180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85560" y="3241800"/>
              <a:ext cx="378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84320" y="324180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9200" y="324180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85800" y="3241800"/>
              <a:ext cx="3636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20560" y="253692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85560" y="2536920"/>
              <a:ext cx="378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84320" y="253692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9200" y="253692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85800" y="2536920"/>
              <a:ext cx="3636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20560" y="1849320"/>
              <a:ext cx="360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85560" y="1836720"/>
              <a:ext cx="378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84320" y="183672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89200" y="183672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85800" y="1836720"/>
              <a:ext cx="3636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02960" y="520668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read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040" y="12189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read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99640" y="2176920"/>
              <a:ext cx="817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L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34960" y="535320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72960" y="5349960"/>
              <a:ext cx="3780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87560" y="5349960"/>
              <a:ext cx="3600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92080" y="5349960"/>
              <a:ext cx="3636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89040" y="5349960"/>
              <a:ext cx="3780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6680" y="464508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0200" y="3944880"/>
              <a:ext cx="3636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0200" y="3244680"/>
              <a:ext cx="3636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0200" y="2527200"/>
              <a:ext cx="3636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6680" y="1830240"/>
              <a:ext cx="360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0200" y="5349960"/>
              <a:ext cx="3636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79640" y="228600"/>
            <a:ext cx="6984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jectories in progress graph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23720" y="1410120"/>
            <a:ext cx="325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ajecto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legal state transi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describes one possi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t execu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a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, L1, U1, H2, L2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1, T1, U2, S2, 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9240" y="532440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849240" y="1483920"/>
            <a:ext cx="0" cy="384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10880" y="53107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97120" y="531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33240" y="53107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50720" y="53107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76480" y="531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5920" y="47901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4720" y="40946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5920" y="33865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6720" y="26546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8600" y="1986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59080" y="46069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24080" y="459432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27520" y="45943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27360" y="45943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24320" y="45943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59080" y="390672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24080" y="389412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22480" y="38941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27360" y="38941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324320" y="38941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59080" y="319104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24080" y="319104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22480" y="31910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27360" y="31910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24320" y="31910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59080" y="248616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24080" y="248616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22480" y="24861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27360" y="24861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24320" y="24861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59080" y="179856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24080" y="178596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22480" y="17859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27360" y="17859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24320" y="17859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1120" y="51559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200" y="11682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60520" y="530208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36680" y="5299200"/>
            <a:ext cx="38160" cy="37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38320" y="5299200"/>
            <a:ext cx="36720" cy="37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43200" y="5299200"/>
            <a:ext cx="36720" cy="37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14960" y="5299200"/>
            <a:ext cx="37800" cy="37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5200" y="45943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8720" y="38941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8720" y="319392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8720" y="247644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5200" y="177948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8720" y="5299200"/>
            <a:ext cx="36360" cy="37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68320" y="5326200"/>
            <a:ext cx="611280" cy="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88960" y="5326200"/>
            <a:ext cx="73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2760" y="5326200"/>
            <a:ext cx="655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954160" y="4643280"/>
            <a:ext cx="0" cy="6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944800" y="3933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73240" y="3911760"/>
            <a:ext cx="6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64080" y="3911760"/>
            <a:ext cx="655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344840" y="323352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344840" y="251892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344840" y="181908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4280" y="228600"/>
            <a:ext cx="7975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itical sections and unsafe reg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97600" y="1244520"/>
            <a:ext cx="299088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, U, and S form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itical sec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ect to the 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in cr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s (wrt to 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variable) shou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be interlea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of states where s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leaving occ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safe reg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19240" y="2603520"/>
            <a:ext cx="2095560" cy="2019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5720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357200" y="1534680"/>
            <a:ext cx="0" cy="384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9364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7952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1600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33120" y="53614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924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83880" y="48153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12680" y="41202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83880" y="34120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94680" y="26802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06560" y="20116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67040" y="463536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32040" y="4635360"/>
            <a:ext cx="381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30440" y="463536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35320" y="463536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32280" y="464508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67040" y="395748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32040" y="3944880"/>
            <a:ext cx="381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30440" y="394488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35320" y="394488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32280" y="394488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67040" y="324180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32040" y="324180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440" y="324180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35320" y="324180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32280" y="324180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67040" y="25369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32040" y="253692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30440" y="25369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35320" y="25369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32280" y="25369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67040" y="184932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32040" y="183672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30440" y="18367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35320" y="18367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32280" y="18367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49080" y="52066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12160" y="12189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68480" y="535320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4640" y="534996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27560" y="5349960"/>
            <a:ext cx="363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151160" y="5349960"/>
            <a:ext cx="3672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32280" y="534996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43160" y="464508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36680" y="394488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336680" y="324468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336680" y="252720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43160" y="183024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36680" y="5349960"/>
            <a:ext cx="363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08680" y="3425400"/>
            <a:ext cx="153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safe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76240" y="2577960"/>
            <a:ext cx="241200" cy="2070360"/>
          </a:xfrm>
          <a:custGeom>
            <a:avLst/>
            <a:gdLst>
              <a:gd name="textAreaLeft" fmla="*/ 154080 w 241200"/>
              <a:gd name="textAreaRight" fmla="*/ 241560 w 241200"/>
              <a:gd name="textAreaTop" fmla="*/ 54000 h 2070360"/>
              <a:gd name="textAreaBottom" fmla="*/ 2016360 h 207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2971800" y="4749840"/>
            <a:ext cx="241200" cy="2070000"/>
          </a:xfrm>
          <a:custGeom>
            <a:avLst/>
            <a:gdLst>
              <a:gd name="textAreaLeft" fmla="*/ 154080 w 241200"/>
              <a:gd name="textAreaRight" fmla="*/ 241560 w 24120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09800" y="587664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207600"/>
            <a:ext cx="94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60520" y="228600"/>
            <a:ext cx="6222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and unsafe traject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8360" y="1473120"/>
            <a:ext cx="299088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jectory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f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f it doesn’t  touch a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of an unsafe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aim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jectory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 (wr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iff it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057400" y="2476440"/>
            <a:ext cx="2095560" cy="2019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95360" y="524844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5360" y="1407960"/>
            <a:ext cx="0" cy="384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31800" y="52344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17680" y="52344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54160" y="52344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71280" y="52344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97400" y="52344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22040" y="46882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050840" y="39931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22040" y="32850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32840" y="25531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044720" y="188496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04840" y="45086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0200" y="450864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8600" y="45086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73480" y="45086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70440" y="451800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04840" y="38307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70200" y="3817800"/>
            <a:ext cx="381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68600" y="381780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73480" y="381780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70440" y="381780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04840" y="31147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770200" y="311472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468600" y="31147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73480" y="31147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70440" y="31147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04840" y="24098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70200" y="240984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68600" y="24098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73480" y="24098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70440" y="240984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04840" y="172260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70200" y="1709640"/>
            <a:ext cx="381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468600" y="170964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73480" y="170964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70440" y="170964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187240" y="50796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0320" y="10918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06640" y="52261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82800" y="522288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65360" y="5222880"/>
            <a:ext cx="3672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89320" y="5222880"/>
            <a:ext cx="3672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70440" y="522288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0960" y="451800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74840" y="381780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4840" y="311796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74840" y="240048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80960" y="17035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74840" y="5222880"/>
            <a:ext cx="363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27480" y="2589840"/>
            <a:ext cx="136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safe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14440" y="5237280"/>
            <a:ext cx="58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62080" y="5237280"/>
            <a:ext cx="712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03680" y="523728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487680" y="4548240"/>
            <a:ext cx="0" cy="68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487680" y="3879360"/>
            <a:ext cx="1800" cy="62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890960" y="24364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890960" y="1730520"/>
            <a:ext cx="0" cy="69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397160" y="4575240"/>
            <a:ext cx="0" cy="65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1397160" y="3858840"/>
            <a:ext cx="0" cy="66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2017440" y="2441520"/>
            <a:ext cx="6120" cy="70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052720" y="2438280"/>
            <a:ext cx="70956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19360" y="1727280"/>
            <a:ext cx="64152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33960" y="1727280"/>
            <a:ext cx="64116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390680" y="3173400"/>
            <a:ext cx="0" cy="64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24800" y="257976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sa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04160" y="182520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fe 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76240" y="2463840"/>
            <a:ext cx="241200" cy="2070000"/>
          </a:xfrm>
          <a:custGeom>
            <a:avLst/>
            <a:gdLst>
              <a:gd name="textAreaLeft" fmla="*/ 154080 w 241200"/>
              <a:gd name="textAreaRight" fmla="*/ 241560 w 24120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6200000">
            <a:off x="2971440" y="4635000"/>
            <a:ext cx="241560" cy="2070000"/>
          </a:xfrm>
          <a:custGeom>
            <a:avLst/>
            <a:gdLst>
              <a:gd name="textAreaLeft" fmla="*/ 154440 w 241560"/>
              <a:gd name="textAreaRight" fmla="*/ 241920 w 24156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09800" y="576216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093120"/>
            <a:ext cx="94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17920" y="383544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374840" y="312912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16320" y="382896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890960" y="3162240"/>
            <a:ext cx="1800" cy="62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795760" y="2438280"/>
            <a:ext cx="70956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484440" y="1708200"/>
            <a:ext cx="6480" cy="70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03320" y="228600"/>
            <a:ext cx="7137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ing with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w can we guarantee a safe trajector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u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ynchroniz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ads so that they never enter an unsafe st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assic solu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ijkstra's P and V operations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mapho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maphor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n-negative integer synchronization vari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s): [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 == 0) wait(); s--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ch for "Proberen" (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s): [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++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ch for "Verhogen" (incr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guarantees that operations between brackets [ ] are executed indivisib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e P or V operation at a time can modify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op in P terminates, only that P can decrement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phore invariant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 &gt;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06360" y="228600"/>
            <a:ext cx="6731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haring with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88080" y="1380960"/>
            <a:ext cx="31050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mutually exclusive access to shared variable by surrounding critical section with  P and V operations on semaph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nitially set to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aphore invari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s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bidde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encloses unsafe region and is ne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ed by any traject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22400" y="2638440"/>
            <a:ext cx="1728720" cy="16826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040" y="5557680"/>
            <a:ext cx="459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671400" y="1203120"/>
            <a:ext cx="0" cy="43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6440" y="5518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81600" y="5535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732840" y="5535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14680" y="55188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69800" y="58384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1520" y="88236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65400" y="4943520"/>
            <a:ext cx="3312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68400" y="4943520"/>
            <a:ext cx="3492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75000" y="4943520"/>
            <a:ext cx="3312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79800" y="4943520"/>
            <a:ext cx="3168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684600" y="4943520"/>
            <a:ext cx="3348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040" y="4943520"/>
            <a:ext cx="3168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87960" y="4943520"/>
            <a:ext cx="3312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94200" y="4943520"/>
            <a:ext cx="3168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65400" y="4354560"/>
            <a:ext cx="3312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68400" y="4354560"/>
            <a:ext cx="3492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75000" y="4354560"/>
            <a:ext cx="3312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79800" y="4354560"/>
            <a:ext cx="3168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84600" y="4354560"/>
            <a:ext cx="3348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040" y="4354560"/>
            <a:ext cx="3168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87960" y="4354560"/>
            <a:ext cx="3312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94200" y="4354560"/>
            <a:ext cx="3168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65400" y="376380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68400" y="3763800"/>
            <a:ext cx="349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75000" y="376380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79800" y="376380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84600" y="3763800"/>
            <a:ext cx="334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62040" y="376380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87960" y="376380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94200" y="376380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65400" y="317484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68400" y="3174840"/>
            <a:ext cx="349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475000" y="317484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079800" y="317484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84600" y="3174840"/>
            <a:ext cx="334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62040" y="317484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87960" y="317484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94200" y="317484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265400" y="2585880"/>
            <a:ext cx="3312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868400" y="2585880"/>
            <a:ext cx="3492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475000" y="2585880"/>
            <a:ext cx="3312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79800" y="2585880"/>
            <a:ext cx="3168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84600" y="2585880"/>
            <a:ext cx="3348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2040" y="2585880"/>
            <a:ext cx="3168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87960" y="2585880"/>
            <a:ext cx="3312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94200" y="2585880"/>
            <a:ext cx="3168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400" y="5535720"/>
            <a:ext cx="3312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68400" y="5533920"/>
            <a:ext cx="3492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473200" y="5533920"/>
            <a:ext cx="3348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78000" y="5533920"/>
            <a:ext cx="3348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81360" y="5533920"/>
            <a:ext cx="3492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2040" y="5533920"/>
            <a:ext cx="3168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286160" y="5533920"/>
            <a:ext cx="3492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92760" y="5533920"/>
            <a:ext cx="3312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65400" y="199548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868400" y="1995480"/>
            <a:ext cx="349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73200" y="1995480"/>
            <a:ext cx="334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79800" y="199548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83160" y="199548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040" y="199548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86160" y="1995480"/>
            <a:ext cx="334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92760" y="199548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65400" y="140652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68400" y="1406520"/>
            <a:ext cx="349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73200" y="1406520"/>
            <a:ext cx="334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79800" y="140652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83160" y="140652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2040" y="140652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86160" y="1406520"/>
            <a:ext cx="334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92760" y="140652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06640" y="55188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85880" y="5518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98240" y="5518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6640" y="5037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9760" y="44827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9760" y="21362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7520" y="15008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28320" y="3870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96640" y="3308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7440" y="2702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116440" y="3328560"/>
            <a:ext cx="1443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afe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832040" y="2557440"/>
            <a:ext cx="1900080" cy="18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40040" y="2241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bidden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9720" y="5307840"/>
            <a:ext cx="4559400" cy="276480"/>
            <a:chOff x="639720" y="5307840"/>
            <a:chExt cx="4559400" cy="276480"/>
          </a:xfrm>
        </p:grpSpPr>
        <p:sp>
          <p:nvSpPr>
            <p:cNvPr id="606" name=""/>
            <p:cNvSpPr/>
            <p:nvPr/>
          </p:nvSpPr>
          <p:spPr>
            <a:xfrm>
              <a:off x="6397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29348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105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02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787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968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142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3308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72840" y="4661640"/>
            <a:ext cx="4560120" cy="276480"/>
            <a:chOff x="672840" y="4661640"/>
            <a:chExt cx="4560120" cy="276480"/>
          </a:xfrm>
        </p:grpSpPr>
        <p:sp>
          <p:nvSpPr>
            <p:cNvPr id="615" name=""/>
            <p:cNvSpPr/>
            <p:nvPr/>
          </p:nvSpPr>
          <p:spPr>
            <a:xfrm>
              <a:off x="6728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262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436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9300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129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303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4736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669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67248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32660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1880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6024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9520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40632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4772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6692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752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32984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2384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7140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08880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40632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5096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96836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752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2984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8568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6816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556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40632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5096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6836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248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32660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89504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32056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93796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0632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34772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6692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672840" y="1777320"/>
            <a:ext cx="4560120" cy="276480"/>
            <a:chOff x="672840" y="1777320"/>
            <a:chExt cx="4560120" cy="276480"/>
          </a:xfrm>
        </p:grpSpPr>
        <p:sp>
          <p:nvSpPr>
            <p:cNvPr id="656" name=""/>
            <p:cNvSpPr/>
            <p:nvPr/>
          </p:nvSpPr>
          <p:spPr>
            <a:xfrm>
              <a:off x="67284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2660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94400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933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1125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7299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473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6692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672840" y="1159560"/>
            <a:ext cx="4560120" cy="276480"/>
            <a:chOff x="672840" y="1159560"/>
            <a:chExt cx="4560120" cy="276480"/>
          </a:xfrm>
        </p:grpSpPr>
        <p:sp>
          <p:nvSpPr>
            <p:cNvPr id="665" name=""/>
            <p:cNvSpPr/>
            <p:nvPr/>
          </p:nvSpPr>
          <p:spPr>
            <a:xfrm>
              <a:off x="67284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2660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4400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933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125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299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3473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96692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43920" y="5864400"/>
            <a:ext cx="8038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400120" y="228600"/>
            <a:ext cx="43434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X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66720" y="1065960"/>
            <a:ext cx="7495920" cy="462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initialize semaphore sem to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shared=0 if thread, pshared=1 if proc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em_init(sem_t *sem, int pshared, unsigned int valu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init(sem, pshared, value) &lt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Sem_ini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 operation on semaphore s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P(sem_t *se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wait(se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V operation on semaphore s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V(sem_t *se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post(se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V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65160" y="228600"/>
            <a:ext cx="7213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aring with POSIX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04840" y="1023840"/>
            <a:ext cx="4773600" cy="5403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goodcnt.c - properly sync’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er progra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em, 0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nt != (unsigned)NITERS*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BOOM! cnt=%d\n", 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OK cnt=%d\n", 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1054080"/>
            <a:ext cx="3838320" cy="292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160" y="228600"/>
            <a:ext cx="9067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ared variables in threaded C progra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 Which variables  in a threaded C program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nswer is not as simple as “global variables are shared” and “stack variables are private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answers to the following ques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memory model for thread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re variables mapped to memory instanc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threads reference each of these instanc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49440" y="228600"/>
            <a:ext cx="6045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aling with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54160" y="2514600"/>
            <a:ext cx="87120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synchronization patter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r waits for slot, inserts item in buffer, and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gnal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sum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 waits for item, removes it from buffer, and “signals” produc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” in this context has nothing to do with Unix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media process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 creates MPEG video frames, consumer renders the fr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-driven graphical user inte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 detects mouse clicks, mouse movements, and keyboard hits and inserts corresponding events in buff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retrieves events from buffer and paints the disp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828800" y="1098720"/>
            <a:ext cx="5486400" cy="1110960"/>
            <a:chOff x="1828800" y="1098720"/>
            <a:chExt cx="5486400" cy="1110960"/>
          </a:xfrm>
        </p:grpSpPr>
        <p:sp>
          <p:nvSpPr>
            <p:cNvPr id="682" name=""/>
            <p:cNvSpPr/>
            <p:nvPr/>
          </p:nvSpPr>
          <p:spPr>
            <a:xfrm>
              <a:off x="1828800" y="1098720"/>
              <a:ext cx="1218960" cy="1108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62160" y="1371600"/>
              <a:ext cx="1219320" cy="533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a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3047760" y="1599840"/>
              <a:ext cx="91440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5181480" y="1599840"/>
              <a:ext cx="91440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095880" y="1101600"/>
              <a:ext cx="1219320" cy="1108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70080" y="228600"/>
            <a:ext cx="6603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-consumer (1-buffer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50840" y="1392480"/>
            <a:ext cx="3716280" cy="3650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buf1.c - producer-consu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on 1-element buff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producer(void *ar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sumer(void *ar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buf; /* shared va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full; /* sem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empt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shar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211640" y="1372320"/>
            <a:ext cx="4813560" cy="462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_produc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_consum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initialize the semaphore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hared.empty, 0, 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hared.full,  0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create threads and wa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_producer, NUL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_consumer, NUL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um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_produc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_consum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38360" y="228600"/>
            <a:ext cx="5867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-consum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04520" y="1927080"/>
            <a:ext cx="3594600" cy="413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roducer th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producer(void *ar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roduce it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 =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duced %d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write item to bu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hared.empt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ared.buf =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hared.f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47920" y="1926360"/>
            <a:ext cx="3594600" cy="389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consumer th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nsumer(void *ar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read item from bu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hared.f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 = shared.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hared.empt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consume it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onsumed %d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28280" y="1143000"/>
            <a:ext cx="31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ly:  empty = 1, full =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5943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phores are sound and fundamental, but they have limit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to broadcast a signal to a group of thre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rrier synchronizatio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hread returns from the barrier function until every other thread has called the barrier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ssible to do timeout wait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wait for at most 1 second for a condition to become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se we must use Pthread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t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 variab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8580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ing with mutex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44600" y="1498320"/>
            <a:ext cx="82548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phores can be used for two different kinds of synchroniz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e sharing (e.g.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odcnt.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ing (e.g.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dcons.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threads interface provides two different mechanisms for these func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e sharing: operations on mutex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ing: operations on condition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i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operations on mutex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31640" y="1980720"/>
            <a:ext cx="7328160" cy="6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marL="129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izes a mutex variab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with some attributes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5080" indent="-128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ributes are usually NUL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5080" indent="-128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initializing a mutex semaphore to 1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46040" y="1107720"/>
            <a:ext cx="6154560" cy="730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thread_mutex_init(pthread_mutex_t *mutex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mutexattr_t *at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80880" y="3860640"/>
            <a:ext cx="720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205920" indent="-205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sibly waits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be unlocked and then locks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520" indent="-204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(mut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94560" y="3223440"/>
            <a:ext cx="5789160" cy="48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thread_mutex_lock(pthread_mutex_t *mute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3840" y="5549760"/>
            <a:ext cx="72007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205920" indent="-205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ock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te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520" indent="-204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(mut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07880" y="4925160"/>
            <a:ext cx="6032880" cy="48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thread_mutex_unlock(pthread_mutex_t *mute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120760" y="228600"/>
            <a:ext cx="490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safe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s called from a thread must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read-saf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identify four (non-disjoint) classes of thread-unsafe func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1: Failing to protect shared variab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2: Relying on persistent state across invoc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3: Returning a pointer to a static vari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4: Calling thread-unsafe fun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841400" y="228600"/>
            <a:ext cx="5461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unsafe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1: Failing to protect shared variab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: use Pthreads lock/unlock functions or P/V oper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: synchronization operations will slow down cod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odcnt.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422360" y="228600"/>
            <a:ext cx="6299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safe function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011480" cy="548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2:  Relying on persistent state across multiple function invo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_read(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 called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lin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ffers input in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ra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: Rewrite function so that caller passes in all necessary st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475880" y="1756800"/>
            <a:ext cx="4448160" cy="194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size_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_read(int fd, char *p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int read_c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char *read_pt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char *read_buf[MAXLINE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475520" y="4318920"/>
            <a:ext cx="4204080" cy="121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size_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_read_r(Rline *rptr, char *p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22360" y="228600"/>
            <a:ext cx="6299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safe function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8560" y="914040"/>
            <a:ext cx="4089240" cy="44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3: Returning a pointer to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ewrite so caller passes pointer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: Requires changes in caller and call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“Lock-and-cop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: Requires only simple changes in caller (and none in  calle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caller must free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497480" y="3237840"/>
            <a:ext cx="3838320" cy="48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p = Malloc(...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hostbyname1_r(name, host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471920" y="1008360"/>
            <a:ext cx="3716280" cy="170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10800" y="4094640"/>
            <a:ext cx="4325760" cy="2433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_ts(char *nam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q = Malloc(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mutex_lock(&amp;mut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= gethostbyname(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q = 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mutex_unlock(&amp;mut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975120" y="3454560"/>
            <a:ext cx="480960" cy="26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251160" y="4165560"/>
            <a:ext cx="1204920" cy="85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30320" y="228600"/>
            <a:ext cx="52833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memory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ual mode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hread runs in the context of a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hread has its own separa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read contex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ID, stack, stack pointer, program counter, condition codes, and general purpose regi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reads share the remaining process contex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, data, heap, and shared library segments of the process virtual address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files and installed hand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ally, this model is not strictly enforc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register values are truly separate and protected.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thread can read and write the stack of any other threa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match between the conceptual and operation model is a source of confusion and err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120760" y="228600"/>
            <a:ext cx="490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safe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4: Calling thread-unsafe func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ing one thread-unsafe function makes an entire function thread-unsaf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lin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lls the thread-unsaf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_read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, it is also thread_unsa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: Modify the function so it calls only thread-safe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line_r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thread-safe ver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lin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calls the thread-saf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_read_r(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349360" y="228600"/>
            <a:ext cx="4445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entrant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0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8000"/>
          </a:bodyPr>
          <a:p>
            <a:pPr marL="107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unction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entr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it accesses NO shared variables when called from multiple threa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-10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ntrant functions are a proper subset of the set of thread-safe fun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-10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The fixes to Class 2 and 3 thread-unsafe functions require modifying the function to make it reentra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335320" y="3517920"/>
            <a:ext cx="1523880" cy="1143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ent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38440" y="252684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8120" y="2832120"/>
            <a:ext cx="2514600" cy="19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392720" y="2832120"/>
            <a:ext cx="2514600" cy="19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91680" y="3441600"/>
            <a:ext cx="157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-unsa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425680" y="2832120"/>
            <a:ext cx="132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-sa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359000" y="228600"/>
            <a:ext cx="6426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safe library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16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functions in the Standard C Library (at the back of your K&amp;R text) are thread-saf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Unix system calls are thread-safe, with a few excep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114560" y="2696760"/>
            <a:ext cx="6750000" cy="246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-unsaf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ntrant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et_nto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35440" y="228600"/>
            <a:ext cx="1473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ccurs when the correctness of the program depends on one thread reaching point x before another thread reaches point 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301760" y="2172960"/>
            <a:ext cx="6342120" cy="413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a threaded program with a rac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[N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[i], NULL, thread, &amp;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[i]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yid = *((int *)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Hello from thread %d\n", my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498680" y="3733920"/>
            <a:ext cx="9144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492360" y="228600"/>
            <a:ext cx="2159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785880" y="1653840"/>
            <a:ext cx="0" cy="384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85880" y="54943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482840" y="5443560"/>
            <a:ext cx="0" cy="12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73560" y="5443560"/>
            <a:ext cx="612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20040" y="5560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87000" y="5560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25400" y="4556160"/>
            <a:ext cx="12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25400" y="2850840"/>
            <a:ext cx="12708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1240" y="26506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463280" y="56304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0480" y="1337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496880" y="2031840"/>
            <a:ext cx="1868760" cy="170208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400" y="5985000"/>
            <a:ext cx="169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ly, s=t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23560" y="4352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411280" y="2870280"/>
            <a:ext cx="1868760" cy="170172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421000" y="5481720"/>
            <a:ext cx="612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157120" y="5560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287960" y="5506920"/>
            <a:ext cx="612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24080" y="5560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89920" y="2120040"/>
            <a:ext cx="1294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bid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 for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01800" y="3898080"/>
            <a:ext cx="1249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bid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 for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25400" y="3718080"/>
            <a:ext cx="12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00880" y="3514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725400" y="1999800"/>
            <a:ext cx="12708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8560" y="18000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311560" y="3746520"/>
            <a:ext cx="8892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97360" y="1797120"/>
            <a:ext cx="117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2450880" y="2286000"/>
            <a:ext cx="162540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737320" y="1177920"/>
            <a:ext cx="31050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ing introduces 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adlock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ing for a condition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never be tr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trajectory that 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adlock reg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ually reach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adlock s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aiting for eith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become nonz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rajectories luck out and skirt the deadlock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fortunate fac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dlock is often non-determinist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40160" y="228600"/>
            <a:ext cx="4063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s provide another mechanism for writing concurrent progra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s are growing in popula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what cheaper than proces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share data between thre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e ease of sharing has a cos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introduce subtle synchronization erro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ad carefully with thread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ore inf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Butenhof, “Programming with Posix Threads”, Addison-Wesley, 1997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1080" y="228240"/>
            <a:ext cx="680724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of threads access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other thread’s st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00" y="1651320"/>
            <a:ext cx="3716280" cy="4380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*ptr;  /* globa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msgs[N] =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Hello from foo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Hello from ba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r = msg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2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L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rea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void *)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exit(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79040" y="1636560"/>
            <a:ext cx="4326120" cy="219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yid = (int)varg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int c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[%d]: %s (cnt=%d)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id, ptr[myid], ++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36480" y="4311720"/>
            <a:ext cx="4582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er threads access main thread’s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irectly through global ptr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931000" y="3606840"/>
            <a:ext cx="520560" cy="673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5240" y="228600"/>
            <a:ext cx="8813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pping variables to memory insta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00" y="1994040"/>
            <a:ext cx="3716280" cy="4380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*ptr;  /* globa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msgs[N] =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Hello from foo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Hello from ba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r = msg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2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L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rea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void *)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exit(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06120" y="3389400"/>
            <a:ext cx="4326120" cy="219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yid = (int)varg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int c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[%d]: %s (cnt=%d)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id, ptr[myid], ++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680" y="930240"/>
            <a:ext cx="394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v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data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397160" y="1244520"/>
            <a:ext cx="380880" cy="78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72560" y="5985000"/>
            <a:ext cx="44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cal static v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data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286680" y="4584600"/>
            <a:ext cx="304560" cy="134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47720" y="1450800"/>
            <a:ext cx="55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cal automatic va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.m, msgs.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641320" y="1752480"/>
            <a:ext cx="1701720" cy="1650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73840" y="1956240"/>
            <a:ext cx="4149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cal automatic va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2 instances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id.p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peer thread 0’s stack],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id.p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peer thread 1’s sta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905440" y="2882880"/>
            <a:ext cx="533520" cy="132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41400" y="228600"/>
            <a:ext cx="5461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ared variable analy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variables are shar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0280" y="1630080"/>
            <a:ext cx="7241400" cy="246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d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er thread 0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er thread 1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.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gs.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id.p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id.p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4600" y="4610160"/>
            <a:ext cx="8254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5000"/>
          </a:bodyPr>
          <a:p>
            <a:pPr marL="123120" indent="-123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 A variable x is shared iff multiple threads reference at least one  instance of x. Th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81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sha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81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NOT sha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4320" y="228240"/>
            <a:ext cx="877536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badcnt.c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An improperly synchronize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ed pro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8200" y="1399320"/>
            <a:ext cx="4326120" cy="462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cnt = 0; /* share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1, NUL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2, NUL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1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2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nt != (unsigned)NITERS*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BOOM! cnt=%d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OK cnt=%d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84560" y="1379880"/>
            <a:ext cx="3594600" cy="170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unt(void *ar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0000" y="3238920"/>
            <a:ext cx="2497320" cy="2040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bad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M! ctr=1988411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bad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M! ctr=1982618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bad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M! ctr=1982696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64920" y="5317920"/>
            <a:ext cx="329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t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l to 200,000,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nt wrong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15920" y="228600"/>
            <a:ext cx="7112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mbly code for counter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33880" y="2201400"/>
            <a:ext cx="4552920" cy="374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L9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-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$99999999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e .L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mp .L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L1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ctr,%eax      #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l 1(%eax),%edx  #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%edx,ctr      #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L1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-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l 1(%eax)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%edx,-4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mp .L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L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75160" y="152352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sponding asm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cc -O0 -fforce-me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13160"/>
            <a:ext cx="3200400" cy="58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tr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2186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code for counter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6040" y="22096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4840" y="2571480"/>
            <a:ext cx="115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 (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89720" y="4846320"/>
            <a:ext cx="96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il 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30480" y="44956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33880" y="3492360"/>
            <a:ext cx="4552920" cy="12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33880" y="4470480"/>
            <a:ext cx="4552920" cy="25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67200" y="3523320"/>
            <a:ext cx="1728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 ctr (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ctr (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ctr (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33880" y="568944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6320" y="228600"/>
            <a:ext cx="4851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idea: In general, any sequentially consistent interleaving is possible, but some are incorrec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notes that thread i executes instruction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contents of %eax in thread i’s con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02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02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02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02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02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02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02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02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0200" y="5324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0200" y="5595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653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653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653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653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653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653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653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653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6532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6532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147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147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147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147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147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147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147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147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1472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1472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3568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3568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3568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3568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3568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3568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3568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3568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3568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3568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61720" y="27428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27040" y="27421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26920" y="275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38920" y="27421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54720" y="5728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6080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6080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6080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6080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6080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6080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6080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6080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6080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080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85000" y="27421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E. Bryant</dc:creator>
  <dc:description/>
  <dc:language>en-US</dc:language>
  <cp:lastModifiedBy>Gregory Kesden</cp:lastModifiedBy>
  <cp:lastPrinted>2001-12-05T02:03:15Z</cp:lastPrinted>
  <dcterms:modified xsi:type="dcterms:W3CDTF">2002-04-30T08:17:12Z</dcterms:modified>
  <cp:revision>573</cp:revision>
  <dc:subject/>
  <dc:title>Floating Point</dc:title>
</cp:coreProperties>
</file>