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93040" y="652788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021254F8-54BF-418A-AA84-4DAD1F2D76D2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3080" y="1904760"/>
            <a:ext cx="4394160" cy="2135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Serve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ril 25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919680"/>
            <a:ext cx="5257800" cy="15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0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mitations of iterative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-based concurrent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s-based concurrent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t-based concurrent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11.1-11.4 (Beta) or 13.1-13.5 (New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280" y="334800"/>
            <a:ext cx="904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s and cons of process-based de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Handles multiple connections concurr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Clean shar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ors (n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tables (y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variables (n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Simple and straightforwar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dditional overhead for process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ontrivial to share data between proce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IPC (interprocess communication) mechanis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O’s (named pipes),  System V shared memory and semaph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reads provide more efficient flows with easier sharing of data between the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0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ditional view of a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95800" y="328788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580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95800" y="386064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6828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95800" y="414972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4600" y="1431720"/>
            <a:ext cx="7632720" cy="58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= process context + code, data, and s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28680" y="2806200"/>
            <a:ext cx="2511000" cy="237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2264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95800" y="44704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9580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9580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95800" y="265896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9660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37240" y="298440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7788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462276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09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37240" y="386064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9976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28600"/>
            <a:ext cx="6045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ernate view of a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40400" y="266688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40400" y="298620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40400" y="324000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128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40400" y="35290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4240" y="1431720"/>
            <a:ext cx="7861320" cy="58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= thread + code, data, and kernel con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7720" y="3597120"/>
            <a:ext cx="2511000" cy="134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09960" y="213300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40400" y="384984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40400" y="41544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95320" y="297180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6120" y="3092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36760" y="327672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2480" y="3820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68880" y="400212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05560" y="3071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2400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19200" y="2133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20760" y="4797720"/>
            <a:ext cx="1948680" cy="112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77760" y="2666880"/>
            <a:ext cx="3581640" cy="2743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54080" y="228600"/>
            <a:ext cx="7035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cess with multiple 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2240" y="3081240"/>
            <a:ext cx="223020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32240" y="3400560"/>
            <a:ext cx="223020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32240" y="3654360"/>
            <a:ext cx="223020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1480" y="472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32240" y="394344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8520" y="4011480"/>
            <a:ext cx="2085840" cy="134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1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13720" y="25902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32240" y="426420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32240" y="456876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1720" y="3386160"/>
            <a:ext cx="188604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25902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1 (main th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12240" y="5090400"/>
            <a:ext cx="1892160" cy="137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1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181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threads can be associated with a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has its own logical control flow (sequence of PC valu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shares the same code, data, and kernel con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has its own thread id (TI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89800" y="4011480"/>
            <a:ext cx="2085840" cy="134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2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73680" y="3386160"/>
            <a:ext cx="188604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96480" y="259020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2 (peer th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5181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ical view of 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3080" y="914040"/>
            <a:ext cx="8496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s associated with a process form a pool of pe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ike processes which form a tree hierarc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45268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329076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405288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290988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095520" y="367200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405288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405288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29400" y="3747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367200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48150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4510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557676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52722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306216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202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2452680"/>
            <a:ext cx="3809880" cy="2819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360" y="198036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s associated with process 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25290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27576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466236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5864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19360"/>
            <a:ext cx="190512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code,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kernel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905120" y="4128840"/>
            <a:ext cx="304560" cy="533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352320" y="4129200"/>
            <a:ext cx="22860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523520" y="3443400"/>
            <a:ext cx="38124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438280" y="29858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657600" y="3138480"/>
            <a:ext cx="45720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84200" y="228600"/>
            <a:ext cx="6375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thread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26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thread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n concurrent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 concurren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their logical flows overlap in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wise, they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quenti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: A &amp; B, A&amp;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tial: B &amp;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22640" y="297180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63760" y="403704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312264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65080" y="25891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88960" y="25891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12840" y="25891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37240" y="34290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61480" y="40384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13360" y="44197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61480" y="50292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42756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56160" y="44197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56160" y="502920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56160" y="56386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56160" y="40384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56160" y="31240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044800" y="228600"/>
            <a:ext cx="50544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vs.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hreads and processes are simi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has its own logical control fl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can run concurrent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is context switc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hreads and processes are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s share code and data, processes (typically) do no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s are somewhat less expensive than proces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rol (creating and reaping) is twice as expensive as thread control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/Pentium III numb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K cycles to create and reap a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K cycles to create and reap a threa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99920" y="228600"/>
            <a:ext cx="7543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x threads (Pthreads) interf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thread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ndard interface for ~60 functions that manipulate threads from C progra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nd reaping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cre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jo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ing your thread 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sel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ing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canc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e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[terminates all threads] 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erminates current thread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izing access to shared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mutex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mutex_[un]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cond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cond_[timed]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20560" y="228600"/>
            <a:ext cx="8105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threads "hello, world" pro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9680" y="1188000"/>
            <a:ext cx="5667120" cy="496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6000" y="1876680"/>
            <a:ext cx="1890720" cy="58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4920" y="2867040"/>
            <a:ext cx="1946880" cy="58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72760" y="4378320"/>
            <a:ext cx="1340640" cy="58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038480" y="22446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790960" y="3159000"/>
            <a:ext cx="10666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733920" y="4149720"/>
            <a:ext cx="31240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77520" y="228600"/>
            <a:ext cx="5994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ution of “hello, world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76560" y="1370880"/>
            <a:ext cx="147600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86960" y="2602800"/>
            <a:ext cx="142416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2057400"/>
            <a:ext cx="19080" cy="341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24800" y="32608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98960" y="3550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95480" y="2438280"/>
            <a:ext cx="3829320" cy="822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00" y="3504600"/>
            <a:ext cx="28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wait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  thread to term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914560" y="3870360"/>
            <a:ext cx="381024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9160" y="50288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040" y="2209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Pthread_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8120" y="29718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Pthread_jo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4419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_join() retu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80960" y="31996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03640" y="380988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er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9400" y="25146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_create() retu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6320" y="334800"/>
            <a:ext cx="3632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rative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ve servers process one request at a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195640"/>
            <a:ext cx="0" cy="351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1120" y="1600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2195640"/>
            <a:ext cx="0" cy="351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0800" y="16002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2195640"/>
            <a:ext cx="0" cy="351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80840" y="1600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220824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7120" y="20574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5040" y="2133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9400" y="24112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09320" y="243684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67984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22960" y="26668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33000" y="20574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419720" y="2286000"/>
            <a:ext cx="213336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7280" y="27655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22240" y="2921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209320" y="312408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50480" y="31194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22240" y="3244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16960" y="3473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9080" y="36259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3809880"/>
            <a:ext cx="213336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419720" y="4038480"/>
            <a:ext cx="213336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33000" y="37782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32280" y="41590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32280" y="4572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31920" y="49528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26640" y="4387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4267080"/>
            <a:ext cx="213336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16440" y="4038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572000"/>
            <a:ext cx="2133360" cy="166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26640" y="4768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6960" y="334800"/>
            <a:ext cx="8331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based concurrent echo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3640" y="1254240"/>
            <a:ext cx="8471160" cy="496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 (SA *) 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5080" y="334800"/>
            <a:ext cx="8534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42000" y="1600200"/>
            <a:ext cx="6642720" cy="301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onnfd = *((int *)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detach(pthread_self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_r(connfd); /* reentrant version of echo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21960" y="334800"/>
            <a:ext cx="7340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sues with thread-based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run “detached” to avoid memory lea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ny point in time, a thread is ei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oin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tac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oin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read can be reaped and killed by other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be reaped (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 free memory resourc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tach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cannot be reaped or killed by other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s are automatically reaped on termin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ault state is join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detach(pthread_self()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make detac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careful to avoid unintended shar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, what happens if we pass the address of connfd to the thread routin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create(&amp;tid, NULL, thread, (void *)&amp;connfd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functions called by a thread must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read-saf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next lectu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334800"/>
            <a:ext cx="8686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s and cons of thread-based de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4600" y="99036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Easy to share data structures between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logging information, file cach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hreads are more efficient than proce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 Unintentional sharing can introduce subtle and hard-to-reproduce error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ase with which data can be shared is both the greatest strength and the greatest weakness of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next lectu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36440" y="334800"/>
            <a:ext cx="7111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vent-based approach to concurrenc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 pool of connected descripto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the following fore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Uni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 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tion to block unti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new connection request arrives on the listening descrip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new data arrives on an existing connected descrip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a), add the new connection to the pool of conne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b), read any available data from the conn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 connection on EOF and remove it from the poo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an event-based server is akin to implementing your own application-specific threads pack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00480" y="334800"/>
            <a:ext cx="4402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elect(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255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sleeps until one or more file descriptors in the se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ready for reading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6480" y="1905120"/>
            <a:ext cx="827892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ys/select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elect(int maxfdp1, fd_set *readset, NULL, NULL, 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309096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aque bit vector (max FD_SETSIZE bits) that indica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hip 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criptor se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bit k is 1, then descriptor k is a member of  the descriptor 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fd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descriptor in descriptor set plus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s descriptors 0, 1, 2, ..., maxfdp1 - 1 for set members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0240" y="5638680"/>
            <a:ext cx="82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eturns the number of ready descriptors and sets each bit 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indicate the ready status of its corresponding descrip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2800" y="334800"/>
            <a:ext cx="8839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ros for manipulating set descrip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D_ZERO(fd_set *fdse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off all bits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D_SET(int fd, fd_set *fdse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on b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D_CLR(int fd, fd_set *fdse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off b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D_ISSET(int fd, *fdse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b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urned 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653920" y="334800"/>
            <a:ext cx="3878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62200" y="1066680"/>
            <a:ext cx="7617600" cy="447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main loop: wait for connection request or stdin comm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If connection request, then echo input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and close connection. If stdin command, then proces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notdon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select: check if the user typed something to stdin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if a connection request arri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ZERO(&amp;readfds);          /* initialize the fd s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(listenfd, &amp;readfds); /* add socket f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(0, &amp;readfds);        /* add stdin fd (0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ect(listenfd+1, &amp;readfds, NULL, NULL, NULL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028600" y="334800"/>
            <a:ext cx="5127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ample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we check for a pending event on std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3800" y="1676520"/>
            <a:ext cx="8349120" cy="447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if the user has typed a command, process 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D_ISSET(0, &amp;readfds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gets(buf, BUFSIZE, std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 (buf[0]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 'c': /* print the connection cou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Received %d conn. requests so far.\n", connect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 'q': /* terminate the serv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tdon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ault: /* bad inpu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ERROR: unknown command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28600" y="334800"/>
            <a:ext cx="5127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ample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we check for a pending connection reque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05720" y="1752480"/>
            <a:ext cx="8105400" cy="301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if a connection request has arrived, process 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D_ISSET(listenfd, &amp;readfds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truct sockaddr *) 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buf, BUF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n(connfd, buf, BUF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n(connfd, buf, strlen(buf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/* while *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" y="334800"/>
            <a:ext cx="8991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undamental flaw of iterative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4600" y="5020920"/>
            <a:ext cx="8470800" cy="115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urrent serve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e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 servers use multiple concurrent flows to serve multiple clients at the same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147780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61120" y="103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47780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70800" y="1035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47780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80840" y="103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70640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7120" y="1555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5040" y="1415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2600" y="24829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9400" y="19494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9320" y="193500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17800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2960" y="2146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33000" y="2603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419720" y="2787480"/>
            <a:ext cx="213336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6400" y="2374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4240" y="2900520"/>
            <a:ext cx="17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ype i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5280" y="3259080"/>
            <a:ext cx="213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2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to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conn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until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22040" y="25588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65200" y="334800"/>
            <a:ext cx="8051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echo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5640" y="930240"/>
            <a:ext cx="8105400" cy="496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choservers.c - A concurrent echo server based on selec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BUFSIZE 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(int 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ortn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len = sizeof(struct sockaddr_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 allset; /* descriptor set for selec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 rset;   /* copy of allset for selec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xfd;     /* max descriptor value for selec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[FD_SETSIZE]; /* pool of connected descriptor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xi;      /* highwater index into client poo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ready;    /* number of ready descriptors from select */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sockfd; /* misc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0440" y="334800"/>
            <a:ext cx="8254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64840" y="1179360"/>
            <a:ext cx="7008120" cy="471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heck command line arg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no = atoi(argv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open the listening sock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n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initialize the pool of active client connection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 = -1;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fd = liste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 FD_SETSIZE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[i] =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ZERO(&amp;alls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(listenfd, &amp;alls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1520" y="334800"/>
            <a:ext cx="8255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32040" y="1600200"/>
            <a:ext cx="7740000" cy="179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ain server loop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set = alls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Wait until one or more descriptors are ready to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ready = Select(maxfd+1, &amp;rset, NULL, NULL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1520" y="334800"/>
            <a:ext cx="8255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6400" y="885960"/>
            <a:ext cx="7008480" cy="56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PART I: a new connection request has arrived, 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a new connected descriptor to the poo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D_ISSET(listenfd, &amp;rset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truct_sockaddr *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ready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pdate the client poo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FD_SETSIZE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lient[i]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[i] = conn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i == FD_SETSIZ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_error("Too many clients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pdate the read descriptor s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(connfd, &amp;alls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onnfd &gt; maxf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fd = con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i &gt; max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 = i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1520" y="334800"/>
            <a:ext cx="8255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6000" y="1371600"/>
            <a:ext cx="7495920" cy="374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PART II: check the pool of connected descriptors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 data to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(i &lt;= maxi) &amp;&amp; (nready &gt; 0)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fd = client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sockfd &gt; 0) &amp;&amp; (FD_ISSET(sockfd, &amp;rset))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sock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sock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CLR(sockfd, &amp;alls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[i] = 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ready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/* f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/* while(1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/* mai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77720" y="33480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 and cons of event-based de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One logical control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Can single step with a debugg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No process or thread control overhe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of choice for high-performance Web servers and search engin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gnificantly more complex to code than process- or thread-based desig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an be vulnerable to denial of service at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20640" y="334800"/>
            <a:ext cx="43434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2043000"/>
            <a:ext cx="0" cy="446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27960" y="1600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043000"/>
            <a:ext cx="0" cy="3170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70800" y="16002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2089080"/>
            <a:ext cx="0" cy="441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68160" y="1600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241720"/>
            <a:ext cx="2666880" cy="196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0" y="21207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5040" y="19810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2920" y="3537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5880" y="25146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676520" y="2500200"/>
            <a:ext cx="2666880" cy="1224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698920"/>
            <a:ext cx="2667240" cy="210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2960" y="27115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20320" y="20131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19360" y="2165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3240" y="29401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505320" y="3232080"/>
            <a:ext cx="9144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3537000"/>
            <a:ext cx="0" cy="297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21880" y="3079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6600" y="3094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686040"/>
            <a:ext cx="15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 user to type i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22960" y="34290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3765600"/>
            <a:ext cx="2971800" cy="152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20320" y="36892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419360" y="3917880"/>
            <a:ext cx="2971800" cy="152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22960" y="40705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4760" y="3994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4040" y="4419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4603680"/>
            <a:ext cx="9144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4419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490860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93680" y="493704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3120" y="4451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333760" y="4603680"/>
            <a:ext cx="205740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4520" y="55944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5746680"/>
            <a:ext cx="20574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4400" y="48006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4400" y="5867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4040" y="6172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4520" y="594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8320" y="51372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urrent  servers handle multiple requests concurrent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6104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basic mechanisms for creating  concurrent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4600" y="14396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provides multiple control flows with separate address spac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Unix process control and signa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provides multiple control flows (threads) running in one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has its own stack and register valu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reads share the same address space and open fi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X threads (Pthreads) interfa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I/O multiplexing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ally interleave the processing of multiple open conne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Uni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 to notice pending socket activ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of  manual, application-level concurrenc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r for high-performance server desig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6760" y="334800"/>
            <a:ext cx="7391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-based concurrent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1520" y="990720"/>
            <a:ext cx="7861680" cy="520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echoserverp.c - A concurrent echo server based on proces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Usage: echoserverp &lt;por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ics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BUFSIZE 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(int 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handler(int si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ortn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len = sizeof(struct sockaddr_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no = atoi(argv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n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8360" y="334800"/>
            <a:ext cx="8788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4480" y="1333440"/>
            <a:ext cx="7861680" cy="374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CHLD, handler); /* parent must reap children!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ain server loop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truct sockaddr *) &amp;clientadd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clientlen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ork() == 0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listenfd); /* child closes its listening sock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connfd);    /* child reads and echoes input l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   /* child is done with this cli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        /* child exit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 /* parent must close connected socket!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8360" y="334800"/>
            <a:ext cx="8788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11120" y="2022480"/>
            <a:ext cx="6154560" cy="228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handler - reaps children as they terminat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handler(int si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ta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(pid = waitpid(-1, &amp;stat, WNOHANG)) &gt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81040" y="334440"/>
            <a:ext cx="622296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tion issues with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-based de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4600" y="1523520"/>
            <a:ext cx="8254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hould resta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if it is interrupted by a transfer of control to the SIGCHLD hand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ecessary for systems with POSIX signal handl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apper tells kernel to automatically restar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d for portability on some older Unix syste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must reap zombie childr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void fatal memory lea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mu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ts copy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nf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keeps reference for each sock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fork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fcnt(connfd) =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on will not be closed unti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fcnt(connfd)=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David O'Hallaron</dc:creator>
  <dc:description/>
  <dc:language>en-US</dc:language>
  <cp:lastModifiedBy>Gregory Kesden</cp:lastModifiedBy>
  <cp:lastPrinted>2000-12-05T05:56:51Z</cp:lastPrinted>
  <dcterms:modified xsi:type="dcterms:W3CDTF">2002-04-25T06:48:08Z</dcterms:modified>
  <cp:revision>686</cp:revision>
  <dc:subject/>
  <dc:title>Internet Services I</dc:title>
</cp:coreProperties>
</file>