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59000" y="3255480"/>
            <a:ext cx="10666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93040" y="6527880"/>
            <a:ext cx="30031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15-213 S’02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5352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– </a:t>
            </a:r>
            <a:fld id="{FD1C7BC1-3F57-4F34-BCCE-580B834D5F35}" type="slidenum">
              <a:rPr b="0" lang="en-US" sz="1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28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13080" y="1904760"/>
            <a:ext cx="4394160" cy="2135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urrent Server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ril 25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5640" y="3919680"/>
            <a:ext cx="5257800" cy="15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05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520" indent="-204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mitations of iterative serv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5520" indent="-204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-based concurrent serv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5520" indent="-204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s-based concurrent serv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5520" indent="-204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ent-based concurrent serv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5520" indent="-204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ing: 11.1-11.4 (Beta) or 13.1-13.5 (New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28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7000" y="7621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1280" y="334800"/>
            <a:ext cx="9042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s and cons of process-based de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Handles multiple connections concurrent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Clean sharing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ors (n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 tables (y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variables (n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Simple and straightforwar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dditional overhead for process contro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Nontrivial to share data between proces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s IPC (interprocess communication) mechanis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O’s (named pipes),  System V shared memory and semaph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reads provide more efficient flows with easier sharing of data between the fl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400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ditional view of a proc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95800" y="3287880"/>
            <a:ext cx="2230560" cy="31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95800" y="3606840"/>
            <a:ext cx="2230560" cy="253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95800" y="3860640"/>
            <a:ext cx="2230560" cy="289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68280" y="4927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95800" y="414972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44600" y="1431720"/>
            <a:ext cx="7632720" cy="58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= process context + code, data, and st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28680" y="2806200"/>
            <a:ext cx="2511000" cy="237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pointer (S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counter (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22640" y="220896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, data, and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95800" y="447048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95800" y="4775040"/>
            <a:ext cx="2232000" cy="3207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95800" y="2973240"/>
            <a:ext cx="2230560" cy="3193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95800" y="2658960"/>
            <a:ext cx="2230560" cy="31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96600" y="28033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37240" y="2984400"/>
            <a:ext cx="355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77880" y="444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24280" y="462276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60960" y="369216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37240" y="3860640"/>
            <a:ext cx="355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99760" y="2208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28600"/>
            <a:ext cx="60451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ternate view of a proc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40400" y="2666880"/>
            <a:ext cx="2230560" cy="31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40400" y="2986200"/>
            <a:ext cx="2230560" cy="253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40400" y="3240000"/>
            <a:ext cx="2230560" cy="289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128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40400" y="352908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44240" y="1431720"/>
            <a:ext cx="7861320" cy="58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= thread + code, data, and kernel con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47720" y="3597120"/>
            <a:ext cx="2511000" cy="134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pointer (S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counter (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09960" y="213300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 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540400" y="3849840"/>
            <a:ext cx="2232000" cy="320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40400" y="4154400"/>
            <a:ext cx="2232000" cy="3207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95320" y="2971800"/>
            <a:ext cx="2230560" cy="31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96120" y="30920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36760" y="327672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22480" y="3820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68880" y="400212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05560" y="30715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81480" y="324000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19200" y="213300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 (main thre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20760" y="4797720"/>
            <a:ext cx="1948680" cy="1129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77760" y="2666880"/>
            <a:ext cx="3581640" cy="27432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54080" y="228600"/>
            <a:ext cx="70358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process with multiple threa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2240" y="3081240"/>
            <a:ext cx="2230200" cy="31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32240" y="3400560"/>
            <a:ext cx="2230200" cy="253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32240" y="3654360"/>
            <a:ext cx="2230200" cy="289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01480" y="472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32240" y="394344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8520" y="4011480"/>
            <a:ext cx="2085840" cy="134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 1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13720" y="259020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 code 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32240" y="4264200"/>
            <a:ext cx="2232000" cy="320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32240" y="4568760"/>
            <a:ext cx="2232000" cy="3207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1720" y="3386160"/>
            <a:ext cx="1886040" cy="31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9280" y="2590200"/>
            <a:ext cx="26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 1 (main thre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12240" y="5090400"/>
            <a:ext cx="1892160" cy="1372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117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181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 threads can be associated with a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180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hread has its own logical control flow (sequence of PC valu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180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hread shares the same code, data, and kernel con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180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hread has its own thread id (TI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89800" y="4011480"/>
            <a:ext cx="2085840" cy="134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 2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73680" y="3386160"/>
            <a:ext cx="1886040" cy="31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96480" y="259020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 2 (peer thre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51818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gical view of threa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43080" y="914040"/>
            <a:ext cx="84960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ads associated with a process form a pool of pe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like processes which form a tree hierarch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245268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00800" y="329076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15000" y="405288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290988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095520" y="367200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00800" y="405288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86600" y="405288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629400" y="374796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81680" y="367200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400800" y="481500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29400" y="45100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00800" y="557676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29400" y="527220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306216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43640" y="2025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hierarc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2452680"/>
            <a:ext cx="3809880" cy="2819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3360" y="1980360"/>
            <a:ext cx="41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s associated with process 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09680" y="252900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38480" y="275760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466236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58640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3519360"/>
            <a:ext cx="190512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code,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kernel 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905120" y="4128840"/>
            <a:ext cx="304560" cy="5331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352320" y="4129200"/>
            <a:ext cx="22860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523520" y="3443400"/>
            <a:ext cx="38124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438280" y="298584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657600" y="3138480"/>
            <a:ext cx="45720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84200" y="228600"/>
            <a:ext cx="6375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urrent thread execu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26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14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thread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un concurrentl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e concurrent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 their logical flows overlap in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wise, they a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quential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urrent: A &amp; B, A&amp;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quential: B &amp; 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22640" y="297180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63760" y="403704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29200" y="312264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65080" y="258912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88960" y="258912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12840" y="258912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537240" y="34290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061480" y="403848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13360" y="44197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061480" y="50292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427560"/>
            <a:ext cx="4038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56160" y="4419720"/>
            <a:ext cx="4038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56160" y="5029200"/>
            <a:ext cx="4038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56160" y="5638680"/>
            <a:ext cx="4038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56160" y="4038480"/>
            <a:ext cx="4038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56160" y="3124080"/>
            <a:ext cx="4038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044800" y="228600"/>
            <a:ext cx="50544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s vs. proce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hreads and processes are simil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has its own logical control flow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can run concurrentl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is context switch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hreads and processes are differ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s share code and data, processes (typically) do no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s are somewhat less expensive than process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control (creating and reaping) is twice as expensive as thread control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ux/Pentium III number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K cycles to create and reap a proce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K cycles to create and reap a threa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99920" y="228600"/>
            <a:ext cx="75438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ix threads (Pthreads) interfa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thread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ndard interface for ~60 functions that manipulate threads from C progra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ng and reaping thread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thread_cre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thread_jo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ing your thread 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thread_sel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minating threa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thread_canc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thread_ex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[terminates all threads] 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terminates current thread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chronizing access to shared vari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thread_mutex_in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thread_mutex_[un]l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thread_cond_in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thread_cond_[timed]wa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20560" y="228600"/>
            <a:ext cx="81057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Pthreads "hello, world" pro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59680" y="1188000"/>
            <a:ext cx="5667120" cy="496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hello.c - Pthreads "hello, world" progr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thread(void *varg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, NULL, thread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join(tid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thread(void *vargp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Hello, world!\n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76000" y="1876680"/>
            <a:ext cx="1890720" cy="580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read attribu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usually NU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74920" y="2867040"/>
            <a:ext cx="1946880" cy="580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read arg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void *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72760" y="4378320"/>
            <a:ext cx="1340640" cy="580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turn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void **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038480" y="2244600"/>
            <a:ext cx="2819520" cy="14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5790960" y="3159000"/>
            <a:ext cx="10666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3733920" y="4149720"/>
            <a:ext cx="31240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77520" y="228600"/>
            <a:ext cx="59943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ecution of “hello, world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176560" y="1370880"/>
            <a:ext cx="147600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th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86960" y="2602800"/>
            <a:ext cx="142416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er th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895480" y="2057400"/>
            <a:ext cx="19080" cy="341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24800" y="326088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98960" y="35506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95480" y="2438280"/>
            <a:ext cx="3829320" cy="822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00" y="3504600"/>
            <a:ext cx="285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thread waits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er  thread to termin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914560" y="3870360"/>
            <a:ext cx="3810240" cy="762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9160" y="5028840"/>
            <a:ext cx="201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mina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thread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 peer 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8040" y="220968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Pthread_cre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98120" y="2971800"/>
            <a:ext cx="20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Pthread_jo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4419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hread_join() retu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80960" y="31996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03640" y="3809880"/>
            <a:ext cx="14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eer th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9400" y="251460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hread_create() retu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76320" y="334800"/>
            <a:ext cx="36320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rative serv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19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ive servers process one request at a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2195640"/>
            <a:ext cx="0" cy="3519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61120" y="16002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19720" y="2195640"/>
            <a:ext cx="0" cy="3519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70800" y="16002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2195640"/>
            <a:ext cx="0" cy="3519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80840" y="16002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2208240"/>
            <a:ext cx="2133720" cy="1666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7120" y="20574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5040" y="2133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ac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9400" y="24112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 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09320" y="2436840"/>
            <a:ext cx="2133720" cy="1666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2679840"/>
            <a:ext cx="2133720" cy="1666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22960" y="26668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 ac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33000" y="20574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419720" y="2286000"/>
            <a:ext cx="213336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7280" y="276552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22240" y="2921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209320" y="3124080"/>
            <a:ext cx="2133720" cy="166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50480" y="31194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 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22240" y="32446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16960" y="34732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9080" y="36259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ac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3809880"/>
            <a:ext cx="2133360" cy="1666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419720" y="4038480"/>
            <a:ext cx="2133360" cy="1666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33000" y="377820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 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32280" y="41590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32280" y="45720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 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31920" y="49528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26640" y="43876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4267080"/>
            <a:ext cx="2133360" cy="1666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16440" y="4038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 ac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4572000"/>
            <a:ext cx="2133360" cy="166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26640" y="47689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26960" y="334800"/>
            <a:ext cx="83311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-based concurrent echo serv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3640" y="1254240"/>
            <a:ext cx="8471160" cy="4961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int argc, char **arg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listenfd, *connfdp, port, clientle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argc != 2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printf(stderr, "usage: %s &lt;port&gt;\n", argv[0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= atoi(argv[1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 = open_listenfd(por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len = sizeof(clientadd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p = Malloc(sizeof(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connfdp = Accept(listenfd, (SA *) &amp;clientaddr, &amp;client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, NULL, thread, connfd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25080" y="334800"/>
            <a:ext cx="85345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-based concurrent server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242000" y="1600200"/>
            <a:ext cx="6642720" cy="301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thread rout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thread(void *varg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onnfd = *((int *)varg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detach(pthread_self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ee(varg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cho_r(connfd); /* reentrant version of echo(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connf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21960" y="334800"/>
            <a:ext cx="73407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sues with thread-based serv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run “detached” to avoid memory lea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any point in time, a thread is eithe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oin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tach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oin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read can be reaped and killed by other thread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be reaped (wit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thread_jo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to free memory resourc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tach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 cannot be reaped or killed by other thread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s are automatically reaped on termin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ault state is joinab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thread_detach(pthread_self()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make detach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be careful to avoid unintended shar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xample, what happens if we pass the address of connfd to the thread routin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thread_create(&amp;tid, NULL, thread, (void *)&amp;connfd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functions called by a thread must b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read-saf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next lectur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334800"/>
            <a:ext cx="8686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s and cons of thread-based de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44600" y="99036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Easy to share data structures between thre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logging information, file cach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Threads are more efficient than proces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 Unintentional sharing can introduce subtle and hard-to-reproduce error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ase with which data can be shared is both the greatest strength and the greatest weakness of thread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next lectur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36440" y="334800"/>
            <a:ext cx="71118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nt-based concurrent serv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vent-based approach to concurrenc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ain a pool of connected descripto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at the following foreve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he Unix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lect 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tion to block until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new connection request arrives on the listening descripto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new data arrives on an existing connected descripto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(a), add the new connection to the pool of connec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(b), read any available data from the conn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se connection on EOF and remove it from the poo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an event-based server is akin to implementing your own application-specific threads packag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00480" y="334800"/>
            <a:ext cx="44020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elect(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255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lect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sleeps until one or more file descriptors in the se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s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ready for reading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36480" y="1905120"/>
            <a:ext cx="827892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include &lt;sys/select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elect(int maxfdp1, fd_set *readset, NULL, NULL, NUL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309096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aque bit vector (max FD_SETSIZE bits) that indicat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hip  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scriptor se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bit k is 1, then descriptor k is a member of  the descriptor s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xfd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descriptor in descriptor set plus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s descriptors 0, 1, 2, ..., maxfdp1 - 1 for set membershi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60240" y="5638680"/>
            <a:ext cx="82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lect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returns the number of ready descriptors and sets each bit 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s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indicate the ready status of its corresponding descrip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72800" y="334800"/>
            <a:ext cx="88390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ros for manipulating set descript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D_ZERO(fd_set *fdset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 off all bits i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s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D_SET(int fd, fd_set *fdset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 on bi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s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D_CLR(int fd, fd_set *fdset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 off bi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s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D_ISSET(int fd, *fdset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bi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s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urned o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653920" y="334800"/>
            <a:ext cx="3878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62200" y="1066680"/>
            <a:ext cx="7617600" cy="4474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main loop: wait for connection request or stdin comma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If connection request, then echo input 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and close connection. If stdin command, then proces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server&gt; 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flush(stdou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notdon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select: check if the user typed something to stdin 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if a connection request arri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_ZERO(&amp;readfds);          /* initialize the fd se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_SET(listenfd, &amp;readfds); /* add socket f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_SET(0, &amp;readfds);        /* add stdin fd (0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lect(listenfd+1, &amp;readfds, NULL, NULL, NULL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028600" y="334800"/>
            <a:ext cx="5127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elec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example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we check for a pending event on stdi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53800" y="1676520"/>
            <a:ext cx="8349120" cy="4474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if the user has typed a command, process i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FD_ISSET(0, &amp;readfds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gets(buf, BUFSIZE, stdi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witch (buf[0]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se 'c': /* print the connection coun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Received %d conn. requests so far.\n", connectc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server&gt; 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flush(stdou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se 'q': /* terminate the serv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otdone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ault: /* bad inpu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ERROR: unknown command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server&gt; 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flush(stdou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028600" y="334800"/>
            <a:ext cx="5127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elec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example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we check for a pending connection reques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05720" y="1752480"/>
            <a:ext cx="8105400" cy="301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if a connection request has arrived, process i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FD_ISSET(listenfd, &amp;readfds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 = Accept(listenf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struct sockaddr *) &amp;clientaddr, &amp;client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ectcnt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zero(buf, BUFSIZ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n(connfd, buf, BUFSIZ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riten(connfd, buf, strlen(buf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connf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/* while */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480" y="334800"/>
            <a:ext cx="89917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fundamental flaw of iterative serv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44600" y="5020920"/>
            <a:ext cx="8470800" cy="115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: us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current server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e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urrent servers use multiple concurrent flows to serve multiple clients at the same tim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09680" y="147780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61120" y="1035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147780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70800" y="1035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147780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80840" y="1035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1706400"/>
            <a:ext cx="2133720" cy="1666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7120" y="15559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15040" y="14158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ac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22600" y="248292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9400" y="194940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 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209320" y="1935000"/>
            <a:ext cx="2133720" cy="1666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2178000"/>
            <a:ext cx="2133720" cy="1666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2960" y="2146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 ac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33000" y="26035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419720" y="2787480"/>
            <a:ext cx="2133360" cy="381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6400" y="23749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fg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4240" y="2900520"/>
            <a:ext cx="17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go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 to lu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1 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ing for 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ype in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85280" y="3259080"/>
            <a:ext cx="2133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2 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ing to comp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conne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 until 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nch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22040" y="2558880"/>
            <a:ext cx="15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ing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65200" y="334800"/>
            <a:ext cx="80517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nt-based concurrent echo serv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75640" y="930240"/>
            <a:ext cx="8105400" cy="4961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echoservers.c - A concurrent echo server based on selec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define BUFSIZE 10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echo(int connf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int argc, char **argv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listenfd, connf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portn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lientlen = sizeof(struct sockaddr_i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_set allset; /* descriptor set for selec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_set rset;   /* copy of allset for selec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xfd;     /* max descriptor value for selec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lient[FD_SETSIZE]; /* pool of connected descriptor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xi;      /* highwater index into client pool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nready;    /* number of ready descriptors from select */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, sockfd; /* misc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0440" y="334800"/>
            <a:ext cx="82548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nt-based concurrent server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464840" y="1179360"/>
            <a:ext cx="7008120" cy="471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heck command line arg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argc != 2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printf(stderr, "usage: %s &lt;port&gt;\n", argv[0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no = atoi(argv[1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open the listening socke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 = open_listenfd(portno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initialize the pool of active client connection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i = -1;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fd = listenf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 i&lt; FD_SETSIZE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[i] = 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_ZERO(&amp;allse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_SET(listenfd, &amp;allse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1520" y="334800"/>
            <a:ext cx="82551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nt-based concurrent server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932040" y="1600200"/>
            <a:ext cx="7740000" cy="1797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main server loop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set = allse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Wait until one or more descriptors are ready to rea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ready = Select(maxfd+1, &amp;rset, NULL, NULL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1520" y="334800"/>
            <a:ext cx="82551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nt-based concurrent server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26400" y="885960"/>
            <a:ext cx="7008480" cy="56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PART I: a new connection request has arrived, s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a new connected descriptor to the pool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FD_ISSET(listenfd, &amp;rset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 = Accept(listenfd, (struct_sockaddr *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amp;clientaddr, &amp;client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ready--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update the client pool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 i&lt;FD_SETSIZE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client[i]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[i] = connf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i == FD_SETSIZ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pp_error("Too many clients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update the read descriptor se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_SET(connfd, &amp;allse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connfd &gt; maxf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fd = connf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i &gt; max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i = i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1520" y="334800"/>
            <a:ext cx="82551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nt-based concurrent server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6000" y="1371600"/>
            <a:ext cx="7495920" cy="374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PART II: check the pool of connected descriptors 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 data to rea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 = 0; (i &lt;= maxi) &amp;&amp; (nready &gt; 0); i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ckfd = client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sockfd &gt; 0) &amp;&amp; (FD_ISSET(sockfd, &amp;rset))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cho(sockf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sockf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_CLR(sockfd, &amp;allse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[i] = -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ready--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/* fo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/* while(1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/* mai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77720" y="334800"/>
            <a:ext cx="8229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 and cons of event-based de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One logical control flo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Can single step with a debugg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No process or thread control overhe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 of choice for high-performance Web servers and search engin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ignificantly more complex to code than process- or thread-based desig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Can be vulnerable to denial of service att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20640" y="334800"/>
            <a:ext cx="43434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urrent serv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2043000"/>
            <a:ext cx="0" cy="446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27960" y="16002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043000"/>
            <a:ext cx="0" cy="3170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70800" y="16002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2089080"/>
            <a:ext cx="0" cy="4419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68160" y="16002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2241720"/>
            <a:ext cx="2666880" cy="196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00" y="212076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5040" y="19810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ac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12920" y="353700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5880" y="251460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 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676520" y="2500200"/>
            <a:ext cx="2666880" cy="1224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2698920"/>
            <a:ext cx="2667240" cy="2109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22960" y="27115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 ac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20320" y="20131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419360" y="2165400"/>
            <a:ext cx="297180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3240" y="29401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fg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505320" y="3232080"/>
            <a:ext cx="9144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3537000"/>
            <a:ext cx="0" cy="297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21880" y="30798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6600" y="30942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686040"/>
            <a:ext cx="1524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go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 to lu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1 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ing for user to type in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22960" y="342900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ac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3765600"/>
            <a:ext cx="2971800" cy="152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20320" y="36892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 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419360" y="3917880"/>
            <a:ext cx="2971800" cy="1526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22960" y="40705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 ac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94760" y="39942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fg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94040" y="44197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19720" y="4603680"/>
            <a:ext cx="9144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36080" y="4419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4908600"/>
            <a:ext cx="0" cy="160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93680" y="4937040"/>
            <a:ext cx="79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03120" y="44514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333760" y="4603680"/>
            <a:ext cx="205740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4520" y="55944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4120" y="5746680"/>
            <a:ext cx="205740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94400" y="480060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4400" y="58672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94040" y="61722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4520" y="594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98320" y="51372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1540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19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urrent  servers handle multiple requests concurrent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334440"/>
            <a:ext cx="861048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e basic mechanisms for creating  concurrent flow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44600" y="143964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provides multiple control flows with separate address spac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Unix process control and signa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Thre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provides multiple control flows (threads) running in one proce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hread has its own stack and register valu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threads share the same address space and open fil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X threads (Pthreads) interfa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I/O multiplexing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lect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ually interleave the processing of multiple open connec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Unix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lect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unction to notice pending socket activit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 of  manual, application-level concurrenc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pular for high-performance server desig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96760" y="334800"/>
            <a:ext cx="73915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-based concurrent serv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1520" y="990720"/>
            <a:ext cx="7861680" cy="5204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echoserverp.c - A concurrent echo server based on process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Usage: echoserverp &lt;por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ics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define BUFSIZE 10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echo(int connf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handler(int si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int argc, char **argv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listenfd, connf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portn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lientlen = sizeof(struct sockaddr_i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argc != 2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printf(stderr, "usage: %s &lt;port&gt;\n", argv[0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no = atoi(argv[1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 = open_listenfd(portno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8360" y="334800"/>
            <a:ext cx="87883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-based concurrent server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4480" y="1333440"/>
            <a:ext cx="7861680" cy="374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(SIGCHLD, handler); /* parent must reap children!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main server loop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 = Accept(listenfd, (struct sockaddr *) &amp;clientadd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amp;clientlen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Fork() == 0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listenfd); /* child closes its listening socke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cho(connfd);    /* child reads and echoes input l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connfd);   /* child is done with this clien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         /* child exit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connfd); /* parent must close connected socket!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8360" y="334800"/>
            <a:ext cx="87883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-based concurrent server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11120" y="2022480"/>
            <a:ext cx="6154560" cy="228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handler - reaps children as they terminat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handler(int sig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_t pi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sta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(pid = waitpid(-1, &amp;stat, WNOHANG)) &gt;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81040" y="334440"/>
            <a:ext cx="622296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ementation issues with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-based de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4600" y="1523520"/>
            <a:ext cx="82548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should restar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cep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if it is interrupted by a transfer of control to the SIGCHLD hand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necessary for systems with POSIX signal handl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apper tells kernel to automatically restar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d for portability on some older Unix system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must reap zombie childr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avoid fatal memory leak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mus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ts copy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nf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keeps reference for each socke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fork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fcnt(connfd) =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nection will not be closed unti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fcnt(connfd)=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2T14:46:03Z</dcterms:created>
  <dc:creator>David O'Hallaron</dc:creator>
  <dc:description/>
  <dc:language>en-US</dc:language>
  <cp:lastModifiedBy>Gregory Kesden</cp:lastModifiedBy>
  <cp:lastPrinted>2000-12-05T05:56:51Z</cp:lastPrinted>
  <dcterms:modified xsi:type="dcterms:W3CDTF">2002-04-25T06:48:08Z</dcterms:modified>
  <cp:revision>686</cp:revision>
  <dc:subject/>
  <dc:title>Internet Services I</dc:title>
</cp:coreProperties>
</file>