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81708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76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76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59000" y="3255480"/>
            <a:ext cx="10666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29680" y="6527880"/>
            <a:ext cx="30031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15-213 S’02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95352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– </a:t>
            </a:r>
            <a:fld id="{924C5481-981D-4BC1-BFF9-734B86F20930}" type="slidenum">
              <a:rPr b="0" lang="en-US" sz="14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25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520" y="1905120"/>
            <a:ext cx="5867280" cy="1614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ckets and Web servic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pril 23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5640" y="3276720"/>
            <a:ext cx="5257800" cy="15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1544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6640" indent="-15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-server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6640" indent="-15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kets Interfa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6640" indent="-15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6640" indent="-15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ng static cont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6640" indent="-15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ng dynamic cont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6640" indent="-15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ing 12.7, 12.8 (Beta) or 12.6-12.7 (New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6640" indent="-15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s: 12.14 (Beta) or 12.10 (New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09280" y="64119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27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7000" y="762120"/>
            <a:ext cx="15523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334800"/>
            <a:ext cx="7010280" cy="5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rkeley Sockets Interfa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d in the early 80’s as part of the original Berkeley distribution of Unix that contained an early version of the Internet protocol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s a user-level interface to the net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lying basis for all Internet applic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client/server programming mod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98480" y="334800"/>
            <a:ext cx="39877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a socke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ck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descriptor that lets an application read/write from/to the net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idea: Unix uses the same abstraction for both file I/O and network I/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s and servers communicate with each by reading from and writing to socket descripto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regular Unix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/O funct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ain difference between file I/O and socket I/O is how the application “opens” the socket descripto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71200" y="334800"/>
            <a:ext cx="74422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the Sockets Interfa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49440" y="89820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05240" y="91404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19520" y="1676520"/>
            <a:ext cx="0" cy="1676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19520" y="4419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38680" y="1676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2362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3048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386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38680" y="4419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3868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5791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52680" y="358128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563868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52680" y="426708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352320" y="495288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1338120"/>
            <a:ext cx="9903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o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5520" y="1338120"/>
            <a:ext cx="9903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o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2013120"/>
            <a:ext cx="9903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i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2687760"/>
            <a:ext cx="9903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05520" y="3395520"/>
            <a:ext cx="9903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c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05520" y="5419800"/>
            <a:ext cx="9903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4070520"/>
            <a:ext cx="9903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05520" y="4745160"/>
            <a:ext cx="9903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ri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05520" y="6095880"/>
            <a:ext cx="9903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4745160"/>
            <a:ext cx="9903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62320" y="3395520"/>
            <a:ext cx="9903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62320" y="4070520"/>
            <a:ext cx="9903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ri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62320" y="5421240"/>
            <a:ext cx="9903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89840" y="3048120"/>
            <a:ext cx="125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64600" y="533376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5880" y="63086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6553080" y="356544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095880" y="35654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93760" y="4340880"/>
            <a:ext cx="185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wait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est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xt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1355760"/>
            <a:ext cx="152280" cy="1752480"/>
          </a:xfrm>
          <a:custGeom>
            <a:avLst/>
            <a:gdLst>
              <a:gd name="textAreaLeft" fmla="*/ 0 w 152280"/>
              <a:gd name="textAreaRight" fmla="*/ 55080 w 1522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04400" y="204120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n_listen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355760"/>
            <a:ext cx="152280" cy="2438280"/>
          </a:xfrm>
          <a:custGeom>
            <a:avLst/>
            <a:gdLst>
              <a:gd name="textAreaLeft" fmla="*/ 97200 w 152280"/>
              <a:gd name="textAreaRight" fmla="*/ 152640 w 15228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8520" y="239040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n_client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743200" y="334800"/>
            <a:ext cx="3733920" cy="5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b serv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94400" y="2666880"/>
            <a:ext cx="1368720" cy="1287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707080" y="2967120"/>
            <a:ext cx="1749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25720" y="2586240"/>
            <a:ext cx="182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 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859360" y="3575160"/>
            <a:ext cx="1446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633640" y="3702240"/>
            <a:ext cx="1966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 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ont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37972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s and servers communicate using  the HyperText Transfer Protocol (HTTP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 and server establish TCP conn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 requests cont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 responds with requested cont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 and server close connection (usuall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version is HTTP/1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FC 2616, June, 1999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89560" y="2666880"/>
            <a:ext cx="1369800" cy="1287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rows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157200" y="334800"/>
            <a:ext cx="28702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b 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 servers retur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cli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ent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equence of bytes with an associated MIME (Multipurpose Internet Mail Extensions) ty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MIME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xt/htm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TML p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xt/pla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nformatted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lication/postscrip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ostcript docu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age/g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inary image encoded in GIF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age/jp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inary image encoded in JPG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4800"/>
            <a:ext cx="8077320" cy="5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ic and dynamic 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ntent returned in HTTP responses can be either static or dynami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c content: content stored in files and retrieved in response to an HTTP reque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: HTML files, images, audio clip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ynamic content: content produced on-the-fly in response to an HTTP reque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content produced by a program executed by the server on behalf of the clie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ttom line: all content is associated with a file managed by the serv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43200" y="334800"/>
            <a:ext cx="3657600" cy="5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90704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file managed by a server has a unique name called a URL (Universal Resource Locato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s for static conten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www.cs.cmu.edu:80/index.ht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www.cs.cmu.edu/index.ht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www.cs.cmu.ed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ies a file calle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dex.html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d by a Web server a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cs.cmu.ed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at is listening on port 80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s for dynamic conten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www.cs.cmu.edu:8000/cgi-bin/adder?15000&amp;2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ies an executable file calle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managed by a Web server a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cs.cmu.ed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at is listening on port 8000, that should be called with two argument strings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5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95240" y="334800"/>
            <a:ext cx="75945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clients and servers use UR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URL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ttp://www.aol.com:80/index.ht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s us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efi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ttp://www.aol.com:8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to infe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15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kind of server to contact (Web serv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15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the server is (www.aol.co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15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port it is listening on (8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s us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uffi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index.htm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15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e if request is for static or dynamic conte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4680" indent="-160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hard and fast rules for thi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4680" indent="-160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ntion: executables reside i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gi-b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15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file on filesystem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4680" indent="-160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l “/” in suffix denotes home directory for requested conte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4680" indent="-160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mal suffix is “/”, which all servers expand to some default home page (e.g.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dex.htm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85680" y="334800"/>
            <a:ext cx="7213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atomy of an HTTP transa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6320" y="1206360"/>
            <a:ext cx="87271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nix&gt;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telnet www.aol.com 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lient: open connection to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ing 205.188.146.23...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elnet prints 3 lines to the term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nected to aol.co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scape character is '^]'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 / HTTP/1.1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lient: request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ost: www.aol.com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lient: required HTTP/1.1 HOST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lient: empty line terminates header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TTP/1.0 200 OK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: response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IME-Version: 1.0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: followed by five response he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e: Mon, 08 Jan 2001 04:59:42 G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NaviServer/2.0 AOLserver/2.3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tent-Type: text/html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: expect HTML in the response 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tent-Length: 42092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: expect 42,092 bytes in the resp 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: empty line (“\r\n”) terminates hd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        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: first HTML line in response 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           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: 766 lines of HTML not sh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html&gt;       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: last HTML line in response 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ection closed by foreign host.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: closes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nix&gt;        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lient: closes connection and terminate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916000" y="334800"/>
            <a:ext cx="33526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TP reques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 request is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quest li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followed by zero or more reques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ea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est lin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ethod&gt; &lt;uri&gt; &lt;version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version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HTTP version of request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/1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/1.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uri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ypically URL for proxies, URL suffix for serve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method&g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eith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, POST, OPTIONS, HEAD, PUT, DELETE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RAC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95440" y="334800"/>
            <a:ext cx="43941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ent-server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4830840"/>
            <a:ext cx="1203480" cy="796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696760" y="5016600"/>
            <a:ext cx="2560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81480" y="4830840"/>
            <a:ext cx="1203480" cy="796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90280" y="4662000"/>
            <a:ext cx="236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1. client sends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41320" y="5423760"/>
            <a:ext cx="1072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. serv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and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709360" y="5460840"/>
            <a:ext cx="2560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77320" y="5473440"/>
            <a:ext cx="26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3. server sends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72200" y="5414040"/>
            <a:ext cx="108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4. cl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and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88200" y="5235480"/>
            <a:ext cx="8366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24840" y="4932360"/>
            <a:ext cx="1089000" cy="569880"/>
          </a:xfrm>
          <a:prstGeom prst="flowChartMagneticDisk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7000"/>
          </a:bodyPr>
          <a:p>
            <a:pPr marL="10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ry network application is based on the client-server model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3160" indent="-10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is a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rocess and one or mor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3160" indent="-10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 manages som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source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provide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ic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by manipulating resource for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lien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3160" indent="-10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 makes a request for a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94560" indent="-77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est may involve a conversation according to some server protoc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3160" indent="-10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 provides service by manipulating the resource on behalf of client and then returning a respon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94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17600" y="334800"/>
            <a:ext cx="47498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TP requests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 method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retrieve static or dynamic cont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guments for dynamic content are in UR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horse method (99% of request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retrieve dynamic cont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guments for dynamic content are in the request bod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get server or file attribu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E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lik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ut no data in response bod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write a file to the server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delete a file on the server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echo request in response bod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ful for debugg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17600" y="334800"/>
            <a:ext cx="47498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TP requests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est header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header name&gt;: &lt;header da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additional information to the serv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differences between HTTP/1.1 and HTTP/1.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/1.0 uses a new connection for each transac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/1.1 also support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ersistent conne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e transactions over the same conn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nection: Keep-Al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/1.1 require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eade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649240" y="334800"/>
            <a:ext cx="38862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TP Respon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44240" y="1066320"/>
            <a:ext cx="86994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 response is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sponse li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llowed by zero or mo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sponse head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e line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ersion&gt; &lt;status code&gt; &lt;status msg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version&gt; is HTTP version of the respons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status code&gt; is numeric statu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status msg&gt; is corresponding English tex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est was handled without err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bidd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 lacks permission to access fi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fou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 couldn’t find the fi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e header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header name&gt;: &lt;header data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additional information about respon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ent-Type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ME type of content in response bod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ent-Length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ngth of content in response bod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1760" y="334800"/>
            <a:ext cx="8001000" cy="5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request to Apache serve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om IE brows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88920" y="2140560"/>
            <a:ext cx="7534440" cy="20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474747"/>
                </a:solidFill>
                <a:latin typeface="Courier New"/>
              </a:rPr>
              <a:t>GET /test.html HTTP/1.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474747"/>
                </a:solidFill>
                <a:latin typeface="Courier New"/>
              </a:rPr>
              <a:t>Accept: */*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474747"/>
                </a:solidFill>
                <a:latin typeface="Courier New"/>
              </a:rPr>
              <a:t>Accept-Language: en-u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474747"/>
                </a:solidFill>
                <a:latin typeface="Courier New"/>
              </a:rPr>
              <a:t>Accept-Encoding: gzip, defl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474747"/>
                </a:solidFill>
                <a:latin typeface="Courier New"/>
              </a:rPr>
              <a:t>User-Agent: Mozilla/4.0 (compatible; MSIE 4.01; Windows 98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474747"/>
                </a:solidFill>
                <a:latin typeface="Courier New"/>
              </a:rPr>
              <a:t>Host: euro.ecom.cmu.ed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474747"/>
                </a:solidFill>
                <a:latin typeface="Courier New"/>
              </a:rPr>
              <a:t>Connection: Keep-Al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474747"/>
                </a:solidFill>
                <a:latin typeface="Courier New"/>
              </a:rPr>
              <a:t>CR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229600" cy="5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response from Apach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88920" y="1831320"/>
            <a:ext cx="5935680" cy="39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TTP/1.1 200 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e: Thu, 22 Jul 1999 04:02:15 G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Apache/1.3.3 Ben-SSL/1.28 (Uni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-Modified: Thu, 22 Jul 1999 03:33:21 G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Tag: "48bb2-4f-37969101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ccept-Ranges: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tent-Length: 7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Keep-Alive: timeout=15, max=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ection: Keep-Al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tent-Type: text/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ead&gt;&lt;title&gt;Test page&lt;/title&gt;&lt;/hea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1&gt;Test page&lt;/h1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99840" y="334800"/>
            <a:ext cx="6095880" cy="5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ving dynamic 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48320" y="2662200"/>
            <a:ext cx="1065240" cy="9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26160" y="2662200"/>
            <a:ext cx="1065240" cy="9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821960"/>
            <a:ext cx="4260960" cy="449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 sends request to serv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request URI contains the string 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cgi-b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, then the server assumes that the request is for dynamic content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13560" y="3117960"/>
            <a:ext cx="912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92120" y="2130480"/>
            <a:ext cx="4024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 /cgi-bin/env.pl HTTP/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19320" y="334800"/>
            <a:ext cx="6858000" cy="5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ving dynamic 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173560" y="1901880"/>
            <a:ext cx="1067040" cy="9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153200" y="1901880"/>
            <a:ext cx="1065240" cy="9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22320"/>
            <a:ext cx="426096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rver creates a child process and runs the program identified by the URI in that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159680" y="3498840"/>
            <a:ext cx="1065240" cy="9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.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7684920" y="2890440"/>
            <a:ext cx="0" cy="608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52520" y="3011760"/>
            <a:ext cx="1418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k/ex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3520" y="334800"/>
            <a:ext cx="6172200" cy="5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ving dynamic 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173560" y="1825560"/>
            <a:ext cx="1067040" cy="9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153200" y="1825560"/>
            <a:ext cx="1065240" cy="9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821960"/>
            <a:ext cx="4260960" cy="449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hild runs and generates the dynamic conten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rver captures the content of the child and forwards it without modification to the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159680" y="3422520"/>
            <a:ext cx="1065240" cy="989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.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7684920" y="2814120"/>
            <a:ext cx="0" cy="608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35240" y="2966760"/>
            <a:ext cx="1009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20800" y="2267280"/>
            <a:ext cx="1009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240240" y="2281320"/>
            <a:ext cx="912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2135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305920" cy="5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sues in serving dynamic 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520" y="1444680"/>
            <a:ext cx="5325840" cy="48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the client pass program arguments to the serve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the server pass these arguments to the chil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the server pass other info relevant to the request to the chil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the server capture the content produced by the chil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issues are addressed by the Common Gateway Interface (CGI) specific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59400" y="1825560"/>
            <a:ext cx="1065240" cy="9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437600" y="1825560"/>
            <a:ext cx="1066680" cy="9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7761240" y="2814120"/>
            <a:ext cx="0" cy="68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33440" y="2966760"/>
            <a:ext cx="1009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04840" y="2130120"/>
            <a:ext cx="1009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6524640" y="2462040"/>
            <a:ext cx="912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48320" y="1673280"/>
            <a:ext cx="1008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447960" y="2054160"/>
            <a:ext cx="10652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8218440" y="273852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200080" y="2966760"/>
            <a:ext cx="854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43720" y="3422520"/>
            <a:ext cx="1067040" cy="989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.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767040" y="334800"/>
            <a:ext cx="16509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 of client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 browsers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ln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s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the client find the serve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 of the server process has two parts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Paddress: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P add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 unique 32-bit positive integer that identifies the host (adapter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tted decimal form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8002C2F2 = 128.2.194.24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r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positive integer associated with a service (and thus a server process) on that machin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 7: echo 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 23: telnet 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 25: mail 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 80: web 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5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G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the children are written according to the CGI spec, they are often called CGI progra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many CGI programs are written in Perl, they are often called CGI scrip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CGI really defines a simple standard for transferring information between the client (browser), the server, and the child proces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4000" y="304560"/>
            <a:ext cx="7839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ving dynamic content with G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120" y="1223640"/>
            <a:ext cx="790740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es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ow does the client pass arguments to the serve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swer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arguments are appended to the UR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encoded directly in a URL typed to a browser or a URL in an HTML link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add.com/cgi-bin/adder?1&amp;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CGI program on the server that will do the addi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gument list starts wit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“?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guments separated by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“&amp;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ces represented by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“+” or “%20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also be generated by an HTML 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14400" y="5868000"/>
            <a:ext cx="75326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form method=get action="http://add.com/cgi-bin/postadder"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9898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ving dynamic content with G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www.someplace.com/cgi-bin/adder?1&amp;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 displayed on browser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133640" y="3276720"/>
            <a:ext cx="6509880" cy="1920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come to add.com: THE Internet addition por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nswer is: 1 + 2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for visiting! Tell your friend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9898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ving dynamic content with G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1760" y="1066320"/>
            <a:ext cx="775476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es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How does the server pass these arguments to the chil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swer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environment variable QUERY_ST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ingle string containing everything after the “?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add.com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QUERY_STR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&amp;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089000" y="3657600"/>
            <a:ext cx="6276600" cy="2284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child code that accesses the argument lis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buf = getenv("QUERY_STRING")) =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1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extract arg1 and arg2 from buf and conver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1 = atoi(arg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2 = atoi(arg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140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ving dynamic content with G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es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ow does the server pass other info relevant to the request to the chil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swer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a collection of environment variables defined by the CGI spe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5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me CGI environment variab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RVER_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RVER_NA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ATEWAY_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CGI vers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est-specif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RVER_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QUEST_METHO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et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QUERY_STR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contai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g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MOTE_H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domain name of clien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MOTE_ADD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IP address of clien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ENT_TY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f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type of data in message body, e.g.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xt/htm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ENT_LENG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length in byt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334800"/>
            <a:ext cx="8001000" cy="5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me CGI environment variab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ddition, the value of each header of typ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ceived from the client is placed in environment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TTP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_ACCEP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_H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_USER_AG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any “-” is changed to “_”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140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ving dynamic content with G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44240" y="1066320"/>
            <a:ext cx="86994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es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ow does the server capture the content produced by the chil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swer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child generates its output 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tdou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Server use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up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redirec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do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its connected socket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ce that only the child knows the type and size of the content. Thus the child (not the server) must generate the corresponding heade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6640" y="3505320"/>
            <a:ext cx="8593200" cy="2770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child generates the result string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printf(content, "Welcome to add.com: THE Internet addition portal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p&gt;The answer is: %d + %d = %d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p&gt;Thanks for visiting!\r\n"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1, n2, n1+n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child generates the headers and dynamic conten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Content-length: %d\r\n", strlen(conten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Content-type: text/html\r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\r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%s", conte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93360" y="334800"/>
            <a:ext cx="77979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ving dynamic content with GET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95160" y="1066680"/>
            <a:ext cx="61549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ass&gt; tiny 8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 /cgi-bin/adder?1&amp;2 HTTP/1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st: bass.cmcl.cs.cmu.edu:8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RLF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kittyhawk&gt; telnet bass 8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rying 128.2.222.85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ected to BASS.CMCL.CS.CMU.ED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scape character is '^]'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 /cgi-bin/adder?1&amp;2 HTTP/1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st: bass.cmcl.cs.cmu.edu:8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RLF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TTP/1.1 200 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Tiny We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tent-length: 1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tent-type: text/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RLF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lcome to add.com: THE Internet addition port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p&gt;The answer is: 1 + 2 =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p&gt;Thanks for visiting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ection closed by foreign ho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kittyhawk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96400" y="1143000"/>
            <a:ext cx="29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 request received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ny Web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68040" y="3519360"/>
            <a:ext cx="31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 request sent by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72360" y="3962520"/>
            <a:ext cx="33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 response generated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4572000"/>
            <a:ext cx="83822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0880" y="2133720"/>
            <a:ext cx="84582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" y="4038480"/>
            <a:ext cx="84582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88200" y="4540320"/>
            <a:ext cx="33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 response generated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GI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6019920"/>
            <a:ext cx="84582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17600" y="334800"/>
            <a:ext cx="47498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the Tiny Web server described in your 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ny is a sequential Web serv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s static and dynamic content to real browse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 files, HTML files, GIF and JPG imag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20 lines of commented, well structured C cod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so comes with an implementation of the CGI script for the add.com addition porta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25360" y="334800"/>
            <a:ext cx="69343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ing ports to identify servi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0080" y="2587680"/>
            <a:ext cx="1006920" cy="473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10440" y="1916280"/>
            <a:ext cx="1746000" cy="796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port 8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73400"/>
            <a:ext cx="1295640" cy="114300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3280" y="1905120"/>
            <a:ext cx="15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 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00600" y="1797120"/>
            <a:ext cx="3505320" cy="198108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33520" y="1447920"/>
            <a:ext cx="30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 machine 128.2 194.24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2787480"/>
            <a:ext cx="3429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2558880"/>
            <a:ext cx="106704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863800"/>
            <a:ext cx="1746360" cy="797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ho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port 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1962000"/>
            <a:ext cx="2654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 request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8.2.194.242: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i.e., the Web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943600" y="2482560"/>
            <a:ext cx="457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0080" y="4917960"/>
            <a:ext cx="1006920" cy="473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10440" y="4246560"/>
            <a:ext cx="1746000" cy="797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port 8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4603680"/>
            <a:ext cx="1295640" cy="114300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127400"/>
            <a:ext cx="3505320" cy="198144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3880" y="5118120"/>
            <a:ext cx="3429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52880" y="4889520"/>
            <a:ext cx="106704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24480" y="5194440"/>
            <a:ext cx="1746360" cy="796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ho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port 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62520" y="4311720"/>
            <a:ext cx="2207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 request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8.2.194.242: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i.e., the echo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943600" y="5194440"/>
            <a:ext cx="457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1760" y="334800"/>
            <a:ext cx="7467480" cy="5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5400" y="1143000"/>
            <a:ext cx="76788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s are long-running processes (daemons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d at boot-time (typically) by the init process (process 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n continuously until the machine is turned off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server waits for requests to arrive on a well-known port associated with a particular servi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 7: echo 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 25: mail 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 80: http 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achine that runs a server process is also often  referred to as a “server”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34800"/>
            <a:ext cx="6934320" cy="5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ver examp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 server (port 8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: files/compute cycles (CGI program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: retrieves files and runs CGI programs on behalf of the cli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TP server (20, 2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: fi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: stores and retrieve fi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net server (2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: termin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: proxies a terminal on the server mach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l server (2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: email “spool” fi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: stores mail messages in spool fil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5040" y="5562720"/>
            <a:ext cx="677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etc/servic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a comprehensiv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the services available on a Linux mach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21960" y="334440"/>
            <a:ext cx="7340760" cy="1614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two basic ways that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ents and servers communic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320" y="1676160"/>
            <a:ext cx="396216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nections (TCP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iable two-way byte-strea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oks like a fil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kin to placing a phone call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ower but more robus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grams (UDP)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transferred in unreliable chunk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lost or arrive out of ord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kin to using surface mail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er but less robus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will only discuss connec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60160" y="2198160"/>
            <a:ext cx="1103400" cy="517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19120" y="2198160"/>
            <a:ext cx="1225080" cy="517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181120" y="228600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5181120" y="266688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228640" y="1930320"/>
            <a:ext cx="220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 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... 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30600" y="2630520"/>
            <a:ext cx="2035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...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70880" y="2260440"/>
            <a:ext cx="12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60160" y="4636440"/>
            <a:ext cx="1103400" cy="517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719120" y="4636440"/>
            <a:ext cx="1225080" cy="517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181120" y="472428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181120" y="510552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7800" y="4343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4343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34320" y="52578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91320" y="52578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05720" y="4191120"/>
            <a:ext cx="60948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705360" y="4191120"/>
            <a:ext cx="60948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53960" y="334800"/>
            <a:ext cx="64771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et connections (review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3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"/>
          </a:bodyPr>
          <a:p>
            <a:pPr marL="176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ents and servers communicate by sending streams of bytes ove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nnec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40" indent="-17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int-to-point, full-duplex, and reliabl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sock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n endpoint of a conn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40" indent="-17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ocket addres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Paddress:por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 16-bit integer that identifies a proces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40" indent="-17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phemeral por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ssigned automatically on client when client makes a connection reque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640" indent="-17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ell-known por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ssociated with some service provided by a server (e.g., port 80 is associated with Web server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nnection is uniquely identified by the socket addresses of its endpoints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ocket pai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40" indent="-17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cliaddr:cliport, servaddr:servpor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7080" y="334440"/>
            <a:ext cx="767088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atomy of an Internet connectio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review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2920" y="3479760"/>
            <a:ext cx="411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nection socket p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28.2.194.242 :51213, 208.216.181.15:8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88160" y="3108240"/>
            <a:ext cx="1287360" cy="797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port 8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33480" y="3108240"/>
            <a:ext cx="1287360" cy="797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78080" y="3511440"/>
            <a:ext cx="4451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49560" y="3446640"/>
            <a:ext cx="128520" cy="128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29480" y="3446640"/>
            <a:ext cx="128520" cy="128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94000" y="2238480"/>
            <a:ext cx="224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lient socket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8.2.194.242:512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57720" y="2238480"/>
            <a:ext cx="258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 socket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8.216.181.15: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78080" y="2819520"/>
            <a:ext cx="303120" cy="627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45080" y="2819520"/>
            <a:ext cx="303480" cy="627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4520" y="4143240"/>
            <a:ext cx="2026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 host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8.2.194.24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6320" y="4143240"/>
            <a:ext cx="210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 host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8.216.181.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40640" y="3000240"/>
            <a:ext cx="1465200" cy="10353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97040" y="3000240"/>
            <a:ext cx="1465200" cy="10353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2T14:46:03Z</dcterms:created>
  <dc:creator>David O'Hallaron</dc:creator>
  <dc:description/>
  <dc:language>en-US</dc:language>
  <cp:lastModifiedBy>Gregory Kesden</cp:lastModifiedBy>
  <cp:lastPrinted>2001-11-28T17:59:19Z</cp:lastPrinted>
  <dcterms:modified xsi:type="dcterms:W3CDTF">2002-04-23T13:09:32Z</dcterms:modified>
  <cp:revision>553</cp:revision>
  <dc:subject/>
  <dc:title>Internet Services I</dc:title>
</cp:coreProperties>
</file>