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9680" y="6527880"/>
            <a:ext cx="30031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33B4FC71-72CA-4696-87C5-B47CFB7275A2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5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1905120"/>
            <a:ext cx="58672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kets and Web servic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ril 23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3276720"/>
            <a:ext cx="5257800" cy="15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54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kets 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ng static cont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ing 12.7, 12.8 (Beta) or 12.6-12.7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6640" indent="-15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s: 12.14 (Beta) or 12.10 (New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27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70102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rkeley Sockets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in the early 80’s as part of the original Berkeley distribution of Unix that contained an early version of the Internet protoc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a user-level interface to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lying basis for all Internet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client/server programming mod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8480" y="334800"/>
            <a:ext cx="3987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socke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descriptor that lets an application read/write from/to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idea: Unix uses the same abstraction for both file I/O and network I/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and servers communicate with each by reading from and writing to socket descrip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regular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/O fun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difference between file I/O and socket I/O is how the application “opens” the socket descrip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334800"/>
            <a:ext cx="74422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he Sockets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49440" y="89820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5240" y="9140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16765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676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048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5791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56386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42670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320" y="49528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13381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13381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201312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8776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33955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541980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07052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74516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609588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74516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39552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4070520"/>
            <a:ext cx="9903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r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5421240"/>
            <a:ext cx="9903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89840" y="304812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64600" y="5333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63086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553080" y="356544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95880" y="3565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93760" y="434088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wai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135576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4400" y="20412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355760"/>
            <a:ext cx="152280" cy="243828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8520" y="23904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43200" y="334800"/>
            <a:ext cx="37339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94400" y="2666880"/>
            <a:ext cx="136872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07080" y="2967120"/>
            <a:ext cx="174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25720" y="258624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59360" y="3575160"/>
            <a:ext cx="1446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3640" y="3702240"/>
            <a:ext cx="196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3797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and servers communicate using  the HyperText Transfer Protocol (HTT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and server establish TCP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requests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responds with requested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and server close connection (usual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version is HTTP/1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C 2616, June, 1999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89560" y="2666880"/>
            <a:ext cx="136980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ows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57200" y="334800"/>
            <a:ext cx="2870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ers retur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l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en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quence of bytes with an associated MIME (Multipurpose Internet Mail Extensions)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MIME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/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TML p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/pl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formatt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lication/postscri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tcript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age/g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nary image encoded in GIF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age/jp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nary image encoded in JPG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80773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and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ent returned in HTTP responses can be either static or dynami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 content: content stored in files and retrieved in response to an HTTP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HTML files, images, audio cli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content: content produced on-the-fly in response to an HTTP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content produced by a program executed by the server on behalf of the cli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tom line: all content is associated with a file managed by the ser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43200" y="334800"/>
            <a:ext cx="3657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9070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file managed by a server has a unique name called a URL (Universal Resource Loca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s for static cont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:80/index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/index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s a file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ex.html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d by a Web server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is listening on port 8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s for dynamic cont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cs.cmu.edu:8000/cgi-bin/adder?15000&amp;2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s an executable file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managed by a Web server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cs.cmu.ed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is listening on port 8000, that should be called with two argument strings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5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95240" y="334800"/>
            <a:ext cx="75945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lients and servers use UR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URL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aol.com:80/index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aol.com:8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inf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server to contact (Web serv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server is (www.aol.co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ort it is listening on (8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s 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index.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if request is for static or dynamic cont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hard and fast rules for th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tion: executables reside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gi-b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file on file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“/” in suffix denotes home directory for requested cont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680" indent="-160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suffix is “/”, which all servers expand to some default home page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5680" y="3348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tomy of an HTTP trans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6320" y="1206360"/>
            <a:ext cx="8727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elnet www.aol.com 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open connection t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ing 205.188.146.23...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elnet prints 3 lines to the 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nected to aol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 / HTTP/1.1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reques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st: www.aol.com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required HTTP/1.1 HOST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empty line terminates heade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0 200 OK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respons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ME-Version: 1.0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ollowed by five response 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08 Jan 2001 04:59:42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NaviServer/2.0 AOLserver/2.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HTML in the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42092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42,092 bytes in the resp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mpty line (“\r\n”) terminates h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irst HTML line in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766 lines of HTML not sh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last HTML line in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closed by foreign host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closes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x&gt;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: closes connection and terminate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6000" y="334800"/>
            <a:ext cx="3352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que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request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quest 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ollowed by zero or more requ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lin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ethod&gt; &lt;uri&gt; &lt;version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version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HTTP version of request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ur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ypically URL for proxies, URL suffix for serv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method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eith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, POST, OPTIONS, HEAD, PUT, DELET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RA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95440" y="334800"/>
            <a:ext cx="43941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830840"/>
            <a:ext cx="120348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696760" y="501660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4830840"/>
            <a:ext cx="120348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90280" y="4662000"/>
            <a:ext cx="236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client sends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1320" y="5423760"/>
            <a:ext cx="107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09360" y="5460840"/>
            <a:ext cx="2560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77320" y="547344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server sends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2200" y="5414040"/>
            <a:ext cx="10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. 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88200" y="5235480"/>
            <a:ext cx="836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24840" y="4932360"/>
            <a:ext cx="1089000" cy="56988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marL="10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network application is based on the client-server mode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is a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cess and one or mor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manages som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ource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rovid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y manipulating resource fo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makes a request for a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94560" indent="-77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may involve a conversation according to some server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3160" indent="-10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provides service by manipulating the resource on behalf of client and then returning a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94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17600" y="33480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quest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method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rieve static or dynamic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for dynamic content are in UR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horse method (99% of reques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trieve dynamic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for dynamic content are in the request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get server or file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no data in response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rite a file to the serv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delete a file on the serv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echo request in response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for debugg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17600" y="33480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quests (co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header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eader name&gt;: &lt;header d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dditional information to the serv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differences between HTTP/1.1 and HTTP/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/1.0 uses a new connection for each transa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/1.1 also support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sistent conn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transactions over the same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/1.1 requir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ead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49240" y="334800"/>
            <a:ext cx="3886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 Respon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response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ponse l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llowed by zero or mo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ponse head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lin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ersion&gt; &lt;status code&gt; &lt;status msg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version&gt; is HTTP version of the respon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tatus code&gt; is numeric stat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status msg&gt; is corresponding English t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was handled without err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b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lacks permission to acces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couldn’t find the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header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eader name&gt;: &lt;header data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dditional information about respo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ME type of content in response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of content in response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quest to Apache serv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IE brows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88920" y="2140560"/>
            <a:ext cx="753444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GET /test.html HTTP/1.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Accept: *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Accept-Language: en-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Accept-Encoding: gzip, defl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User-Agent: Mozilla/4.0 (compatible; MSIE 4.01; Windows 9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Host: euro.ecom.cmu.ed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474747"/>
                </a:solidFill>
                <a:latin typeface="Courier New"/>
              </a:rPr>
              <a:t>CR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sponse from Apac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8920" y="1831320"/>
            <a:ext cx="593568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Thu, 22 Jul 1999 04:02:15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Apache/1.3.3 Ben-SSL/1.28 (Un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-Modified: Thu, 22 Jul 1999 03:33:21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Tag: "48bb2-4f-37969101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pt-Ranges: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ep-Alive: timeout=15, max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: Keep-Al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&lt;title&gt;Test page&lt;/title&gt;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1&gt;Test pag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334800"/>
            <a:ext cx="60958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48320" y="266220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26160" y="266220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1960"/>
            <a:ext cx="4260960" cy="44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ends request to ser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request URI contains the string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cgi-b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, then the server assumes that the request is for dynamic conte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13560" y="3117960"/>
            <a:ext cx="91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92120" y="2130480"/>
            <a:ext cx="402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cgi-bin/env.pl HTTP/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334800"/>
            <a:ext cx="68580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73560" y="1901880"/>
            <a:ext cx="10670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53200" y="190188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2320"/>
            <a:ext cx="42609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rver creates a child process and runs the program identified by the URI in that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59680" y="349884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84920" y="289044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52520" y="301176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/ex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520" y="334800"/>
            <a:ext cx="61722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3560" y="1825560"/>
            <a:ext cx="10670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53200" y="182556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1960"/>
            <a:ext cx="4260960" cy="44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ild runs and generates the dynamic cont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rver captures the content of the child and forwards it without modification to the 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59680" y="3422520"/>
            <a:ext cx="1065240" cy="98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684920" y="281412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5240" y="296676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20800" y="226728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40240" y="2281320"/>
            <a:ext cx="91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2135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3059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in serving dynamic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532584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client pass program arguments to the ser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server pass these arguments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server pass other info relevant to the request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server capture the content produced by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issues are addressed by the Common Gateway Interface (CGI) specif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825560"/>
            <a:ext cx="106524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37600" y="1825560"/>
            <a:ext cx="1066680" cy="9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761240" y="281412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33440" y="296676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04840" y="2130120"/>
            <a:ext cx="100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524640" y="246204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48320" y="1673280"/>
            <a:ext cx="100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447960" y="2054160"/>
            <a:ext cx="1065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18440" y="273852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0080" y="296676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43720" y="3422520"/>
            <a:ext cx="1067040" cy="98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67040" y="334800"/>
            <a:ext cx="1650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lien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browser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ln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client find the ser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 of the server process has two parts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Paddress: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P add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unique 32-bit positive integer that identifies the host (adapter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ted decimal for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02C2F2 = 128.2.194.24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positive integer associated with a service (and thus a server process) on that machi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3: telne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80: web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G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children are written according to the CGI spec, they are often called CGI progra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ny CGI programs are written in Perl, they are often called CGI scrip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GI really defines a simple standard for transferring information between the client (browser), the server, and the child proc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7839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223640"/>
            <a:ext cx="79074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does the client pass arguments to the serv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arguments are appended to the U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encoded directly in a URL typed to a browser or a URL in an HTML lin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add.com/cgi-bin/adder?1&amp;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GI program on the server that will do the add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 list starts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?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 separat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&amp;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 represented b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+” or “%20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also be generated by an HTM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5868000"/>
            <a:ext cx="7532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form method=get action="http://add.com/cgi-bin/postadder"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989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someplace.com/cgi-bin/adder?1&amp;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displayed on brows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33640" y="3276720"/>
            <a:ext cx="6509880" cy="1920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 to add.com: THE Internet addition por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swer is: 1 + 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for visiting! Tell your frie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989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75476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How does the server pass these arguments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nvironment variable QUERY_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ngle string containing everything after the “?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dd.com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&amp;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9000" y="3657600"/>
            <a:ext cx="627660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 code that accesses the argument lis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buf = getenv("QUERY_STRING"))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xtract arg1 and arg2 from buf and conve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1 = atoi(arg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2 = atoi(arg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140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does the server pass other info relevant to the request to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a collection of environment variables defined by the CGI spe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CGI environment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_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_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ATEWAY_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GI vers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-speci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_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_METH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_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ntai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omain name of cli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P address of cli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_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ype of data in message body, 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t/htm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_LENG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ength in byt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CGI environment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, the value of each header of typ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ceived from the client is placed in environment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_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_ACCE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_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_USER_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any “-” is changed to “_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140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44240" y="1066320"/>
            <a:ext cx="8699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w does the server capture the content produced by the chil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hild generates its output 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do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Server us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up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dir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ts connected so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that only the child knows the type and size of the content. Thus the child (not the server) must generate the corresponding head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6640" y="3505320"/>
            <a:ext cx="8593200" cy="277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 generates the result strin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printf(content, "Welcome to add.com: THE Internet addition portal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e answer is: %d + %d = %d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anks for visiting!\r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1, n2, n1+n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hild generates the headers and dynamic cont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tent-length: %d\r\n", strlen(conte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tent-type: text/html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\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%s", cont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93360" y="334800"/>
            <a:ext cx="7797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ng dynamic content with GE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5160" y="1066680"/>
            <a:ext cx="6154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s&gt; tiny 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ttyhawk&gt; telnet bass 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cgi-bin/adder?1&amp;2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bass.cmcl.cs.cmu.edu: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Tiny 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1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R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lcome to add.com: THE Internet addition port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e answer is: 1 + 2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&gt;Thanks for visit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0" y="11430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quest receiv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y 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68040" y="35193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quest sent by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2360" y="39625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13372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403848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8200" y="4540320"/>
            <a:ext cx="33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response genera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GI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6019920"/>
            <a:ext cx="8458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17600" y="33480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iny Web server described in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y is a sequential Web serv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s static and dynamic content to real brows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files, HTML files, GIF and JPG im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0 lines of commented, well structured C c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comes with an implementation of the CGI script for the add.com addition port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25360" y="3348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ports to identify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080" y="2587680"/>
            <a:ext cx="10069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0440" y="1916280"/>
            <a:ext cx="174600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73400"/>
            <a:ext cx="1295640" cy="1143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3280" y="190512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1797120"/>
            <a:ext cx="3505320" cy="1981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33520" y="144792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machine 128.2 194.2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78748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5588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86380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962000"/>
            <a:ext cx="265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: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.e., the Web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943600" y="248256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0080" y="4917960"/>
            <a:ext cx="10069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10440" y="424656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603680"/>
            <a:ext cx="1295640" cy="1143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127400"/>
            <a:ext cx="3505320" cy="19814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51181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895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5194440"/>
            <a:ext cx="174636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62520" y="4311720"/>
            <a:ext cx="22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: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.e., the echo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51944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746748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5400" y="1143000"/>
            <a:ext cx="76788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s are long-running processes (daemon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d at boot-time (typically) by the init process (process 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 continuously until the machine is turned of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server waits for requests to arrive on a well-known port associated with a particular ser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80: http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chine that runs a server process is also often  referred to as a “server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6934320" cy="5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erver (port 8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files/compute cycles (CGI progra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retrieves files and runs CGI programs on behalf of the cl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 server (20, 2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stores and retrieve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 server (2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termi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proxies a terminal on the server mach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l server (2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: email “spool”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: stores mail messages in spool fi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5040" y="5562720"/>
            <a:ext cx="677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etc/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a comprehensiv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services available on a Linux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21960" y="334440"/>
            <a:ext cx="734076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wo basic ways tha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s and servers communic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67616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s (TCP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iable two-way byte-stre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s like a fi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in to placing a phone cal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wer but more robu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grams (UDP)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red in unreliable chunk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lost or arrive out of ord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in to using surface mai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 but less robu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will only discuss conne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60160" y="2198160"/>
            <a:ext cx="110340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19120" y="2198160"/>
            <a:ext cx="122508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120" y="228600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181120" y="26668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28640" y="1930320"/>
            <a:ext cx="220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 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0600" y="2630520"/>
            <a:ext cx="203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70880" y="226044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60160" y="4636440"/>
            <a:ext cx="110340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19120" y="4636440"/>
            <a:ext cx="1225080" cy="51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120" y="47242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181120" y="51055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4343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343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52578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52578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4191120"/>
            <a:ext cx="60948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705360" y="4191120"/>
            <a:ext cx="60948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3960" y="334800"/>
            <a:ext cx="64771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connections (re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s and servers communicate by sending streams of bytes ov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int-to-point, full-duplex, and relia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soc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endpoint of a conn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cket addr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Paddress: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16-bit integer that identifies a proce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phemeral por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signed automatically on client when client makes a connection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ell-known por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sociated with some service provided by a server (e.g., port 80 is associated with Web serv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nnection is uniquely identified by the socket addresses of its endpoint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cket pa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-17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liaddr:cliport, servaddr:serv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7080" y="334440"/>
            <a:ext cx="7670880" cy="109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tomy of an Internet connec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eview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2920" y="3479760"/>
            <a:ext cx="411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 socket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28.2.194.242 :51213, 208.216.181.15: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8160" y="310824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3480" y="310824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78080" y="3511440"/>
            <a:ext cx="4451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9560" y="3446640"/>
            <a:ext cx="12852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29480" y="3446640"/>
            <a:ext cx="12852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94000" y="2238480"/>
            <a:ext cx="224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 socke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:512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57720" y="2238480"/>
            <a:ext cx="25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 socke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8.216.181.15: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78080" y="2819520"/>
            <a:ext cx="303120" cy="627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2819520"/>
            <a:ext cx="303480" cy="627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4520" y="4143240"/>
            <a:ext cx="202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hos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.2.194.24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6320" y="4143240"/>
            <a:ext cx="210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hos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8.216.18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40640" y="3000240"/>
            <a:ext cx="1465200" cy="1035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7040" y="3000240"/>
            <a:ext cx="1465200" cy="1035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David O'Hallaron</dc:creator>
  <dc:description/>
  <dc:language>en-US</dc:language>
  <cp:lastModifiedBy>Gregory Kesden</cp:lastModifiedBy>
  <cp:lastPrinted>2001-11-28T17:59:19Z</cp:lastPrinted>
  <dcterms:modified xsi:type="dcterms:W3CDTF">2002-04-23T13:09:32Z</dcterms:modified>
  <cp:revision>553</cp:revision>
  <dc:subject/>
  <dc:title>Internet Services I</dc:title>
</cp:coreProperties>
</file>