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59000" y="325548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705640" y="6477120"/>
            <a:ext cx="300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35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2EA1D0CF-0BBC-42EC-8795-C7ECF84B3DF8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4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09960" y="1905120"/>
            <a:ext cx="320040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/O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pril 16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3919680"/>
            <a:ext cx="5257800" cy="219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x I/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I/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: 12.1-12.4 (Beta) or 12.1-10.1 (New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: 12.9 (Beta) or 12.4 (New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4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5320" y="334800"/>
            <a:ext cx="6676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a-data returned by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tat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9560" y="1390680"/>
            <a:ext cx="8227440" cy="447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file info returned by the stat fun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ta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v_t         st_dev;      /* devic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o_t         st_ino;      /* inod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de_t        st_mode;     /* protection and file typ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link_t       st_nlink;    /* number of hard link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id_t         st_uid;      /* user ID of own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id_t         st_gid;      /* group ID of own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v_t         st_rdev;     /* device type (if inode device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f_t         st_size;     /* total size, in byte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long st_blksize;  /* blocksize for filesystem I/O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long st_blocks;   /* number of blocks allocate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_t        st_atime;    /* time of last acces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_t        st_mtime;    /* time of last modific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_t        st_ctime;    /* time of last chang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84360" y="334800"/>
            <a:ext cx="60199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rnel’s file repres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16080" y="32004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16080" y="34290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6080" y="36576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6080" y="38862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6080" y="41148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2560" y="2299320"/>
            <a:ext cx="170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ent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7920" y="1600200"/>
            <a:ext cx="137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-n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78400" y="24382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78400" y="27432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cnt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78400" y="30481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64400" y="25462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4400" y="28512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4400" y="31561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2800" y="2286000"/>
            <a:ext cx="1371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64400" y="41148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64400" y="44197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4400" y="47242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673280" y="2133360"/>
            <a:ext cx="190512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16480" y="3962520"/>
            <a:ext cx="1447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78400" y="21337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78400" y="41148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78400" y="44197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cnt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78400" y="47242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78400" y="38098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60920" y="179676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86120" y="34729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72120" y="22093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46920" y="377784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673280" y="3809520"/>
            <a:ext cx="19051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 for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85960" y="334800"/>
            <a:ext cx="7416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rnel’s file representation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fork (processes inherit open file tables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03520" y="259092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03520" y="281952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03520" y="304812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03520" y="327672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03520" y="350532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70000" y="1689840"/>
            <a:ext cx="170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ent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65360" y="1689120"/>
            <a:ext cx="137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-n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65480" y="2527200"/>
            <a:ext cx="10670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65480" y="2832120"/>
            <a:ext cx="10670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cnt =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65480" y="3137040"/>
            <a:ext cx="10670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51480" y="2635200"/>
            <a:ext cx="10670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51480" y="2940120"/>
            <a:ext cx="10670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51480" y="3244680"/>
            <a:ext cx="10670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79880" y="2374920"/>
            <a:ext cx="1371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51480" y="4203720"/>
            <a:ext cx="10670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51480" y="4508640"/>
            <a:ext cx="10670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51480" y="4813200"/>
            <a:ext cx="10670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087640" y="2222640"/>
            <a:ext cx="19778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03920" y="4051440"/>
            <a:ext cx="144756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65480" y="2222640"/>
            <a:ext cx="10670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65480" y="4203720"/>
            <a:ext cx="10670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65480" y="4508640"/>
            <a:ext cx="10670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cnt =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65480" y="4813200"/>
            <a:ext cx="10670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65480" y="3898800"/>
            <a:ext cx="10670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48360" y="18856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73560" y="356184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59560" y="229824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34360" y="386676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87640" y="3594240"/>
            <a:ext cx="197784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06400" y="50292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06400" y="52578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06400" y="54864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06400" y="57150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6400" y="59436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04360" y="4006440"/>
            <a:ext cx="132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ild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133720" y="2298240"/>
            <a:ext cx="1935000" cy="311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133720" y="3898440"/>
            <a:ext cx="1935000" cy="219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07960" y="334800"/>
            <a:ext cx="45687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file I/O: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open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8000"/>
          </a:bodyPr>
          <a:p>
            <a:pPr marL="3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en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file before you can do anything el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en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urns a small integer (file descripto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800" indent="-3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lt; 0 indicates that an error occur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efined file descripto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800" indent="-3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: std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0800" indent="-3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: std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0800" indent="-3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: stder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1080" y="1905120"/>
            <a:ext cx="5789160" cy="179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fd;   /* file descripto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fd = open(“/etc/hosts”, O_RDONLY))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rror(“open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307960" y="334800"/>
            <a:ext cx="45687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file I/O: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read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d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lows a program to fetch the contents of a file from the curren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le pos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d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urns the number of bytes read from fi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by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lt; 0 indicates that an error occurr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 counts (nbytes &lt; sizeof(buf)) are possible and not error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by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tes into memory addre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5480" y="1828800"/>
            <a:ext cx="6032880" cy="2770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buf[51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fd;       /* file descripto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nbytes;   /* number of bytes rea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open the fil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read up to 512 bytes from file f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nbytes = read(fd, buf, sizeof(buf)))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rror(“read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71880" y="334800"/>
            <a:ext cx="4843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file I/O: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write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lows a program to modify the file contents starting at the current file posi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urns the number of bytes written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fi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by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lt; 0 indicates that an error occurr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 counts are possible and are not erro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31440" y="1905120"/>
            <a:ext cx="6032880" cy="2770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buf[51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fd;       /* file descripto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nbytes;   /* number of bytes rea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open the fil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write up to 512 bytes from buf to file f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nbytes = write(fd, buf, sizeof(buf))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rror(“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2800" y="334440"/>
            <a:ext cx="883908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bustly dealing with read short coun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adapted from Steven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09200" y="1562040"/>
            <a:ext cx="7374240" cy="471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size_t readn(int fd, void *buf, size_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_t nleft = cou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size_t nrea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ptr = bu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nleft &g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nread = read(fd, ptr, nleft))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rrno == EINT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read = 0;      /* and call read() agai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     /* errno set by read(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if (nread ==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;              /* EOF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left -= nrea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r += nrea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(count - nleft);    /* return &gt;= 0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2040" y="334440"/>
            <a:ext cx="894060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bustly dealing with write short coun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adapted from Steven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85880" y="1654200"/>
            <a:ext cx="7617960" cy="447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size_t writen(int fd, const void *buf, size_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_t nleft = cou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size_t nwritt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 char *ptr = bu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nleft &g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nwritten = write(fd, ptr, nleft)) &lt;=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rrno == EINT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written = 0;    /* and call write() agai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      /* errorno set by write(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left -= nwritt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r += nwritt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73320" y="334800"/>
            <a:ext cx="4843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file I/O: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lseek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eek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anges the curren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le 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eek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anges the current file posi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31440" y="1905120"/>
            <a:ext cx="5910840" cy="228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fd;       /* file descripto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open the fil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Move the file position to byte offset 100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lseek(fd, 100, SEEK_SET)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rror(“lseek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07960" y="334800"/>
            <a:ext cx="45687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file I/O: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dup2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up2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pies entries in the per-process file descriptor ta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eek(oldfd, newfd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verwrites the entry in the per-process file table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f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the entry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ldf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10280" y="2286000"/>
            <a:ext cx="7983720" cy="824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Redirect stderr to stdout (so that driver will get all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the pipe connected to stdout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up2(1, 2);  /* copies fd 1 (stdout) to fd 2 (stderr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25760" y="228600"/>
            <a:ext cx="5892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typical hardware 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80320" y="2743200"/>
            <a:ext cx="90972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56080" y="2895480"/>
            <a:ext cx="1492560" cy="533520"/>
          </a:xfrm>
          <a:prstGeom prst="leftRightArrow">
            <a:avLst>
              <a:gd name="adj1" fmla="val 50000"/>
              <a:gd name="adj2" fmla="val 556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41680" y="2927520"/>
            <a:ext cx="90972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/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4400" y="2895480"/>
            <a:ext cx="1452600" cy="533520"/>
          </a:xfrm>
          <a:prstGeom prst="leftRightArrow">
            <a:avLst>
              <a:gd name="adj1" fmla="val 50000"/>
              <a:gd name="adj2" fmla="val 542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4320" y="2927520"/>
            <a:ext cx="187308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00160" y="1600200"/>
            <a:ext cx="6843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00160" y="1752480"/>
            <a:ext cx="6843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0160" y="1905120"/>
            <a:ext cx="6843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00160" y="2057400"/>
            <a:ext cx="6843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00160" y="2209680"/>
            <a:ext cx="6843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73440" y="160020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683800" y="1981080"/>
            <a:ext cx="444600" cy="381240"/>
          </a:xfrm>
          <a:prstGeom prst="rightArrow">
            <a:avLst>
              <a:gd name="adj1" fmla="val 50000"/>
              <a:gd name="adj2" fmla="val 2915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18040" y="1447920"/>
            <a:ext cx="533160" cy="106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22240" y="127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75040" y="2438280"/>
            <a:ext cx="60948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32040" y="1219320"/>
            <a:ext cx="2971800" cy="24382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1160" y="914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68920" y="220932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750840" y="251460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0280" y="22093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37200" y="2514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65600" y="358128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77044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51400" y="5041800"/>
            <a:ext cx="129564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401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21120" y="5041800"/>
            <a:ext cx="12952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76364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0920" y="5029200"/>
            <a:ext cx="11430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4952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6800" y="5790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94320" y="5790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0692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13720" y="5790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2000" y="5562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07080" y="5943600"/>
            <a:ext cx="609480" cy="609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55720" y="4102200"/>
            <a:ext cx="7277040" cy="393480"/>
          </a:xfrm>
          <a:prstGeom prst="leftRightArrow">
            <a:avLst>
              <a:gd name="adj1" fmla="val 48611"/>
              <a:gd name="adj2" fmla="val 9555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32120" y="427212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08280" y="4262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2160" y="4253040"/>
            <a:ext cx="1616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33120" y="440640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32280" y="419112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23000" y="4114800"/>
            <a:ext cx="12708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27920" y="4114800"/>
            <a:ext cx="12708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32840" y="4114800"/>
            <a:ext cx="12672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14360" y="4496760"/>
            <a:ext cx="2195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sion slot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devices s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network adap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728440" y="334800"/>
            <a:ext cx="3730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dup2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825560" y="380988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5560" y="403848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25560" y="426708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25560" y="449568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25560" y="472428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825560" y="495288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825560" y="518148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25560" y="541008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023720" y="1828800"/>
            <a:ext cx="137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n f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287760" y="2209680"/>
            <a:ext cx="137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-n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87880" y="30481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87880" y="33526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cnt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87880" y="36576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73880" y="31561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73880" y="34606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73880" y="37656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102280" y="2895480"/>
            <a:ext cx="1371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73880" y="47242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73880" y="50292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73880" y="53341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282760" y="2743200"/>
            <a:ext cx="190512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25960" y="4572000"/>
            <a:ext cx="1447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87880" y="27432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87880" y="47242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87880" y="50292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cnt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87880" y="53341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87880" y="44197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70400" y="240624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395960" y="408276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681960" y="281916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656400" y="43873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282760" y="4419720"/>
            <a:ext cx="19051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44600" y="1143000"/>
            <a:ext cx="8254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19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 call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up2(4,1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19320" y="38098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19320" y="40384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19320" y="42670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4956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19320" y="47242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19320" y="49528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51814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728440" y="334800"/>
            <a:ext cx="3730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dup2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call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up2(4,1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825560" y="36576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25560" y="38862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25560" y="41148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25560" y="43434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25560" y="45720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5560" y="48006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25560" y="50292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25560" y="52578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023720" y="1676520"/>
            <a:ext cx="137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n f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87760" y="2057400"/>
            <a:ext cx="137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-n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87880" y="28954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87880" y="32004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cnt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187880" y="35053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73880" y="30034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73880" y="33084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73880" y="36133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02280" y="2743200"/>
            <a:ext cx="1371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73880" y="45720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73880" y="48769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73880" y="51814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82760" y="4038480"/>
            <a:ext cx="18320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25960" y="4419720"/>
            <a:ext cx="1447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187880" y="25909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87880" y="45720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87880" y="48769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cnt =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87880" y="51814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87880" y="42670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370400" y="225396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395960" y="39301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81960" y="26665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656400" y="423504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2282760" y="4266720"/>
            <a:ext cx="19051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19320" y="36576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19320" y="38862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19320" y="41148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19320" y="43434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219320" y="45720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19320" y="48006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19320" y="50292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219320" y="52578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23760" y="334800"/>
            <a:ext cx="5537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ing in Standard I/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library functions 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ffered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984680" y="20239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h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057400" y="411480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514600" y="411480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5480" y="411480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52680" y="411480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09880" y="411480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411480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724280" y="411480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181480" y="411480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86000" y="2438280"/>
            <a:ext cx="0" cy="1676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41880" y="22525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43200" y="259092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23120" y="24829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l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495680" y="35812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99320" y="2743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l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62520" y="3352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80200" y="301608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o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067640" y="327672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\n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281952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581280" y="30481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352680" y="441972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486600" y="47815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flush(stdou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67400" y="3146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447920" y="3581280"/>
            <a:ext cx="6094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160360" y="569592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(1, buf += 6, 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12800" y="334800"/>
            <a:ext cx="4165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ing in 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200400" y="2987640"/>
            <a:ext cx="5562720" cy="1554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ss&gt; strace he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ecve("./hello", ["hello"], [/* ... */]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(1, "hello\n", 6)                  =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nmap(0x40000000, 4096)               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_exit(0)                                =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see this buffering for yourself, using t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fascinating Unix strace progra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28600" y="2209680"/>
            <a:ext cx="2590920" cy="325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h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l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l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o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85680" y="334440"/>
            <a:ext cx="721368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buffering to robustly rea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xt lines (Steven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30120" y="1447920"/>
            <a:ext cx="8593200" cy="496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ssize_t my_read(int fd, char *pt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int read_cn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char *read_ptr, read_buf[MAXLINE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read_cnt &lt;=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gai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(read_cnt = read(fd, read_buf, sizeof(read_buf)))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rrno == EINT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oto agai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if (read_cnt ==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_ptr = read_bu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_cnt--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ptr = *read_ptr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09360" y="334800"/>
            <a:ext cx="7365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bustly reading text lines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77840" y="1143000"/>
            <a:ext cx="8715240" cy="5204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size_t readline(int fd, void *buf, size_t maxlen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n, r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c, *ptr = bu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n = 1; n &lt; maxlen; n++) {  /* notice that loop starts at 1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(rc = my_read(fd, &amp;c)) == 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ptr++ = 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c == '\n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;          /* newline is stored, like fgets(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if (rc ==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n =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;       /* EOF, no data rea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;          /* EOF, some data was rea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 /* error, errno set by read(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ptr = 0;   /* null terminate like fgets(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701800" y="334800"/>
            <a:ext cx="3781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mmap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visit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158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*mmap(void *start, int len, int prot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lags, int fd, int off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7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tes starting at off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ffse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file specified by file descripti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referably at addre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usually 0 for don’t care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7800" indent="-157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P_RE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P_WR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7800" indent="-157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ag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P_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P_SHA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a pointer to the mapped are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447640" y="334800"/>
            <a:ext cx="4289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ualizing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mmap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18240" y="1295280"/>
            <a:ext cx="690156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 = mmap(NULL, 4, PROT_READ, MAP_PRIVATE, fd, 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086440" y="5653080"/>
            <a:ext cx="3808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86440" y="5424480"/>
            <a:ext cx="3808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086440" y="5195880"/>
            <a:ext cx="3808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086440" y="4967280"/>
            <a:ext cx="3808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086440" y="4738680"/>
            <a:ext cx="3808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86440" y="4510080"/>
            <a:ext cx="380880" cy="2286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86440" y="4281480"/>
            <a:ext cx="380880" cy="2286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086440" y="4052880"/>
            <a:ext cx="380880" cy="2286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086440" y="3824280"/>
            <a:ext cx="380880" cy="2286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86440" y="3595680"/>
            <a:ext cx="3808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086440" y="3367080"/>
            <a:ext cx="3808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086440" y="3138480"/>
            <a:ext cx="3808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76400" y="6033960"/>
            <a:ext cx="38124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76400" y="5805360"/>
            <a:ext cx="38124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76400" y="5576760"/>
            <a:ext cx="381240" cy="2286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76400" y="5348160"/>
            <a:ext cx="381240" cy="2286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76400" y="5119560"/>
            <a:ext cx="381240" cy="2286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76400" y="4890960"/>
            <a:ext cx="381240" cy="2286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76400" y="4662360"/>
            <a:ext cx="38124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76400" y="4433760"/>
            <a:ext cx="38124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76400" y="4205160"/>
            <a:ext cx="38124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76400" y="3976560"/>
            <a:ext cx="38124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76400" y="3747960"/>
            <a:ext cx="38124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76400" y="3519360"/>
            <a:ext cx="38124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64920" y="5978160"/>
            <a:ext cx="4546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90400" y="2755800"/>
            <a:ext cx="4546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81160" y="57643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81160" y="27576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21360" y="595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257640" y="4738320"/>
            <a:ext cx="1828800" cy="1066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383160" y="4510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5543640" y="470376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257640" y="3823920"/>
            <a:ext cx="1828800" cy="1066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01600" y="1940040"/>
            <a:ext cx="10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92040" y="236232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file (f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80720" y="3046320"/>
            <a:ext cx="4546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728440" y="334800"/>
            <a:ext cx="3730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mmap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03080" y="1101600"/>
            <a:ext cx="7374240" cy="4961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mmapcopy - uses mmap to copy file fd to stdou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mmapcopy(int fd, int siz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bufp; /* ptr to memory mapped VM area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p = Mmap(NULL, size, PROT_READ, MAP_PRIVATE, fd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(1, bufp, siz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mmapcopy driv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tat sta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f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 = Open(argv[1], O_RDONLY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stat(fd, &amp;sta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mapcopy(fd, stat.st_siz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039760" y="334800"/>
            <a:ext cx="5105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further inform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x bib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. Richard  Stevens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dvanced Programming in the Unix Environment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son Wesley, 1993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vens is arguably the best technical writer ev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d authoritative works i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x programm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/IP (the protocol that makes the Internet wor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x network programm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x IPC programm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gically, Stevens died Sept 1, 1999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03240" y="228600"/>
            <a:ext cx="5537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 a disk sector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86040" y="1066320"/>
            <a:ext cx="3213000" cy="43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91360" y="2743200"/>
            <a:ext cx="90972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67120" y="2895480"/>
            <a:ext cx="1492560" cy="533520"/>
          </a:xfrm>
          <a:prstGeom prst="leftRightArrow">
            <a:avLst>
              <a:gd name="adj1" fmla="val 50000"/>
              <a:gd name="adj2" fmla="val 556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52720" y="2927520"/>
            <a:ext cx="90972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95440" y="2895480"/>
            <a:ext cx="1452600" cy="533520"/>
          </a:xfrm>
          <a:prstGeom prst="leftRightArrow">
            <a:avLst>
              <a:gd name="adj1" fmla="val 50000"/>
              <a:gd name="adj2" fmla="val 542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11200" y="1600200"/>
            <a:ext cx="6843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11200" y="1752480"/>
            <a:ext cx="6843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11200" y="1905120"/>
            <a:ext cx="6843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11200" y="2057400"/>
            <a:ext cx="6843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11200" y="2209680"/>
            <a:ext cx="6843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84480" y="160020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94840" y="1981080"/>
            <a:ext cx="444600" cy="381240"/>
          </a:xfrm>
          <a:prstGeom prst="rightArrow">
            <a:avLst>
              <a:gd name="adj1" fmla="val 50000"/>
              <a:gd name="adj2" fmla="val 2915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9080" y="1447920"/>
            <a:ext cx="533160" cy="106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33280" y="127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86080" y="2438280"/>
            <a:ext cx="60948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3080" y="1219320"/>
            <a:ext cx="2971800" cy="24382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0760" y="914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76640" y="358128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18148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62440" y="5041800"/>
            <a:ext cx="129564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85120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2160" y="5041800"/>
            <a:ext cx="12952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17468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960" y="5029200"/>
            <a:ext cx="11430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056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232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7840" y="5790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360" y="5790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1796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24760" y="5790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23040" y="5562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08840" y="5943600"/>
            <a:ext cx="609480" cy="609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760" y="4102200"/>
            <a:ext cx="6972120" cy="393480"/>
          </a:xfrm>
          <a:prstGeom prst="leftRightArrow">
            <a:avLst>
              <a:gd name="adj1" fmla="val 48611"/>
              <a:gd name="adj2" fmla="val 9154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43160" y="427212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19320" y="4262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53200" y="4253040"/>
            <a:ext cx="1616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56960" y="38984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43320" y="419112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55840" y="3137040"/>
            <a:ext cx="2013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32240" y="3137040"/>
            <a:ext cx="0" cy="113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94080" y="4300560"/>
            <a:ext cx="1128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29160" y="4259160"/>
            <a:ext cx="0" cy="782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5360" y="2927520"/>
            <a:ext cx="187308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1095480"/>
            <a:ext cx="43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initiates a disk read by writing a command, logical block number, and destination memory address to a port (address) associated with disk controll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03240" y="228600"/>
            <a:ext cx="5537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 a disk sector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22880" y="2743200"/>
            <a:ext cx="90972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99000" y="2895480"/>
            <a:ext cx="1492200" cy="533520"/>
          </a:xfrm>
          <a:prstGeom prst="leftRightArrow">
            <a:avLst>
              <a:gd name="adj1" fmla="val 50000"/>
              <a:gd name="adj2" fmla="val 5567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84600" y="2927520"/>
            <a:ext cx="90972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27320" y="2895480"/>
            <a:ext cx="1452600" cy="533520"/>
          </a:xfrm>
          <a:prstGeom prst="leftRightArrow">
            <a:avLst>
              <a:gd name="adj1" fmla="val 50000"/>
              <a:gd name="adj2" fmla="val 542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43080" y="1600200"/>
            <a:ext cx="6840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43080" y="1752480"/>
            <a:ext cx="68400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43080" y="1905120"/>
            <a:ext cx="6840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43080" y="2057400"/>
            <a:ext cx="6840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43080" y="2209680"/>
            <a:ext cx="68400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16000" y="160020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926360" y="1981080"/>
            <a:ext cx="444600" cy="381240"/>
          </a:xfrm>
          <a:prstGeom prst="rightArrow">
            <a:avLst>
              <a:gd name="adj1" fmla="val 50000"/>
              <a:gd name="adj2" fmla="val 2915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60600" y="1447920"/>
            <a:ext cx="533520" cy="106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65160" y="127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17600" y="2438280"/>
            <a:ext cx="60948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4600" y="1219320"/>
            <a:ext cx="2971800" cy="24382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8480" y="914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08520" y="358128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133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94320" y="5041800"/>
            <a:ext cx="12952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68272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63680" y="5041800"/>
            <a:ext cx="129564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0065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3480" y="5029200"/>
            <a:ext cx="11430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9208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5420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9720" y="5790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37240" y="5790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4948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56640" y="5790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0000" y="5943600"/>
            <a:ext cx="609480" cy="609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280" y="4102200"/>
            <a:ext cx="6972480" cy="393480"/>
          </a:xfrm>
          <a:prstGeom prst="leftRightArrow">
            <a:avLst>
              <a:gd name="adj1" fmla="val 48611"/>
              <a:gd name="adj2" fmla="val 9155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74680" y="427212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51200" y="4262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4720" y="425304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8840" y="38984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75200" y="419112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25960" y="3137040"/>
            <a:ext cx="19652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64120" y="3137040"/>
            <a:ext cx="0" cy="113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25960" y="4300560"/>
            <a:ext cx="11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61040" y="4272120"/>
            <a:ext cx="0" cy="1671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880" y="2927520"/>
            <a:ext cx="187344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1095480"/>
            <a:ext cx="439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controller reads the sector and performs a direct memory access (DMA) transfer into main memo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03240" y="228600"/>
            <a:ext cx="5537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 a disk sector (3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51480" y="2743200"/>
            <a:ext cx="90972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27600" y="2895480"/>
            <a:ext cx="1492200" cy="533520"/>
          </a:xfrm>
          <a:prstGeom prst="leftRightArrow">
            <a:avLst>
              <a:gd name="adj1" fmla="val 50000"/>
              <a:gd name="adj2" fmla="val 5567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13200" y="2927520"/>
            <a:ext cx="90972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55920" y="2895480"/>
            <a:ext cx="1452600" cy="533520"/>
          </a:xfrm>
          <a:prstGeom prst="leftRightArrow">
            <a:avLst>
              <a:gd name="adj1" fmla="val 50000"/>
              <a:gd name="adj2" fmla="val 542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71680" y="1600200"/>
            <a:ext cx="6840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71680" y="1752480"/>
            <a:ext cx="68400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71680" y="1905120"/>
            <a:ext cx="6840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71680" y="2057400"/>
            <a:ext cx="6840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71680" y="2209680"/>
            <a:ext cx="68400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44600" y="160020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154960" y="1981080"/>
            <a:ext cx="444600" cy="381240"/>
          </a:xfrm>
          <a:prstGeom prst="rightArrow">
            <a:avLst>
              <a:gd name="adj1" fmla="val 50000"/>
              <a:gd name="adj2" fmla="val 2915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89200" y="1447920"/>
            <a:ext cx="533520" cy="106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93760" y="127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46200" y="2438280"/>
            <a:ext cx="60948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200" y="1219320"/>
            <a:ext cx="2971800" cy="24382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080" y="914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37120" y="358128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2419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22920" y="5041800"/>
            <a:ext cx="12952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91132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92280" y="5041800"/>
            <a:ext cx="129564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2351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92080" y="5029200"/>
            <a:ext cx="11430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2068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8280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8320" y="5790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65840" y="5790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7808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85240" y="5790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3160" y="5562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78600" y="5943600"/>
            <a:ext cx="609480" cy="609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6880" y="4102200"/>
            <a:ext cx="6972480" cy="393480"/>
          </a:xfrm>
          <a:prstGeom prst="leftRightArrow">
            <a:avLst>
              <a:gd name="adj1" fmla="val 48611"/>
              <a:gd name="adj2" fmla="val 9155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427212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79800" y="4262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13320" y="425304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17440" y="38984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03800" y="419112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400560" y="2451240"/>
            <a:ext cx="1017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92720" y="2438280"/>
            <a:ext cx="0" cy="183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54560" y="4300560"/>
            <a:ext cx="11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483160" y="4272120"/>
            <a:ext cx="6480" cy="782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5480" y="2927520"/>
            <a:ext cx="187344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38480" y="1095480"/>
            <a:ext cx="43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DMA transfer completes, the disk controller notifies the CPU with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rru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.e., asserts a special “interrupt” pin on the CP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512880" y="334800"/>
            <a:ext cx="2158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fi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19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x file is a sequence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t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.... ,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, .... ,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I/O devices are represented as fi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ev/sda2    (/usr disk parti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ev/tty2      (termi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 the kernel is represented as a fi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ev/kmem  (kernel memory image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proc            (kernel data structur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rnel identifies each file by a small intege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scripto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: standard in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: standard out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: standard err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979360" y="334800"/>
            <a:ext cx="3225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file typ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7600" y="1142640"/>
            <a:ext cx="825516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 or text fil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x does not know the difference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ory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ile that contains names and locations of other fi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pecial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certain types of streaming devices (e.g., terminal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 special fi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ile type typically used for disk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O (named pi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ile type used for interprocess comun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ile type used for network communication between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156120" y="1905120"/>
            <a:ext cx="4190760" cy="175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25520" y="334800"/>
            <a:ext cx="2933640" cy="58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/O fun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56120" y="4419720"/>
            <a:ext cx="4190760" cy="761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56120" y="3657600"/>
            <a:ext cx="419076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nix I/O system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unbuffer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56120" y="2895480"/>
            <a:ext cx="29718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ndard I/O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uffer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99520" y="2209680"/>
            <a:ext cx="26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Application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19960" y="3733920"/>
            <a:ext cx="200160" cy="685800"/>
          </a:xfrm>
          <a:custGeom>
            <a:avLst/>
            <a:gdLst>
              <a:gd name="textAreaLeft" fmla="*/ 0 w 200160"/>
              <a:gd name="textAreaRight" fmla="*/ 72360 w 2001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2209680"/>
            <a:ext cx="213372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pen  f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write fprint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scanf fg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seek  fc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895480" y="2819520"/>
            <a:ext cx="152640" cy="761760"/>
          </a:xfrm>
          <a:custGeom>
            <a:avLst/>
            <a:gdLst>
              <a:gd name="textAreaLeft" fmla="*/ 360 w 152640"/>
              <a:gd name="textAreaRight" fmla="*/ 55440 w 15264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5040" y="4024440"/>
            <a:ext cx="182664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 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  lse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   c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895480" y="3733920"/>
            <a:ext cx="152640" cy="761760"/>
          </a:xfrm>
          <a:custGeom>
            <a:avLst/>
            <a:gdLst>
              <a:gd name="textAreaLeft" fmla="*/ 360 w 152640"/>
              <a:gd name="textAreaRight" fmla="*/ 55440 w 15264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285640" y="41148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2285640" y="289512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82400" y="38448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54880" y="1946160"/>
            <a:ext cx="88920" cy="1711440"/>
          </a:xfrm>
          <a:custGeom>
            <a:avLst/>
            <a:gdLst>
              <a:gd name="textAreaLeft" fmla="*/ 0 w 88920"/>
              <a:gd name="textAreaRight" fmla="*/ 32040 w 88920"/>
              <a:gd name="textAreaTop" fmla="*/ 44640 h 1711440"/>
              <a:gd name="textAreaBottom" fmla="*/ 1666800 h 171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96800" y="243828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25280" y="334800"/>
            <a:ext cx="5334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ndard I/O vs Unix I/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should I use the Standard I/O func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ever possible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C programmers are able to do all of their work using the standard I/O func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would I ever need to use the lower level Unix I/O func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tching file metadata (e.g., size, modification da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use lower leve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ing network  programm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are some bad interactions between sockets and the standard library func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ing high performan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2T14:46:03Z</dcterms:created>
  <dc:creator>David O'Hallaron</dc:creator>
  <dc:description/>
  <dc:language>en-US</dc:language>
  <cp:lastModifiedBy>Gregory Kesden</cp:lastModifiedBy>
  <cp:lastPrinted>2001-11-14T21:29:59Z</cp:lastPrinted>
  <dcterms:modified xsi:type="dcterms:W3CDTF">2002-04-16T12:36:47Z</dcterms:modified>
  <cp:revision>448</cp:revision>
  <dc:subject/>
  <dc:title>Internetworking I</dc:title>
</cp:coreProperties>
</file>