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771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3B459CB1-A4C9-4FB2-B1EC-F4F29FF11B9A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09960" y="1905120"/>
            <a:ext cx="32004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21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2.1-12.4 (Beta) or 12.1-10.1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2.9 (Beta) or 12.4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5320" y="334800"/>
            <a:ext cx="66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-data returned by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tat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560" y="13906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file info returned by the stat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4360" y="33480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6080" y="3200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6080" y="34290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6080" y="36576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6080" y="38862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6080" y="4114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2560" y="229932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7920" y="16002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8400" y="2438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7840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7840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4400" y="2546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4400" y="2851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440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2800" y="22860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4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4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4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73280" y="2133360"/>
            <a:ext cx="190512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6480" y="39625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78400" y="2133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8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78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78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78400" y="38098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179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6120" y="34729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120" y="2209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46920" y="3777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73280" y="38095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85960" y="33480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ork (processes inherit open file table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03520" y="25909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3520" y="28195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03520" y="30481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03520" y="32767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03520" y="35053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168984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65360" y="16891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5480" y="2527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5480" y="28321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5480" y="31370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51480" y="2635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1480" y="294012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51480" y="324468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79880" y="237492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51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51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1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087640" y="2222640"/>
            <a:ext cx="19778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03920" y="4051440"/>
            <a:ext cx="14475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5480" y="2222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65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5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65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65480" y="3898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48360" y="1885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73560" y="3561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9560" y="2298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34360" y="386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7640" y="3594240"/>
            <a:ext cx="1977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0640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0640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640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06400" y="5715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6400" y="5943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4360" y="4006440"/>
            <a:ext cx="132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l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33720" y="2298240"/>
            <a:ext cx="1935000" cy="311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33720" y="3898440"/>
            <a:ext cx="1935000" cy="21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open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ile before you can do anything el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a small integer (file descrip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efined file descrip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d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d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de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1080" y="1905120"/>
            <a:ext cx="5789160" cy="179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read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fetch the contents of a file from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read from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(nbytes &lt; sizeof(buf)) are possible and not error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into memory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80" y="182880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ad up to 512 bytes from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modify the file contents starting at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written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are possible and are not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1440" y="190512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rite up to 512 bytes from buf to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2800" y="334440"/>
            <a:ext cx="8839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read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9200" y="1562040"/>
            <a:ext cx="7374240" cy="471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n(int fd,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read = read(fd, ptr, nleft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/*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count - nleft);    /* return &gt;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2040" y="334440"/>
            <a:ext cx="89406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write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880" y="1654200"/>
            <a:ext cx="761796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writen(int fd, const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written = write(fd, ptr, nleft))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written = 0;    /* and call write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 /* errorno set by write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7332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see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1440" y="1905120"/>
            <a:ext cx="591084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ove the file position to byte offset 10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seek(fd, 100, SEEK_SET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lseek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pies entries in the per-process file descriptor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oldfd, newfd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writes the entry in the per-process file tabl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f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entry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280" y="2286000"/>
            <a:ext cx="798372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direct stderr to stdout (so that driver will get all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pipe connected to stdou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1, 2);  /* copies fd 1 (stdout) to fd 2 (stder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ypical hardw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032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608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168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432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3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8380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804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2224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504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11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68920" y="2209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50840" y="25146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0280" y="2209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3720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6560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704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5140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40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11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636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092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95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680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432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69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1372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0708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5720" y="4102200"/>
            <a:ext cx="7277040" cy="393480"/>
          </a:xfrm>
          <a:prstGeom prst="leftRightArrow">
            <a:avLst>
              <a:gd name="adj1" fmla="val 48611"/>
              <a:gd name="adj2" fmla="val 95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2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828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3120" y="44064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228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2300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2792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32840" y="411480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360" y="449676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5560" y="3809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5560" y="4038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5560" y="4267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5560" y="44956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5560" y="47242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5560" y="4952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5181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5560" y="5410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23720" y="18288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87760" y="220968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8788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87880" y="3352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7880" y="3657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388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3880" y="3460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3880" y="3765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2280" y="289548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3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73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3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2760" y="2743200"/>
            <a:ext cx="19051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5960" y="457200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788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87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87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7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8788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0400" y="2406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95960" y="4082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28191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56400" y="4387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2760" y="4419720"/>
            <a:ext cx="1905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1143000"/>
            <a:ext cx="8254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3809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4267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4956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4724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4952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5181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5560" y="3657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5560" y="3886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5560" y="4114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5560" y="4343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5560" y="4572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5560" y="4800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556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556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23720" y="16765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7760" y="20574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87880" y="2895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87880" y="3200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87880" y="3505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3880" y="3003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3880" y="3308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3880" y="3613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2280" y="27432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3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3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3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2760" y="4038480"/>
            <a:ext cx="18320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5960" y="44197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87880" y="2590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87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87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87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87880" y="42670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70400" y="22539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95960" y="39301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81960" y="26665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56400" y="42350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82760" y="42667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3657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886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4114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343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5720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800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5029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257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Standard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library function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ed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280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2987640"/>
            <a:ext cx="5562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strac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"hello\n", 6)                 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nmap(0x40000000, 4096)            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this buffering for yourself, using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fascinating Unix strace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85680" y="334440"/>
            <a:ext cx="7213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buffering to robustly rea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lines (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0120" y="1447920"/>
            <a:ext cx="859320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read_cnt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a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ead_cnt = read(fd, read_buf, sizeof(read_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o ag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ead_cnt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ptr = read_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cnt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*read_p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9360" y="33480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reading text lin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7840" y="1143000"/>
            <a:ext cx="8715240" cy="520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line(int fd, void *buf, size_t max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, r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c,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n = 1; n &lt; maxlen; n++) {  /* notice that loop starts at 1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c = my_read(fd, &amp;c)) == 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++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 == '\n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newline is stored,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c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       /* EOF, no data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EOF, some data wa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/* error,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0;   /* null terminate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01800" y="334800"/>
            <a:ext cx="378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158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SH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 pointer to the mapped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47640" y="334800"/>
            <a:ext cx="428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18240" y="1295280"/>
            <a:ext cx="69015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mmap(NULL, 4, PROT_READ, MAP_PRIVATE, fd, 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86440" y="5653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86440" y="5424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86440" y="51958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86440" y="49672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86440" y="4738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86440" y="45100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86440" y="42814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86440" y="40528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86440" y="38242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86440" y="3595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86440" y="3367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86440" y="3138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6400" y="6033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6400" y="5805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6400" y="55767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6400" y="53481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76400" y="51195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76400" y="48909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76400" y="4662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76400" y="44337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76400" y="42051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76400" y="39765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76400" y="3747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76400" y="3519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4920" y="597816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90400" y="275580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81160" y="5764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81160" y="2757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1360" y="595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57640" y="47383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83160" y="45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543640" y="470376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257640" y="38239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01600" y="194004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92040" y="23623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file 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0720" y="304632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3080" y="1101600"/>
            <a:ext cx="737424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- uses mmap to copy file fd to stdo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mmapcopy(int fd, int 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bufp; /* ptr to memory mapped VM are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p = Mmap(NULL, size, PROT_READ, MAP_PRIVATE, fd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dri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argv[1]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mapcopy(fd, stat.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39760" y="334800"/>
            <a:ext cx="5105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. Richard  Steven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vanced Programming in the Unix Environ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son Wesley, 199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d authoritative works 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86040" y="1066320"/>
            <a:ext cx="3213000" cy="43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9136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712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272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544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120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120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120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120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8448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9484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328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608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07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664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814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512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746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96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05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23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784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36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79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476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2304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884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76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4316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1932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320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696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332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55840" y="3137040"/>
            <a:ext cx="201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224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4080" y="4300560"/>
            <a:ext cx="112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29160" y="4259160"/>
            <a:ext cx="0" cy="78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90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46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73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430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430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430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30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30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60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263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606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51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176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46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085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133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6827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36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065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542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72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94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566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2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46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47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88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752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5960" y="3137040"/>
            <a:ext cx="1965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6412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59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1040" y="4272120"/>
            <a:ext cx="0" cy="167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8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12880" y="334800"/>
            <a:ext cx="2158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x file is a 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sda2    (/usr disk parti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tty2      (term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kmem  (kernel memory imag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proc            (kernel data struc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identifies each file by a small integ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crip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andard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andard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79360" y="334800"/>
            <a:ext cx="322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142640"/>
            <a:ext cx="82551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or text fi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does not know the differenc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hat contains names and locations of other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pecia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ertain types of streaming devices (e.g., termina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pecial f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typically used for disk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interprocess co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network communication between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56120" y="1905120"/>
            <a:ext cx="419076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5520" y="334800"/>
            <a:ext cx="2933640" cy="5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56120" y="4419720"/>
            <a:ext cx="419076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56120" y="3657600"/>
            <a:ext cx="41907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x I/O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56120" y="2895480"/>
            <a:ext cx="2971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I/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99520" y="220968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pplic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19960" y="3733920"/>
            <a:ext cx="200160" cy="685800"/>
          </a:xfrm>
          <a:custGeom>
            <a:avLst/>
            <a:gdLst>
              <a:gd name="textAreaLeft" fmla="*/ 0 w 200160"/>
              <a:gd name="textAreaRight" fmla="*/ 72360 w 2001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2209680"/>
            <a:ext cx="21337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pen  f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write fprin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canf f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eek  f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95480" y="28195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040" y="4024440"/>
            <a:ext cx="1826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 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  ls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   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95480" y="37339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85640" y="41148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285640" y="28951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82400" y="3844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54880" y="1946160"/>
            <a:ext cx="88920" cy="1711440"/>
          </a:xfrm>
          <a:custGeom>
            <a:avLst/>
            <a:gdLst>
              <a:gd name="textAreaLeft" fmla="*/ 0 w 88920"/>
              <a:gd name="textAreaRight" fmla="*/ 32040 w 88920"/>
              <a:gd name="textAreaTop" fmla="*/ 44640 h 1711440"/>
              <a:gd name="textAreaBottom" fmla="*/ 166680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800" y="243828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25280" y="33480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I/O vs Unix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I use the Standard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possi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I ever need to use the lower level Unix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file metadata (e.g., size, modification d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lower lev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network 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some bad interactions between sockets and the standard library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ing high perform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14T21:29:59Z</cp:lastPrinted>
  <dcterms:modified xsi:type="dcterms:W3CDTF">2002-04-16T12:36:47Z</dcterms:modified>
  <cp:revision>448</cp:revision>
  <dc:subject/>
  <dc:title>Internetworking I</dc:title>
</cp:coreProperties>
</file>