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28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FA17FA40-3F6F-46AD-859A-D3165B3A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905120"/>
            <a:ext cx="662940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Memory Allocation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1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88620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y-linked free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ted free l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related perils and pitf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10.10 – 10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10.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segregate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arate heap and free list for each siz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ree list for size n is not empty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first block on list (note, list can be implicit or explic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ree list is empt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a new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free list from all blocks i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first block 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o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age is empty, return the page for use by another size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, but can fragment ba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7320" y="228600"/>
            <a:ext cx="3429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regated f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of free lists, each one for some siz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llocate a block of size 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appropriate free list for block of size m &gt; 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appropriate block is foun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block and place fragment on appropriate list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 block is found, try next larger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until block is f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ree a blo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e and place on appropriate list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search than sequential fits (i.e., log time for power of two size cla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fragmentation of simple segregat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escing can increase search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coalescing can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63640" y="228240"/>
            <a:ext cx="7416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 of dynamic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orage alloc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1280" y="1828800"/>
            <a:ext cx="82551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Knuth, “The Art of Computer Programming, Second Edition”, Addison Wesley, 197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lassic reference on dynamic storage al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et al, “Dynamic Storage Allocation: A Survey and Critical Review”, Proc. 1995 Int’l Workshop on Memory Management, Kinross, Scotland, Sept, 199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ve surv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rom the course web page (see Documents p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08240" y="228240"/>
            <a:ext cx="652752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icit Memory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bage coll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arbage collec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reclamation of heap-allocated storage -- application never has to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41148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in functional languages, scripting languages, and modern object oriented langu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p, ML, Java, Perl, Mathemat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s (conservative garbage collectors) exist for C and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collect all garb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14480" y="2819520"/>
            <a:ext cx="493560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p = malloc(12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 /* p block is now garbag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13080" y="228600"/>
            <a:ext cx="4317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memory manager know when memory can be fr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 we cannot know what is going to be used in the future since it depends on conditio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e can tell that certain blocks cannot be used if there are no pointers to th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make certain assumptions about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manager can distinguish pointers from non-poi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ointers point to the start of a bloc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hide pointers (e.g. by coercing them to an int, and then back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79560" y="228600"/>
            <a:ext cx="5384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ical GC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8318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 and sweep collection (McCarthy, 19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move blocks (unless you also “compact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counting (Collins, 19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move blocks (not discus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ing collection (Minsky, 196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s blocks (not discuss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re information se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nes and Lin, “Garbage Collection: Algorithms for Automatic Dynamic Memory”, John Wiley &amp; Sons, 199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25680" y="228600"/>
            <a:ext cx="4292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as a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470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view memory as a directed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is a node in the grap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er is an edge in the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3560" indent="-15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s not in the heap that contain pointers into the heap are calle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odes  (e.g. registers, locations on the stack, global variab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2092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87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30600" y="28195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015640" y="3124080"/>
            <a:ext cx="3812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4400" y="3505320"/>
            <a:ext cx="598500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8000" y="281952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4800" y="35812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p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40240" y="31240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59200" y="31240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6372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876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16400" y="40384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330200" y="4267080"/>
            <a:ext cx="5335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779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68640" y="4267080"/>
            <a:ext cx="533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4952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9040" y="4343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16400" y="495288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434340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5105520"/>
            <a:ext cx="304920" cy="30456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3809880" y="5028840"/>
            <a:ext cx="457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809880" y="4571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6840" y="3632040"/>
            <a:ext cx="30492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6840" y="4089240"/>
            <a:ext cx="304920" cy="30492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231320" y="403848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-reach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garb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1040" y="3581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9680" y="5638680"/>
            <a:ext cx="862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ode (block) i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ch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f there is a path from any root to that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achable nodes ar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rb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ever needed by the ap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9760" y="228600"/>
            <a:ext cx="6324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umptions for this l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(n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urns pointer to new block with all location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e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b,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d loc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into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b,i,v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loc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lock will have a header 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d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[-1]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for different purposes in different coll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used by the Garbage Coll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_ptr(p):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ermines whe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ngth(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returns the length of bloc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ing the hea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roots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urns all the ro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324480" y="4876920"/>
            <a:ext cx="30492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12800" y="228600"/>
            <a:ext cx="5918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collec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uild on top of malloc/free pack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l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til you “run out of spac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ut of spa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xt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mark bi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head of each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roots and s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b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ll reachabl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ll block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that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mar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365760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3632040"/>
            <a:ext cx="1752840" cy="55908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4191120"/>
            <a:ext cx="137160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9040" y="39369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784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30080" y="35496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03848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1800" y="403848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038480"/>
            <a:ext cx="60984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038480"/>
            <a:ext cx="12189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24480" y="403848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199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038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62520" y="4495680"/>
            <a:ext cx="685800" cy="48276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7048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5029200"/>
            <a:ext cx="1218960" cy="38088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9400" y="47750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ma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4622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4876920"/>
            <a:ext cx="60948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4876920"/>
            <a:ext cx="60948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81280" y="4876920"/>
            <a:ext cx="60984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91120" y="4876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5520" y="4876920"/>
            <a:ext cx="121896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4876920"/>
            <a:ext cx="9144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62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15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4876920"/>
            <a:ext cx="304560" cy="30456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5334120"/>
            <a:ext cx="685800" cy="482400"/>
          </a:xfrm>
          <a:custGeom>
            <a:avLst/>
            <a:gdLst/>
            <a:ahLst/>
            <a:rect l="l" t="t" r="r" b="b"/>
            <a:pathLst>
              <a:path w="768" h="304">
                <a:moveTo>
                  <a:pt x="768" y="304"/>
                </a:moveTo>
                <a:cubicBezTo>
                  <a:pt x="640" y="168"/>
                  <a:pt x="512" y="32"/>
                  <a:pt x="384" y="16"/>
                </a:cubicBezTo>
                <a:cubicBezTo>
                  <a:pt x="256" y="0"/>
                  <a:pt x="128" y="104"/>
                  <a:pt x="0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5308560"/>
            <a:ext cx="1752840" cy="558720"/>
          </a:xfrm>
          <a:custGeom>
            <a:avLst/>
            <a:gdLst/>
            <a:ahLst/>
            <a:rect l="l" t="t" r="r" b="b"/>
            <a:pathLst>
              <a:path w="960" h="352">
                <a:moveTo>
                  <a:pt x="0" y="352"/>
                </a:moveTo>
                <a:cubicBezTo>
                  <a:pt x="136" y="192"/>
                  <a:pt x="272" y="32"/>
                  <a:pt x="432" y="16"/>
                </a:cubicBezTo>
                <a:cubicBezTo>
                  <a:pt x="592" y="0"/>
                  <a:pt x="776" y="128"/>
                  <a:pt x="960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5867280"/>
            <a:ext cx="1218960" cy="381240"/>
          </a:xfrm>
          <a:custGeom>
            <a:avLst/>
            <a:gdLst/>
            <a:ahLst/>
            <a:rect l="l" t="t" r="r" b="b"/>
            <a:pathLst>
              <a:path w="768" h="256">
                <a:moveTo>
                  <a:pt x="768" y="0"/>
                </a:moveTo>
                <a:cubicBezTo>
                  <a:pt x="640" y="112"/>
                  <a:pt x="512" y="224"/>
                  <a:pt x="384" y="240"/>
                </a:cubicBezTo>
                <a:cubicBezTo>
                  <a:pt x="256" y="256"/>
                  <a:pt x="128" y="176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9760" y="561348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sw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5460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571500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1800" y="5715000"/>
            <a:ext cx="6094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5715000"/>
            <a:ext cx="60984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57150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5520" y="5715000"/>
            <a:ext cx="121896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24480" y="5715000"/>
            <a:ext cx="91440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5520" y="5715000"/>
            <a:ext cx="121896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9680" y="33526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it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5715000"/>
            <a:ext cx="609480" cy="30492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5181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480" y="1447920"/>
            <a:ext cx="773964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r mark(ptr 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_ptr(p)) return;        // do nothing if not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rkBitSet(p)) return      // check if already mar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MarkBit(p);                 // set the mark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=0; i &lt; length(p); i++)  // mark all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rk(p[i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 using depth-first traversal of the memory grap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3657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ep using lengths to find next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2160" y="4038480"/>
            <a:ext cx="432612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tr sweep(ptr p, ptr en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p &lt; end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markBitSet(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clearMarkB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if (allocateBitSet(p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 += length(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ing track of free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mplicit list using lengths -- links all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explicit list among the free blocks using pointers within the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free lists for different size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locks sorted by size (not discuss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a balanced tree (e.g. Red-Black tree) with pointers within each free block, and the length used as a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60020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60020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160020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60020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276720"/>
            <a:ext cx="30456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276720"/>
            <a:ext cx="304560" cy="3045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946240"/>
            <a:ext cx="2438280" cy="482760"/>
          </a:xfrm>
          <a:custGeom>
            <a:avLst/>
            <a:gdLst/>
            <a:ahLst/>
            <a:rect l="l" t="t" r="r" b="b"/>
            <a:pathLst>
              <a:path w="1536" h="304">
                <a:moveTo>
                  <a:pt x="0" y="304"/>
                </a:moveTo>
                <a:cubicBezTo>
                  <a:pt x="328" y="167"/>
                  <a:pt x="656" y="31"/>
                  <a:pt x="912" y="16"/>
                </a:cubicBezTo>
                <a:cubicBezTo>
                  <a:pt x="1167" y="0"/>
                  <a:pt x="1351" y="104"/>
                  <a:pt x="1536" y="2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13716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4"/>
                </a:moveTo>
                <a:cubicBezTo>
                  <a:pt x="184" y="72"/>
                  <a:pt x="368" y="0"/>
                  <a:pt x="528" y="0"/>
                </a:cubicBezTo>
                <a:cubicBezTo>
                  <a:pt x="688" y="0"/>
                  <a:pt x="824" y="72"/>
                  <a:pt x="960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1371600"/>
            <a:ext cx="1219320" cy="228600"/>
          </a:xfrm>
          <a:custGeom>
            <a:avLst/>
            <a:gdLst/>
            <a:ahLst/>
            <a:rect l="l" t="t" r="r" b="b"/>
            <a:pathLst>
              <a:path w="768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72"/>
                  <a:pt x="76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3716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209680"/>
            <a:ext cx="8458200" cy="1524240"/>
          </a:xfrm>
          <a:prstGeom prst="rect">
            <a:avLst/>
          </a:prstGeom>
          <a:noFill/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47840" y="228600"/>
            <a:ext cx="4648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k and sweep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 Conservative Coll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_pt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termines if a word is a pointer by checking if it points to an allocated block of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in C pointers can point to the middle of a bloc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how do we find the beginning of the b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balanced tree to keep track of all allocated blocks where the key is th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d tree pointers can be stored in head (use two additional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4600" y="2666880"/>
            <a:ext cx="3200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8160" y="2362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7880" y="2193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62520" y="2514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2666880"/>
            <a:ext cx="13716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43000" y="2666880"/>
            <a:ext cx="30492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2666880"/>
            <a:ext cx="304560" cy="3049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4876920"/>
            <a:ext cx="1143000" cy="380880"/>
          </a:xfrm>
          <a:prstGeom prst="rect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38280" y="4876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4876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00400" y="4876920"/>
            <a:ext cx="182880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65840" y="45561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89920" y="45561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285640" y="510552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71800" y="510552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60640" y="5486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8720" y="54864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06560" y="48769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97080" y="228600"/>
            <a:ext cx="474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-related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eferencing bad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uninitialized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ing nonexistent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eing blocks multiple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0703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eferencing bad poi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lassic scanf bu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35120" y="2362320"/>
            <a:ext cx="2253240" cy="337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f(“%d”, v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uninitialized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51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uming that heap data is initialized to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2413080"/>
            <a:ext cx="4343400" cy="2770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eturn y = Ax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matvec(int **A, int *x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y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[i] += A[i][j]*x[j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1699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ing the (possibly) wrong sized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62400" y="2286000"/>
            <a:ext cx="408204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09680" y="1066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-by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38720" y="2286000"/>
            <a:ext cx="408204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malloc(N*sizeof(int *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=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i]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 checking the max string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62920" y="2286000"/>
            <a:ext cx="566712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(s);  /* reads “123456789” from stdin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79120" y="4226040"/>
            <a:ext cx="45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for classic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ffer overflow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88 Internet w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 attacks on Web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L/Microsoft IM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155160"/>
            <a:ext cx="8445240" cy="6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153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ho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s that use C library routines such as gets() that don’t check input sizes when they write into buffers on the sta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llowing description is based on the IA32 stack conventions.  The details will depend on how the stack is  organized, which varies between compilers and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57800"/>
            <a:ext cx="1676520" cy="90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38280" y="4495680"/>
            <a:ext cx="1676520" cy="3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81280"/>
            <a:ext cx="167652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ved regs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62720" y="3729240"/>
            <a:ext cx="2468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(); # call procedu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56240" y="4942440"/>
            <a:ext cx="5325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buffer[64]; # alloc 64 bytes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uffer);      # read STDIN line into 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3276720"/>
            <a:ext cx="1676520" cy="159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89080" y="3276720"/>
            <a:ext cx="273240" cy="1590480"/>
          </a:xfrm>
          <a:custGeom>
            <a:avLst/>
            <a:gdLst>
              <a:gd name="textAreaLeft" fmla="*/ 174600 w 273240"/>
              <a:gd name="textAreaRight" fmla="*/ 273600 w 273240"/>
              <a:gd name="textAreaTop" fmla="*/ 41400 h 1590480"/>
              <a:gd name="textAreaBottom" fmla="*/ 1549080 h 15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38400" y="3664440"/>
            <a:ext cx="791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4876920"/>
            <a:ext cx="1676520" cy="39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89080" y="4943520"/>
            <a:ext cx="228600" cy="1293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33000" y="5034600"/>
            <a:ext cx="802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962520" y="4267080"/>
            <a:ext cx="99828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4876920"/>
            <a:ext cx="167652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55600" y="380988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8280" y="3276720"/>
            <a:ext cx="1676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-60480" y="451008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14068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600" y="144792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y stems from possibility of the gets() routine overwriting the return address for 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write stack frame w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ine code instruction(s) that execs a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gus return address to the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7240" y="3378960"/>
            <a:ext cx="4449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proc a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b()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all procedur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}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b should return here, instead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turns to an address inside of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75000" y="4713840"/>
            <a:ext cx="4488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buffer[64]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alloc 64 bytes on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uffer);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ad STDIN line to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3656880" y="4648320"/>
            <a:ext cx="228600" cy="1676160"/>
          </a:xfrm>
          <a:custGeom>
            <a:avLst/>
            <a:gdLst>
              <a:gd name="textAreaLeft" fmla="*/ 145800 w 228600"/>
              <a:gd name="textAreaRight" fmla="*/ 22860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62520" y="586728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region overwritten by gets(buff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5120" y="5638680"/>
            <a:ext cx="167616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(“/bin/sh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05120" y="4648320"/>
            <a:ext cx="1676160" cy="38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retu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3733920"/>
            <a:ext cx="167616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ved regs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429000"/>
            <a:ext cx="1676160" cy="159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55920" y="3429000"/>
            <a:ext cx="272880" cy="1590840"/>
          </a:xfrm>
          <a:custGeom>
            <a:avLst/>
            <a:gdLst>
              <a:gd name="textAreaLeft" fmla="*/ 174240 w 272880"/>
              <a:gd name="textAreaRight" fmla="*/ 272880 w 272880"/>
              <a:gd name="textAreaTop" fmla="*/ 41400 h 1590840"/>
              <a:gd name="textAreaBottom" fmla="*/ 154944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5240" y="3817080"/>
            <a:ext cx="791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5029200"/>
            <a:ext cx="16761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55920" y="5095800"/>
            <a:ext cx="228600" cy="1293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9480" y="5186880"/>
            <a:ext cx="802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5029200"/>
            <a:ext cx="167616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2440" y="3962520"/>
            <a:ext cx="1440" cy="228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5120" y="3429000"/>
            <a:ext cx="1676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4800600"/>
            <a:ext cx="533160" cy="1143000"/>
          </a:xfrm>
          <a:custGeom>
            <a:avLst/>
            <a:gdLst/>
            <a:ahLst/>
            <a:rect l="l" t="t" r="r" b="b"/>
            <a:pathLst>
              <a:path w="336" h="720">
                <a:moveTo>
                  <a:pt x="0" y="0"/>
                </a:moveTo>
                <a:cubicBezTo>
                  <a:pt x="168" y="132"/>
                  <a:pt x="336" y="264"/>
                  <a:pt x="336" y="384"/>
                </a:cubicBezTo>
                <a:cubicBezTo>
                  <a:pt x="336" y="504"/>
                  <a:pt x="56" y="664"/>
                  <a:pt x="0" y="7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560" y="4510080"/>
            <a:ext cx="7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5639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ing a pointer instead of the object it points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2209680"/>
            <a:ext cx="591660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BinheapDelete(int **binheap, int *siz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pack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et = binheap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inheap[0] = binheap[*size - 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ize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pify(binheap, *size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(pack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ata space for link poi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doubly lin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need boundary tags for coales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mportant to realize that links are not necessarily in the same order as th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09320" y="1219320"/>
            <a:ext cx="4343760" cy="304560"/>
            <a:chOff x="2209320" y="1219320"/>
            <a:chExt cx="4343760" cy="304560"/>
          </a:xfrm>
        </p:grpSpPr>
        <p:sp>
          <p:nvSpPr>
            <p:cNvPr id="89" name=""/>
            <p:cNvSpPr/>
            <p:nvPr/>
          </p:nvSpPr>
          <p:spPr>
            <a:xfrm>
              <a:off x="2514600" y="1219320"/>
              <a:ext cx="8380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9880" y="1219320"/>
              <a:ext cx="8384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1219320"/>
              <a:ext cx="11430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1295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8320" y="12952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648320" y="144756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352680" y="14475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200" y="12952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209320" y="1447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9144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3581280"/>
            <a:ext cx="30456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3581280"/>
            <a:ext cx="304920" cy="3049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81280"/>
            <a:ext cx="30456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581280"/>
            <a:ext cx="304920" cy="304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3174840"/>
            <a:ext cx="5181480" cy="559080"/>
          </a:xfrm>
          <a:custGeom>
            <a:avLst/>
            <a:gdLst/>
            <a:ahLst/>
            <a:rect l="l" t="t" r="r" b="b"/>
            <a:pathLst>
              <a:path w="3264" h="352">
                <a:moveTo>
                  <a:pt x="0" y="352"/>
                </a:moveTo>
                <a:cubicBezTo>
                  <a:pt x="712" y="191"/>
                  <a:pt x="1424" y="31"/>
                  <a:pt x="1968" y="16"/>
                </a:cubicBezTo>
                <a:cubicBezTo>
                  <a:pt x="2511" y="0"/>
                  <a:pt x="2887" y="128"/>
                  <a:pt x="3264" y="2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098880"/>
            <a:ext cx="3352680" cy="635040"/>
          </a:xfrm>
          <a:custGeom>
            <a:avLst/>
            <a:gdLst/>
            <a:ahLst/>
            <a:rect l="l" t="t" r="r" b="b"/>
            <a:pathLst>
              <a:path w="2112" h="400">
                <a:moveTo>
                  <a:pt x="2112" y="400"/>
                </a:moveTo>
                <a:cubicBezTo>
                  <a:pt x="2072" y="216"/>
                  <a:pt x="2032" y="32"/>
                  <a:pt x="1680" y="16"/>
                </a:cubicBezTo>
                <a:cubicBezTo>
                  <a:pt x="1328" y="0"/>
                  <a:pt x="280" y="256"/>
                  <a:pt x="0" y="30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733920"/>
            <a:ext cx="6096240" cy="671400"/>
          </a:xfrm>
          <a:custGeom>
            <a:avLst/>
            <a:gdLst/>
            <a:ahLst/>
            <a:rect l="l" t="t" r="r" b="b"/>
            <a:pathLst>
              <a:path w="3840" h="423">
                <a:moveTo>
                  <a:pt x="3840" y="0"/>
                </a:moveTo>
                <a:cubicBezTo>
                  <a:pt x="3719" y="136"/>
                  <a:pt x="3599" y="272"/>
                  <a:pt x="3072" y="336"/>
                </a:cubicBezTo>
                <a:cubicBezTo>
                  <a:pt x="2544" y="399"/>
                  <a:pt x="1183" y="423"/>
                  <a:pt x="672" y="384"/>
                </a:cubicBezTo>
                <a:cubicBezTo>
                  <a:pt x="160" y="344"/>
                  <a:pt x="80" y="220"/>
                  <a:pt x="0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733920"/>
            <a:ext cx="2438280" cy="480960"/>
          </a:xfrm>
          <a:custGeom>
            <a:avLst/>
            <a:gdLst/>
            <a:ahLst/>
            <a:rect l="l" t="t" r="r" b="b"/>
            <a:pathLst>
              <a:path w="1536" h="303">
                <a:moveTo>
                  <a:pt x="0" y="0"/>
                </a:moveTo>
                <a:cubicBezTo>
                  <a:pt x="280" y="136"/>
                  <a:pt x="560" y="272"/>
                  <a:pt x="816" y="288"/>
                </a:cubicBezTo>
                <a:cubicBezTo>
                  <a:pt x="1071" y="303"/>
                  <a:pt x="1303" y="199"/>
                  <a:pt x="1536" y="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7400" y="28954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4680" y="403236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75680" y="3651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111480"/>
            <a:ext cx="2971800" cy="622440"/>
          </a:xfrm>
          <a:custGeom>
            <a:avLst/>
            <a:gdLst/>
            <a:ahLst/>
            <a:rect l="l" t="t" r="r" b="b"/>
            <a:pathLst>
              <a:path w="1872" h="392">
                <a:moveTo>
                  <a:pt x="1872" y="392"/>
                </a:moveTo>
                <a:cubicBezTo>
                  <a:pt x="1499" y="251"/>
                  <a:pt x="1127" y="111"/>
                  <a:pt x="816" y="56"/>
                </a:cubicBezTo>
                <a:cubicBezTo>
                  <a:pt x="504" y="0"/>
                  <a:pt x="252" y="28"/>
                  <a:pt x="0" y="5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73392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cubicBezTo>
                  <a:pt x="448" y="96"/>
                  <a:pt x="416" y="192"/>
                  <a:pt x="336" y="240"/>
                </a:cubicBezTo>
                <a:cubicBezTo>
                  <a:pt x="256" y="288"/>
                  <a:pt x="128" y="288"/>
                  <a:pt x="0" y="2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7200" y="3270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5760" y="3276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6240" y="3886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writing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sunderstanding pointer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search(int *p, int va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*p &amp;&amp; *p != v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+= sizeof(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87320" y="228600"/>
            <a:ext cx="7569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nonexist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getting that local variables disappear when a function re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2133720"/>
            <a:ext cx="434340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foo 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blocks multiple ti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s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78040" y="228600"/>
            <a:ext cx="5587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vil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2133720"/>
            <a:ext cx="4343400" cy="1797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nipulate 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malloc(M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M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[i] = x[i]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22640" y="228240"/>
            <a:ext cx="4698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emory leak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low, long-term killer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438280" y="2666880"/>
            <a:ext cx="434340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*x = malloc(N*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22640" y="228240"/>
            <a:ext cx="46987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ling to free block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emory leak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eeing only part of a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38360" y="2333520"/>
            <a:ext cx="6134040" cy="374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v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*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list *head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lloc(sizeof(struct lis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d-&gt;val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ad-&gt;nex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eate and manipulate the rest of the lis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hea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memory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al debugger (gd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for finding  bad pointer de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detect the other memory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ging malloc (CSRI UToronto mallo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per around conventional mall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s memory bugs at malloc and free bound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overwrites that corrupt heap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stances of freeing blocks multip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l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detect all memory bu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rites into the middle of allocat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ing block twice that has been reallocated in the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ng fre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467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memory bug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translator (Atom, Purif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debugging and analysis techn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s text section of executable object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tect all errors as debugging mall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check each individual reference at run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ing outside of allocate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bage collection (Boehm-Weiser Conservative G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 the system free blocks instead of the program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188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ocating from 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08600" y="236052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43320" y="1903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06720" y="1627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92840" y="1903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45800" y="1627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23000" y="4417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4560" y="3960720"/>
            <a:ext cx="6030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7960" y="3685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92840" y="3960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45800" y="3685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8600" y="4417920"/>
            <a:ext cx="914400" cy="4572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42600" y="2421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60280" y="423504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ith split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explicit free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ertion polic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Where to put the newly freed block in the fre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O (last-in-first-out)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reed block at the beginning of the fre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: simple and consta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: studies suggest fragmentation is worse than address or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-ordered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reed blocks so that free list blocks are always in address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addr(pred) &lt; addr(curr) &lt; addr(su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: requires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: studies suggest fragmentation is better than L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63560" y="228600"/>
            <a:ext cx="581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a LIFO poli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3822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: a-a-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self at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2: a-a-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next, coalesce self and next, and add to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8880" y="91368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36440" y="9136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c 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0987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16765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16765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3880" y="297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2800" y="297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7339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7339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7339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3352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59760" y="3352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8040" y="34286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73880" y="473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2640" y="473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518148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18148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2760" y="49525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49230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914400"/>
            <a:ext cx="3733920" cy="1371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2971800"/>
            <a:ext cx="3733920" cy="1371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4648320"/>
            <a:ext cx="373392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eing with a LIFO policy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4600" y="1371600"/>
            <a:ext cx="3822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3: f-a-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prev, coalesce with self, and add to beginning of fre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4: f-a-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ce out prev and next, coalesce with self, and add to beginning of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9240" y="8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88520" y="8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60020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16002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160020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26040" y="1219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9440" y="12949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63840" y="2299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2960" y="229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2743200"/>
            <a:ext cx="2057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274320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1600" y="259056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24843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080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008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8344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16400" y="4648320"/>
            <a:ext cx="10670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0120" y="4648320"/>
            <a:ext cx="10666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500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96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4360" y="42667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6400" y="5943600"/>
            <a:ext cx="3165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6520" y="57146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2960" y="3885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22240" y="3885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0716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3120" y="4267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3064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256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4360" y="5423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2240" y="5423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0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60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914400"/>
            <a:ext cx="3733920" cy="12193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286000"/>
            <a:ext cx="3733920" cy="990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886200"/>
            <a:ext cx="3733920" cy="12952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410080"/>
            <a:ext cx="3733920" cy="1067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22640" y="228600"/>
            <a:ext cx="4698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list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to implicit li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is linear time in number of free blocks instead of total blocks  -- much faster allocates when most of the memory is ful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ghtly more complicated allocate and free since needs to splice blocks in and out of the 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xtra space for the links (2 extra  words needed for each bl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use of linked lists is in conjunction with segregated free l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multiple linked lists of different size classes, or possibly for different types of ob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49360" y="228600"/>
            <a:ext cx="4445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regated Stor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ize “class” has its own collection of b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64280" y="1523880"/>
            <a:ext cx="6779160" cy="3080520"/>
            <a:chOff x="764280" y="1523880"/>
            <a:chExt cx="6779160" cy="3080520"/>
          </a:xfrm>
        </p:grpSpPr>
        <p:sp>
          <p:nvSpPr>
            <p:cNvPr id="218" name=""/>
            <p:cNvSpPr/>
            <p:nvPr/>
          </p:nvSpPr>
          <p:spPr>
            <a:xfrm>
              <a:off x="14475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24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19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668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63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076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5680" y="15238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5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24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74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763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07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50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75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24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619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718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3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862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956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28954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516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28954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75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19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668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718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763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12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907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956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1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5812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56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35812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22096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3960" y="22096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475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524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19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668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718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63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862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907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956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006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1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008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5000" y="4267080"/>
              <a:ext cx="3042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19560" y="4267080"/>
              <a:ext cx="3045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16200" y="15238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8120" y="2209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52280" y="2879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6200" y="35812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4280" y="426708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-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574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18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37335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862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196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0600" y="23619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3047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956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0760" y="30477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0600" y="16761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8880" y="23619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9400" y="37335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5000" y="3047760"/>
              <a:ext cx="304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24480" y="441936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5720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have separate collection for every small size (2,3,4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larger sizes typically have a collection for each power of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</dc:creator>
  <dc:description/>
  <dc:language>en-US</dc:language>
  <cp:lastModifiedBy>Gregory Kesden</cp:lastModifiedBy>
  <cp:lastPrinted>2001-11-07T17:02:12Z</cp:lastPrinted>
  <dcterms:modified xsi:type="dcterms:W3CDTF">2002-04-11T07:11:34Z</dcterms:modified>
  <cp:revision>244</cp:revision>
  <dc:subject/>
  <dc:title>Floating Point</dc:title>
</cp:coreProperties>
</file>