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67480" y="650232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-213 S’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3316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fld id="{D48EB735-10BE-4815-A8EC-08CA66D21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1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6080" y="1905120"/>
            <a:ext cx="624816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ynamic Memory Alloc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ril 9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4038120"/>
            <a:ext cx="519444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190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e explicit alloc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10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s: 10.15 and 10.1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1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38360" y="228600"/>
            <a:ext cx="5867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of good malloc/fre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ry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time performance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hould take constant time (not always po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ertainly not take linear time in the number of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space util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llocated structures should be large fraction of the he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to minimize “fragmentatio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other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locality proper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s allocated close in time should be close in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” objects should be allocated close in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u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heck tha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ee(p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on a valid allocated objec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heck that memory references are to allocate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92240" y="228600"/>
            <a:ext cx="6959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formance goals: throughpu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some sequence of malloc and free reques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..., 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... , 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to maximize throughput and peak memory util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goals are often conflic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p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completed requests per unit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,000 malloc calls and 5,000 free calls in 10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put is 1,000 operations/sec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533376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formance goals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ak memory util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4600" y="1676160"/>
            <a:ext cx="8470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some sequence of malloc and free reques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..., 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... , 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: aggregate payload 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lloc(p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ults in a block with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ylo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p bytes.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reque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completed,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ggregate paylo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k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 sum of currently allocated payloa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: current heap size is denoted by 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monotonically nondecrea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: peak memory utiliza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quests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ak memory util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( ma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&lt;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  /  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31840" y="228600"/>
            <a:ext cx="5080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al Frag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or memory utilization caused b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es in two forms: internal and external frag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frag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ome block, internal fragmentation is the difference between the block size and the payload siz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overhead of maintaining heap data structures, padding for alignment purposes, or explicit policy decisions (e.g., not to split the block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s only on the pattern of previous requests, and thus is easy to meas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55960" y="3505320"/>
            <a:ext cx="28195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75480" y="3505320"/>
            <a:ext cx="7617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93840" y="3505320"/>
            <a:ext cx="76212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99480" y="3429000"/>
            <a:ext cx="152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308280" y="373392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4213080" y="1104480"/>
            <a:ext cx="304920" cy="4343400"/>
          </a:xfrm>
          <a:custGeom>
            <a:avLst/>
            <a:gdLst>
              <a:gd name="textAreaLeft" fmla="*/ 0 w 304920"/>
              <a:gd name="textAreaRight" fmla="*/ 110160 w 30492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25160" y="2863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2840" y="3505320"/>
            <a:ext cx="152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65240" y="38098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19240" y="228600"/>
            <a:ext cx="51055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ternal frag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207180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207180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207180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207180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62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055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294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2760" y="16146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 = malloc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00480" y="29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05040" y="29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09960" y="29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14880" y="29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19440" y="29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24360" y="29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29280" y="29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33840" y="29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38760" y="29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43680" y="29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4824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5316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58080" y="29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6264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6756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72480" y="29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7704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61080" y="24876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 = malloc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00480" y="374796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0504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0996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14880" y="374796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1944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29280" y="374796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3384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3876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43680" y="374796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4824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5316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58080" y="374796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6264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6756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72480" y="374796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77040" y="374796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30840" y="33256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3 = malloc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38280" y="4510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4510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45100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4510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5760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62520" y="45100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45100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81480" y="4510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4510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5100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5880" y="4510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4510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05720" y="45100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1028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4560" y="4129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ee(p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2760" y="49672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4 = malloc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30080" y="5029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p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0680" y="968400"/>
            <a:ext cx="76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urs when there is enough aggregate heap memory, but no si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block is large en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20160" y="5692680"/>
            <a:ext cx="72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fragmentation depends on the pattern of future requests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is difficult to measu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044800" y="228600"/>
            <a:ext cx="5054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tion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know how much memory to free just given a point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keep track of the free block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we do with the extra space when allocating a structure that is smaller than the free block it is placed i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pick a block to use for allocation -- many might fi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reinsert freed bloc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57400" y="4648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4648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4648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71800" y="4648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4648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4648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4648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91120" y="4648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4648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00600" y="4648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05520" y="46483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648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15000" y="4648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19920" y="46483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24480" y="4648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29400" y="4648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19320" y="5486400"/>
            <a:ext cx="23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 = mallo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86920" y="43448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22200" y="51055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p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9920" y="44956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00600" y="44956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87600" y="228600"/>
            <a:ext cx="5968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nowing how much to fr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 the length of a structure in the word preceding the 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word is often called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eader fie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s an extra word for every allocated 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17280" y="44956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p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94680" y="320040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0 = malloc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00200" y="2666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05120" y="2666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666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4600" y="2666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2666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2666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29000" y="2666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33920" y="2666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38480" y="2666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48320" y="2666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2666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2666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2666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2666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72200" y="2666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77120" y="2666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43400" y="2666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5029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05120" y="5029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09680" y="5029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14600" y="5029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5029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029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29000" y="5029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3920" y="5029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038480" y="5029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5029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5029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257800" y="5029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2720" y="5029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5029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5029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77120" y="5029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43400" y="5029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50120" y="3200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002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051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146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339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384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528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2578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627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722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3657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83800" y="45720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419720" y="4114800"/>
            <a:ext cx="7596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9080" y="45720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800240" y="4114800"/>
            <a:ext cx="3049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181480" y="4114800"/>
            <a:ext cx="5335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105520" y="41148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181480" y="4114800"/>
            <a:ext cx="2286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00600" y="35053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3657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248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eping track of free b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implicit list using lengths -- links all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explicit list among the free blocks using pointers within the free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segregated free li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free lists for different size cla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blocks sorted by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a balanced tree (e.g. Red-Black tree) with pointers within each free block, and the length used as a k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765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810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954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1600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988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1480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386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4360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48520" y="1600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5308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0968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146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195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2900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733920" y="3276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3848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6483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578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627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6728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7220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77120" y="3276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434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57400" y="2946240"/>
            <a:ext cx="2438280" cy="482760"/>
          </a:xfrm>
          <a:custGeom>
            <a:avLst/>
            <a:gdLst/>
            <a:ahLst/>
            <a:rect l="l" t="t" r="r" b="b"/>
            <a:pathLst>
              <a:path w="1536" h="304">
                <a:moveTo>
                  <a:pt x="0" y="304"/>
                </a:moveTo>
                <a:cubicBezTo>
                  <a:pt x="328" y="167"/>
                  <a:pt x="656" y="31"/>
                  <a:pt x="912" y="16"/>
                </a:cubicBezTo>
                <a:cubicBezTo>
                  <a:pt x="1167" y="0"/>
                  <a:pt x="1351" y="104"/>
                  <a:pt x="1536" y="20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28800" y="137160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144"/>
                </a:moveTo>
                <a:cubicBezTo>
                  <a:pt x="184" y="72"/>
                  <a:pt x="368" y="0"/>
                  <a:pt x="528" y="0"/>
                </a:cubicBezTo>
                <a:cubicBezTo>
                  <a:pt x="688" y="0"/>
                  <a:pt x="824" y="72"/>
                  <a:pt x="960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52680" y="137160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0" y="137160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914400"/>
            <a:ext cx="8458200" cy="1143000"/>
          </a:xfrm>
          <a:prstGeom prst="rect">
            <a:avLst/>
          </a:prstGeom>
          <a:noFill/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71520" y="228600"/>
            <a:ext cx="4800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hod 1: implicit li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25516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identify whether each block is free or alloc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use extra 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 can be put in the same word as the size if block sizes are always multiples of two (mask out low order bit when reading size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44640" y="3276720"/>
            <a:ext cx="1370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25880" y="28195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32560" y="3803760"/>
            <a:ext cx="147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 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44640" y="3657600"/>
            <a:ext cx="167652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793400" y="3200400"/>
            <a:ext cx="261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= 1: allocated block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= 0: fre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: block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load: application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llocated blocks on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14800" y="3276720"/>
            <a:ext cx="304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43200" y="4940280"/>
            <a:ext cx="167652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79640" y="228600"/>
            <a:ext cx="6984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icit list: finding a free bl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fi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list from beginning, choose first free block that f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take linear time in total number of blocks (allocated and fre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actice it can cause “splinters” at beginning of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fi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first-fit, but search list from location of end of previous 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suggests that fragmentation is wors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 fi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the list, choose the free block with the closest size that f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fragments small --- usually helps frag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typically run slower than first-f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532160" y="1752480"/>
            <a:ext cx="542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= star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(p &lt; end) ||    \\ not passed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*p &amp; 1) ||     \\ already allo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*p &lt;= len));   \\ too small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50760" y="368280"/>
            <a:ext cx="3683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sh Reality #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ory Mat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is not unbou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must be allocated and man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applications are memory domin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ly those based on complex, graph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referencing bugs especially pernici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s are distant in both time and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performance is not uni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and virtual memory effects can greatly affect program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pting program to characteristics of memory system can lead to major speed improv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8128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icit list: allocating in a free bl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ing in a free block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li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allocated space might be smaller than free space, we might want to split the b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5400" y="2971800"/>
            <a:ext cx="8227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ddblock(ptr p, int len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newsize = ((len + 1) &gt;&gt; 1) &lt;&lt; 1;  // add 1 and round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oldsize = *p &amp; -2;                // mask out low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p = newsize | 1;                     // set new 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newsize &lt; oldsiz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(p+newsize) = oldsize - newsize;   // set length in rem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                                     //   part of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block(p, 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57400" y="22096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362320" y="22096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66880" y="22096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971800" y="22096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76720" y="22096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22096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86200" y="22096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91120" y="22096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00600" y="22096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05520" y="22096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10080" y="22096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22096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19920" y="22096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324480" y="22096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29400" y="22096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95680" y="22096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429000" y="198108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198108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00400" y="5562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505320" y="5562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9880" y="5562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5562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24280" y="5562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5562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4120" y="5562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38680" y="5562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943600" y="5562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48520" y="5562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553080" y="5562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5562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52680" y="53341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648320" y="25142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97480" y="26668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09680" y="198108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624640" y="5556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5334120"/>
            <a:ext cx="129564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91320" y="5410080"/>
            <a:ext cx="609480" cy="15264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981080" y="5562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86000" y="5562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90920" y="5562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95480" y="5562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133720" y="533412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62040" y="228600"/>
            <a:ext cx="6019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icit list: freeing a bl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st implemen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need to clear allocated fl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free_block(ptr p) { *p= *p &amp; -2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can lead to “false fragmentation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is enough free space, but the allocator won’t be able to find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35268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65760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31240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6708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76920" y="31240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8640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791320" y="31240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5880" y="3124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40080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05720" y="31240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505320" y="289548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776920" y="3117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2895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297180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25120" y="35830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73800" y="3505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724280" y="34286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1337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382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432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0481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35268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65760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62520" y="41148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6708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0080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705720" y="41148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388620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388620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133720" y="2895480"/>
            <a:ext cx="1371600" cy="533520"/>
            <a:chOff x="2133720" y="2895480"/>
            <a:chExt cx="1371600" cy="533520"/>
          </a:xfrm>
        </p:grpSpPr>
        <p:sp>
          <p:nvSpPr>
            <p:cNvPr id="521" name=""/>
            <p:cNvSpPr/>
            <p:nvPr/>
          </p:nvSpPr>
          <p:spPr>
            <a:xfrm>
              <a:off x="2133720" y="31240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38640" y="312408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3200" y="31240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48120" y="31240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86000" y="2895480"/>
              <a:ext cx="1219320" cy="22860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cubicBezTo>
                    <a:pt x="128" y="72"/>
                    <a:pt x="256" y="0"/>
                    <a:pt x="384" y="0"/>
                  </a:cubicBezTo>
                  <a:cubicBezTo>
                    <a:pt x="512" y="0"/>
                    <a:pt x="640" y="72"/>
                    <a:pt x="768" y="144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48769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814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864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913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58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76920" y="410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648320" y="388620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43600" y="396252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41320" y="45720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lloc(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18960" y="46958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p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994040" y="228600"/>
            <a:ext cx="5155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icit list: coalesc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 with next and/or previous block if they are f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alescing with next b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free_block(ptr p)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*p = *p &amp; -2;          // clear allocated fla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next = p + *p;        // find next bloc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if ((*next &amp; 1) == 0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*p = *p + *next;    // add to this block if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                       //    not 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how do we coalesce with previous block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3526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576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670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814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864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913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58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008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7057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05320" y="358128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776920" y="3803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48320" y="35812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943600" y="365760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25120" y="4268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3800" y="4191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724280" y="41144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133720" y="4800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4800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43200" y="4800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8120" y="4800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52680" y="48006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657600" y="48006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48006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267080" y="48006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400800" y="48006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705720" y="48006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05320" y="457200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0" y="457200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133720" y="3581280"/>
            <a:ext cx="1371600" cy="533520"/>
            <a:chOff x="2133720" y="3581280"/>
            <a:chExt cx="1371600" cy="533520"/>
          </a:xfrm>
        </p:grpSpPr>
        <p:sp>
          <p:nvSpPr>
            <p:cNvPr id="571" name=""/>
            <p:cNvSpPr/>
            <p:nvPr/>
          </p:nvSpPr>
          <p:spPr>
            <a:xfrm>
              <a:off x="2133720" y="38098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38640" y="380988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743200" y="38098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48120" y="38098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86000" y="3581280"/>
              <a:ext cx="1219320" cy="22860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cubicBezTo>
                    <a:pt x="128" y="72"/>
                    <a:pt x="256" y="0"/>
                    <a:pt x="384" y="0"/>
                  </a:cubicBezTo>
                  <a:cubicBezTo>
                    <a:pt x="512" y="0"/>
                    <a:pt x="640" y="72"/>
                    <a:pt x="768" y="144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876920" y="4800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181480" y="4800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486400" y="4800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791320" y="4800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5880" y="4800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4800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724280" y="457200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639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icit list: bidirectional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176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ndary tags [Knuth73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75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icate size/allocated word at bottom of free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75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us to traverse the “list” backwards, but requires extra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75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and general techniqu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111480" y="2832120"/>
            <a:ext cx="1370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68680" y="23749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37480" y="3365640"/>
            <a:ext cx="147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 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111480" y="3213000"/>
            <a:ext cx="167652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loa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097960" y="3009960"/>
            <a:ext cx="261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= 1: allocated block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= 0: fre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: block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load: application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llocated blocks on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481640" y="2832120"/>
            <a:ext cx="304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10040" y="4508640"/>
            <a:ext cx="1369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479840" y="4508640"/>
            <a:ext cx="304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94320" y="4508640"/>
            <a:ext cx="14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undary 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oo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14600" y="46609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3716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76520" y="580392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98108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90920" y="580392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9548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0040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505320" y="580392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1148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419720" y="580392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2428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292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34120" y="580392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63868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94360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0988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743200" y="55753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62520" y="557532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523880" y="55753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248520" y="580392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55308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38280" y="610884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768" y="0"/>
                </a:moveTo>
                <a:cubicBezTo>
                  <a:pt x="616" y="72"/>
                  <a:pt x="464" y="144"/>
                  <a:pt x="336" y="144"/>
                </a:cubicBezTo>
                <a:cubicBezTo>
                  <a:pt x="208" y="144"/>
                  <a:pt x="104" y="7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57600" y="610884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1152" y="0"/>
                </a:moveTo>
                <a:cubicBezTo>
                  <a:pt x="960" y="72"/>
                  <a:pt x="768" y="144"/>
                  <a:pt x="576" y="144"/>
                </a:cubicBezTo>
                <a:cubicBezTo>
                  <a:pt x="384" y="144"/>
                  <a:pt x="192" y="7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486400" y="610884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768" y="0"/>
                </a:moveTo>
                <a:cubicBezTo>
                  <a:pt x="640" y="72"/>
                  <a:pt x="512" y="144"/>
                  <a:pt x="384" y="144"/>
                </a:cubicBezTo>
                <a:cubicBezTo>
                  <a:pt x="256" y="144"/>
                  <a:pt x="63" y="23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678320" y="275580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590920" y="298440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739880" y="228600"/>
            <a:ext cx="56642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ant time coalesc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43828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3828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828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96252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96252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8640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8640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8640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01028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1028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01028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1240" y="274968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 be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28800" y="3048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1748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04136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56524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08948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236232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5760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362320" y="19810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25480" y="228600"/>
            <a:ext cx="7493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ant time coalescing (case 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362320" y="22860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36232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65760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62320" y="16765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004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36232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65760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362320" y="2895480"/>
            <a:ext cx="16761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362320" y="32004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36232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5760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362320" y="25909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36232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65760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362320" y="38098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362320" y="41148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36232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65760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362320" y="35053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029200" y="19810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029200" y="22860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02920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324480" y="22860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029200" y="16765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86728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02920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24480" y="25909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29200" y="2895480"/>
            <a:ext cx="16765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029200" y="32004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324480" y="32004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029200" y="25909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324480" y="35053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029200" y="38098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029200" y="35053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029200" y="19810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25480" y="228600"/>
            <a:ext cx="7493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ant time coalescing (case 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029200" y="22860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02920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324480" y="22860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29200" y="16765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02920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+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324480" y="25909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+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09680" y="1676520"/>
            <a:ext cx="12956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0532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09680" y="19810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09680" y="22860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09680" y="2286000"/>
            <a:ext cx="12956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50532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09680" y="16765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812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09680" y="2590920"/>
            <a:ext cx="12956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50532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09680" y="2895480"/>
            <a:ext cx="16765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209680" y="32004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09680" y="3200400"/>
            <a:ext cx="12956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50532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209680" y="25909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09680" y="3505320"/>
            <a:ext cx="12956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0532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38098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20968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09680" y="4114800"/>
            <a:ext cx="12956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09680" y="35053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29200" y="2895480"/>
            <a:ext cx="1676520" cy="12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2590920"/>
            <a:ext cx="1676520" cy="1828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36232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5760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362320" y="19810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25480" y="228600"/>
            <a:ext cx="7493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ant time coalescing (case 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362320" y="22860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36232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5760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362320" y="16765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36232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65760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362320" y="2895480"/>
            <a:ext cx="16761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362320" y="32004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36232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65760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362320" y="25909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6232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65760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362320" y="38098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62320" y="41148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6232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65760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362320" y="35053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+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981080"/>
            <a:ext cx="1676520" cy="12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86728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029200" y="32004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+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324480" y="32004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2920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324480" y="35053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29200" y="38098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029200" y="35053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029200" y="1676520"/>
            <a:ext cx="1676520" cy="1828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236232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65760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362320" y="19810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5480" y="228600"/>
            <a:ext cx="7493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ant time coalescing (case 4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62320" y="22860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36232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362320" y="16765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004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6232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65760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362320" y="2895480"/>
            <a:ext cx="16761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362320" y="32004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36232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65760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362320" y="25909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36232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65760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362320" y="38098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362320" y="41148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36232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65760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362320" y="35053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+m1+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029200" y="1981080"/>
            <a:ext cx="1676520" cy="21337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+m1+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029200" y="1676520"/>
            <a:ext cx="1676520" cy="2743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75182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 of key allocator polic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ment polic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fit, next fit, best fit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es off lower throughput for less frag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ing observation: segregated free lists (next lecture) approximate a best fit placement policy without having the search entire free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litting polic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do we go ahead and split free block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uch internal fragmentation are we willing to tolerat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lescing polic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ediate coalescing: coalesce adjacent blocks each time free is call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erred coalescing: try to improve performance of free by deferring coalescing until needed. e.g.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esce as you scan the free list for mallo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esce when the amount of external fragmentation reaches some thresh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248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ynamic Memory Allo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8191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 vs. Implicit Memory Alloc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icit:  application allocates and frees spa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-158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icit: application allocates, but does not free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-158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garbage collection in Java, ML or Li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both cases the memory allocator provides an abstraction of memory as a set of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les out free memory blocks to 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discuss simple explicit memory allocation to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219320"/>
            <a:ext cx="350496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1676520"/>
            <a:ext cx="3504960" cy="4572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Memory Allo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2133720"/>
            <a:ext cx="350496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p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006640" y="228600"/>
            <a:ext cx="5130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icit lists: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y si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ar time worst c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ant time worst case -- even with coales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usag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depend on placement poli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fit, next fit or best f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used in practice for malloc/free because of linear time allocate.  Used in many special purpose appl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e concepts of splitting and boundary tag coalescing are general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ocat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5257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memory im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57440" y="960480"/>
            <a:ext cx="3200400" cy="4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virtual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57440" y="2662200"/>
            <a:ext cx="3200400" cy="66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 mapped reg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57440" y="3327480"/>
            <a:ext cx="3200400" cy="723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57440" y="4054320"/>
            <a:ext cx="3200400" cy="66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 (via mallo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57440" y="1752480"/>
            <a:ext cx="3200400" cy="9064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57440" y="5470560"/>
            <a:ext cx="3200400" cy="39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text (.tex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57440" y="5089680"/>
            <a:ext cx="3200400" cy="39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ized data (.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57440" y="4708440"/>
            <a:ext cx="3200400" cy="39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nitialized data (.b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965840" y="3690720"/>
            <a:ext cx="0" cy="35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57440" y="1417680"/>
            <a:ext cx="3200400" cy="33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81680" y="2314080"/>
            <a:ext cx="0" cy="35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97520" y="1752480"/>
            <a:ext cx="0" cy="35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57440" y="5851440"/>
            <a:ext cx="3200400" cy="3970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54320" y="6019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40800" y="15238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76560" y="1711440"/>
            <a:ext cx="3808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40800" y="914400"/>
            <a:ext cx="208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 invisibl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81680" y="914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91920" y="385452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“brk” 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629400" y="4038480"/>
            <a:ext cx="3808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0120" y="2955960"/>
            <a:ext cx="252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ors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heap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the operating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the sbrk() fun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504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lloc pack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malloc(size_t siz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successful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a pointer to a memory block of at leas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tes, aligned to 8-byte bound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=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turn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unsuccessfu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NU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free(void *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the block pointed at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pool of available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ust come from a previous cal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llo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al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realloc(void *p, size_t siz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s size of block p and returns ptr to new bloc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s of new block unchanged up to min of old and new siz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504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lloc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914400"/>
            <a:ext cx="67816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o(int n, int m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, *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allocate a block of n int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p = (int *) malloc(n * sizeof(int))) == NULL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ror("malloc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[i] =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add m bytes to end of p block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p = (int *) realloc(p, (n+m) * sizeof(int))) == NULL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ror("realloc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=n; i &lt; n+m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[i] =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print new array */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=0; i&lt;n+m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%d\n", p[i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ee(p); /* return p to available memory pool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60720" y="228600"/>
            <a:ext cx="3022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ptions made in this l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is word addressed (each word can hold a poin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70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0160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0652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114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160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2092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258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3040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3532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402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448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4972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54640" y="254304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5920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6412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690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736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7852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83440" y="254304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880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1292040" y="2428920"/>
            <a:ext cx="228600" cy="121896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78"/>
                </a:lnTo>
                <a:cubicBezTo>
                  <a:pt x="10800" y="9478"/>
                  <a:pt x="16200" y="10378"/>
                  <a:pt x="21600" y="10378"/>
                </a:cubicBezTo>
                <a:cubicBezTo>
                  <a:pt x="16200" y="10378"/>
                  <a:pt x="10800" y="11278"/>
                  <a:pt x="10800" y="1217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2760" y="3222720"/>
            <a:ext cx="167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 wo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95400" y="3228840"/>
            <a:ext cx="119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3 wo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4187520" y="258120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78"/>
                </a:lnTo>
                <a:cubicBezTo>
                  <a:pt x="10800" y="9478"/>
                  <a:pt x="16200" y="10378"/>
                  <a:pt x="21600" y="10378"/>
                </a:cubicBezTo>
                <a:cubicBezTo>
                  <a:pt x="16200" y="10378"/>
                  <a:pt x="10800" y="11278"/>
                  <a:pt x="10800" y="1217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54840" y="307656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54840" y="34574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39320" y="307656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40760" y="3457440"/>
            <a:ext cx="163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98600" y="228600"/>
            <a:ext cx="4546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location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43200" y="1708200"/>
            <a:ext cx="5181480" cy="304560"/>
            <a:chOff x="2743200" y="1708200"/>
            <a:chExt cx="5181480" cy="304560"/>
          </a:xfrm>
        </p:grpSpPr>
        <p:sp>
          <p:nvSpPr>
            <p:cNvPr id="110" name=""/>
            <p:cNvSpPr/>
            <p:nvPr/>
          </p:nvSpPr>
          <p:spPr>
            <a:xfrm>
              <a:off x="2743200" y="17082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8120" y="1708200"/>
              <a:ext cx="30456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52680" y="17082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57600" y="17082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62520" y="1708200"/>
              <a:ext cx="30456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1708200"/>
              <a:ext cx="30456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8148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8640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1708200"/>
              <a:ext cx="30456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05720" y="1708200"/>
              <a:ext cx="30456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1028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1520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0120" y="1708200"/>
              <a:ext cx="30456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140480" y="1233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 = malloc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743200" y="2595600"/>
            <a:ext cx="5181480" cy="304920"/>
            <a:chOff x="2743200" y="2595600"/>
            <a:chExt cx="5181480" cy="304920"/>
          </a:xfrm>
        </p:grpSpPr>
        <p:sp>
          <p:nvSpPr>
            <p:cNvPr id="129" name=""/>
            <p:cNvSpPr/>
            <p:nvPr/>
          </p:nvSpPr>
          <p:spPr>
            <a:xfrm>
              <a:off x="2743200" y="25956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25956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25956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57600" y="25956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62520" y="25956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67080" y="25956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0" y="25956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920" y="25956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81480" y="25956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86400" y="25956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91320" y="259560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5880" y="25956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00800" y="25956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05720" y="259560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10280" y="25956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15200" y="25956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120" y="259560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140480" y="21207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 = malloc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743200" y="3483000"/>
            <a:ext cx="5181480" cy="304560"/>
            <a:chOff x="2743200" y="3483000"/>
            <a:chExt cx="5181480" cy="304560"/>
          </a:xfrm>
        </p:grpSpPr>
        <p:sp>
          <p:nvSpPr>
            <p:cNvPr id="148" name=""/>
            <p:cNvSpPr/>
            <p:nvPr/>
          </p:nvSpPr>
          <p:spPr>
            <a:xfrm>
              <a:off x="274320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8120" y="3483000"/>
              <a:ext cx="30456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5268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5760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62520" y="3483000"/>
              <a:ext cx="30456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6708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76920" y="3483000"/>
              <a:ext cx="30456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8148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8640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1320" y="3483000"/>
              <a:ext cx="30456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588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080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05720" y="3483000"/>
              <a:ext cx="30456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15200" y="34830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0120" y="3483000"/>
              <a:ext cx="30456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140480" y="30081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3 = malloc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773440" y="4370400"/>
            <a:ext cx="5181480" cy="304920"/>
            <a:chOff x="2773440" y="4370400"/>
            <a:chExt cx="5181480" cy="304920"/>
          </a:xfrm>
        </p:grpSpPr>
        <p:sp>
          <p:nvSpPr>
            <p:cNvPr id="167" name=""/>
            <p:cNvSpPr/>
            <p:nvPr/>
          </p:nvSpPr>
          <p:spPr>
            <a:xfrm>
              <a:off x="2773440" y="43704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78000" y="43704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82920" y="43704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87840" y="43704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92400" y="43704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97320" y="43704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02240" y="437040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06800" y="43704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11720" y="43704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16640" y="43704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21200" y="43704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6120" y="43704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31040" y="43704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35600" y="43704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40520" y="43704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45440" y="437040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50000" y="43704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142280" y="38955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ee(p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728800" y="5257800"/>
            <a:ext cx="5181840" cy="304920"/>
            <a:chOff x="2728800" y="5257800"/>
            <a:chExt cx="5181840" cy="304920"/>
          </a:xfrm>
        </p:grpSpPr>
        <p:sp>
          <p:nvSpPr>
            <p:cNvPr id="186" name=""/>
            <p:cNvSpPr/>
            <p:nvPr/>
          </p:nvSpPr>
          <p:spPr>
            <a:xfrm>
              <a:off x="272880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3372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38640" y="52578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4320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4812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53040" y="52578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57600" y="52578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62520" y="52578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525780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7200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7692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1840" y="52578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8640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9132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96240" y="52578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00800" y="52578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05720" y="52578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140480" y="47829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4 = malloc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38560" y="228600"/>
            <a:ext cx="26668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issue arbitrary sequence of allocation and free requ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requests must correspond to an allocated b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’t control number or size of allocated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respond immediately to all allocation requ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, can’t reorder or buffer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allocate blocks from free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, can only place allocated blocks in fre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align blocks so they satisfy all alignment requir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8 byte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only manipulate and modify free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’t move the allocated blocks once they are alloc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, compaction is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Guy Blelloch</dc:creator>
  <dc:description/>
  <dc:language>en-US</dc:language>
  <cp:lastModifiedBy>Gregory Kesden</cp:lastModifiedBy>
  <cp:lastPrinted>1999-10-06T16:34:34Z</cp:lastPrinted>
  <dcterms:modified xsi:type="dcterms:W3CDTF">2002-04-09T07:53:23Z</dcterms:modified>
  <cp:revision>227</cp:revision>
  <dc:subject/>
  <dc:title>Floating Point</dc:title>
</cp:coreProperties>
</file>