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771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71059F86-D025-4E8E-8DBC-478BEE5686B6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723680"/>
            <a:ext cx="60958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/Linux Memory Syst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26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25320" y="3414240"/>
            <a:ext cx="519444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6 address trans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memor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page fault ha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 mapp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7-10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5720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tion of Virtual Address 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4191120"/>
            <a:ext cx="4889520" cy="21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page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: Is entry in physical memor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: Has this part of VA space been mapp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29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32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44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62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13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47474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9716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9644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9560" y="334800"/>
            <a:ext cx="416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TLB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741480" y="334800"/>
            <a:ext cx="1701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44600" y="1295280"/>
            <a:ext cx="82548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dicates a valid (1) or invalid (0) TLB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entry a PDE (1) or a PTE (0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isambiguates entries cached in the same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DE/P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page directory or page table en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sets, 4 entries/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62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897280" y="4871880"/>
            <a:ext cx="3499200" cy="1222200"/>
            <a:chOff x="2897280" y="4871880"/>
            <a:chExt cx="3499200" cy="1222200"/>
          </a:xfrm>
        </p:grpSpPr>
        <p:sp>
          <p:nvSpPr>
            <p:cNvPr id="571" name=""/>
            <p:cNvSpPr/>
            <p:nvPr/>
          </p:nvSpPr>
          <p:spPr>
            <a:xfrm>
              <a:off x="289728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27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85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54320" y="48765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728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27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685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54320" y="51051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9728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827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685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54320" y="53337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9728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827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685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54320" y="579096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61520" y="540360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26440" y="48718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35800" y="51004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40480" y="532908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40480" y="578628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18840" y="334800"/>
            <a:ext cx="6147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638320" y="1219320"/>
            <a:ext cx="3124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n build physical addres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table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1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866920" y="1668240"/>
            <a:ext cx="2832120" cy="389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U build physical address and fetch data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 receives the following arg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 that caused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caused by non-present page or page-level protection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/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1/0, 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866920" y="1515600"/>
            <a:ext cx="2971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for a legal virtual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PTE through PD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free physical page (swapping out current page if necessa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virtual page from disk and copy to virtual p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faulting instruction by returning from exception hand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every page out requires update of disk pag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page table is swapped out, then swap out its data pages to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0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 ex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l P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had internal designation P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, superscalar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to handle server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high performance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Pro (199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II (1997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MMX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nstructions for parall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 cache on same 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III (19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d Streaming SIMD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structions for parall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06320" y="33444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ng with the P6 page tabl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ase 0/0, 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 in pag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rt faulting instruction by returning from handl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L1 cache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725560" y="334800"/>
            <a:ext cx="3733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1 cache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562360" y="1066320"/>
            <a:ext cx="327636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38240" y="3348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ing Up L1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44600" y="4572000"/>
            <a:ext cx="8254800" cy="176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that determine CI identical in virtual and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dex into cache while address translation being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check with CT from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ly indexed, physically tagge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organizes VM a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llection of “areas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5960" y="3504960"/>
            <a:ext cx="34290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direct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 permissions for thi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with other processes or private to th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696680" y="334800"/>
            <a:ext cx="5791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page fault handli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11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17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23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is it in an area defined by a vm_area_struc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then signal segmentation violation (e.g. (1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, can the process read/write this are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 then signal protection violation (e.g., (2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2636640" y="334800"/>
            <a:ext cx="3911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vm_area_struct and page tables for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can be backed by (i.e., get its initial values from)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file on disk (e.g., an executable object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age bytes come from a sec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hing (e.g., b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page bytes are 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pages are swapped back and forth between a special swap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s “demand pag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cial for time and space efficien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68080" y="334800"/>
            <a:ext cx="6248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-level memory m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163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ap(void *start, int len, int prot, int flags, int fd, int off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 starting at off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f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file specified by file descrip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referably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ually 0 for don’t car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: MAP_READ, MAP_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: MAP_PRIVATE, MAP_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 pointer to the mapped are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162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fast file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applications like Web servers that need to quickly copy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0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ap allows file transfers without copying into user space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88720" y="334800"/>
            <a:ext cx="6807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map() example: fast file cop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127400" cy="526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tat sta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fd, 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bufp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open the file and get its size*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 = open("./mmap.c", O_RDONLY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tat(fd, &amp;stat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stat.st_size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76920" y="1143000"/>
            <a:ext cx="4127400" cy="526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839680" y="334800"/>
            <a:ext cx="3505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() revisi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952520" y="914040"/>
            <a:ext cx="37465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 a new program p in the current process using exec(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vm_area_struct’s and page tables for old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vm_area_struct’s and page tables for new are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, bss, data, text, shared l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and data backed by ELF executable ob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s and stack initialized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PC to entry point in .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will swap in code and data page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46200" y="334800"/>
            <a:ext cx="4292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memory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990720"/>
            <a:ext cx="26812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bit address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KB pag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, L2, and TL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 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 i-cache and d-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2 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941560" y="334800"/>
            <a:ext cx="3301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() revist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reate a new process using f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copies of the old process’s mm_struct, vm_area_struct’s, and page ta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point the two processes are sharing all of their p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separate spaces without copying all the virtual pages from one space to an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on write” 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ages of  writeable areas read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vm_area_struct’s for these areas as private “copy-on-wri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by either process to these pages will cause page fa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handler recognizes copy-on-write, makes a copy of the page, and restores write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resul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671480" y="334800"/>
            <a:ext cx="584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System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ly a speed-up tech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nvisible to application programmer and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totally in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many OS-relat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ing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of hardware &amp; software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management of tables,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access of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caching of table entries (T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2680" y="385560"/>
            <a:ext cx="5359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of abbrevi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1206000"/>
            <a:ext cx="8254800" cy="468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the virtual address (V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: TLB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: TLB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: virtual page 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: virtual pag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of the physical address (P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: physical page offset (same as V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: physical 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: byte offset within cach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: cach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: cache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34800"/>
            <a:ext cx="7746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6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6880" y="334800"/>
            <a:ext cx="6730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2-level page tabl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4-byte page directory entries (PDEs) that point to page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age directory per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directory must be in memory when its process is ru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pointed to by PD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4-byte page table entries (PTEs) that point to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 can be paged in and 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03200" y="334800"/>
            <a:ext cx="6578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directory entry (PD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73000" y="334800"/>
            <a:ext cx="5638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6 page table entry (P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9800" y="334440"/>
            <a:ext cx="6985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P6 page tables map virtua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es to physical 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0-31T22:38:59Z</cp:lastPrinted>
  <dcterms:modified xsi:type="dcterms:W3CDTF">2002-03-26T11:52:03Z</dcterms:modified>
  <cp:revision>674</cp:revision>
  <dc:subject/>
  <dc:title>P6/Linux memory system</dc:title>
</cp:coreProperties>
</file>