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59000" y="3255480"/>
            <a:ext cx="10666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28960" y="6462720"/>
            <a:ext cx="30535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15-213 S’02 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352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D038BBDB-7540-4536-A45C-796A62C5586C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19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0560" y="2133720"/>
            <a:ext cx="3809880" cy="1095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rtual Memory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ch 21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25320" y="3782520"/>
            <a:ext cx="5194440" cy="185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tivations for V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 transl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lerating translation with TLB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ing: 10.1 – 10.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s: 10.11, 10.12, 10.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19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70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2440" y="334800"/>
            <a:ext cx="66801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System with Virtual Mem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176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175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tations, servers, modern PCs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5791320"/>
            <a:ext cx="8153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ddress Transl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rdware conver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irtual addres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ysical address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 an OS-managed lookup table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ge 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143000" y="3124080"/>
            <a:ext cx="1218960" cy="1143000"/>
            <a:chOff x="1143000" y="3124080"/>
            <a:chExt cx="1218960" cy="1143000"/>
          </a:xfrm>
        </p:grpSpPr>
        <p:sp>
          <p:nvSpPr>
            <p:cNvPr id="220" name=""/>
            <p:cNvSpPr/>
            <p:nvPr/>
          </p:nvSpPr>
          <p:spPr>
            <a:xfrm>
              <a:off x="1218960" y="3200400"/>
              <a:ext cx="1143000" cy="1066680"/>
            </a:xfrm>
            <a:prstGeom prst="roundRect">
              <a:avLst>
                <a:gd name="adj" fmla="val 38986"/>
              </a:avLst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43000" y="3124080"/>
              <a:ext cx="1143000" cy="1066680"/>
            </a:xfrm>
            <a:prstGeom prst="roundRect">
              <a:avLst>
                <a:gd name="adj" fmla="val 38986"/>
              </a:avLst>
            </a:prstGeom>
            <a:solidFill>
              <a:srgbClr val="dadad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71600" y="3429000"/>
              <a:ext cx="719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248520" y="1752480"/>
            <a:ext cx="1752480" cy="3353040"/>
            <a:chOff x="6248520" y="1752480"/>
            <a:chExt cx="1752480" cy="3353040"/>
          </a:xfrm>
        </p:grpSpPr>
        <p:sp>
          <p:nvSpPr>
            <p:cNvPr id="224" name=""/>
            <p:cNvSpPr/>
            <p:nvPr/>
          </p:nvSpPr>
          <p:spPr>
            <a:xfrm>
              <a:off x="6324840" y="1828800"/>
              <a:ext cx="1676160" cy="3276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48520" y="1752480"/>
              <a:ext cx="1676520" cy="3276720"/>
            </a:xfrm>
            <a:prstGeom prst="rect">
              <a:avLst/>
            </a:prstGeom>
            <a:solidFill>
              <a:srgbClr val="dadad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6782040" y="1905120"/>
              <a:ext cx="914400" cy="2971800"/>
              <a:chOff x="6782040" y="1905120"/>
              <a:chExt cx="914400" cy="2971800"/>
            </a:xfrm>
          </p:grpSpPr>
          <p:sp>
            <p:nvSpPr>
              <p:cNvPr id="227" name=""/>
              <p:cNvSpPr/>
              <p:nvPr/>
            </p:nvSpPr>
            <p:spPr>
              <a:xfrm>
                <a:off x="6782040" y="19051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782040" y="21337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782040" y="23623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782040" y="25909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782040" y="28195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782040" y="32767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782040" y="30481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782040" y="35053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782040" y="37339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782040" y="39625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782040" y="41911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782040" y="46483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782040" y="44197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6477120" y="182880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77120" y="205740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48520" y="4572000"/>
              <a:ext cx="624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-1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553440" y="1371600"/>
            <a:ext cx="10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590920"/>
            <a:ext cx="1218960" cy="23619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2514600"/>
            <a:ext cx="1219320" cy="2362320"/>
          </a:xfrm>
          <a:prstGeom prst="rect">
            <a:avLst/>
          </a:prstGeom>
          <a:solidFill>
            <a:srgbClr val="dadad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962520" y="2666880"/>
            <a:ext cx="533160" cy="2057400"/>
            <a:chOff x="3962520" y="2666880"/>
            <a:chExt cx="533160" cy="2057400"/>
          </a:xfrm>
        </p:grpSpPr>
        <p:sp>
          <p:nvSpPr>
            <p:cNvPr id="247" name=""/>
            <p:cNvSpPr/>
            <p:nvPr/>
          </p:nvSpPr>
          <p:spPr>
            <a:xfrm>
              <a:off x="3962520" y="26668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62520" y="28954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62520" y="31240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62520" y="33526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62520" y="35812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62520" y="40384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62520" y="38098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62520" y="42670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62520" y="44956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3657600" y="2590920"/>
            <a:ext cx="384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2819520"/>
            <a:ext cx="384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4419720"/>
            <a:ext cx="612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-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12800" y="2101680"/>
            <a:ext cx="138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286000" y="3276360"/>
            <a:ext cx="1676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72040" y="31528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81400" y="4076640"/>
            <a:ext cx="15264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257720" y="3238560"/>
            <a:ext cx="248616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267080" y="2971440"/>
            <a:ext cx="251460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2285640" y="3809520"/>
            <a:ext cx="167652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962160" y="4266720"/>
            <a:ext cx="533520" cy="228600"/>
            <a:chOff x="3962160" y="4266720"/>
            <a:chExt cx="533520" cy="228600"/>
          </a:xfrm>
        </p:grpSpPr>
        <p:sp>
          <p:nvSpPr>
            <p:cNvPr id="267" name=""/>
            <p:cNvSpPr/>
            <p:nvPr/>
          </p:nvSpPr>
          <p:spPr>
            <a:xfrm flipV="1">
              <a:off x="3962520" y="426672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3962160" y="426672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962160" y="3580920"/>
            <a:ext cx="533520" cy="228600"/>
            <a:chOff x="3962160" y="3580920"/>
            <a:chExt cx="533520" cy="228600"/>
          </a:xfrm>
        </p:grpSpPr>
        <p:sp>
          <p:nvSpPr>
            <p:cNvPr id="270" name=""/>
            <p:cNvSpPr/>
            <p:nvPr/>
          </p:nvSpPr>
          <p:spPr>
            <a:xfrm flipV="1">
              <a:off x="3962520" y="358092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3962160" y="358092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800600" y="5029200"/>
            <a:ext cx="1295280" cy="666720"/>
            <a:chOff x="4800600" y="5029200"/>
            <a:chExt cx="1295280" cy="666720"/>
          </a:xfrm>
        </p:grpSpPr>
        <p:sp>
          <p:nvSpPr>
            <p:cNvPr id="273" name=""/>
            <p:cNvSpPr/>
            <p:nvPr/>
          </p:nvSpPr>
          <p:spPr>
            <a:xfrm>
              <a:off x="4800600" y="5181840"/>
              <a:ext cx="1295280" cy="3808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4800600" y="5029200"/>
              <a:ext cx="1295280" cy="666720"/>
              <a:chOff x="4800600" y="5029200"/>
              <a:chExt cx="1295280" cy="666720"/>
            </a:xfrm>
          </p:grpSpPr>
          <p:sp>
            <p:nvSpPr>
              <p:cNvPr id="275" name=""/>
              <p:cNvSpPr/>
              <p:nvPr/>
            </p:nvSpPr>
            <p:spPr>
              <a:xfrm>
                <a:off x="4800600" y="5029200"/>
                <a:ext cx="1295280" cy="304920"/>
              </a:xfrm>
              <a:prstGeom prst="ellipse">
                <a:avLst/>
              </a:prstGeom>
              <a:solidFill>
                <a:srgbClr val="dadada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00600" y="518184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095880" y="518184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00600" y="5562720"/>
                <a:ext cx="1295280" cy="133200"/>
              </a:xfrm>
              <a:custGeom>
                <a:avLst/>
                <a:gdLst/>
                <a:ahLst/>
                <a:rect l="l" t="t" r="r" b="b"/>
                <a:pathLst>
                  <a:path w="816" h="84">
                    <a:moveTo>
                      <a:pt x="0" y="0"/>
                    </a:moveTo>
                    <a:cubicBezTo>
                      <a:pt x="25" y="10"/>
                      <a:pt x="81" y="46"/>
                      <a:pt x="150" y="60"/>
                    </a:cubicBezTo>
                    <a:cubicBezTo>
                      <a:pt x="219" y="74"/>
                      <a:pt x="326" y="84"/>
                      <a:pt x="414" y="84"/>
                    </a:cubicBezTo>
                    <a:cubicBezTo>
                      <a:pt x="502" y="84"/>
                      <a:pt x="611" y="74"/>
                      <a:pt x="678" y="60"/>
                    </a:cubicBezTo>
                    <a:cubicBezTo>
                      <a:pt x="745" y="46"/>
                      <a:pt x="787" y="12"/>
                      <a:pt x="816" y="0"/>
                    </a:cubicBezTo>
                  </a:path>
                </a:pathLst>
              </a:custGeom>
              <a:solidFill>
                <a:srgbClr val="dadada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9" name=""/>
          <p:cNvSpPr/>
          <p:nvPr/>
        </p:nvSpPr>
        <p:spPr>
          <a:xfrm>
            <a:off x="5105520" y="5334120"/>
            <a:ext cx="663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38640" y="3705120"/>
            <a:ext cx="1297080" cy="132408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229280" y="4381560"/>
            <a:ext cx="1104840" cy="64764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05840" y="2362320"/>
            <a:ext cx="13474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01320" y="2438280"/>
            <a:ext cx="13474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0080" y="334800"/>
            <a:ext cx="8813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ge Faults (Similar to “Cache Misses”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f an object is on disk rather than in memor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 entry indicates virtual address not in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exception handler invoked to move data from disk into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process suspends, others can re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has full control over placement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4680" y="4732200"/>
            <a:ext cx="684000" cy="640080"/>
          </a:xfrm>
          <a:prstGeom prst="roundRect">
            <a:avLst>
              <a:gd name="adj" fmla="val 38986"/>
            </a:avLst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" y="4686480"/>
            <a:ext cx="684360" cy="639720"/>
          </a:xfrm>
          <a:prstGeom prst="roundRect">
            <a:avLst>
              <a:gd name="adj" fmla="val 38986"/>
            </a:avLst>
          </a:prstGeom>
          <a:solidFill>
            <a:srgbClr val="dadad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36840" y="3909960"/>
            <a:ext cx="1005120" cy="19652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90760" y="3863880"/>
            <a:ext cx="1005120" cy="1965600"/>
          </a:xfrm>
          <a:prstGeom prst="rect">
            <a:avLst/>
          </a:prstGeom>
          <a:solidFill>
            <a:srgbClr val="dadad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10080" y="395604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610080" y="4092480"/>
            <a:ext cx="54900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10080" y="423072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610080" y="436716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10080" y="4503600"/>
            <a:ext cx="54900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10080" y="4778280"/>
            <a:ext cx="54900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10080" y="464184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610080" y="491508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610080" y="5051520"/>
            <a:ext cx="54900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10080" y="5189400"/>
            <a:ext cx="54900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10080" y="532620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610080" y="560088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10080" y="5462640"/>
            <a:ext cx="54900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04160" y="3581280"/>
            <a:ext cx="86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46280" y="4367160"/>
            <a:ext cx="730080" cy="14162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00200" y="4321080"/>
            <a:ext cx="730080" cy="1416240"/>
          </a:xfrm>
          <a:prstGeom prst="rect">
            <a:avLst/>
          </a:prstGeom>
          <a:solidFill>
            <a:srgbClr val="dadad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19160" y="441324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19160" y="4549680"/>
            <a:ext cx="32076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19160" y="468792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19160" y="482436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19160" y="4960800"/>
            <a:ext cx="32076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19160" y="523548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919160" y="509904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19160" y="5372280"/>
            <a:ext cx="3207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19160" y="551016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45040" y="4038480"/>
            <a:ext cx="11217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097000" y="4754520"/>
            <a:ext cx="1513080" cy="663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101680" y="4595400"/>
            <a:ext cx="1508400" cy="685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919160" y="5371920"/>
            <a:ext cx="320760" cy="13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1918800" y="5371920"/>
            <a:ext cx="320760" cy="13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919160" y="4960800"/>
            <a:ext cx="320760" cy="13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1918800" y="4960800"/>
            <a:ext cx="320760" cy="13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22440" y="5921280"/>
            <a:ext cx="776520" cy="2286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422440" y="5829480"/>
            <a:ext cx="776520" cy="182520"/>
          </a:xfrm>
          <a:prstGeom prst="ellipse">
            <a:avLst/>
          </a:prstGeom>
          <a:solidFill>
            <a:srgbClr val="dadad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22440" y="59212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98960" y="59212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422440" y="6149880"/>
            <a:ext cx="776520" cy="79560"/>
          </a:xfrm>
          <a:custGeom>
            <a:avLst/>
            <a:gdLst/>
            <a:ahLst/>
            <a:rect l="l" t="t" r="r" b="b"/>
            <a:pathLst>
              <a:path w="816" h="84">
                <a:moveTo>
                  <a:pt x="0" y="0"/>
                </a:moveTo>
                <a:cubicBezTo>
                  <a:pt x="25" y="10"/>
                  <a:pt x="81" y="46"/>
                  <a:pt x="150" y="60"/>
                </a:cubicBezTo>
                <a:cubicBezTo>
                  <a:pt x="219" y="74"/>
                  <a:pt x="326" y="84"/>
                  <a:pt x="414" y="84"/>
                </a:cubicBezTo>
                <a:cubicBezTo>
                  <a:pt x="502" y="84"/>
                  <a:pt x="611" y="74"/>
                  <a:pt x="678" y="60"/>
                </a:cubicBezTo>
                <a:cubicBezTo>
                  <a:pt x="745" y="46"/>
                  <a:pt x="787" y="12"/>
                  <a:pt x="816" y="0"/>
                </a:cubicBezTo>
              </a:path>
            </a:pathLst>
          </a:custGeom>
          <a:solidFill>
            <a:srgbClr val="dadada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67520" y="5967360"/>
            <a:ext cx="5580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84400" y="5035680"/>
            <a:ext cx="777960" cy="79380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079720" y="5440320"/>
            <a:ext cx="662040" cy="38916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44320" y="4268880"/>
            <a:ext cx="10911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0960" y="4314960"/>
            <a:ext cx="10911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2160" y="4884840"/>
            <a:ext cx="684000" cy="639720"/>
          </a:xfrm>
          <a:prstGeom prst="roundRect">
            <a:avLst>
              <a:gd name="adj" fmla="val 38986"/>
            </a:avLst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726080" y="4838760"/>
            <a:ext cx="684000" cy="639720"/>
          </a:xfrm>
          <a:prstGeom prst="roundRect">
            <a:avLst>
              <a:gd name="adj" fmla="val 38986"/>
            </a:avLst>
          </a:prstGeom>
          <a:solidFill>
            <a:srgbClr val="dadad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834320" y="4062240"/>
            <a:ext cx="1004760" cy="19656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88240" y="4016520"/>
            <a:ext cx="1004760" cy="1965240"/>
          </a:xfrm>
          <a:prstGeom prst="rect">
            <a:avLst/>
          </a:prstGeom>
          <a:solidFill>
            <a:srgbClr val="dadad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107200" y="4108320"/>
            <a:ext cx="5493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107200" y="4245120"/>
            <a:ext cx="5493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107200" y="438300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107200" y="4519440"/>
            <a:ext cx="5493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107200" y="4656240"/>
            <a:ext cx="5493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107200" y="493092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107200" y="4794120"/>
            <a:ext cx="5493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107200" y="506736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107200" y="5203800"/>
            <a:ext cx="54936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107200" y="534204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107200" y="547848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107200" y="575316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07200" y="5614920"/>
            <a:ext cx="54936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847640" y="3733920"/>
            <a:ext cx="86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143760" y="4519440"/>
            <a:ext cx="730080" cy="14162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7680" y="4473720"/>
            <a:ext cx="730080" cy="1415880"/>
          </a:xfrm>
          <a:prstGeom prst="rect">
            <a:avLst/>
          </a:prstGeom>
          <a:solidFill>
            <a:srgbClr val="dadad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416640" y="456552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16640" y="4702320"/>
            <a:ext cx="3207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416640" y="484020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16640" y="497664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416640" y="5113440"/>
            <a:ext cx="3207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416640" y="538812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416640" y="525132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416640" y="5524560"/>
            <a:ext cx="3207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16640" y="566244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891400" y="4191120"/>
            <a:ext cx="11217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594480" y="4906800"/>
            <a:ext cx="1512720" cy="6638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6599160" y="4747680"/>
            <a:ext cx="1508040" cy="685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6416640" y="5113080"/>
            <a:ext cx="3207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6416280" y="5113080"/>
            <a:ext cx="3207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919920" y="6073920"/>
            <a:ext cx="776160" cy="2286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919920" y="5981760"/>
            <a:ext cx="776160" cy="182520"/>
          </a:xfrm>
          <a:prstGeom prst="ellipse">
            <a:avLst/>
          </a:prstGeom>
          <a:solidFill>
            <a:srgbClr val="dadad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919920" y="6073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696080" y="6073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919920" y="6302520"/>
            <a:ext cx="776160" cy="79200"/>
          </a:xfrm>
          <a:custGeom>
            <a:avLst/>
            <a:gdLst/>
            <a:ahLst/>
            <a:rect l="l" t="t" r="r" b="b"/>
            <a:pathLst>
              <a:path w="816" h="84">
                <a:moveTo>
                  <a:pt x="0" y="0"/>
                </a:moveTo>
                <a:cubicBezTo>
                  <a:pt x="25" y="10"/>
                  <a:pt x="81" y="46"/>
                  <a:pt x="150" y="60"/>
                </a:cubicBezTo>
                <a:cubicBezTo>
                  <a:pt x="219" y="74"/>
                  <a:pt x="326" y="84"/>
                  <a:pt x="414" y="84"/>
                </a:cubicBezTo>
                <a:cubicBezTo>
                  <a:pt x="502" y="84"/>
                  <a:pt x="611" y="74"/>
                  <a:pt x="678" y="60"/>
                </a:cubicBezTo>
                <a:cubicBezTo>
                  <a:pt x="745" y="46"/>
                  <a:pt x="787" y="12"/>
                  <a:pt x="816" y="0"/>
                </a:cubicBezTo>
              </a:path>
            </a:pathLst>
          </a:custGeom>
          <a:solidFill>
            <a:srgbClr val="dadada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065000" y="6119640"/>
            <a:ext cx="5580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81880" y="5187960"/>
            <a:ext cx="777600" cy="79380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41800" y="4421160"/>
            <a:ext cx="10911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778440" y="4467240"/>
            <a:ext cx="10911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6553080" y="5105520"/>
            <a:ext cx="1524240" cy="4809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066320" y="3193920"/>
            <a:ext cx="1875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ore 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277320" y="3200400"/>
            <a:ext cx="1623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914040" y="5097600"/>
            <a:ext cx="1004760" cy="366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5395680" y="5272200"/>
            <a:ext cx="1004760" cy="366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070000" y="304920"/>
            <a:ext cx="50040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icing a Page Faul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336528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r Signals Control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block of length P starting at disk address X and store starting at memory address 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Occu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Memory Access (DM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 control of I/O control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/ O Controller Signals Comple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rupt process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resumes suspended proces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719840" y="5587920"/>
            <a:ext cx="559080" cy="139680"/>
          </a:xfrm>
          <a:prstGeom prst="ellipse">
            <a:avLst/>
          </a:prstGeom>
          <a:solidFill>
            <a:srgbClr val="c4c4c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695000" y="5254560"/>
            <a:ext cx="586800" cy="36324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719840" y="5207040"/>
            <a:ext cx="559080" cy="444600"/>
          </a:xfrm>
          <a:prstGeom prst="rect">
            <a:avLst/>
          </a:prstGeom>
          <a:solidFill>
            <a:srgbClr val="c4c4c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719840" y="5130720"/>
            <a:ext cx="559080" cy="139680"/>
          </a:xfrm>
          <a:prstGeom prst="ellipse">
            <a:avLst/>
          </a:prstGeom>
          <a:solidFill>
            <a:srgbClr val="c4c4c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26320" y="5505480"/>
            <a:ext cx="547560" cy="15228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91400" y="5292720"/>
            <a:ext cx="631800" cy="36324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6900840" y="5130720"/>
            <a:ext cx="650520" cy="596880"/>
            <a:chOff x="6900840" y="5130720"/>
            <a:chExt cx="650520" cy="596880"/>
          </a:xfrm>
        </p:grpSpPr>
        <p:sp>
          <p:nvSpPr>
            <p:cNvPr id="389" name=""/>
            <p:cNvSpPr/>
            <p:nvPr/>
          </p:nvSpPr>
          <p:spPr>
            <a:xfrm>
              <a:off x="6921360" y="5587920"/>
              <a:ext cx="596880" cy="139680"/>
            </a:xfrm>
            <a:prstGeom prst="ellipse">
              <a:avLst/>
            </a:prstGeom>
            <a:solidFill>
              <a:srgbClr val="c4c4c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900840" y="5254200"/>
              <a:ext cx="586800" cy="36324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921360" y="5206680"/>
              <a:ext cx="596880" cy="444600"/>
            </a:xfrm>
            <a:prstGeom prst="rect">
              <a:avLst/>
            </a:prstGeom>
            <a:solidFill>
              <a:srgbClr val="c4c4c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921360" y="5130720"/>
              <a:ext cx="596880" cy="139680"/>
            </a:xfrm>
            <a:prstGeom prst="ellipse">
              <a:avLst/>
            </a:prstGeom>
            <a:solidFill>
              <a:srgbClr val="c4c4c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927840" y="5505120"/>
              <a:ext cx="583920" cy="15264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26400" y="5305320"/>
              <a:ext cx="624960" cy="36324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7207200" y="4572000"/>
            <a:ext cx="0" cy="62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007480" y="4572000"/>
            <a:ext cx="0" cy="63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12120" y="3530520"/>
            <a:ext cx="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810400" y="2120760"/>
            <a:ext cx="0" cy="237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181480" y="3441600"/>
            <a:ext cx="30481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-I/O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81480" y="1219320"/>
            <a:ext cx="1231920" cy="888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81480" y="2476440"/>
            <a:ext cx="1231920" cy="495360"/>
          </a:xfrm>
          <a:prstGeom prst="rect">
            <a:avLst/>
          </a:prstGeom>
          <a:solidFill>
            <a:srgbClr val="c4c4c4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181480" y="4368960"/>
            <a:ext cx="1231920" cy="495000"/>
          </a:xfrm>
          <a:prstGeom prst="rect">
            <a:avLst/>
          </a:prstGeom>
          <a:solidFill>
            <a:srgbClr val="c4c4c4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934320" y="4140360"/>
            <a:ext cx="12319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460840" y="1828800"/>
            <a:ext cx="749520" cy="216000"/>
          </a:xfrm>
          <a:prstGeom prst="rect">
            <a:avLst/>
          </a:prstGeom>
          <a:solidFill>
            <a:srgbClr val="c4c4c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829480" y="3530520"/>
            <a:ext cx="1739880" cy="1650960"/>
          </a:xfrm>
          <a:custGeom>
            <a:avLst/>
            <a:gdLst/>
            <a:ahLst/>
            <a:rect l="l" t="t" r="r" b="b"/>
            <a:pathLst>
              <a:path w="1096" h="1040">
                <a:moveTo>
                  <a:pt x="936" y="1040"/>
                </a:moveTo>
                <a:cubicBezTo>
                  <a:pt x="924" y="895"/>
                  <a:pt x="912" y="751"/>
                  <a:pt x="936" y="656"/>
                </a:cubicBezTo>
                <a:cubicBezTo>
                  <a:pt x="959" y="560"/>
                  <a:pt x="1064" y="552"/>
                  <a:pt x="1080" y="464"/>
                </a:cubicBezTo>
                <a:cubicBezTo>
                  <a:pt x="1096" y="376"/>
                  <a:pt x="1096" y="200"/>
                  <a:pt x="1032" y="128"/>
                </a:cubicBezTo>
                <a:cubicBezTo>
                  <a:pt x="967" y="55"/>
                  <a:pt x="839" y="47"/>
                  <a:pt x="696" y="32"/>
                </a:cubicBezTo>
                <a:cubicBezTo>
                  <a:pt x="552" y="16"/>
                  <a:pt x="280" y="0"/>
                  <a:pt x="168" y="32"/>
                </a:cubicBezTo>
                <a:cubicBezTo>
                  <a:pt x="56" y="64"/>
                  <a:pt x="47" y="144"/>
                  <a:pt x="24" y="224"/>
                </a:cubicBezTo>
                <a:cubicBezTo>
                  <a:pt x="0" y="303"/>
                  <a:pt x="12" y="407"/>
                  <a:pt x="24" y="512"/>
                </a:cubicBezTo>
              </a:path>
            </a:pathLst>
          </a:custGeom>
          <a:noFill/>
          <a:ln w="5724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35720" y="388620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DMA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00800" y="1752480"/>
            <a:ext cx="1219320" cy="2362320"/>
          </a:xfrm>
          <a:custGeom>
            <a:avLst/>
            <a:gdLst/>
            <a:ahLst/>
            <a:rect l="l" t="t" r="r" b="b"/>
            <a:pathLst>
              <a:path w="720" h="1056">
                <a:moveTo>
                  <a:pt x="720" y="1056"/>
                </a:moveTo>
                <a:lnTo>
                  <a:pt x="72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00800" y="1447920"/>
            <a:ext cx="1600200" cy="2666880"/>
          </a:xfrm>
          <a:custGeom>
            <a:avLst/>
            <a:gdLst/>
            <a:ahLst/>
            <a:rect l="l" t="t" r="r" b="b"/>
            <a:pathLst>
              <a:path w="720" h="1056">
                <a:moveTo>
                  <a:pt x="720" y="1056"/>
                </a:moveTo>
                <a:lnTo>
                  <a:pt x="72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327720" y="99072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Initiate Block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477120" y="18288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Read 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91840" y="334800"/>
            <a:ext cx="8001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ivation #2: Memory Manag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 processes can reside in physical memo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we resolve address conflict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f two processes access something at the same addres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483000" y="2784600"/>
            <a:ext cx="2174760" cy="33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 virtual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483000" y="3940200"/>
            <a:ext cx="2174760" cy="455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 mapped reg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shared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83000" y="4392720"/>
            <a:ext cx="2174760" cy="4921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483000" y="4888080"/>
            <a:ext cx="2174760" cy="453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ntime heap (via mallo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483000" y="3322800"/>
            <a:ext cx="2174760" cy="61596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483000" y="5850000"/>
            <a:ext cx="2174760" cy="26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gram text (.tex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483000" y="5591160"/>
            <a:ext cx="2174760" cy="27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lized data (.dat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483000" y="5332320"/>
            <a:ext cx="2174760" cy="26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nitialized data (.bs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4508640" y="4640040"/>
            <a:ext cx="0" cy="23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83000" y="3094200"/>
            <a:ext cx="217476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4519440" y="3705120"/>
            <a:ext cx="0" cy="238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29160" y="3322800"/>
            <a:ext cx="0" cy="23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483000" y="6108840"/>
            <a:ext cx="2174760" cy="26964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bid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278160" y="6248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601360" y="3130560"/>
            <a:ext cx="6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24160" y="3294000"/>
            <a:ext cx="25884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42800" y="2673360"/>
            <a:ext cx="185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 invisib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5742000" y="2752560"/>
            <a:ext cx="0" cy="30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80960" y="477684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“brk” pt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5638320" y="4876920"/>
            <a:ext cx="258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900000" y="3956040"/>
            <a:ext cx="1586520" cy="17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/x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533520" y="3505320"/>
            <a:ext cx="1368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Address Space for Process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010280" y="3429000"/>
            <a:ext cx="10670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 (DRA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367000" y="3579840"/>
            <a:ext cx="9018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367000" y="380844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367000" y="403704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367000" y="4495680"/>
            <a:ext cx="9018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67000" y="5180040"/>
            <a:ext cx="9018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67000" y="6095880"/>
            <a:ext cx="9018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643720" y="33512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643720" y="35798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643720" y="3808440"/>
            <a:ext cx="90144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643720" y="40370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643720" y="42656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643720" y="44942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643720" y="47228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643720" y="515628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43720" y="537048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43720" y="5802480"/>
            <a:ext cx="90144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643720" y="601812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281400" y="3954600"/>
            <a:ext cx="2349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03520" y="3497400"/>
            <a:ext cx="190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ess Trans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041200" y="35211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041200" y="51973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888560" y="4513320"/>
            <a:ext cx="46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393880" y="32925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888560" y="6175440"/>
            <a:ext cx="46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64920" y="6035760"/>
            <a:ext cx="48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274920" y="4183200"/>
            <a:ext cx="236232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360520" y="540216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360520" y="563076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637240" y="494496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274920" y="5097600"/>
            <a:ext cx="2362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287880" y="5707080"/>
            <a:ext cx="2349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637240" y="559260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27960" y="4800600"/>
            <a:ext cx="16635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e.g., read/only library co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8763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: Separate Virtual Addr. Spa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 and physical address spaces divided into equal-sized bl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s are called “pages” (both virtual and physi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process has its own virtual address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controls how virtual pages as assigned to physic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612880" y="40784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612880" y="56786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3520" y="5137200"/>
            <a:ext cx="1368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Address Space for Process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35040" y="304920"/>
            <a:ext cx="78739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rast: Macintosh Memory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 OS 1–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es not use traditional virtual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program objects accessed through “handle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rect reference through pointer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s stored in shared global address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838080" y="1676520"/>
            <a:ext cx="6568560" cy="3504600"/>
            <a:chOff x="838080" y="1676520"/>
            <a:chExt cx="6568560" cy="3504600"/>
          </a:xfrm>
        </p:grpSpPr>
        <p:sp>
          <p:nvSpPr>
            <p:cNvPr id="477" name=""/>
            <p:cNvSpPr/>
            <p:nvPr/>
          </p:nvSpPr>
          <p:spPr>
            <a:xfrm>
              <a:off x="2288880" y="1828800"/>
              <a:ext cx="187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1 Pointer 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212560" y="3429000"/>
              <a:ext cx="187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2 Pointer 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38080" y="2361960"/>
              <a:ext cx="1447920" cy="914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 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666880" y="2361960"/>
              <a:ext cx="381240" cy="914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8080" y="3886200"/>
              <a:ext cx="1524240" cy="914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 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66880" y="3886200"/>
              <a:ext cx="381240" cy="914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880520" y="1676520"/>
              <a:ext cx="252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ared Address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410080" y="2133360"/>
              <a:ext cx="1295640" cy="838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410080" y="2971800"/>
              <a:ext cx="129564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10080" y="3429000"/>
              <a:ext cx="1295640" cy="685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410080" y="4114800"/>
              <a:ext cx="1295640" cy="685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410080" y="4800600"/>
              <a:ext cx="1295640" cy="38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2895480" y="2133360"/>
              <a:ext cx="251460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2819520" y="3047400"/>
              <a:ext cx="2590560" cy="99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2819520" y="3504960"/>
              <a:ext cx="259056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895480" y="2743200"/>
              <a:ext cx="2514600" cy="144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19520" y="4572000"/>
              <a:ext cx="259056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43200" y="4495680"/>
              <a:ext cx="152280" cy="151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43200" y="4267080"/>
              <a:ext cx="152280" cy="151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743200" y="39621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43200" y="2666880"/>
              <a:ext cx="152280" cy="151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438280"/>
              <a:ext cx="152280" cy="151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1523160" y="2743200"/>
              <a:ext cx="121932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1371600" y="2514240"/>
              <a:ext cx="1371600" cy="30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1295280" y="2742840"/>
              <a:ext cx="1447920" cy="45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1599480" y="4267080"/>
              <a:ext cx="121932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1447920" y="4038480"/>
              <a:ext cx="137160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295280" y="4572000"/>
              <a:ext cx="1447920" cy="75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306720" y="3429000"/>
            <a:ext cx="12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ndl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77760" y="304920"/>
            <a:ext cx="7188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intosh Memory Manag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105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149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cation / Deall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5480" indent="-14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ilar to free-list management of malloc/fre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9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5480" indent="-14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move any object and just update the (unique) pointer in pointer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5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06720" y="4419720"/>
            <a:ext cx="12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ndl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1371600" y="2743200"/>
            <a:ext cx="6568200" cy="3505320"/>
            <a:chOff x="1371600" y="2743200"/>
            <a:chExt cx="6568200" cy="3505320"/>
          </a:xfrm>
        </p:grpSpPr>
        <p:sp>
          <p:nvSpPr>
            <p:cNvPr id="510" name=""/>
            <p:cNvSpPr/>
            <p:nvPr/>
          </p:nvSpPr>
          <p:spPr>
            <a:xfrm>
              <a:off x="2822400" y="2895480"/>
              <a:ext cx="187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1 Pointer 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746080" y="4495680"/>
              <a:ext cx="187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2 Pointer 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371600" y="3429000"/>
              <a:ext cx="1447920" cy="914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 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200400" y="3429000"/>
              <a:ext cx="380880" cy="914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371600" y="4952880"/>
              <a:ext cx="1523880" cy="914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 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00400" y="4952880"/>
              <a:ext cx="380880" cy="914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13680" y="2743200"/>
              <a:ext cx="252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ared Address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943600" y="3657600"/>
              <a:ext cx="1295280" cy="838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43600" y="3200400"/>
              <a:ext cx="129528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943600" y="4495680"/>
              <a:ext cx="129528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943600" y="5181480"/>
              <a:ext cx="129528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943600" y="5867280"/>
              <a:ext cx="12952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3352680" y="3200400"/>
              <a:ext cx="2590920" cy="190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3352680" y="4572000"/>
              <a:ext cx="259092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29000" y="3809880"/>
              <a:ext cx="2514600" cy="144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352680" y="5638680"/>
              <a:ext cx="25909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27672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276720" y="53341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76720" y="5029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76720" y="37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276720" y="3505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2056680" y="3809520"/>
              <a:ext cx="1219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1905120" y="3580920"/>
              <a:ext cx="13716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1828800" y="3809880"/>
              <a:ext cx="14479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2133720" y="5333760"/>
              <a:ext cx="121896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1981080" y="5105520"/>
              <a:ext cx="137160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1828800" y="5638680"/>
              <a:ext cx="137160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29000" y="3581280"/>
              <a:ext cx="251460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21960" y="334800"/>
            <a:ext cx="73407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 vs. VM-Based Memory Mgm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cating, deallocating, and moving memo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accomplished by both techniq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 siz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: variable-siz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be very small or very 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M: fixed-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is equal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e p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4KB on x86 Linux syste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cating contiguous chunks of memo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: contiguous allocation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qui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M: can map contiguous range of virtual addresses to disjoint ranges of physical addr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: “wild write” by one process can corrupt another’s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398760" y="334800"/>
            <a:ext cx="2387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 OS 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rn” Operating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 memory with prot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emptive multitas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versions of MAC OS require processes to voluntarily relinquish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MACH 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ed at CMU in late 1980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798560" y="334800"/>
            <a:ext cx="55879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ivation #3: Prot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 table entry contains access rights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 enforces this protection (trap into OS if violation occur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895480" y="1828800"/>
            <a:ext cx="1514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9080" y="2895480"/>
            <a:ext cx="1397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828800" y="2209680"/>
            <a:ext cx="3886200" cy="1953360"/>
            <a:chOff x="1828800" y="2209680"/>
            <a:chExt cx="3886200" cy="1953360"/>
          </a:xfrm>
        </p:grpSpPr>
        <p:sp>
          <p:nvSpPr>
            <p:cNvPr id="547" name=""/>
            <p:cNvSpPr/>
            <p:nvPr/>
          </p:nvSpPr>
          <p:spPr>
            <a:xfrm>
              <a:off x="1828800" y="2209680"/>
              <a:ext cx="3886200" cy="1905120"/>
            </a:xfrm>
            <a:prstGeom prst="rect">
              <a:avLst/>
            </a:prstGeom>
            <a:solidFill>
              <a:srgbClr val="dadad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963240" y="2286000"/>
              <a:ext cx="15332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hysical Add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362320" y="2286000"/>
              <a:ext cx="8002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ad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125160" y="2286000"/>
              <a:ext cx="81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rite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962520" y="2590920"/>
              <a:ext cx="1523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115520" y="2590920"/>
              <a:ext cx="847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P 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438280" y="2590920"/>
              <a:ext cx="68580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200400" y="2590920"/>
              <a:ext cx="68580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514240" y="259092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352680" y="259092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962520" y="2971800"/>
              <a:ext cx="1523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115520" y="2971800"/>
              <a:ext cx="847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P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438280" y="297180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200400" y="297180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514240" y="297180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276000" y="297180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962520" y="3352680"/>
              <a:ext cx="1523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112280" y="3352680"/>
              <a:ext cx="1130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438280" y="335268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200400" y="335268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514600" y="3352680"/>
              <a:ext cx="5076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352680" y="335268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1828800" y="2590920"/>
              <a:ext cx="689040" cy="1069560"/>
              <a:chOff x="1828800" y="2590920"/>
              <a:chExt cx="689040" cy="1069560"/>
            </a:xfrm>
          </p:grpSpPr>
          <p:sp>
            <p:nvSpPr>
              <p:cNvPr id="570" name=""/>
              <p:cNvSpPr/>
              <p:nvPr/>
            </p:nvSpPr>
            <p:spPr>
              <a:xfrm>
                <a:off x="1828800" y="259092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VP 0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828800" y="297180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VP 1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828800" y="335268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VP 2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2666880" y="365760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429000" y="365760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572000" y="365760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379080" y="5029200"/>
            <a:ext cx="1397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j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6858000" y="2286000"/>
            <a:ext cx="1752480" cy="3352320"/>
            <a:chOff x="6858000" y="2286000"/>
            <a:chExt cx="1752480" cy="3352320"/>
          </a:xfrm>
        </p:grpSpPr>
        <p:sp>
          <p:nvSpPr>
            <p:cNvPr id="578" name=""/>
            <p:cNvSpPr/>
            <p:nvPr/>
          </p:nvSpPr>
          <p:spPr>
            <a:xfrm>
              <a:off x="6934320" y="2361960"/>
              <a:ext cx="1676160" cy="32763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58000" y="2286000"/>
              <a:ext cx="1676520" cy="3276360"/>
            </a:xfrm>
            <a:prstGeom prst="rect">
              <a:avLst/>
            </a:prstGeom>
            <a:solidFill>
              <a:srgbClr val="dadad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0" name=""/>
            <p:cNvGrpSpPr/>
            <p:nvPr/>
          </p:nvGrpSpPr>
          <p:grpSpPr>
            <a:xfrm>
              <a:off x="7391520" y="2438280"/>
              <a:ext cx="914400" cy="2971080"/>
              <a:chOff x="7391520" y="2438280"/>
              <a:chExt cx="914400" cy="2971080"/>
            </a:xfrm>
          </p:grpSpPr>
          <p:sp>
            <p:nvSpPr>
              <p:cNvPr id="581" name=""/>
              <p:cNvSpPr/>
              <p:nvPr/>
            </p:nvSpPr>
            <p:spPr>
              <a:xfrm>
                <a:off x="7391520" y="243828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91520" y="26665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91520" y="28951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391520" y="31237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391520" y="33523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391520" y="38095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391520" y="35809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391520" y="40381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391520" y="42667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391520" y="44953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391520" y="47239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391520" y="51811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391520" y="49525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7086600" y="236196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86600" y="259056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58000" y="5105160"/>
              <a:ext cx="624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-1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7239240" y="1905120"/>
            <a:ext cx="10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86400" y="3124080"/>
            <a:ext cx="19051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5334120" y="3962520"/>
            <a:ext cx="20574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86400" y="2743200"/>
            <a:ext cx="19051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5334120" y="4647960"/>
            <a:ext cx="20574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1828800" y="4343400"/>
            <a:ext cx="3886200" cy="1953360"/>
            <a:chOff x="1828800" y="4343400"/>
            <a:chExt cx="3886200" cy="1953360"/>
          </a:xfrm>
        </p:grpSpPr>
        <p:sp>
          <p:nvSpPr>
            <p:cNvPr id="603" name=""/>
            <p:cNvSpPr/>
            <p:nvPr/>
          </p:nvSpPr>
          <p:spPr>
            <a:xfrm>
              <a:off x="1828800" y="4343400"/>
              <a:ext cx="3886200" cy="1905120"/>
            </a:xfrm>
            <a:prstGeom prst="rect">
              <a:avLst/>
            </a:prstGeom>
            <a:solidFill>
              <a:srgbClr val="dadad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963240" y="4419720"/>
              <a:ext cx="15332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hysical Add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362320" y="4419720"/>
              <a:ext cx="8002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ad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125160" y="4419720"/>
              <a:ext cx="81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rite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962520" y="4724280"/>
              <a:ext cx="1523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115520" y="4724280"/>
              <a:ext cx="847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P 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38280" y="472428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200400" y="472428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514240" y="472428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276000" y="472428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962520" y="5105520"/>
              <a:ext cx="1523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115520" y="5105520"/>
              <a:ext cx="847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P 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438280" y="5105520"/>
              <a:ext cx="68580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200400" y="5105520"/>
              <a:ext cx="68580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514240" y="510552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352680" y="510552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962520" y="5486400"/>
              <a:ext cx="1523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112280" y="5486400"/>
              <a:ext cx="1130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4382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20040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514600" y="5486400"/>
              <a:ext cx="5076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352680" y="548640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666880" y="579132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429000" y="579132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572000" y="579132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1828800" y="4724280"/>
              <a:ext cx="689040" cy="1069560"/>
              <a:chOff x="1828800" y="4724280"/>
              <a:chExt cx="689040" cy="1069560"/>
            </a:xfrm>
          </p:grpSpPr>
          <p:sp>
            <p:nvSpPr>
              <p:cNvPr id="629" name=""/>
              <p:cNvSpPr/>
              <p:nvPr/>
            </p:nvSpPr>
            <p:spPr>
              <a:xfrm>
                <a:off x="1828800" y="472428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VP 0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828800" y="510516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VP 1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828800" y="548604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VP 2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6120" y="334800"/>
            <a:ext cx="6832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ivations for Virtual Mem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Physical DRAM as a Cache for the Dis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space of a process can exceed physical memory 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 of address spaces of multiple processes can exceed physical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ify Memory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 processes resident in main memor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 with its own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“active” code and data is actually in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e more memory to process as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Prot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rocess can’t interfere with anoth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they operate in different address spa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process cannot access privileged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sections of address spaces have different permis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814400" y="228600"/>
            <a:ext cx="5359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M Address Trans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455120" y="990720"/>
            <a:ext cx="528912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= {0, 1, . . . , N–1}   virtual address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= {0, 1, . . . , M–1}  physical address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:  V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P  U  {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address mapping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895440" y="1066680"/>
            <a:ext cx="7448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&gt;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928160" y="2120760"/>
            <a:ext cx="69991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(a)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 a'  if data at virtual addres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present at phys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'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f data at virtual address a is not present in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870480" y="3987360"/>
            <a:ext cx="1243080" cy="30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749680" y="4438440"/>
            <a:ext cx="1396800" cy="77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 Tr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244480" y="3644640"/>
            <a:ext cx="953280" cy="53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nd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252040" y="4584600"/>
            <a:ext cx="1002240" cy="53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016760" y="4582800"/>
            <a:ext cx="1359000" cy="53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ary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035680" y="4425840"/>
            <a:ext cx="3454200" cy="81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292800" y="4635360"/>
            <a:ext cx="660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6273360" y="5016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210200" y="5016600"/>
            <a:ext cx="1003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210200" y="4711680"/>
            <a:ext cx="40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4610160" y="3949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610160" y="3949560"/>
            <a:ext cx="6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6254640" y="3957480"/>
            <a:ext cx="135432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607160" y="3963960"/>
            <a:ext cx="0" cy="563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60520" y="4305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460520" y="4826160"/>
            <a:ext cx="1289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816200" y="4902120"/>
            <a:ext cx="253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501800" y="5130720"/>
            <a:ext cx="308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245120" y="4406760"/>
            <a:ext cx="308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231880" y="3276720"/>
            <a:ext cx="1207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ge 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4863960" y="3473280"/>
            <a:ext cx="39384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267440" y="5676840"/>
            <a:ext cx="1980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 flipV="1">
            <a:off x="4800240" y="5391000"/>
            <a:ext cx="41292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661080" y="5060880"/>
            <a:ext cx="38124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009560" y="5524560"/>
            <a:ext cx="153864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per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nly if mi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09840" y="5676840"/>
            <a:ext cx="1752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1295280" y="5181120"/>
            <a:ext cx="533520" cy="41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3352680" y="5320800"/>
            <a:ext cx="0" cy="27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628720" y="5676840"/>
            <a:ext cx="294696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of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-c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mgmt unit (MM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630360" y="2924280"/>
            <a:ext cx="31874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page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830760" y="2924280"/>
            <a:ext cx="21970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121440" y="2895480"/>
            <a:ext cx="180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34920" y="5133960"/>
            <a:ext cx="28828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page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830760" y="5133960"/>
            <a:ext cx="21970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197760" y="5105520"/>
            <a:ext cx="2034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043600" y="3305160"/>
            <a:ext cx="0" cy="166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48006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10240" y="480060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239840" y="3990960"/>
            <a:ext cx="2425680" cy="3682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trans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505320" y="48006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914400" y="480060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9840" y="259092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24360" y="2590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743640" y="259092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429000" y="2590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452680" y="33051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452680" y="43718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0880" y="5867280"/>
            <a:ext cx="832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at the page offset bits don't change as a result of trans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912680" y="334800"/>
            <a:ext cx="5359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M Address Trans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=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age size (bytes)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Virtual address li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=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hysical address li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2666880" y="3787920"/>
            <a:ext cx="160020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666880" y="401652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666880" y="4245120"/>
            <a:ext cx="160020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666880" y="447372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666880" y="355932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666880" y="241632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666880" y="264492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666880" y="2873520"/>
            <a:ext cx="160020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666880" y="310212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66880" y="333072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467160" y="4549680"/>
            <a:ext cx="10008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467160" y="3863880"/>
            <a:ext cx="10008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467160" y="4092480"/>
            <a:ext cx="10008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467160" y="4321080"/>
            <a:ext cx="10008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467160" y="3635280"/>
            <a:ext cx="10008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467160" y="3406680"/>
            <a:ext cx="10008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467160" y="3178080"/>
            <a:ext cx="10008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467160" y="2949480"/>
            <a:ext cx="10008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467160" y="2492280"/>
            <a:ext cx="10008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467160" y="2720880"/>
            <a:ext cx="10008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174840" y="304920"/>
            <a:ext cx="2794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364480" y="1295280"/>
            <a:ext cx="200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res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physical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 disk addres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641200" y="195912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6019920" y="2416320"/>
            <a:ext cx="1379160" cy="1600200"/>
            <a:chOff x="6019920" y="2416320"/>
            <a:chExt cx="1379160" cy="1600200"/>
          </a:xfrm>
        </p:grpSpPr>
        <p:sp>
          <p:nvSpPr>
            <p:cNvPr id="710" name=""/>
            <p:cNvSpPr/>
            <p:nvPr/>
          </p:nvSpPr>
          <p:spPr>
            <a:xfrm>
              <a:off x="6019920" y="378792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019920" y="355932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019920" y="241632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019920" y="264492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019920" y="287352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019920" y="310212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19920" y="333072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flipV="1">
            <a:off x="3505320" y="3406320"/>
            <a:ext cx="2514600" cy="1181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505320" y="3889440"/>
            <a:ext cx="2522520" cy="22320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3511440" y="3025440"/>
            <a:ext cx="2508480" cy="1104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505320" y="4346640"/>
            <a:ext cx="2522520" cy="20430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3498840" y="2797200"/>
            <a:ext cx="2521080" cy="88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3511440" y="2492280"/>
            <a:ext cx="2508480" cy="952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517920" y="3209760"/>
            <a:ext cx="2502000" cy="73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524400" y="2994120"/>
            <a:ext cx="2516040" cy="27860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517920" y="2543040"/>
            <a:ext cx="2502000" cy="711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492360" y="2759040"/>
            <a:ext cx="2527560" cy="952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646600" y="5373720"/>
            <a:ext cx="21243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646600" y="5121360"/>
            <a:ext cx="2124360" cy="341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646600" y="5313240"/>
            <a:ext cx="0" cy="1076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770960" y="5313240"/>
            <a:ext cx="0" cy="1076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646600" y="6389640"/>
            <a:ext cx="2124360" cy="239760"/>
          </a:xfrm>
          <a:custGeom>
            <a:avLst/>
            <a:gdLst/>
            <a:ahLst/>
            <a:rect l="l" t="t" r="r" b="b"/>
            <a:pathLst>
              <a:path w="816" h="84">
                <a:moveTo>
                  <a:pt x="0" y="0"/>
                </a:moveTo>
                <a:cubicBezTo>
                  <a:pt x="25" y="10"/>
                  <a:pt x="81" y="46"/>
                  <a:pt x="150" y="60"/>
                </a:cubicBezTo>
                <a:cubicBezTo>
                  <a:pt x="219" y="74"/>
                  <a:pt x="326" y="84"/>
                  <a:pt x="414" y="84"/>
                </a:cubicBezTo>
                <a:cubicBezTo>
                  <a:pt x="502" y="84"/>
                  <a:pt x="611" y="74"/>
                  <a:pt x="678" y="60"/>
                </a:cubicBezTo>
                <a:cubicBezTo>
                  <a:pt x="745" y="46"/>
                  <a:pt x="787" y="12"/>
                  <a:pt x="816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869080" y="4191120"/>
            <a:ext cx="266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wap file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ar file system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027840" y="5892840"/>
            <a:ext cx="137952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027840" y="5551560"/>
            <a:ext cx="137952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027840" y="6237360"/>
            <a:ext cx="137952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2362320" y="2416320"/>
            <a:ext cx="304560" cy="2286000"/>
            <a:chOff x="2362320" y="2416320"/>
            <a:chExt cx="304560" cy="2286000"/>
          </a:xfrm>
        </p:grpSpPr>
        <p:sp>
          <p:nvSpPr>
            <p:cNvPr id="737" name=""/>
            <p:cNvSpPr/>
            <p:nvPr/>
          </p:nvSpPr>
          <p:spPr>
            <a:xfrm>
              <a:off x="2362320" y="3787920"/>
              <a:ext cx="304560" cy="228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362320" y="4016520"/>
              <a:ext cx="304560" cy="228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362320" y="4245120"/>
              <a:ext cx="304560" cy="228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362320" y="4473720"/>
              <a:ext cx="304560" cy="228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362320" y="3559320"/>
              <a:ext cx="304560" cy="228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362320" y="2416320"/>
              <a:ext cx="304560" cy="228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362320" y="2644920"/>
              <a:ext cx="304560" cy="228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362320" y="2873520"/>
              <a:ext cx="304560" cy="228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362320" y="3102120"/>
              <a:ext cx="304560" cy="228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362320" y="3330720"/>
              <a:ext cx="304560" cy="228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2209680" y="21114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363760" y="2386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363760" y="2644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363760" y="3102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363760" y="3330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63760" y="35593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363760" y="4016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363760" y="447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363760" y="4245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363760" y="3787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363760" y="2873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914400" y="1959120"/>
            <a:ext cx="76212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60680" y="1425600"/>
            <a:ext cx="121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rtual 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1295280" y="2187720"/>
            <a:ext cx="990720" cy="1295280"/>
            <a:chOff x="1295280" y="2187720"/>
            <a:chExt cx="990720" cy="1295280"/>
          </a:xfrm>
        </p:grpSpPr>
        <p:sp>
          <p:nvSpPr>
            <p:cNvPr id="761" name=""/>
            <p:cNvSpPr/>
            <p:nvPr/>
          </p:nvSpPr>
          <p:spPr>
            <a:xfrm>
              <a:off x="1295280" y="218772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295280" y="3483000"/>
              <a:ext cx="99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47640" y="304920"/>
            <a:ext cx="7848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ress Translation via Page Ta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206880" y="1987560"/>
            <a:ext cx="31874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page number (VP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407280" y="1987560"/>
            <a:ext cx="21970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735440" y="1273320"/>
            <a:ext cx="180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206880" y="5492880"/>
            <a:ext cx="3111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page number (PP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330960" y="5492880"/>
            <a:ext cx="21970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83160" y="6149880"/>
            <a:ext cx="2034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0120" y="2368440"/>
            <a:ext cx="0" cy="3073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367840" y="51595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310800" y="515952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005520" y="51595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414960" y="515952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186360" y="165420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8300880" y="16542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320160" y="165420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005520" y="16542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37240" y="1378080"/>
            <a:ext cx="262764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table base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425840" y="3054240"/>
            <a:ext cx="28069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425840" y="3282840"/>
            <a:ext cx="280692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425840" y="3511440"/>
            <a:ext cx="28069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425840" y="3740040"/>
            <a:ext cx="28069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111640" y="3359160"/>
            <a:ext cx="63720" cy="63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143680" y="342252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2742840" y="48769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296000" y="4572000"/>
            <a:ext cx="1627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valid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043800" y="2687760"/>
            <a:ext cx="64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498200" y="2666880"/>
            <a:ext cx="3096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page number (PP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523880" y="17524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523880" y="396252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054240" y="3054240"/>
            <a:ext cx="6732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054240" y="3282840"/>
            <a:ext cx="6732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054240" y="3511440"/>
            <a:ext cx="6732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054240" y="3740040"/>
            <a:ext cx="6732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740040" y="3054240"/>
            <a:ext cx="6732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740040" y="3282840"/>
            <a:ext cx="6732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740040" y="3511440"/>
            <a:ext cx="6732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740040" y="3740040"/>
            <a:ext cx="6732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429000" y="3451320"/>
            <a:ext cx="0" cy="142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387600" y="3359160"/>
            <a:ext cx="63720" cy="63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657600" y="2670120"/>
            <a:ext cx="891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523880" y="1981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N acts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2135160" y="2362320"/>
            <a:ext cx="16128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135160" y="3033720"/>
            <a:ext cx="0" cy="417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135160" y="3451320"/>
            <a:ext cx="907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851040" y="4368960"/>
            <a:ext cx="72547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158920" y="304920"/>
            <a:ext cx="48261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ge Table Ope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 (set of) page table(s) per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PN forms index into page table (points to a page table entr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ing Physical Add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 Entry (PTE) provides information about p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valid bit = 1) then the page is in mem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09160" indent="-164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physical page number (PPN) to construct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valid bit = 0) then the page is on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09160" indent="-164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09160" indent="-164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load page from disk into main memory before continu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ing Prot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rights field indicate allowable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read-only, read-write, execute-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support multiple protection modes (e.g., kernel vs. us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 violation fault if user doesn’t have necessary permi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1073160" y="12319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70000" y="1238400"/>
            <a:ext cx="0" cy="93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1041120" y="2209680"/>
            <a:ext cx="102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282680" y="1600200"/>
            <a:ext cx="609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724120" y="126360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552920" y="126360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521400" y="127620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076480" y="140976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790800" y="1409760"/>
            <a:ext cx="749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632560" y="1384200"/>
            <a:ext cx="876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6311520" y="2031840"/>
            <a:ext cx="20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311880" y="2038320"/>
            <a:ext cx="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2323800" y="2629080"/>
            <a:ext cx="398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2324160" y="209556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2070000" y="209556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5892840" y="2057400"/>
            <a:ext cx="0" cy="57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5638680" y="205740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4305240" y="203184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05240" y="2038320"/>
            <a:ext cx="0" cy="584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886360" y="2584440"/>
            <a:ext cx="38160" cy="50760"/>
          </a:xfrm>
          <a:prstGeom prst="ellipse">
            <a:avLst/>
          </a:prstGeom>
          <a:solidFill>
            <a:srgbClr val="4747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108160" y="1143000"/>
            <a:ext cx="4323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822480" y="1143000"/>
            <a:ext cx="4323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689440" y="1117440"/>
            <a:ext cx="596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898800" y="2108160"/>
            <a:ext cx="368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959200" y="2387520"/>
            <a:ext cx="5709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1066680" y="121896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701720" y="304920"/>
            <a:ext cx="5740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ing VM and Cach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44600" y="2947680"/>
            <a:ext cx="8254800" cy="33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Caches “Physically Addressed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ed by physical addr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s multiple processes to have blocks in cache at same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s multiple processes to share p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 doesn’t need to be concerned with protection iss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rights checked as part of address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 Address Translation Before Cache Look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this could involve a memory access itself (of the PT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course, page table entries can also become cach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8" name=""/>
          <p:cNvGrpSpPr/>
          <p:nvPr/>
        </p:nvGrpSpPr>
        <p:grpSpPr>
          <a:xfrm>
            <a:off x="1143000" y="2971800"/>
            <a:ext cx="6559560" cy="2940120"/>
            <a:chOff x="1143000" y="2971800"/>
            <a:chExt cx="6559560" cy="2940120"/>
          </a:xfrm>
        </p:grpSpPr>
        <p:sp>
          <p:nvSpPr>
            <p:cNvPr id="839" name=""/>
            <p:cNvSpPr/>
            <p:nvPr/>
          </p:nvSpPr>
          <p:spPr>
            <a:xfrm>
              <a:off x="1174680" y="328932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171880" y="3295800"/>
              <a:ext cx="0" cy="9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1143000" y="4267080"/>
              <a:ext cx="102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346400" y="3657600"/>
              <a:ext cx="6091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825640" y="3321000"/>
              <a:ext cx="10796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L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ok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654440" y="3321000"/>
              <a:ext cx="10796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622920" y="3333600"/>
              <a:ext cx="10796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178000" y="346716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962520" y="35053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734080" y="3441600"/>
              <a:ext cx="87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6395760" y="4097160"/>
              <a:ext cx="2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388200" y="4087800"/>
              <a:ext cx="0" cy="179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2438280" y="589284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2425680" y="4152600"/>
              <a:ext cx="0" cy="173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2171520" y="41529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6012000" y="4114800"/>
              <a:ext cx="0" cy="179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5740200" y="41148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4406400" y="408924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406760" y="4095720"/>
              <a:ext cx="0" cy="177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978520" y="5861160"/>
              <a:ext cx="38160" cy="50760"/>
            </a:xfrm>
            <a:prstGeom prst="ellipse">
              <a:avLst/>
            </a:prstGeom>
            <a:solidFill>
              <a:srgbClr val="47474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209680" y="3200400"/>
              <a:ext cx="4323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924000" y="3200400"/>
              <a:ext cx="4323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791320" y="3174840"/>
              <a:ext cx="5968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559400" y="4305240"/>
              <a:ext cx="3682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940640" y="5587920"/>
              <a:ext cx="570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825640" y="4692600"/>
              <a:ext cx="10796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924360" y="2971800"/>
              <a:ext cx="3682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352680" y="424800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692440" y="4305240"/>
              <a:ext cx="5968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365640" y="564516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371760" y="575316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 flipV="1">
              <a:off x="4038480" y="3505320"/>
              <a:ext cx="12960" cy="224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4393800" y="5892840"/>
              <a:ext cx="198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3505320" y="424152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143000" y="3295800"/>
              <a:ext cx="0" cy="9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22440" y="304920"/>
            <a:ext cx="7899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eding up Translation with a TL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lation Lookaside Buffer” (TL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 hardware cache in MM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s virtual page numbers to  physical page numb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complete page table entries for small number of p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079640" y="304920"/>
            <a:ext cx="6984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ress Translation with a TL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618160" y="1254240"/>
            <a:ext cx="15508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451240" y="1295280"/>
            <a:ext cx="1923840" cy="1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rtual page 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387680" y="1295280"/>
            <a:ext cx="1092240" cy="177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off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041640" y="3851280"/>
            <a:ext cx="35877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029200" y="1473120"/>
            <a:ext cx="0" cy="2370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361240" y="1066680"/>
            <a:ext cx="3992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–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330160" y="1066680"/>
            <a:ext cx="1918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339080" y="1066680"/>
            <a:ext cx="3992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–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106520" y="1066680"/>
            <a:ext cx="2012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016080" y="2400480"/>
            <a:ext cx="170820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429000" y="148896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047320" y="2171880"/>
            <a:ext cx="4996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060000" y="2171880"/>
            <a:ext cx="197352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page 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482920" y="2400480"/>
            <a:ext cx="56520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101680" y="2400480"/>
            <a:ext cx="41292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657880" y="2171880"/>
            <a:ext cx="3596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016080" y="2552760"/>
            <a:ext cx="170820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482920" y="2552760"/>
            <a:ext cx="56520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101680" y="2552760"/>
            <a:ext cx="41292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016080" y="2705040"/>
            <a:ext cx="170820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482920" y="2705040"/>
            <a:ext cx="56520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101680" y="2705040"/>
            <a:ext cx="41292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016080" y="2857680"/>
            <a:ext cx="170820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482920" y="2857680"/>
            <a:ext cx="56520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101680" y="2857680"/>
            <a:ext cx="41292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1301400" y="18637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295280" y="1863720"/>
            <a:ext cx="0" cy="144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916280" y="6026040"/>
            <a:ext cx="279360" cy="196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076480" y="6019920"/>
            <a:ext cx="16812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2076480" y="6019920"/>
            <a:ext cx="0" cy="20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505320" y="4819680"/>
            <a:ext cx="149688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505320" y="4944960"/>
            <a:ext cx="149688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505320" y="5070600"/>
            <a:ext cx="149688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505320" y="5322960"/>
            <a:ext cx="149688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505320" y="5197320"/>
            <a:ext cx="1496880" cy="11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505320" y="5448240"/>
            <a:ext cx="149688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751120" y="4819680"/>
            <a:ext cx="74124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751120" y="4944960"/>
            <a:ext cx="74124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751120" y="5070600"/>
            <a:ext cx="74124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751120" y="5197320"/>
            <a:ext cx="741240" cy="11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751120" y="5322960"/>
            <a:ext cx="74124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751120" y="5448240"/>
            <a:ext cx="74124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457360" y="4819680"/>
            <a:ext cx="28116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457360" y="4944960"/>
            <a:ext cx="28116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457360" y="5070600"/>
            <a:ext cx="28116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457360" y="5197320"/>
            <a:ext cx="281160" cy="11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457360" y="5322960"/>
            <a:ext cx="28116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457360" y="5448240"/>
            <a:ext cx="28116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360160" y="4584600"/>
            <a:ext cx="50904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915280" y="4584600"/>
            <a:ext cx="3690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894480" y="4584600"/>
            <a:ext cx="4680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5035320" y="5140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273560" y="514656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362480" y="5897520"/>
            <a:ext cx="571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589120" y="5146560"/>
            <a:ext cx="0" cy="91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003480" y="5154480"/>
            <a:ext cx="0" cy="61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146320" y="582624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917800" y="5783400"/>
            <a:ext cx="155520" cy="155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995560" y="595152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2097000" y="6181560"/>
            <a:ext cx="89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576520" y="5119560"/>
            <a:ext cx="30240" cy="30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987640" y="5119560"/>
            <a:ext cx="30240" cy="30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257720" y="5119560"/>
            <a:ext cx="30240" cy="30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2088720" y="6072120"/>
            <a:ext cx="50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1402920" y="6138720"/>
            <a:ext cx="490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91960" y="5943600"/>
            <a:ext cx="117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 h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044960" y="40798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2139840" y="445464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139840" y="4460760"/>
            <a:ext cx="0" cy="135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581920" y="4173480"/>
            <a:ext cx="448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483240" y="40798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541560" y="4173480"/>
            <a:ext cx="108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 off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568840" y="40798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568840" y="44607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95720" y="4249800"/>
            <a:ext cx="927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687680" y="3511440"/>
            <a:ext cx="279360" cy="196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847880" y="3505320"/>
            <a:ext cx="16812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1847880" y="3505320"/>
            <a:ext cx="0" cy="20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308240" y="3303720"/>
            <a:ext cx="1358640" cy="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689200" y="3268800"/>
            <a:ext cx="155520" cy="155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766960" y="343692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1868400" y="3666960"/>
            <a:ext cx="89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1852560" y="3551400"/>
            <a:ext cx="50976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1174320" y="3624120"/>
            <a:ext cx="490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03840" y="3479760"/>
            <a:ext cx="97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 h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781360" y="2616120"/>
            <a:ext cx="0" cy="620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362320" y="2631960"/>
            <a:ext cx="0" cy="91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886200" y="2639880"/>
            <a:ext cx="0" cy="11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7238880" y="1295280"/>
            <a:ext cx="228600" cy="228600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0120" y="3809880"/>
            <a:ext cx="228600" cy="228600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05720" y="2257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987320" y="47721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230560" y="233856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754440" y="234468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649600" y="234468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960120" y="334800"/>
            <a:ext cx="72644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ple Memory Syste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-bit virtual addr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-bit physical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size = 64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960480" y="2819520"/>
            <a:ext cx="6823080" cy="609480"/>
            <a:chOff x="960480" y="2819520"/>
            <a:chExt cx="6823080" cy="609480"/>
          </a:xfrm>
        </p:grpSpPr>
        <p:grpSp>
          <p:nvGrpSpPr>
            <p:cNvPr id="975" name=""/>
            <p:cNvGrpSpPr/>
            <p:nvPr/>
          </p:nvGrpSpPr>
          <p:grpSpPr>
            <a:xfrm>
              <a:off x="960480" y="2819520"/>
              <a:ext cx="487440" cy="609480"/>
              <a:chOff x="960480" y="2819520"/>
              <a:chExt cx="487440" cy="609480"/>
            </a:xfrm>
          </p:grpSpPr>
          <p:sp>
            <p:nvSpPr>
              <p:cNvPr id="976" name=""/>
              <p:cNvSpPr/>
              <p:nvPr/>
            </p:nvSpPr>
            <p:spPr>
              <a:xfrm>
                <a:off x="96048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96048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" name=""/>
            <p:cNvGrpSpPr/>
            <p:nvPr/>
          </p:nvGrpSpPr>
          <p:grpSpPr>
            <a:xfrm>
              <a:off x="1447920" y="2819520"/>
              <a:ext cx="487080" cy="609480"/>
              <a:chOff x="1447920" y="2819520"/>
              <a:chExt cx="487080" cy="609480"/>
            </a:xfrm>
          </p:grpSpPr>
          <p:sp>
            <p:nvSpPr>
              <p:cNvPr id="979" name=""/>
              <p:cNvSpPr/>
              <p:nvPr/>
            </p:nvSpPr>
            <p:spPr>
              <a:xfrm>
                <a:off x="1447920" y="312408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47920" y="281952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1935000" y="2819520"/>
              <a:ext cx="487440" cy="609480"/>
              <a:chOff x="1935000" y="2819520"/>
              <a:chExt cx="487440" cy="609480"/>
            </a:xfrm>
          </p:grpSpPr>
          <p:sp>
            <p:nvSpPr>
              <p:cNvPr id="982" name=""/>
              <p:cNvSpPr/>
              <p:nvPr/>
            </p:nvSpPr>
            <p:spPr>
              <a:xfrm>
                <a:off x="193500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93500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2422440" y="2819520"/>
              <a:ext cx="487440" cy="609480"/>
              <a:chOff x="2422440" y="2819520"/>
              <a:chExt cx="487440" cy="609480"/>
            </a:xfrm>
          </p:grpSpPr>
          <p:sp>
            <p:nvSpPr>
              <p:cNvPr id="985" name=""/>
              <p:cNvSpPr/>
              <p:nvPr/>
            </p:nvSpPr>
            <p:spPr>
              <a:xfrm>
                <a:off x="242244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242244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7" name=""/>
            <p:cNvGrpSpPr/>
            <p:nvPr/>
          </p:nvGrpSpPr>
          <p:grpSpPr>
            <a:xfrm>
              <a:off x="2909880" y="2819520"/>
              <a:ext cx="487440" cy="609480"/>
              <a:chOff x="2909880" y="2819520"/>
              <a:chExt cx="487440" cy="609480"/>
            </a:xfrm>
          </p:grpSpPr>
          <p:sp>
            <p:nvSpPr>
              <p:cNvPr id="988" name=""/>
              <p:cNvSpPr/>
              <p:nvPr/>
            </p:nvSpPr>
            <p:spPr>
              <a:xfrm>
                <a:off x="290988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290988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"/>
            <p:cNvGrpSpPr/>
            <p:nvPr/>
          </p:nvGrpSpPr>
          <p:grpSpPr>
            <a:xfrm>
              <a:off x="3397320" y="2819520"/>
              <a:ext cx="487440" cy="609480"/>
              <a:chOff x="3397320" y="2819520"/>
              <a:chExt cx="487440" cy="609480"/>
            </a:xfrm>
          </p:grpSpPr>
          <p:sp>
            <p:nvSpPr>
              <p:cNvPr id="991" name=""/>
              <p:cNvSpPr/>
              <p:nvPr/>
            </p:nvSpPr>
            <p:spPr>
              <a:xfrm>
                <a:off x="339732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39732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3" name=""/>
            <p:cNvGrpSpPr/>
            <p:nvPr/>
          </p:nvGrpSpPr>
          <p:grpSpPr>
            <a:xfrm>
              <a:off x="3884760" y="2819520"/>
              <a:ext cx="487080" cy="609480"/>
              <a:chOff x="3884760" y="2819520"/>
              <a:chExt cx="487080" cy="609480"/>
            </a:xfrm>
          </p:grpSpPr>
          <p:sp>
            <p:nvSpPr>
              <p:cNvPr id="994" name=""/>
              <p:cNvSpPr/>
              <p:nvPr/>
            </p:nvSpPr>
            <p:spPr>
              <a:xfrm>
                <a:off x="3884760" y="312408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3884760" y="281952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6" name=""/>
            <p:cNvGrpSpPr/>
            <p:nvPr/>
          </p:nvGrpSpPr>
          <p:grpSpPr>
            <a:xfrm>
              <a:off x="4371840" y="2819520"/>
              <a:ext cx="487440" cy="609480"/>
              <a:chOff x="4371840" y="2819520"/>
              <a:chExt cx="487440" cy="609480"/>
            </a:xfrm>
          </p:grpSpPr>
          <p:sp>
            <p:nvSpPr>
              <p:cNvPr id="997" name=""/>
              <p:cNvSpPr/>
              <p:nvPr/>
            </p:nvSpPr>
            <p:spPr>
              <a:xfrm>
                <a:off x="437184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37184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9" name=""/>
            <p:cNvGrpSpPr/>
            <p:nvPr/>
          </p:nvGrpSpPr>
          <p:grpSpPr>
            <a:xfrm>
              <a:off x="4859280" y="2819520"/>
              <a:ext cx="487440" cy="609480"/>
              <a:chOff x="4859280" y="2819520"/>
              <a:chExt cx="487440" cy="609480"/>
            </a:xfrm>
          </p:grpSpPr>
          <p:sp>
            <p:nvSpPr>
              <p:cNvPr id="1000" name=""/>
              <p:cNvSpPr/>
              <p:nvPr/>
            </p:nvSpPr>
            <p:spPr>
              <a:xfrm>
                <a:off x="485928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485928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2" name=""/>
            <p:cNvGrpSpPr/>
            <p:nvPr/>
          </p:nvGrpSpPr>
          <p:grpSpPr>
            <a:xfrm>
              <a:off x="5346720" y="2819520"/>
              <a:ext cx="487440" cy="609480"/>
              <a:chOff x="5346720" y="2819520"/>
              <a:chExt cx="487440" cy="609480"/>
            </a:xfrm>
          </p:grpSpPr>
          <p:sp>
            <p:nvSpPr>
              <p:cNvPr id="1003" name=""/>
              <p:cNvSpPr/>
              <p:nvPr/>
            </p:nvSpPr>
            <p:spPr>
              <a:xfrm>
                <a:off x="534672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34672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5" name=""/>
            <p:cNvGrpSpPr/>
            <p:nvPr/>
          </p:nvGrpSpPr>
          <p:grpSpPr>
            <a:xfrm>
              <a:off x="5834160" y="2819520"/>
              <a:ext cx="487440" cy="609480"/>
              <a:chOff x="5834160" y="2819520"/>
              <a:chExt cx="487440" cy="609480"/>
            </a:xfrm>
          </p:grpSpPr>
          <p:sp>
            <p:nvSpPr>
              <p:cNvPr id="1006" name=""/>
              <p:cNvSpPr/>
              <p:nvPr/>
            </p:nvSpPr>
            <p:spPr>
              <a:xfrm>
                <a:off x="583416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83416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8" name=""/>
            <p:cNvGrpSpPr/>
            <p:nvPr/>
          </p:nvGrpSpPr>
          <p:grpSpPr>
            <a:xfrm>
              <a:off x="6321600" y="2819520"/>
              <a:ext cx="487080" cy="609480"/>
              <a:chOff x="6321600" y="2819520"/>
              <a:chExt cx="487080" cy="609480"/>
            </a:xfrm>
          </p:grpSpPr>
          <p:sp>
            <p:nvSpPr>
              <p:cNvPr id="1009" name=""/>
              <p:cNvSpPr/>
              <p:nvPr/>
            </p:nvSpPr>
            <p:spPr>
              <a:xfrm>
                <a:off x="6321600" y="312408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321600" y="281952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6808680" y="2819520"/>
              <a:ext cx="487440" cy="609480"/>
              <a:chOff x="6808680" y="2819520"/>
              <a:chExt cx="487440" cy="609480"/>
            </a:xfrm>
          </p:grpSpPr>
          <p:sp>
            <p:nvSpPr>
              <p:cNvPr id="1012" name=""/>
              <p:cNvSpPr/>
              <p:nvPr/>
            </p:nvSpPr>
            <p:spPr>
              <a:xfrm>
                <a:off x="680868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680868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4" name=""/>
            <p:cNvGrpSpPr/>
            <p:nvPr/>
          </p:nvGrpSpPr>
          <p:grpSpPr>
            <a:xfrm>
              <a:off x="7296120" y="2819520"/>
              <a:ext cx="487440" cy="609480"/>
              <a:chOff x="7296120" y="2819520"/>
              <a:chExt cx="487440" cy="609480"/>
            </a:xfrm>
          </p:grpSpPr>
          <p:sp>
            <p:nvSpPr>
              <p:cNvPr id="1015" name=""/>
              <p:cNvSpPr/>
              <p:nvPr/>
            </p:nvSpPr>
            <p:spPr>
              <a:xfrm>
                <a:off x="729612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29612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7" name=""/>
          <p:cNvGrpSpPr/>
          <p:nvPr/>
        </p:nvGrpSpPr>
        <p:grpSpPr>
          <a:xfrm>
            <a:off x="1935000" y="4572000"/>
            <a:ext cx="5848560" cy="609480"/>
            <a:chOff x="1935000" y="4572000"/>
            <a:chExt cx="5848560" cy="609480"/>
          </a:xfrm>
        </p:grpSpPr>
        <p:grpSp>
          <p:nvGrpSpPr>
            <p:cNvPr id="1018" name=""/>
            <p:cNvGrpSpPr/>
            <p:nvPr/>
          </p:nvGrpSpPr>
          <p:grpSpPr>
            <a:xfrm>
              <a:off x="1935000" y="4572000"/>
              <a:ext cx="487440" cy="609480"/>
              <a:chOff x="1935000" y="4572000"/>
              <a:chExt cx="487440" cy="609480"/>
            </a:xfrm>
          </p:grpSpPr>
          <p:sp>
            <p:nvSpPr>
              <p:cNvPr id="1019" name=""/>
              <p:cNvSpPr/>
              <p:nvPr/>
            </p:nvSpPr>
            <p:spPr>
              <a:xfrm>
                <a:off x="193500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93500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2422440" y="4572000"/>
              <a:ext cx="487440" cy="609480"/>
              <a:chOff x="2422440" y="4572000"/>
              <a:chExt cx="487440" cy="609480"/>
            </a:xfrm>
          </p:grpSpPr>
          <p:sp>
            <p:nvSpPr>
              <p:cNvPr id="1022" name=""/>
              <p:cNvSpPr/>
              <p:nvPr/>
            </p:nvSpPr>
            <p:spPr>
              <a:xfrm>
                <a:off x="242244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42244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2909880" y="4572000"/>
              <a:ext cx="487440" cy="609480"/>
              <a:chOff x="2909880" y="4572000"/>
              <a:chExt cx="487440" cy="609480"/>
            </a:xfrm>
          </p:grpSpPr>
          <p:sp>
            <p:nvSpPr>
              <p:cNvPr id="1025" name=""/>
              <p:cNvSpPr/>
              <p:nvPr/>
            </p:nvSpPr>
            <p:spPr>
              <a:xfrm>
                <a:off x="290988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90988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3397320" y="4572000"/>
              <a:ext cx="487440" cy="609480"/>
              <a:chOff x="3397320" y="4572000"/>
              <a:chExt cx="487440" cy="609480"/>
            </a:xfrm>
          </p:grpSpPr>
          <p:sp>
            <p:nvSpPr>
              <p:cNvPr id="1028" name=""/>
              <p:cNvSpPr/>
              <p:nvPr/>
            </p:nvSpPr>
            <p:spPr>
              <a:xfrm>
                <a:off x="339732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39732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3884760" y="4572000"/>
              <a:ext cx="487080" cy="609480"/>
              <a:chOff x="3884760" y="4572000"/>
              <a:chExt cx="487080" cy="609480"/>
            </a:xfrm>
          </p:grpSpPr>
          <p:sp>
            <p:nvSpPr>
              <p:cNvPr id="1031" name=""/>
              <p:cNvSpPr/>
              <p:nvPr/>
            </p:nvSpPr>
            <p:spPr>
              <a:xfrm>
                <a:off x="3884760" y="487656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884760" y="457200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4371840" y="4572000"/>
              <a:ext cx="487440" cy="609480"/>
              <a:chOff x="4371840" y="4572000"/>
              <a:chExt cx="487440" cy="609480"/>
            </a:xfrm>
          </p:grpSpPr>
          <p:sp>
            <p:nvSpPr>
              <p:cNvPr id="1034" name=""/>
              <p:cNvSpPr/>
              <p:nvPr/>
            </p:nvSpPr>
            <p:spPr>
              <a:xfrm>
                <a:off x="437184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437184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"/>
            <p:cNvGrpSpPr/>
            <p:nvPr/>
          </p:nvGrpSpPr>
          <p:grpSpPr>
            <a:xfrm>
              <a:off x="4859280" y="4572000"/>
              <a:ext cx="487440" cy="609480"/>
              <a:chOff x="4859280" y="4572000"/>
              <a:chExt cx="487440" cy="609480"/>
            </a:xfrm>
          </p:grpSpPr>
          <p:sp>
            <p:nvSpPr>
              <p:cNvPr id="1037" name=""/>
              <p:cNvSpPr/>
              <p:nvPr/>
            </p:nvSpPr>
            <p:spPr>
              <a:xfrm>
                <a:off x="485928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85928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5346720" y="4572000"/>
              <a:ext cx="487440" cy="609480"/>
              <a:chOff x="5346720" y="4572000"/>
              <a:chExt cx="487440" cy="609480"/>
            </a:xfrm>
          </p:grpSpPr>
          <p:sp>
            <p:nvSpPr>
              <p:cNvPr id="1040" name=""/>
              <p:cNvSpPr/>
              <p:nvPr/>
            </p:nvSpPr>
            <p:spPr>
              <a:xfrm>
                <a:off x="534672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34672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5834160" y="4572000"/>
              <a:ext cx="487440" cy="609480"/>
              <a:chOff x="5834160" y="4572000"/>
              <a:chExt cx="487440" cy="609480"/>
            </a:xfrm>
          </p:grpSpPr>
          <p:sp>
            <p:nvSpPr>
              <p:cNvPr id="1043" name=""/>
              <p:cNvSpPr/>
              <p:nvPr/>
            </p:nvSpPr>
            <p:spPr>
              <a:xfrm>
                <a:off x="583416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83416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6321600" y="4572000"/>
              <a:ext cx="487080" cy="609480"/>
              <a:chOff x="6321600" y="4572000"/>
              <a:chExt cx="487080" cy="609480"/>
            </a:xfrm>
          </p:grpSpPr>
          <p:sp>
            <p:nvSpPr>
              <p:cNvPr id="1046" name=""/>
              <p:cNvSpPr/>
              <p:nvPr/>
            </p:nvSpPr>
            <p:spPr>
              <a:xfrm>
                <a:off x="6321600" y="487656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321600" y="457200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8" name=""/>
            <p:cNvGrpSpPr/>
            <p:nvPr/>
          </p:nvGrpSpPr>
          <p:grpSpPr>
            <a:xfrm>
              <a:off x="6808680" y="4572000"/>
              <a:ext cx="487440" cy="609480"/>
              <a:chOff x="6808680" y="4572000"/>
              <a:chExt cx="487440" cy="609480"/>
            </a:xfrm>
          </p:grpSpPr>
          <p:sp>
            <p:nvSpPr>
              <p:cNvPr id="1049" name=""/>
              <p:cNvSpPr/>
              <p:nvPr/>
            </p:nvSpPr>
            <p:spPr>
              <a:xfrm>
                <a:off x="680868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80868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7296120" y="4572000"/>
              <a:ext cx="487440" cy="609480"/>
              <a:chOff x="7296120" y="4572000"/>
              <a:chExt cx="487440" cy="609480"/>
            </a:xfrm>
          </p:grpSpPr>
          <p:sp>
            <p:nvSpPr>
              <p:cNvPr id="1052" name=""/>
              <p:cNvSpPr/>
              <p:nvPr/>
            </p:nvSpPr>
            <p:spPr>
              <a:xfrm>
                <a:off x="729612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729612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4" name=""/>
          <p:cNvGrpSpPr/>
          <p:nvPr/>
        </p:nvGrpSpPr>
        <p:grpSpPr>
          <a:xfrm>
            <a:off x="4859280" y="3589200"/>
            <a:ext cx="2924280" cy="335520"/>
            <a:chOff x="4859280" y="3589200"/>
            <a:chExt cx="2924280" cy="335520"/>
          </a:xfrm>
        </p:grpSpPr>
        <p:sp>
          <p:nvSpPr>
            <p:cNvPr id="1055" name=""/>
            <p:cNvSpPr/>
            <p:nvPr/>
          </p:nvSpPr>
          <p:spPr>
            <a:xfrm>
              <a:off x="4859280" y="3733920"/>
              <a:ext cx="29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984640" y="3589200"/>
              <a:ext cx="66456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7" name=""/>
          <p:cNvGrpSpPr/>
          <p:nvPr/>
        </p:nvGrpSpPr>
        <p:grpSpPr>
          <a:xfrm>
            <a:off x="4876920" y="5257800"/>
            <a:ext cx="2923920" cy="335520"/>
            <a:chOff x="4876920" y="5257800"/>
            <a:chExt cx="2923920" cy="335520"/>
          </a:xfrm>
        </p:grpSpPr>
        <p:sp>
          <p:nvSpPr>
            <p:cNvPr id="1058" name=""/>
            <p:cNvSpPr/>
            <p:nvPr/>
          </p:nvSpPr>
          <p:spPr>
            <a:xfrm>
              <a:off x="4876920" y="5402520"/>
              <a:ext cx="29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001560" y="5257800"/>
              <a:ext cx="66456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1981080" y="5257800"/>
            <a:ext cx="2924280" cy="335520"/>
            <a:chOff x="1981080" y="5257800"/>
            <a:chExt cx="2924280" cy="335520"/>
          </a:xfrm>
        </p:grpSpPr>
        <p:sp>
          <p:nvSpPr>
            <p:cNvPr id="1061" name=""/>
            <p:cNvSpPr/>
            <p:nvPr/>
          </p:nvSpPr>
          <p:spPr>
            <a:xfrm>
              <a:off x="1981080" y="5402520"/>
              <a:ext cx="29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106800" y="5257800"/>
              <a:ext cx="65088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P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960480" y="3581280"/>
            <a:ext cx="3916080" cy="335520"/>
            <a:chOff x="960480" y="3581280"/>
            <a:chExt cx="3916080" cy="335520"/>
          </a:xfrm>
        </p:grpSpPr>
        <p:sp>
          <p:nvSpPr>
            <p:cNvPr id="1064" name=""/>
            <p:cNvSpPr/>
            <p:nvPr/>
          </p:nvSpPr>
          <p:spPr>
            <a:xfrm>
              <a:off x="960480" y="3726000"/>
              <a:ext cx="391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467440" y="3581280"/>
              <a:ext cx="65088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P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>
            <a:off x="1621080" y="4017960"/>
            <a:ext cx="2450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irtual Page 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013360" y="4006800"/>
            <a:ext cx="2251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irtual Page Offs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135880" y="5607000"/>
            <a:ext cx="2653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hysical Page 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064120" y="5638680"/>
            <a:ext cx="2453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hysical Page Offs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93360" y="334800"/>
            <a:ext cx="77979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ple Memory System Page Ta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show first 16 ent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2752560" y="2179800"/>
          <a:ext cx="4127760" cy="2786040"/>
        </p:xfrm>
        <a:graphic>
          <a:graphicData uri="http://schemas.openxmlformats.org/drawingml/2006/table">
            <a:tbl>
              <a:tblPr/>
              <a:tblGrid>
                <a:gridCol w="689040"/>
                <a:gridCol w="687600"/>
                <a:gridCol w="687240"/>
                <a:gridCol w="689040"/>
                <a:gridCol w="687240"/>
                <a:gridCol w="687600"/>
              </a:tblGrid>
              <a:tr h="309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P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P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00" y="334800"/>
            <a:ext cx="88646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ivation #1: DRAM a “Cache” for Dis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address space is quite larg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-bit addresses:                        ~4,000,000,000 (4 billion)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-bit addresses: ~16,000,000,000,000,000,000 (16 quintillion)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 storage is ~156X cheaper than DRAM sto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GB of DRAM: ~ $10,0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GB of disk:     ~  $6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access large amounts of data in a cost-effective manner, the bulk of the data must be stored on dis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4943520"/>
            <a:ext cx="0" cy="1076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915320" y="4943520"/>
            <a:ext cx="0" cy="1076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2920" y="4343400"/>
            <a:ext cx="18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6 MB: ~$32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486400" y="4599000"/>
            <a:ext cx="2124000" cy="1508040"/>
            <a:chOff x="5486400" y="4599000"/>
            <a:chExt cx="2124000" cy="1508040"/>
          </a:xfrm>
        </p:grpSpPr>
        <p:sp>
          <p:nvSpPr>
            <p:cNvPr id="53" name=""/>
            <p:cNvSpPr/>
            <p:nvPr/>
          </p:nvSpPr>
          <p:spPr>
            <a:xfrm>
              <a:off x="5486400" y="4851360"/>
              <a:ext cx="2124000" cy="1015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86400" y="4599000"/>
              <a:ext cx="2124000" cy="341280"/>
            </a:xfrm>
            <a:prstGeom prst="ellipse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86400" y="4790880"/>
              <a:ext cx="0" cy="107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610400" y="4790880"/>
              <a:ext cx="0" cy="107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486400" y="5867280"/>
              <a:ext cx="2124000" cy="239760"/>
            </a:xfrm>
            <a:custGeom>
              <a:avLst/>
              <a:gdLst/>
              <a:ahLst/>
              <a:rect l="l" t="t" r="r" b="b"/>
              <a:pathLst>
                <a:path w="816" h="84">
                  <a:moveTo>
                    <a:pt x="0" y="0"/>
                  </a:moveTo>
                  <a:cubicBezTo>
                    <a:pt x="25" y="10"/>
                    <a:pt x="81" y="46"/>
                    <a:pt x="150" y="60"/>
                  </a:cubicBezTo>
                  <a:cubicBezTo>
                    <a:pt x="219" y="74"/>
                    <a:pt x="326" y="84"/>
                    <a:pt x="414" y="84"/>
                  </a:cubicBezTo>
                  <a:cubicBezTo>
                    <a:pt x="502" y="84"/>
                    <a:pt x="611" y="74"/>
                    <a:pt x="678" y="60"/>
                  </a:cubicBezTo>
                  <a:cubicBezTo>
                    <a:pt x="745" y="46"/>
                    <a:pt x="787" y="12"/>
                    <a:pt x="816" y="0"/>
                  </a:cubicBez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793120" y="419112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GB: ~$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4800600"/>
            <a:ext cx="1131840" cy="113184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5105520"/>
            <a:ext cx="849240" cy="44136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3760" y="464832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MB: ~$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14600" y="53341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53341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560" y="518148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57960" y="5181480"/>
            <a:ext cx="865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5181480"/>
            <a:ext cx="853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455480" y="334800"/>
            <a:ext cx="62737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ple Memory System TL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ent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-way associat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5" name=""/>
          <p:cNvGrpSpPr/>
          <p:nvPr/>
        </p:nvGrpSpPr>
        <p:grpSpPr>
          <a:xfrm>
            <a:off x="960480" y="2286000"/>
            <a:ext cx="6823080" cy="1334160"/>
            <a:chOff x="960480" y="2286000"/>
            <a:chExt cx="6823080" cy="1334160"/>
          </a:xfrm>
        </p:grpSpPr>
        <p:grpSp>
          <p:nvGrpSpPr>
            <p:cNvPr id="1076" name=""/>
            <p:cNvGrpSpPr/>
            <p:nvPr/>
          </p:nvGrpSpPr>
          <p:grpSpPr>
            <a:xfrm>
              <a:off x="960480" y="2514600"/>
              <a:ext cx="6823080" cy="609480"/>
              <a:chOff x="960480" y="2514600"/>
              <a:chExt cx="6823080" cy="609480"/>
            </a:xfrm>
          </p:grpSpPr>
          <p:grpSp>
            <p:nvGrpSpPr>
              <p:cNvPr id="1077" name=""/>
              <p:cNvGrpSpPr/>
              <p:nvPr/>
            </p:nvGrpSpPr>
            <p:grpSpPr>
              <a:xfrm>
                <a:off x="960480" y="2514600"/>
                <a:ext cx="487440" cy="609480"/>
                <a:chOff x="960480" y="2514600"/>
                <a:chExt cx="487440" cy="60948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960480" y="281916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960480" y="251460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1447920" y="2514600"/>
                <a:ext cx="487080" cy="609480"/>
                <a:chOff x="1447920" y="2514600"/>
                <a:chExt cx="487080" cy="60948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1447920" y="281916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1447920" y="251460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1935000" y="2514600"/>
                <a:ext cx="487440" cy="609480"/>
                <a:chOff x="1935000" y="2514600"/>
                <a:chExt cx="487440" cy="60948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1935000" y="281916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1935000" y="251460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2422440" y="2514600"/>
                <a:ext cx="487440" cy="609480"/>
                <a:chOff x="2422440" y="2514600"/>
                <a:chExt cx="487440" cy="60948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2422440" y="281916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2422440" y="251460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2909880" y="2514600"/>
                <a:ext cx="487440" cy="609480"/>
                <a:chOff x="2909880" y="2514600"/>
                <a:chExt cx="487440" cy="60948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2909880" y="281916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2909880" y="251460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3397320" y="2514600"/>
                <a:ext cx="487440" cy="609480"/>
                <a:chOff x="3397320" y="2514600"/>
                <a:chExt cx="487440" cy="60948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3397320" y="281916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397320" y="251460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3884760" y="2514600"/>
                <a:ext cx="487080" cy="609480"/>
                <a:chOff x="3884760" y="2514600"/>
                <a:chExt cx="487080" cy="60948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3884760" y="281916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3884760" y="251460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4371840" y="2514600"/>
                <a:ext cx="487440" cy="609480"/>
                <a:chOff x="4371840" y="2514600"/>
                <a:chExt cx="487440" cy="60948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4371840" y="281916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371840" y="251460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4859280" y="2514600"/>
                <a:ext cx="487440" cy="609480"/>
                <a:chOff x="4859280" y="2514600"/>
                <a:chExt cx="487440" cy="60948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4859280" y="281916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4859280" y="251460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5346720" y="2514600"/>
                <a:ext cx="487440" cy="609480"/>
                <a:chOff x="5346720" y="2514600"/>
                <a:chExt cx="487440" cy="60948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5346720" y="281916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5346720" y="251460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5834160" y="2514600"/>
                <a:ext cx="487440" cy="609480"/>
                <a:chOff x="5834160" y="2514600"/>
                <a:chExt cx="487440" cy="60948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5834160" y="281916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5834160" y="251460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6321600" y="2514600"/>
                <a:ext cx="487080" cy="609480"/>
                <a:chOff x="6321600" y="2514600"/>
                <a:chExt cx="487080" cy="60948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6321600" y="281916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6321600" y="251460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6808680" y="2514600"/>
                <a:ext cx="487440" cy="609480"/>
                <a:chOff x="6808680" y="2514600"/>
                <a:chExt cx="487440" cy="60948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6808680" y="281916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6808680" y="251460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7296120" y="2514600"/>
                <a:ext cx="487440" cy="609480"/>
                <a:chOff x="7296120" y="2514600"/>
                <a:chExt cx="487440" cy="60948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7296120" y="281916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7296120" y="251460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9" name=""/>
            <p:cNvGrpSpPr/>
            <p:nvPr/>
          </p:nvGrpSpPr>
          <p:grpSpPr>
            <a:xfrm>
              <a:off x="4859280" y="3284640"/>
              <a:ext cx="2924280" cy="335520"/>
              <a:chOff x="4859280" y="3284640"/>
              <a:chExt cx="2924280" cy="335520"/>
            </a:xfrm>
          </p:grpSpPr>
          <p:sp>
            <p:nvSpPr>
              <p:cNvPr id="1120" name=""/>
              <p:cNvSpPr/>
              <p:nvPr/>
            </p:nvSpPr>
            <p:spPr>
              <a:xfrm>
                <a:off x="4859280" y="3429360"/>
                <a:ext cx="29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984640" y="328464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VP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2" name=""/>
            <p:cNvGrpSpPr/>
            <p:nvPr/>
          </p:nvGrpSpPr>
          <p:grpSpPr>
            <a:xfrm>
              <a:off x="960480" y="3276720"/>
              <a:ext cx="3916080" cy="335520"/>
              <a:chOff x="960480" y="3276720"/>
              <a:chExt cx="3916080" cy="335520"/>
            </a:xfrm>
          </p:grpSpPr>
          <p:sp>
            <p:nvSpPr>
              <p:cNvPr id="1123" name=""/>
              <p:cNvSpPr/>
              <p:nvPr/>
            </p:nvSpPr>
            <p:spPr>
              <a:xfrm>
                <a:off x="960480" y="3421440"/>
                <a:ext cx="3916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467440" y="327672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VP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5" name=""/>
            <p:cNvGrpSpPr/>
            <p:nvPr/>
          </p:nvGrpSpPr>
          <p:grpSpPr>
            <a:xfrm>
              <a:off x="3881520" y="2306520"/>
              <a:ext cx="992160" cy="307800"/>
              <a:chOff x="3881520" y="2306520"/>
              <a:chExt cx="992160" cy="307800"/>
            </a:xfrm>
          </p:grpSpPr>
          <p:sp>
            <p:nvSpPr>
              <p:cNvPr id="1126" name=""/>
              <p:cNvSpPr/>
              <p:nvPr/>
            </p:nvSpPr>
            <p:spPr>
              <a:xfrm>
                <a:off x="3881520" y="2430360"/>
                <a:ext cx="99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105800" y="2306520"/>
                <a:ext cx="63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LB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8" name=""/>
            <p:cNvGrpSpPr/>
            <p:nvPr/>
          </p:nvGrpSpPr>
          <p:grpSpPr>
            <a:xfrm>
              <a:off x="960480" y="2286000"/>
              <a:ext cx="2926440" cy="307800"/>
              <a:chOff x="960480" y="2286000"/>
              <a:chExt cx="2926440" cy="307800"/>
            </a:xfrm>
          </p:grpSpPr>
          <p:sp>
            <p:nvSpPr>
              <p:cNvPr id="1129" name=""/>
              <p:cNvSpPr/>
              <p:nvPr/>
            </p:nvSpPr>
            <p:spPr>
              <a:xfrm>
                <a:off x="960480" y="2409840"/>
                <a:ext cx="2926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202840" y="2286000"/>
                <a:ext cx="69804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LB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131" name=""/>
          <p:cNvGraphicFramePr/>
          <p:nvPr/>
        </p:nvGraphicFramePr>
        <p:xfrm>
          <a:off x="457200" y="4013280"/>
          <a:ext cx="8153280" cy="1625400"/>
        </p:xfrm>
        <a:graphic>
          <a:graphicData uri="http://schemas.openxmlformats.org/drawingml/2006/table">
            <a:tbl>
              <a:tblPr/>
              <a:tblGrid>
                <a:gridCol w="625320"/>
                <a:gridCol w="630360"/>
                <a:gridCol w="625680"/>
                <a:gridCol w="628560"/>
                <a:gridCol w="625320"/>
                <a:gridCol w="627120"/>
                <a:gridCol w="628560"/>
                <a:gridCol w="627120"/>
                <a:gridCol w="625680"/>
                <a:gridCol w="628560"/>
                <a:gridCol w="625320"/>
                <a:gridCol w="630360"/>
                <a:gridCol w="625320"/>
              </a:tblGrid>
              <a:tr h="3254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214280" y="334800"/>
            <a:ext cx="6756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ple Memory System Cach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l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-byte line 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mapp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1711440" y="2362320"/>
            <a:ext cx="5865840" cy="1395720"/>
            <a:chOff x="1711440" y="2362320"/>
            <a:chExt cx="5865840" cy="1395720"/>
          </a:xfrm>
        </p:grpSpPr>
        <p:grpSp>
          <p:nvGrpSpPr>
            <p:cNvPr id="1135" name=""/>
            <p:cNvGrpSpPr/>
            <p:nvPr/>
          </p:nvGrpSpPr>
          <p:grpSpPr>
            <a:xfrm>
              <a:off x="1711440" y="2736720"/>
              <a:ext cx="5847840" cy="609480"/>
              <a:chOff x="1711440" y="2736720"/>
              <a:chExt cx="5847840" cy="609480"/>
            </a:xfrm>
          </p:grpSpPr>
          <p:grpSp>
            <p:nvGrpSpPr>
              <p:cNvPr id="1136" name=""/>
              <p:cNvGrpSpPr/>
              <p:nvPr/>
            </p:nvGrpSpPr>
            <p:grpSpPr>
              <a:xfrm>
                <a:off x="1711440" y="2736720"/>
                <a:ext cx="487080" cy="609480"/>
                <a:chOff x="1711440" y="2736720"/>
                <a:chExt cx="487080" cy="609480"/>
              </a:xfrm>
            </p:grpSpPr>
            <p:sp>
              <p:nvSpPr>
                <p:cNvPr id="1137" name=""/>
                <p:cNvSpPr/>
                <p:nvPr/>
              </p:nvSpPr>
              <p:spPr>
                <a:xfrm>
                  <a:off x="171144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171144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9" name=""/>
              <p:cNvGrpSpPr/>
              <p:nvPr/>
            </p:nvGrpSpPr>
            <p:grpSpPr>
              <a:xfrm>
                <a:off x="2198520" y="2736720"/>
                <a:ext cx="487080" cy="609480"/>
                <a:chOff x="2198520" y="2736720"/>
                <a:chExt cx="487080" cy="60948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219852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219852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2" name=""/>
              <p:cNvGrpSpPr/>
              <p:nvPr/>
            </p:nvGrpSpPr>
            <p:grpSpPr>
              <a:xfrm>
                <a:off x="2685960" y="2736720"/>
                <a:ext cx="487080" cy="609480"/>
                <a:chOff x="2685960" y="2736720"/>
                <a:chExt cx="487080" cy="60948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268596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268596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3173400" y="2736720"/>
                <a:ext cx="487080" cy="609480"/>
                <a:chOff x="3173400" y="2736720"/>
                <a:chExt cx="487080" cy="60948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317340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317340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3660840" y="2736720"/>
                <a:ext cx="486720" cy="609480"/>
                <a:chOff x="3660840" y="2736720"/>
                <a:chExt cx="486720" cy="609480"/>
              </a:xfrm>
            </p:grpSpPr>
            <p:sp>
              <p:nvSpPr>
                <p:cNvPr id="1149" name=""/>
                <p:cNvSpPr/>
                <p:nvPr/>
              </p:nvSpPr>
              <p:spPr>
                <a:xfrm>
                  <a:off x="3660840" y="304128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3660840" y="273672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4147920" y="2736720"/>
                <a:ext cx="487080" cy="609480"/>
                <a:chOff x="4147920" y="2736720"/>
                <a:chExt cx="487080" cy="60948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414792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14792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4635360" y="2736720"/>
                <a:ext cx="487080" cy="609480"/>
                <a:chOff x="4635360" y="2736720"/>
                <a:chExt cx="487080" cy="60948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463536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63536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5122800" y="2736720"/>
                <a:ext cx="487080" cy="609480"/>
                <a:chOff x="5122800" y="2736720"/>
                <a:chExt cx="487080" cy="609480"/>
              </a:xfrm>
            </p:grpSpPr>
            <p:sp>
              <p:nvSpPr>
                <p:cNvPr id="1158" name=""/>
                <p:cNvSpPr/>
                <p:nvPr/>
              </p:nvSpPr>
              <p:spPr>
                <a:xfrm>
                  <a:off x="512280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512280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5610240" y="2736720"/>
                <a:ext cx="487080" cy="609480"/>
                <a:chOff x="5610240" y="2736720"/>
                <a:chExt cx="487080" cy="609480"/>
              </a:xfrm>
            </p:grpSpPr>
            <p:sp>
              <p:nvSpPr>
                <p:cNvPr id="1161" name=""/>
                <p:cNvSpPr/>
                <p:nvPr/>
              </p:nvSpPr>
              <p:spPr>
                <a:xfrm>
                  <a:off x="561024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561024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3" name=""/>
              <p:cNvGrpSpPr/>
              <p:nvPr/>
            </p:nvGrpSpPr>
            <p:grpSpPr>
              <a:xfrm>
                <a:off x="6097680" y="2736720"/>
                <a:ext cx="486720" cy="609480"/>
                <a:chOff x="6097680" y="2736720"/>
                <a:chExt cx="486720" cy="609480"/>
              </a:xfrm>
            </p:grpSpPr>
            <p:sp>
              <p:nvSpPr>
                <p:cNvPr id="1164" name=""/>
                <p:cNvSpPr/>
                <p:nvPr/>
              </p:nvSpPr>
              <p:spPr>
                <a:xfrm>
                  <a:off x="6097680" y="304128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6097680" y="273672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6" name=""/>
              <p:cNvGrpSpPr/>
              <p:nvPr/>
            </p:nvGrpSpPr>
            <p:grpSpPr>
              <a:xfrm>
                <a:off x="6584760" y="2736720"/>
                <a:ext cx="487080" cy="609480"/>
                <a:chOff x="6584760" y="2736720"/>
                <a:chExt cx="487080" cy="609480"/>
              </a:xfrm>
            </p:grpSpPr>
            <p:sp>
              <p:nvSpPr>
                <p:cNvPr id="1167" name=""/>
                <p:cNvSpPr/>
                <p:nvPr/>
              </p:nvSpPr>
              <p:spPr>
                <a:xfrm>
                  <a:off x="658476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658476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9" name=""/>
              <p:cNvGrpSpPr/>
              <p:nvPr/>
            </p:nvGrpSpPr>
            <p:grpSpPr>
              <a:xfrm>
                <a:off x="7072200" y="2736720"/>
                <a:ext cx="487080" cy="609480"/>
                <a:chOff x="7072200" y="2736720"/>
                <a:chExt cx="487080" cy="60948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707220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707220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2" name=""/>
            <p:cNvGrpSpPr/>
            <p:nvPr/>
          </p:nvGrpSpPr>
          <p:grpSpPr>
            <a:xfrm>
              <a:off x="4653000" y="3422520"/>
              <a:ext cx="2924280" cy="335520"/>
              <a:chOff x="4653000" y="3422520"/>
              <a:chExt cx="2924280" cy="335520"/>
            </a:xfrm>
          </p:grpSpPr>
          <p:sp>
            <p:nvSpPr>
              <p:cNvPr id="1173" name=""/>
              <p:cNvSpPr/>
              <p:nvPr/>
            </p:nvSpPr>
            <p:spPr>
              <a:xfrm>
                <a:off x="4653000" y="3567240"/>
                <a:ext cx="29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778360" y="342252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P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1757520" y="3422520"/>
              <a:ext cx="2923920" cy="335520"/>
              <a:chOff x="1757520" y="3422520"/>
              <a:chExt cx="2923920" cy="335520"/>
            </a:xfrm>
          </p:grpSpPr>
          <p:sp>
            <p:nvSpPr>
              <p:cNvPr id="1176" name=""/>
              <p:cNvSpPr/>
              <p:nvPr/>
            </p:nvSpPr>
            <p:spPr>
              <a:xfrm>
                <a:off x="1757520" y="3567240"/>
                <a:ext cx="29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2882880" y="342252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P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"/>
            <p:cNvGrpSpPr/>
            <p:nvPr/>
          </p:nvGrpSpPr>
          <p:grpSpPr>
            <a:xfrm>
              <a:off x="6556320" y="2382840"/>
              <a:ext cx="992160" cy="307800"/>
              <a:chOff x="6556320" y="2382840"/>
              <a:chExt cx="992160" cy="307800"/>
            </a:xfrm>
          </p:grpSpPr>
          <p:sp>
            <p:nvSpPr>
              <p:cNvPr id="1179" name=""/>
              <p:cNvSpPr/>
              <p:nvPr/>
            </p:nvSpPr>
            <p:spPr>
              <a:xfrm>
                <a:off x="6556320" y="2506680"/>
                <a:ext cx="99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853680" y="2382840"/>
                <a:ext cx="48456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"/>
            <p:cNvGrpSpPr/>
            <p:nvPr/>
          </p:nvGrpSpPr>
          <p:grpSpPr>
            <a:xfrm>
              <a:off x="4635360" y="2362320"/>
              <a:ext cx="1927080" cy="307800"/>
              <a:chOff x="4635360" y="2362320"/>
              <a:chExt cx="1927080" cy="307800"/>
            </a:xfrm>
          </p:grpSpPr>
          <p:sp>
            <p:nvSpPr>
              <p:cNvPr id="1182" name=""/>
              <p:cNvSpPr/>
              <p:nvPr/>
            </p:nvSpPr>
            <p:spPr>
              <a:xfrm>
                <a:off x="4635360" y="2486160"/>
                <a:ext cx="192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492880" y="2362320"/>
                <a:ext cx="38412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1711440" y="2382840"/>
              <a:ext cx="2894760" cy="307800"/>
              <a:chOff x="1711440" y="2382840"/>
              <a:chExt cx="2894760" cy="307800"/>
            </a:xfrm>
          </p:grpSpPr>
          <p:sp>
            <p:nvSpPr>
              <p:cNvPr id="1185" name=""/>
              <p:cNvSpPr/>
              <p:nvPr/>
            </p:nvSpPr>
            <p:spPr>
              <a:xfrm>
                <a:off x="1711440" y="2506680"/>
                <a:ext cx="289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062520" y="2382840"/>
                <a:ext cx="45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187" name=""/>
          <p:cNvGraphicFramePr/>
          <p:nvPr/>
        </p:nvGraphicFramePr>
        <p:xfrm>
          <a:off x="228600" y="3851280"/>
          <a:ext cx="8686800" cy="2554200"/>
        </p:xfrm>
        <a:graphic>
          <a:graphicData uri="http://schemas.openxmlformats.org/drawingml/2006/table">
            <a:tbl>
              <a:tblPr/>
              <a:tblGrid>
                <a:gridCol w="620640"/>
                <a:gridCol w="619200"/>
                <a:gridCol w="620640"/>
                <a:gridCol w="622440"/>
                <a:gridCol w="620640"/>
                <a:gridCol w="619200"/>
                <a:gridCol w="620640"/>
                <a:gridCol w="620640"/>
                <a:gridCol w="619200"/>
                <a:gridCol w="620640"/>
                <a:gridCol w="622440"/>
                <a:gridCol w="620640"/>
                <a:gridCol w="619200"/>
                <a:gridCol w="620640"/>
              </a:tblGrid>
              <a:tr h="28116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998280" y="334800"/>
            <a:ext cx="71881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ress Translation Example #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1006560" y="1638360"/>
            <a:ext cx="6823080" cy="1334160"/>
            <a:chOff x="1006560" y="1638360"/>
            <a:chExt cx="6823080" cy="1334160"/>
          </a:xfrm>
        </p:grpSpPr>
        <p:grpSp>
          <p:nvGrpSpPr>
            <p:cNvPr id="1190" name=""/>
            <p:cNvGrpSpPr/>
            <p:nvPr/>
          </p:nvGrpSpPr>
          <p:grpSpPr>
            <a:xfrm>
              <a:off x="1006560" y="1866960"/>
              <a:ext cx="6823080" cy="609480"/>
              <a:chOff x="1006560" y="1866960"/>
              <a:chExt cx="6823080" cy="609480"/>
            </a:xfrm>
          </p:grpSpPr>
          <p:grpSp>
            <p:nvGrpSpPr>
              <p:cNvPr id="1191" name=""/>
              <p:cNvGrpSpPr/>
              <p:nvPr/>
            </p:nvGrpSpPr>
            <p:grpSpPr>
              <a:xfrm>
                <a:off x="1006560" y="1866960"/>
                <a:ext cx="487440" cy="609480"/>
                <a:chOff x="1006560" y="1866960"/>
                <a:chExt cx="487440" cy="609480"/>
              </a:xfrm>
            </p:grpSpPr>
            <p:sp>
              <p:nvSpPr>
                <p:cNvPr id="1192" name=""/>
                <p:cNvSpPr/>
                <p:nvPr/>
              </p:nvSpPr>
              <p:spPr>
                <a:xfrm>
                  <a:off x="10065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0065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4" name=""/>
              <p:cNvGrpSpPr/>
              <p:nvPr/>
            </p:nvGrpSpPr>
            <p:grpSpPr>
              <a:xfrm>
                <a:off x="1494000" y="1866960"/>
                <a:ext cx="487080" cy="609480"/>
                <a:chOff x="1494000" y="1866960"/>
                <a:chExt cx="487080" cy="609480"/>
              </a:xfrm>
            </p:grpSpPr>
            <p:sp>
              <p:nvSpPr>
                <p:cNvPr id="1195" name=""/>
                <p:cNvSpPr/>
                <p:nvPr/>
              </p:nvSpPr>
              <p:spPr>
                <a:xfrm>
                  <a:off x="149400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149400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7" name=""/>
              <p:cNvGrpSpPr/>
              <p:nvPr/>
            </p:nvGrpSpPr>
            <p:grpSpPr>
              <a:xfrm>
                <a:off x="1981080" y="1866960"/>
                <a:ext cx="487440" cy="609480"/>
                <a:chOff x="1981080" y="1866960"/>
                <a:chExt cx="487440" cy="60948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19810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19810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0" name=""/>
              <p:cNvGrpSpPr/>
              <p:nvPr/>
            </p:nvGrpSpPr>
            <p:grpSpPr>
              <a:xfrm>
                <a:off x="2468520" y="1866960"/>
                <a:ext cx="487440" cy="609480"/>
                <a:chOff x="2468520" y="1866960"/>
                <a:chExt cx="487440" cy="60948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246852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246852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2955960" y="1866960"/>
                <a:ext cx="487440" cy="609480"/>
                <a:chOff x="2955960" y="1866960"/>
                <a:chExt cx="487440" cy="60948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29559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9559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6" name=""/>
              <p:cNvGrpSpPr/>
              <p:nvPr/>
            </p:nvGrpSpPr>
            <p:grpSpPr>
              <a:xfrm>
                <a:off x="3443400" y="1866960"/>
                <a:ext cx="487080" cy="609480"/>
                <a:chOff x="3443400" y="1866960"/>
                <a:chExt cx="487080" cy="609480"/>
              </a:xfrm>
            </p:grpSpPr>
            <p:sp>
              <p:nvSpPr>
                <p:cNvPr id="1207" name=""/>
                <p:cNvSpPr/>
                <p:nvPr/>
              </p:nvSpPr>
              <p:spPr>
                <a:xfrm>
                  <a:off x="344340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344340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9" name=""/>
              <p:cNvGrpSpPr/>
              <p:nvPr/>
            </p:nvGrpSpPr>
            <p:grpSpPr>
              <a:xfrm>
                <a:off x="3930480" y="1866960"/>
                <a:ext cx="487440" cy="609480"/>
                <a:chOff x="3930480" y="1866960"/>
                <a:chExt cx="487440" cy="609480"/>
              </a:xfrm>
            </p:grpSpPr>
            <p:sp>
              <p:nvSpPr>
                <p:cNvPr id="1210" name=""/>
                <p:cNvSpPr/>
                <p:nvPr/>
              </p:nvSpPr>
              <p:spPr>
                <a:xfrm>
                  <a:off x="39304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39304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2" name=""/>
              <p:cNvGrpSpPr/>
              <p:nvPr/>
            </p:nvGrpSpPr>
            <p:grpSpPr>
              <a:xfrm>
                <a:off x="4417920" y="1866960"/>
                <a:ext cx="487440" cy="609480"/>
                <a:chOff x="4417920" y="1866960"/>
                <a:chExt cx="487440" cy="609480"/>
              </a:xfrm>
            </p:grpSpPr>
            <p:sp>
              <p:nvSpPr>
                <p:cNvPr id="1213" name=""/>
                <p:cNvSpPr/>
                <p:nvPr/>
              </p:nvSpPr>
              <p:spPr>
                <a:xfrm>
                  <a:off x="441792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441792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5" name=""/>
              <p:cNvGrpSpPr/>
              <p:nvPr/>
            </p:nvGrpSpPr>
            <p:grpSpPr>
              <a:xfrm>
                <a:off x="4905360" y="1866960"/>
                <a:ext cx="487440" cy="609480"/>
                <a:chOff x="4905360" y="1866960"/>
                <a:chExt cx="487440" cy="60948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49053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49053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8" name=""/>
              <p:cNvGrpSpPr/>
              <p:nvPr/>
            </p:nvGrpSpPr>
            <p:grpSpPr>
              <a:xfrm>
                <a:off x="5392800" y="1866960"/>
                <a:ext cx="487440" cy="609480"/>
                <a:chOff x="5392800" y="1866960"/>
                <a:chExt cx="487440" cy="60948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53928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53928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1" name=""/>
              <p:cNvGrpSpPr/>
              <p:nvPr/>
            </p:nvGrpSpPr>
            <p:grpSpPr>
              <a:xfrm>
                <a:off x="5880240" y="1866960"/>
                <a:ext cx="487080" cy="609480"/>
                <a:chOff x="5880240" y="1866960"/>
                <a:chExt cx="487080" cy="609480"/>
              </a:xfrm>
            </p:grpSpPr>
            <p:sp>
              <p:nvSpPr>
                <p:cNvPr id="1222" name=""/>
                <p:cNvSpPr/>
                <p:nvPr/>
              </p:nvSpPr>
              <p:spPr>
                <a:xfrm>
                  <a:off x="588024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588024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4" name=""/>
              <p:cNvGrpSpPr/>
              <p:nvPr/>
            </p:nvGrpSpPr>
            <p:grpSpPr>
              <a:xfrm>
                <a:off x="6367320" y="1866960"/>
                <a:ext cx="487440" cy="609480"/>
                <a:chOff x="6367320" y="1866960"/>
                <a:chExt cx="487440" cy="609480"/>
              </a:xfrm>
            </p:grpSpPr>
            <p:sp>
              <p:nvSpPr>
                <p:cNvPr id="1225" name=""/>
                <p:cNvSpPr/>
                <p:nvPr/>
              </p:nvSpPr>
              <p:spPr>
                <a:xfrm>
                  <a:off x="636732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636732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7" name=""/>
              <p:cNvGrpSpPr/>
              <p:nvPr/>
            </p:nvGrpSpPr>
            <p:grpSpPr>
              <a:xfrm>
                <a:off x="6854760" y="1866960"/>
                <a:ext cx="487440" cy="609480"/>
                <a:chOff x="6854760" y="1866960"/>
                <a:chExt cx="487440" cy="609480"/>
              </a:xfrm>
            </p:grpSpPr>
            <p:sp>
              <p:nvSpPr>
                <p:cNvPr id="1228" name=""/>
                <p:cNvSpPr/>
                <p:nvPr/>
              </p:nvSpPr>
              <p:spPr>
                <a:xfrm>
                  <a:off x="68547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68547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7342200" y="1866960"/>
                <a:ext cx="487440" cy="609480"/>
                <a:chOff x="7342200" y="1866960"/>
                <a:chExt cx="487440" cy="609480"/>
              </a:xfrm>
            </p:grpSpPr>
            <p:sp>
              <p:nvSpPr>
                <p:cNvPr id="1231" name=""/>
                <p:cNvSpPr/>
                <p:nvPr/>
              </p:nvSpPr>
              <p:spPr>
                <a:xfrm>
                  <a:off x="73422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73422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3" name=""/>
            <p:cNvGrpSpPr/>
            <p:nvPr/>
          </p:nvGrpSpPr>
          <p:grpSpPr>
            <a:xfrm>
              <a:off x="4905360" y="2637000"/>
              <a:ext cx="2924280" cy="335520"/>
              <a:chOff x="4905360" y="2637000"/>
              <a:chExt cx="2924280" cy="335520"/>
            </a:xfrm>
          </p:grpSpPr>
          <p:sp>
            <p:nvSpPr>
              <p:cNvPr id="1234" name=""/>
              <p:cNvSpPr/>
              <p:nvPr/>
            </p:nvSpPr>
            <p:spPr>
              <a:xfrm>
                <a:off x="4905360" y="2781360"/>
                <a:ext cx="29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6030360" y="263700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VP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6" name=""/>
            <p:cNvGrpSpPr/>
            <p:nvPr/>
          </p:nvGrpSpPr>
          <p:grpSpPr>
            <a:xfrm>
              <a:off x="1006560" y="2629080"/>
              <a:ext cx="3916440" cy="335520"/>
              <a:chOff x="1006560" y="2629080"/>
              <a:chExt cx="3916440" cy="335520"/>
            </a:xfrm>
          </p:grpSpPr>
          <p:sp>
            <p:nvSpPr>
              <p:cNvPr id="1237" name=""/>
              <p:cNvSpPr/>
              <p:nvPr/>
            </p:nvSpPr>
            <p:spPr>
              <a:xfrm>
                <a:off x="1006560" y="2773440"/>
                <a:ext cx="3916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2513880" y="262908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VP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9" name=""/>
            <p:cNvGrpSpPr/>
            <p:nvPr/>
          </p:nvGrpSpPr>
          <p:grpSpPr>
            <a:xfrm>
              <a:off x="3927600" y="1658880"/>
              <a:ext cx="992160" cy="307800"/>
              <a:chOff x="3927600" y="1658880"/>
              <a:chExt cx="992160" cy="307800"/>
            </a:xfrm>
          </p:grpSpPr>
          <p:sp>
            <p:nvSpPr>
              <p:cNvPr id="1240" name=""/>
              <p:cNvSpPr/>
              <p:nvPr/>
            </p:nvSpPr>
            <p:spPr>
              <a:xfrm>
                <a:off x="3927600" y="1782720"/>
                <a:ext cx="99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151520" y="1658880"/>
                <a:ext cx="63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LB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2" name=""/>
            <p:cNvGrpSpPr/>
            <p:nvPr/>
          </p:nvGrpSpPr>
          <p:grpSpPr>
            <a:xfrm>
              <a:off x="1006560" y="1638360"/>
              <a:ext cx="2927160" cy="307800"/>
              <a:chOff x="1006560" y="1638360"/>
              <a:chExt cx="2927160" cy="307800"/>
            </a:xfrm>
          </p:grpSpPr>
          <p:sp>
            <p:nvSpPr>
              <p:cNvPr id="1243" name=""/>
              <p:cNvSpPr/>
              <p:nvPr/>
            </p:nvSpPr>
            <p:spPr>
              <a:xfrm>
                <a:off x="1006560" y="1762200"/>
                <a:ext cx="292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2249640" y="1638360"/>
                <a:ext cx="69804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LB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5" name=""/>
          <p:cNvGrpSpPr/>
          <p:nvPr/>
        </p:nvGrpSpPr>
        <p:grpSpPr>
          <a:xfrm>
            <a:off x="1981080" y="4165560"/>
            <a:ext cx="5865840" cy="1395720"/>
            <a:chOff x="1981080" y="4165560"/>
            <a:chExt cx="5865840" cy="1395720"/>
          </a:xfrm>
        </p:grpSpPr>
        <p:grpSp>
          <p:nvGrpSpPr>
            <p:cNvPr id="1246" name=""/>
            <p:cNvGrpSpPr/>
            <p:nvPr/>
          </p:nvGrpSpPr>
          <p:grpSpPr>
            <a:xfrm>
              <a:off x="1981080" y="4539960"/>
              <a:ext cx="5847840" cy="609480"/>
              <a:chOff x="1981080" y="4539960"/>
              <a:chExt cx="5847840" cy="609480"/>
            </a:xfrm>
          </p:grpSpPr>
          <p:grpSp>
            <p:nvGrpSpPr>
              <p:cNvPr id="1247" name=""/>
              <p:cNvGrpSpPr/>
              <p:nvPr/>
            </p:nvGrpSpPr>
            <p:grpSpPr>
              <a:xfrm>
                <a:off x="1981080" y="4539960"/>
                <a:ext cx="487080" cy="609480"/>
                <a:chOff x="1981080" y="4539960"/>
                <a:chExt cx="487080" cy="60948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19810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19810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0" name=""/>
              <p:cNvGrpSpPr/>
              <p:nvPr/>
            </p:nvGrpSpPr>
            <p:grpSpPr>
              <a:xfrm>
                <a:off x="2468160" y="4539960"/>
                <a:ext cx="487080" cy="609480"/>
                <a:chOff x="2468160" y="4539960"/>
                <a:chExt cx="487080" cy="60948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24681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24681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3" name=""/>
              <p:cNvGrpSpPr/>
              <p:nvPr/>
            </p:nvGrpSpPr>
            <p:grpSpPr>
              <a:xfrm>
                <a:off x="2955600" y="4539960"/>
                <a:ext cx="487080" cy="609480"/>
                <a:chOff x="2955600" y="4539960"/>
                <a:chExt cx="487080" cy="609480"/>
              </a:xfrm>
            </p:grpSpPr>
            <p:sp>
              <p:nvSpPr>
                <p:cNvPr id="1254" name=""/>
                <p:cNvSpPr/>
                <p:nvPr/>
              </p:nvSpPr>
              <p:spPr>
                <a:xfrm>
                  <a:off x="29556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29556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6" name=""/>
              <p:cNvGrpSpPr/>
              <p:nvPr/>
            </p:nvGrpSpPr>
            <p:grpSpPr>
              <a:xfrm>
                <a:off x="3443040" y="4539960"/>
                <a:ext cx="487080" cy="609480"/>
                <a:chOff x="3443040" y="4539960"/>
                <a:chExt cx="487080" cy="609480"/>
              </a:xfrm>
            </p:grpSpPr>
            <p:sp>
              <p:nvSpPr>
                <p:cNvPr id="1257" name=""/>
                <p:cNvSpPr/>
                <p:nvPr/>
              </p:nvSpPr>
              <p:spPr>
                <a:xfrm>
                  <a:off x="34430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34430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9" name=""/>
              <p:cNvGrpSpPr/>
              <p:nvPr/>
            </p:nvGrpSpPr>
            <p:grpSpPr>
              <a:xfrm>
                <a:off x="3930480" y="4539960"/>
                <a:ext cx="486720" cy="609480"/>
                <a:chOff x="3930480" y="4539960"/>
                <a:chExt cx="486720" cy="609480"/>
              </a:xfrm>
            </p:grpSpPr>
            <p:sp>
              <p:nvSpPr>
                <p:cNvPr id="1260" name=""/>
                <p:cNvSpPr/>
                <p:nvPr/>
              </p:nvSpPr>
              <p:spPr>
                <a:xfrm>
                  <a:off x="393048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393048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4417560" y="4539960"/>
                <a:ext cx="487080" cy="609480"/>
                <a:chOff x="4417560" y="4539960"/>
                <a:chExt cx="487080" cy="60948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44175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44175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5" name=""/>
              <p:cNvGrpSpPr/>
              <p:nvPr/>
            </p:nvGrpSpPr>
            <p:grpSpPr>
              <a:xfrm>
                <a:off x="4905000" y="4539960"/>
                <a:ext cx="487080" cy="609480"/>
                <a:chOff x="4905000" y="4539960"/>
                <a:chExt cx="487080" cy="609480"/>
              </a:xfrm>
            </p:grpSpPr>
            <p:sp>
              <p:nvSpPr>
                <p:cNvPr id="1266" name=""/>
                <p:cNvSpPr/>
                <p:nvPr/>
              </p:nvSpPr>
              <p:spPr>
                <a:xfrm>
                  <a:off x="49050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49050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8" name=""/>
              <p:cNvGrpSpPr/>
              <p:nvPr/>
            </p:nvGrpSpPr>
            <p:grpSpPr>
              <a:xfrm>
                <a:off x="5392440" y="4539960"/>
                <a:ext cx="487080" cy="609480"/>
                <a:chOff x="5392440" y="4539960"/>
                <a:chExt cx="487080" cy="609480"/>
              </a:xfrm>
            </p:grpSpPr>
            <p:sp>
              <p:nvSpPr>
                <p:cNvPr id="1269" name=""/>
                <p:cNvSpPr/>
                <p:nvPr/>
              </p:nvSpPr>
              <p:spPr>
                <a:xfrm>
                  <a:off x="53924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53924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1" name=""/>
              <p:cNvGrpSpPr/>
              <p:nvPr/>
            </p:nvGrpSpPr>
            <p:grpSpPr>
              <a:xfrm>
                <a:off x="5879880" y="4539960"/>
                <a:ext cx="487080" cy="609480"/>
                <a:chOff x="5879880" y="4539960"/>
                <a:chExt cx="487080" cy="609480"/>
              </a:xfrm>
            </p:grpSpPr>
            <p:sp>
              <p:nvSpPr>
                <p:cNvPr id="1272" name=""/>
                <p:cNvSpPr/>
                <p:nvPr/>
              </p:nvSpPr>
              <p:spPr>
                <a:xfrm>
                  <a:off x="58798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58798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4" name=""/>
              <p:cNvGrpSpPr/>
              <p:nvPr/>
            </p:nvGrpSpPr>
            <p:grpSpPr>
              <a:xfrm>
                <a:off x="6367320" y="4539960"/>
                <a:ext cx="486720" cy="609480"/>
                <a:chOff x="6367320" y="4539960"/>
                <a:chExt cx="486720" cy="60948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636732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636732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6854400" y="4539960"/>
                <a:ext cx="487080" cy="609480"/>
                <a:chOff x="6854400" y="4539960"/>
                <a:chExt cx="487080" cy="60948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68544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68544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0" name=""/>
              <p:cNvGrpSpPr/>
              <p:nvPr/>
            </p:nvGrpSpPr>
            <p:grpSpPr>
              <a:xfrm>
                <a:off x="7341840" y="4539960"/>
                <a:ext cx="487080" cy="609480"/>
                <a:chOff x="7341840" y="4539960"/>
                <a:chExt cx="487080" cy="609480"/>
              </a:xfrm>
            </p:grpSpPr>
            <p:sp>
              <p:nvSpPr>
                <p:cNvPr id="1281" name=""/>
                <p:cNvSpPr/>
                <p:nvPr/>
              </p:nvSpPr>
              <p:spPr>
                <a:xfrm>
                  <a:off x="73418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73418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3" name=""/>
            <p:cNvGrpSpPr/>
            <p:nvPr/>
          </p:nvGrpSpPr>
          <p:grpSpPr>
            <a:xfrm>
              <a:off x="4922640" y="5225760"/>
              <a:ext cx="2924280" cy="335520"/>
              <a:chOff x="4922640" y="5225760"/>
              <a:chExt cx="2924280" cy="335520"/>
            </a:xfrm>
          </p:grpSpPr>
          <p:sp>
            <p:nvSpPr>
              <p:cNvPr id="1284" name=""/>
              <p:cNvSpPr/>
              <p:nvPr/>
            </p:nvSpPr>
            <p:spPr>
              <a:xfrm>
                <a:off x="4922640" y="5370480"/>
                <a:ext cx="29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6048000" y="522576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P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6" name=""/>
            <p:cNvGrpSpPr/>
            <p:nvPr/>
          </p:nvGrpSpPr>
          <p:grpSpPr>
            <a:xfrm>
              <a:off x="2027160" y="5225760"/>
              <a:ext cx="2923920" cy="335520"/>
              <a:chOff x="2027160" y="5225760"/>
              <a:chExt cx="2923920" cy="335520"/>
            </a:xfrm>
          </p:grpSpPr>
          <p:sp>
            <p:nvSpPr>
              <p:cNvPr id="1287" name=""/>
              <p:cNvSpPr/>
              <p:nvPr/>
            </p:nvSpPr>
            <p:spPr>
              <a:xfrm>
                <a:off x="2027160" y="5370480"/>
                <a:ext cx="29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152520" y="522576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P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9" name=""/>
            <p:cNvGrpSpPr/>
            <p:nvPr/>
          </p:nvGrpSpPr>
          <p:grpSpPr>
            <a:xfrm>
              <a:off x="6825960" y="4186080"/>
              <a:ext cx="992160" cy="307800"/>
              <a:chOff x="6825960" y="4186080"/>
              <a:chExt cx="992160" cy="307800"/>
            </a:xfrm>
          </p:grpSpPr>
          <p:sp>
            <p:nvSpPr>
              <p:cNvPr id="1290" name=""/>
              <p:cNvSpPr/>
              <p:nvPr/>
            </p:nvSpPr>
            <p:spPr>
              <a:xfrm>
                <a:off x="6825960" y="4309920"/>
                <a:ext cx="99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123320" y="4186080"/>
                <a:ext cx="48456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2" name=""/>
            <p:cNvGrpSpPr/>
            <p:nvPr/>
          </p:nvGrpSpPr>
          <p:grpSpPr>
            <a:xfrm>
              <a:off x="4905000" y="4165560"/>
              <a:ext cx="1927080" cy="307800"/>
              <a:chOff x="4905000" y="4165560"/>
              <a:chExt cx="1927080" cy="307800"/>
            </a:xfrm>
          </p:grpSpPr>
          <p:sp>
            <p:nvSpPr>
              <p:cNvPr id="1293" name=""/>
              <p:cNvSpPr/>
              <p:nvPr/>
            </p:nvSpPr>
            <p:spPr>
              <a:xfrm>
                <a:off x="4905000" y="4289400"/>
                <a:ext cx="192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762520" y="4165560"/>
                <a:ext cx="38412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5" name=""/>
            <p:cNvGrpSpPr/>
            <p:nvPr/>
          </p:nvGrpSpPr>
          <p:grpSpPr>
            <a:xfrm>
              <a:off x="1981080" y="4186080"/>
              <a:ext cx="2894760" cy="307800"/>
              <a:chOff x="1981080" y="4186080"/>
              <a:chExt cx="2894760" cy="307800"/>
            </a:xfrm>
          </p:grpSpPr>
          <p:sp>
            <p:nvSpPr>
              <p:cNvPr id="1296" name=""/>
              <p:cNvSpPr/>
              <p:nvPr/>
            </p:nvSpPr>
            <p:spPr>
              <a:xfrm>
                <a:off x="1981080" y="4309920"/>
                <a:ext cx="289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332160" y="4186080"/>
                <a:ext cx="45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Addre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03D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PN 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I 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T 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 Hit? 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Fault? 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N: 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 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T 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t? 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: 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998280" y="334800"/>
            <a:ext cx="71881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ress Translation Example #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Addre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027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PN 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I 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T 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 Hit? 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Fault? 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N: 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 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T 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t? 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: 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998640" y="1638360"/>
            <a:ext cx="6823080" cy="1334160"/>
            <a:chOff x="998640" y="1638360"/>
            <a:chExt cx="6823080" cy="1334160"/>
          </a:xfrm>
        </p:grpSpPr>
        <p:grpSp>
          <p:nvGrpSpPr>
            <p:cNvPr id="1302" name=""/>
            <p:cNvGrpSpPr/>
            <p:nvPr/>
          </p:nvGrpSpPr>
          <p:grpSpPr>
            <a:xfrm>
              <a:off x="998640" y="1866960"/>
              <a:ext cx="6823080" cy="609480"/>
              <a:chOff x="998640" y="1866960"/>
              <a:chExt cx="6823080" cy="609480"/>
            </a:xfrm>
          </p:grpSpPr>
          <p:grpSp>
            <p:nvGrpSpPr>
              <p:cNvPr id="1303" name=""/>
              <p:cNvGrpSpPr/>
              <p:nvPr/>
            </p:nvGrpSpPr>
            <p:grpSpPr>
              <a:xfrm>
                <a:off x="998640" y="1866960"/>
                <a:ext cx="487440" cy="609480"/>
                <a:chOff x="998640" y="1866960"/>
                <a:chExt cx="487440" cy="609480"/>
              </a:xfrm>
            </p:grpSpPr>
            <p:sp>
              <p:nvSpPr>
                <p:cNvPr id="1304" name=""/>
                <p:cNvSpPr/>
                <p:nvPr/>
              </p:nvSpPr>
              <p:spPr>
                <a:xfrm>
                  <a:off x="9986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9986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6" name=""/>
              <p:cNvGrpSpPr/>
              <p:nvPr/>
            </p:nvGrpSpPr>
            <p:grpSpPr>
              <a:xfrm>
                <a:off x="1486080" y="1866960"/>
                <a:ext cx="487080" cy="609480"/>
                <a:chOff x="1486080" y="1866960"/>
                <a:chExt cx="487080" cy="609480"/>
              </a:xfrm>
            </p:grpSpPr>
            <p:sp>
              <p:nvSpPr>
                <p:cNvPr id="1307" name=""/>
                <p:cNvSpPr/>
                <p:nvPr/>
              </p:nvSpPr>
              <p:spPr>
                <a:xfrm>
                  <a:off x="14860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14860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9" name=""/>
              <p:cNvGrpSpPr/>
              <p:nvPr/>
            </p:nvGrpSpPr>
            <p:grpSpPr>
              <a:xfrm>
                <a:off x="1973160" y="1866960"/>
                <a:ext cx="487440" cy="609480"/>
                <a:chOff x="1973160" y="1866960"/>
                <a:chExt cx="487440" cy="609480"/>
              </a:xfrm>
            </p:grpSpPr>
            <p:sp>
              <p:nvSpPr>
                <p:cNvPr id="1310" name=""/>
                <p:cNvSpPr/>
                <p:nvPr/>
              </p:nvSpPr>
              <p:spPr>
                <a:xfrm>
                  <a:off x="19731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19731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2" name=""/>
              <p:cNvGrpSpPr/>
              <p:nvPr/>
            </p:nvGrpSpPr>
            <p:grpSpPr>
              <a:xfrm>
                <a:off x="2460600" y="1866960"/>
                <a:ext cx="487440" cy="609480"/>
                <a:chOff x="2460600" y="1866960"/>
                <a:chExt cx="487440" cy="609480"/>
              </a:xfrm>
            </p:grpSpPr>
            <p:sp>
              <p:nvSpPr>
                <p:cNvPr id="1313" name=""/>
                <p:cNvSpPr/>
                <p:nvPr/>
              </p:nvSpPr>
              <p:spPr>
                <a:xfrm>
                  <a:off x="24606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24606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5" name=""/>
              <p:cNvGrpSpPr/>
              <p:nvPr/>
            </p:nvGrpSpPr>
            <p:grpSpPr>
              <a:xfrm>
                <a:off x="2948040" y="1866960"/>
                <a:ext cx="487440" cy="609480"/>
                <a:chOff x="2948040" y="1866960"/>
                <a:chExt cx="487440" cy="609480"/>
              </a:xfrm>
            </p:grpSpPr>
            <p:sp>
              <p:nvSpPr>
                <p:cNvPr id="1316" name=""/>
                <p:cNvSpPr/>
                <p:nvPr/>
              </p:nvSpPr>
              <p:spPr>
                <a:xfrm>
                  <a:off x="29480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9480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8" name=""/>
              <p:cNvGrpSpPr/>
              <p:nvPr/>
            </p:nvGrpSpPr>
            <p:grpSpPr>
              <a:xfrm>
                <a:off x="3435480" y="1866960"/>
                <a:ext cx="487080" cy="609480"/>
                <a:chOff x="3435480" y="1866960"/>
                <a:chExt cx="487080" cy="609480"/>
              </a:xfrm>
            </p:grpSpPr>
            <p:sp>
              <p:nvSpPr>
                <p:cNvPr id="1319" name=""/>
                <p:cNvSpPr/>
                <p:nvPr/>
              </p:nvSpPr>
              <p:spPr>
                <a:xfrm>
                  <a:off x="34354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34354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1" name=""/>
              <p:cNvGrpSpPr/>
              <p:nvPr/>
            </p:nvGrpSpPr>
            <p:grpSpPr>
              <a:xfrm>
                <a:off x="3922560" y="1866960"/>
                <a:ext cx="487440" cy="609480"/>
                <a:chOff x="3922560" y="1866960"/>
                <a:chExt cx="487440" cy="609480"/>
              </a:xfrm>
            </p:grpSpPr>
            <p:sp>
              <p:nvSpPr>
                <p:cNvPr id="1322" name=""/>
                <p:cNvSpPr/>
                <p:nvPr/>
              </p:nvSpPr>
              <p:spPr>
                <a:xfrm>
                  <a:off x="39225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39225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4" name=""/>
              <p:cNvGrpSpPr/>
              <p:nvPr/>
            </p:nvGrpSpPr>
            <p:grpSpPr>
              <a:xfrm>
                <a:off x="4410000" y="1866960"/>
                <a:ext cx="487440" cy="609480"/>
                <a:chOff x="4410000" y="1866960"/>
                <a:chExt cx="487440" cy="609480"/>
              </a:xfrm>
            </p:grpSpPr>
            <p:sp>
              <p:nvSpPr>
                <p:cNvPr id="1325" name=""/>
                <p:cNvSpPr/>
                <p:nvPr/>
              </p:nvSpPr>
              <p:spPr>
                <a:xfrm>
                  <a:off x="44100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44100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7" name=""/>
              <p:cNvGrpSpPr/>
              <p:nvPr/>
            </p:nvGrpSpPr>
            <p:grpSpPr>
              <a:xfrm>
                <a:off x="4897440" y="1866960"/>
                <a:ext cx="487440" cy="609480"/>
                <a:chOff x="4897440" y="1866960"/>
                <a:chExt cx="487440" cy="609480"/>
              </a:xfrm>
            </p:grpSpPr>
            <p:sp>
              <p:nvSpPr>
                <p:cNvPr id="1328" name=""/>
                <p:cNvSpPr/>
                <p:nvPr/>
              </p:nvSpPr>
              <p:spPr>
                <a:xfrm>
                  <a:off x="48974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48974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0" name=""/>
              <p:cNvGrpSpPr/>
              <p:nvPr/>
            </p:nvGrpSpPr>
            <p:grpSpPr>
              <a:xfrm>
                <a:off x="5384880" y="1866960"/>
                <a:ext cx="487440" cy="609480"/>
                <a:chOff x="5384880" y="1866960"/>
                <a:chExt cx="487440" cy="609480"/>
              </a:xfrm>
            </p:grpSpPr>
            <p:sp>
              <p:nvSpPr>
                <p:cNvPr id="1331" name=""/>
                <p:cNvSpPr/>
                <p:nvPr/>
              </p:nvSpPr>
              <p:spPr>
                <a:xfrm>
                  <a:off x="53848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53848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3" name=""/>
              <p:cNvGrpSpPr/>
              <p:nvPr/>
            </p:nvGrpSpPr>
            <p:grpSpPr>
              <a:xfrm>
                <a:off x="5872320" y="1866960"/>
                <a:ext cx="487080" cy="609480"/>
                <a:chOff x="5872320" y="1866960"/>
                <a:chExt cx="487080" cy="609480"/>
              </a:xfrm>
            </p:grpSpPr>
            <p:sp>
              <p:nvSpPr>
                <p:cNvPr id="1334" name=""/>
                <p:cNvSpPr/>
                <p:nvPr/>
              </p:nvSpPr>
              <p:spPr>
                <a:xfrm>
                  <a:off x="587232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587232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6" name=""/>
              <p:cNvGrpSpPr/>
              <p:nvPr/>
            </p:nvGrpSpPr>
            <p:grpSpPr>
              <a:xfrm>
                <a:off x="6359400" y="1866960"/>
                <a:ext cx="487440" cy="609480"/>
                <a:chOff x="6359400" y="1866960"/>
                <a:chExt cx="487440" cy="609480"/>
              </a:xfrm>
            </p:grpSpPr>
            <p:sp>
              <p:nvSpPr>
                <p:cNvPr id="1337" name=""/>
                <p:cNvSpPr/>
                <p:nvPr/>
              </p:nvSpPr>
              <p:spPr>
                <a:xfrm>
                  <a:off x="63594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63594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9" name=""/>
              <p:cNvGrpSpPr/>
              <p:nvPr/>
            </p:nvGrpSpPr>
            <p:grpSpPr>
              <a:xfrm>
                <a:off x="6846840" y="1866960"/>
                <a:ext cx="487440" cy="609480"/>
                <a:chOff x="6846840" y="1866960"/>
                <a:chExt cx="487440" cy="60948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68468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68468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2" name=""/>
              <p:cNvGrpSpPr/>
              <p:nvPr/>
            </p:nvGrpSpPr>
            <p:grpSpPr>
              <a:xfrm>
                <a:off x="7334280" y="1866960"/>
                <a:ext cx="487440" cy="609480"/>
                <a:chOff x="7334280" y="1866960"/>
                <a:chExt cx="487440" cy="609480"/>
              </a:xfrm>
            </p:grpSpPr>
            <p:sp>
              <p:nvSpPr>
                <p:cNvPr id="1343" name=""/>
                <p:cNvSpPr/>
                <p:nvPr/>
              </p:nvSpPr>
              <p:spPr>
                <a:xfrm>
                  <a:off x="73342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73342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45" name=""/>
            <p:cNvGrpSpPr/>
            <p:nvPr/>
          </p:nvGrpSpPr>
          <p:grpSpPr>
            <a:xfrm>
              <a:off x="4897440" y="2637000"/>
              <a:ext cx="2924280" cy="335520"/>
              <a:chOff x="4897440" y="2637000"/>
              <a:chExt cx="2924280" cy="335520"/>
            </a:xfrm>
          </p:grpSpPr>
          <p:sp>
            <p:nvSpPr>
              <p:cNvPr id="1346" name=""/>
              <p:cNvSpPr/>
              <p:nvPr/>
            </p:nvSpPr>
            <p:spPr>
              <a:xfrm>
                <a:off x="4897440" y="2781360"/>
                <a:ext cx="29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022440" y="263700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VP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8" name=""/>
            <p:cNvGrpSpPr/>
            <p:nvPr/>
          </p:nvGrpSpPr>
          <p:grpSpPr>
            <a:xfrm>
              <a:off x="998640" y="2629080"/>
              <a:ext cx="3916440" cy="335520"/>
              <a:chOff x="998640" y="2629080"/>
              <a:chExt cx="3916440" cy="335520"/>
            </a:xfrm>
          </p:grpSpPr>
          <p:sp>
            <p:nvSpPr>
              <p:cNvPr id="1349" name=""/>
              <p:cNvSpPr/>
              <p:nvPr/>
            </p:nvSpPr>
            <p:spPr>
              <a:xfrm>
                <a:off x="998640" y="2773440"/>
                <a:ext cx="3916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2505960" y="262908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VP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1" name=""/>
            <p:cNvGrpSpPr/>
            <p:nvPr/>
          </p:nvGrpSpPr>
          <p:grpSpPr>
            <a:xfrm>
              <a:off x="3919680" y="1658880"/>
              <a:ext cx="992160" cy="307800"/>
              <a:chOff x="3919680" y="1658880"/>
              <a:chExt cx="992160" cy="307800"/>
            </a:xfrm>
          </p:grpSpPr>
          <p:sp>
            <p:nvSpPr>
              <p:cNvPr id="1352" name=""/>
              <p:cNvSpPr/>
              <p:nvPr/>
            </p:nvSpPr>
            <p:spPr>
              <a:xfrm>
                <a:off x="3919680" y="1782720"/>
                <a:ext cx="99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4143600" y="1658880"/>
                <a:ext cx="63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LB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4" name=""/>
            <p:cNvGrpSpPr/>
            <p:nvPr/>
          </p:nvGrpSpPr>
          <p:grpSpPr>
            <a:xfrm>
              <a:off x="998640" y="1638360"/>
              <a:ext cx="2927160" cy="307800"/>
              <a:chOff x="998640" y="1638360"/>
              <a:chExt cx="2927160" cy="307800"/>
            </a:xfrm>
          </p:grpSpPr>
          <p:sp>
            <p:nvSpPr>
              <p:cNvPr id="1355" name=""/>
              <p:cNvSpPr/>
              <p:nvPr/>
            </p:nvSpPr>
            <p:spPr>
              <a:xfrm>
                <a:off x="998640" y="1762200"/>
                <a:ext cx="292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2241720" y="1638360"/>
                <a:ext cx="69804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LB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57" name=""/>
          <p:cNvGrpSpPr/>
          <p:nvPr/>
        </p:nvGrpSpPr>
        <p:grpSpPr>
          <a:xfrm>
            <a:off x="1981080" y="4165560"/>
            <a:ext cx="5865840" cy="1395720"/>
            <a:chOff x="1981080" y="4165560"/>
            <a:chExt cx="5865840" cy="1395720"/>
          </a:xfrm>
        </p:grpSpPr>
        <p:grpSp>
          <p:nvGrpSpPr>
            <p:cNvPr id="1358" name=""/>
            <p:cNvGrpSpPr/>
            <p:nvPr/>
          </p:nvGrpSpPr>
          <p:grpSpPr>
            <a:xfrm>
              <a:off x="1981080" y="4539960"/>
              <a:ext cx="5847840" cy="609480"/>
              <a:chOff x="1981080" y="4539960"/>
              <a:chExt cx="5847840" cy="609480"/>
            </a:xfrm>
          </p:grpSpPr>
          <p:grpSp>
            <p:nvGrpSpPr>
              <p:cNvPr id="1359" name=""/>
              <p:cNvGrpSpPr/>
              <p:nvPr/>
            </p:nvGrpSpPr>
            <p:grpSpPr>
              <a:xfrm>
                <a:off x="1981080" y="4539960"/>
                <a:ext cx="487080" cy="609480"/>
                <a:chOff x="1981080" y="4539960"/>
                <a:chExt cx="487080" cy="609480"/>
              </a:xfrm>
            </p:grpSpPr>
            <p:sp>
              <p:nvSpPr>
                <p:cNvPr id="1360" name=""/>
                <p:cNvSpPr/>
                <p:nvPr/>
              </p:nvSpPr>
              <p:spPr>
                <a:xfrm>
                  <a:off x="19810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19810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2" name=""/>
              <p:cNvGrpSpPr/>
              <p:nvPr/>
            </p:nvGrpSpPr>
            <p:grpSpPr>
              <a:xfrm>
                <a:off x="2468160" y="4539960"/>
                <a:ext cx="487080" cy="609480"/>
                <a:chOff x="2468160" y="4539960"/>
                <a:chExt cx="487080" cy="609480"/>
              </a:xfrm>
            </p:grpSpPr>
            <p:sp>
              <p:nvSpPr>
                <p:cNvPr id="1363" name=""/>
                <p:cNvSpPr/>
                <p:nvPr/>
              </p:nvSpPr>
              <p:spPr>
                <a:xfrm>
                  <a:off x="24681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24681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5" name=""/>
              <p:cNvGrpSpPr/>
              <p:nvPr/>
            </p:nvGrpSpPr>
            <p:grpSpPr>
              <a:xfrm>
                <a:off x="2955600" y="4539960"/>
                <a:ext cx="487080" cy="609480"/>
                <a:chOff x="2955600" y="4539960"/>
                <a:chExt cx="487080" cy="609480"/>
              </a:xfrm>
            </p:grpSpPr>
            <p:sp>
              <p:nvSpPr>
                <p:cNvPr id="1366" name=""/>
                <p:cNvSpPr/>
                <p:nvPr/>
              </p:nvSpPr>
              <p:spPr>
                <a:xfrm>
                  <a:off x="29556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29556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8" name=""/>
              <p:cNvGrpSpPr/>
              <p:nvPr/>
            </p:nvGrpSpPr>
            <p:grpSpPr>
              <a:xfrm>
                <a:off x="3443040" y="4539960"/>
                <a:ext cx="487080" cy="609480"/>
                <a:chOff x="3443040" y="4539960"/>
                <a:chExt cx="487080" cy="609480"/>
              </a:xfrm>
            </p:grpSpPr>
            <p:sp>
              <p:nvSpPr>
                <p:cNvPr id="1369" name=""/>
                <p:cNvSpPr/>
                <p:nvPr/>
              </p:nvSpPr>
              <p:spPr>
                <a:xfrm>
                  <a:off x="34430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34430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1" name=""/>
              <p:cNvGrpSpPr/>
              <p:nvPr/>
            </p:nvGrpSpPr>
            <p:grpSpPr>
              <a:xfrm>
                <a:off x="3930480" y="4539960"/>
                <a:ext cx="486720" cy="609480"/>
                <a:chOff x="3930480" y="4539960"/>
                <a:chExt cx="486720" cy="609480"/>
              </a:xfrm>
            </p:grpSpPr>
            <p:sp>
              <p:nvSpPr>
                <p:cNvPr id="1372" name=""/>
                <p:cNvSpPr/>
                <p:nvPr/>
              </p:nvSpPr>
              <p:spPr>
                <a:xfrm>
                  <a:off x="393048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393048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4" name=""/>
              <p:cNvGrpSpPr/>
              <p:nvPr/>
            </p:nvGrpSpPr>
            <p:grpSpPr>
              <a:xfrm>
                <a:off x="4417560" y="4539960"/>
                <a:ext cx="487080" cy="609480"/>
                <a:chOff x="4417560" y="4539960"/>
                <a:chExt cx="487080" cy="60948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44175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44175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7" name=""/>
              <p:cNvGrpSpPr/>
              <p:nvPr/>
            </p:nvGrpSpPr>
            <p:grpSpPr>
              <a:xfrm>
                <a:off x="4905000" y="4539960"/>
                <a:ext cx="487080" cy="609480"/>
                <a:chOff x="4905000" y="4539960"/>
                <a:chExt cx="487080" cy="609480"/>
              </a:xfrm>
            </p:grpSpPr>
            <p:sp>
              <p:nvSpPr>
                <p:cNvPr id="1378" name=""/>
                <p:cNvSpPr/>
                <p:nvPr/>
              </p:nvSpPr>
              <p:spPr>
                <a:xfrm>
                  <a:off x="49050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49050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0" name=""/>
              <p:cNvGrpSpPr/>
              <p:nvPr/>
            </p:nvGrpSpPr>
            <p:grpSpPr>
              <a:xfrm>
                <a:off x="5392440" y="4539960"/>
                <a:ext cx="487080" cy="609480"/>
                <a:chOff x="5392440" y="4539960"/>
                <a:chExt cx="487080" cy="60948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53924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53924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3" name=""/>
              <p:cNvGrpSpPr/>
              <p:nvPr/>
            </p:nvGrpSpPr>
            <p:grpSpPr>
              <a:xfrm>
                <a:off x="5879880" y="4539960"/>
                <a:ext cx="487080" cy="609480"/>
                <a:chOff x="5879880" y="4539960"/>
                <a:chExt cx="487080" cy="609480"/>
              </a:xfrm>
            </p:grpSpPr>
            <p:sp>
              <p:nvSpPr>
                <p:cNvPr id="1384" name=""/>
                <p:cNvSpPr/>
                <p:nvPr/>
              </p:nvSpPr>
              <p:spPr>
                <a:xfrm>
                  <a:off x="58798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58798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6" name=""/>
              <p:cNvGrpSpPr/>
              <p:nvPr/>
            </p:nvGrpSpPr>
            <p:grpSpPr>
              <a:xfrm>
                <a:off x="6367320" y="4539960"/>
                <a:ext cx="486720" cy="609480"/>
                <a:chOff x="6367320" y="4539960"/>
                <a:chExt cx="486720" cy="609480"/>
              </a:xfrm>
            </p:grpSpPr>
            <p:sp>
              <p:nvSpPr>
                <p:cNvPr id="1387" name=""/>
                <p:cNvSpPr/>
                <p:nvPr/>
              </p:nvSpPr>
              <p:spPr>
                <a:xfrm>
                  <a:off x="636732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636732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9" name=""/>
              <p:cNvGrpSpPr/>
              <p:nvPr/>
            </p:nvGrpSpPr>
            <p:grpSpPr>
              <a:xfrm>
                <a:off x="6854400" y="4539960"/>
                <a:ext cx="487080" cy="609480"/>
                <a:chOff x="6854400" y="4539960"/>
                <a:chExt cx="487080" cy="609480"/>
              </a:xfrm>
            </p:grpSpPr>
            <p:sp>
              <p:nvSpPr>
                <p:cNvPr id="1390" name=""/>
                <p:cNvSpPr/>
                <p:nvPr/>
              </p:nvSpPr>
              <p:spPr>
                <a:xfrm>
                  <a:off x="68544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68544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2" name=""/>
              <p:cNvGrpSpPr/>
              <p:nvPr/>
            </p:nvGrpSpPr>
            <p:grpSpPr>
              <a:xfrm>
                <a:off x="7341840" y="4539960"/>
                <a:ext cx="487080" cy="609480"/>
                <a:chOff x="7341840" y="4539960"/>
                <a:chExt cx="487080" cy="60948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73418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73418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95" name=""/>
            <p:cNvGrpSpPr/>
            <p:nvPr/>
          </p:nvGrpSpPr>
          <p:grpSpPr>
            <a:xfrm>
              <a:off x="4922640" y="5225760"/>
              <a:ext cx="2924280" cy="335520"/>
              <a:chOff x="4922640" y="5225760"/>
              <a:chExt cx="2924280" cy="335520"/>
            </a:xfrm>
          </p:grpSpPr>
          <p:sp>
            <p:nvSpPr>
              <p:cNvPr id="1396" name=""/>
              <p:cNvSpPr/>
              <p:nvPr/>
            </p:nvSpPr>
            <p:spPr>
              <a:xfrm>
                <a:off x="4922640" y="5370480"/>
                <a:ext cx="29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048000" y="522576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P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8" name=""/>
            <p:cNvGrpSpPr/>
            <p:nvPr/>
          </p:nvGrpSpPr>
          <p:grpSpPr>
            <a:xfrm>
              <a:off x="2027160" y="5225760"/>
              <a:ext cx="2923920" cy="335520"/>
              <a:chOff x="2027160" y="5225760"/>
              <a:chExt cx="2923920" cy="335520"/>
            </a:xfrm>
          </p:grpSpPr>
          <p:sp>
            <p:nvSpPr>
              <p:cNvPr id="1399" name=""/>
              <p:cNvSpPr/>
              <p:nvPr/>
            </p:nvSpPr>
            <p:spPr>
              <a:xfrm>
                <a:off x="2027160" y="5370480"/>
                <a:ext cx="29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3152520" y="522576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P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1" name=""/>
            <p:cNvGrpSpPr/>
            <p:nvPr/>
          </p:nvGrpSpPr>
          <p:grpSpPr>
            <a:xfrm>
              <a:off x="6825960" y="4186080"/>
              <a:ext cx="992160" cy="307800"/>
              <a:chOff x="6825960" y="4186080"/>
              <a:chExt cx="992160" cy="307800"/>
            </a:xfrm>
          </p:grpSpPr>
          <p:sp>
            <p:nvSpPr>
              <p:cNvPr id="1402" name=""/>
              <p:cNvSpPr/>
              <p:nvPr/>
            </p:nvSpPr>
            <p:spPr>
              <a:xfrm>
                <a:off x="6825960" y="4309920"/>
                <a:ext cx="99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123320" y="4186080"/>
                <a:ext cx="48456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4" name=""/>
            <p:cNvGrpSpPr/>
            <p:nvPr/>
          </p:nvGrpSpPr>
          <p:grpSpPr>
            <a:xfrm>
              <a:off x="4905000" y="4165560"/>
              <a:ext cx="1927080" cy="307800"/>
              <a:chOff x="4905000" y="4165560"/>
              <a:chExt cx="1927080" cy="307800"/>
            </a:xfrm>
          </p:grpSpPr>
          <p:sp>
            <p:nvSpPr>
              <p:cNvPr id="1405" name=""/>
              <p:cNvSpPr/>
              <p:nvPr/>
            </p:nvSpPr>
            <p:spPr>
              <a:xfrm>
                <a:off x="4905000" y="4289400"/>
                <a:ext cx="192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762520" y="4165560"/>
                <a:ext cx="38412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7" name=""/>
            <p:cNvGrpSpPr/>
            <p:nvPr/>
          </p:nvGrpSpPr>
          <p:grpSpPr>
            <a:xfrm>
              <a:off x="1981080" y="4186080"/>
              <a:ext cx="2894760" cy="307800"/>
              <a:chOff x="1981080" y="4186080"/>
              <a:chExt cx="2894760" cy="307800"/>
            </a:xfrm>
          </p:grpSpPr>
          <p:sp>
            <p:nvSpPr>
              <p:cNvPr id="1408" name=""/>
              <p:cNvSpPr/>
              <p:nvPr/>
            </p:nvSpPr>
            <p:spPr>
              <a:xfrm>
                <a:off x="1981080" y="4309920"/>
                <a:ext cx="289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3332160" y="4186080"/>
                <a:ext cx="45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998280" y="334800"/>
            <a:ext cx="71881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ress Translation Example #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Addre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004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PN 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I 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T 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 Hit? 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Fault? 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N: 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 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T 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t? 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: 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998640" y="1638360"/>
            <a:ext cx="6823080" cy="1334160"/>
            <a:chOff x="998640" y="1638360"/>
            <a:chExt cx="6823080" cy="1334160"/>
          </a:xfrm>
        </p:grpSpPr>
        <p:grpSp>
          <p:nvGrpSpPr>
            <p:cNvPr id="1413" name=""/>
            <p:cNvGrpSpPr/>
            <p:nvPr/>
          </p:nvGrpSpPr>
          <p:grpSpPr>
            <a:xfrm>
              <a:off x="998640" y="1866960"/>
              <a:ext cx="6823080" cy="609480"/>
              <a:chOff x="998640" y="1866960"/>
              <a:chExt cx="6823080" cy="609480"/>
            </a:xfrm>
          </p:grpSpPr>
          <p:grpSp>
            <p:nvGrpSpPr>
              <p:cNvPr id="1414" name=""/>
              <p:cNvGrpSpPr/>
              <p:nvPr/>
            </p:nvGrpSpPr>
            <p:grpSpPr>
              <a:xfrm>
                <a:off x="998640" y="1866960"/>
                <a:ext cx="487440" cy="609480"/>
                <a:chOff x="998640" y="1866960"/>
                <a:chExt cx="487440" cy="609480"/>
              </a:xfrm>
            </p:grpSpPr>
            <p:sp>
              <p:nvSpPr>
                <p:cNvPr id="1415" name=""/>
                <p:cNvSpPr/>
                <p:nvPr/>
              </p:nvSpPr>
              <p:spPr>
                <a:xfrm>
                  <a:off x="9986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9986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7" name=""/>
              <p:cNvGrpSpPr/>
              <p:nvPr/>
            </p:nvGrpSpPr>
            <p:grpSpPr>
              <a:xfrm>
                <a:off x="1486080" y="1866960"/>
                <a:ext cx="487080" cy="609480"/>
                <a:chOff x="1486080" y="1866960"/>
                <a:chExt cx="487080" cy="60948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14860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14860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0" name=""/>
              <p:cNvGrpSpPr/>
              <p:nvPr/>
            </p:nvGrpSpPr>
            <p:grpSpPr>
              <a:xfrm>
                <a:off x="1973160" y="1866960"/>
                <a:ext cx="487440" cy="609480"/>
                <a:chOff x="1973160" y="1866960"/>
                <a:chExt cx="487440" cy="609480"/>
              </a:xfrm>
            </p:grpSpPr>
            <p:sp>
              <p:nvSpPr>
                <p:cNvPr id="1421" name=""/>
                <p:cNvSpPr/>
                <p:nvPr/>
              </p:nvSpPr>
              <p:spPr>
                <a:xfrm>
                  <a:off x="19731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19731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3" name=""/>
              <p:cNvGrpSpPr/>
              <p:nvPr/>
            </p:nvGrpSpPr>
            <p:grpSpPr>
              <a:xfrm>
                <a:off x="2460600" y="1866960"/>
                <a:ext cx="487440" cy="609480"/>
                <a:chOff x="2460600" y="1866960"/>
                <a:chExt cx="487440" cy="609480"/>
              </a:xfrm>
            </p:grpSpPr>
            <p:sp>
              <p:nvSpPr>
                <p:cNvPr id="1424" name=""/>
                <p:cNvSpPr/>
                <p:nvPr/>
              </p:nvSpPr>
              <p:spPr>
                <a:xfrm>
                  <a:off x="24606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24606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6" name=""/>
              <p:cNvGrpSpPr/>
              <p:nvPr/>
            </p:nvGrpSpPr>
            <p:grpSpPr>
              <a:xfrm>
                <a:off x="2948040" y="1866960"/>
                <a:ext cx="487440" cy="609480"/>
                <a:chOff x="2948040" y="1866960"/>
                <a:chExt cx="487440" cy="609480"/>
              </a:xfrm>
            </p:grpSpPr>
            <p:sp>
              <p:nvSpPr>
                <p:cNvPr id="1427" name=""/>
                <p:cNvSpPr/>
                <p:nvPr/>
              </p:nvSpPr>
              <p:spPr>
                <a:xfrm>
                  <a:off x="29480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29480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9" name=""/>
              <p:cNvGrpSpPr/>
              <p:nvPr/>
            </p:nvGrpSpPr>
            <p:grpSpPr>
              <a:xfrm>
                <a:off x="3435480" y="1866960"/>
                <a:ext cx="487080" cy="609480"/>
                <a:chOff x="3435480" y="1866960"/>
                <a:chExt cx="487080" cy="609480"/>
              </a:xfrm>
            </p:grpSpPr>
            <p:sp>
              <p:nvSpPr>
                <p:cNvPr id="1430" name=""/>
                <p:cNvSpPr/>
                <p:nvPr/>
              </p:nvSpPr>
              <p:spPr>
                <a:xfrm>
                  <a:off x="34354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34354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2" name=""/>
              <p:cNvGrpSpPr/>
              <p:nvPr/>
            </p:nvGrpSpPr>
            <p:grpSpPr>
              <a:xfrm>
                <a:off x="3922560" y="1866960"/>
                <a:ext cx="487440" cy="609480"/>
                <a:chOff x="3922560" y="1866960"/>
                <a:chExt cx="487440" cy="609480"/>
              </a:xfrm>
            </p:grpSpPr>
            <p:sp>
              <p:nvSpPr>
                <p:cNvPr id="1433" name=""/>
                <p:cNvSpPr/>
                <p:nvPr/>
              </p:nvSpPr>
              <p:spPr>
                <a:xfrm>
                  <a:off x="39225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39225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5" name=""/>
              <p:cNvGrpSpPr/>
              <p:nvPr/>
            </p:nvGrpSpPr>
            <p:grpSpPr>
              <a:xfrm>
                <a:off x="4410000" y="1866960"/>
                <a:ext cx="487440" cy="609480"/>
                <a:chOff x="4410000" y="1866960"/>
                <a:chExt cx="487440" cy="609480"/>
              </a:xfrm>
            </p:grpSpPr>
            <p:sp>
              <p:nvSpPr>
                <p:cNvPr id="1436" name=""/>
                <p:cNvSpPr/>
                <p:nvPr/>
              </p:nvSpPr>
              <p:spPr>
                <a:xfrm>
                  <a:off x="44100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44100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8" name=""/>
              <p:cNvGrpSpPr/>
              <p:nvPr/>
            </p:nvGrpSpPr>
            <p:grpSpPr>
              <a:xfrm>
                <a:off x="4897440" y="1866960"/>
                <a:ext cx="487440" cy="609480"/>
                <a:chOff x="4897440" y="1866960"/>
                <a:chExt cx="487440" cy="609480"/>
              </a:xfrm>
            </p:grpSpPr>
            <p:sp>
              <p:nvSpPr>
                <p:cNvPr id="1439" name=""/>
                <p:cNvSpPr/>
                <p:nvPr/>
              </p:nvSpPr>
              <p:spPr>
                <a:xfrm>
                  <a:off x="48974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48974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1" name=""/>
              <p:cNvGrpSpPr/>
              <p:nvPr/>
            </p:nvGrpSpPr>
            <p:grpSpPr>
              <a:xfrm>
                <a:off x="5384880" y="1866960"/>
                <a:ext cx="487440" cy="609480"/>
                <a:chOff x="5384880" y="1866960"/>
                <a:chExt cx="487440" cy="609480"/>
              </a:xfrm>
            </p:grpSpPr>
            <p:sp>
              <p:nvSpPr>
                <p:cNvPr id="1442" name=""/>
                <p:cNvSpPr/>
                <p:nvPr/>
              </p:nvSpPr>
              <p:spPr>
                <a:xfrm>
                  <a:off x="53848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53848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4" name=""/>
              <p:cNvGrpSpPr/>
              <p:nvPr/>
            </p:nvGrpSpPr>
            <p:grpSpPr>
              <a:xfrm>
                <a:off x="5872320" y="1866960"/>
                <a:ext cx="487080" cy="609480"/>
                <a:chOff x="5872320" y="1866960"/>
                <a:chExt cx="487080" cy="609480"/>
              </a:xfrm>
            </p:grpSpPr>
            <p:sp>
              <p:nvSpPr>
                <p:cNvPr id="1445" name=""/>
                <p:cNvSpPr/>
                <p:nvPr/>
              </p:nvSpPr>
              <p:spPr>
                <a:xfrm>
                  <a:off x="587232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587232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7" name=""/>
              <p:cNvGrpSpPr/>
              <p:nvPr/>
            </p:nvGrpSpPr>
            <p:grpSpPr>
              <a:xfrm>
                <a:off x="6359400" y="1866960"/>
                <a:ext cx="487440" cy="609480"/>
                <a:chOff x="6359400" y="1866960"/>
                <a:chExt cx="487440" cy="609480"/>
              </a:xfrm>
            </p:grpSpPr>
            <p:sp>
              <p:nvSpPr>
                <p:cNvPr id="1448" name=""/>
                <p:cNvSpPr/>
                <p:nvPr/>
              </p:nvSpPr>
              <p:spPr>
                <a:xfrm>
                  <a:off x="63594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63594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0" name=""/>
              <p:cNvGrpSpPr/>
              <p:nvPr/>
            </p:nvGrpSpPr>
            <p:grpSpPr>
              <a:xfrm>
                <a:off x="6846840" y="1866960"/>
                <a:ext cx="487440" cy="609480"/>
                <a:chOff x="6846840" y="1866960"/>
                <a:chExt cx="487440" cy="609480"/>
              </a:xfrm>
            </p:grpSpPr>
            <p:sp>
              <p:nvSpPr>
                <p:cNvPr id="1451" name=""/>
                <p:cNvSpPr/>
                <p:nvPr/>
              </p:nvSpPr>
              <p:spPr>
                <a:xfrm>
                  <a:off x="68468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68468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3" name=""/>
              <p:cNvGrpSpPr/>
              <p:nvPr/>
            </p:nvGrpSpPr>
            <p:grpSpPr>
              <a:xfrm>
                <a:off x="7334280" y="1866960"/>
                <a:ext cx="487440" cy="609480"/>
                <a:chOff x="7334280" y="1866960"/>
                <a:chExt cx="487440" cy="609480"/>
              </a:xfrm>
            </p:grpSpPr>
            <p:sp>
              <p:nvSpPr>
                <p:cNvPr id="1454" name=""/>
                <p:cNvSpPr/>
                <p:nvPr/>
              </p:nvSpPr>
              <p:spPr>
                <a:xfrm>
                  <a:off x="73342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73342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56" name=""/>
            <p:cNvGrpSpPr/>
            <p:nvPr/>
          </p:nvGrpSpPr>
          <p:grpSpPr>
            <a:xfrm>
              <a:off x="4897440" y="2637000"/>
              <a:ext cx="2924280" cy="335520"/>
              <a:chOff x="4897440" y="2637000"/>
              <a:chExt cx="2924280" cy="335520"/>
            </a:xfrm>
          </p:grpSpPr>
          <p:sp>
            <p:nvSpPr>
              <p:cNvPr id="1457" name=""/>
              <p:cNvSpPr/>
              <p:nvPr/>
            </p:nvSpPr>
            <p:spPr>
              <a:xfrm>
                <a:off x="4897440" y="2781360"/>
                <a:ext cx="29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6022440" y="263700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VP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9" name=""/>
            <p:cNvGrpSpPr/>
            <p:nvPr/>
          </p:nvGrpSpPr>
          <p:grpSpPr>
            <a:xfrm>
              <a:off x="998640" y="2629080"/>
              <a:ext cx="3916440" cy="335520"/>
              <a:chOff x="998640" y="2629080"/>
              <a:chExt cx="3916440" cy="335520"/>
            </a:xfrm>
          </p:grpSpPr>
          <p:sp>
            <p:nvSpPr>
              <p:cNvPr id="1460" name=""/>
              <p:cNvSpPr/>
              <p:nvPr/>
            </p:nvSpPr>
            <p:spPr>
              <a:xfrm>
                <a:off x="998640" y="2773440"/>
                <a:ext cx="3916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2505960" y="262908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VP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2" name=""/>
            <p:cNvGrpSpPr/>
            <p:nvPr/>
          </p:nvGrpSpPr>
          <p:grpSpPr>
            <a:xfrm>
              <a:off x="3919680" y="1658880"/>
              <a:ext cx="992160" cy="307800"/>
              <a:chOff x="3919680" y="1658880"/>
              <a:chExt cx="992160" cy="307800"/>
            </a:xfrm>
          </p:grpSpPr>
          <p:sp>
            <p:nvSpPr>
              <p:cNvPr id="1463" name=""/>
              <p:cNvSpPr/>
              <p:nvPr/>
            </p:nvSpPr>
            <p:spPr>
              <a:xfrm>
                <a:off x="3919680" y="1782720"/>
                <a:ext cx="99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4143600" y="1658880"/>
                <a:ext cx="63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LB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5" name=""/>
            <p:cNvGrpSpPr/>
            <p:nvPr/>
          </p:nvGrpSpPr>
          <p:grpSpPr>
            <a:xfrm>
              <a:off x="998640" y="1638360"/>
              <a:ext cx="2927160" cy="307800"/>
              <a:chOff x="998640" y="1638360"/>
              <a:chExt cx="2927160" cy="307800"/>
            </a:xfrm>
          </p:grpSpPr>
          <p:sp>
            <p:nvSpPr>
              <p:cNvPr id="1466" name=""/>
              <p:cNvSpPr/>
              <p:nvPr/>
            </p:nvSpPr>
            <p:spPr>
              <a:xfrm>
                <a:off x="998640" y="1762200"/>
                <a:ext cx="292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2241720" y="1638360"/>
                <a:ext cx="69804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LB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8" name=""/>
          <p:cNvGrpSpPr/>
          <p:nvPr/>
        </p:nvGrpSpPr>
        <p:grpSpPr>
          <a:xfrm>
            <a:off x="1981080" y="4165560"/>
            <a:ext cx="5865840" cy="1395720"/>
            <a:chOff x="1981080" y="4165560"/>
            <a:chExt cx="5865840" cy="1395720"/>
          </a:xfrm>
        </p:grpSpPr>
        <p:grpSp>
          <p:nvGrpSpPr>
            <p:cNvPr id="1469" name=""/>
            <p:cNvGrpSpPr/>
            <p:nvPr/>
          </p:nvGrpSpPr>
          <p:grpSpPr>
            <a:xfrm>
              <a:off x="1981080" y="4539960"/>
              <a:ext cx="5847840" cy="609480"/>
              <a:chOff x="1981080" y="4539960"/>
              <a:chExt cx="5847840" cy="609480"/>
            </a:xfrm>
          </p:grpSpPr>
          <p:grpSp>
            <p:nvGrpSpPr>
              <p:cNvPr id="1470" name=""/>
              <p:cNvGrpSpPr/>
              <p:nvPr/>
            </p:nvGrpSpPr>
            <p:grpSpPr>
              <a:xfrm>
                <a:off x="1981080" y="4539960"/>
                <a:ext cx="487080" cy="609480"/>
                <a:chOff x="1981080" y="4539960"/>
                <a:chExt cx="487080" cy="609480"/>
              </a:xfrm>
            </p:grpSpPr>
            <p:sp>
              <p:nvSpPr>
                <p:cNvPr id="1471" name=""/>
                <p:cNvSpPr/>
                <p:nvPr/>
              </p:nvSpPr>
              <p:spPr>
                <a:xfrm>
                  <a:off x="19810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19810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3" name=""/>
              <p:cNvGrpSpPr/>
              <p:nvPr/>
            </p:nvGrpSpPr>
            <p:grpSpPr>
              <a:xfrm>
                <a:off x="2468160" y="4539960"/>
                <a:ext cx="487080" cy="609480"/>
                <a:chOff x="2468160" y="4539960"/>
                <a:chExt cx="487080" cy="609480"/>
              </a:xfrm>
            </p:grpSpPr>
            <p:sp>
              <p:nvSpPr>
                <p:cNvPr id="1474" name=""/>
                <p:cNvSpPr/>
                <p:nvPr/>
              </p:nvSpPr>
              <p:spPr>
                <a:xfrm>
                  <a:off x="24681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24681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6" name=""/>
              <p:cNvGrpSpPr/>
              <p:nvPr/>
            </p:nvGrpSpPr>
            <p:grpSpPr>
              <a:xfrm>
                <a:off x="2955600" y="4539960"/>
                <a:ext cx="487080" cy="609480"/>
                <a:chOff x="2955600" y="4539960"/>
                <a:chExt cx="487080" cy="609480"/>
              </a:xfrm>
            </p:grpSpPr>
            <p:sp>
              <p:nvSpPr>
                <p:cNvPr id="1477" name=""/>
                <p:cNvSpPr/>
                <p:nvPr/>
              </p:nvSpPr>
              <p:spPr>
                <a:xfrm>
                  <a:off x="29556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29556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9" name=""/>
              <p:cNvGrpSpPr/>
              <p:nvPr/>
            </p:nvGrpSpPr>
            <p:grpSpPr>
              <a:xfrm>
                <a:off x="3443040" y="4539960"/>
                <a:ext cx="487080" cy="609480"/>
                <a:chOff x="3443040" y="4539960"/>
                <a:chExt cx="487080" cy="609480"/>
              </a:xfrm>
            </p:grpSpPr>
            <p:sp>
              <p:nvSpPr>
                <p:cNvPr id="1480" name=""/>
                <p:cNvSpPr/>
                <p:nvPr/>
              </p:nvSpPr>
              <p:spPr>
                <a:xfrm>
                  <a:off x="34430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34430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2" name=""/>
              <p:cNvGrpSpPr/>
              <p:nvPr/>
            </p:nvGrpSpPr>
            <p:grpSpPr>
              <a:xfrm>
                <a:off x="3930480" y="4539960"/>
                <a:ext cx="486720" cy="609480"/>
                <a:chOff x="3930480" y="4539960"/>
                <a:chExt cx="486720" cy="609480"/>
              </a:xfrm>
            </p:grpSpPr>
            <p:sp>
              <p:nvSpPr>
                <p:cNvPr id="1483" name=""/>
                <p:cNvSpPr/>
                <p:nvPr/>
              </p:nvSpPr>
              <p:spPr>
                <a:xfrm>
                  <a:off x="393048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393048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5" name=""/>
              <p:cNvGrpSpPr/>
              <p:nvPr/>
            </p:nvGrpSpPr>
            <p:grpSpPr>
              <a:xfrm>
                <a:off x="4417560" y="4539960"/>
                <a:ext cx="487080" cy="609480"/>
                <a:chOff x="4417560" y="4539960"/>
                <a:chExt cx="487080" cy="609480"/>
              </a:xfrm>
            </p:grpSpPr>
            <p:sp>
              <p:nvSpPr>
                <p:cNvPr id="1486" name=""/>
                <p:cNvSpPr/>
                <p:nvPr/>
              </p:nvSpPr>
              <p:spPr>
                <a:xfrm>
                  <a:off x="44175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44175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8" name=""/>
              <p:cNvGrpSpPr/>
              <p:nvPr/>
            </p:nvGrpSpPr>
            <p:grpSpPr>
              <a:xfrm>
                <a:off x="4905000" y="4539960"/>
                <a:ext cx="487080" cy="609480"/>
                <a:chOff x="4905000" y="4539960"/>
                <a:chExt cx="487080" cy="609480"/>
              </a:xfrm>
            </p:grpSpPr>
            <p:sp>
              <p:nvSpPr>
                <p:cNvPr id="1489" name=""/>
                <p:cNvSpPr/>
                <p:nvPr/>
              </p:nvSpPr>
              <p:spPr>
                <a:xfrm>
                  <a:off x="49050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49050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1" name=""/>
              <p:cNvGrpSpPr/>
              <p:nvPr/>
            </p:nvGrpSpPr>
            <p:grpSpPr>
              <a:xfrm>
                <a:off x="5392440" y="4539960"/>
                <a:ext cx="487080" cy="609480"/>
                <a:chOff x="5392440" y="4539960"/>
                <a:chExt cx="487080" cy="609480"/>
              </a:xfrm>
            </p:grpSpPr>
            <p:sp>
              <p:nvSpPr>
                <p:cNvPr id="1492" name=""/>
                <p:cNvSpPr/>
                <p:nvPr/>
              </p:nvSpPr>
              <p:spPr>
                <a:xfrm>
                  <a:off x="53924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53924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4" name=""/>
              <p:cNvGrpSpPr/>
              <p:nvPr/>
            </p:nvGrpSpPr>
            <p:grpSpPr>
              <a:xfrm>
                <a:off x="5879880" y="4539960"/>
                <a:ext cx="487080" cy="609480"/>
                <a:chOff x="5879880" y="4539960"/>
                <a:chExt cx="487080" cy="609480"/>
              </a:xfrm>
            </p:grpSpPr>
            <p:sp>
              <p:nvSpPr>
                <p:cNvPr id="1495" name=""/>
                <p:cNvSpPr/>
                <p:nvPr/>
              </p:nvSpPr>
              <p:spPr>
                <a:xfrm>
                  <a:off x="58798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58798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7" name=""/>
              <p:cNvGrpSpPr/>
              <p:nvPr/>
            </p:nvGrpSpPr>
            <p:grpSpPr>
              <a:xfrm>
                <a:off x="6367320" y="4539960"/>
                <a:ext cx="486720" cy="609480"/>
                <a:chOff x="6367320" y="4539960"/>
                <a:chExt cx="486720" cy="609480"/>
              </a:xfrm>
            </p:grpSpPr>
            <p:sp>
              <p:nvSpPr>
                <p:cNvPr id="1498" name=""/>
                <p:cNvSpPr/>
                <p:nvPr/>
              </p:nvSpPr>
              <p:spPr>
                <a:xfrm>
                  <a:off x="636732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636732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0" name=""/>
              <p:cNvGrpSpPr/>
              <p:nvPr/>
            </p:nvGrpSpPr>
            <p:grpSpPr>
              <a:xfrm>
                <a:off x="6854400" y="4539960"/>
                <a:ext cx="487080" cy="609480"/>
                <a:chOff x="6854400" y="4539960"/>
                <a:chExt cx="487080" cy="609480"/>
              </a:xfrm>
            </p:grpSpPr>
            <p:sp>
              <p:nvSpPr>
                <p:cNvPr id="1501" name=""/>
                <p:cNvSpPr/>
                <p:nvPr/>
              </p:nvSpPr>
              <p:spPr>
                <a:xfrm>
                  <a:off x="68544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68544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3" name=""/>
              <p:cNvGrpSpPr/>
              <p:nvPr/>
            </p:nvGrpSpPr>
            <p:grpSpPr>
              <a:xfrm>
                <a:off x="7341840" y="4539960"/>
                <a:ext cx="487080" cy="609480"/>
                <a:chOff x="7341840" y="4539960"/>
                <a:chExt cx="487080" cy="609480"/>
              </a:xfrm>
            </p:grpSpPr>
            <p:sp>
              <p:nvSpPr>
                <p:cNvPr id="1504" name=""/>
                <p:cNvSpPr/>
                <p:nvPr/>
              </p:nvSpPr>
              <p:spPr>
                <a:xfrm>
                  <a:off x="73418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73418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06" name=""/>
            <p:cNvGrpSpPr/>
            <p:nvPr/>
          </p:nvGrpSpPr>
          <p:grpSpPr>
            <a:xfrm>
              <a:off x="4922640" y="5225760"/>
              <a:ext cx="2924280" cy="335520"/>
              <a:chOff x="4922640" y="5225760"/>
              <a:chExt cx="2924280" cy="335520"/>
            </a:xfrm>
          </p:grpSpPr>
          <p:sp>
            <p:nvSpPr>
              <p:cNvPr id="1507" name=""/>
              <p:cNvSpPr/>
              <p:nvPr/>
            </p:nvSpPr>
            <p:spPr>
              <a:xfrm>
                <a:off x="4922640" y="5370480"/>
                <a:ext cx="29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048000" y="522576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P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9" name=""/>
            <p:cNvGrpSpPr/>
            <p:nvPr/>
          </p:nvGrpSpPr>
          <p:grpSpPr>
            <a:xfrm>
              <a:off x="2027160" y="5225760"/>
              <a:ext cx="2923920" cy="335520"/>
              <a:chOff x="2027160" y="5225760"/>
              <a:chExt cx="2923920" cy="335520"/>
            </a:xfrm>
          </p:grpSpPr>
          <p:sp>
            <p:nvSpPr>
              <p:cNvPr id="1510" name=""/>
              <p:cNvSpPr/>
              <p:nvPr/>
            </p:nvSpPr>
            <p:spPr>
              <a:xfrm>
                <a:off x="2027160" y="5370480"/>
                <a:ext cx="29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152520" y="522576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P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2" name=""/>
            <p:cNvGrpSpPr/>
            <p:nvPr/>
          </p:nvGrpSpPr>
          <p:grpSpPr>
            <a:xfrm>
              <a:off x="6825960" y="4186080"/>
              <a:ext cx="992160" cy="307800"/>
              <a:chOff x="6825960" y="4186080"/>
              <a:chExt cx="992160" cy="307800"/>
            </a:xfrm>
          </p:grpSpPr>
          <p:sp>
            <p:nvSpPr>
              <p:cNvPr id="1513" name=""/>
              <p:cNvSpPr/>
              <p:nvPr/>
            </p:nvSpPr>
            <p:spPr>
              <a:xfrm>
                <a:off x="6825960" y="4309920"/>
                <a:ext cx="99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7123320" y="4186080"/>
                <a:ext cx="48456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5" name=""/>
            <p:cNvGrpSpPr/>
            <p:nvPr/>
          </p:nvGrpSpPr>
          <p:grpSpPr>
            <a:xfrm>
              <a:off x="4905000" y="4165560"/>
              <a:ext cx="1927080" cy="307800"/>
              <a:chOff x="4905000" y="4165560"/>
              <a:chExt cx="1927080" cy="307800"/>
            </a:xfrm>
          </p:grpSpPr>
          <p:sp>
            <p:nvSpPr>
              <p:cNvPr id="1516" name=""/>
              <p:cNvSpPr/>
              <p:nvPr/>
            </p:nvSpPr>
            <p:spPr>
              <a:xfrm>
                <a:off x="4905000" y="4289400"/>
                <a:ext cx="192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5762520" y="4165560"/>
                <a:ext cx="38412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8" name=""/>
            <p:cNvGrpSpPr/>
            <p:nvPr/>
          </p:nvGrpSpPr>
          <p:grpSpPr>
            <a:xfrm>
              <a:off x="1981080" y="4186080"/>
              <a:ext cx="2894760" cy="307800"/>
              <a:chOff x="1981080" y="4186080"/>
              <a:chExt cx="2894760" cy="307800"/>
            </a:xfrm>
          </p:grpSpPr>
          <p:sp>
            <p:nvSpPr>
              <p:cNvPr id="1519" name=""/>
              <p:cNvSpPr/>
              <p:nvPr/>
            </p:nvSpPr>
            <p:spPr>
              <a:xfrm>
                <a:off x="1981080" y="4309920"/>
                <a:ext cx="289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3332160" y="4186080"/>
                <a:ext cx="45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1938240" y="334800"/>
            <a:ext cx="5308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-Level Page Tab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44240" y="1066320"/>
            <a:ext cx="47228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KB (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page 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-bit address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-byte PT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uld need a 4 MB page table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4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-level page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2-level table (P6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 table: 1024 entries, each of which points to a Level 2 pag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 table:  1024 entries, each of which points to 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5029200" y="2971800"/>
            <a:ext cx="95580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5167440" y="3657600"/>
            <a:ext cx="6998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7010280" y="2286000"/>
            <a:ext cx="700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010280" y="3657600"/>
            <a:ext cx="700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010280" y="5181480"/>
            <a:ext cx="700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7185960" y="4782960"/>
            <a:ext cx="373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816600" y="1447920"/>
            <a:ext cx="95580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5867280" y="2285640"/>
            <a:ext cx="11430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V="1">
            <a:off x="5867280" y="365724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5867280" y="4718160"/>
            <a:ext cx="1143000" cy="46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3081240" y="334800"/>
            <a:ext cx="3022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n Them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mer’s 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“flat” address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llocate large blocks of contiguous 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r “owns” mach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private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ffected by behavior of other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virtual address space created by mapping to set of p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not be contigu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ed dyna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force protection during address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manages many processes simultaneous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ally switching among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cially when one must wait for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disk I/O to handle page 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79240" y="304920"/>
            <a:ext cx="61974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vels in Memory Hierarch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19320" y="284940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114640" y="2306520"/>
            <a:ext cx="982440" cy="993960"/>
            <a:chOff x="2114640" y="2306520"/>
            <a:chExt cx="982440" cy="993960"/>
          </a:xfrm>
        </p:grpSpPr>
        <p:sp>
          <p:nvSpPr>
            <p:cNvPr id="70" name=""/>
            <p:cNvSpPr/>
            <p:nvPr/>
          </p:nvSpPr>
          <p:spPr>
            <a:xfrm>
              <a:off x="2114640" y="2306520"/>
              <a:ext cx="982440" cy="99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7440" y="2946240"/>
              <a:ext cx="636840" cy="252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g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892680" y="2306520"/>
            <a:ext cx="297000" cy="1307880"/>
            <a:chOff x="3892680" y="2306520"/>
            <a:chExt cx="297000" cy="1307880"/>
          </a:xfrm>
        </p:grpSpPr>
        <p:sp>
          <p:nvSpPr>
            <p:cNvPr id="73" name=""/>
            <p:cNvSpPr/>
            <p:nvPr/>
          </p:nvSpPr>
          <p:spPr>
            <a:xfrm>
              <a:off x="3892680" y="2306520"/>
              <a:ext cx="271440" cy="130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14640" y="2404080"/>
              <a:ext cx="275040" cy="11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968720" y="2306520"/>
            <a:ext cx="963720" cy="102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15000" y="2550960"/>
            <a:ext cx="1328760" cy="596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4760" y="4116240"/>
            <a:ext cx="10684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Mby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si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11480" y="4116240"/>
            <a:ext cx="650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3751200"/>
            <a:ext cx="1158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640" y="3751200"/>
            <a:ext cx="86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69080" y="3751200"/>
            <a:ext cx="105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45960" y="3751200"/>
            <a:ext cx="160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9400" y="4116240"/>
            <a:ext cx="1348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KB-4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00/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31000" y="4116240"/>
            <a:ext cx="11584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 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.25/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 K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83840" y="4116240"/>
            <a:ext cx="12848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0.008/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35240" y="5791320"/>
            <a:ext cx="5587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21480" y="5464080"/>
            <a:ext cx="250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r, slower, che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61600" y="2592360"/>
            <a:ext cx="449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04240" y="2592360"/>
            <a:ext cx="54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81120" y="2592360"/>
            <a:ext cx="568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K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44960" y="1905120"/>
            <a:ext cx="1282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68840" y="190512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53400" y="1501920"/>
            <a:ext cx="789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77640" y="1501920"/>
            <a:ext cx="1677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48840" y="334800"/>
            <a:ext cx="67057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RAM vs. SRAM as a “Cache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M vs. disk is more extreme than SRAM vs. D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latenci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M ~10X slower than S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~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,000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ower than D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ce of exploiting spatial locality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byte is ~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,000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ower than successive bytes on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~4X improvement for page-mode vs. regular accesses to D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tom line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decisions made for DRAM caches driven by enormous cost of mi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4925880"/>
            <a:ext cx="1131840" cy="11322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54864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05680" y="5307120"/>
            <a:ext cx="865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5257800"/>
            <a:ext cx="849240" cy="44136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334120"/>
            <a:ext cx="853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10080" y="4976640"/>
            <a:ext cx="2124360" cy="1016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10080" y="4724280"/>
            <a:ext cx="2124360" cy="341280"/>
          </a:xfrm>
          <a:prstGeom prst="ellipse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4916520"/>
            <a:ext cx="0" cy="1076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34440" y="4916520"/>
            <a:ext cx="0" cy="1076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5992920"/>
            <a:ext cx="2124360" cy="239760"/>
          </a:xfrm>
          <a:custGeom>
            <a:avLst/>
            <a:gdLst/>
            <a:ahLst/>
            <a:rect l="l" t="t" r="r" b="b"/>
            <a:pathLst>
              <a:path w="816" h="84">
                <a:moveTo>
                  <a:pt x="0" y="0"/>
                </a:moveTo>
                <a:cubicBezTo>
                  <a:pt x="25" y="10"/>
                  <a:pt x="81" y="46"/>
                  <a:pt x="150" y="60"/>
                </a:cubicBezTo>
                <a:cubicBezTo>
                  <a:pt x="219" y="74"/>
                  <a:pt x="326" y="84"/>
                  <a:pt x="414" y="84"/>
                </a:cubicBezTo>
                <a:cubicBezTo>
                  <a:pt x="502" y="84"/>
                  <a:pt x="611" y="74"/>
                  <a:pt x="678" y="60"/>
                </a:cubicBezTo>
                <a:cubicBezTo>
                  <a:pt x="745" y="46"/>
                  <a:pt x="787" y="12"/>
                  <a:pt x="816" y="0"/>
                </a:cubicBezTo>
              </a:path>
            </a:pathLst>
          </a:custGeom>
          <a:solidFill>
            <a:srgbClr val="c0c0c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6240" y="530712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54864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1280" y="334800"/>
            <a:ext cx="8331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act of These Properties on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DRAM was to be organized similar to an SRAM cache, how would we set the following design parameter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e size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, since disk better at transferring large b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ociativit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, to mimimize miss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 through or write back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back, since can’t afford to perform small writes to d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the impact of these choices be 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ss r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emely low.  &lt;&lt; 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t ti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st match cache/DRAM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ss laten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high.  ~20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 storage overhe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, relative to block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36440" y="334800"/>
            <a:ext cx="7111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cating an Object in a “Cache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RAM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 stored with cache 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s from cache block to memory bl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ached to uncached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tag for block not in ca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 retrieves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quickly match against multiple 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295280" y="3962520"/>
            <a:ext cx="1577520" cy="700560"/>
            <a:chOff x="1295280" y="3962520"/>
            <a:chExt cx="1577520" cy="700560"/>
          </a:xfrm>
        </p:grpSpPr>
        <p:sp>
          <p:nvSpPr>
            <p:cNvPr id="114" name=""/>
            <p:cNvSpPr/>
            <p:nvPr/>
          </p:nvSpPr>
          <p:spPr>
            <a:xfrm>
              <a:off x="1599840" y="4343400"/>
              <a:ext cx="91440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90360" y="4327560"/>
              <a:ext cx="33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95280" y="3962520"/>
              <a:ext cx="1577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Objec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276000" y="3124080"/>
            <a:ext cx="4572720" cy="2286000"/>
            <a:chOff x="3276000" y="3124080"/>
            <a:chExt cx="4572720" cy="2286000"/>
          </a:xfrm>
        </p:grpSpPr>
        <p:sp>
          <p:nvSpPr>
            <p:cNvPr id="118" name=""/>
            <p:cNvSpPr/>
            <p:nvPr/>
          </p:nvSpPr>
          <p:spPr>
            <a:xfrm>
              <a:off x="4952880" y="3504960"/>
              <a:ext cx="2895840" cy="1905120"/>
            </a:xfrm>
            <a:prstGeom prst="rect">
              <a:avLst/>
            </a:prstGeom>
            <a:solidFill>
              <a:srgbClr val="dadad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38320" y="3504960"/>
              <a:ext cx="588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06080" y="3504960"/>
              <a:ext cx="675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5486400" y="3886200"/>
              <a:ext cx="2209680" cy="335520"/>
              <a:chOff x="5486400" y="3886200"/>
              <a:chExt cx="2209680" cy="335520"/>
            </a:xfrm>
          </p:grpSpPr>
          <p:sp>
            <p:nvSpPr>
              <p:cNvPr id="122" name=""/>
              <p:cNvSpPr/>
              <p:nvPr/>
            </p:nvSpPr>
            <p:spPr>
              <a:xfrm>
                <a:off x="5486400" y="3886200"/>
                <a:ext cx="91440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400800" y="3886200"/>
                <a:ext cx="129528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91320" y="3886200"/>
                <a:ext cx="345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782040" y="3886200"/>
                <a:ext cx="560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4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486400" y="4267080"/>
              <a:ext cx="2209680" cy="335520"/>
              <a:chOff x="5486400" y="4267080"/>
              <a:chExt cx="2209680" cy="335520"/>
            </a:xfrm>
          </p:grpSpPr>
          <p:sp>
            <p:nvSpPr>
              <p:cNvPr id="127" name=""/>
              <p:cNvSpPr/>
              <p:nvPr/>
            </p:nvSpPr>
            <p:spPr>
              <a:xfrm>
                <a:off x="5486400" y="4267080"/>
                <a:ext cx="91440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00800" y="4267080"/>
                <a:ext cx="129528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91320" y="4267080"/>
                <a:ext cx="3337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781680" y="4267080"/>
                <a:ext cx="4986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5486400" y="5029200"/>
              <a:ext cx="2209680" cy="335520"/>
              <a:chOff x="5486400" y="5029200"/>
              <a:chExt cx="2209680" cy="335520"/>
            </a:xfrm>
          </p:grpSpPr>
          <p:sp>
            <p:nvSpPr>
              <p:cNvPr id="132" name=""/>
              <p:cNvSpPr/>
              <p:nvPr/>
            </p:nvSpPr>
            <p:spPr>
              <a:xfrm>
                <a:off x="5486400" y="5029200"/>
                <a:ext cx="91440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400800" y="5029200"/>
                <a:ext cx="129528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791320" y="5029200"/>
                <a:ext cx="3078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782040" y="5029200"/>
                <a:ext cx="560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5867280" y="457200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34320" y="4572000"/>
              <a:ext cx="245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952880" y="388620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52880" y="426708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76920" y="5029200"/>
              <a:ext cx="624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-1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4266720" y="4114800"/>
              <a:ext cx="12193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4267080" y="4343040"/>
              <a:ext cx="1219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67080" y="4419360"/>
              <a:ext cx="121932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038120" y="441936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76000" y="4267080"/>
              <a:ext cx="725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= X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3960" y="3124080"/>
              <a:ext cx="1094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che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 flipH="1">
            <a:off x="7467120" y="24382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7560" y="334800"/>
            <a:ext cx="86360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cating an Object in a “Cache”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562720" y="4419720"/>
            <a:ext cx="2057400" cy="1904760"/>
            <a:chOff x="5562720" y="4419720"/>
            <a:chExt cx="2057400" cy="1904760"/>
          </a:xfrm>
        </p:grpSpPr>
        <p:sp>
          <p:nvSpPr>
            <p:cNvPr id="150" name=""/>
            <p:cNvSpPr/>
            <p:nvPr/>
          </p:nvSpPr>
          <p:spPr>
            <a:xfrm>
              <a:off x="5638680" y="4419720"/>
              <a:ext cx="1981440" cy="1904760"/>
            </a:xfrm>
            <a:prstGeom prst="rect">
              <a:avLst/>
            </a:prstGeom>
            <a:solidFill>
              <a:srgbClr val="dadad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77480" y="4419720"/>
              <a:ext cx="675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72200" y="4800600"/>
              <a:ext cx="1295280" cy="304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53440" y="4800600"/>
              <a:ext cx="56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72200" y="5181480"/>
              <a:ext cx="129528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5181480"/>
              <a:ext cx="498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72200" y="5943600"/>
              <a:ext cx="1295280" cy="304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53440" y="5943600"/>
              <a:ext cx="56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05720" y="5486400"/>
              <a:ext cx="245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5562720" y="4800600"/>
              <a:ext cx="624960" cy="1478160"/>
              <a:chOff x="5562720" y="4800600"/>
              <a:chExt cx="624960" cy="1478160"/>
            </a:xfrm>
          </p:grpSpPr>
          <p:sp>
            <p:nvSpPr>
              <p:cNvPr id="160" name=""/>
              <p:cNvSpPr/>
              <p:nvPr/>
            </p:nvSpPr>
            <p:spPr>
              <a:xfrm>
                <a:off x="5638680" y="4800600"/>
                <a:ext cx="3841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0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638680" y="5181120"/>
                <a:ext cx="3841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562720" y="5943240"/>
                <a:ext cx="624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N-1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762120" y="4800600"/>
            <a:ext cx="1577520" cy="700560"/>
            <a:chOff x="762120" y="4800600"/>
            <a:chExt cx="1577520" cy="700560"/>
          </a:xfrm>
        </p:grpSpPr>
        <p:sp>
          <p:nvSpPr>
            <p:cNvPr id="164" name=""/>
            <p:cNvSpPr/>
            <p:nvPr/>
          </p:nvSpPr>
          <p:spPr>
            <a:xfrm>
              <a:off x="1066680" y="5181480"/>
              <a:ext cx="91440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57200" y="5165640"/>
              <a:ext cx="33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4800600"/>
              <a:ext cx="1577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Objec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048120" y="4419720"/>
            <a:ext cx="1904760" cy="1904760"/>
          </a:xfrm>
          <a:prstGeom prst="rect">
            <a:avLst/>
          </a:prstGeom>
          <a:solidFill>
            <a:srgbClr val="dadad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04240" y="4419720"/>
            <a:ext cx="113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4800600"/>
            <a:ext cx="129528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5181480"/>
            <a:ext cx="129528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5943600"/>
            <a:ext cx="129528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5486400"/>
            <a:ext cx="245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8120" y="4800600"/>
            <a:ext cx="422280" cy="1478520"/>
            <a:chOff x="3048120" y="4800600"/>
            <a:chExt cx="422280" cy="1478520"/>
          </a:xfrm>
        </p:grpSpPr>
        <p:sp>
          <p:nvSpPr>
            <p:cNvPr id="174" name=""/>
            <p:cNvSpPr/>
            <p:nvPr/>
          </p:nvSpPr>
          <p:spPr>
            <a:xfrm>
              <a:off x="3048120" y="4800600"/>
              <a:ext cx="42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48120" y="518148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48120" y="5943600"/>
              <a:ext cx="410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981080" y="5410080"/>
            <a:ext cx="152424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594360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80060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52560" y="5202360"/>
            <a:ext cx="9464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800600" y="5410080"/>
            <a:ext cx="137160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72560" y="4038480"/>
            <a:ext cx="1094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040" y="4038480"/>
            <a:ext cx="138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7467120" y="53341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M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allocate page of virtual memory has entry in page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ing from virtual pages to physical p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uncached form to cached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 entry even if page not in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es disk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retrieves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2362320" y="2971800"/>
            <a:ext cx="1218960" cy="1143000"/>
            <a:chOff x="2362320" y="2971800"/>
            <a:chExt cx="1218960" cy="1143000"/>
          </a:xfrm>
        </p:grpSpPr>
        <p:sp>
          <p:nvSpPr>
            <p:cNvPr id="187" name=""/>
            <p:cNvSpPr/>
            <p:nvPr/>
          </p:nvSpPr>
          <p:spPr>
            <a:xfrm>
              <a:off x="2438280" y="3048120"/>
              <a:ext cx="1143000" cy="1066680"/>
            </a:xfrm>
            <a:prstGeom prst="roundRect">
              <a:avLst>
                <a:gd name="adj" fmla="val 38986"/>
              </a:avLst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62320" y="2971800"/>
              <a:ext cx="1143000" cy="1066680"/>
            </a:xfrm>
            <a:prstGeom prst="roundRect">
              <a:avLst>
                <a:gd name="adj" fmla="val 38986"/>
              </a:avLst>
            </a:prstGeom>
            <a:solidFill>
              <a:srgbClr val="dadad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90920" y="3276720"/>
              <a:ext cx="719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029200" y="2362320"/>
            <a:ext cx="1676520" cy="32763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52880" y="2286000"/>
            <a:ext cx="1676520" cy="3276720"/>
          </a:xfrm>
          <a:prstGeom prst="rect">
            <a:avLst/>
          </a:prstGeom>
          <a:solidFill>
            <a:srgbClr val="dadad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486400" y="2438280"/>
            <a:ext cx="914400" cy="2971800"/>
            <a:chOff x="5486400" y="2438280"/>
            <a:chExt cx="914400" cy="2971800"/>
          </a:xfrm>
        </p:grpSpPr>
        <p:sp>
          <p:nvSpPr>
            <p:cNvPr id="193" name=""/>
            <p:cNvSpPr/>
            <p:nvPr/>
          </p:nvSpPr>
          <p:spPr>
            <a:xfrm>
              <a:off x="5486400" y="2438280"/>
              <a:ext cx="9144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86400" y="2666880"/>
              <a:ext cx="9144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86400" y="2895480"/>
              <a:ext cx="9144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86400" y="3124080"/>
              <a:ext cx="9144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86400" y="3352680"/>
              <a:ext cx="9144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86400" y="3809880"/>
              <a:ext cx="9144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86400" y="3581280"/>
              <a:ext cx="9144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86400" y="4038480"/>
              <a:ext cx="9144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86400" y="4267080"/>
              <a:ext cx="9144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86400" y="4495680"/>
              <a:ext cx="9144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86400" y="4724280"/>
              <a:ext cx="9144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86400" y="5181480"/>
              <a:ext cx="9144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86400" y="4952880"/>
              <a:ext cx="9144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5181480" y="2362320"/>
            <a:ext cx="384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81480" y="2590920"/>
            <a:ext cx="384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53240" y="5105520"/>
            <a:ext cx="62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-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58160" y="1905120"/>
            <a:ext cx="10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3581280" y="3048120"/>
            <a:ext cx="182880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3581280" y="3733560"/>
            <a:ext cx="1828800" cy="6094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4760" y="334800"/>
            <a:ext cx="82551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System with Physical Memory Onl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176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175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Cray machines, early PCs, nearly all embedded systems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5884920"/>
            <a:ext cx="8686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es generated by the CPU point directly to bytes in physical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06040" y="2577960"/>
            <a:ext cx="13474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2T14:46:03Z</dcterms:created>
  <dc:creator>David O'Hallaron</dc:creator>
  <dc:description/>
  <dc:language>en-US</dc:language>
  <cp:lastModifiedBy>Gregory Kesden</cp:lastModifiedBy>
  <cp:lastPrinted>2001-10-26T17:28:21Z</cp:lastPrinted>
  <dcterms:modified xsi:type="dcterms:W3CDTF">2002-03-21T07:55:27Z</dcterms:modified>
  <cp:revision>495</cp:revision>
  <dc:subject/>
  <dc:title>Virtual memory</dc:title>
</cp:coreProperties>
</file>