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0BA27611-669D-465F-82E5-BD809A7E29D1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133720"/>
            <a:ext cx="380988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emor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2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25320" y="3782520"/>
            <a:ext cx="5194440" cy="18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vations for V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lerating translation with TL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1 – 10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1, 10.12, 10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334800"/>
            <a:ext cx="6680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ystem with Virtual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tations, servers, modern PC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791320"/>
            <a:ext cx="8153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dress Transl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dware conver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rtual addr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 addre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an OS-managed lookup tabl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g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20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24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dada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27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47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267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270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273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275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dadad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dadada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080" y="334800"/>
            <a:ext cx="8813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Faults (Similar to “Cache Misses”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indicates virtual address not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exception handler invoked to move data from disk into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process suspends, others can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has full control over place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dadada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dadada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320" y="319392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77320" y="320040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70000" y="304920"/>
            <a:ext cx="5004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cing a Page Fa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3652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Memory Access (D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control of I/O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resumes suspended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389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5720" y="38862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91840" y="334800"/>
            <a:ext cx="8001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2: Memory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f two processes access something at the same addres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0136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00000" y="3956040"/>
            <a:ext cx="158652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/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876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eparate Virtual Addr. Sp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nd physical address spaces divided into equal-sized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s are called “pages” (both virtual and phys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rocess has its own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ontrols how virtual pages as assigned to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35040" y="304920"/>
            <a:ext cx="7873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st: Macintosh Memory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use traditional virtu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reference through pointer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s stored in shared glob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38080" y="1676520"/>
            <a:ext cx="6568560" cy="3504600"/>
            <a:chOff x="838080" y="1676520"/>
            <a:chExt cx="6568560" cy="3504600"/>
          </a:xfrm>
        </p:grpSpPr>
        <p:sp>
          <p:nvSpPr>
            <p:cNvPr id="477" name=""/>
            <p:cNvSpPr/>
            <p:nvPr/>
          </p:nvSpPr>
          <p:spPr>
            <a:xfrm>
              <a:off x="2288880" y="182880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1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12560" y="342900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2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2361960"/>
              <a:ext cx="144792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66880" y="2361960"/>
              <a:ext cx="381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3886200"/>
              <a:ext cx="1524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3886200"/>
              <a:ext cx="381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80520" y="167652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ed Address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10080" y="2133360"/>
              <a:ext cx="129564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10080" y="2971800"/>
              <a:ext cx="129564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10080" y="3429000"/>
              <a:ext cx="129564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10080" y="4114800"/>
              <a:ext cx="129564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10080" y="4800600"/>
              <a:ext cx="12956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895480" y="2133360"/>
              <a:ext cx="2514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819520" y="3047400"/>
              <a:ext cx="259056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819520" y="3504960"/>
              <a:ext cx="25905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95480" y="2743200"/>
              <a:ext cx="2514600" cy="144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19520" y="4572000"/>
              <a:ext cx="259056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44956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42670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3200" y="3962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26668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4382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523160" y="2743200"/>
              <a:ext cx="121932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371600" y="2514240"/>
              <a:ext cx="1371600" cy="30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295280" y="2742840"/>
              <a:ext cx="144792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599480" y="4267080"/>
              <a:ext cx="121932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447920" y="4038480"/>
              <a:ext cx="1371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295280" y="4572000"/>
              <a:ext cx="1447920" cy="7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77760" y="304920"/>
            <a:ext cx="7188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intosh Memory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14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free-list management of malloc/fr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move any object and just update the (unique) pointer in pointer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371600" y="2743200"/>
            <a:ext cx="6568200" cy="3505320"/>
            <a:chOff x="1371600" y="2743200"/>
            <a:chExt cx="6568200" cy="3505320"/>
          </a:xfrm>
        </p:grpSpPr>
        <p:sp>
          <p:nvSpPr>
            <p:cNvPr id="510" name=""/>
            <p:cNvSpPr/>
            <p:nvPr/>
          </p:nvSpPr>
          <p:spPr>
            <a:xfrm>
              <a:off x="2822400" y="289548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1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6080" y="449568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2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71600" y="3429000"/>
              <a:ext cx="144792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00400" y="3429000"/>
              <a:ext cx="380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71600" y="4952880"/>
              <a:ext cx="1523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00400" y="4952880"/>
              <a:ext cx="380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3680" y="274320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ed Address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3657600"/>
              <a:ext cx="129528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3600" y="3200400"/>
              <a:ext cx="12952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3600" y="449568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43600" y="518148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43600" y="5867280"/>
              <a:ext cx="12952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352680" y="3200400"/>
              <a:ext cx="259092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352680" y="4572000"/>
              <a:ext cx="25909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3809880"/>
              <a:ext cx="251460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2680" y="5638680"/>
              <a:ext cx="2590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7672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7672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02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767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7672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2056680" y="3809520"/>
              <a:ext cx="1219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905120" y="3580920"/>
              <a:ext cx="1371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828800" y="3809880"/>
              <a:ext cx="14479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133720" y="5333760"/>
              <a:ext cx="1218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1981080" y="5105520"/>
              <a:ext cx="1371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828800" y="5638680"/>
              <a:ext cx="1371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29000" y="3581280"/>
              <a:ext cx="2514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21960" y="334800"/>
            <a:ext cx="7340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 vs. VM-Based Memory Mgm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accomplished by both techniq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variable-s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very small or very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: fixed-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is equal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KB on x86 Linux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contiguous allocation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“wild write” by one process can corrupt another’s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emory with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mptive multitas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versions of MAC OS require processes to voluntarily relinquish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at CMU in late 1980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8560" y="334800"/>
            <a:ext cx="5587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3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enforces this protection (trap into OS if violation occu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47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570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578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dada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581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03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29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334800"/>
            <a:ext cx="6832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s for Virtual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space of a process can exceed physical memor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ddress spaces of multiple processes can exceed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processes resident in main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with its own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“active” code and data is actually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more memory to process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rocess can’t interfere with ano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y operate in different address sp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cannot access privileged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ctions of address spaces have different per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14400" y="228600"/>
            <a:ext cx="535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55120" y="990720"/>
            <a:ext cx="52891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{0, 1, . . . , N–1}   virtu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{0, 1, . . . , M–1}  physic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:  V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  U  {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address mapping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95440" y="1066680"/>
            <a:ext cx="74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&gt;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28160" y="2120760"/>
            <a:ext cx="6999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(a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a'  if data at virtual addres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esent at 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f data at virtual address a is not present in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70480" y="3987360"/>
            <a:ext cx="124308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49680" y="4438440"/>
            <a:ext cx="1396800" cy="77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44480" y="3644640"/>
            <a:ext cx="95328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52040" y="4584600"/>
            <a:ext cx="100224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16760" y="4582800"/>
            <a:ext cx="135900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35680" y="4425840"/>
            <a:ext cx="3454200" cy="8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92800" y="463536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273360" y="5016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10200" y="501660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10200" y="471168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4610160" y="394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10160" y="394956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254640" y="3957480"/>
            <a:ext cx="13543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07160" y="3963960"/>
            <a:ext cx="0" cy="56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6052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60520" y="482616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16200" y="490212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01800" y="513072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45120" y="44067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31880" y="327672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4863960" y="3473280"/>
            <a:ext cx="3938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267440" y="567684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4800240" y="5391000"/>
            <a:ext cx="41292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61080" y="5060880"/>
            <a:ext cx="38124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09560" y="552456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840" y="567684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295280" y="5181120"/>
            <a:ext cx="53352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352680" y="5320800"/>
            <a:ext cx="0" cy="2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28720" y="567684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5867280"/>
            <a:ext cx="83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page offset bits don't change as a result of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12680" y="334800"/>
            <a:ext cx="5359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age size (bytes)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Virtual address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hysical address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666880" y="37879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666880" y="40165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666880" y="42451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66880" y="44737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35593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66880" y="24163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26449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28735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31021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66880" y="33307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67160" y="45496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67160" y="38638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67160" y="40924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67160" y="43210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67160" y="36352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67160" y="34066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67160" y="31780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67160" y="29494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67160" y="24922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67160" y="27208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74840" y="304920"/>
            <a:ext cx="279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364480" y="129528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1200" y="19591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019920" y="2416320"/>
            <a:ext cx="1379160" cy="1600200"/>
            <a:chOff x="6019920" y="2416320"/>
            <a:chExt cx="1379160" cy="1600200"/>
          </a:xfrm>
        </p:grpSpPr>
        <p:sp>
          <p:nvSpPr>
            <p:cNvPr id="710" name=""/>
            <p:cNvSpPr/>
            <p:nvPr/>
          </p:nvSpPr>
          <p:spPr>
            <a:xfrm>
              <a:off x="6019920" y="37879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19920" y="35593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920" y="24163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9920" y="26449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19920" y="28735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19920" y="31021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19920" y="33307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flipV="1">
            <a:off x="3505320" y="3406320"/>
            <a:ext cx="2514600" cy="118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05320" y="3889440"/>
            <a:ext cx="2522520" cy="2232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511440" y="3025440"/>
            <a:ext cx="2508480" cy="110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05320" y="4346640"/>
            <a:ext cx="2522520" cy="2043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498840" y="2797200"/>
            <a:ext cx="2521080" cy="88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511440" y="2492280"/>
            <a:ext cx="250848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17920" y="3209760"/>
            <a:ext cx="2502000" cy="73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24400" y="2994120"/>
            <a:ext cx="2516040" cy="27860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17920" y="2543040"/>
            <a:ext cx="2502000" cy="71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92360" y="2759040"/>
            <a:ext cx="252756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646600" y="5373720"/>
            <a:ext cx="2124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46600" y="5121360"/>
            <a:ext cx="2124360" cy="341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46600" y="531324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770960" y="531324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46600" y="638964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69080" y="419112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27840" y="58928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27840" y="555156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27840" y="623736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362320" y="2416320"/>
            <a:ext cx="304560" cy="2286000"/>
            <a:chOff x="2362320" y="2416320"/>
            <a:chExt cx="304560" cy="2286000"/>
          </a:xfrm>
        </p:grpSpPr>
        <p:sp>
          <p:nvSpPr>
            <p:cNvPr id="737" name=""/>
            <p:cNvSpPr/>
            <p:nvPr/>
          </p:nvSpPr>
          <p:spPr>
            <a:xfrm>
              <a:off x="2362320" y="37879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62320" y="40165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2320" y="42451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62320" y="44737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62320" y="35593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62320" y="24163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62320" y="26449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2320" y="28735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62320" y="31021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62320" y="33307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2209680" y="2111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63760" y="238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63760" y="2644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3760" y="3102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363760" y="3330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63760" y="3559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63760" y="401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3760" y="44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63760" y="424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3760" y="378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63760" y="2873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195912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0680" y="1425600"/>
            <a:ext cx="12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295280" y="2187720"/>
            <a:ext cx="990720" cy="1295280"/>
            <a:chOff x="1295280" y="2187720"/>
            <a:chExt cx="990720" cy="1295280"/>
          </a:xfrm>
        </p:grpSpPr>
        <p:sp>
          <p:nvSpPr>
            <p:cNvPr id="761" name=""/>
            <p:cNvSpPr/>
            <p:nvPr/>
          </p:nvSpPr>
          <p:spPr>
            <a:xfrm>
              <a:off x="1295280" y="218772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95280" y="348300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47640" y="304920"/>
            <a:ext cx="7848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via Pag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206880" y="198756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07280" y="19875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35440" y="127332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6880" y="5492880"/>
            <a:ext cx="3111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30960" y="54928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83160" y="614988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0120" y="2368440"/>
            <a:ext cx="0" cy="307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367840" y="5159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10800" y="51595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05520" y="5159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14960" y="51595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6360" y="16542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00880" y="16542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20160" y="16542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05520" y="16542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7240" y="1378080"/>
            <a:ext cx="262764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base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25840" y="30542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425840" y="3282840"/>
            <a:ext cx="280692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25840" y="35114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25840" y="37400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11640" y="3359160"/>
            <a:ext cx="6372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43680" y="34225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2742840" y="4876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96000" y="4572000"/>
            <a:ext cx="1627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valid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3800" y="2687760"/>
            <a:ext cx="64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498200" y="2666880"/>
            <a:ext cx="309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23880" y="17524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39625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54240" y="30542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54240" y="3282840"/>
            <a:ext cx="6732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54240" y="35114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54240" y="37400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40040" y="30542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40040" y="3282840"/>
            <a:ext cx="6732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0040" y="35114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40040" y="37400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29000" y="3451320"/>
            <a:ext cx="0" cy="142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87600" y="3359160"/>
            <a:ext cx="6372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2670120"/>
            <a:ext cx="89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1981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acts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135160" y="2362320"/>
            <a:ext cx="16128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3033720"/>
            <a:ext cx="0" cy="4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451320"/>
            <a:ext cx="90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58920" y="304920"/>
            <a:ext cx="4826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Table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(set of) page table(s) p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forms index into page table (points to a page table entr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(PTE) provides information about p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valid bit = 1) then the page is 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hysical page number (PPN) to construc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valid bit = 0) then the page is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load page from disk into main memory before 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rights field indicate allowable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read-only, read-write, execute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support multiple protection modes (e.g., kernel vs. u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violation fault if user doesn’t have necessary per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073160" y="12319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70000" y="123840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041120" y="22096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82680" y="160020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24120" y="12636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52920" y="12636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21400" y="12762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76480" y="14097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90800" y="140976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32560" y="138420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311520" y="203184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11880" y="20383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323800" y="2629080"/>
            <a:ext cx="398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324160" y="2095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070000" y="20955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892840" y="205740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638680" y="20574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305240" y="20318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05240" y="20383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886360" y="2584440"/>
            <a:ext cx="38160" cy="5076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8160" y="1143000"/>
            <a:ext cx="43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22480" y="1143000"/>
            <a:ext cx="43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89440" y="1117440"/>
            <a:ext cx="59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98800" y="2108160"/>
            <a:ext cx="368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959200" y="2387520"/>
            <a:ext cx="57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066680" y="1218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701720" y="304920"/>
            <a:ext cx="5740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ing VM and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4600" y="2947680"/>
            <a:ext cx="825480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d by physic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ultiple processes to have blocks in cache at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ultiple processes to share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doesn’t need to be concerned with protection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checked as part of 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is could involve a memory access itself (of the P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urse, page table entries can also become cac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1143000" y="2971800"/>
            <a:ext cx="6559560" cy="2940120"/>
            <a:chOff x="1143000" y="2971800"/>
            <a:chExt cx="6559560" cy="2940120"/>
          </a:xfrm>
        </p:grpSpPr>
        <p:sp>
          <p:nvSpPr>
            <p:cNvPr id="839" name=""/>
            <p:cNvSpPr/>
            <p:nvPr/>
          </p:nvSpPr>
          <p:spPr>
            <a:xfrm>
              <a:off x="1174680" y="32893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71880" y="329580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1143000" y="426708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46400" y="3657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25640" y="3321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54440" y="3321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22920" y="3333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78000" y="3467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62520" y="3505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34080" y="3441600"/>
              <a:ext cx="8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395760" y="409716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88200" y="4087800"/>
              <a:ext cx="0" cy="17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438280" y="5892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425680" y="4152600"/>
              <a:ext cx="0" cy="173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171520" y="4152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012000" y="4114800"/>
              <a:ext cx="0" cy="17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740200" y="4114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406400" y="40892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06760" y="4095720"/>
              <a:ext cx="0" cy="177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78520" y="5861160"/>
              <a:ext cx="38160" cy="50760"/>
            </a:xfrm>
            <a:prstGeom prst="ellipse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09680" y="3200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24000" y="3200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91320" y="3174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59400" y="4305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40640" y="5587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25640" y="4692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24360" y="2971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52680" y="424800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92440" y="4305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65640" y="56451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71760" y="575316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>
              <a:off x="4038480" y="3505320"/>
              <a:ext cx="12960" cy="22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393800" y="589284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505320" y="424152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43000" y="329580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2440" y="304920"/>
            <a:ext cx="789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eding up Translation with a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hardware cache in M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virtual page numbers to  physical page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complete page table entries for small number of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with a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60120" y="334800"/>
            <a:ext cx="7264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bit virtu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bit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size = 64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975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976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979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982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985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988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991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994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997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00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03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06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12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15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18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19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22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28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046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049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052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055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058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061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064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93360" y="334800"/>
            <a:ext cx="7797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Pag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show first 16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2752560" y="2179800"/>
          <a:ext cx="4127760" cy="2786040"/>
        </p:xfrm>
        <a:graphic>
          <a:graphicData uri="http://schemas.openxmlformats.org/drawingml/2006/table">
            <a:tbl>
              <a:tblPr/>
              <a:tblGrid>
                <a:gridCol w="689040"/>
                <a:gridCol w="687600"/>
                <a:gridCol w="687240"/>
                <a:gridCol w="689040"/>
                <a:gridCol w="687240"/>
                <a:gridCol w="687600"/>
              </a:tblGrid>
              <a:tr h="309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1: DRAM a “Cache” for Dis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 addresses:                        ~4,000,000,000 (4 billion)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-bit addresses: ~16,000,000,000,000,000,000 (16 quintillion)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 is ~156X cheaper than DRAM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 of DRAM: ~ $10,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 of disk:     ~  $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2920" y="434340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 MB: ~$3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86400" y="4599000"/>
            <a:ext cx="2124000" cy="1508040"/>
            <a:chOff x="5486400" y="4599000"/>
            <a:chExt cx="2124000" cy="1508040"/>
          </a:xfrm>
        </p:grpSpPr>
        <p:sp>
          <p:nvSpPr>
            <p:cNvPr id="53" name=""/>
            <p:cNvSpPr/>
            <p:nvPr/>
          </p:nvSpPr>
          <p:spPr>
            <a:xfrm>
              <a:off x="5486400" y="4851360"/>
              <a:ext cx="2124000" cy="101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599000"/>
              <a:ext cx="2124000" cy="3412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6400" y="4790880"/>
              <a:ext cx="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10400" y="4790880"/>
              <a:ext cx="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86400" y="5867280"/>
              <a:ext cx="2124000" cy="239760"/>
            </a:xfrm>
            <a:custGeom>
              <a:avLst/>
              <a:gdLst/>
              <a:ahLst/>
              <a:rect l="l" t="t" r="r" b="b"/>
              <a:pathLst>
                <a:path w="816" h="84">
                  <a:moveTo>
                    <a:pt x="0" y="0"/>
                  </a:moveTo>
                  <a:cubicBezTo>
                    <a:pt x="25" y="10"/>
                    <a:pt x="81" y="46"/>
                    <a:pt x="150" y="60"/>
                  </a:cubicBezTo>
                  <a:cubicBezTo>
                    <a:pt x="219" y="74"/>
                    <a:pt x="326" y="84"/>
                    <a:pt x="414" y="84"/>
                  </a:cubicBezTo>
                  <a:cubicBezTo>
                    <a:pt x="502" y="84"/>
                    <a:pt x="611" y="74"/>
                    <a:pt x="678" y="60"/>
                  </a:cubicBezTo>
                  <a:cubicBezTo>
                    <a:pt x="745" y="46"/>
                    <a:pt x="787" y="12"/>
                    <a:pt x="816" y="0"/>
                  </a:cubicBez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93120" y="4191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: ~$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80060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10552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3760" y="46483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MB: ~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53341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3341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560" y="518148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960" y="518148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518148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55480" y="334800"/>
            <a:ext cx="6273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way assoc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960480" y="2286000"/>
            <a:ext cx="6823080" cy="1334160"/>
            <a:chOff x="960480" y="2286000"/>
            <a:chExt cx="6823080" cy="1334160"/>
          </a:xfrm>
        </p:grpSpPr>
        <p:grpSp>
          <p:nvGrpSpPr>
            <p:cNvPr id="1076" name=""/>
            <p:cNvGrpSpPr/>
            <p:nvPr/>
          </p:nvGrpSpPr>
          <p:grpSpPr>
            <a:xfrm>
              <a:off x="960480" y="2514600"/>
              <a:ext cx="6823080" cy="609480"/>
              <a:chOff x="960480" y="2514600"/>
              <a:chExt cx="6823080" cy="609480"/>
            </a:xfrm>
          </p:grpSpPr>
          <p:grpSp>
            <p:nvGrpSpPr>
              <p:cNvPr id="1077" name=""/>
              <p:cNvGrpSpPr/>
              <p:nvPr/>
            </p:nvGrpSpPr>
            <p:grpSpPr>
              <a:xfrm>
                <a:off x="960480" y="2514600"/>
                <a:ext cx="487440" cy="609480"/>
                <a:chOff x="960480" y="2514600"/>
                <a:chExt cx="487440" cy="6094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04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604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1447920" y="2514600"/>
                <a:ext cx="487080" cy="609480"/>
                <a:chOff x="1447920" y="2514600"/>
                <a:chExt cx="487080" cy="6094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144792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44792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1935000" y="2514600"/>
                <a:ext cx="487440" cy="609480"/>
                <a:chOff x="1935000" y="2514600"/>
                <a:chExt cx="487440" cy="6094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193500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93500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2422440" y="2514600"/>
                <a:ext cx="487440" cy="609480"/>
                <a:chOff x="2422440" y="2514600"/>
                <a:chExt cx="487440" cy="6094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242244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42244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2909880" y="2514600"/>
                <a:ext cx="487440" cy="609480"/>
                <a:chOff x="2909880" y="2514600"/>
                <a:chExt cx="487440" cy="6094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9098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9098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397320" y="2514600"/>
                <a:ext cx="487440" cy="609480"/>
                <a:chOff x="3397320" y="2514600"/>
                <a:chExt cx="487440" cy="6094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3973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3973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3884760" y="2514600"/>
                <a:ext cx="487080" cy="609480"/>
                <a:chOff x="3884760" y="2514600"/>
                <a:chExt cx="487080" cy="6094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8476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88476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371840" y="2514600"/>
                <a:ext cx="487440" cy="609480"/>
                <a:chOff x="4371840" y="2514600"/>
                <a:chExt cx="487440" cy="60948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437184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37184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4859280" y="2514600"/>
                <a:ext cx="487440" cy="609480"/>
                <a:chOff x="4859280" y="2514600"/>
                <a:chExt cx="487440" cy="6094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8592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8592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5346720" y="2514600"/>
                <a:ext cx="487440" cy="609480"/>
                <a:chOff x="5346720" y="2514600"/>
                <a:chExt cx="487440" cy="60948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53467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3467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5834160" y="2514600"/>
                <a:ext cx="487440" cy="609480"/>
                <a:chOff x="5834160" y="2514600"/>
                <a:chExt cx="487440" cy="6094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583416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83416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321600" y="2514600"/>
                <a:ext cx="487080" cy="609480"/>
                <a:chOff x="6321600" y="2514600"/>
                <a:chExt cx="487080" cy="60948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32160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632160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808680" y="2514600"/>
                <a:ext cx="487440" cy="609480"/>
                <a:chOff x="6808680" y="2514600"/>
                <a:chExt cx="487440" cy="60948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8086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8086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7296120" y="2514600"/>
                <a:ext cx="487440" cy="609480"/>
                <a:chOff x="7296120" y="2514600"/>
                <a:chExt cx="487440" cy="6094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72961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2961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9" name=""/>
            <p:cNvGrpSpPr/>
            <p:nvPr/>
          </p:nvGrpSpPr>
          <p:grpSpPr>
            <a:xfrm>
              <a:off x="4859280" y="3284640"/>
              <a:ext cx="2924280" cy="335520"/>
              <a:chOff x="4859280" y="3284640"/>
              <a:chExt cx="2924280" cy="335520"/>
            </a:xfrm>
          </p:grpSpPr>
          <p:sp>
            <p:nvSpPr>
              <p:cNvPr id="1120" name=""/>
              <p:cNvSpPr/>
              <p:nvPr/>
            </p:nvSpPr>
            <p:spPr>
              <a:xfrm>
                <a:off x="4859280" y="3429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84640" y="328464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960480" y="3276720"/>
              <a:ext cx="3916080" cy="335520"/>
              <a:chOff x="960480" y="3276720"/>
              <a:chExt cx="3916080" cy="335520"/>
            </a:xfrm>
          </p:grpSpPr>
          <p:sp>
            <p:nvSpPr>
              <p:cNvPr id="1123" name=""/>
              <p:cNvSpPr/>
              <p:nvPr/>
            </p:nvSpPr>
            <p:spPr>
              <a:xfrm>
                <a:off x="960480" y="3421440"/>
                <a:ext cx="391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67440" y="32767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3881520" y="2306520"/>
              <a:ext cx="992160" cy="307800"/>
              <a:chOff x="3881520" y="2306520"/>
              <a:chExt cx="992160" cy="307800"/>
            </a:xfrm>
          </p:grpSpPr>
          <p:sp>
            <p:nvSpPr>
              <p:cNvPr id="1126" name=""/>
              <p:cNvSpPr/>
              <p:nvPr/>
            </p:nvSpPr>
            <p:spPr>
              <a:xfrm>
                <a:off x="3881520" y="243036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05800" y="23065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960480" y="2286000"/>
              <a:ext cx="2926440" cy="307800"/>
              <a:chOff x="960480" y="2286000"/>
              <a:chExt cx="2926440" cy="307800"/>
            </a:xfrm>
          </p:grpSpPr>
          <p:sp>
            <p:nvSpPr>
              <p:cNvPr id="1129" name=""/>
              <p:cNvSpPr/>
              <p:nvPr/>
            </p:nvSpPr>
            <p:spPr>
              <a:xfrm>
                <a:off x="960480" y="2409840"/>
                <a:ext cx="292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202840" y="22860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31" name=""/>
          <p:cNvGraphicFramePr/>
          <p:nvPr/>
        </p:nvGraphicFramePr>
        <p:xfrm>
          <a:off x="457200" y="40132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14280" y="334800"/>
            <a:ext cx="6756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byte lin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map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35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2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173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176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179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182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185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87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006560" y="1638360"/>
            <a:ext cx="6823080" cy="1334160"/>
            <a:chOff x="1006560" y="1638360"/>
            <a:chExt cx="6823080" cy="1334160"/>
          </a:xfrm>
        </p:grpSpPr>
        <p:grpSp>
          <p:nvGrpSpPr>
            <p:cNvPr id="1190" name=""/>
            <p:cNvGrpSpPr/>
            <p:nvPr/>
          </p:nvGrpSpPr>
          <p:grpSpPr>
            <a:xfrm>
              <a:off x="1006560" y="1866960"/>
              <a:ext cx="6823080" cy="609480"/>
              <a:chOff x="1006560" y="1866960"/>
              <a:chExt cx="6823080" cy="60948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1006560" y="1866960"/>
                <a:ext cx="487440" cy="609480"/>
                <a:chOff x="1006560" y="1866960"/>
                <a:chExt cx="487440" cy="60948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1006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006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1494000" y="1866960"/>
                <a:ext cx="487080" cy="609480"/>
                <a:chOff x="1494000" y="1866960"/>
                <a:chExt cx="487080" cy="60948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149400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49400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1981080" y="1866960"/>
                <a:ext cx="487440" cy="609480"/>
                <a:chOff x="1981080" y="1866960"/>
                <a:chExt cx="487440" cy="6094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810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810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2468520" y="1866960"/>
                <a:ext cx="487440" cy="609480"/>
                <a:chOff x="2468520" y="1866960"/>
                <a:chExt cx="487440" cy="6094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24685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4685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955960" y="1866960"/>
                <a:ext cx="487440" cy="609480"/>
                <a:chOff x="2955960" y="1866960"/>
                <a:chExt cx="487440" cy="60948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9559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9559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3443400" y="1866960"/>
                <a:ext cx="487080" cy="609480"/>
                <a:chOff x="3443400" y="1866960"/>
                <a:chExt cx="487080" cy="60948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344340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44340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3930480" y="1866960"/>
                <a:ext cx="487440" cy="609480"/>
                <a:chOff x="3930480" y="1866960"/>
                <a:chExt cx="487440" cy="60948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39304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9304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4417920" y="1866960"/>
                <a:ext cx="487440" cy="609480"/>
                <a:chOff x="4417920" y="1866960"/>
                <a:chExt cx="487440" cy="6094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44179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4179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4905360" y="1866960"/>
                <a:ext cx="487440" cy="609480"/>
                <a:chOff x="4905360" y="1866960"/>
                <a:chExt cx="487440" cy="60948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49053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9053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5392800" y="1866960"/>
                <a:ext cx="487440" cy="609480"/>
                <a:chOff x="5392800" y="1866960"/>
                <a:chExt cx="487440" cy="60948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3928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3928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880240" y="1866960"/>
                <a:ext cx="487080" cy="609480"/>
                <a:chOff x="5880240" y="1866960"/>
                <a:chExt cx="487080" cy="6094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88024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88024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6367320" y="1866960"/>
                <a:ext cx="487440" cy="609480"/>
                <a:chOff x="6367320" y="1866960"/>
                <a:chExt cx="487440" cy="60948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63673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3673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6854760" y="1866960"/>
                <a:ext cx="487440" cy="609480"/>
                <a:chOff x="6854760" y="1866960"/>
                <a:chExt cx="487440" cy="6094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68547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8547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7342200" y="1866960"/>
                <a:ext cx="487440" cy="609480"/>
                <a:chOff x="7342200" y="1866960"/>
                <a:chExt cx="487440" cy="6094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73422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73422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"/>
            <p:cNvGrpSpPr/>
            <p:nvPr/>
          </p:nvGrpSpPr>
          <p:grpSpPr>
            <a:xfrm>
              <a:off x="4905360" y="2637000"/>
              <a:ext cx="2924280" cy="335520"/>
              <a:chOff x="4905360" y="2637000"/>
              <a:chExt cx="2924280" cy="335520"/>
            </a:xfrm>
          </p:grpSpPr>
          <p:sp>
            <p:nvSpPr>
              <p:cNvPr id="1234" name=""/>
              <p:cNvSpPr/>
              <p:nvPr/>
            </p:nvSpPr>
            <p:spPr>
              <a:xfrm>
                <a:off x="490536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03036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006560" y="2629080"/>
              <a:ext cx="3916440" cy="335520"/>
              <a:chOff x="1006560" y="2629080"/>
              <a:chExt cx="3916440" cy="335520"/>
            </a:xfrm>
          </p:grpSpPr>
          <p:sp>
            <p:nvSpPr>
              <p:cNvPr id="1237" name=""/>
              <p:cNvSpPr/>
              <p:nvPr/>
            </p:nvSpPr>
            <p:spPr>
              <a:xfrm>
                <a:off x="100656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51388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3927600" y="1658880"/>
              <a:ext cx="992160" cy="307800"/>
              <a:chOff x="3927600" y="1658880"/>
              <a:chExt cx="992160" cy="307800"/>
            </a:xfrm>
          </p:grpSpPr>
          <p:sp>
            <p:nvSpPr>
              <p:cNvPr id="1240" name=""/>
              <p:cNvSpPr/>
              <p:nvPr/>
            </p:nvSpPr>
            <p:spPr>
              <a:xfrm>
                <a:off x="392760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15152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1006560" y="1638360"/>
              <a:ext cx="2927160" cy="307800"/>
              <a:chOff x="1006560" y="1638360"/>
              <a:chExt cx="2927160" cy="307800"/>
            </a:xfrm>
          </p:grpSpPr>
          <p:sp>
            <p:nvSpPr>
              <p:cNvPr id="1243" name=""/>
              <p:cNvSpPr/>
              <p:nvPr/>
            </p:nvSpPr>
            <p:spPr>
              <a:xfrm>
                <a:off x="100656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4964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5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246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247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3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284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287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290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293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296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27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8640" y="1638360"/>
            <a:ext cx="6823080" cy="1334160"/>
            <a:chOff x="998640" y="1638360"/>
            <a:chExt cx="6823080" cy="1334160"/>
          </a:xfrm>
        </p:grpSpPr>
        <p:grpSp>
          <p:nvGrpSpPr>
            <p:cNvPr id="1302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03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5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346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49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3919680" y="1658880"/>
              <a:ext cx="992160" cy="307800"/>
              <a:chOff x="3919680" y="1658880"/>
              <a:chExt cx="992160" cy="307800"/>
            </a:xfrm>
          </p:grpSpPr>
          <p:sp>
            <p:nvSpPr>
              <p:cNvPr id="1352" name=""/>
              <p:cNvSpPr/>
              <p:nvPr/>
            </p:nvSpPr>
            <p:spPr>
              <a:xfrm>
                <a:off x="391968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14360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998640" y="1638360"/>
              <a:ext cx="2927160" cy="307800"/>
              <a:chOff x="998640" y="1638360"/>
              <a:chExt cx="2927160" cy="307800"/>
            </a:xfrm>
          </p:grpSpPr>
          <p:sp>
            <p:nvSpPr>
              <p:cNvPr id="1355" name=""/>
              <p:cNvSpPr/>
              <p:nvPr/>
            </p:nvSpPr>
            <p:spPr>
              <a:xfrm>
                <a:off x="99864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4172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7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58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5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96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99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02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08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98640" y="1638360"/>
            <a:ext cx="6823080" cy="1334160"/>
            <a:chOff x="998640" y="1638360"/>
            <a:chExt cx="6823080" cy="1334160"/>
          </a:xfrm>
        </p:grpSpPr>
        <p:grpSp>
          <p:nvGrpSpPr>
            <p:cNvPr id="141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1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5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6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3919680" y="1658880"/>
              <a:ext cx="992160" cy="307800"/>
              <a:chOff x="3919680" y="1658880"/>
              <a:chExt cx="992160" cy="307800"/>
            </a:xfrm>
          </p:grpSpPr>
          <p:sp>
            <p:nvSpPr>
              <p:cNvPr id="1463" name=""/>
              <p:cNvSpPr/>
              <p:nvPr/>
            </p:nvSpPr>
            <p:spPr>
              <a:xfrm>
                <a:off x="391968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14360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998640" y="1638360"/>
              <a:ext cx="2927160" cy="307800"/>
              <a:chOff x="998640" y="1638360"/>
              <a:chExt cx="2927160" cy="307800"/>
            </a:xfrm>
          </p:grpSpPr>
          <p:sp>
            <p:nvSpPr>
              <p:cNvPr id="1466" name=""/>
              <p:cNvSpPr/>
              <p:nvPr/>
            </p:nvSpPr>
            <p:spPr>
              <a:xfrm>
                <a:off x="99864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24172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6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1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1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1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938240" y="3348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Page T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7228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KB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ag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byte P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 need a 4 MB page tabl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level page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-level table (P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 table: 1024 entries, each of which points to a Level 2 pag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 table:  1024 entries, each of which points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029200" y="297180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167440" y="365760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010280" y="22860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010280" y="3657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010280" y="518148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185960" y="478296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16600" y="1447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5867280" y="228564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5867280" y="36572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867280" y="4718160"/>
            <a:ext cx="114300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81240" y="334800"/>
            <a:ext cx="302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 The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“flat”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locate large blocks of contiguous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“owns”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privat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ffected by behavior of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virtual address space created by mapping to set of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ot be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dyna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force protection during 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anages many processe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ly switching amo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when one must wait for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disk I/O to handle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9240" y="304920"/>
            <a:ext cx="6197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vels in Memory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70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73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25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.008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8840" y="334800"/>
            <a:ext cx="6705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AM vs. SRAM as a “Cach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latenc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 ~10X slower than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,000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ower than D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ce of exploiting spatial local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yte is 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,000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ower than successive bytes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~4X improvement for page-mode vs. regular accesses to D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lin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decisions made for DRAM caches driven by enormous cost of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925880"/>
            <a:ext cx="1131840" cy="11322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54864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680" y="53071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25780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3341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4976640"/>
            <a:ext cx="2124360" cy="101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472428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491652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34440" y="491652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9929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6240" y="53071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4864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334800"/>
            <a:ext cx="8331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 of These Properties on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since disk better at transferring large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ociativ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, to mimimize miss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through or write bac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back, since can’t afford to perform small writes to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emely low.  &lt;&lt;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t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match cache/DRAM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lat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high.  ~2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storage overh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, relative to block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6440" y="334800"/>
            <a:ext cx="711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ng an Object in a “Cach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stored with cache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from cache block to memory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ached to uncach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tag for block not in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retrieve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quickly match against multiple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95280" y="3962520"/>
            <a:ext cx="1577520" cy="700560"/>
            <a:chOff x="1295280" y="3962520"/>
            <a:chExt cx="1577520" cy="700560"/>
          </a:xfrm>
        </p:grpSpPr>
        <p:sp>
          <p:nvSpPr>
            <p:cNvPr id="114" name=""/>
            <p:cNvSpPr/>
            <p:nvPr/>
          </p:nvSpPr>
          <p:spPr>
            <a:xfrm>
              <a:off x="1599840" y="434340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0360" y="432756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396252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76000" y="3124080"/>
            <a:ext cx="4572720" cy="2286000"/>
            <a:chOff x="3276000" y="3124080"/>
            <a:chExt cx="4572720" cy="2286000"/>
          </a:xfrm>
        </p:grpSpPr>
        <p:sp>
          <p:nvSpPr>
            <p:cNvPr id="118" name=""/>
            <p:cNvSpPr/>
            <p:nvPr/>
          </p:nvSpPr>
          <p:spPr>
            <a:xfrm>
              <a:off x="4952880" y="3504960"/>
              <a:ext cx="289584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320" y="350496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6080" y="350496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486400" y="3886200"/>
              <a:ext cx="2209680" cy="335520"/>
              <a:chOff x="5486400" y="3886200"/>
              <a:chExt cx="2209680" cy="335520"/>
            </a:xfrm>
          </p:grpSpPr>
          <p:sp>
            <p:nvSpPr>
              <p:cNvPr id="122" name=""/>
              <p:cNvSpPr/>
              <p:nvPr/>
            </p:nvSpPr>
            <p:spPr>
              <a:xfrm>
                <a:off x="5486400" y="388620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00800" y="388620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1320" y="388620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82040" y="388620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486400" y="4267080"/>
              <a:ext cx="2209680" cy="335520"/>
              <a:chOff x="5486400" y="4267080"/>
              <a:chExt cx="2209680" cy="33552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426708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426708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426708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81680" y="426708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486400" y="5029200"/>
              <a:ext cx="2209680" cy="335520"/>
              <a:chOff x="5486400" y="5029200"/>
              <a:chExt cx="2209680" cy="335520"/>
            </a:xfrm>
          </p:grpSpPr>
          <p:sp>
            <p:nvSpPr>
              <p:cNvPr id="132" name=""/>
              <p:cNvSpPr/>
              <p:nvPr/>
            </p:nvSpPr>
            <p:spPr>
              <a:xfrm>
                <a:off x="5486400" y="502920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00800" y="502920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91320" y="502920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82040" y="502920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867280" y="45720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457200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52880" y="3886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42670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920" y="50292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266720" y="411480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267080" y="434304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441936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038120" y="44193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000" y="426708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3960" y="312408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7467120" y="2438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636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ng an Object in a “Cache”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562720" y="4419720"/>
            <a:ext cx="2057400" cy="1904760"/>
            <a:chOff x="5562720" y="4419720"/>
            <a:chExt cx="2057400" cy="1904760"/>
          </a:xfrm>
        </p:grpSpPr>
        <p:sp>
          <p:nvSpPr>
            <p:cNvPr id="150" name=""/>
            <p:cNvSpPr/>
            <p:nvPr/>
          </p:nvSpPr>
          <p:spPr>
            <a:xfrm>
              <a:off x="5638680" y="4419720"/>
              <a:ext cx="1981440" cy="190476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480" y="441972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2200" y="4800600"/>
              <a:ext cx="12952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440" y="480060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518148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518148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5943600"/>
              <a:ext cx="12952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594360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720" y="548640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562720" y="4800600"/>
              <a:ext cx="624960" cy="1478160"/>
              <a:chOff x="5562720" y="4800600"/>
              <a:chExt cx="624960" cy="1478160"/>
            </a:xfrm>
          </p:grpSpPr>
          <p:sp>
            <p:nvSpPr>
              <p:cNvPr id="160" name=""/>
              <p:cNvSpPr/>
              <p:nvPr/>
            </p:nvSpPr>
            <p:spPr>
              <a:xfrm>
                <a:off x="5638680" y="480060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5181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5943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62120" y="4800600"/>
            <a:ext cx="1577520" cy="700560"/>
            <a:chOff x="762120" y="4800600"/>
            <a:chExt cx="1577520" cy="700560"/>
          </a:xfrm>
        </p:grpSpPr>
        <p:sp>
          <p:nvSpPr>
            <p:cNvPr id="164" name=""/>
            <p:cNvSpPr/>
            <p:nvPr/>
          </p:nvSpPr>
          <p:spPr>
            <a:xfrm>
              <a:off x="106668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5720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048120" y="4419720"/>
            <a:ext cx="1904760" cy="1904760"/>
          </a:xfrm>
          <a:prstGeom prst="rect">
            <a:avLst/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4240" y="441972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80060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18148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94360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486400"/>
            <a:ext cx="24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8120" y="4800600"/>
            <a:ext cx="422280" cy="1478520"/>
            <a:chOff x="3048120" y="4800600"/>
            <a:chExt cx="422280" cy="1478520"/>
          </a:xfrm>
        </p:grpSpPr>
        <p:sp>
          <p:nvSpPr>
            <p:cNvPr id="174" name=""/>
            <p:cNvSpPr/>
            <p:nvPr/>
          </p:nvSpPr>
          <p:spPr>
            <a:xfrm>
              <a:off x="3048120" y="480060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8120" y="51814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594360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81080" y="5410080"/>
            <a:ext cx="1524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943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800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2560" y="520236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800600" y="541008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560" y="403848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040" y="40384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46712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allocate page of virtual memory has entry in page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from virtual pages to physical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uncached form to cach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even if page not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disk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retrieve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362320" y="2971800"/>
            <a:ext cx="1218960" cy="1143000"/>
            <a:chOff x="2362320" y="2971800"/>
            <a:chExt cx="1218960" cy="1143000"/>
          </a:xfrm>
        </p:grpSpPr>
        <p:sp>
          <p:nvSpPr>
            <p:cNvPr id="187" name=""/>
            <p:cNvSpPr/>
            <p:nvPr/>
          </p:nvSpPr>
          <p:spPr>
            <a:xfrm>
              <a:off x="2438280" y="304812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29718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920" y="327672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29200" y="2362320"/>
            <a:ext cx="1676520" cy="32763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286000"/>
            <a:ext cx="1676520" cy="327672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486400" y="2438280"/>
            <a:ext cx="914400" cy="2971800"/>
            <a:chOff x="5486400" y="2438280"/>
            <a:chExt cx="914400" cy="2971800"/>
          </a:xfrm>
        </p:grpSpPr>
        <p:sp>
          <p:nvSpPr>
            <p:cNvPr id="193" name=""/>
            <p:cNvSpPr/>
            <p:nvPr/>
          </p:nvSpPr>
          <p:spPr>
            <a:xfrm>
              <a:off x="5486400" y="2438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86400" y="2666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86400" y="2895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6400" y="31240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6400" y="33526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86400" y="3809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3581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4038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42670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6400" y="44956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4724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6400" y="5181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4952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181480" y="23623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3240" y="5105520"/>
            <a:ext cx="62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816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81280" y="3048120"/>
            <a:ext cx="1828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581280" y="3733560"/>
            <a:ext cx="182880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ystem with Physical Memory On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ray machines, early PCs, nearly all embedded system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884920"/>
            <a:ext cx="868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generated by the CPU point directly to bytes in physic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6040" y="257796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0-26T17:28:21Z</cp:lastPrinted>
  <dcterms:modified xsi:type="dcterms:W3CDTF">2002-03-21T07:55:27Z</dcterms:modified>
  <cp:revision>495</cp:revision>
  <dc:subject/>
  <dc:title>Virtual memory</dc:title>
</cp:coreProperties>
</file>