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4627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B3AEA210-1CB2-417E-99E1-CE8E1C5B3789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5320" y="1447920"/>
            <a:ext cx="42670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1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3504960"/>
            <a:ext cx="519408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al co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cou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best measurement sche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Chapter 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9.10, 9.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440" y="5335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52640" y="334800"/>
            <a:ext cx="3479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cle Coun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modern systems have built in registers that are incremented every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fine 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as part of proces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91240" indent="-43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inux, counts elapsed glob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assembly code instruction to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(recent model) Intel machin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bit cou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TSC instruction set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gh order 32-bit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ow order 32-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 Around Times for 550 MHz 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order 32-bits wrap around every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(550 *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7.8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order 64-bits wrap around every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(550 *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33539534679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65.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2440" y="334800"/>
            <a:ext cx="6680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ing with Cycle Cou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current value of cycle cou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8440" indent="-93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s pair of unsigned’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yc_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yc_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ome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w value of cycle cou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double precision subtraction to get elapsed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657600"/>
            <a:ext cx="7162560" cy="228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Keep track of most recent reading of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cyc_h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cyc_l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tart_coun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et current value of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ss_counter(&amp;cyc_hi, &amp;cyc_l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the Cycle Counter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 allows inline assembly code with mechanism for matching registers with program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only works on x86 machine compiling with GC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t assembly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dt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w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generates two outpu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296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ic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used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296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ic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used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has no inpu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ll be over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209680"/>
            <a:ext cx="716292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ccess_counter(unsigned *hi, unsigned *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the Cycle Counter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tted Assembl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057400"/>
            <a:ext cx="7467480" cy="201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d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dtsc; movl %edx,%ecx; movl %eax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NO_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cx,(%esi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tore high bits at *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di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tore low bits at *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4840" y="334800"/>
            <a:ext cx="5715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leting Measur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w value of cycle cou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double precision subtraction to get elapsed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avoid overflow probl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514600"/>
            <a:ext cx="7162920" cy="3014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get_coun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ncyc_hi, ncyc_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hi, lo, borr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ss_counter(&amp;ncyc_hi, &amp;ncyc_l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Do double precision subtra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 = ncyc_lo - cyc_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rrow = lo &gt; ncyc_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i = ncyc_hi - cyc_hi - borr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double) hi * (1 &lt;&lt; 30) * 4 + 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7760" y="334800"/>
            <a:ext cx="5969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With Cycle Cou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Clock Rate of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number of cycles required for some fixed number of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unction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attempt: Simply count cycles for one execution of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495680"/>
            <a:ext cx="655308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secs = get_counter() / (MHZ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905120"/>
            <a:ext cx="655308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MH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leep_time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sleep_ti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HZ = get_counter()/(sleep_time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3697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with Cycle Cou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267080"/>
            <a:ext cx="655308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secs = get_counter() / (MHZ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2209680"/>
            <a:ext cx="655308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MH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leep_time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sleep_ti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HZ = get_counter()/(sleep_time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42800" y="334800"/>
            <a:ext cx="4699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Pitf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counter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urs small amount of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measure long enough code sequence to compens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xpected Cache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ficial hits or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these measurements were taken with the Alpha cycle count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1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8,82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2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3,337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2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,51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1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3,20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1720" y="334800"/>
            <a:ext cx="8661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ling with Overhead &amp; Cache Eff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execute function once to “warm up”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doubling number of times execute P() until reach some thres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CMIN = 5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514600"/>
            <a:ext cx="7010280" cy="374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n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cmeas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cycl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 = c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rm up cach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c-- &g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eas = ge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ycles = cmeas / c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 += c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cmeas &lt; CMIN);  /* Make sure have enough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ycles / (1e6 * MH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69880" y="334800"/>
            <a:ext cx="4444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tasking Eff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Counter Measures Elapsed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s accumulating during periods of in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counter never underestimates program ru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overestimates by large am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-Best Measurement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up to N (e.g., 20) measurements of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if fastest K (e.g., 3) within some relative fact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0.00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5105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2095560" y="514296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990720" y="50288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920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4960" y="334800"/>
            <a:ext cx="5054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uter Time Sc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4190760"/>
            <a:ext cx="405144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Fundamental Time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or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–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 event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–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5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board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5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k s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5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 re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0" y="4191120"/>
            <a:ext cx="4051440" cy="21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xecute many instructions while waiting for external event to occ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lternate among processes without anyone noti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38080" y="1447920"/>
            <a:ext cx="7518240" cy="2571480"/>
            <a:chOff x="838080" y="1447920"/>
            <a:chExt cx="7518240" cy="2571480"/>
          </a:xfrm>
        </p:grpSpPr>
        <p:grpSp>
          <p:nvGrpSpPr>
            <p:cNvPr id="49" name=""/>
            <p:cNvGrpSpPr/>
            <p:nvPr/>
          </p:nvGrpSpPr>
          <p:grpSpPr>
            <a:xfrm>
              <a:off x="838080" y="1447920"/>
              <a:ext cx="7518240" cy="2571480"/>
              <a:chOff x="838080" y="1447920"/>
              <a:chExt cx="7518240" cy="2571480"/>
            </a:xfrm>
          </p:grpSpPr>
          <p:sp>
            <p:nvSpPr>
              <p:cNvPr id="50" name=""/>
              <p:cNvSpPr/>
              <p:nvPr/>
            </p:nvSpPr>
            <p:spPr>
              <a:xfrm>
                <a:off x="838080" y="1447920"/>
                <a:ext cx="7518240" cy="2571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84040" y="1920960"/>
                <a:ext cx="6845400" cy="148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84040" y="3159000"/>
                <a:ext cx="762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94616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709720" y="3159000"/>
                <a:ext cx="752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6212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25680" y="3159000"/>
                <a:ext cx="762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98780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751360" y="3159000"/>
                <a:ext cx="752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0376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267320" y="3159000"/>
                <a:ext cx="762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22120" y="2979720"/>
                <a:ext cx="10188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5096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2236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27320" y="2979720"/>
                <a:ext cx="10188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03760" y="2979720"/>
                <a:ext cx="10188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4036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8184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5236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0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1592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7948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43188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9400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0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5756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19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72112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473880" y="3130560"/>
                <a:ext cx="6012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37440" y="3130560"/>
                <a:ext cx="6012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99920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19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97480" y="1550880"/>
                <a:ext cx="1850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Time Scale (1 Ghz Machine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90000" y="351000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268080" y="351000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557320" y="351000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16680" y="3510000"/>
                <a:ext cx="403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+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123440" y="3727440"/>
                <a:ext cx="930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ime (second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38080" y="1447920"/>
                <a:ext cx="7518240" cy="2571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873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25640" y="322092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59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10560" y="32227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37640" y="32050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5480" y="3222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45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76400" y="322092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31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5760" y="32209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58800" y="2171880"/>
              <a:ext cx="9716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7360" y="223056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er A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63720" y="2400480"/>
              <a:ext cx="9381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4440" y="245916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P Multi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49520" y="2629080"/>
              <a:ext cx="844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40240" y="268776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P Div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77920" y="23241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7813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1440" y="25527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16400" y="2476440"/>
              <a:ext cx="862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06760" y="253512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06760" y="27176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rup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06040" y="290052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87800" y="27813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69240" y="2171880"/>
              <a:ext cx="1014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9960" y="223056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k 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01000" y="2400480"/>
              <a:ext cx="12412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89200" y="2459160"/>
              <a:ext cx="106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reen Refr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97840" y="2629080"/>
              <a:ext cx="861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87840" y="268776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88000" y="23241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5200" y="27813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92920" y="25527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77920" y="19432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35720" y="19432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92200" y="1616040"/>
              <a:ext cx="1122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80760" y="16747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icroscop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57840" y="1638360"/>
              <a:ext cx="11811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46040" y="169704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acroscop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231156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-Bes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424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good accuracy for &lt; 8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in one timer inter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 when heavily loa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796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ght load: ~4%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al clock interrupt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vy load: Very high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438280" y="304920"/>
          <a:ext cx="655344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655344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2870280" cy="2135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ens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Tim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4240" y="4648320"/>
            <a:ext cx="4051080" cy="168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tract Timer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e overhead of single interrupt by measuring periods of inactiv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interval timer to determine number of interrupts that have occur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7960" y="4648320"/>
            <a:ext cx="4051080" cy="168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ter Accuracy for &gt; 1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ght load: 0.2%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vy load: Still very high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971800" y="304920"/>
          <a:ext cx="61722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04920"/>
                    <a:ext cx="61722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160020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-Bes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24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able accuracy for &lt; 5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r allows process to run multiple interv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796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ght load: 2%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vy load: Generally very high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09680" y="0"/>
          <a:ext cx="693432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0"/>
                    <a:ext cx="69343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47720" y="334800"/>
            <a:ext cx="4089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of Day C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timeofday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elapsed time since reference time (Jan 1, 197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9760" indent="-82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interval counting on som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60160" indent="-83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rse 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9760" indent="-82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ycle counter on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60160" indent="-83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grained, but significant overhead and only 1 microsecond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3733920"/>
            <a:ext cx="6553440" cy="2527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ys/time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timeval tstart, t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timeofday(&amp;tstart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timeofday(&amp;tfinish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secs = (tfinish.tv_sec - tstart.tv_sec)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e6 * (tfinish.tv_usec - tstart.tv_use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82400" y="334800"/>
            <a:ext cx="6419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-Best Us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gettimeof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4240" y="5486400"/>
            <a:ext cx="405108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good as using cycle cou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imes &gt; 10 micro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7960" y="5486400"/>
            <a:ext cx="405108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d by interval 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 coarse-grain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19320" y="914400"/>
          <a:ext cx="655308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50840" y="334800"/>
            <a:ext cx="5283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ing is highly case and system 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overall duration being measur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 second: interval counting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1 second: must use cyc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what hardware / OS / OS ver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timeof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interrup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sing a Measuremen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durations: use Unix timing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du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ossible, use gettimeof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must work with cyc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best scheme most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0080" y="334800"/>
            <a:ext cx="5384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Challe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uch Time Does Program X Requi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total seconds are used when executing 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used for most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ependence on other system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(“Wall”)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econds elapse between the start and the completion of 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system load, I/O tim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ounding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es time get measur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rocesses share computing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ent effects when switching from one proces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denly, the effects of alternating among processes become notic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7520" y="30492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” on a Computer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2680" y="1682640"/>
            <a:ext cx="556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95200" y="1776240"/>
            <a:ext cx="241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(wall clock)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35728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71160" y="2233440"/>
            <a:ext cx="4109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user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ime executing instr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ions in the user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6320" y="4626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268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3880" y="4626000"/>
            <a:ext cx="889200" cy="355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44120" y="4654440"/>
            <a:ext cx="267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real (wall clock)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03840" y="5111640"/>
            <a:ext cx="546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 will use the word “time” to refer to user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1143000"/>
            <a:ext cx="279360" cy="355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143000"/>
            <a:ext cx="279360" cy="355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143000"/>
            <a:ext cx="279360" cy="355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119400"/>
            <a:ext cx="888840" cy="355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2600" y="2995560"/>
            <a:ext cx="509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system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ime executing instr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ions in kernel on behalf of user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2060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41800" y="4626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6360" y="3835440"/>
            <a:ext cx="88920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58560" y="3711600"/>
            <a:ext cx="5594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some other user’s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ime executing instr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ions in different user’s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15440" y="57913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mulative us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93640" y="334800"/>
            <a:ext cx="6197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ty Periods: Light Lo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24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 the time spent executing on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ic interrupts every 10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al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system from executing one process to exclusion of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terrup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e to I/O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ctivity perio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ime spent processing interru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250,000 clock cyc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90560" y="1544760"/>
            <a:ext cx="75628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6426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ty Periods: Heavy Lo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424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ing processor with one other activ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ic interrupts every 10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al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system from executing one process to exclusion of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terrup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e to I/O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ctivity perio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ime spent processing interru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s when other process exec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49240" y="334800"/>
            <a:ext cx="3886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val Coun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Measures Runtimes Using Interval Ti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ime get timer interrupt, increment timer for executing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time if running in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ime if running in 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9680" y="2514600"/>
            <a:ext cx="90043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39560" y="334800"/>
            <a:ext cx="4705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600" y="3581280"/>
            <a:ext cx="8254800" cy="27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82 seconds user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 timer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0 seconds system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timer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2 seconds wall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4.8% of total was used running these process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82+0.3)/1.32 = .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01160" y="1523880"/>
            <a:ext cx="700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make os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c clock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c option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c load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o osevent osevent.c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.820u 0.300s 0:01.32 84.8%     0+0k 0+0io 4049pf+0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7640" y="334800"/>
            <a:ext cx="662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 of Interval Coun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8255160" cy="31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Interval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ocess segment measurement can be off b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ound on error for multiple seg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080" indent="-145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consistently underestimate, or consistently over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/underestimates tend to balance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long as total run time is sufficiently l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ly miss 4% overhead due to timer interru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4606920" cy="1944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29200" y="1143000"/>
            <a:ext cx="3581280" cy="120276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d time = 7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Actual = 60 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Actual = 80 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Randal E. Bryant</dc:creator>
  <dc:description/>
  <dc:language>en-US</dc:language>
  <cp:lastModifiedBy>Gregory Kesden</cp:lastModifiedBy>
  <cp:lastPrinted>1999-11-29T19:40:23Z</cp:lastPrinted>
  <dcterms:modified xsi:type="dcterms:W3CDTF">2002-03-19T10:40:58Z</dcterms:modified>
  <cp:revision>288</cp:revision>
  <dc:subject/>
  <dc:title>Caches  CS 347  Feb. 3, 1998</dc:title>
</cp:coreProperties>
</file>