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4600" y="3817080"/>
            <a:ext cx="825480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4600" y="381708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600" y="381708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06632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6760" y="106632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4600" y="381708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81708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6760" y="3817080"/>
            <a:ext cx="265788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59000" y="3255480"/>
            <a:ext cx="10666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4600" y="381708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600" y="381708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600" y="1066320"/>
            <a:ext cx="402804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4600" y="3817080"/>
            <a:ext cx="8254800" cy="25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628960" y="6462720"/>
            <a:ext cx="305352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15-213 S’02 (Based on CS 213 F’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953520" y="6527880"/>
            <a:ext cx="123696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– </a:t>
            </a:r>
            <a:fld id="{0633F8DC-0356-4E38-AD23-595D8D281C67}" type="slidenum">
              <a:rPr b="0" lang="en-US" sz="1400" spc="-1" strike="noStrike">
                <a:solidFill>
                  <a:srgbClr val="919191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21880" y="64245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18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25320" y="1447920"/>
            <a:ext cx="4267080" cy="16142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ime Measurement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rch 19,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362320" y="3504960"/>
            <a:ext cx="5194080" cy="236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val count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cle coun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-best measurement sche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ing: Chapter 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: 9.10, 9.1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440" y="533520"/>
            <a:ext cx="155232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-2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09280" y="64119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18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852640" y="334800"/>
            <a:ext cx="34797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ycle Count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6000"/>
          </a:bodyPr>
          <a:p>
            <a:pPr lvl="1" marL="145440" indent="-57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modern systems have built in registers that are incremented every clock cyc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18160" indent="-42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fine gra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18160" indent="-42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tained as part of process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291240" indent="-432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Linux, counts elapsed global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5440" indent="-57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al assembly code instruction to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5440" indent="-57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(recent model) Intel machin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18160" indent="-42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 bit coun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18160" indent="-42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DTSC instruction set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d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high order 32-bits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a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low order 32-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ap Around Times for 550 MHz mach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5440" indent="-57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 order 32-bits wrap around every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/ (550 * 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= 7.8 seco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5440" indent="-57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 order 64-bits wrap around every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6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/ (550 * 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= 33539534679 seco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18160" indent="-42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65.3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52440" y="334800"/>
            <a:ext cx="66801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asuring with Cycle Count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2551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7000"/>
          </a:bodyPr>
          <a:p>
            <a:pPr marL="127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6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current value of cycle coun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8440" indent="-93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s pair of unsigned’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yc_h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yc_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6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 someth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6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new value of cycle coun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6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 double precision subtraction to get elapsed cyc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7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7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62120" y="3657600"/>
            <a:ext cx="7162560" cy="2284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Keep track of most recent reading of cycle counte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ic unsigned cyc_hi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ic unsigned cyc_lo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start_counter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Get current value of cycle counte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ccess_counter(&amp;cyc_hi, &amp;cyc_lo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4440" y="334800"/>
            <a:ext cx="79758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essing the Cycle Counter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2551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3000"/>
          </a:bodyPr>
          <a:p>
            <a:pPr lvl="1" marL="128880" indent="-511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CC allows inline assembly code with mechanism for matching registers with program vari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8880" indent="-511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e only works on x86 machine compiling with GC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8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8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8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8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8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8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8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8880" indent="-511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it assembly with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dts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tw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stru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8880" indent="-511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e generates two output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92960" indent="-37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mbolic regist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hould be used fo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92960" indent="-37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mbolic regist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hould be used fo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8880" indent="-511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e has no inpu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8880" indent="-511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a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d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ill be overwrit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2209680"/>
            <a:ext cx="7162920" cy="2040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access_counter(unsigned *hi, unsigned *l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Get cycle counte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sm("rdtsc; movl %%edx,%0; movl %%eax,%1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: "=r" (*hi), "=r" (*l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: /* No inpu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: "%edx", "%eax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4440" y="334800"/>
            <a:ext cx="79758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essing the Cycle Counter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2551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itted Assembly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2057400"/>
            <a:ext cx="7467480" cy="2014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49160"/>
                <a:tab algn="l" pos="292104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8(%ebp),%esi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h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292104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12(%ebp),%edi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292104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A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292104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dtsc; movl %edx,%ecx; movl %eax,%e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292104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NO_A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292104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cx,(%esi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Store high bits at *h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292104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%ebx,(%edi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Store low bits at *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34840" y="334800"/>
            <a:ext cx="57150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leting Measure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2551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new value of cycle coun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 double precision subtraction to get elapsed cyc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ress a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avoid overflow proble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2514600"/>
            <a:ext cx="7162920" cy="30142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uble get_counter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ncyc_hi, ncyc_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hi, lo, borrow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Get cycle counte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ccess_counter(&amp;ncyc_hi, &amp;ncyc_lo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Do double precision subtraction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 = ncyc_lo - cyc_lo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rrow = lo &gt; ncyc_lo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i = ncyc_hi - cyc_hi - borrow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(double) hi * (1 &lt;&lt; 30) * 4 + lo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07760" y="334800"/>
            <a:ext cx="59691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iming With Cycle Count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Clock Rate of Process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 number of cycles required for some fixed number of seco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Function 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attempt: Simply count cycles for one execution of 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90720" y="4495680"/>
            <a:ext cx="6553080" cy="106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uble tsec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rt_counter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secs = get_counter() / (MHZ * 1e6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14400" y="1905120"/>
            <a:ext cx="6553080" cy="13107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uble MHZ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sleep_time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rt_counter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leep(sleep_tim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HZ = get_counter()/(sleep_time * 1e6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59000" y="334800"/>
            <a:ext cx="1066680" cy="3697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iming with Cycle Count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4267080"/>
            <a:ext cx="6553080" cy="106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uble tsec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rt_counter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secs = get_counter() / (MHZ * 1e6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14400" y="2209680"/>
            <a:ext cx="6553080" cy="13107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uble MHZ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sleep_time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rt_counter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leep(sleep_tim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HZ = get_counter()/(sleep_time * 1e6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42800" y="334800"/>
            <a:ext cx="46990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asurement Pitfal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he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ing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_counter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curs small amount of overhea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nt to measure long enough code sequence to compens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expected Cache Effe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tificial hits or mi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these measurements were taken with the Alpha cycle counter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o1(array1, array2, array3)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68,829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cycles */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o2(array1, array2, array3)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3,337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cycles */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o2(array1, array2, array3)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,513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cycles */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o1(array1, array2, array3)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3,203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cycles */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61720" y="334800"/>
            <a:ext cx="86612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aling with Overhead &amp; Cache Effec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lvl="1" marL="532440" indent="-211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ways execute function once to “warm up” cach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2440" indent="-211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ep doubling number of times execute P() until reach some threshol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97760" indent="-156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CMIN = 5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14400" y="2514600"/>
            <a:ext cx="7010280" cy="37443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cnt =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uble cmeas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uble cycle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 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c = cn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()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Warm up cach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_counter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 (c-- &gt; 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meas = get_counter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ycles = cmeas / cn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nt += cn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while (cmeas &lt; CMIN);  /* Make sure have enough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cycles / (1e6 * MHZ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369880" y="334800"/>
            <a:ext cx="44449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tasking Effec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ycle Counter Measures Elapsed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eps accumulating during periods of inac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ning other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Obser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cle counter never underestimates program run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y overestimates by large amou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-Best Measurement Sche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 up to N (e.g., 20) measurements of fun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if fastest K (e.g., 3) within some relative factor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.g., 0.001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90720" y="5105520"/>
            <a:ext cx="6400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981080" y="5029200"/>
            <a:ext cx="152640" cy="152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5029200"/>
            <a:ext cx="152280" cy="152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5029200"/>
            <a:ext cx="152280" cy="152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191120" y="5029200"/>
            <a:ext cx="152280" cy="152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19720" y="5029200"/>
            <a:ext cx="152280" cy="152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1480" y="5029200"/>
            <a:ext cx="152640" cy="152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2095560" y="5142960"/>
            <a:ext cx="152280" cy="381240"/>
          </a:xfrm>
          <a:custGeom>
            <a:avLst/>
            <a:gdLst>
              <a:gd name="textAreaLeft" fmla="*/ 97200 w 152280"/>
              <a:gd name="textAreaRight" fmla="*/ 152640 w 15228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990720" y="502884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059200" y="5410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133720" y="5029200"/>
            <a:ext cx="152280" cy="152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64960" y="334800"/>
            <a:ext cx="50547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uter Time Sca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4190760"/>
            <a:ext cx="4051440" cy="206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352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 Fundamental Time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520" indent="-204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22352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or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~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–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econd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5520" indent="-204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22352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ternal events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~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–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econd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72560" indent="-15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22352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yboard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72560" indent="-15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22352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k se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72560" indent="-15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22352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reen refre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0" y="4191120"/>
            <a:ext cx="4051440" cy="214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execute many instructions while waiting for external event to occu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alternate among processes without anyone notic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838080" y="1447920"/>
            <a:ext cx="7518240" cy="2571480"/>
            <a:chOff x="838080" y="1447920"/>
            <a:chExt cx="7518240" cy="2571480"/>
          </a:xfrm>
        </p:grpSpPr>
        <p:grpSp>
          <p:nvGrpSpPr>
            <p:cNvPr id="49" name=""/>
            <p:cNvGrpSpPr/>
            <p:nvPr/>
          </p:nvGrpSpPr>
          <p:grpSpPr>
            <a:xfrm>
              <a:off x="838080" y="1447920"/>
              <a:ext cx="7518240" cy="2571480"/>
              <a:chOff x="838080" y="1447920"/>
              <a:chExt cx="7518240" cy="2571480"/>
            </a:xfrm>
          </p:grpSpPr>
          <p:sp>
            <p:nvSpPr>
              <p:cNvPr id="50" name=""/>
              <p:cNvSpPr/>
              <p:nvPr/>
            </p:nvSpPr>
            <p:spPr>
              <a:xfrm>
                <a:off x="838080" y="1447920"/>
                <a:ext cx="7518240" cy="25714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184040" y="1920960"/>
                <a:ext cx="6845400" cy="1484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184040" y="3159000"/>
                <a:ext cx="7621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946160" y="3159000"/>
                <a:ext cx="76356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709720" y="3159000"/>
                <a:ext cx="7524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462120" y="3159000"/>
                <a:ext cx="76356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225680" y="3159000"/>
                <a:ext cx="7621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4987800" y="3159000"/>
                <a:ext cx="76356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751360" y="3159000"/>
                <a:ext cx="7524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503760" y="3159000"/>
                <a:ext cx="76356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267320" y="3159000"/>
                <a:ext cx="7621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22120" y="2979720"/>
                <a:ext cx="101880" cy="93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650960" y="2979720"/>
                <a:ext cx="101520" cy="93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322360" y="2979720"/>
                <a:ext cx="101520" cy="93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27320" y="2979720"/>
                <a:ext cx="101880" cy="93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503760" y="2979720"/>
                <a:ext cx="101880" cy="93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6840360" y="2979720"/>
                <a:ext cx="101520" cy="93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981840" y="2979720"/>
                <a:ext cx="101520" cy="93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152360" y="3130560"/>
                <a:ext cx="61920" cy="57240"/>
              </a:xfrm>
              <a:custGeom>
                <a:avLst/>
                <a:gdLst/>
                <a:ahLst/>
                <a:rect l="l" t="t" r="r" b="b"/>
                <a:pathLst>
                  <a:path w="39" h="36">
                    <a:moveTo>
                      <a:pt x="20" y="0"/>
                    </a:moveTo>
                    <a:lnTo>
                      <a:pt x="39" y="36"/>
                    </a:lnTo>
                    <a:lnTo>
                      <a:pt x="0" y="36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333333"/>
              </a:solidFill>
              <a:ln w="9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915920" y="3130560"/>
                <a:ext cx="60480" cy="57240"/>
              </a:xfrm>
              <a:custGeom>
                <a:avLst/>
                <a:gdLst/>
                <a:ahLst/>
                <a:rect l="l" t="t" r="r" b="b"/>
                <a:pathLst>
                  <a:path w="38" h="36">
                    <a:moveTo>
                      <a:pt x="19" y="0"/>
                    </a:moveTo>
                    <a:lnTo>
                      <a:pt x="38" y="36"/>
                    </a:lnTo>
                    <a:lnTo>
                      <a:pt x="0" y="36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333333"/>
              </a:solidFill>
              <a:ln w="9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679480" y="3130560"/>
                <a:ext cx="60480" cy="57240"/>
              </a:xfrm>
              <a:custGeom>
                <a:avLst/>
                <a:gdLst/>
                <a:ahLst/>
                <a:rect l="l" t="t" r="r" b="b"/>
                <a:pathLst>
                  <a:path w="38" h="36">
                    <a:moveTo>
                      <a:pt x="19" y="0"/>
                    </a:moveTo>
                    <a:lnTo>
                      <a:pt x="38" y="36"/>
                    </a:lnTo>
                    <a:lnTo>
                      <a:pt x="0" y="36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333333"/>
              </a:solidFill>
              <a:ln w="9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431880" y="3130560"/>
                <a:ext cx="60480" cy="57240"/>
              </a:xfrm>
              <a:custGeom>
                <a:avLst/>
                <a:gdLst/>
                <a:ahLst/>
                <a:rect l="l" t="t" r="r" b="b"/>
                <a:pathLst>
                  <a:path w="38" h="36">
                    <a:moveTo>
                      <a:pt x="19" y="0"/>
                    </a:moveTo>
                    <a:lnTo>
                      <a:pt x="38" y="36"/>
                    </a:lnTo>
                    <a:lnTo>
                      <a:pt x="0" y="36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333333"/>
              </a:solidFill>
              <a:ln w="9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194000" y="3130560"/>
                <a:ext cx="61920" cy="57240"/>
              </a:xfrm>
              <a:custGeom>
                <a:avLst/>
                <a:gdLst/>
                <a:ahLst/>
                <a:rect l="l" t="t" r="r" b="b"/>
                <a:pathLst>
                  <a:path w="39" h="36">
                    <a:moveTo>
                      <a:pt x="20" y="0"/>
                    </a:moveTo>
                    <a:lnTo>
                      <a:pt x="39" y="36"/>
                    </a:lnTo>
                    <a:lnTo>
                      <a:pt x="0" y="36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333333"/>
              </a:solidFill>
              <a:ln w="9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957560" y="3130560"/>
                <a:ext cx="61920" cy="57240"/>
              </a:xfrm>
              <a:custGeom>
                <a:avLst/>
                <a:gdLst/>
                <a:ahLst/>
                <a:rect l="l" t="t" r="r" b="b"/>
                <a:pathLst>
                  <a:path w="39" h="36">
                    <a:moveTo>
                      <a:pt x="19" y="0"/>
                    </a:moveTo>
                    <a:lnTo>
                      <a:pt x="39" y="36"/>
                    </a:lnTo>
                    <a:lnTo>
                      <a:pt x="0" y="36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333333"/>
              </a:solidFill>
              <a:ln w="9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721120" y="3130560"/>
                <a:ext cx="60480" cy="57240"/>
              </a:xfrm>
              <a:custGeom>
                <a:avLst/>
                <a:gdLst/>
                <a:ahLst/>
                <a:rect l="l" t="t" r="r" b="b"/>
                <a:pathLst>
                  <a:path w="38" h="36">
                    <a:moveTo>
                      <a:pt x="19" y="0"/>
                    </a:moveTo>
                    <a:lnTo>
                      <a:pt x="38" y="36"/>
                    </a:lnTo>
                    <a:lnTo>
                      <a:pt x="0" y="36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333333"/>
              </a:solidFill>
              <a:ln w="9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473880" y="3130560"/>
                <a:ext cx="60120" cy="57240"/>
              </a:xfrm>
              <a:custGeom>
                <a:avLst/>
                <a:gdLst/>
                <a:ahLst/>
                <a:rect l="l" t="t" r="r" b="b"/>
                <a:pathLst>
                  <a:path w="38" h="36">
                    <a:moveTo>
                      <a:pt x="19" y="0"/>
                    </a:moveTo>
                    <a:lnTo>
                      <a:pt x="38" y="36"/>
                    </a:lnTo>
                    <a:lnTo>
                      <a:pt x="0" y="36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333333"/>
              </a:solidFill>
              <a:ln w="9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237440" y="3130560"/>
                <a:ext cx="60120" cy="57240"/>
              </a:xfrm>
              <a:custGeom>
                <a:avLst/>
                <a:gdLst/>
                <a:ahLst/>
                <a:rect l="l" t="t" r="r" b="b"/>
                <a:pathLst>
                  <a:path w="38" h="36">
                    <a:moveTo>
                      <a:pt x="19" y="0"/>
                    </a:moveTo>
                    <a:lnTo>
                      <a:pt x="38" y="36"/>
                    </a:lnTo>
                    <a:lnTo>
                      <a:pt x="0" y="36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333333"/>
              </a:solidFill>
              <a:ln w="9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999200" y="3130560"/>
                <a:ext cx="61920" cy="57240"/>
              </a:xfrm>
              <a:custGeom>
                <a:avLst/>
                <a:gdLst/>
                <a:ahLst/>
                <a:rect l="l" t="t" r="r" b="b"/>
                <a:pathLst>
                  <a:path w="39" h="36">
                    <a:moveTo>
                      <a:pt x="19" y="0"/>
                    </a:moveTo>
                    <a:lnTo>
                      <a:pt x="39" y="36"/>
                    </a:lnTo>
                    <a:lnTo>
                      <a:pt x="0" y="36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333333"/>
              </a:solidFill>
              <a:ln w="936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597480" y="1550880"/>
                <a:ext cx="1850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Time Scale (1 Ghz Machine)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990000" y="3510000"/>
                <a:ext cx="372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.E-09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268080" y="3510000"/>
                <a:ext cx="372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.E-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557320" y="3510000"/>
                <a:ext cx="372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.E-0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816680" y="3510000"/>
                <a:ext cx="403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.E+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123440" y="3727440"/>
                <a:ext cx="930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Time (seconds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838080" y="1447920"/>
                <a:ext cx="7518240" cy="25714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>
              <a:off x="873000" y="3162240"/>
              <a:ext cx="59688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025640" y="3220920"/>
              <a:ext cx="29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 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159000" y="3162240"/>
              <a:ext cx="59688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310560" y="3222720"/>
              <a:ext cx="12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37640" y="3205080"/>
              <a:ext cx="8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5480" y="3222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445000" y="3162240"/>
              <a:ext cx="59688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76400" y="3220920"/>
              <a:ext cx="331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 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31000" y="3162240"/>
              <a:ext cx="59688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25760" y="3220920"/>
              <a:ext cx="20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 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558800" y="2171880"/>
              <a:ext cx="97164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47360" y="2230560"/>
              <a:ext cx="793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teger Ad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63720" y="2400480"/>
              <a:ext cx="93816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954440" y="2459160"/>
              <a:ext cx="75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P Multip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549520" y="2629080"/>
              <a:ext cx="84456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640240" y="2687760"/>
              <a:ext cx="66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P Divi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177920" y="2324160"/>
              <a:ext cx="457200" cy="685800"/>
            </a:xfrm>
            <a:custGeom>
              <a:avLst/>
              <a:gdLst/>
              <a:ahLst/>
              <a:rect l="l" t="t" r="r" b="b"/>
              <a:pathLst>
                <a:path w="288" h="432">
                  <a:moveTo>
                    <a:pt x="0" y="432"/>
                  </a:moveTo>
                  <a:lnTo>
                    <a:pt x="96" y="0"/>
                  </a:lnTo>
                  <a:lnTo>
                    <a:pt x="28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397240" y="278136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0" y="144"/>
                  </a:moveTo>
                  <a:lnTo>
                    <a:pt x="48" y="0"/>
                  </a:lnTo>
                  <a:lnTo>
                    <a:pt x="14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711440" y="2552760"/>
              <a:ext cx="228600" cy="457200"/>
            </a:xfrm>
            <a:custGeom>
              <a:avLst/>
              <a:gdLst/>
              <a:ahLst/>
              <a:rect l="l" t="t" r="r" b="b"/>
              <a:pathLst>
                <a:path w="144" h="288">
                  <a:moveTo>
                    <a:pt x="0" y="288"/>
                  </a:moveTo>
                  <a:lnTo>
                    <a:pt x="96" y="0"/>
                  </a:lnTo>
                  <a:lnTo>
                    <a:pt x="14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216400" y="2476440"/>
              <a:ext cx="8622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306760" y="2535120"/>
              <a:ext cx="680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eystrok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306760" y="271764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terrup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306040" y="2900520"/>
              <a:ext cx="535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andl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987800" y="278136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0" y="144"/>
                  </a:moveTo>
                  <a:lnTo>
                    <a:pt x="48" y="0"/>
                  </a:lnTo>
                  <a:lnTo>
                    <a:pt x="14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969240" y="2171880"/>
              <a:ext cx="101412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59960" y="2230560"/>
              <a:ext cx="831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sk Acc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101000" y="2400480"/>
              <a:ext cx="124128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189200" y="2459160"/>
              <a:ext cx="1063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creen Refres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197840" y="2629080"/>
              <a:ext cx="86184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287840" y="2687760"/>
              <a:ext cx="680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eystrok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88000" y="2324160"/>
              <a:ext cx="457200" cy="685800"/>
            </a:xfrm>
            <a:custGeom>
              <a:avLst/>
              <a:gdLst/>
              <a:ahLst/>
              <a:rect l="l" t="t" r="r" b="b"/>
              <a:pathLst>
                <a:path w="288" h="432">
                  <a:moveTo>
                    <a:pt x="0" y="432"/>
                  </a:moveTo>
                  <a:lnTo>
                    <a:pt x="96" y="0"/>
                  </a:lnTo>
                  <a:lnTo>
                    <a:pt x="28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45200" y="278136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0" y="144"/>
                  </a:moveTo>
                  <a:lnTo>
                    <a:pt x="48" y="0"/>
                  </a:lnTo>
                  <a:lnTo>
                    <a:pt x="14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892920" y="2552760"/>
              <a:ext cx="228600" cy="457200"/>
            </a:xfrm>
            <a:custGeom>
              <a:avLst/>
              <a:gdLst/>
              <a:ahLst/>
              <a:rect l="l" t="t" r="r" b="b"/>
              <a:pathLst>
                <a:path w="144" h="288">
                  <a:moveTo>
                    <a:pt x="0" y="288"/>
                  </a:moveTo>
                  <a:lnTo>
                    <a:pt x="96" y="0"/>
                  </a:lnTo>
                  <a:lnTo>
                    <a:pt x="14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177920" y="1943280"/>
              <a:ext cx="1676520" cy="228600"/>
            </a:xfrm>
            <a:custGeom>
              <a:avLst/>
              <a:gdLst/>
              <a:ahLst/>
              <a:rect l="l" t="t" r="r" b="b"/>
              <a:pathLst>
                <a:path w="1056" h="144">
                  <a:moveTo>
                    <a:pt x="1056" y="144"/>
                  </a:moveTo>
                  <a:lnTo>
                    <a:pt x="1054" y="129"/>
                  </a:lnTo>
                  <a:lnTo>
                    <a:pt x="1049" y="116"/>
                  </a:lnTo>
                  <a:lnTo>
                    <a:pt x="1041" y="104"/>
                  </a:lnTo>
                  <a:lnTo>
                    <a:pt x="1030" y="93"/>
                  </a:lnTo>
                  <a:lnTo>
                    <a:pt x="1017" y="84"/>
                  </a:lnTo>
                  <a:lnTo>
                    <a:pt x="1002" y="78"/>
                  </a:lnTo>
                  <a:lnTo>
                    <a:pt x="986" y="73"/>
                  </a:lnTo>
                  <a:lnTo>
                    <a:pt x="968" y="72"/>
                  </a:lnTo>
                  <a:lnTo>
                    <a:pt x="616" y="72"/>
                  </a:lnTo>
                  <a:lnTo>
                    <a:pt x="598" y="71"/>
                  </a:lnTo>
                  <a:lnTo>
                    <a:pt x="582" y="66"/>
                  </a:lnTo>
                  <a:lnTo>
                    <a:pt x="567" y="60"/>
                  </a:lnTo>
                  <a:lnTo>
                    <a:pt x="554" y="51"/>
                  </a:lnTo>
                  <a:lnTo>
                    <a:pt x="543" y="40"/>
                  </a:lnTo>
                  <a:lnTo>
                    <a:pt x="535" y="28"/>
                  </a:lnTo>
                  <a:lnTo>
                    <a:pt x="530" y="15"/>
                  </a:lnTo>
                  <a:lnTo>
                    <a:pt x="528" y="0"/>
                  </a:lnTo>
                  <a:lnTo>
                    <a:pt x="526" y="15"/>
                  </a:lnTo>
                  <a:lnTo>
                    <a:pt x="521" y="28"/>
                  </a:lnTo>
                  <a:lnTo>
                    <a:pt x="513" y="40"/>
                  </a:lnTo>
                  <a:lnTo>
                    <a:pt x="502" y="51"/>
                  </a:lnTo>
                  <a:lnTo>
                    <a:pt x="489" y="60"/>
                  </a:lnTo>
                  <a:lnTo>
                    <a:pt x="474" y="66"/>
                  </a:lnTo>
                  <a:lnTo>
                    <a:pt x="458" y="71"/>
                  </a:lnTo>
                  <a:lnTo>
                    <a:pt x="440" y="72"/>
                  </a:lnTo>
                  <a:lnTo>
                    <a:pt x="88" y="72"/>
                  </a:lnTo>
                  <a:lnTo>
                    <a:pt x="70" y="73"/>
                  </a:lnTo>
                  <a:lnTo>
                    <a:pt x="54" y="78"/>
                  </a:lnTo>
                  <a:lnTo>
                    <a:pt x="39" y="84"/>
                  </a:lnTo>
                  <a:lnTo>
                    <a:pt x="26" y="93"/>
                  </a:lnTo>
                  <a:lnTo>
                    <a:pt x="15" y="104"/>
                  </a:lnTo>
                  <a:lnTo>
                    <a:pt x="7" y="116"/>
                  </a:lnTo>
                  <a:lnTo>
                    <a:pt x="2" y="129"/>
                  </a:lnTo>
                  <a:lnTo>
                    <a:pt x="0" y="1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35720" y="1943280"/>
              <a:ext cx="1676520" cy="228600"/>
            </a:xfrm>
            <a:custGeom>
              <a:avLst/>
              <a:gdLst/>
              <a:ahLst/>
              <a:rect l="l" t="t" r="r" b="b"/>
              <a:pathLst>
                <a:path w="1056" h="144">
                  <a:moveTo>
                    <a:pt x="1056" y="144"/>
                  </a:moveTo>
                  <a:lnTo>
                    <a:pt x="1054" y="129"/>
                  </a:lnTo>
                  <a:lnTo>
                    <a:pt x="1049" y="116"/>
                  </a:lnTo>
                  <a:lnTo>
                    <a:pt x="1041" y="104"/>
                  </a:lnTo>
                  <a:lnTo>
                    <a:pt x="1030" y="93"/>
                  </a:lnTo>
                  <a:lnTo>
                    <a:pt x="1017" y="84"/>
                  </a:lnTo>
                  <a:lnTo>
                    <a:pt x="1002" y="78"/>
                  </a:lnTo>
                  <a:lnTo>
                    <a:pt x="986" y="73"/>
                  </a:lnTo>
                  <a:lnTo>
                    <a:pt x="968" y="72"/>
                  </a:lnTo>
                  <a:lnTo>
                    <a:pt x="616" y="72"/>
                  </a:lnTo>
                  <a:lnTo>
                    <a:pt x="598" y="71"/>
                  </a:lnTo>
                  <a:lnTo>
                    <a:pt x="582" y="66"/>
                  </a:lnTo>
                  <a:lnTo>
                    <a:pt x="567" y="60"/>
                  </a:lnTo>
                  <a:lnTo>
                    <a:pt x="554" y="51"/>
                  </a:lnTo>
                  <a:lnTo>
                    <a:pt x="543" y="40"/>
                  </a:lnTo>
                  <a:lnTo>
                    <a:pt x="535" y="28"/>
                  </a:lnTo>
                  <a:lnTo>
                    <a:pt x="530" y="15"/>
                  </a:lnTo>
                  <a:lnTo>
                    <a:pt x="528" y="0"/>
                  </a:lnTo>
                  <a:lnTo>
                    <a:pt x="526" y="15"/>
                  </a:lnTo>
                  <a:lnTo>
                    <a:pt x="521" y="28"/>
                  </a:lnTo>
                  <a:lnTo>
                    <a:pt x="513" y="40"/>
                  </a:lnTo>
                  <a:lnTo>
                    <a:pt x="502" y="51"/>
                  </a:lnTo>
                  <a:lnTo>
                    <a:pt x="489" y="60"/>
                  </a:lnTo>
                  <a:lnTo>
                    <a:pt x="474" y="66"/>
                  </a:lnTo>
                  <a:lnTo>
                    <a:pt x="458" y="71"/>
                  </a:lnTo>
                  <a:lnTo>
                    <a:pt x="440" y="72"/>
                  </a:lnTo>
                  <a:lnTo>
                    <a:pt x="88" y="72"/>
                  </a:lnTo>
                  <a:lnTo>
                    <a:pt x="70" y="73"/>
                  </a:lnTo>
                  <a:lnTo>
                    <a:pt x="54" y="78"/>
                  </a:lnTo>
                  <a:lnTo>
                    <a:pt x="39" y="84"/>
                  </a:lnTo>
                  <a:lnTo>
                    <a:pt x="26" y="93"/>
                  </a:lnTo>
                  <a:lnTo>
                    <a:pt x="15" y="104"/>
                  </a:lnTo>
                  <a:lnTo>
                    <a:pt x="7" y="116"/>
                  </a:lnTo>
                  <a:lnTo>
                    <a:pt x="2" y="129"/>
                  </a:lnTo>
                  <a:lnTo>
                    <a:pt x="0" y="1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492200" y="1616040"/>
              <a:ext cx="112248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580760" y="1674720"/>
              <a:ext cx="943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Microscop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657840" y="1638360"/>
              <a:ext cx="118116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746040" y="1697040"/>
              <a:ext cx="1003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Macroscop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1920" y="304920"/>
            <a:ext cx="2311560" cy="1095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-Best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alid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44240" y="4876560"/>
            <a:ext cx="4051080" cy="145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y good accuracy for &lt; 8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in one timer interv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en when heavily load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47960" y="4876560"/>
            <a:ext cx="4051080" cy="145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ss accurate of &gt; 10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ght load: ~4% err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val clock interrupt hand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avy load: Very high err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2438280" y="304920"/>
          <a:ext cx="6553440" cy="455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304920"/>
                    <a:ext cx="6553440" cy="45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-36360" y="2666880"/>
            <a:ext cx="2592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indent="-3427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 = 3,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0.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2870280" cy="2135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ensat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Timer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hea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44240" y="4648320"/>
            <a:ext cx="4051080" cy="168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tract Timer Overhea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1280" indent="-20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timate overhead of single interrupt by measuring periods of inactiv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1280" indent="-206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l interval timer to determine number of interrupts that have occurr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47960" y="4648320"/>
            <a:ext cx="4051080" cy="168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tter Accuracy for &gt; 10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ght load: 0.2% err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avy load: Still very high err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-36360" y="2666880"/>
            <a:ext cx="2592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indent="-3427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 = 3,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0.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2971800" y="304920"/>
          <a:ext cx="6172200" cy="428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304920"/>
                    <a:ext cx="6172200" cy="42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1920" y="304920"/>
            <a:ext cx="1600200" cy="16142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-Best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n 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44240" y="4876560"/>
            <a:ext cx="4051080" cy="145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ptable accuracy for &lt; 50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heduler allows process to run multiple interv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47960" y="4876560"/>
            <a:ext cx="4051080" cy="145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ss accurate of &gt; 10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ght load: 2% err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avy load: Generally very high err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-36360" y="2666880"/>
            <a:ext cx="2592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indent="-3427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 = 3,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0.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2209680" y="0"/>
          <a:ext cx="6934320" cy="4819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0"/>
                    <a:ext cx="69343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547720" y="334800"/>
            <a:ext cx="408924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ime of Day Clo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2551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0000"/>
          </a:bodyPr>
          <a:p>
            <a:pPr lvl="1" marL="280080" indent="-111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x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timeofday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un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0080" indent="-111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 elapsed time since reference time (Jan 1, 1970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0080" indent="-111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19760" indent="-82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interval counting on some mach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60160" indent="-83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rse gra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19760" indent="-82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ycle counter on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60160" indent="-83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e grained, but significant overhead and only 1 microsecond 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1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066680" y="3733920"/>
            <a:ext cx="6553440" cy="2527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&lt;sys/time.h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&lt;unistd.h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timeval tstart, tfinish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uble tsec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timeofday(&amp;tstart, NUL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timeofday(&amp;tfinish, NUL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secs = (tfinish.tv_sec - tstart.tv_sec)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e6 * (tfinish.tv_usec - tstart.tv_use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82400" y="334800"/>
            <a:ext cx="64198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-Best Using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gettimeof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44240" y="5486400"/>
            <a:ext cx="4051080" cy="84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93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 good as using cycle coun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93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times &gt; 10 microsecond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47960" y="5486400"/>
            <a:ext cx="4051080" cy="84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93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lemented by interval coun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7440" indent="-193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o coarse-grain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219320" y="914400"/>
          <a:ext cx="6553080" cy="455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914400"/>
                    <a:ext cx="6553080" cy="45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50840" y="334800"/>
            <a:ext cx="52830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asurement Summ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ing is highly case and system depend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is overall duration being measured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1 second: interval counting is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&lt; 1 second: must use cycle cou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what hardware / OS / OS version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ing cou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ettimeofd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r interrupt over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ing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vising a Measurement Meth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 durations: use Unix timing 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rt dur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possible, use gettimeof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wise must work with cycle cou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-best scheme most success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00080" y="334800"/>
            <a:ext cx="53848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asurement Challe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Much Time Does Program X Requir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U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any total seconds are used when executing X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 used for most 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 dependence on other system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ual (“Wall”)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any seconds elapse between the start and the completion of X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ends on system load, I/O time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ounding Fac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does time get measured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y processes share computing resour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ent effects when switching from one process to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ddenly, the effects of alternating among processes become notice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7520" y="304920"/>
            <a:ext cx="67564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ime” on a Computer Syste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19320" y="1143000"/>
            <a:ext cx="888840" cy="355680"/>
          </a:xfrm>
          <a:prstGeom prst="rect">
            <a:avLst/>
          </a:prstGeom>
          <a:solidFill>
            <a:srgbClr val="c8c8c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91320" y="1143000"/>
            <a:ext cx="888840" cy="355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76920" y="1143000"/>
            <a:ext cx="888840" cy="355680"/>
          </a:xfrm>
          <a:prstGeom prst="rect">
            <a:avLst/>
          </a:prstGeom>
          <a:solidFill>
            <a:srgbClr val="c8c8c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62520" y="1143000"/>
            <a:ext cx="888840" cy="355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8120" y="1143000"/>
            <a:ext cx="888840" cy="355680"/>
          </a:xfrm>
          <a:prstGeom prst="rect">
            <a:avLst/>
          </a:prstGeom>
          <a:solidFill>
            <a:srgbClr val="c8c8c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33720" y="1143000"/>
            <a:ext cx="888840" cy="355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82680" y="1682640"/>
            <a:ext cx="5562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95200" y="1776240"/>
            <a:ext cx="2417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 (wall clock)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19320" y="2357280"/>
            <a:ext cx="888840" cy="355680"/>
          </a:xfrm>
          <a:prstGeom prst="rect">
            <a:avLst/>
          </a:prstGeom>
          <a:solidFill>
            <a:srgbClr val="c8c8c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71160" y="2233440"/>
            <a:ext cx="4109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user tim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time executing instruc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ions in the user proce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46320" y="4626000"/>
            <a:ext cx="888840" cy="355680"/>
          </a:xfrm>
          <a:prstGeom prst="rect">
            <a:avLst/>
          </a:prstGeom>
          <a:solidFill>
            <a:srgbClr val="c8c8c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72680" y="4654440"/>
            <a:ext cx="315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93880" y="4626000"/>
            <a:ext cx="889200" cy="355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44120" y="4654440"/>
            <a:ext cx="2679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 real (wall clock)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03840" y="5111640"/>
            <a:ext cx="5469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e will use the word “time” to refer to user 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133720" y="1143000"/>
            <a:ext cx="279360" cy="355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62520" y="1143000"/>
            <a:ext cx="279360" cy="3556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91320" y="1143000"/>
            <a:ext cx="279360" cy="3556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19320" y="3119400"/>
            <a:ext cx="888840" cy="3556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2600" y="2995560"/>
            <a:ext cx="5090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system tim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time executing instruc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ions in kernel on behalf of user proce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20600" y="4654440"/>
            <a:ext cx="315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41800" y="4626000"/>
            <a:ext cx="888840" cy="355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06360" y="3835440"/>
            <a:ext cx="88920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158560" y="3711600"/>
            <a:ext cx="5594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some other user’s tim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time executing instruc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ructions in different user’s proce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5791320"/>
            <a:ext cx="888840" cy="355320"/>
          </a:xfrm>
          <a:prstGeom prst="rect">
            <a:avLst/>
          </a:prstGeom>
          <a:solidFill>
            <a:srgbClr val="c8c8c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48120" y="5791320"/>
            <a:ext cx="888840" cy="355320"/>
          </a:xfrm>
          <a:prstGeom prst="rect">
            <a:avLst/>
          </a:prstGeom>
          <a:solidFill>
            <a:srgbClr val="c8c8c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133720" y="5791320"/>
            <a:ext cx="888840" cy="355320"/>
          </a:xfrm>
          <a:prstGeom prst="rect">
            <a:avLst/>
          </a:prstGeom>
          <a:solidFill>
            <a:srgbClr val="c8c8c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015440" y="5791320"/>
            <a:ext cx="26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mmulative user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93640" y="334800"/>
            <a:ext cx="61974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ity Periods: Light Loa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44240" y="4266720"/>
            <a:ext cx="4051080" cy="206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st of the time spent executing one proc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iodic interrupts every 10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val ti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ep system from executing one process to exclusion of oth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47960" y="4266720"/>
            <a:ext cx="4051080" cy="206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 interrup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ue to I/O a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activity period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 time spent processing interrup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~250,000 clock cycl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790560" y="1544760"/>
            <a:ext cx="756288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9160" y="334800"/>
            <a:ext cx="64263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ity Periods: Heavy Loa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44240" y="4266720"/>
            <a:ext cx="4051080" cy="206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ing processor with one other active proc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iodic interrupts every 10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val ti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ep system from executing one process to exclusion of oth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7960" y="4266720"/>
            <a:ext cx="4051080" cy="206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 interrup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ue to I/O a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activity period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 time spent processing interrup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iods when other process execu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649240" y="334800"/>
            <a:ext cx="38862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val Count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S Measures Runtimes Using Interval Tim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time get timer interrupt, increment timer for executing pro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time if running in user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time if running in kernel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9680" y="2514600"/>
            <a:ext cx="900432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39560" y="334800"/>
            <a:ext cx="47055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ix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tim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44600" y="3581280"/>
            <a:ext cx="8254800" cy="275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82 seconds user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2 timer inter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30 seconds system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timer inter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32 seconds wall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4.8% of total was used running these processe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.82+0.3)/1.32 = .8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01160" y="1523880"/>
            <a:ext cx="7008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 make osev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cc -O2 -Wall -g  -march=i486 -c clock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cc -O2 -Wall -g  -march=i486 -c option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cc -O2 -Wall -g  -march=i486 -c load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cc -O2 -Wall -g  -march=i486 -o osevent osevent.c . .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.820u 0.300s 0:01.32 84.8%     0+0k 0+0io 4049pf+0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77640" y="334800"/>
            <a:ext cx="66294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 of Interval Count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2971800"/>
            <a:ext cx="8255160" cy="313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196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st Cas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3200" indent="-195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r Interval =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93200" indent="-195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rocess segment measurement can be off by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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93200" indent="-195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bound on error for multiple seg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39080" indent="-145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ld consistently underestimate, or consistently overesti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erage Cas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3200" indent="-195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/underestimates tend to balance ou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93200" indent="-195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long as total run time is sufficiently lar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39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1 sec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93200" indent="-195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istently miss 4% overhead due to timer interrup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4606920" cy="19447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5029200" y="1143000"/>
            <a:ext cx="3581280" cy="1202760"/>
          </a:xfrm>
          <a:prstGeom prst="rect">
            <a:avLst/>
          </a:prstGeom>
          <a:solidFill>
            <a:srgbClr val="c8c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d time = 70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 Actual = 60 +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 Actual = 80 –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02T14:46:03Z</dcterms:created>
  <dc:creator>Randal E. Bryant</dc:creator>
  <dc:description/>
  <dc:language>en-US</dc:language>
  <cp:lastModifiedBy>Gregory Kesden</cp:lastModifiedBy>
  <cp:lastPrinted>1999-11-29T19:40:23Z</cp:lastPrinted>
  <dcterms:modified xsi:type="dcterms:W3CDTF">2002-03-19T10:40:58Z</dcterms:modified>
  <cp:revision>288</cp:revision>
  <dc:subject/>
  <dc:title>Caches  CS 347  Feb. 3, 1998</dc:title>
</cp:coreProperties>
</file>