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B95AFCE0-6145-4DF9-BABF-04814FEEB8A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2440" y="1905120"/>
            <a:ext cx="59943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8.5-8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8.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2656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3975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a set of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sortfiles f1.txt f2.txt f3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oncur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of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 f1.txt –o f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ke a process for each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by waiting for all processes to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523880"/>
            <a:ext cx="449604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wait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invoke(argc, arg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lete(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pawn set of sort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523880"/>
            <a:ext cx="8839440" cy="447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nvoke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1; i &lt; argc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ork off a new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: Invoke sort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sorting file %s\n", getpid(), argv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ecl("/bin/sort", "sort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v[i], "-o", argv[i], 0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"sor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Never reach this poi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rgc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wait for and reap terminating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523880"/>
            <a:ext cx="8839440" cy="325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complete(int c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cnt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completed with status %d\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terminated abnormally\n", w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95760" y="2286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4600" y="129492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vents generated by OS an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S abstraction for exceptions and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 from the kernel or a process to other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signals are identified by small integer ID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information in a signal is its ID and the fact that it arriv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3505320"/>
          <a:ext cx="8872560" cy="202860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from keyboard (cntl-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30600" y="228600"/>
            <a:ext cx="368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arbitrary signal to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bin/kill –s 9 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K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signal to another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, sig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2880" y="8380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/bin/kill –s 9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9640" y="22860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ll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594360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kill to forcibly terminate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914400"/>
            <a:ext cx="8839440" cy="499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54280" y="228600"/>
            <a:ext cx="383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ignal Type has Default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terminate or ign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ride by Declaring Special Signal Handler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, hand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signals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invoke 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 returns to point where exception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429000"/>
            <a:ext cx="7848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int_handler(int s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received signal %d\n", getpid(),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rk1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int_handl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 Handler Funk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86400" y="9144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are not Que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signal type, just have single bit indicating whether or not signal has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if multiple processes have sent this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19320"/>
            <a:ext cx="5562720" cy="5208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ing with Nonqueu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Check for All Possible Signal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loop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905120"/>
            <a:ext cx="7696080" cy="3503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2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(pid = wait(&amp;child_status))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5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960" y="228240"/>
            <a:ext cx="7696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ly generated events (ctrl-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9440" y="228240"/>
            <a:ext cx="60451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ly generated ev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1920" y="4044960"/>
            <a:ext cx="17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457200"/>
            <a:ext cx="7797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local jumps: setjmp()/longjm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523880"/>
            <a:ext cx="8254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erro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etjmp(jmp_buf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rom the setjmp remembered by jump buffer j agai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me returning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fter set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but never retu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jmp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register context from jump buffer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e return value) to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the location indicated by the PC stored in jump buf j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34092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: A 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restarts itself when ctrl-c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180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182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187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194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nerate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fine effect by declaring signal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high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,000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use for exception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have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one bit of status for each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Jumps Provide Exceptional Control Flow Withi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constraints of stack discipl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conditions detected by hardware and/or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Help from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I/O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memory page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illusion that running many programs and servic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ld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Runs Man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executing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sists of memory image + register values +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lly switches from one process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d process when it needs I/O resource or timer even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process when I/O available or given scheduling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s to user(s) as if all processes executing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most systems can only execute one proces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possibly with lower performance than if running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160" y="2286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er’s Model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wns new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returns t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rminates ow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it into “zombie”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it for and reap terminated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 state of existing process with that of newly started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the nonstandard semantics of th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ing improper use of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afeguard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71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029200" y="320040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90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4T08:10:17Z</dcterms:modified>
  <cp:revision>387</cp:revision>
  <dc:subject/>
  <dc:title>Processes</dc:title>
</cp:coreProperties>
</file>