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E148917B-C17C-41FC-88AA-44965D164CB8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2440" y="1905120"/>
            <a:ext cx="599436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 swi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8.5-8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8.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2656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3975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a set of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/sortfiles f1.txt f2.txt f3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oncurr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Un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of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 f1.txt –o f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ke a process for each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by waiting for all processes to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523880"/>
            <a:ext cx="449604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ys/types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wait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nt = invoke(argc, arg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lete(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755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pawn set of sorting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523880"/>
            <a:ext cx="8839440" cy="447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nvoke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1; i &lt; argc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ork off a new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: Invoke sort progra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sorting file %s\n", getpid(), argv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ecl("/bin/sort", "sort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v[i], "-o", argv[i], 0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"sor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Never reach this poi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argc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755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wait for and reap terminating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523880"/>
            <a:ext cx="8839440" cy="325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complete(int c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cnt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completed with status %d\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terminated abnormally\n", w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95760" y="22860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4600" y="129492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events generated by OS an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S abstraction for exceptions and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 from the kernel or a process to other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signals are identified by small integer ID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information in a signal is its ID and the fact that it arriv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3505320"/>
          <a:ext cx="8872560" cy="202860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2246400"/>
                <a:gridCol w="456876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 from keyboard (cntl-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l program (cannot override or igno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SEG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 &amp; D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tion vi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AL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 sig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CH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stopped or termin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30600" y="228600"/>
            <a:ext cx="3682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s arbitrary signal to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bin/kill –s 9 p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K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pecifi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signal to another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, sig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22880" y="8380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/bin/kill –s 9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9640" y="228600"/>
            <a:ext cx="284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ll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5943600"/>
            <a:ext cx="8254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kill to forcibly terminate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914400"/>
            <a:ext cx="8839440" cy="4995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2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: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Killing process %d\n", pid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pid[i], SIG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hild %d terminated abnormally\n", w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54280" y="228600"/>
            <a:ext cx="383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ignal Type has Default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terminate or ign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ride by Declaring Special Signal Handler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(sig, handl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that signals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invoke 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r returns to point where exception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429000"/>
            <a:ext cx="7848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int_handler(int s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received signal %d\n", getpid(), si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rk1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int_handl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14320" y="22860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 Handler Funk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86400" y="91440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 are not Que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signal type, just have single bit indicating whether or not signal has occur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if multiple processes have sent this 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219320"/>
            <a:ext cx="5562720" cy="5208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child_handler(int s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 = wait(&amp;child_statu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eceived signal %d from process %d\n"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, 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4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 =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(SIGCHLD, child_handl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: Exi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ccount &gt;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use();/* Suspend until signal occur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480" y="228600"/>
            <a:ext cx="7061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ing with Nonqueu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Check for All Possible Signal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loop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905120"/>
            <a:ext cx="7696080" cy="3503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child_handler2(int s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(pid = wait(&amp;child_status))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eceived signal %d from process %d\n", sig, 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5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(SIGCHLD, child_handle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960" y="228240"/>
            <a:ext cx="76960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gram that reacts t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rnally generated events (ctrl-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720" y="1600200"/>
            <a:ext cx="7495920" cy="4717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You think hitting ctrl-c will stop the bomb?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Well...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handler); /* installs ctl-c handl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9440" y="228240"/>
            <a:ext cx="60451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gram that reacts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ly generated ev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1760" y="1600200"/>
            <a:ext cx="310680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eeps =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IGALRM handl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EEP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++beeps &lt; 5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arm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6240" y="1606680"/>
            <a:ext cx="39603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ALRM, handler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arm(1); /* send SIGALR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secon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handler returns here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51920" y="4044960"/>
            <a:ext cx="176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a.ou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3200" y="457200"/>
            <a:ext cx="7797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local jumps: setjmp()/longjmp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523880"/>
            <a:ext cx="8254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ful (but dangerous) user-level mechanism for transferring control to an arbitrary lo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d to way to break the procedure call/return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erro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etjmp(jmp_buf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be called before longj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 return site for a subsequent longjm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once, returns one or more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where you are by storing  the current register context, stack pointer,  and PC value in jmp_bu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jmp/longjmp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8254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longjmp(jmp_buf j, int 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from the setjmp remembered by jump buffer j again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me returning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after setj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once, but never retu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jmp 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e register context from jump buffer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e return value) to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o the location indicated by the PC stored in jump buf j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jmp/longjm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60680" y="243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523880"/>
            <a:ext cx="6400800" cy="3987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etjmp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buf) !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ack in main due to an erro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first time through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; /* p1 calls p2, which calls p3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rror checking 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buf,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640" y="340920"/>
            <a:ext cx="7416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: A pro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restarts itself when ctrl-c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440" y="1600200"/>
            <a:ext cx="3594600" cy="4717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etjmp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jmp_buf buf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longjmp(buf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handle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!sigsetjmp(buf, 1)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tarting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restarting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1600200"/>
            <a:ext cx="396036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ing...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3320" y="3124080"/>
            <a:ext cx="176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a.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7200" y="4006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175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7200" y="4997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516564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7200" y="5454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62284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Long Jum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905120"/>
            <a:ext cx="4114800" cy="447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. . . P2(); . . . P3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0574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7432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4290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41148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8006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2362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3640" y="1981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20574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9680" y="55627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longj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06280" y="28195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longj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Long Jump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905120"/>
            <a:ext cx="4114800" cy="447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; P3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183640" y="1676520"/>
            <a:ext cx="1979280" cy="1784880"/>
            <a:chOff x="5183640" y="1676520"/>
            <a:chExt cx="1979280" cy="1784880"/>
          </a:xfrm>
        </p:grpSpPr>
        <p:sp>
          <p:nvSpPr>
            <p:cNvPr id="180" name=""/>
            <p:cNvSpPr/>
            <p:nvPr/>
          </p:nvSpPr>
          <p:spPr>
            <a:xfrm>
              <a:off x="518364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486400" y="1676520"/>
              <a:ext cx="1676520" cy="1784880"/>
              <a:chOff x="5486400" y="1676520"/>
              <a:chExt cx="1676520" cy="1784880"/>
            </a:xfrm>
          </p:grpSpPr>
          <p:sp>
            <p:nvSpPr>
              <p:cNvPr id="182" name=""/>
              <p:cNvSpPr/>
              <p:nvPr/>
            </p:nvSpPr>
            <p:spPr>
              <a:xfrm>
                <a:off x="6019920" y="1676520"/>
                <a:ext cx="1143000" cy="68580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19920" y="2362320"/>
                <a:ext cx="1143000" cy="68580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6400" y="274320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3360" y="31240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 setj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6936480" y="4724280"/>
            <a:ext cx="1988640" cy="1785240"/>
            <a:chOff x="6936480" y="4724280"/>
            <a:chExt cx="1988640" cy="1785240"/>
          </a:xfrm>
        </p:grpSpPr>
        <p:sp>
          <p:nvSpPr>
            <p:cNvPr id="187" name=""/>
            <p:cNvSpPr/>
            <p:nvPr/>
          </p:nvSpPr>
          <p:spPr>
            <a:xfrm>
              <a:off x="7772760" y="4724280"/>
              <a:ext cx="1143000" cy="68580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2760" y="5410080"/>
              <a:ext cx="1143000" cy="68580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9240" y="5791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6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8160" y="617220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 long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16640" y="5638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36280" y="3505320"/>
            <a:ext cx="1826640" cy="1784880"/>
            <a:chOff x="5336280" y="3505320"/>
            <a:chExt cx="1826640" cy="1784880"/>
          </a:xfrm>
        </p:grpSpPr>
        <p:sp>
          <p:nvSpPr>
            <p:cNvPr id="194" name=""/>
            <p:cNvSpPr/>
            <p:nvPr/>
          </p:nvSpPr>
          <p:spPr>
            <a:xfrm>
              <a:off x="6019920" y="3505320"/>
              <a:ext cx="1143000" cy="68544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4190760"/>
              <a:ext cx="114300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6400" y="45716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5200" y="495288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2 retur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6280" y="4190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3800" y="4419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 Provide Process-Level Exception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nerate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fine effect by declaring signal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av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high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,000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use for exception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have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one bit of status for each 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Jumps Provide Exceptional Control Flow Withi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constraints of stack discipl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1240" y="228600"/>
            <a:ext cx="424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conditions detected by hardware and/or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pointe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Help from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e I/O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memory page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illusion that running many programs and service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4320" y="22860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ld of Multitas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Runs Man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: executing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sists of memory image + register values + 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lly switches from one process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d process when it needs I/O resource or timer even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process when I/O available or given scheduling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ars to user(s) as if all processes executing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most systems can only execute one process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possibly with lower performance than if running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0160" y="228600"/>
            <a:ext cx="802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er’s Model of Multitas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wns new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returns t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rminates ow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nev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s it into “zombie”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it for and reap terminated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l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 state of existing process with that of newly started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nev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the nonstandard semantics of th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ing improper use of system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afeguards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4120" y="3505320"/>
            <a:ext cx="2072160" cy="1632600"/>
            <a:chOff x="5334120" y="3505320"/>
            <a:chExt cx="2072160" cy="1632600"/>
          </a:xfrm>
        </p:grpSpPr>
        <p:sp>
          <p:nvSpPr>
            <p:cNvPr id="71" name=""/>
            <p:cNvSpPr/>
            <p:nvPr/>
          </p:nvSpPr>
          <p:spPr>
            <a:xfrm flipV="1">
              <a:off x="6248160" y="4419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34120" y="510552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27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160" y="441972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99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480060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980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9800" y="4496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980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90960" y="381024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980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90960" y="381024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029200" y="320040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10080" y="3581280"/>
            <a:ext cx="1996560" cy="1480320"/>
            <a:chOff x="5410080" y="3581280"/>
            <a:chExt cx="1996560" cy="1480320"/>
          </a:xfrm>
        </p:grpSpPr>
        <p:sp>
          <p:nvSpPr>
            <p:cNvPr id="90" name=""/>
            <p:cNvSpPr/>
            <p:nvPr/>
          </p:nvSpPr>
          <p:spPr>
            <a:xfrm>
              <a:off x="5410080" y="502884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867280" y="464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464796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324480" y="426708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2960" y="4343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440" y="4343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4480" y="42670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781680" y="38854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6016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6640" y="3962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38858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76920" y="327672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200" y="228600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50532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termin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14920" y="431640"/>
            <a:ext cx="536220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David O'Hallaron</dc:creator>
  <dc:description/>
  <dc:language>en-US</dc:language>
  <cp:lastModifiedBy>Gregory Kesden</cp:lastModifiedBy>
  <cp:lastPrinted>2000-10-24T12:32:00Z</cp:lastPrinted>
  <dcterms:modified xsi:type="dcterms:W3CDTF">2002-03-14T08:10:17Z</dcterms:modified>
  <cp:revision>387</cp:revision>
  <dc:subject/>
  <dc:title>Processes</dc:title>
</cp:coreProperties>
</file>