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715800" y="6527880"/>
            <a:ext cx="11181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CS 213 F’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3316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DB5C6CC8-5ADE-4510-8D28-C5B263E473BD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6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1905120"/>
            <a:ext cx="5867280" cy="1095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eptional Control Flow 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ch 12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4038120"/>
            <a:ext cx="519444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context switch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ing and destroying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8.1-8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s: 8.10-8.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6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0" y="450720"/>
            <a:ext cx="3124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p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0240" y="441972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84320" y="441972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94200" y="494172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5546880"/>
            <a:ext cx="2806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13360" y="555300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087360" y="5616360"/>
            <a:ext cx="2832120" cy="54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94200" y="5703840"/>
            <a:ext cx="0" cy="725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5280" y="5219640"/>
            <a:ext cx="115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51600" y="5492880"/>
            <a:ext cx="252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pen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5943600"/>
            <a:ext cx="77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62040" y="525780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62040" y="5491080"/>
            <a:ext cx="7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ing a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call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(filename, op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open executes system call instruct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must find or create file, get it ready for reading or wri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integer file descrip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06920" y="1676520"/>
            <a:ext cx="6215760" cy="1310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804d070 &lt;__libc_open&gt;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d082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d 80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$0x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d08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b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644920" y="450720"/>
            <a:ext cx="3860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ult Example #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09480" y="4343400"/>
            <a:ext cx="8045280" cy="1909800"/>
            <a:chOff x="609480" y="4343400"/>
            <a:chExt cx="8045280" cy="1909800"/>
          </a:xfrm>
        </p:grpSpPr>
        <p:sp>
          <p:nvSpPr>
            <p:cNvPr id="157" name=""/>
            <p:cNvSpPr/>
            <p:nvPr/>
          </p:nvSpPr>
          <p:spPr>
            <a:xfrm>
              <a:off x="2356200" y="4343400"/>
              <a:ext cx="1638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er 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60280" y="4343400"/>
              <a:ext cx="51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70160" y="4865760"/>
              <a:ext cx="0" cy="5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76280" y="5470560"/>
              <a:ext cx="280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89320" y="54770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3176280" y="5464440"/>
              <a:ext cx="28195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70160" y="5627880"/>
              <a:ext cx="0" cy="62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70880" y="5143680"/>
              <a:ext cx="1182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age fa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27560" y="5416560"/>
              <a:ext cx="2527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reate page and load into 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57600" y="5796000"/>
              <a:ext cx="7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etu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480" y="5204160"/>
              <a:ext cx="804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ev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64120" y="5338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o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23880" y="54151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54100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172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Refe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280" indent="-171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writes to memory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280" indent="-171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portion (page) of user’s memory is currently on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280" indent="-171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handler must load page into physical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280" indent="-171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to faulting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280" indent="-171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cessful on second 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65440" y="1066680"/>
            <a:ext cx="2131560" cy="1310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a[100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 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[500] = 1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9760" y="2590920"/>
            <a:ext cx="73130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3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7 05 10 9d 04 08 0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,0x8049d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4920" y="450720"/>
            <a:ext cx="3860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ult Example #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56560" y="434340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60640" y="434340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70160" y="4865760"/>
            <a:ext cx="0" cy="59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76640" y="5470560"/>
            <a:ext cx="223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4770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6095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71240" y="5143680"/>
            <a:ext cx="11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5562720"/>
            <a:ext cx="25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tect invalid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203800"/>
            <a:ext cx="80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4480" y="5338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54151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54100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183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Refe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82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writes to memory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82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is not val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82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handler detects invalid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82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SE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gnal to user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82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 exits with “segmentation faul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70000" y="762120"/>
            <a:ext cx="2253600" cy="1310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a[100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 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[5000] = 1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9760" y="2362320"/>
            <a:ext cx="73130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3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7 05 60 e3 04 08 0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,0x804e3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5943600"/>
            <a:ext cx="25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gnal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365640" y="228600"/>
            <a:ext cx="2412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: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n instance of a running progra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of the most profound ideas in computer scie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provides each program with two key abstrac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control 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s each program the illusion that it has exclusive use of the CP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s each program the illusion that has exclusive use of main mem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is this illusion maintain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executions interleaved (multitask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spaces managed by virtual memory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34880" y="569880"/>
            <a:ext cx="4699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gical control 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2743200"/>
            <a:ext cx="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10920" y="32767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8784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1172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3560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2767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35812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3886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4191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3276720"/>
            <a:ext cx="40388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3581280"/>
            <a:ext cx="40388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3886200"/>
            <a:ext cx="40388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4191120"/>
            <a:ext cx="40388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4495680"/>
            <a:ext cx="40388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3760" y="1523880"/>
            <a:ext cx="67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rocess has its own logical 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82960" y="228600"/>
            <a:ext cx="4978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urrent 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process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n concurrent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e concurren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their flows overlap in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wise, they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quentia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urrent: A &amp; B, A&amp;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tial: B &amp; 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282320" y="3962520"/>
            <a:ext cx="5497560" cy="1981080"/>
            <a:chOff x="1282320" y="3962520"/>
            <a:chExt cx="5497560" cy="1981080"/>
          </a:xfrm>
        </p:grpSpPr>
        <p:sp>
          <p:nvSpPr>
            <p:cNvPr id="211" name=""/>
            <p:cNvSpPr/>
            <p:nvPr/>
          </p:nvSpPr>
          <p:spPr>
            <a:xfrm>
              <a:off x="1905120" y="4114800"/>
              <a:ext cx="0" cy="182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82320" y="464832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24080" y="43434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5924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8312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0700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48320" y="46483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72200" y="49528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24080" y="52578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72200" y="55627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66880" y="4648320"/>
              <a:ext cx="40388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66880" y="4952880"/>
              <a:ext cx="40388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66880" y="5257800"/>
              <a:ext cx="40388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66880" y="5562720"/>
              <a:ext cx="40388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66880" y="5867280"/>
              <a:ext cx="40388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1360" y="228600"/>
            <a:ext cx="77212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view of concurrent 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s for concurrent processes are physically disjoint in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we can think of concurrent processes are running in parallel with each oth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81080" y="35053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22200" y="370188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35812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1152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3540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5964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733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0384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886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19520" y="3581280"/>
            <a:ext cx="403848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4191120"/>
            <a:ext cx="403848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24480" y="43434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3733920"/>
            <a:ext cx="403848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9520" y="4038480"/>
            <a:ext cx="403848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40160" y="228600"/>
            <a:ext cx="4063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xt switc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44240" y="914040"/>
            <a:ext cx="82422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es are managed by a shared chunk of OS code called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: the kernel is not a separate process, but rather runs as part of some user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 passes from one process to another via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ext swit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18680" y="342900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88720" y="342900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895480" y="4027320"/>
            <a:ext cx="6480" cy="468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4495680"/>
            <a:ext cx="144792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48769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895480" y="5334120"/>
            <a:ext cx="14479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5715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720960" y="3429000"/>
            <a:ext cx="12960" cy="3124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25560" y="41148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25920" y="452916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25560" y="49417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08280" y="53784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255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46320" y="4452840"/>
            <a:ext cx="44956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46320" y="4879800"/>
            <a:ext cx="44956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46320" y="5307120"/>
            <a:ext cx="44956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46320" y="5734080"/>
            <a:ext cx="44956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46320" y="6161040"/>
            <a:ext cx="44956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46320" y="4027320"/>
            <a:ext cx="44956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038480"/>
            <a:ext cx="0" cy="154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20760" y="46483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701640" y="3117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914400" y="2743200"/>
            <a:ext cx="914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445140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42960" y="441972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text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0" y="533412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42960" y="530208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text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68480" y="228600"/>
            <a:ext cx="5207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vate address spa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44600" y="990360"/>
            <a:ext cx="8254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rocess has its own private address spa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98760" y="1935000"/>
            <a:ext cx="694836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95560" y="1674720"/>
            <a:ext cx="2230560" cy="793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rnel virtu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de, data, heap, sta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95560" y="3438360"/>
            <a:ext cx="2230560" cy="53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 mapped region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95560" y="3971880"/>
            <a:ext cx="2230560" cy="577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95560" y="4552920"/>
            <a:ext cx="2230560" cy="534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naged by mallo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95560" y="2711520"/>
            <a:ext cx="2230560" cy="7254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4145040" y="4235040"/>
            <a:ext cx="1440" cy="304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95560" y="2443320"/>
            <a:ext cx="2230560" cy="45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reated at runti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4145040" y="3260520"/>
            <a:ext cx="1440" cy="1825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145040" y="2894040"/>
            <a:ext cx="1440" cy="1825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86200" y="6124680"/>
            <a:ext cx="2232000" cy="31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7312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65160" y="27716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esp (stack poin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226120" y="2892600"/>
            <a:ext cx="30456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72280" y="1824120"/>
            <a:ext cx="101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isib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5301720" y="2041560"/>
            <a:ext cx="1800" cy="3650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92960" y="4419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288040" y="4540320"/>
            <a:ext cx="304560" cy="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22734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c0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59292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8048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3797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4000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86200" y="5087880"/>
            <a:ext cx="2232000" cy="53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/write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.data, .b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86200" y="5589720"/>
            <a:ext cx="2232000" cy="534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-only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.init, .text, .ro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02080" y="5087880"/>
            <a:ext cx="61920" cy="1036800"/>
          </a:xfrm>
          <a:custGeom>
            <a:avLst/>
            <a:gdLst>
              <a:gd name="textAreaLeft" fmla="*/ 0 w 61920"/>
              <a:gd name="textAreaRight" fmla="*/ 22320 w 61920"/>
              <a:gd name="textAreaTop" fmla="*/ 27000 h 1036800"/>
              <a:gd name="textAreaBottom" fmla="*/ 100980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20520" y="5418000"/>
            <a:ext cx="147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ed from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able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1592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ffffff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95560" y="2443320"/>
            <a:ext cx="2230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90520" y="228600"/>
            <a:ext cx="6762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fork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Creating new 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44600" y="1228680"/>
            <a:ext cx="8254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fork(voi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s a new process (child process) that is identical to the calling process (parent proces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0 to the child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child’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the parent proces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38880" y="3438360"/>
            <a:ext cx="470700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hello from child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hello from parent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72920" y="3784680"/>
            <a:ext cx="262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k is inter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nd often confu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ause it is ca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n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return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w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74840" y="228600"/>
            <a:ext cx="2794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71560" y="3624120"/>
            <a:ext cx="153108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startu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shutdow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44240" y="914400"/>
            <a:ext cx="82422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startup to shutdown, a CPU simply reads and executes (interprets) a sequence of instructions, one at a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sequence is the system’s physic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ow of contr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91040" y="324468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control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05280" y="3454560"/>
            <a:ext cx="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7440" y="3962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01440" y="228600"/>
            <a:ext cx="3759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 Example #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2760" y="3124080"/>
            <a:ext cx="854748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1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pid = 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id =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hild has x = %d\n", ++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Parent has x = %d\n", --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Bye from process %d with x = %d\n", getpid(),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 and child both run same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inguish parent from child by return value fro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with same state, but each has private cop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ing shared output file 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ordering of their print statements un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01440" y="228600"/>
            <a:ext cx="3759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 Example #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5520" y="3276720"/>
            <a:ext cx="3335400" cy="2288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2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parent and child can continue f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878720" y="3962520"/>
            <a:ext cx="1613520" cy="1327680"/>
            <a:chOff x="4878720" y="3962520"/>
            <a:chExt cx="1613520" cy="1327680"/>
          </a:xfrm>
        </p:grpSpPr>
        <p:sp>
          <p:nvSpPr>
            <p:cNvPr id="311" name=""/>
            <p:cNvSpPr/>
            <p:nvPr/>
          </p:nvSpPr>
          <p:spPr>
            <a:xfrm flipV="1">
              <a:off x="5334120" y="45716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52880" y="5257800"/>
              <a:ext cx="152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7872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34120" y="457200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33592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35920" y="42670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867280" y="495252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867280" y="426672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67280" y="426708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67280" y="495288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4576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45760" y="4648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4576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4576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724280" y="3429000"/>
            <a:ext cx="2286000" cy="2286000"/>
          </a:xfrm>
          <a:prstGeom prst="roundRect">
            <a:avLst>
              <a:gd name="adj" fmla="val 16667"/>
            </a:avLst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701440" y="228600"/>
            <a:ext cx="3759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 Example #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10440" y="2209680"/>
            <a:ext cx="333540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3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2\n")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parent and child can continue f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638680" y="2666880"/>
            <a:ext cx="2072880" cy="2623320"/>
            <a:chOff x="5638680" y="2666880"/>
            <a:chExt cx="2072880" cy="2623320"/>
          </a:xfrm>
        </p:grpSpPr>
        <p:sp>
          <p:nvSpPr>
            <p:cNvPr id="330" name=""/>
            <p:cNvSpPr/>
            <p:nvPr/>
          </p:nvSpPr>
          <p:spPr>
            <a:xfrm flipV="1">
              <a:off x="6553080" y="45716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38680" y="52578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980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457200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5552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5240" y="42670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7086600" y="495252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7086600" y="426672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86600" y="42670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86600" y="49528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6508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65080" y="4648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6508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6508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6553080" y="327636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5880" y="396252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8040" y="3657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53080" y="32767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55240" y="3657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55240" y="29718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7086600" y="365724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086600" y="297144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297180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086600" y="365760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65080" y="3657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65080" y="33526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65080" y="297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65080" y="2666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095880" y="396252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408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5715000" y="2590920"/>
            <a:ext cx="2362320" cy="297180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2971800"/>
              <a:gd name="textAreaBottom" fmla="*/ 2856600 h 2971800"/>
            </a:gdLst>
            <a:ahLst/>
            <a:rect l="textAreaLeft" t="textAreaTop" r="textAreaRight" b="textAreaBottom"/>
            <a:pathLst>
              <a:path w="21600" h="27172">
                <a:moveTo>
                  <a:pt x="3600" y="0"/>
                </a:moveTo>
                <a:arcTo wR="3600" hR="3600" stAng="16200000" swAng="-5400000"/>
                <a:lnTo>
                  <a:pt x="0" y="23572"/>
                </a:lnTo>
                <a:arcTo wR="3600" hR="3600" stAng="10800000" swAng="-5400000"/>
                <a:lnTo>
                  <a:pt x="18000" y="271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701440" y="228600"/>
            <a:ext cx="3759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 Example #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6960" y="2209680"/>
            <a:ext cx="370116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4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!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!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2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parent and child can continue f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334120" y="3505320"/>
            <a:ext cx="2072160" cy="1632600"/>
            <a:chOff x="5334120" y="3505320"/>
            <a:chExt cx="2072160" cy="1632600"/>
          </a:xfrm>
        </p:grpSpPr>
        <p:sp>
          <p:nvSpPr>
            <p:cNvPr id="365" name=""/>
            <p:cNvSpPr/>
            <p:nvPr/>
          </p:nvSpPr>
          <p:spPr>
            <a:xfrm flipV="1">
              <a:off x="6248160" y="441936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34120" y="5105520"/>
              <a:ext cx="205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9276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48160" y="4419720"/>
              <a:ext cx="114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4996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781680" y="480024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781680" y="4800600"/>
              <a:ext cx="609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59800" y="4800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59800" y="44960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59800" y="4114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90960" y="3810240"/>
              <a:ext cx="159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59800" y="3505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790960" y="381024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3592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4952880" y="3124080"/>
            <a:ext cx="2743200" cy="2286000"/>
          </a:xfrm>
          <a:prstGeom prst="roundRect">
            <a:avLst>
              <a:gd name="adj" fmla="val 16667"/>
            </a:avLst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701440" y="228600"/>
            <a:ext cx="3759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 Example #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06960" y="2209680"/>
            <a:ext cx="370116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5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2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parent and child can continue f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410080" y="3581280"/>
            <a:ext cx="1996560" cy="1480320"/>
            <a:chOff x="5410080" y="3581280"/>
            <a:chExt cx="1996560" cy="1480320"/>
          </a:xfrm>
        </p:grpSpPr>
        <p:sp>
          <p:nvSpPr>
            <p:cNvPr id="384" name=""/>
            <p:cNvSpPr/>
            <p:nvPr/>
          </p:nvSpPr>
          <p:spPr>
            <a:xfrm>
              <a:off x="5410080" y="502884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5867280" y="464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45760" y="4724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12240" y="47242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67280" y="464796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6324480" y="426708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02960" y="43430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69440" y="43430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24480" y="426708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781680" y="388548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60160" y="3962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26640" y="39621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781680" y="388584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842520" y="3581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876920" y="3276720"/>
            <a:ext cx="2743200" cy="2286000"/>
          </a:xfrm>
          <a:prstGeom prst="roundRect">
            <a:avLst>
              <a:gd name="adj" fmla="val 16667"/>
            </a:avLst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85880" y="228600"/>
            <a:ext cx="57722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Destroying pro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exit(int statu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ts a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ly return with statu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exi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sters functions to be executed upon ex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28320" y="2971800"/>
            <a:ext cx="388404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leanup(void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leaning up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6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exit(cleanu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568680" y="228600"/>
            <a:ext cx="20066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omb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cess terminates, still consumes system r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tables maintained by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a “zombi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ing corpse, half alive and half d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ed by parent on terminated chi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 is given exit status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discards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 Parent Doesn’t Rea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ny parent terminates without reaping a child, then child will be reaped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need explicit reaping for long-running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shells an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60200" y="2286000"/>
            <a:ext cx="4935600" cy="3987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./forks 7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1] 66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unning Parent, PID = 66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rminating Child, PID = 66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39 ttyp9    00:00:03 f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40 ttyp9    00:00:00 forks &lt;defunc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41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kill 66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1]    Termin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42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200664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ombi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4120" y="4191120"/>
            <a:ext cx="33652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ws child process as “defunc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lling parent allows child to be reap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14920" y="431640"/>
            <a:ext cx="525564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rk7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hil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Terminating Child, PID =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Running Parent, PID =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 /* Infinite loop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480" y="2666880"/>
            <a:ext cx="3838320" cy="325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./forks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rminating Parent, PID = 66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unning Child, PID = 66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6 ttyp9    00:00:06 f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7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kill 66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8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3505320" cy="1617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termina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il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4120" y="4191120"/>
            <a:ext cx="33652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ws child process as “defunc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lling parent allows child to be reap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14920" y="431640"/>
            <a:ext cx="536220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rk8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hil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Running Child, PID =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 /* Infinite loop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Terminating Parent, PID =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1480" y="228600"/>
            <a:ext cx="7601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wai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Synchronizing with childr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wait(int *child_statu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pends current process until one of its children termin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value =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child process that termin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_stat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!= NU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en the object it points to will be set to  a status indicating why the child process termin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40400" y="2666880"/>
            <a:ext cx="6078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8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hild_status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HC: hello from child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HP: hello from parent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(&amp;child_statu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T: child has terminated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324480" y="4267080"/>
            <a:ext cx="2606040" cy="1023120"/>
            <a:chOff x="6324480" y="4267080"/>
            <a:chExt cx="2606040" cy="1023120"/>
          </a:xfrm>
        </p:grpSpPr>
        <p:sp>
          <p:nvSpPr>
            <p:cNvPr id="416" name=""/>
            <p:cNvSpPr/>
            <p:nvPr/>
          </p:nvSpPr>
          <p:spPr>
            <a:xfrm flipV="1">
              <a:off x="6705720" y="457164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24480" y="5257800"/>
              <a:ext cx="2514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05720" y="45720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0752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07520" y="42670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8404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8876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20120" y="4572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0316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01000" y="457200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6248520" y="4038480"/>
            <a:ext cx="2666880" cy="1828800"/>
          </a:xfrm>
          <a:prstGeom prst="roundRect">
            <a:avLst>
              <a:gd name="adj" fmla="val 16667"/>
            </a:avLst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78040" y="228600"/>
            <a:ext cx="5587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tering the Control 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4600" y="1218960"/>
            <a:ext cx="82548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’ve discussed two mechanisms for changing the control flow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s and bran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and return using the stack discipli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react to changes in program sta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ufficient  for a useful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 for the CPU to react to changes in system stat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rrives from a disk or a network adap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divides by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hits ctl-c at the 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timer exp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needs mechanisms for “exceptional control flow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22560" y="228600"/>
            <a:ext cx="3098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it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multiple child completed, will take in arbitrary or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use macros WIFEXITED and WEXITSTATUS to get information about exit 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3120" y="1905120"/>
            <a:ext cx="8638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9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pid[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hild_statu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pid[i] = fork())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100+i); /* Chil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wpid = wait(&amp;child_statu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WIFEXITED(child_statu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hild %d terminated with exit status %d\n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pid, WEXITSTATUS(child_status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hild %d terminate abnormally\n", wp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683160" y="228600"/>
            <a:ext cx="1777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itpi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pid(pid, &amp;status, op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ait for specific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13120" y="1981080"/>
            <a:ext cx="8638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10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pid[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hild_statu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pid[i] = fork())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100+i); /* Chil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wpid = waitpid(pid[i], &amp;child_status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WIFEXITED(child_statu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hild %d terminated with exit status %d\n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pid, WEXITSTATUS(child_status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hild %d terminated abnormally\n", wp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93760" y="228600"/>
            <a:ext cx="6756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it/Waitpid Example Outpu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437840" y="1600200"/>
            <a:ext cx="5941440" cy="1465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65 terminated with exit status 1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64 terminated with exit status 1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63 terminated with exit status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62 terminated with exit status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66 terminated with exit status 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14160" y="4343400"/>
            <a:ext cx="5941440" cy="1465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68 terminated with exit status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69 terminated with exit status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70 terminated with exit status 1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71 terminated with exit status 1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 3572 terminated with exit status 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4720" y="1066680"/>
            <a:ext cx="31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k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8040" y="3809880"/>
            <a:ext cx="38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pi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k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6840" y="228600"/>
            <a:ext cx="6610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exec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Running new progra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44240" y="1036440"/>
            <a:ext cx="83185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19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execl(char *path, char *arg0, char *arg1, …, 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s and runs executable a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arg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3880" indent="-140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complete path of an exe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3880" indent="-140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comes the name of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52560" indent="-141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ither identica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r else it contains only the executable filename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3880" indent="-140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” arguments to the executable start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3880" indent="-140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args is terminated by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har *)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-1 if error, otherwise doesn’t return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143000" y="4032360"/>
            <a:ext cx="7162920" cy="2288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l("/usr/bin/cp", "cp", "foo", "bar"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(NUL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opy completed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73320" y="228600"/>
            <a:ext cx="2997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iz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s that require nonstandard control 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externally (interrupts) or internally (traps and faul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any given time, system has multiple active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e can execute at a time, thoug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process appears to have total control of processor + private memory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wning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call, two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inating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ping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p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686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eptional control 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551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194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 for exceptional control flow exists at all levels of a computer syst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level mechanis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0440" indent="-143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 control flow in response to a system event (i.e.,  change in system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ed as a combination of both hardware and OS softw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vel mechanism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context swi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local jumps (setjmp/longjm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ed by eith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0440" indent="-143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software (context switch and signal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0440" indent="-143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language runtime library: nonlocal jum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569880"/>
            <a:ext cx="762012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context for exce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96000" y="2136600"/>
            <a:ext cx="0" cy="89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260600" y="1981080"/>
            <a:ext cx="6120" cy="9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07080" y="2060640"/>
            <a:ext cx="0" cy="90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142120" y="1908000"/>
            <a:ext cx="0" cy="90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64280" y="2973240"/>
            <a:ext cx="0" cy="89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142120" y="2973240"/>
            <a:ext cx="0" cy="89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0960" y="2973240"/>
            <a:ext cx="6120" cy="8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39960" y="3124080"/>
            <a:ext cx="0" cy="17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1840" y="3884760"/>
            <a:ext cx="0" cy="140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67440" y="5407200"/>
            <a:ext cx="0" cy="46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08320" y="5407200"/>
            <a:ext cx="0" cy="46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2120" y="3809880"/>
            <a:ext cx="0" cy="15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72320" y="3657600"/>
            <a:ext cx="0" cy="178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9960" y="4873680"/>
            <a:ext cx="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5240" y="2668680"/>
            <a:ext cx="0" cy="19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3581280"/>
            <a:ext cx="8280360" cy="3542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/IO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2920" y="4443480"/>
            <a:ext cx="12301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40640" y="4417920"/>
            <a:ext cx="1027080" cy="51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38480" y="4443480"/>
            <a:ext cx="1027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 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19640" y="4417920"/>
            <a:ext cx="1230480" cy="49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440" y="5432400"/>
            <a:ext cx="12301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8040" y="5407200"/>
            <a:ext cx="1039680" cy="51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2617920"/>
            <a:ext cx="141444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2400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40360" y="4443480"/>
            <a:ext cx="1027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9040" y="5267160"/>
            <a:ext cx="1965600" cy="27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SI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4832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ial 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50200" y="2617920"/>
            <a:ext cx="13762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llel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4644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81200" y="2890800"/>
            <a:ext cx="4428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46440" y="170496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26200" y="1704960"/>
            <a:ext cx="75564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26160" y="170496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34120" y="1704960"/>
            <a:ext cx="919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11280" y="5327640"/>
            <a:ext cx="589320" cy="634320"/>
          </a:xfrm>
          <a:prstGeom prst="flowChartMagneticDisk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81080" y="5707800"/>
            <a:ext cx="589320" cy="634320"/>
          </a:xfrm>
          <a:prstGeom prst="flowChartMagneticDisk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66680" y="5707800"/>
            <a:ext cx="948960" cy="634320"/>
          </a:xfrm>
          <a:prstGeom prst="flowChartMagneticDisk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92560" y="450720"/>
            <a:ext cx="2565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68160"/>
            <a:ext cx="8686800" cy="10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cep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transfer of control to the OS in response to som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i.e., change in processor stat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0240" y="258588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84320" y="258588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94200" y="310824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00320" y="3713040"/>
            <a:ext cx="2806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13360" y="37195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3087360" y="3782520"/>
            <a:ext cx="2832120" cy="54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94200" y="3870360"/>
            <a:ext cx="0" cy="151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93840" y="3386160"/>
            <a:ext cx="115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51600" y="3659040"/>
            <a:ext cx="25272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 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4376880"/>
            <a:ext cx="1790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446640"/>
            <a:ext cx="80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6240" y="34290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48720" y="3657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36576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92440" y="228600"/>
            <a:ext cx="3759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rupt vec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09720" y="1752120"/>
            <a:ext cx="3581640" cy="312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93000"/>
          </a:bodyPr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Each type of event ha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unique exception number 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Jump table (interrupt vecto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y k points to a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xception handler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Handler k is called each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 k occu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8960" y="2228760"/>
            <a:ext cx="1013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2680" y="28702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2680" y="30988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2680" y="33274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992160" y="3111480"/>
            <a:ext cx="121932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50760" y="33908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60" y="2869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00" y="30722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200" y="3326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6160" y="33390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2680" y="38098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3960" y="38088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50760" y="29592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992160" y="1739520"/>
            <a:ext cx="1219320" cy="1257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11480" y="17398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fo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ption handler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11480" y="24256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ption handl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50760" y="317484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992160" y="2425320"/>
            <a:ext cx="1219320" cy="79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11480" y="31114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ption handl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11480" y="4419720"/>
            <a:ext cx="25891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ption handler n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37198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50760" y="38736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2160" y="3917880"/>
            <a:ext cx="1219320" cy="501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6000" y="89856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p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600" y="1600200"/>
            <a:ext cx="38088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8280" y="228600"/>
            <a:ext cx="8407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ynchronous exceptions (interrupt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 by events (changes in state) external to the 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ed by setting the processor’s interrupt p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ler returns to “next” i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 interrup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ting ctl-c at the 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a packet from 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a data sector from a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reset interrup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ting the reset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 reset interrup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ting ctl-alt-delete on a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0640" y="228600"/>
            <a:ext cx="5562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ous exce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 by events (changes in state) that occur as a result of executing an instruc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control to “next”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 system calls, breakpoint tr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ul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ntentional but possibly recover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re-executes faulting (“current”) instruction or ab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 page faults (recoverable), protection faults (unrecoverab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ntentional and unrecove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rts curren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 parity error, machine che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David O'Hallaron</dc:creator>
  <dc:description/>
  <dc:language>en-US</dc:language>
  <cp:lastModifiedBy>Gregory Kesden</cp:lastModifiedBy>
  <cp:lastPrinted>2000-10-24T12:32:00Z</cp:lastPrinted>
  <dcterms:modified xsi:type="dcterms:W3CDTF">2002-03-12T14:07:27Z</dcterms:modified>
  <cp:revision>390</cp:revision>
  <dc:subject/>
  <dc:title>Processes</dc:title>
</cp:coreProperties>
</file>