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715800" y="6527880"/>
            <a:ext cx="11181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CS 213 F’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F99E1AFF-B9AE-4ED4-AC97-F52AAC377527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6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05120"/>
            <a:ext cx="586728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al Control Flow 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12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4038120"/>
            <a:ext cx="51944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context swit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ing and destroying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8.1-8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8.10-8.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6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0" y="450720"/>
            <a:ext cx="3124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0240" y="44197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84320" y="44197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94200" y="494172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5546880"/>
            <a:ext cx="2806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13360" y="555300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087360" y="5616360"/>
            <a:ext cx="283212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94200" y="5703840"/>
            <a:ext cx="0" cy="725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5280" y="521964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51600" y="5492880"/>
            <a:ext cx="252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n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94360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62040" y="52578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62040" y="549108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ing a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call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(filename, op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open executes system call instru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must find or create file, get it ready for reading or wri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integer file descrip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06920" y="1676520"/>
            <a:ext cx="6215760" cy="131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804d070 &lt;__libc_open&gt;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d08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d 80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$0x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d08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b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644920" y="450720"/>
            <a:ext cx="3860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ult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9480" y="4343400"/>
            <a:ext cx="8045280" cy="1909800"/>
            <a:chOff x="609480" y="4343400"/>
            <a:chExt cx="8045280" cy="1909800"/>
          </a:xfrm>
        </p:grpSpPr>
        <p:sp>
          <p:nvSpPr>
            <p:cNvPr id="157" name=""/>
            <p:cNvSpPr/>
            <p:nvPr/>
          </p:nvSpPr>
          <p:spPr>
            <a:xfrm>
              <a:off x="2356200" y="4343400"/>
              <a:ext cx="1638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r 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60280" y="434340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0160" y="4865760"/>
              <a:ext cx="0" cy="5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76280" y="5470560"/>
              <a:ext cx="280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89320" y="54770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3176280" y="5464440"/>
              <a:ext cx="2819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70160" y="562788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70880" y="5143680"/>
              <a:ext cx="1182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age fa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27560" y="5416560"/>
              <a:ext cx="2527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reate page and load into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7600" y="57960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480" y="5204160"/>
              <a:ext cx="80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ev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4120" y="5338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o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23880" y="54151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5410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172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writes to memory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portion (page) of user’s memory is currently on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handler must load page into physical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o faulting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essful on second 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65440" y="1066680"/>
            <a:ext cx="2131560" cy="131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500] = 1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9760" y="2590920"/>
            <a:ext cx="73130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7 05 10 9d 04 08 0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,0x8049d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4920" y="450720"/>
            <a:ext cx="3860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ult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56560" y="434340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60640" y="434340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70160" y="4865760"/>
            <a:ext cx="0" cy="59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76640" y="5470560"/>
            <a:ext cx="223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477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6095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71240" y="514368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5562720"/>
            <a:ext cx="25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ect invalid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203800"/>
            <a:ext cx="80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4480" y="5338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54151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5410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83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writes to memory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is not val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handler detects invalid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SE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gnal to user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 exits with “segmentation faul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70000" y="762120"/>
            <a:ext cx="2253600" cy="131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5000] = 1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9760" y="2362320"/>
            <a:ext cx="73130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7 05 60 e3 04 08 0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,0x804e3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5943600"/>
            <a:ext cx="25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gnal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365640" y="228600"/>
            <a:ext cx="2412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: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instance of a running progra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f the most profound ideas in computer sci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provides each program with two key abstra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each program the illusion that it has exclusive use of the CP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each program the illusion that has exclusive use of main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this illusion maintain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executions interleaved (multitask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spaces managed by virtual memory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34880" y="569880"/>
            <a:ext cx="4699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ical control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74320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10920" y="3276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784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1172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3560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5812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4191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27672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58128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388620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419112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449568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3760" y="1523880"/>
            <a:ext cx="67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rocess has its own logical 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rocess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n concurrent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concurren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ir flows overlap in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wise, they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quenti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: A &amp; B, A&amp;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tial: B &amp;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282320" y="3962520"/>
            <a:ext cx="5497560" cy="1981080"/>
            <a:chOff x="1282320" y="3962520"/>
            <a:chExt cx="5497560" cy="1981080"/>
          </a:xfrm>
        </p:grpSpPr>
        <p:sp>
          <p:nvSpPr>
            <p:cNvPr id="211" name=""/>
            <p:cNvSpPr/>
            <p:nvPr/>
          </p:nvSpPr>
          <p:spPr>
            <a:xfrm>
              <a:off x="1905120" y="411480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82320" y="46483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24080" y="43434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5924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8312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0700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48320" y="46483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2200" y="49528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24080" y="52578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72200" y="55627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464832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66880" y="495288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66880" y="525780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6880" y="556272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66880" y="586728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1360" y="228600"/>
            <a:ext cx="7721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view of concurrent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s for concurrent processes are physically disjoint in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can think of concurrent processes are running in parallel with each o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35053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22200" y="3701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5812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1152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3540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5964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0384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3581280"/>
            <a:ext cx="40384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4191120"/>
            <a:ext cx="40384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43434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733920"/>
            <a:ext cx="40384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4038480"/>
            <a:ext cx="40384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40160" y="228600"/>
            <a:ext cx="406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44240" y="914040"/>
            <a:ext cx="82422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es are managed by a shared chunk of OS code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: the kernel is not a separate process, but rather runs as part of some user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 passes from one process to another via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ext swit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1868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872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895480" y="4027320"/>
            <a:ext cx="6480" cy="4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4495680"/>
            <a:ext cx="14479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895480" y="5334120"/>
            <a:ext cx="14479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5715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720960" y="3429000"/>
            <a:ext cx="12960" cy="3124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25560" y="41148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25920" y="452916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25560" y="49417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08280" y="53784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255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46320" y="445284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46320" y="487980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46320" y="530712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46320" y="573408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46320" y="616104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46320" y="402732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038480"/>
            <a:ext cx="0" cy="15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20760" y="46483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701640" y="3117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914400" y="2743200"/>
            <a:ext cx="9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44514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42960" y="44197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0" y="533412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42960" y="530208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68480" y="228600"/>
            <a:ext cx="5207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vate address sp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44600" y="99036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rocess has its own private address spa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98760" y="1935000"/>
            <a:ext cx="694836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95560" y="1674720"/>
            <a:ext cx="2230560" cy="793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de, data, heap, sta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95560" y="3438360"/>
            <a:ext cx="223056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mapped regio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95560" y="3971880"/>
            <a:ext cx="2230560" cy="577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95560" y="4552920"/>
            <a:ext cx="223056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naged by mallo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95560" y="2711520"/>
            <a:ext cx="2230560" cy="725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4145040" y="4235040"/>
            <a:ext cx="144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95560" y="2443320"/>
            <a:ext cx="223056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eated at runti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4145040" y="3260520"/>
            <a:ext cx="1440" cy="182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145040" y="2894040"/>
            <a:ext cx="1440" cy="182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6200" y="6124680"/>
            <a:ext cx="2232000" cy="31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731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65160" y="27716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esp (stack poin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226120" y="289260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72280" y="1824120"/>
            <a:ext cx="101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isib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5301720" y="2041560"/>
            <a:ext cx="1800" cy="3650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929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288040" y="4540320"/>
            <a:ext cx="304560" cy="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2273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c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59292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8048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3797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4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6200" y="5087880"/>
            <a:ext cx="223200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/writ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.data, .b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6200" y="5589720"/>
            <a:ext cx="223200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-only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.init, .text, .ro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02080" y="5087880"/>
            <a:ext cx="61920" cy="1036800"/>
          </a:xfrm>
          <a:custGeom>
            <a:avLst/>
            <a:gdLst>
              <a:gd name="textAreaLeft" fmla="*/ 0 w 61920"/>
              <a:gd name="textAreaRight" fmla="*/ 22320 w 61920"/>
              <a:gd name="textAreaTop" fmla="*/ 27000 h 1036800"/>
              <a:gd name="textAreaBottom" fmla="*/ 100980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20520" y="5418000"/>
            <a:ext cx="147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ed from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bl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592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ffffff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95560" y="2443320"/>
            <a:ext cx="2230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90520" y="228600"/>
            <a:ext cx="6762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Creating new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4600" y="1228680"/>
            <a:ext cx="8254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ork(vo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s a new process (child process) that is identical to the calling process (parent pro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0 to the child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child’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the parent proc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38880" y="3438360"/>
            <a:ext cx="470700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hello from chil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hello from parent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72920" y="378468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 is inter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d often confu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it is ca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retur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w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74840" y="228600"/>
            <a:ext cx="279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71560" y="3624120"/>
            <a:ext cx="1531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startu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shutdow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82422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tartup to shutdown, a CPU simply reads and executes (interprets) a sequence of instructions, one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equence is the system’s physic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ow of contr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91040" y="32446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control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05280" y="345456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7440" y="3962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2760" y="3124080"/>
            <a:ext cx="854748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1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 = 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id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has x = %d\n", ++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Parent has x = %d\n", --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 from process %d with x = %d\n", getpid(),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and child both run sam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guish parent from child by return value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with same state, but each has private cop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shared output file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ordering of their print statements un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5520" y="3276720"/>
            <a:ext cx="3335400" cy="2288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2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878720" y="3962520"/>
            <a:ext cx="1613520" cy="1327680"/>
            <a:chOff x="4878720" y="3962520"/>
            <a:chExt cx="1613520" cy="1327680"/>
          </a:xfrm>
        </p:grpSpPr>
        <p:sp>
          <p:nvSpPr>
            <p:cNvPr id="311" name=""/>
            <p:cNvSpPr/>
            <p:nvPr/>
          </p:nvSpPr>
          <p:spPr>
            <a:xfrm flipV="1">
              <a:off x="5334120" y="45716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2880" y="5257800"/>
              <a:ext cx="152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787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34120" y="457200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359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592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867280" y="49525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867280" y="42667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67280" y="42670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67280" y="49528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4576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4576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45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57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724280" y="3429000"/>
            <a:ext cx="22860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10440" y="2209680"/>
            <a:ext cx="333540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3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638680" y="2666880"/>
            <a:ext cx="2072880" cy="2623320"/>
            <a:chOff x="5638680" y="2666880"/>
            <a:chExt cx="2072880" cy="2623320"/>
          </a:xfrm>
        </p:grpSpPr>
        <p:sp>
          <p:nvSpPr>
            <p:cNvPr id="330" name=""/>
            <p:cNvSpPr/>
            <p:nvPr/>
          </p:nvSpPr>
          <p:spPr>
            <a:xfrm flipV="1">
              <a:off x="6553080" y="45716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38680" y="52578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80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457200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552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524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086600" y="49525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086600" y="42667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86600" y="42670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86600" y="49528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6508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6508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6508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6508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553080" y="327636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5880" y="396252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80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32767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552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55240" y="2971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086600" y="36572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086600" y="29714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29718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86600" y="36576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5080" y="3657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5080" y="3352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65080" y="297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65080" y="2666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095880" y="39625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408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715000" y="2590920"/>
            <a:ext cx="2362320" cy="297180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2971800"/>
              <a:gd name="textAreaBottom" fmla="*/ 2856600 h 2971800"/>
            </a:gdLst>
            <a:ahLst/>
            <a:rect l="textAreaLeft" t="textAreaTop" r="textAreaRight" b="textAreaBottom"/>
            <a:pathLst>
              <a:path w="21600" h="27172">
                <a:moveTo>
                  <a:pt x="3600" y="0"/>
                </a:moveTo>
                <a:arcTo wR="3600" hR="3600" stAng="16200000" swAng="-5400000"/>
                <a:lnTo>
                  <a:pt x="0" y="23572"/>
                </a:lnTo>
                <a:arcTo wR="3600" hR="3600" stAng="10800000" swAng="-5400000"/>
                <a:lnTo>
                  <a:pt x="18000" y="271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4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34120" y="3505320"/>
            <a:ext cx="2072160" cy="1632600"/>
            <a:chOff x="5334120" y="3505320"/>
            <a:chExt cx="2072160" cy="1632600"/>
          </a:xfrm>
        </p:grpSpPr>
        <p:sp>
          <p:nvSpPr>
            <p:cNvPr id="365" name=""/>
            <p:cNvSpPr/>
            <p:nvPr/>
          </p:nvSpPr>
          <p:spPr>
            <a:xfrm flipV="1">
              <a:off x="6248160" y="441936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34120" y="5105520"/>
              <a:ext cx="205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9276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48160" y="441972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996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781680" y="48002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81680" y="4800600"/>
              <a:ext cx="609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59800" y="480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9800" y="4496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59800" y="4114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0960" y="3810240"/>
              <a:ext cx="159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9800" y="3505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790960" y="381024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359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4952880" y="3124080"/>
            <a:ext cx="27432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5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410080" y="3581280"/>
            <a:ext cx="1996560" cy="1480320"/>
            <a:chOff x="5410080" y="3581280"/>
            <a:chExt cx="1996560" cy="1480320"/>
          </a:xfrm>
        </p:grpSpPr>
        <p:sp>
          <p:nvSpPr>
            <p:cNvPr id="384" name=""/>
            <p:cNvSpPr/>
            <p:nvPr/>
          </p:nvSpPr>
          <p:spPr>
            <a:xfrm>
              <a:off x="5410080" y="502884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867280" y="464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5760" y="4724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12240" y="472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67280" y="464796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324480" y="426708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02960" y="4343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69440" y="43430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24480" y="426708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81680" y="38854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60160" y="3962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26640" y="39621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81680" y="38858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42520" y="3581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76920" y="3276720"/>
            <a:ext cx="27432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85880" y="228600"/>
            <a:ext cx="5772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Destroying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exit(int stat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ts a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return with statu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sters functions to be executed upon 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28320" y="2971800"/>
            <a:ext cx="388404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leanup(voi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leaning up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6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exit(cleanu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68680" y="228600"/>
            <a:ext cx="2006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omb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cess terminates, still consumes system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tables maintained by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a “zombi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 corpse, half alive and half 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ed by parent on terminated chi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is given exit status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discards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 Parent Doesn’t Rea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y parent terminates without reaping a child, then child will be reap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need explicit reaping for long-running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hells an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60200" y="2286000"/>
            <a:ext cx="493560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7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Parent, PID =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Child, PID = 66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39 ttyp9    00:00:03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0 ttyp9    00:00:00 forks &lt;defunc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1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kill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   Termi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2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00664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ombi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4120" y="4191120"/>
            <a:ext cx="3365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ws child process as “defunc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ing parent allows child to be rea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14920" y="431640"/>
            <a:ext cx="525564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7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Terminating Child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unning Parent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480" y="26668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kill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3505320" cy="1617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termina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l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4120" y="4191120"/>
            <a:ext cx="3365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ws child process as “defunc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ing parent allows child to be rea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14920" y="431640"/>
            <a:ext cx="536220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8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unning Child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Terminating Parent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1480" y="228600"/>
            <a:ext cx="7601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Synchronizing with childr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wait(int *child_stat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pends current process until one of its children termin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value =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child process that term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_stat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= NU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en the object it points to will be set to  a status indicating why the child process term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0400" y="2666880"/>
            <a:ext cx="6078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8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hild_status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HC: hello from chil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HP: hello from parent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(&amp;child_stat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T: child has terminate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324480" y="4267080"/>
            <a:ext cx="2606040" cy="1023120"/>
            <a:chOff x="6324480" y="4267080"/>
            <a:chExt cx="2606040" cy="1023120"/>
          </a:xfrm>
        </p:grpSpPr>
        <p:sp>
          <p:nvSpPr>
            <p:cNvPr id="416" name=""/>
            <p:cNvSpPr/>
            <p:nvPr/>
          </p:nvSpPr>
          <p:spPr>
            <a:xfrm flipV="1">
              <a:off x="6705720" y="45716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24480" y="5257800"/>
              <a:ext cx="251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05720" y="45720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075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0752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8404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88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20120" y="4572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0316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01000" y="45720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248520" y="4038480"/>
            <a:ext cx="2666880" cy="18288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78040" y="228600"/>
            <a:ext cx="5587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ing the Control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4600" y="1218960"/>
            <a:ext cx="8254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ve discussed two mechanisms for changing the control flo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s and bra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and return using the stack discip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react to changes in program st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ufficient  for a useful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for the CPU to react to changes in system stat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rrives from a disk or a network adap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divides by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hits ctl-c at the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imer exp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needs mechanisms for “exceptional control flow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22560" y="228600"/>
            <a:ext cx="3098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multiple child completed, will take in arbitrary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macros WIFEXITED and WEXITSTATUS to get information about exit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3120" y="1905120"/>
            <a:ext cx="8638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9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wpid = wait(&amp;child_stat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%d terminate abnormally\n", w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683160" y="228600"/>
            <a:ext cx="1777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pi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pid(pid, &amp;status, op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ait for specific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3120" y="1981080"/>
            <a:ext cx="863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10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wpid = waitpid(pid[i], &amp;child_status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%d terminated abnormally\n", w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93760" y="228600"/>
            <a:ext cx="6756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/Waitpid Example Outpu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37840" y="1600200"/>
            <a:ext cx="5941440" cy="1465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5 terminated with exit status 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4 terminated with exit status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3 terminated with exit status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2 terminated with exit status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6 terminated with exit status 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14160" y="4343400"/>
            <a:ext cx="5941440" cy="1465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8 terminated with exit status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9 terminated with exit status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70 terminated with exit status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71 terminated with exit status 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72 terminated with exit status 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4720" y="1066680"/>
            <a:ext cx="31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8040" y="380988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6840" y="228600"/>
            <a:ext cx="661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exe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Running new progr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1036440"/>
            <a:ext cx="83185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19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execl(char *path, char *arg0, char *arg1, …, 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s and runs executable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arg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complete path of an 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comes the name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52560" indent="-141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ither identica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else it contains only the executable filename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” arguments to the executable start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args is terminated by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har *)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-1 if error, otherwise doesn’t retur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43000" y="4032360"/>
            <a:ext cx="7162920" cy="2288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l("/usr/bin/cp", "cp", "foo", "bar"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opy complete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73320" y="228600"/>
            <a:ext cx="2997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iz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s that require nonstandard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externally (interrupts) or internally (traps and faul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ny given time, system has multiple active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can execute at a time, th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rocess appears to have total control of processor + private memory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wning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all, two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ting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ping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p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al control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55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19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 for exceptional control flow exists at all levels of a computer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level mechanis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440" indent="-143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control flow in response to a system event (i.e.,  change in system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as a combination of both hardware and OS softw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 mechanism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 swi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local jumps (setjmp/longjm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by eith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440" indent="-143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software (context switch and signal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440" indent="-143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language runtime library: nonlocal ju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69880"/>
            <a:ext cx="76201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context for 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96000" y="2136600"/>
            <a:ext cx="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260600" y="1981080"/>
            <a:ext cx="612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07080" y="2060640"/>
            <a:ext cx="0" cy="9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42120" y="1908000"/>
            <a:ext cx="0" cy="9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4280" y="2973240"/>
            <a:ext cx="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42120" y="2973240"/>
            <a:ext cx="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0960" y="2973240"/>
            <a:ext cx="612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39960" y="3124080"/>
            <a:ext cx="0" cy="17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1840" y="3884760"/>
            <a:ext cx="0" cy="14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67440" y="5407200"/>
            <a:ext cx="0" cy="46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08320" y="5407200"/>
            <a:ext cx="0" cy="46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2120" y="3809880"/>
            <a:ext cx="0" cy="15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72320" y="3657600"/>
            <a:ext cx="0" cy="17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9960" y="487368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5240" y="2668680"/>
            <a:ext cx="0" cy="19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581280"/>
            <a:ext cx="8280360" cy="35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/I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920" y="444348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40640" y="4417920"/>
            <a:ext cx="1027080" cy="51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3848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 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9640" y="4417920"/>
            <a:ext cx="1230480" cy="49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440" y="543240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8040" y="5407200"/>
            <a:ext cx="1039680" cy="51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617920"/>
            <a:ext cx="14144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9040" y="5267160"/>
            <a:ext cx="1965600" cy="27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SI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4832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ial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50200" y="2617920"/>
            <a:ext cx="13762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lle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4644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81200" y="2890800"/>
            <a:ext cx="4428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4644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26200" y="1704960"/>
            <a:ext cx="7556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2616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34120" y="1704960"/>
            <a:ext cx="919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5327640"/>
            <a:ext cx="589320" cy="63432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1080" y="5707800"/>
            <a:ext cx="589320" cy="63432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66680" y="5707800"/>
            <a:ext cx="948960" cy="63432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92560" y="450720"/>
            <a:ext cx="2565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68160"/>
            <a:ext cx="868680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transfer of control to the OS in response to s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.e., change in processor st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0240" y="258588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4320" y="25858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94200" y="310824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3713040"/>
            <a:ext cx="2806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13360" y="37195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087360" y="3782520"/>
            <a:ext cx="283212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94200" y="387036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93840" y="338616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51600" y="3659040"/>
            <a:ext cx="2527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4376880"/>
            <a:ext cx="1790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446640"/>
            <a:ext cx="80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6240" y="3429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48720" y="365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92440" y="228600"/>
            <a:ext cx="3759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rupt v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09720" y="1752120"/>
            <a:ext cx="3581640" cy="312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Each type of event ha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unique exception number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Jump table (interrupt vecto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y k points to a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xception handler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Handler k is called each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k occu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8960" y="2228760"/>
            <a:ext cx="1013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8702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30988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274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992160" y="3111480"/>
            <a:ext cx="12193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50760" y="3390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60" y="2869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00" y="30722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200" y="3326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6160" y="333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2680" y="38098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3960" y="38088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50760" y="29592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92160" y="1739520"/>
            <a:ext cx="1219320" cy="125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11480" y="17398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fo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handler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1480" y="24256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handl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50760" y="3174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992160" y="2425320"/>
            <a:ext cx="1219320" cy="79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11480" y="31114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handl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11480" y="4419720"/>
            <a:ext cx="2589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handler n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719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50760" y="38736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2160" y="3917880"/>
            <a:ext cx="1219320" cy="50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89856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600" y="1600200"/>
            <a:ext cx="38088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8280" y="228600"/>
            <a:ext cx="8407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ynchronous exceptions (interrupt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events (changes in state) external to the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d by setting the processor’s interrupt p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r returns to “next” i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interru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ting ctl-c at the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a packet from 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a data sector from a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reset interru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ting the reset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reset interru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ting ctl-alt-delete on a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0640" y="228600"/>
            <a:ext cx="5562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ous 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events (changes in state) that occur as a result of executing an instru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control to “next”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system calls, breakpoint tr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ntentional but possibly recover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re-executes faulting (“current”) instruction or ab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page faults (recoverable), protection faults (unrecoverab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ntentional and unreco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ts curr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parity error, machine ch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David O'Hallaron</dc:creator>
  <dc:description/>
  <dc:language>en-US</dc:language>
  <cp:lastModifiedBy>Gregory Kesden</cp:lastModifiedBy>
  <cp:lastPrinted>2000-10-24T12:32:00Z</cp:lastPrinted>
  <dcterms:modified xsi:type="dcterms:W3CDTF">2002-03-12T14:07:27Z</dcterms:modified>
  <cp:revision>390</cp:revision>
  <dc:subject/>
  <dc:title>Processes</dc:title>
</cp:coreProperties>
</file>