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719683B1-9578-4EA8-ACF7-3AB56C43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5760" y="1905120"/>
            <a:ext cx="39877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28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cache memory orga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mapped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 of caches on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6.5-6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6.25, 6.26. 6.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middle bits as index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4356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direct-mapped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mpare the tag in each valid line in the selected 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14640" y="2744640"/>
            <a:ext cx="5816520" cy="925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65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957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43240" y="32464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9040" y="32464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529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93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690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482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54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26240" y="324468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421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212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844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54240" y="28526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84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849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946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737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309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374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25960" y="4834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23960" y="4834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07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64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9960" y="536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5365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37080" y="48481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96160" y="53816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41800" y="53816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3600" y="53816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5080" y="30747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2720" y="20300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571824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340056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51880" y="40539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79760" y="43750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84840" y="4403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44100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65720" y="3798360"/>
            <a:ext cx="290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 offset se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899880"/>
            <a:ext cx="329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ache lines m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 the tag bit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60600" y="238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651040" y="2389320"/>
            <a:ext cx="0" cy="85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41840" y="201564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22840" y="3535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11560" y="3154320"/>
            <a:ext cx="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102360" y="356364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45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41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13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878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978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77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342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406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73280" y="520560"/>
            <a:ext cx="403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44760" y="2023920"/>
            <a:ext cx="2197080" cy="172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1760" y="3451320"/>
            <a:ext cx="93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45240" y="2085840"/>
            <a:ext cx="963360" cy="157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7480" y="257328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28760" y="2130480"/>
            <a:ext cx="650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40040" y="3228840"/>
            <a:ext cx="801720" cy="3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I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11440" y="2543040"/>
            <a:ext cx="2160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0040" y="2695680"/>
            <a:ext cx="801720" cy="3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D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0560" y="29178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19280" y="2816280"/>
            <a:ext cx="6508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87960" y="2695680"/>
            <a:ext cx="801720" cy="96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2920" y="290520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2920" y="346392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05520" y="312408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89600" y="28670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48280" y="167652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17200" y="5997600"/>
            <a:ext cx="626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line size, higher associativity, more likely to write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1280" y="1219320"/>
            <a:ext cx="688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nd instruction caches, 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f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1600200"/>
            <a:ext cx="30492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657600" y="1600200"/>
            <a:ext cx="533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952880" y="1600200"/>
            <a:ext cx="106704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0240" y="334800"/>
            <a:ext cx="6604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entium cache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, 4-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147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performance metr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 of memory references not found in cache (misses/refere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0%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quite small (e.g., &lt; 1%) for L2, depending on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lock cycle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 clock cycles for 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time required because of a mi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25-100 cycles for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096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cache friendly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842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cache, 4-byte words, 4-word cac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4360" y="314640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83680" y="316872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31840" y="9223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223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bytes read from memory per second (MB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read throughput as a function of spatial and temporal loc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 way to characterize memory system performa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9760" y="5424480"/>
            <a:ext cx="819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556092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2680" y="5589720"/>
            <a:ext cx="8193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9760" y="556092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8680" y="5589720"/>
            <a:ext cx="16873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4160" y="439416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4160" y="453240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4160" y="466884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4160" y="480708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494352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394160"/>
            <a:ext cx="399960" cy="343080"/>
          </a:xfrm>
          <a:prstGeom prst="rightArrow">
            <a:avLst>
              <a:gd name="adj1" fmla="val 50000"/>
              <a:gd name="adj2" fmla="val 291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109400" y="473724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01920" y="556092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589720"/>
            <a:ext cx="8874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257720"/>
            <a:ext cx="479520" cy="96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81320" y="40888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0760" y="514980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2240" y="4051440"/>
            <a:ext cx="2676240" cy="21970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91480" y="37605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73880" y="49273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69960" y="5218200"/>
            <a:ext cx="41292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4927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70240" y="5218200"/>
            <a:ext cx="61884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9280" y="4927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0880" y="521820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8680" y="4491000"/>
            <a:ext cx="6570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6720" y="501156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frequently accessed blocks of ma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test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main rout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31840" y="9907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907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dges of tempor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tes read throughputs of different cache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219320" y="205740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6544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lope of spati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cache block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05080" y="36828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ache Effects to 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temporal locality and keep the working set small (e.g., by using blo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spatial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ta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reads per sourc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values summed per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6840" indent="-16164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be able to hold i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92200" y="368280"/>
            <a:ext cx="815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rate analysis for matrix multip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size = 32B (big enough for 4 64-bit wor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dimension (N) is ver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1/N as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not even big enough to hold multiple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access pattern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700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703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706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709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712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715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718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720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723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08120" y="368280"/>
            <a:ext cx="6121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out of arrays 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618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ow in contiguous memory lo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0]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successiv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block size (B) &gt; 4 bytes, exploit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4 bytes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distant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patial localit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1 (i.e.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13040" y="342720"/>
            <a:ext cx="551160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6200" y="176040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9288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11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4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2464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660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27558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9000" y="3124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81840" y="2949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9132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13600" y="30607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34320" y="2720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9676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435000" y="3754440"/>
            <a:ext cx="1042560" cy="1301040"/>
            <a:chOff x="6435000" y="3754440"/>
            <a:chExt cx="1042560" cy="1301040"/>
          </a:xfrm>
        </p:grpSpPr>
        <p:sp>
          <p:nvSpPr>
            <p:cNvPr id="743" name=""/>
            <p:cNvSpPr/>
            <p:nvPr/>
          </p:nvSpPr>
          <p:spPr>
            <a:xfrm>
              <a:off x="6435000" y="4417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99120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216040" y="4417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772240" y="3754440"/>
            <a:ext cx="0" cy="62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90240" y="3754440"/>
            <a:ext cx="739080" cy="1026720"/>
            <a:chOff x="7590240" y="3754440"/>
            <a:chExt cx="739080" cy="1026720"/>
          </a:xfrm>
        </p:grpSpPr>
        <p:sp>
          <p:nvSpPr>
            <p:cNvPr id="748" name=""/>
            <p:cNvSpPr/>
            <p:nvPr/>
          </p:nvSpPr>
          <p:spPr>
            <a:xfrm>
              <a:off x="759024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14716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4240" y="4875120"/>
            <a:ext cx="5041800" cy="127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i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9880" y="183672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884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88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31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0060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1992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39240" y="3559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9844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75320" y="33526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157800" y="31780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67640" y="2644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089920" y="32893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10640" y="29494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49040" y="2111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35200" y="4127400"/>
            <a:ext cx="1168920" cy="1027080"/>
            <a:chOff x="5335200" y="4127400"/>
            <a:chExt cx="1168920" cy="1027080"/>
          </a:xfrm>
        </p:grpSpPr>
        <p:sp>
          <p:nvSpPr>
            <p:cNvPr id="767" name=""/>
            <p:cNvSpPr/>
            <p:nvPr/>
          </p:nvSpPr>
          <p:spPr>
            <a:xfrm>
              <a:off x="5335200" y="47912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89104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536520" y="4127400"/>
            <a:ext cx="1042560" cy="1301400"/>
            <a:chOff x="6536520" y="4127400"/>
            <a:chExt cx="1042560" cy="1301400"/>
          </a:xfrm>
        </p:grpSpPr>
        <p:sp>
          <p:nvSpPr>
            <p:cNvPr id="770" name=""/>
            <p:cNvSpPr/>
            <p:nvPr/>
          </p:nvSpPr>
          <p:spPr>
            <a:xfrm>
              <a:off x="6536520" y="479124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09308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666200" y="4135320"/>
            <a:ext cx="739080" cy="1027080"/>
            <a:chOff x="7666200" y="4135320"/>
            <a:chExt cx="739080" cy="1027080"/>
          </a:xfrm>
        </p:grpSpPr>
        <p:sp>
          <p:nvSpPr>
            <p:cNvPr id="773" name=""/>
            <p:cNvSpPr/>
            <p:nvPr/>
          </p:nvSpPr>
          <p:spPr>
            <a:xfrm>
              <a:off x="7666200" y="479916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23120" y="41353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0400" y="228240"/>
            <a:ext cx="68832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erting an L1 cache betwe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PU and ma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8080" y="4801320"/>
            <a:ext cx="269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slo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many 4-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8600" y="2695680"/>
            <a:ext cx="327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mall fa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c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wo  4-word 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1120" y="1400040"/>
            <a:ext cx="341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ny, very fast CP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four 4-byte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3201480"/>
            <a:ext cx="249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and 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is a 4-wor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yt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680" y="1829520"/>
            <a:ext cx="26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PU register fil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is a 4-byte b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i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2520" y="1608120"/>
            <a:ext cx="4263840" cy="269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792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795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798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k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90680" y="1709640"/>
            <a:ext cx="43146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817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820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823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6640" y="1633680"/>
            <a:ext cx="435312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402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5956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72812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720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9132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3584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5648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92760" y="3149640"/>
            <a:ext cx="5112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475320" y="27338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69680" y="19717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803920" y="2743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886880" y="2755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22760" y="24163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06240" y="3822480"/>
            <a:ext cx="1106640" cy="1301400"/>
            <a:chOff x="5106240" y="3822480"/>
            <a:chExt cx="1106640" cy="1301400"/>
          </a:xfrm>
        </p:grpSpPr>
        <p:sp>
          <p:nvSpPr>
            <p:cNvPr id="842" name=""/>
            <p:cNvSpPr/>
            <p:nvPr/>
          </p:nvSpPr>
          <p:spPr>
            <a:xfrm>
              <a:off x="5106240" y="448632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66244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468560" y="3822480"/>
            <a:ext cx="1042560" cy="1301400"/>
            <a:chOff x="7468560" y="3822480"/>
            <a:chExt cx="1042560" cy="1301400"/>
          </a:xfrm>
        </p:grpSpPr>
        <p:sp>
          <p:nvSpPr>
            <p:cNvPr id="845" name=""/>
            <p:cNvSpPr/>
            <p:nvPr/>
          </p:nvSpPr>
          <p:spPr>
            <a:xfrm>
              <a:off x="7468560" y="44863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802476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370920" y="3830760"/>
            <a:ext cx="739080" cy="1026720"/>
            <a:chOff x="6370920" y="3830760"/>
            <a:chExt cx="739080" cy="1026720"/>
          </a:xfrm>
        </p:grpSpPr>
        <p:sp>
          <p:nvSpPr>
            <p:cNvPr id="848" name=""/>
            <p:cNvSpPr/>
            <p:nvPr/>
          </p:nvSpPr>
          <p:spPr>
            <a:xfrm>
              <a:off x="6370920" y="44942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927840" y="38307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j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17400" y="1849320"/>
            <a:ext cx="45180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5776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7708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45280" y="2787480"/>
            <a:ext cx="5972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8952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0884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53360" y="3368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974000" y="24541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318780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92840" y="27716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87200" y="200988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121440" y="27813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204040" y="27939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40280" y="24541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6599520" y="3754440"/>
            <a:ext cx="739080" cy="1026720"/>
            <a:chOff x="6599520" y="3754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659952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5644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411160" y="3746520"/>
            <a:ext cx="1042560" cy="1301040"/>
            <a:chOff x="5411160" y="3746520"/>
            <a:chExt cx="1042560" cy="1301040"/>
          </a:xfrm>
        </p:grpSpPr>
        <p:sp>
          <p:nvSpPr>
            <p:cNvPr id="870" name=""/>
            <p:cNvSpPr/>
            <p:nvPr/>
          </p:nvSpPr>
          <p:spPr>
            <a:xfrm>
              <a:off x="5411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967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7697160" y="3746520"/>
            <a:ext cx="1042560" cy="1301040"/>
            <a:chOff x="7697160" y="3746520"/>
            <a:chExt cx="1042560" cy="1301040"/>
          </a:xfrm>
        </p:grpSpPr>
        <p:sp>
          <p:nvSpPr>
            <p:cNvPr id="873" name=""/>
            <p:cNvSpPr/>
            <p:nvPr/>
          </p:nvSpPr>
          <p:spPr>
            <a:xfrm>
              <a:off x="7697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8253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09360" y="52056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matrix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9800" y="228600"/>
            <a:ext cx="820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matrix 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that miss rates are helpful but not perfect predi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760" indent="-3276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cheduling matters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835200" y="198756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98756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emporal locality by blo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031760" y="485316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8784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1   A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   A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28800" y="2841480"/>
            <a:ext cx="215280" cy="838440"/>
            <a:chOff x="928800" y="2841480"/>
            <a:chExt cx="215280" cy="838440"/>
          </a:xfrm>
        </p:grpSpPr>
        <p:sp>
          <p:nvSpPr>
            <p:cNvPr id="891" name=""/>
            <p:cNvSpPr/>
            <p:nvPr/>
          </p:nvSpPr>
          <p:spPr>
            <a:xfrm>
              <a:off x="92880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4104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4104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42840" y="2841120"/>
            <a:ext cx="228960" cy="838800"/>
            <a:chOff x="1842840" y="2841120"/>
            <a:chExt cx="228960" cy="838800"/>
          </a:xfrm>
        </p:grpSpPr>
        <p:sp>
          <p:nvSpPr>
            <p:cNvPr id="895" name=""/>
            <p:cNvSpPr/>
            <p:nvPr/>
          </p:nvSpPr>
          <p:spPr>
            <a:xfrm flipV="1">
              <a:off x="20718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8428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428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66400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1   B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1   B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604960" y="2841480"/>
            <a:ext cx="215640" cy="838440"/>
            <a:chOff x="2604960" y="2841480"/>
            <a:chExt cx="215640" cy="838440"/>
          </a:xfrm>
        </p:grpSpPr>
        <p:sp>
          <p:nvSpPr>
            <p:cNvPr id="900" name=""/>
            <p:cNvSpPr/>
            <p:nvPr/>
          </p:nvSpPr>
          <p:spPr>
            <a:xfrm>
              <a:off x="26049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175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175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43040" y="2841120"/>
            <a:ext cx="228960" cy="838800"/>
            <a:chOff x="3443040" y="2841120"/>
            <a:chExt cx="228960" cy="838800"/>
          </a:xfrm>
        </p:grpSpPr>
        <p:sp>
          <p:nvSpPr>
            <p:cNvPr id="904" name=""/>
            <p:cNvSpPr/>
            <p:nvPr/>
          </p:nvSpPr>
          <p:spPr>
            <a:xfrm flipV="1">
              <a:off x="36720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430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430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209680" y="3170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0" y="309420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4560" y="2865600"/>
            <a:ext cx="984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1   C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21   C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205160" y="2841480"/>
            <a:ext cx="215640" cy="838440"/>
            <a:chOff x="4205160" y="2841480"/>
            <a:chExt cx="215640" cy="838440"/>
          </a:xfrm>
        </p:grpSpPr>
        <p:sp>
          <p:nvSpPr>
            <p:cNvPr id="911" name=""/>
            <p:cNvSpPr/>
            <p:nvPr/>
          </p:nvSpPr>
          <p:spPr>
            <a:xfrm>
              <a:off x="42051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77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177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043240" y="2841120"/>
            <a:ext cx="228960" cy="838800"/>
            <a:chOff x="5043240" y="2841120"/>
            <a:chExt cx="228960" cy="838800"/>
          </a:xfrm>
        </p:grpSpPr>
        <p:sp>
          <p:nvSpPr>
            <p:cNvPr id="915" name=""/>
            <p:cNvSpPr/>
            <p:nvPr/>
          </p:nvSpPr>
          <p:spPr>
            <a:xfrm flipV="1">
              <a:off x="52722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0432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0432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838080" y="403848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” (in this context) does not mean “cache block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it mean a sub-block within the matr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N = 8; sub-block size =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41360" y="36828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(b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2000" y="342720"/>
            <a:ext cx="7213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4024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0880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5304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7200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16880" y="5057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49840" y="58960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65360" y="457200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46720" y="4483080"/>
            <a:ext cx="203040" cy="2034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706480" y="56167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60840" y="4762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72040" y="551484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6807240" y="4635360"/>
            <a:ext cx="558720" cy="78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6708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2900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9132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937400" y="4432320"/>
            <a:ext cx="361440" cy="736560"/>
            <a:chOff x="4937400" y="4432320"/>
            <a:chExt cx="361440" cy="736560"/>
          </a:xfrm>
        </p:grpSpPr>
        <p:sp>
          <p:nvSpPr>
            <p:cNvPr id="942" name=""/>
            <p:cNvSpPr/>
            <p:nvPr/>
          </p:nvSpPr>
          <p:spPr>
            <a:xfrm>
              <a:off x="5105520" y="4432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37400" y="4519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651528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5296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127400" y="4138560"/>
            <a:ext cx="736560" cy="302040"/>
            <a:chOff x="4127400" y="4138560"/>
            <a:chExt cx="736560" cy="302040"/>
          </a:xfrm>
        </p:grpSpPr>
        <p:sp>
          <p:nvSpPr>
            <p:cNvPr id="947" name=""/>
            <p:cNvSpPr/>
            <p:nvPr/>
          </p:nvSpPr>
          <p:spPr>
            <a:xfrm>
              <a:off x="4127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51600" y="4138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489720" y="4138560"/>
            <a:ext cx="736560" cy="302040"/>
            <a:chOff x="6489720" y="4138560"/>
            <a:chExt cx="736560" cy="302040"/>
          </a:xfrm>
        </p:grpSpPr>
        <p:sp>
          <p:nvSpPr>
            <p:cNvPr id="950" name=""/>
            <p:cNvSpPr/>
            <p:nvPr/>
          </p:nvSpPr>
          <p:spPr>
            <a:xfrm>
              <a:off x="648972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1500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5270400" y="4138560"/>
            <a:ext cx="736560" cy="302040"/>
            <a:chOff x="5270400" y="4138560"/>
            <a:chExt cx="736560" cy="302040"/>
          </a:xfrm>
        </p:grpSpPr>
        <p:sp>
          <p:nvSpPr>
            <p:cNvPr id="953" name=""/>
            <p:cNvSpPr/>
            <p:nvPr/>
          </p:nvSpPr>
          <p:spPr>
            <a:xfrm>
              <a:off x="5270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9604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68240" y="2174760"/>
            <a:ext cx="6900840" cy="2557800"/>
            <a:chOff x="768240" y="2174760"/>
            <a:chExt cx="6900840" cy="2557800"/>
          </a:xfrm>
        </p:grpSpPr>
        <p:sp>
          <p:nvSpPr>
            <p:cNvPr id="956" name=""/>
            <p:cNvSpPr/>
            <p:nvPr/>
          </p:nvSpPr>
          <p:spPr>
            <a:xfrm>
              <a:off x="768240" y="217476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251460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1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most loop pair multiplies a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A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 of B and accumulates into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over i steps through n row slivers of A &amp; C, using same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914400" y="3441600"/>
            <a:ext cx="5335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6000" y="38862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866960" y="228240"/>
            <a:ext cx="5410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blocked matrix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-442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ly insensitive to array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organization of a cache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85600" y="334800"/>
            <a:ext cx="5613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structures are organ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acces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loop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(see text) is a general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chines like “cache friendly cod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absolute optimum performance very platform 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sizes, line sizes, associativit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most of the advantage with generic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working set reasonably small (tempor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mall strides (spati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ing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set index bits to determine the set of inter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a valid line in the selected set with a matching tag (line match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extract the word (word sel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5880" y="3508200"/>
            <a:ext cx="584496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84480" y="358452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02120" y="50626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0120" y="50626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3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0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7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26120" y="559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1800" y="55936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3240" y="50767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72320" y="56102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17960" y="56102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9760" y="56102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880" y="35445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00480" y="312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5520" y="279216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67480" y="3877920"/>
            <a:ext cx="2286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559440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27672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02480" y="42825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5920" y="46036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60280" y="4222800"/>
            <a:ext cx="222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block off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39880" y="279540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0560" y="4126680"/>
            <a:ext cx="284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the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must matc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 in 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5920" y="3825720"/>
            <a:ext cx="0" cy="4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0280" y="358452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941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894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466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67480" y="357336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369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941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66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10880" y="520560"/>
            <a:ext cx="7162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 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1365120"/>
            <a:ext cx="632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=16 byte addresses, B=2 bytes/block, S=4 sets, E=1 entry/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ce (read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[0000] 1 [0001] 13 [1101] 8 [1000] 0 [0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84040" y="1577880"/>
            <a:ext cx="2046600" cy="549360"/>
            <a:chOff x="284040" y="1577880"/>
            <a:chExt cx="2046600" cy="549360"/>
          </a:xfrm>
        </p:grpSpPr>
        <p:sp>
          <p:nvSpPr>
            <p:cNvPr id="335" name=""/>
            <p:cNvSpPr/>
            <p:nvPr/>
          </p:nvSpPr>
          <p:spPr>
            <a:xfrm>
              <a:off x="2840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20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008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6220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698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56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78120" y="2403360"/>
            <a:ext cx="2987280" cy="1552680"/>
            <a:chOff x="1878120" y="2403360"/>
            <a:chExt cx="2987280" cy="1552680"/>
          </a:xfrm>
        </p:grpSpPr>
        <p:sp>
          <p:nvSpPr>
            <p:cNvPr id="342" name=""/>
            <p:cNvSpPr/>
            <p:nvPr/>
          </p:nvSpPr>
          <p:spPr>
            <a:xfrm>
              <a:off x="244476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30542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5480" y="30542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6356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4480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0692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4476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01960" y="32828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35480" y="32828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476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01960" y="35114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35114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476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1960" y="37400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35480" y="37400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73760" y="240336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81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548320" y="2403360"/>
            <a:ext cx="2733120" cy="1552680"/>
            <a:chOff x="5548320" y="2403360"/>
            <a:chExt cx="2733120" cy="1552680"/>
          </a:xfrm>
        </p:grpSpPr>
        <p:sp>
          <p:nvSpPr>
            <p:cNvPr id="360" name=""/>
            <p:cNvSpPr/>
            <p:nvPr/>
          </p:nvSpPr>
          <p:spPr>
            <a:xfrm>
              <a:off x="602604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83240" y="30542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6760" y="30542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744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3868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0116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2604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83240" y="32828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6760" y="32828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2604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83240" y="35114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6760" y="35114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604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83240" y="37400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6760" y="37400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3080" y="2403360"/>
              <a:ext cx="181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[1101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483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66680" y="4537080"/>
            <a:ext cx="2746080" cy="1552680"/>
            <a:chOff x="1966680" y="4537080"/>
            <a:chExt cx="2746080" cy="1552680"/>
          </a:xfrm>
        </p:grpSpPr>
        <p:sp>
          <p:nvSpPr>
            <p:cNvPr id="378" name=""/>
            <p:cNvSpPr/>
            <p:nvPr/>
          </p:nvSpPr>
          <p:spPr>
            <a:xfrm>
              <a:off x="244476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1960" y="51879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35480" y="51879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356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4480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692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476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01960" y="54165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35480" y="54165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476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01960" y="56451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35480" y="56451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476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01960" y="58737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35480" y="58737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2112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[1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6668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548320" y="4537080"/>
            <a:ext cx="2758680" cy="1552680"/>
            <a:chOff x="5548320" y="4537080"/>
            <a:chExt cx="2758680" cy="1552680"/>
          </a:xfrm>
        </p:grpSpPr>
        <p:sp>
          <p:nvSpPr>
            <p:cNvPr id="396" name=""/>
            <p:cNvSpPr/>
            <p:nvPr/>
          </p:nvSpPr>
          <p:spPr>
            <a:xfrm>
              <a:off x="602604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83240" y="5187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6760" y="5187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744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3868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0116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2604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83240" y="5416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6760" y="5416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604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3240" y="56451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6760" y="56451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2604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83240" y="5873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16760" y="5873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536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832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10-11T12:29:36Z</cp:lastPrinted>
  <dcterms:modified xsi:type="dcterms:W3CDTF">2002-02-28T08:42:47Z</dcterms:modified>
  <cp:revision>259</cp:revision>
  <dc:subject/>
  <dc:title>Floating Point</dc:title>
</cp:coreProperties>
</file>