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9304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BFA09E39-0211-4C5A-A24D-6EE9FDBE4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2.png"/><Relationship Id="rId26" Type="http://schemas.openxmlformats.org/officeDocument/2006/relationships/image" Target="../media/image3.png"/><Relationship Id="rId27" Type="http://schemas.openxmlformats.org/officeDocument/2006/relationships/image" Target="../media/image4.png"/><Relationship Id="rId28" Type="http://schemas.openxmlformats.org/officeDocument/2006/relationships/image" Target="../media/image5.png"/><Relationship Id="rId29" Type="http://schemas.openxmlformats.org/officeDocument/2006/relationships/image" Target="../media/image2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2.png"/><Relationship Id="rId34" Type="http://schemas.openxmlformats.org/officeDocument/2006/relationships/image" Target="../media/image3.png"/><Relationship Id="rId35" Type="http://schemas.openxmlformats.org/officeDocument/2006/relationships/image" Target="../media/image4.png"/><Relationship Id="rId36" Type="http://schemas.openxmlformats.org/officeDocument/2006/relationships/image" Target="../media/image5.png"/><Relationship Id="rId3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5760" y="1905120"/>
            <a:ext cx="398772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Memor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28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657240"/>
            <a:ext cx="5194440" cy="21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ic cache memory orga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mapped ca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associative ca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 of caches on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6.5-6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6.25, 6.26. 6.2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01680" y="334800"/>
            <a:ext cx="678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use middle bits as index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43560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Order Bit Inde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acent memory lines would map to same cache en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r use of spatial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-Order Bit Inde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cutive memory lines map to different cache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old C-byte region of address space in cache at on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52480" y="1523880"/>
            <a:ext cx="12193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828800"/>
            <a:ext cx="12193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2133720"/>
            <a:ext cx="12193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2438280"/>
            <a:ext cx="121932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51240" y="10666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line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10080" y="1600200"/>
            <a:ext cx="1219320" cy="3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1905120"/>
            <a:ext cx="1219320" cy="304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209680"/>
            <a:ext cx="121932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2514600"/>
            <a:ext cx="1219320" cy="304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2819520"/>
            <a:ext cx="1219320" cy="304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3124080"/>
            <a:ext cx="121932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429000"/>
            <a:ext cx="121932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733920"/>
            <a:ext cx="1219320" cy="304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4038480"/>
            <a:ext cx="1219320" cy="304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343400"/>
            <a:ext cx="1219320" cy="3049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648320"/>
            <a:ext cx="1219320" cy="304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952880"/>
            <a:ext cx="1219320" cy="3049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5257800"/>
            <a:ext cx="1219320" cy="304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0080" y="5562720"/>
            <a:ext cx="1219320" cy="304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5867280"/>
            <a:ext cx="1219320" cy="3049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10080" y="6172200"/>
            <a:ext cx="1219320" cy="3049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8160" y="9907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70880" y="1600200"/>
            <a:ext cx="1218960" cy="3049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70880" y="1905120"/>
            <a:ext cx="1218960" cy="304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70880" y="2209680"/>
            <a:ext cx="1218960" cy="3049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70880" y="2514600"/>
            <a:ext cx="1218960" cy="3049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70880" y="2819520"/>
            <a:ext cx="1218960" cy="3045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70880" y="3124080"/>
            <a:ext cx="1218960" cy="3049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70880" y="3429000"/>
            <a:ext cx="1218960" cy="3049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70880" y="3733920"/>
            <a:ext cx="1218960" cy="30456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70880" y="4038480"/>
            <a:ext cx="1218960" cy="3049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70880" y="4343400"/>
            <a:ext cx="1218960" cy="30492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70880" y="4648320"/>
            <a:ext cx="1218960" cy="3045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70880" y="4952880"/>
            <a:ext cx="1218960" cy="3049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70880" y="5257800"/>
            <a:ext cx="1218960" cy="30492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70880" y="5562720"/>
            <a:ext cx="1218960" cy="304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70880" y="5867280"/>
            <a:ext cx="1218960" cy="3049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70880" y="6172200"/>
            <a:ext cx="1218960" cy="3049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62440" y="990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-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1523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828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2133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932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7692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692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7692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7692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7692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7692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15644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5644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5644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5644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15644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5644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5644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5644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15644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5644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5644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5644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5644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15644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5644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5644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019240" y="228600"/>
            <a:ext cx="5105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 associative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zed by more than one line per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378160" y="2209680"/>
            <a:ext cx="4267080" cy="9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06760" y="2314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92560" y="2314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82640" y="245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21560" y="2209680"/>
            <a:ext cx="144360" cy="92880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24520" y="24966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=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74920" y="3276720"/>
            <a:ext cx="4267080" cy="928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79400" y="3519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74920" y="4510080"/>
            <a:ext cx="4267080" cy="9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51160" y="475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06960" y="42051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35560" y="2314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06760" y="2695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92560" y="2695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35560" y="2695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33814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92560" y="33814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35560" y="33814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06760" y="37623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92560" y="37623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35560" y="376236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06760" y="4600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92560" y="4600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35560" y="4600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06760" y="4981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92560" y="4981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35560" y="4981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67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set associative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cal to direct-mapped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0720" y="2111400"/>
            <a:ext cx="4267080" cy="9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29320" y="2187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29320" y="25830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5120" y="21877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5120" y="25830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5200" y="2354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7480" y="3178080"/>
            <a:ext cx="4267080" cy="928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26080" y="325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26080" y="364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11880" y="325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1880" y="36496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1960" y="3420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7480" y="4411800"/>
            <a:ext cx="4267080" cy="928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26080" y="44877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26080" y="4883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1880" y="44877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1880" y="4883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73720" y="47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9520" y="410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6680" y="47577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4680" y="47577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17760" y="50608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74760" y="50608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1760" y="50608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60680" y="528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800" y="52887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47800" y="47721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6880" y="53053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52520" y="53053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44320" y="53053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1693800" y="42415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1842840" y="3634920"/>
            <a:ext cx="324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46440" y="363528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32200" y="3330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07000" y="2187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07000" y="2568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07000" y="32544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07000" y="363528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07000" y="4473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07000" y="485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67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set associative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compare the tag in each valid line in the selected s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114640" y="2744640"/>
            <a:ext cx="5816520" cy="925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1656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9572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43240" y="32464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29040" y="32464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5292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936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6904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4820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0540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1184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26240" y="3244680"/>
            <a:ext cx="18288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4212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2128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6844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54240" y="28526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848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8492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9460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7376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3096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3740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25960" y="48340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23960" y="48340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207040" y="51372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64040" y="51372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1040" y="51372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9960" y="536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5640" y="53650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37080" y="484812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96160" y="53816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41800" y="53816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33600" y="53816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5080" y="30747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22720" y="203004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5718240" y="42667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3400560" y="42667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51880" y="4053960"/>
            <a:ext cx="4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79760" y="437508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84840" y="4403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91320" y="441000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65720" y="3798360"/>
            <a:ext cx="290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) If (1) and (2),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hit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 offset se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ing b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899880"/>
            <a:ext cx="329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) The tag bits in on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ache lines mu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ch the tag bits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460600" y="238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651040" y="2389320"/>
            <a:ext cx="0" cy="85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41840" y="2015640"/>
            <a:ext cx="29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 The valid bit must be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22840" y="3535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11560" y="3154320"/>
            <a:ext cx="0" cy="9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102360" y="3563640"/>
            <a:ext cx="0" cy="83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4450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2416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8136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878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9784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770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342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4064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73280" y="520560"/>
            <a:ext cx="4038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level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0480" y="419112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00560" y="4191120"/>
            <a:ext cx="7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5840" y="4191120"/>
            <a:ext cx="100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64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39040" y="4191120"/>
            <a:ext cx="170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MB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50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67480" y="4191120"/>
            <a:ext cx="115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.05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5791320"/>
            <a:ext cx="6410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15040" y="53118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44760" y="2023920"/>
            <a:ext cx="2197080" cy="172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41760" y="3451320"/>
            <a:ext cx="93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45240" y="2085840"/>
            <a:ext cx="963360" cy="157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67480" y="257328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28760" y="2130480"/>
            <a:ext cx="650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40040" y="3228840"/>
            <a:ext cx="801720" cy="3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1 I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11440" y="2543040"/>
            <a:ext cx="21600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40040" y="2695680"/>
            <a:ext cx="801720" cy="37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1 D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30560" y="29178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19280" y="2816280"/>
            <a:ext cx="6508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87960" y="2695680"/>
            <a:ext cx="801720" cy="96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2920" y="290520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2920" y="346392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05520" y="312408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89600" y="28670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448280" y="167652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4191120"/>
            <a:ext cx="157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4MB 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17200" y="5997600"/>
            <a:ext cx="626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line size, higher associativity, more likely to write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1280" y="1219320"/>
            <a:ext cx="688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pa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and instruction caches, 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f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95480" y="1600200"/>
            <a:ext cx="30492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657600" y="1600200"/>
            <a:ext cx="533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952880" y="1600200"/>
            <a:ext cx="106704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612800" y="1447920"/>
            <a:ext cx="3187800" cy="30985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0240" y="334800"/>
            <a:ext cx="6604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l Pentium cache hierarc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908440" y="1752480"/>
            <a:ext cx="14983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1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cycle lat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79840" y="3352680"/>
            <a:ext cx="1498320" cy="81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1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KB, 4-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65440" y="1981080"/>
            <a:ext cx="5839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74920" y="21970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74920" y="26542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9200" y="1905120"/>
            <a:ext cx="1270080" cy="233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Un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8KB--2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-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 allo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934320" y="1905120"/>
            <a:ext cx="1269720" cy="233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 to 4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32320" y="250200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03720" y="3797280"/>
            <a:ext cx="812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03516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147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performance metr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 of memory references not found in cache (misses/refere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numb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0% for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quite small (e.g., &lt; 1%) for L2, depending on siz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to deliver a line in the cache to the processor (includes time to determine whether the line is in the 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numb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lock cycle for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8 clock cycles for 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time required because of a mi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25-100 cycles for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096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cache friendly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8000"/>
          </a:bodyPr>
          <a:p>
            <a:pPr marL="8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ed references to variables are good (temporal loca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de-1 reference patterns are good (spatial loca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842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 cache, 4-byte words, 4-word cach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4360" y="3146400"/>
            <a:ext cx="396000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umarrayrows(int a[M][N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83680" y="3168720"/>
            <a:ext cx="396000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umarraycols(int a[M][N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968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1152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ory Mount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231840" y="922320"/>
          <a:ext cx="868032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922320"/>
                    <a:ext cx="868032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ory Mount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hroughput (read bandwidt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bytes read from memory per second (MB/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mount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read throughput as a function of spatial and temporal loca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 way to characterize memory system performa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79840" y="228600"/>
            <a:ext cx="3784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mem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89760" y="5424480"/>
            <a:ext cx="8193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5560920"/>
            <a:ext cx="1344600" cy="480960"/>
          </a:xfrm>
          <a:prstGeom prst="leftRightArrow">
            <a:avLst>
              <a:gd name="adj1" fmla="val 50000"/>
              <a:gd name="adj2" fmla="val 55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2680" y="5589720"/>
            <a:ext cx="8193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79760" y="5560920"/>
            <a:ext cx="1309680" cy="480960"/>
          </a:xfrm>
          <a:prstGeom prst="leftRightArrow">
            <a:avLst>
              <a:gd name="adj1" fmla="val 50000"/>
              <a:gd name="adj2" fmla="val 5420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8680" y="5589720"/>
            <a:ext cx="16873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4160" y="4394160"/>
            <a:ext cx="615960" cy="1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4160" y="4532400"/>
            <a:ext cx="61596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4160" y="4668840"/>
            <a:ext cx="615960" cy="1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4160" y="4807080"/>
            <a:ext cx="61596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4160" y="4943520"/>
            <a:ext cx="615960" cy="1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4394160"/>
            <a:ext cx="399960" cy="343080"/>
          </a:xfrm>
          <a:prstGeom prst="rightArrow">
            <a:avLst>
              <a:gd name="adj1" fmla="val 50000"/>
              <a:gd name="adj2" fmla="val 291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109400" y="4737240"/>
            <a:ext cx="399960" cy="344520"/>
          </a:xfrm>
          <a:prstGeom prst="rightArrow">
            <a:avLst>
              <a:gd name="adj1" fmla="val 50000"/>
              <a:gd name="adj2" fmla="val 2902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01920" y="5560920"/>
            <a:ext cx="1166760" cy="480960"/>
          </a:xfrm>
          <a:prstGeom prst="leftRightArrow">
            <a:avLst>
              <a:gd name="adj1" fmla="val 50000"/>
              <a:gd name="adj2" fmla="val 482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589720"/>
            <a:ext cx="887400" cy="520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257720"/>
            <a:ext cx="479520" cy="96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81320" y="40888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0760" y="5149800"/>
            <a:ext cx="549360" cy="4111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2240" y="4051440"/>
            <a:ext cx="2676240" cy="21970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91480" y="37605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73880" y="49273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69960" y="5218200"/>
            <a:ext cx="41292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49273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70240" y="5218200"/>
            <a:ext cx="61884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9280" y="49273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0880" y="521820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8680" y="4491000"/>
            <a:ext cx="657000" cy="520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36720" y="5011560"/>
            <a:ext cx="549360" cy="54936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242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memories are small, fast SRAM-based memories managed automatically in hardwa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frequently accessed blocks of ma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looks first for data in L1, then in L2, then in main mem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bus structu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04840" y="2286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mountain test 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9320" y="1434960"/>
            <a:ext cx="8638920" cy="488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The test function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oid test(int elems, int strid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i, result = 0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olatile int sink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 = 0; i &lt; elems; i += strid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sult += data[i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ink = result; /* So compiler doesn't optimize away the loop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Run test(elems, stride) and return read throughput (MB/s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uble run(int size, int stride, double Mhz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uble cycles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elems = size / sizeof(int)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est(elems, stride);                     /* warm up the cache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ycles = fcyc2(test, elems, stride, 0);  /* call test(elems,stride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(size / stride) / (cycles / Mhz); /* convert cycles to MB/s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04840" y="2286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mountain main rout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18960" y="1025640"/>
            <a:ext cx="8524800" cy="534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mountain.c - Generate the memory mountain.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INBYTES (1 &lt;&lt; 10)  /* Working set size ranges from 1 KB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AXBYTES (1 &lt;&lt; 23)  /* ... up to 8 MB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AXSTRIDE 16        /* Strides range from 1 to 16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AXELEMS MAXBYTES/sizeof(in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data[MAXELEMS];         /* The array we'll be travers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size;        /* Working set size (in bytes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stride;      /* Stride (in array elements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uble Mhz;      /* Clock frequency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it_data(data, MAXELEMS); /* Initialize each element in data to 1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hz = mhz(0);              /* Estimate the clock frequency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size = MAXBYTES; size &gt;= MINBYTES; size &gt;&gt;= 1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stride = 1; stride &lt;= MAXSTRIDE; stride++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ntf("%.1f\t", run(size, stride, Mhz))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ory Mount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231840" y="990720"/>
          <a:ext cx="868032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990720"/>
                    <a:ext cx="868032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dges of temporal loc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ce through the memory mountain with stride=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minates read throughputs of different cache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219320" y="2057400"/>
          <a:ext cx="651816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65181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65440" y="228600"/>
            <a:ext cx="561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lope of spatial loc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ce through memory mountain with size=256K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s cache block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644400" y="2057400"/>
          <a:ext cx="651852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057400"/>
                    <a:ext cx="65185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05080" y="368280"/>
            <a:ext cx="652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Cache Effects to Cons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ach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temporal locality and keep the working set small (e.g., by using bloc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spatial 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 N x N matr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ta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reads per source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values summed per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6840" indent="-161640"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be able to hold i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70320" y="2751120"/>
            <a:ext cx="4492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88040" y="2714760"/>
            <a:ext cx="167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ld i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248160" y="373392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695720" y="3276720"/>
            <a:ext cx="22860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92200" y="368280"/>
            <a:ext cx="8153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s rate analysis for matrix multip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 size = 32B (big enough for 4 64-bit wor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 dimension (N) is very l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1/N as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is not even big enough to hold multiple 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Metho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access pattern of inner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867280" y="525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814400" y="4367160"/>
            <a:ext cx="1068480" cy="1307880"/>
            <a:chOff x="1814400" y="4367160"/>
            <a:chExt cx="1068480" cy="1307880"/>
          </a:xfrm>
        </p:grpSpPr>
        <p:sp>
          <p:nvSpPr>
            <p:cNvPr id="700" name=""/>
            <p:cNvSpPr/>
            <p:nvPr/>
          </p:nvSpPr>
          <p:spPr>
            <a:xfrm>
              <a:off x="213984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7160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2146320" y="4367160"/>
              <a:ext cx="736560" cy="302040"/>
              <a:chOff x="2146320" y="4367160"/>
              <a:chExt cx="736560" cy="302040"/>
            </a:xfrm>
          </p:grpSpPr>
          <p:sp>
            <p:nvSpPr>
              <p:cNvPr id="703" name=""/>
              <p:cNvSpPr/>
              <p:nvPr/>
            </p:nvSpPr>
            <p:spPr>
              <a:xfrm>
                <a:off x="2146320" y="449568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271240" y="4367160"/>
                <a:ext cx="280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1814400" y="4737240"/>
              <a:ext cx="221040" cy="736560"/>
              <a:chOff x="1814400" y="4737240"/>
              <a:chExt cx="221040" cy="736560"/>
            </a:xfrm>
          </p:grpSpPr>
          <p:sp>
            <p:nvSpPr>
              <p:cNvPr id="706" name=""/>
              <p:cNvSpPr/>
              <p:nvPr/>
            </p:nvSpPr>
            <p:spPr>
              <a:xfrm>
                <a:off x="1924200" y="47372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81440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566520" y="4367160"/>
            <a:ext cx="992880" cy="1307880"/>
            <a:chOff x="3566520" y="4367160"/>
            <a:chExt cx="992880" cy="1307880"/>
          </a:xfrm>
        </p:grpSpPr>
        <p:sp>
          <p:nvSpPr>
            <p:cNvPr id="709" name=""/>
            <p:cNvSpPr/>
            <p:nvPr/>
          </p:nvSpPr>
          <p:spPr>
            <a:xfrm>
              <a:off x="38926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2444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3566520" y="4737240"/>
              <a:ext cx="271440" cy="736560"/>
              <a:chOff x="3566520" y="4737240"/>
              <a:chExt cx="271440" cy="736560"/>
            </a:xfrm>
          </p:grpSpPr>
          <p:sp>
            <p:nvSpPr>
              <p:cNvPr id="712" name=""/>
              <p:cNvSpPr/>
              <p:nvPr/>
            </p:nvSpPr>
            <p:spPr>
              <a:xfrm>
                <a:off x="3676680" y="47372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566520" y="4824360"/>
                <a:ext cx="27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3822840" y="4367160"/>
              <a:ext cx="736560" cy="302040"/>
              <a:chOff x="3822840" y="4367160"/>
              <a:chExt cx="736560" cy="302040"/>
            </a:xfrm>
          </p:grpSpPr>
          <p:sp>
            <p:nvSpPr>
              <p:cNvPr id="715" name=""/>
              <p:cNvSpPr/>
              <p:nvPr/>
            </p:nvSpPr>
            <p:spPr>
              <a:xfrm>
                <a:off x="3822840" y="449568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47400" y="4367160"/>
                <a:ext cx="2318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5396040" y="4367160"/>
            <a:ext cx="1068120" cy="1106640"/>
            <a:chOff x="5396040" y="4367160"/>
            <a:chExt cx="1068120" cy="1106640"/>
          </a:xfrm>
        </p:grpSpPr>
        <p:sp>
          <p:nvSpPr>
            <p:cNvPr id="718" name=""/>
            <p:cNvSpPr/>
            <p:nvPr/>
          </p:nvSpPr>
          <p:spPr>
            <a:xfrm>
              <a:off x="57214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5396040" y="4737240"/>
              <a:ext cx="221040" cy="736560"/>
              <a:chOff x="5396040" y="4737240"/>
              <a:chExt cx="221040" cy="736560"/>
            </a:xfrm>
          </p:grpSpPr>
          <p:sp>
            <p:nvSpPr>
              <p:cNvPr id="720" name=""/>
              <p:cNvSpPr/>
              <p:nvPr/>
            </p:nvSpPr>
            <p:spPr>
              <a:xfrm>
                <a:off x="5505480" y="47372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9604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5727600" y="4367160"/>
              <a:ext cx="736560" cy="302040"/>
              <a:chOff x="5727600" y="4367160"/>
              <a:chExt cx="736560" cy="302040"/>
            </a:xfrm>
          </p:grpSpPr>
          <p:sp>
            <p:nvSpPr>
              <p:cNvPr id="723" name=""/>
              <p:cNvSpPr/>
              <p:nvPr/>
            </p:nvSpPr>
            <p:spPr>
              <a:xfrm>
                <a:off x="5727600" y="449568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53240" y="43671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608120" y="368280"/>
            <a:ext cx="6121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yout of arrays in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618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arrays allocated in row-major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row in contiguous memory lo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ing through columns in one r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0]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s successiv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block size (B) &gt; 4 bytes, exploit spatial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miss rate = 4 bytes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ing through rows in one colum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s distant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spatial localit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miss rate = 1 (i.e. 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13040" y="342720"/>
            <a:ext cx="551160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ij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76200" y="1760400"/>
            <a:ext cx="44928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j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9288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1184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5484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2464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4360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86600" y="3330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34320" y="27558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99000" y="31240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81840" y="29494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91320" y="2416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013600" y="306072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834320" y="27208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96760" y="1959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6435000" y="3754440"/>
            <a:ext cx="1042560" cy="1301040"/>
            <a:chOff x="6435000" y="3754440"/>
            <a:chExt cx="1042560" cy="1301040"/>
          </a:xfrm>
        </p:grpSpPr>
        <p:sp>
          <p:nvSpPr>
            <p:cNvPr id="743" name=""/>
            <p:cNvSpPr/>
            <p:nvPr/>
          </p:nvSpPr>
          <p:spPr>
            <a:xfrm>
              <a:off x="6435000" y="4417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991200" y="375444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5216040" y="441792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-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772240" y="3754440"/>
            <a:ext cx="0" cy="62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590240" y="3754440"/>
            <a:ext cx="739080" cy="1026720"/>
            <a:chOff x="7590240" y="3754440"/>
            <a:chExt cx="739080" cy="1026720"/>
          </a:xfrm>
        </p:grpSpPr>
        <p:sp>
          <p:nvSpPr>
            <p:cNvPr id="748" name=""/>
            <p:cNvSpPr/>
            <p:nvPr/>
          </p:nvSpPr>
          <p:spPr>
            <a:xfrm>
              <a:off x="7590240" y="4417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8147160" y="375444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44240" y="4875120"/>
            <a:ext cx="5041800" cy="127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ji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9880" y="1836720"/>
            <a:ext cx="47214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ji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68840" y="2978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88160" y="2978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931160" y="2978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00600" y="3559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19920" y="3559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139240" y="3559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9844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75320" y="33526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157800" y="31780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67640" y="26449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089920" y="328932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910640" y="29494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49040" y="21114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335200" y="4127400"/>
            <a:ext cx="1168920" cy="1027080"/>
            <a:chOff x="5335200" y="4127400"/>
            <a:chExt cx="1168920" cy="1027080"/>
          </a:xfrm>
        </p:grpSpPr>
        <p:sp>
          <p:nvSpPr>
            <p:cNvPr id="767" name=""/>
            <p:cNvSpPr/>
            <p:nvPr/>
          </p:nvSpPr>
          <p:spPr>
            <a:xfrm>
              <a:off x="5335200" y="47912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891040" y="412740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6536520" y="4127400"/>
            <a:ext cx="1042560" cy="1301400"/>
            <a:chOff x="6536520" y="4127400"/>
            <a:chExt cx="1042560" cy="1301400"/>
          </a:xfrm>
        </p:grpSpPr>
        <p:sp>
          <p:nvSpPr>
            <p:cNvPr id="770" name=""/>
            <p:cNvSpPr/>
            <p:nvPr/>
          </p:nvSpPr>
          <p:spPr>
            <a:xfrm>
              <a:off x="6536520" y="479124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093080" y="412740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666200" y="4135320"/>
            <a:ext cx="739080" cy="1027080"/>
            <a:chOff x="7666200" y="4135320"/>
            <a:chExt cx="739080" cy="1027080"/>
          </a:xfrm>
        </p:grpSpPr>
        <p:sp>
          <p:nvSpPr>
            <p:cNvPr id="773" name=""/>
            <p:cNvSpPr/>
            <p:nvPr/>
          </p:nvSpPr>
          <p:spPr>
            <a:xfrm>
              <a:off x="7666200" y="479916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8223120" y="413532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0400" y="228240"/>
            <a:ext cx="68832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erting an L1 cache betwe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PU and main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0080" y="2590920"/>
            <a:ext cx="106668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0080" y="4038480"/>
            <a:ext cx="1066680" cy="2438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6040" y="137160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6040" y="1523880"/>
            <a:ext cx="3808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6040" y="167652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6040" y="182880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6040" y="4191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7600" y="41907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86040" y="4952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q 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55000" y="4952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4640" y="5256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14640" y="4494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6040" y="5715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x y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7600" y="5714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5520" y="6018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8080" y="4801320"/>
            <a:ext cx="269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ig slow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room for many 4-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8600" y="2695680"/>
            <a:ext cx="327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mall fa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 cac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r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wo  4-word bloc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1120" y="1400040"/>
            <a:ext cx="341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ny, very fast CP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room for four 4-byte wo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86040" y="2666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86040" y="3048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3240" y="1981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3240" y="342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371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5909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0384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58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" y="3201480"/>
            <a:ext cx="249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ransfer unit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ache and 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is a 4-word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6 byt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5680" y="1829520"/>
            <a:ext cx="264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ransfer unit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PU register fil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ache is a 4-byte b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048120" y="1981080"/>
            <a:ext cx="304560" cy="533520"/>
          </a:xfrm>
          <a:custGeom>
            <a:avLst/>
            <a:gdLst>
              <a:gd name="textAreaLeft" fmla="*/ 360 w 304560"/>
              <a:gd name="textAreaRight" fmla="*/ 11016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8120" y="3429000"/>
            <a:ext cx="304560" cy="609480"/>
          </a:xfrm>
          <a:custGeom>
            <a:avLst/>
            <a:gdLst>
              <a:gd name="textAreaLeft" fmla="*/ 360 w 304560"/>
              <a:gd name="textAreaRight" fmla="*/ 11016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3840" y="26348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ne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3840" y="3015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kij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2520" y="1608120"/>
            <a:ext cx="4263840" cy="269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kij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r * b[k][j]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4024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5956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72812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7200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9132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935840" y="3102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17080" y="27208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34240" y="28954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23040" y="290844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43400" y="249228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48520" y="249228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566040" y="266688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83800" y="1959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325920" y="3593880"/>
            <a:ext cx="1168920" cy="1027080"/>
            <a:chOff x="6325920" y="3593880"/>
            <a:chExt cx="1168920" cy="1027080"/>
          </a:xfrm>
        </p:grpSpPr>
        <p:sp>
          <p:nvSpPr>
            <p:cNvPr id="792" name=""/>
            <p:cNvSpPr/>
            <p:nvPr/>
          </p:nvSpPr>
          <p:spPr>
            <a:xfrm>
              <a:off x="6325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881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7468920" y="3593880"/>
            <a:ext cx="1168920" cy="1027080"/>
            <a:chOff x="7468920" y="3593880"/>
            <a:chExt cx="1168920" cy="1027080"/>
          </a:xfrm>
        </p:grpSpPr>
        <p:sp>
          <p:nvSpPr>
            <p:cNvPr id="795" name=""/>
            <p:cNvSpPr/>
            <p:nvPr/>
          </p:nvSpPr>
          <p:spPr>
            <a:xfrm>
              <a:off x="7468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8024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5075640" y="3602160"/>
            <a:ext cx="739080" cy="1026720"/>
            <a:chOff x="5075640" y="3602160"/>
            <a:chExt cx="739080" cy="1026720"/>
          </a:xfrm>
        </p:grpSpPr>
        <p:sp>
          <p:nvSpPr>
            <p:cNvPr id="798" name=""/>
            <p:cNvSpPr/>
            <p:nvPr/>
          </p:nvSpPr>
          <p:spPr>
            <a:xfrm>
              <a:off x="5075640" y="42656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632560" y="360216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ikj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90680" y="1709640"/>
            <a:ext cx="4314600" cy="25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kj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r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4024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5956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2812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7200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69132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35840" y="3102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317080" y="27208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34240" y="28954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423040" y="290844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3400" y="249228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148520" y="249228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66040" y="266688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83800" y="1959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325920" y="3593880"/>
            <a:ext cx="1168920" cy="1027080"/>
            <a:chOff x="6325920" y="3593880"/>
            <a:chExt cx="1168920" cy="1027080"/>
          </a:xfrm>
        </p:grpSpPr>
        <p:sp>
          <p:nvSpPr>
            <p:cNvPr id="817" name=""/>
            <p:cNvSpPr/>
            <p:nvPr/>
          </p:nvSpPr>
          <p:spPr>
            <a:xfrm>
              <a:off x="6325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6881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468920" y="3593880"/>
            <a:ext cx="1168920" cy="1027080"/>
            <a:chOff x="7468920" y="3593880"/>
            <a:chExt cx="1168920" cy="1027080"/>
          </a:xfrm>
        </p:grpSpPr>
        <p:sp>
          <p:nvSpPr>
            <p:cNvPr id="820" name=""/>
            <p:cNvSpPr/>
            <p:nvPr/>
          </p:nvSpPr>
          <p:spPr>
            <a:xfrm>
              <a:off x="7468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024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075640" y="3602160"/>
            <a:ext cx="739080" cy="1026720"/>
            <a:chOff x="5075640" y="3602160"/>
            <a:chExt cx="739080" cy="1026720"/>
          </a:xfrm>
        </p:grpSpPr>
        <p:sp>
          <p:nvSpPr>
            <p:cNvPr id="823" name=""/>
            <p:cNvSpPr/>
            <p:nvPr/>
          </p:nvSpPr>
          <p:spPr>
            <a:xfrm>
              <a:off x="5075640" y="42656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632560" y="360216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444600" y="4869000"/>
            <a:ext cx="519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jk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66640" y="1633680"/>
            <a:ext cx="4353120" cy="25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jki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34024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55956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72812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7200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9132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35840" y="3330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56480" y="2416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92760" y="3149640"/>
            <a:ext cx="5112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475320" y="273384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69680" y="19717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803920" y="2743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886880" y="27558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22760" y="241632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5106240" y="3822480"/>
            <a:ext cx="1106640" cy="1301400"/>
            <a:chOff x="5106240" y="3822480"/>
            <a:chExt cx="1106640" cy="1301400"/>
          </a:xfrm>
        </p:grpSpPr>
        <p:sp>
          <p:nvSpPr>
            <p:cNvPr id="842" name=""/>
            <p:cNvSpPr/>
            <p:nvPr/>
          </p:nvSpPr>
          <p:spPr>
            <a:xfrm>
              <a:off x="5106240" y="4486320"/>
              <a:ext cx="1106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5662440" y="38224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468560" y="3822480"/>
            <a:ext cx="1042560" cy="1301400"/>
            <a:chOff x="7468560" y="3822480"/>
            <a:chExt cx="1042560" cy="1301400"/>
          </a:xfrm>
        </p:grpSpPr>
        <p:sp>
          <p:nvSpPr>
            <p:cNvPr id="845" name=""/>
            <p:cNvSpPr/>
            <p:nvPr/>
          </p:nvSpPr>
          <p:spPr>
            <a:xfrm>
              <a:off x="7468560" y="44863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8024760" y="38224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370920" y="3830760"/>
            <a:ext cx="739080" cy="1026720"/>
            <a:chOff x="6370920" y="3830760"/>
            <a:chExt cx="739080" cy="1026720"/>
          </a:xfrm>
        </p:grpSpPr>
        <p:sp>
          <p:nvSpPr>
            <p:cNvPr id="848" name=""/>
            <p:cNvSpPr/>
            <p:nvPr/>
          </p:nvSpPr>
          <p:spPr>
            <a:xfrm>
              <a:off x="6370920" y="44942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927840" y="383076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kj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17400" y="1849320"/>
            <a:ext cx="4518000" cy="25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kji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57760" y="278748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877080" y="278748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45280" y="2787480"/>
            <a:ext cx="5972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89520" y="33685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08840" y="33685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253360" y="33685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974000" y="24541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0280" y="318780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92840" y="277164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87200" y="200988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6121440" y="27813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8204040" y="27939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840280" y="245412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6599520" y="3754440"/>
            <a:ext cx="739080" cy="1026720"/>
            <a:chOff x="6599520" y="3754440"/>
            <a:chExt cx="739080" cy="1026720"/>
          </a:xfrm>
        </p:grpSpPr>
        <p:sp>
          <p:nvSpPr>
            <p:cNvPr id="867" name=""/>
            <p:cNvSpPr/>
            <p:nvPr/>
          </p:nvSpPr>
          <p:spPr>
            <a:xfrm>
              <a:off x="6599520" y="4417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56440" y="375444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411160" y="3746520"/>
            <a:ext cx="1042560" cy="1301040"/>
            <a:chOff x="5411160" y="3746520"/>
            <a:chExt cx="1042560" cy="1301040"/>
          </a:xfrm>
        </p:grpSpPr>
        <p:sp>
          <p:nvSpPr>
            <p:cNvPr id="870" name=""/>
            <p:cNvSpPr/>
            <p:nvPr/>
          </p:nvSpPr>
          <p:spPr>
            <a:xfrm>
              <a:off x="5411160" y="44100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967360" y="374652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7697160" y="3746520"/>
            <a:ext cx="1042560" cy="1301040"/>
            <a:chOff x="7697160" y="3746520"/>
            <a:chExt cx="1042560" cy="1301040"/>
          </a:xfrm>
        </p:grpSpPr>
        <p:sp>
          <p:nvSpPr>
            <p:cNvPr id="873" name=""/>
            <p:cNvSpPr/>
            <p:nvPr/>
          </p:nvSpPr>
          <p:spPr>
            <a:xfrm>
              <a:off x="7697160" y="44100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8253360" y="374652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09360" y="520560"/>
            <a:ext cx="7365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matrix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0880" y="2666880"/>
            <a:ext cx="266724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65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00400" y="2666880"/>
            <a:ext cx="236232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38680" y="2666880"/>
            <a:ext cx="243864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9674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4820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9800" y="228600"/>
            <a:ext cx="8204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 matrix multiply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0"/>
          </a:bodyPr>
          <a:p>
            <a:pPr marL="4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 that miss rates are helpful but not perfect predic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7760" indent="-3276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cheduling matters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835200" y="1987560"/>
          <a:ext cx="8308800" cy="57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987560"/>
                    <a:ext cx="830880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876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temporal locality by blo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031760" y="485316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87840" y="2865600"/>
            <a:ext cx="966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1   A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   A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28800" y="2841480"/>
            <a:ext cx="215280" cy="838440"/>
            <a:chOff x="928800" y="2841480"/>
            <a:chExt cx="215280" cy="838440"/>
          </a:xfrm>
        </p:grpSpPr>
        <p:sp>
          <p:nvSpPr>
            <p:cNvPr id="891" name=""/>
            <p:cNvSpPr/>
            <p:nvPr/>
          </p:nvSpPr>
          <p:spPr>
            <a:xfrm>
              <a:off x="928800" y="2854440"/>
              <a:ext cx="0" cy="81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41040" y="2841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41040" y="3679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842840" y="2841120"/>
            <a:ext cx="228960" cy="838800"/>
            <a:chOff x="1842840" y="2841120"/>
            <a:chExt cx="228960" cy="838800"/>
          </a:xfrm>
        </p:grpSpPr>
        <p:sp>
          <p:nvSpPr>
            <p:cNvPr id="895" name=""/>
            <p:cNvSpPr/>
            <p:nvPr/>
          </p:nvSpPr>
          <p:spPr>
            <a:xfrm flipV="1">
              <a:off x="2071800" y="284112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1842840" y="36799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42840" y="2841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2664000" y="2865600"/>
            <a:ext cx="966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1   B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1   B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604960" y="2841480"/>
            <a:ext cx="215640" cy="838440"/>
            <a:chOff x="2604960" y="2841480"/>
            <a:chExt cx="215640" cy="838440"/>
          </a:xfrm>
        </p:grpSpPr>
        <p:sp>
          <p:nvSpPr>
            <p:cNvPr id="900" name=""/>
            <p:cNvSpPr/>
            <p:nvPr/>
          </p:nvSpPr>
          <p:spPr>
            <a:xfrm>
              <a:off x="2604960" y="2854440"/>
              <a:ext cx="0" cy="81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17560" y="2841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17560" y="3679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443040" y="2841120"/>
            <a:ext cx="228960" cy="838800"/>
            <a:chOff x="3443040" y="2841120"/>
            <a:chExt cx="228960" cy="838800"/>
          </a:xfrm>
        </p:grpSpPr>
        <p:sp>
          <p:nvSpPr>
            <p:cNvPr id="904" name=""/>
            <p:cNvSpPr/>
            <p:nvPr/>
          </p:nvSpPr>
          <p:spPr>
            <a:xfrm flipV="1">
              <a:off x="3672000" y="284112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43040" y="36799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43040" y="2841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2209680" y="3170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0" y="3094200"/>
            <a:ext cx="33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264560" y="2865600"/>
            <a:ext cx="984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11   C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21   C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205160" y="2841480"/>
            <a:ext cx="215640" cy="838440"/>
            <a:chOff x="4205160" y="2841480"/>
            <a:chExt cx="215640" cy="838440"/>
          </a:xfrm>
        </p:grpSpPr>
        <p:sp>
          <p:nvSpPr>
            <p:cNvPr id="911" name=""/>
            <p:cNvSpPr/>
            <p:nvPr/>
          </p:nvSpPr>
          <p:spPr>
            <a:xfrm>
              <a:off x="4205160" y="2854440"/>
              <a:ext cx="0" cy="81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17760" y="2841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217760" y="3679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043240" y="2841120"/>
            <a:ext cx="228960" cy="838800"/>
            <a:chOff x="5043240" y="2841120"/>
            <a:chExt cx="228960" cy="838800"/>
          </a:xfrm>
        </p:grpSpPr>
        <p:sp>
          <p:nvSpPr>
            <p:cNvPr id="915" name=""/>
            <p:cNvSpPr/>
            <p:nvPr/>
          </p:nvSpPr>
          <p:spPr>
            <a:xfrm flipV="1">
              <a:off x="5272200" y="284112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5043240" y="36799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043240" y="2841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838080" y="4038480"/>
            <a:ext cx="650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-blocks (i.e.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treated just like scal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Blocked matrix multi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” (in this context) does not mean “cache block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it mean a sub-block within the matri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N = 8; sub-block size =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341360" y="368280"/>
            <a:ext cx="6502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cked matrix multiply (bij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447660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062000" y="342720"/>
            <a:ext cx="72136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cked matrix multiply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40240" y="447660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508800" y="447660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253040" y="5057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72000" y="5057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16880" y="5057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749840" y="589608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465360" y="4572000"/>
            <a:ext cx="636840" cy="98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46720" y="4483080"/>
            <a:ext cx="203040" cy="2034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706480" y="561672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60840" y="47620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72040" y="551484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6807240" y="4635360"/>
            <a:ext cx="558720" cy="787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67080" y="466092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29000" y="46720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466092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691320" y="46720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937400" y="4432320"/>
            <a:ext cx="361440" cy="736560"/>
            <a:chOff x="4937400" y="4432320"/>
            <a:chExt cx="361440" cy="736560"/>
          </a:xfrm>
        </p:grpSpPr>
        <p:sp>
          <p:nvSpPr>
            <p:cNvPr id="942" name=""/>
            <p:cNvSpPr/>
            <p:nvPr/>
          </p:nvSpPr>
          <p:spPr>
            <a:xfrm>
              <a:off x="5105520" y="443232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37400" y="45194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6515280" y="4559400"/>
            <a:ext cx="203040" cy="759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152960" y="4559400"/>
            <a:ext cx="203040" cy="759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127400" y="4138560"/>
            <a:ext cx="736560" cy="302040"/>
            <a:chOff x="4127400" y="4138560"/>
            <a:chExt cx="736560" cy="302040"/>
          </a:xfrm>
        </p:grpSpPr>
        <p:sp>
          <p:nvSpPr>
            <p:cNvPr id="947" name=""/>
            <p:cNvSpPr/>
            <p:nvPr/>
          </p:nvSpPr>
          <p:spPr>
            <a:xfrm>
              <a:off x="4127400" y="4267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51600" y="413856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6489720" y="4138560"/>
            <a:ext cx="736560" cy="302040"/>
            <a:chOff x="6489720" y="4138560"/>
            <a:chExt cx="736560" cy="302040"/>
          </a:xfrm>
        </p:grpSpPr>
        <p:sp>
          <p:nvSpPr>
            <p:cNvPr id="950" name=""/>
            <p:cNvSpPr/>
            <p:nvPr/>
          </p:nvSpPr>
          <p:spPr>
            <a:xfrm>
              <a:off x="6489720" y="4267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15000" y="4138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5270400" y="4138560"/>
            <a:ext cx="736560" cy="302040"/>
            <a:chOff x="5270400" y="4138560"/>
            <a:chExt cx="736560" cy="302040"/>
          </a:xfrm>
        </p:grpSpPr>
        <p:sp>
          <p:nvSpPr>
            <p:cNvPr id="953" name=""/>
            <p:cNvSpPr/>
            <p:nvPr/>
          </p:nvSpPr>
          <p:spPr>
            <a:xfrm>
              <a:off x="5270400" y="4267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96040" y="4138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68240" y="2174760"/>
            <a:ext cx="6900840" cy="2557800"/>
            <a:chOff x="768240" y="2174760"/>
            <a:chExt cx="6900840" cy="2557800"/>
          </a:xfrm>
        </p:grpSpPr>
        <p:sp>
          <p:nvSpPr>
            <p:cNvPr id="956" name=""/>
            <p:cNvSpPr/>
            <p:nvPr/>
          </p:nvSpPr>
          <p:spPr>
            <a:xfrm>
              <a:off x="768240" y="217476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251460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11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most loop pair multiplies a 1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ver of A by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ck of B and accumulates into 1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ver of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over i steps through n row slivers of A &amp; C, using same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914400" y="3441600"/>
            <a:ext cx="53352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6000" y="3886200"/>
            <a:ext cx="115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m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866960" y="228240"/>
            <a:ext cx="5410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 blocked matrix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44600" y="1447560"/>
            <a:ext cx="825480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0"/>
          </a:bodyPr>
          <a:p>
            <a:pPr marL="4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(bijk and bikj) improves performance by a factor of two over unblocked versions (ijk and ji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-442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ly insensitive to array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520" y="228600"/>
            <a:ext cx="8940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organization of a cache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35480" y="1738440"/>
            <a:ext cx="4267080" cy="1207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30960" y="1814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73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30960" y="24876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6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73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65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408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6408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9880" y="181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9880" y="24876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55800" y="2209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330960" y="595080"/>
            <a:ext cx="152280" cy="198108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73960" y="97632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 = 2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8880" y="1738440"/>
            <a:ext cx="152280" cy="120780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7800"/>
              <a:gd name="textAreaBottom" fmla="*/ 1176480 h 120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7400" y="2009880"/>
            <a:ext cx="94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44760" y="1814400"/>
            <a:ext cx="228600" cy="42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600 h 4281480"/>
              <a:gd name="textAreaBottom" fmla="*/ 4169880 h 42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10760" y="3777840"/>
            <a:ext cx="11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 = 2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4690800" y="11282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05600" y="91440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 rot="16200000">
            <a:off x="3783960" y="1299240"/>
            <a:ext cx="190440" cy="533160"/>
          </a:xfrm>
          <a:custGeom>
            <a:avLst/>
            <a:gdLst>
              <a:gd name="textAreaLeft" fmla="*/ 121320 w 190440"/>
              <a:gd name="textAreaRight" fmla="*/ 190440 w 1904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3800" y="928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valid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0880" y="6216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size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 = B x E x 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13520" y="2157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32240" y="3124080"/>
            <a:ext cx="4267080" cy="12081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7720" y="3200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3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70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33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7720" y="3873600"/>
            <a:ext cx="6858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3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70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33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6084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6084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6640" y="3200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6640" y="38736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52560" y="3595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10280" y="3543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2240" y="4888080"/>
            <a:ext cx="4267080" cy="1207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7720" y="49640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3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70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33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7720" y="56372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3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70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33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6084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084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6640" y="4964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6640" y="56372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2760" y="535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0280" y="5307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642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5600" y="1143000"/>
            <a:ext cx="215136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is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et 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r more l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line hold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of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785600" y="334800"/>
            <a:ext cx="5613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ding observ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 can optimize for cach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ata structures are organ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ata acces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loop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(see text) is a general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achines like “cache friendly cod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absolute optimum performance very platform spe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sizes, line sizes, associativiti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most of the advantage with generic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working set reasonably small (temporal loc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mall strides (spatial loc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13080" y="228600"/>
            <a:ext cx="4317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ing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26200" y="133200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24200" y="13320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07280" y="171144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4280" y="171144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1280" y="1711440"/>
            <a:ext cx="1143000" cy="23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0" y="13017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24640" y="1910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25880" y="19105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26560" y="2416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tag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7200" y="241632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set inde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43560" y="241632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block offs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5401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6544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776412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43160" y="105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dress 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273672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12080" y="2749680"/>
            <a:ext cx="0" cy="577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8480" y="2001960"/>
            <a:ext cx="3087720" cy="874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4040" y="205740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89400" y="205740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62120" y="205740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200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4040" y="254484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9400" y="254484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62120" y="254484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3200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6372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372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60520" y="205740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254484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920" y="2310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4400" y="2305080"/>
            <a:ext cx="49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7320" y="3022560"/>
            <a:ext cx="3089520" cy="874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0800" y="30607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8760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60680" y="30607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8760" y="30607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0800" y="35481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760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60680" y="35481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28760" y="35481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192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57280" y="30607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57280" y="3548160"/>
            <a:ext cx="662040" cy="220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040" y="33152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82960" y="33084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5240" y="4281480"/>
            <a:ext cx="3089520" cy="874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0800" y="43369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8760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60680" y="43369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28760" y="43369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0800" y="48243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8760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60680" y="48243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28760" y="48243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192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192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57280" y="43369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57280" y="482436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76680" y="4590000"/>
            <a:ext cx="82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2960" y="45846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0760" y="3997440"/>
            <a:ext cx="497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79800" y="3335400"/>
            <a:ext cx="0" cy="2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060720" y="3314880"/>
            <a:ext cx="485136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885840" y="3022560"/>
            <a:ext cx="283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0160" y="3643200"/>
            <a:ext cx="4254480" cy="20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at address A is in the cache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g bits in one of the &lt;valid&gt; lin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&lt;set index&gt; match &lt;tag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contents begin at off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lock offset&gt; bytes from the begi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block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7080" y="228600"/>
            <a:ext cx="4749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-mapped c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172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st kind of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zed by exactly one line per 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2805120"/>
            <a:ext cx="426744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3352680"/>
            <a:ext cx="426744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191120"/>
            <a:ext cx="426744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8814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3429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42670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8814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429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2670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5560" y="38095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43120" y="28634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39880" y="3428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87600" y="426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2805120"/>
            <a:ext cx="152640" cy="471600"/>
          </a:xfrm>
          <a:custGeom>
            <a:avLst/>
            <a:gdLst>
              <a:gd name="textAreaLeft" fmla="*/ 0 w 152640"/>
              <a:gd name="textAreaRight" fmla="*/ 55080 w 1526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85000" y="28634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=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28814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41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42530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8840" y="228600"/>
            <a:ext cx="7366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direct-mapped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65600" y="2768760"/>
            <a:ext cx="411480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65600" y="3316320"/>
            <a:ext cx="411480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0" y="4154400"/>
            <a:ext cx="411480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18240" y="2844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18240" y="33926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18240" y="4230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4040" y="2844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04040" y="33926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04040" y="4230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96560" y="3773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70440" y="2827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7200" y="3392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14920" y="423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8520" y="4071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6520" y="40719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79600" y="43750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36600" y="43750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3600" y="43750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2520" y="460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800" y="46029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09640" y="40863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6195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14360" y="46195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6160" y="46195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655640" y="35557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804680" y="3558960"/>
            <a:ext cx="324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08280" y="3559320"/>
            <a:ext cx="216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08600" y="3285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8120" y="2857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8120" y="33908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8120" y="42292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set index bits to determine the set of intere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88840" y="228600"/>
            <a:ext cx="7366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direct-mapped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a valid line in the selected set with a matching tag (line match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extract the word (word selec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5880" y="3508200"/>
            <a:ext cx="584496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5780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84480" y="358452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02120" y="50626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00120" y="50626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83200" y="53658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0200" y="53658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97200" y="53658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26120" y="559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01800" y="55936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13240" y="507672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72320" y="56102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17960" y="56102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09760" y="56102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7880" y="35445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400480" y="3125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5520" y="279216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67480" y="3877920"/>
            <a:ext cx="2286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5594400" y="44953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3276720" y="44953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02480" y="4282560"/>
            <a:ext cx="4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5920" y="460368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60280" y="4222800"/>
            <a:ext cx="222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) If (1) and (2),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hi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block offs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ing by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39880" y="279540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 The valid bit must b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0560" y="4126680"/>
            <a:ext cx="284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) The tag bits in the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must matc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bits in th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5920" y="3825720"/>
            <a:ext cx="0" cy="49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70280" y="358452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9416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1028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8944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4664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67480" y="3573360"/>
            <a:ext cx="18288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3696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9416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4664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5308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10880" y="520560"/>
            <a:ext cx="7162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-mapped cache sim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1365120"/>
            <a:ext cx="632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=16 byte addresses, B=2 bytes/block, S=4 sets, E=1 entry/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race (read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[0000] 1 [0001] 13 [1101] 8 [1000] 0 [00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84040" y="1577880"/>
            <a:ext cx="2046600" cy="549360"/>
            <a:chOff x="284040" y="1577880"/>
            <a:chExt cx="2046600" cy="549360"/>
          </a:xfrm>
        </p:grpSpPr>
        <p:sp>
          <p:nvSpPr>
            <p:cNvPr id="335" name=""/>
            <p:cNvSpPr/>
            <p:nvPr/>
          </p:nvSpPr>
          <p:spPr>
            <a:xfrm>
              <a:off x="28404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6200" y="157788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00080" y="15778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=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62200" y="157788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6984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5564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78120" y="2403360"/>
            <a:ext cx="2987280" cy="1552680"/>
            <a:chOff x="1878120" y="2403360"/>
            <a:chExt cx="2987280" cy="1552680"/>
          </a:xfrm>
        </p:grpSpPr>
        <p:sp>
          <p:nvSpPr>
            <p:cNvPr id="342" name=""/>
            <p:cNvSpPr/>
            <p:nvPr/>
          </p:nvSpPr>
          <p:spPr>
            <a:xfrm>
              <a:off x="2444760" y="30542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01960" y="30542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35480" y="30542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63560" y="270828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44800" y="27082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06920" y="270828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44760" y="32828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01960" y="32828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35480" y="32828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44760" y="35114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01960" y="35114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35114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44760" y="37400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1960" y="37400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35480" y="37400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73760" y="240336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[0000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78120" y="331776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548320" y="2403360"/>
            <a:ext cx="2733120" cy="1552680"/>
            <a:chOff x="5548320" y="2403360"/>
            <a:chExt cx="2733120" cy="1552680"/>
          </a:xfrm>
        </p:grpSpPr>
        <p:sp>
          <p:nvSpPr>
            <p:cNvPr id="360" name=""/>
            <p:cNvSpPr/>
            <p:nvPr/>
          </p:nvSpPr>
          <p:spPr>
            <a:xfrm>
              <a:off x="6026040" y="30542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83240" y="30542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16760" y="30542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57440" y="270828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38680" y="27082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01160" y="270828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26040" y="32828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83240" y="32828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16760" y="32828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26040" y="35114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83240" y="35114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16760" y="35114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26040" y="37400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83240" y="37400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16760" y="37400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3080" y="2403360"/>
              <a:ext cx="181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 [1101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48320" y="331776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966680" y="4537080"/>
            <a:ext cx="2746080" cy="1552680"/>
            <a:chOff x="1966680" y="4537080"/>
            <a:chExt cx="2746080" cy="1552680"/>
          </a:xfrm>
        </p:grpSpPr>
        <p:sp>
          <p:nvSpPr>
            <p:cNvPr id="378" name=""/>
            <p:cNvSpPr/>
            <p:nvPr/>
          </p:nvSpPr>
          <p:spPr>
            <a:xfrm>
              <a:off x="2444760" y="5187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01960" y="51879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35480" y="51879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9] m[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63560" y="48420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44800" y="48420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6920" y="48420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44760" y="5416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01960" y="54165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35480" y="54165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44760" y="56451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01960" y="56451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35480" y="56451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4760" y="5873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01960" y="58737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35480" y="58737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21120" y="453708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[1000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66680" y="54514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548320" y="4537080"/>
            <a:ext cx="2758680" cy="1552680"/>
            <a:chOff x="5548320" y="4537080"/>
            <a:chExt cx="2758680" cy="1552680"/>
          </a:xfrm>
        </p:grpSpPr>
        <p:sp>
          <p:nvSpPr>
            <p:cNvPr id="396" name=""/>
            <p:cNvSpPr/>
            <p:nvPr/>
          </p:nvSpPr>
          <p:spPr>
            <a:xfrm>
              <a:off x="6026040" y="5187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83240" y="51879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6760" y="51879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57440" y="48420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38680" y="48420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01160" y="48420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26040" y="5416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83240" y="54165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6760" y="54165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26040" y="56451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83240" y="56451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6760" y="56451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26040" y="5873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83240" y="58737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16760" y="58737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5360" y="453708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[0000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48320" y="54514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Bryant and David O'Hallaron</dc:creator>
  <dc:description/>
  <dc:language>en-US</dc:language>
  <cp:lastModifiedBy>Gregory Kesden</cp:lastModifiedBy>
  <cp:lastPrinted>2001-10-11T12:29:36Z</cp:lastPrinted>
  <dcterms:modified xsi:type="dcterms:W3CDTF">2002-02-28T08:42:47Z</dcterms:modified>
  <cp:revision>259</cp:revision>
  <dc:subject/>
  <dc:title>Floating Point</dc:title>
</cp:coreProperties>
</file>