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5548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29680" y="6527880"/>
            <a:ext cx="300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‘S02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3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DDE990BB-C52B-41CA-8964-FB110EF4A00A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1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5640" y="1294920"/>
            <a:ext cx="454644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e Optimization I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bruary 19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2320" y="2742840"/>
            <a:ext cx="51940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-Dependent Optimiz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r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ing instruction level paralle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standing Processor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 of instructions into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-of-order execution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es and Branch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: 5.11, 5.14, 5.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440" y="3049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1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152280"/>
            <a:ext cx="4241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truction Contr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44600" y="2895120"/>
            <a:ext cx="8254800" cy="34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s Instruction Bytes From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Current PC + Predicted Targets for Predicted Bran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dynamically guesses whether branches taken/not taken and (possibly) branch targ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s Instructions In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itive steps required to perform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 instruction requires 1–3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ts Register References In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tract identifier linking destination of one operation with sources of later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057400" y="838080"/>
            <a:ext cx="4952880" cy="2211840"/>
            <a:chOff x="2057400" y="838080"/>
            <a:chExt cx="4952880" cy="2211840"/>
          </a:xfrm>
        </p:grpSpPr>
        <p:sp>
          <p:nvSpPr>
            <p:cNvPr id="126" name=""/>
            <p:cNvSpPr/>
            <p:nvPr/>
          </p:nvSpPr>
          <p:spPr>
            <a:xfrm>
              <a:off x="2057400" y="838080"/>
              <a:ext cx="4952880" cy="1828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truction 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43600" y="1295280"/>
              <a:ext cx="838080" cy="106668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90760" y="1218960"/>
              <a:ext cx="914400" cy="53352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90760" y="1828440"/>
              <a:ext cx="914400" cy="53352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05160" y="1447560"/>
              <a:ext cx="83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04800" y="2057040"/>
              <a:ext cx="83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47960" y="236196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53320" y="1118880"/>
              <a:ext cx="89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00680" y="1744560"/>
              <a:ext cx="120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stru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23560" y="274284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7760" y="1371240"/>
              <a:ext cx="914400" cy="99072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tir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00400" y="1828440"/>
              <a:ext cx="609480" cy="457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9880" y="2057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86200" y="2361960"/>
              <a:ext cx="761760" cy="228600"/>
            </a:xfrm>
            <a:custGeom>
              <a:avLst/>
              <a:gdLst/>
              <a:ahLst/>
              <a:rect l="l" t="t" r="r" b="b"/>
              <a:pathLst>
                <a:path w="480" h="144">
                  <a:moveTo>
                    <a:pt x="480" y="144"/>
                  </a:move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93560" y="334800"/>
            <a:ext cx="4597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la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255160" cy="84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6000"/>
          </a:bodyPr>
          <a:p>
            <a:pPr marL="57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ion of Combine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440" indent="-57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 data, multiply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ion of First It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1981080"/>
            <a:ext cx="6477120" cy="1460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(%eax,%edx,4)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t *= data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: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.L2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f &lt; goto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4168800"/>
            <a:ext cx="3886200" cy="200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(%eax,%edx,4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4168800"/>
            <a:ext cx="4419720" cy="173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(%eax,%edx.0,4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t.1, %ecx.0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 %edx.1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0760" y="334800"/>
            <a:ext cx="7823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derstandingTransla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255160" cy="84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marL="3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lit into two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560" indent="-28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ds from memory to generate temporary resul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560" indent="-28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operation just operates on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560" indent="-28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not change in loop.  Values will be retrieved from register file during 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560" indent="-28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nges on every iteration.  Uniquely identify different versions a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cx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cx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cx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440" indent="-28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n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440" indent="-28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passed directly from producer to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anges on each iteration.  Rename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143000"/>
            <a:ext cx="3886200" cy="36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(%eax,%edx,4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143000"/>
            <a:ext cx="4419720" cy="63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(%eax,%edx.0,4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t.1, %ecx.0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5160960"/>
            <a:ext cx="3886200" cy="36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5160960"/>
            <a:ext cx="4191120" cy="36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.0   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9240" y="334800"/>
            <a:ext cx="8026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derstandingTranslation Ex.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255160" cy="84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marL="3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 codes are treated similar to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gn tag to define connection between producer and consum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control unit determines destination of jum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s whether will be taken and targ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s fetching instruction at predicted dest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 unit simply checks whether or not prediction was O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4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ot, it signals instruction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560" indent="-28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control then “invalidates” any operations generated from misfetched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560" indent="-28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s fetching and decoding instructions at correct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371600"/>
            <a:ext cx="3886200" cy="36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1371600"/>
            <a:ext cx="4191120" cy="36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590920"/>
            <a:ext cx="3886200" cy="36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2590920"/>
            <a:ext cx="4191120" cy="36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64960" y="334800"/>
            <a:ext cx="50547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izing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62520" y="3276720"/>
            <a:ext cx="4736880" cy="275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08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tical position denotes time at which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80840" indent="-153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begin operation until operand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ight denotes lat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s shown only for operands that are passed within execution 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814680" y="1371600"/>
            <a:ext cx="3015360" cy="3505320"/>
            <a:chOff x="814680" y="1371600"/>
            <a:chExt cx="3015360" cy="3505320"/>
          </a:xfrm>
        </p:grpSpPr>
        <p:sp>
          <p:nvSpPr>
            <p:cNvPr id="160" name=""/>
            <p:cNvSpPr/>
            <p:nvPr/>
          </p:nvSpPr>
          <p:spPr>
            <a:xfrm>
              <a:off x="2700000" y="24652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c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80640" y="289260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96880" y="1752480"/>
              <a:ext cx="755640" cy="11430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143000"/>
                <a:gd name="textAreaBottom" fmla="*/ 1103040 h 1143000"/>
              </a:gdLst>
              <a:ahLst/>
              <a:rect l="textAreaLeft" t="textAreaTop" r="textAreaRight" b="textAreaBottom"/>
              <a:pathLst>
                <a:path w="21600" h="32667">
                  <a:moveTo>
                    <a:pt x="3927" y="0"/>
                  </a:moveTo>
                  <a:arcTo wR="3927" hR="3927" stAng="16200000" swAng="-5400000"/>
                  <a:lnTo>
                    <a:pt x="0" y="28740"/>
                  </a:lnTo>
                  <a:arcTo wR="3927" hR="3927" stAng="10800000" swAng="-5400000"/>
                  <a:lnTo>
                    <a:pt x="17673" y="32667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62600" y="45720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cx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78120" y="4724280"/>
              <a:ext cx="1295280" cy="76320"/>
            </a:xfrm>
            <a:custGeom>
              <a:avLst/>
              <a:gdLst/>
              <a:ahLst/>
              <a:rect l="l" t="t" r="r" b="b"/>
              <a:pathLst>
                <a:path w="1056" h="48">
                  <a:moveTo>
                    <a:pt x="0" y="0"/>
                  </a:moveTo>
                  <a:lnTo>
                    <a:pt x="0" y="48"/>
                  </a:lnTo>
                  <a:lnTo>
                    <a:pt x="1056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78120" y="2895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35320" y="1752480"/>
              <a:ext cx="76176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35320" y="220968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mp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35320" y="266688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16200" y="1981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1620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75200" y="13716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00680" y="17827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4680" y="27432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20920" y="1600200"/>
              <a:ext cx="1295280" cy="152280"/>
            </a:xfrm>
            <a:custGeom>
              <a:avLst/>
              <a:gdLst/>
              <a:ahLst/>
              <a:rect l="l" t="t" r="r" b="b"/>
              <a:pathLst>
                <a:path w="1008" h="48">
                  <a:moveTo>
                    <a:pt x="0" y="0"/>
                  </a:moveTo>
                  <a:lnTo>
                    <a:pt x="1008" y="0"/>
                  </a:lnTo>
                  <a:lnTo>
                    <a:pt x="1008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78120" y="1600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16200" y="2057400"/>
              <a:ext cx="4572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73400" y="205740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73400" y="480060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20920" y="2971800"/>
              <a:ext cx="228600" cy="15228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144" y="0"/>
                  </a:lnTo>
                  <a:lnTo>
                    <a:pt x="14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191960" y="2971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96880" y="3124080"/>
              <a:ext cx="755640" cy="16002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600200"/>
                <a:gd name="textAreaBottom" fmla="*/ 1560240 h 1600200"/>
              </a:gdLst>
              <a:ahLst/>
              <a:rect l="textAreaLeft" t="textAreaTop" r="textAreaRight" b="textAreaBottom"/>
              <a:pathLst>
                <a:path w="21600" h="45730">
                  <a:moveTo>
                    <a:pt x="3927" y="0"/>
                  </a:moveTo>
                  <a:arcTo wR="3927" hR="3927" stAng="16200000" swAng="-5400000"/>
                  <a:lnTo>
                    <a:pt x="0" y="41803"/>
                  </a:lnTo>
                  <a:arcTo wR="3927" hR="3927" stAng="10800000" swAng="-5400000"/>
                  <a:lnTo>
                    <a:pt x="17673" y="45730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572000" y="1523880"/>
            <a:ext cx="4191120" cy="1460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(%eax,%edx,4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t.1, %ecx.0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1523880"/>
            <a:ext cx="0" cy="312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6440" y="331308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03200" y="334800"/>
            <a:ext cx="65786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izing Operations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1640" y="3581280"/>
            <a:ext cx="4127400" cy="275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as before, except that add has latency of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1523880"/>
            <a:ext cx="4191120" cy="1460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(%eax,%edx,4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addl t.1, %ecx.0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1523880"/>
            <a:ext cx="0" cy="312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6440" y="331308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89400" y="1752480"/>
            <a:ext cx="2988360" cy="2287800"/>
            <a:chOff x="689400" y="1752480"/>
            <a:chExt cx="2988360" cy="2287800"/>
          </a:xfrm>
        </p:grpSpPr>
        <p:sp>
          <p:nvSpPr>
            <p:cNvPr id="191" name=""/>
            <p:cNvSpPr/>
            <p:nvPr/>
          </p:nvSpPr>
          <p:spPr>
            <a:xfrm>
              <a:off x="2547720" y="2846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c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28360" y="327348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09600" y="2590920"/>
              <a:ext cx="8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cx.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25840" y="3733920"/>
              <a:ext cx="1295280" cy="75960"/>
            </a:xfrm>
            <a:custGeom>
              <a:avLst/>
              <a:gdLst/>
              <a:ahLst/>
              <a:rect l="l" t="t" r="r" b="b"/>
              <a:pathLst>
                <a:path w="1056" h="48">
                  <a:moveTo>
                    <a:pt x="0" y="0"/>
                  </a:moveTo>
                  <a:lnTo>
                    <a:pt x="0" y="48"/>
                  </a:lnTo>
                  <a:lnTo>
                    <a:pt x="1056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25840" y="3276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83040" y="2133720"/>
              <a:ext cx="76176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83040" y="25909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mp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83040" y="30481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63920" y="2362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63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44600" y="21337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22920" y="17524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48400" y="21636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9400" y="3124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68640" y="1981080"/>
              <a:ext cx="1295280" cy="152640"/>
            </a:xfrm>
            <a:custGeom>
              <a:avLst/>
              <a:gdLst/>
              <a:ahLst/>
              <a:rect l="l" t="t" r="r" b="b"/>
              <a:pathLst>
                <a:path w="1008" h="48">
                  <a:moveTo>
                    <a:pt x="0" y="0"/>
                  </a:moveTo>
                  <a:lnTo>
                    <a:pt x="1008" y="0"/>
                  </a:lnTo>
                  <a:lnTo>
                    <a:pt x="1008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2584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63920" y="2438280"/>
              <a:ext cx="4572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21120" y="24382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21120" y="3809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68640" y="33526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144" y="0"/>
                  </a:lnTo>
                  <a:lnTo>
                    <a:pt x="14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44600" y="35053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1039680" y="335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99240" y="37638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cx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44600" y="2133720"/>
              <a:ext cx="755640" cy="11430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143000"/>
                <a:gd name="textAreaBottom" fmla="*/ 1103040 h 1143000"/>
              </a:gdLst>
              <a:ahLst/>
              <a:rect l="textAreaLeft" t="textAreaTop" r="textAreaRight" b="textAreaBottom"/>
              <a:pathLst>
                <a:path w="21600" h="32667">
                  <a:moveTo>
                    <a:pt x="3927" y="0"/>
                  </a:moveTo>
                  <a:arcTo wR="3927" hR="3927" stAng="16200000" swAng="-5400000"/>
                  <a:lnTo>
                    <a:pt x="0" y="28740"/>
                  </a:lnTo>
                  <a:arcTo wR="3927" hR="3927" stAng="10800000" swAng="-5400000"/>
                  <a:lnTo>
                    <a:pt x="17673" y="32667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5073480" cy="56325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46000" y="334800"/>
            <a:ext cx="7493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Iterations of Combining Produc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38680" y="1066320"/>
            <a:ext cx="30607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limited Resour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e operation can start as soon as operands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 for multiple iterations overlap in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ing factor becomes latency of integer multipl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es CPE of 4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4280" y="334800"/>
            <a:ext cx="6756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 Iterations of Combining Su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4266720"/>
            <a:ext cx="8089920" cy="206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limited Resour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gin a new iteration on each clock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give CPE of 1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uld require executing 4 integer operations in parall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6810480" cy="29498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219320" y="2540160"/>
            <a:ext cx="7619760" cy="304560"/>
          </a:xfrm>
          <a:prstGeom prst="roundRect">
            <a:avLst>
              <a:gd name="adj" fmla="val 16667"/>
            </a:avLst>
          </a:prstGeom>
          <a:solidFill>
            <a:srgbClr val="dadada">
              <a:alpha val="50000"/>
            </a:srgbClr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integer 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1200" y="152280"/>
            <a:ext cx="8661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bining Sum: Resource Constrai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7304040" cy="4761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4343040"/>
            <a:ext cx="5410080" cy="10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lvl="1" marL="325080" indent="-128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have two integer functional un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5080" indent="-128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perations delayed even though operands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5080" indent="-128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priority based on program or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9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5080" indent="-128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tain CPE of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03400" y="334800"/>
            <a:ext cx="33782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p Unrol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486040" y="1599840"/>
            <a:ext cx="3225960" cy="427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 multiple iterations into single loop bo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rtizes loop overhead across multiple it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 extras at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d CPE = 1.3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5440" y="990720"/>
            <a:ext cx="5256360" cy="502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5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imit = length-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bine 3 elements at a tim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imit; i+=3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 + data[i+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data[i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2760" y="334800"/>
            <a:ext cx="6959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ious Best Combining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sum of all elements in v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 represented by C-style abstract data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31440" y="990720"/>
            <a:ext cx="4982040" cy="283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4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01720" y="152280"/>
            <a:ext cx="5740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izing Unrolled Lo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213360" cy="25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s can pipeline, since don’t have dependen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e set of loop control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3581280"/>
            <a:ext cx="4572000" cy="2557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(%eax,%edx.0,4)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addl t.1a, %ecx.0c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cx.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4(%eax,%edx.0,4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addl t.1b, %ecx.1a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cx.1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8(%eax,%edx.0,4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addl t.1c, %ecx.1b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cx.1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addl $3,%edx.0  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 %edx.1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763120" y="99072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66040" y="277956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661560" y="838080"/>
            <a:ext cx="4986720" cy="3048120"/>
            <a:chOff x="3661560" y="838080"/>
            <a:chExt cx="4986720" cy="3048120"/>
          </a:xfrm>
        </p:grpSpPr>
        <p:sp>
          <p:nvSpPr>
            <p:cNvPr id="234" name=""/>
            <p:cNvSpPr/>
            <p:nvPr/>
          </p:nvSpPr>
          <p:spPr>
            <a:xfrm>
              <a:off x="4337640" y="838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918920" y="12492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61560" y="228600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cx.0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915320" y="1523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15320" y="3809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4486320" y="1066680"/>
              <a:ext cx="3578400" cy="2791080"/>
              <a:chOff x="4486320" y="1066680"/>
              <a:chExt cx="3578400" cy="2791080"/>
            </a:xfrm>
          </p:grpSpPr>
          <p:sp>
            <p:nvSpPr>
              <p:cNvPr id="240" name=""/>
              <p:cNvSpPr/>
              <p:nvPr/>
            </p:nvSpPr>
            <p:spPr>
              <a:xfrm>
                <a:off x="7518240" y="193176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c.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27320" y="236196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.1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003800" y="1676160"/>
                <a:ext cx="88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%ecx.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+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620040" y="3733560"/>
                <a:ext cx="1295280" cy="7632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43520" y="2361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077240" y="1218960"/>
                <a:ext cx="76176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077240" y="167616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mp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077240" y="213336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j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458120" y="14475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458120" y="19047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486320" y="1066680"/>
                <a:ext cx="2971800" cy="152280"/>
              </a:xfrm>
              <a:custGeom>
                <a:avLst/>
                <a:gdLst/>
                <a:ahLst/>
                <a:rect l="l" t="t" r="r" b="b"/>
                <a:pathLst>
                  <a:path w="1008" h="48">
                    <a:moveTo>
                      <a:pt x="0" y="0"/>
                    </a:moveTo>
                    <a:lnTo>
                      <a:pt x="1008" y="0"/>
                    </a:lnTo>
                    <a:lnTo>
                      <a:pt x="1008" y="4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458120" y="1523880"/>
                <a:ext cx="457200" cy="76320"/>
              </a:xfrm>
              <a:custGeom>
                <a:avLst/>
                <a:gdLst/>
                <a:ahLst/>
                <a:rect l="l" t="t" r="r" b="b"/>
                <a:pathLst>
                  <a:path w="348" h="1">
                    <a:moveTo>
                      <a:pt x="0" y="0"/>
                    </a:moveTo>
                    <a:lnTo>
                      <a:pt x="348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486320" y="259056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004880" y="358128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%ecx.1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400720" y="304776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38800" y="350496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67200" y="2819160"/>
                <a:ext cx="76212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0"/>
                    </a:moveTo>
                    <a:lnTo>
                      <a:pt x="0" y="48"/>
                    </a:lnTo>
                    <a:lnTo>
                      <a:pt x="432" y="48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943520" y="1066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486320" y="2438280"/>
                <a:ext cx="228600" cy="152280"/>
              </a:xfrm>
              <a:custGeom>
                <a:avLst/>
                <a:gdLst/>
                <a:ahLst/>
                <a:rect l="l" t="t" r="r" b="b"/>
                <a:pathLst>
                  <a:path w="912" h="96">
                    <a:moveTo>
                      <a:pt x="0" y="0"/>
                    </a:moveTo>
                    <a:lnTo>
                      <a:pt x="912" y="0"/>
                    </a:lnTo>
                    <a:lnTo>
                      <a:pt x="912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765400" y="281916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.1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622920" y="327636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.1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642560" y="284940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%ecx.1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90360" y="330660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%ecx.1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62640" y="121896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07200" y="167616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45280" y="213336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781600" y="2819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620040" y="32763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781600" y="3276360"/>
                <a:ext cx="68580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0"/>
                    </a:moveTo>
                    <a:lnTo>
                      <a:pt x="0" y="48"/>
                    </a:lnTo>
                    <a:lnTo>
                      <a:pt x="432" y="48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81600" y="10666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620040" y="106668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06360" y="152280"/>
            <a:ext cx="6731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cuting with Loop Unrol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6618240" cy="43228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4343040"/>
            <a:ext cx="5410080" cy="10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lvl="1" marL="285840" indent="-113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ed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040" indent="-84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mplete iteration in 3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040" indent="-84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give CPE of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113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d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040" indent="-84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E of 1.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040" indent="-84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iteration every 4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47720" y="334800"/>
            <a:ext cx="40892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 of Unrol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44600" y="4114800"/>
            <a:ext cx="8254800" cy="221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helps integer sum for our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ases constrained by functional unit la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 is nonlinear with degree of unro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subtle effects determine exact scheduling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33520" y="1600200"/>
          <a:ext cx="8076960" cy="2133720"/>
        </p:xfrm>
        <a:graphic>
          <a:graphicData uri="http://schemas.openxmlformats.org/drawingml/2006/table">
            <a:tbl>
              <a:tblPr/>
              <a:tblGrid>
                <a:gridCol w="1009440"/>
                <a:gridCol w="1199880"/>
                <a:gridCol w="914400"/>
                <a:gridCol w="762120"/>
                <a:gridCol w="1162080"/>
                <a:gridCol w="1009800"/>
                <a:gridCol w="1104840"/>
                <a:gridCol w="914400"/>
              </a:tblGrid>
              <a:tr h="42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rolling De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027160" y="334800"/>
            <a:ext cx="5130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llel Loop Unrol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562720" y="1066680"/>
            <a:ext cx="3225600" cy="427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19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Ve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 produ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mulate in two different su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13880" indent="-140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performed 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 at 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its property that integer addition &amp; multiplication are associative &amp; commuta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189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 addition &amp; multiplication not associative, but transformation usually accep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35440" y="990720"/>
            <a:ext cx="5256360" cy="5301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6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imit = length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0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1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0 *=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1 *= data[i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0 *=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x0 * x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16200" y="152280"/>
            <a:ext cx="5511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izing Parallel Lo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213360" cy="25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multiplies within loop no longer have data dep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them to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4191120"/>
            <a:ext cx="4572000" cy="200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(%eax,%edx.0,4)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t.1a, %ecx.0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ad 4(%eax,%edx.0,4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.1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t.1b, %ebx.0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b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addl $2,%edx.0  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 %edx.1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05920" y="144792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08840" y="323676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346640" y="914400"/>
            <a:ext cx="3853440" cy="3962520"/>
            <a:chOff x="4346640" y="914400"/>
            <a:chExt cx="3853440" cy="3962520"/>
          </a:xfrm>
        </p:grpSpPr>
        <p:sp>
          <p:nvSpPr>
            <p:cNvPr id="286" name=""/>
            <p:cNvSpPr/>
            <p:nvPr/>
          </p:nvSpPr>
          <p:spPr>
            <a:xfrm>
              <a:off x="7470720" y="13255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46640" y="22860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43440" y="1600200"/>
              <a:ext cx="22824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46640" y="27432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%ebx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43440" y="4800600"/>
              <a:ext cx="22824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43440" y="4343400"/>
              <a:ext cx="22824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4724280" y="914400"/>
              <a:ext cx="2891880" cy="3934080"/>
              <a:chOff x="4724280" y="914400"/>
              <a:chExt cx="2891880" cy="3934080"/>
            </a:xfrm>
          </p:grpSpPr>
          <p:sp>
            <p:nvSpPr>
              <p:cNvPr id="293" name=""/>
              <p:cNvSpPr/>
              <p:nvPr/>
            </p:nvSpPr>
            <p:spPr>
              <a:xfrm>
                <a:off x="4952520" y="2971800"/>
                <a:ext cx="1066320" cy="15264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0" y="0"/>
                    </a:moveTo>
                    <a:lnTo>
                      <a:pt x="144" y="0"/>
                    </a:lnTo>
                    <a:lnTo>
                      <a:pt x="144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069680" y="200844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c.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412240" y="24354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.1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028480" y="2667240"/>
                <a:ext cx="755280" cy="1600200"/>
              </a:xfrm>
              <a:custGeom>
                <a:avLst/>
                <a:gdLst>
                  <a:gd name="textAreaLeft" fmla="*/ 39960 w 755280"/>
                  <a:gd name="textAreaRight" fmla="*/ 715320 w 755280"/>
                  <a:gd name="textAreaTop" fmla="*/ 39960 h 1600200"/>
                  <a:gd name="textAreaBottom" fmla="*/ 1560240 h 1600200"/>
                </a:gdLst>
                <a:ahLst/>
                <a:rect l="textAreaLeft" t="textAreaTop" r="textAreaRight" b="textAreaBottom"/>
                <a:pathLst>
                  <a:path w="21600" h="45752">
                    <a:moveTo>
                      <a:pt x="3927" y="0"/>
                    </a:moveTo>
                    <a:arcTo wR="3927" hR="3927" stAng="16200000" swAng="-5400000"/>
                    <a:lnTo>
                      <a:pt x="0" y="41825"/>
                    </a:lnTo>
                    <a:arcTo wR="3927" hR="3927" stAng="10800000" swAng="-5400000"/>
                    <a:lnTo>
                      <a:pt x="17673" y="45752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imul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08240" y="41148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%ecx.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09720" y="4267440"/>
                <a:ext cx="2133000" cy="7596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09720" y="24386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05000" y="1295640"/>
                <a:ext cx="76176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05000" y="1752840"/>
                <a:ext cx="75528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mp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05000" y="2210040"/>
                <a:ext cx="75528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j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5880" y="15242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085880" y="1981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906440" y="9144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%edx.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952520" y="1143000"/>
                <a:ext cx="2133000" cy="152640"/>
              </a:xfrm>
              <a:custGeom>
                <a:avLst/>
                <a:gdLst/>
                <a:ahLst/>
                <a:rect l="l" t="t" r="r" b="b"/>
                <a:pathLst>
                  <a:path w="1008" h="48">
                    <a:moveTo>
                      <a:pt x="0" y="0"/>
                    </a:moveTo>
                    <a:lnTo>
                      <a:pt x="1008" y="0"/>
                    </a:lnTo>
                    <a:lnTo>
                      <a:pt x="1008" y="4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409720" y="11430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085880" y="1600200"/>
                <a:ext cx="456840" cy="76320"/>
              </a:xfrm>
              <a:custGeom>
                <a:avLst/>
                <a:gdLst/>
                <a:ahLst/>
                <a:rect l="l" t="t" r="r" b="b"/>
                <a:pathLst>
                  <a:path w="348" h="1">
                    <a:moveTo>
                      <a:pt x="0" y="0"/>
                    </a:moveTo>
                    <a:lnTo>
                      <a:pt x="348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952520" y="2514600"/>
                <a:ext cx="228240" cy="15264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0" y="0"/>
                    </a:moveTo>
                    <a:lnTo>
                      <a:pt x="144" y="0"/>
                    </a:lnTo>
                    <a:lnTo>
                      <a:pt x="144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4724280" y="251460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66920" y="3124440"/>
                <a:ext cx="755280" cy="1600200"/>
              </a:xfrm>
              <a:custGeom>
                <a:avLst/>
                <a:gdLst>
                  <a:gd name="textAreaLeft" fmla="*/ 39960 w 755280"/>
                  <a:gd name="textAreaRight" fmla="*/ 715320 w 755280"/>
                  <a:gd name="textAreaTop" fmla="*/ 39960 h 1600200"/>
                  <a:gd name="textAreaBottom" fmla="*/ 1560240 h 1600200"/>
                </a:gdLst>
                <a:ahLst/>
                <a:rect l="textAreaLeft" t="textAreaTop" r="textAreaRight" b="textAreaBottom"/>
                <a:pathLst>
                  <a:path w="21600" h="45752">
                    <a:moveTo>
                      <a:pt x="3927" y="0"/>
                    </a:moveTo>
                    <a:arcTo wR="3927" hR="3927" stAng="16200000" swAng="-5400000"/>
                    <a:lnTo>
                      <a:pt x="0" y="41825"/>
                    </a:lnTo>
                    <a:arcTo wR="3927" hR="3927" stAng="10800000" swAng="-5400000"/>
                    <a:lnTo>
                      <a:pt x="17673" y="45752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imul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708240" y="45720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%ebx.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247800" y="4724640"/>
                <a:ext cx="1294920" cy="7596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247800" y="28958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247800" y="11430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028480" y="297180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4724280" y="297180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5866560" y="4343400"/>
                <a:ext cx="76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50680" y="28926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.1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028480" y="1295640"/>
                <a:ext cx="755280" cy="1143000"/>
              </a:xfrm>
              <a:custGeom>
                <a:avLst/>
                <a:gdLst>
                  <a:gd name="textAreaLeft" fmla="*/ 39960 w 755280"/>
                  <a:gd name="textAreaRight" fmla="*/ 715320 w 75528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83">
                    <a:moveTo>
                      <a:pt x="3927" y="0"/>
                    </a:moveTo>
                    <a:arcTo wR="3927" hR="3927" stAng="16200000" swAng="-5400000"/>
                    <a:lnTo>
                      <a:pt x="0" y="28756"/>
                    </a:lnTo>
                    <a:arcTo wR="3927" hR="3927" stAng="10800000" swAng="-5400000"/>
                    <a:lnTo>
                      <a:pt x="17673" y="32683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873040" y="1752840"/>
                <a:ext cx="755280" cy="1143000"/>
              </a:xfrm>
              <a:custGeom>
                <a:avLst/>
                <a:gdLst>
                  <a:gd name="textAreaLeft" fmla="*/ 39960 w 755280"/>
                  <a:gd name="textAreaRight" fmla="*/ 715320 w 75528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83">
                    <a:moveTo>
                      <a:pt x="3927" y="0"/>
                    </a:moveTo>
                    <a:arcTo wR="3927" hR="3927" stAng="16200000" swAng="-5400000"/>
                    <a:lnTo>
                      <a:pt x="0" y="28756"/>
                    </a:lnTo>
                    <a:arcTo wR="3927" hR="3927" stAng="10800000" swAng="-5400000"/>
                    <a:lnTo>
                      <a:pt x="17673" y="32683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97160" y="0"/>
            <a:ext cx="6349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cuting with Parallel Lo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828800" y="649440"/>
            <a:ext cx="7075440" cy="5979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4724280"/>
            <a:ext cx="426744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ed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keep 4-cycle multiplier busy performing two simultaneous multi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s CPE of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30000" y="334800"/>
            <a:ext cx="7924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ization Results for Comb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04920" y="1219320"/>
          <a:ext cx="8229600" cy="450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22960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8280" y="334800"/>
            <a:ext cx="7188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ations of Parallel Exec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450828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Lots of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hold sums/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6 usable integer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needed for pointers, loop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FP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not enough registers, mu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mporaries onto st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pes out any performance g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helped by rena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reference more operands than instruction set al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X 8 integer produ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local variables share 1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18120" y="990720"/>
            <a:ext cx="3473280" cy="5301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16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(%eax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-4(%ebp),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4(%eax),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%edi,-4(%eb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-8(%ebp),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8(%eax),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%edi,-8(%eb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-12(%ebp),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12(%eax),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%edi,-12(%eb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-16(%ebp),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16(%eax),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ovl %edi,-16(%eb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$32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$8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-32(%ebp)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.L1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001600" y="334800"/>
            <a:ext cx="5181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bout Branche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0136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Control Unit must work well ahead of Exec. 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nerate enough operations to keep EU b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encounters conditional branch, cannot reliably determine where to continue fetc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30120" y="2514600"/>
            <a:ext cx="5045400" cy="173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0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 (%eax,%edx,4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77120" y="2514600"/>
            <a:ext cx="304560" cy="609480"/>
          </a:xfrm>
          <a:custGeom>
            <a:avLst/>
            <a:gdLst>
              <a:gd name="textAreaLeft" fmla="*/ 0 w 304560"/>
              <a:gd name="textAreaRight" fmla="*/ 10980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477120" y="3124080"/>
            <a:ext cx="304560" cy="609840"/>
          </a:xfrm>
          <a:custGeom>
            <a:avLst/>
            <a:gdLst>
              <a:gd name="textAreaLeft" fmla="*/ 0 w 304560"/>
              <a:gd name="textAreaRight" fmla="*/ 109800 w 3045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43600" y="26272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35040" y="32004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ing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560320" y="334800"/>
            <a:ext cx="4064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ch Outco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44240" y="1066680"/>
            <a:ext cx="83185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encounter conditional branch, cannot determine where to continue fetc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 Taken: Transfer control to branch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ch Not-Taken: Continue with next instruction in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resolve until outcome determined by branch/integer 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44320" y="2819520"/>
            <a:ext cx="5045400" cy="173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0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 (%eax,%edx,4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86240" y="4800600"/>
            <a:ext cx="5456880" cy="1460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  %ed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7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    8048a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9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0xc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  0xffffffe8(%ebp)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f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%ecx,(%e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02960" y="41911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 Ta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67080" y="3809880"/>
            <a:ext cx="393840" cy="228600"/>
          </a:xfrm>
          <a:custGeom>
            <a:avLst/>
            <a:gdLst/>
            <a:ahLst/>
            <a:rect l="l" t="t" r="r" b="b"/>
            <a:pathLst>
              <a:path w="248" h="144">
                <a:moveTo>
                  <a:pt x="0" y="0"/>
                </a:moveTo>
                <a:cubicBezTo>
                  <a:pt x="116" y="12"/>
                  <a:pt x="232" y="24"/>
                  <a:pt x="240" y="48"/>
                </a:cubicBezTo>
                <a:cubicBezTo>
                  <a:pt x="248" y="72"/>
                  <a:pt x="148" y="108"/>
                  <a:pt x="48" y="1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21880" y="3443400"/>
            <a:ext cx="21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 Not-Ta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41880" y="3898800"/>
            <a:ext cx="2189160" cy="1054080"/>
          </a:xfrm>
          <a:custGeom>
            <a:avLst/>
            <a:gdLst/>
            <a:ahLst/>
            <a:rect l="l" t="t" r="r" b="b"/>
            <a:pathLst>
              <a:path w="1379" h="664">
                <a:moveTo>
                  <a:pt x="0" y="0"/>
                </a:moveTo>
                <a:cubicBezTo>
                  <a:pt x="195" y="37"/>
                  <a:pt x="957" y="149"/>
                  <a:pt x="1168" y="216"/>
                </a:cubicBezTo>
                <a:cubicBezTo>
                  <a:pt x="1379" y="283"/>
                  <a:pt x="1320" y="325"/>
                  <a:pt x="1264" y="400"/>
                </a:cubicBezTo>
                <a:cubicBezTo>
                  <a:pt x="1208" y="475"/>
                  <a:pt x="922" y="609"/>
                  <a:pt x="832" y="66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9160" y="334800"/>
            <a:ext cx="6426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Forms of Comb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4240" y="4114800"/>
            <a:ext cx="40510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different declarations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_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9240" y="990720"/>
            <a:ext cx="6627960" cy="283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bstract_combine4(vec_ptr v, data_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_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_t t = ID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= t OP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4114800"/>
            <a:ext cx="4051080" cy="221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different definitions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/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/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560320" y="334800"/>
            <a:ext cx="4064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ch Predi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ess which way branch will g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 executing instructions at predicted 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don’t actually modify register or memor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70880" y="2666880"/>
            <a:ext cx="3810960" cy="1460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19760" y="4495680"/>
            <a:ext cx="5456880" cy="1460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  %edi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7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    8048a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9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0xc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  0xffffffe8(%ebp)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a2f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  %ecx,(%e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3800" y="32004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 Ta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51440" y="3668760"/>
            <a:ext cx="2639880" cy="992160"/>
          </a:xfrm>
          <a:custGeom>
            <a:avLst/>
            <a:gdLst/>
            <a:ahLst/>
            <a:rect l="l" t="t" r="r" b="b"/>
            <a:pathLst>
              <a:path w="1663" h="625">
                <a:moveTo>
                  <a:pt x="0" y="1"/>
                </a:moveTo>
                <a:cubicBezTo>
                  <a:pt x="232" y="13"/>
                  <a:pt x="1121" y="0"/>
                  <a:pt x="1392" y="73"/>
                </a:cubicBezTo>
                <a:cubicBezTo>
                  <a:pt x="1663" y="146"/>
                  <a:pt x="1644" y="349"/>
                  <a:pt x="1624" y="441"/>
                </a:cubicBezTo>
                <a:cubicBezTo>
                  <a:pt x="1604" y="533"/>
                  <a:pt x="1345" y="587"/>
                  <a:pt x="1272" y="625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11920" y="4535640"/>
            <a:ext cx="304920" cy="60948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079480" y="46483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47520" y="334800"/>
            <a:ext cx="72896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ch Prediction Through Lo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200" y="2286000"/>
            <a:ext cx="4664520" cy="13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56200" y="3657600"/>
            <a:ext cx="4664520" cy="13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%ecx,%edx,4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27400" y="3429000"/>
            <a:ext cx="158760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68520" y="43434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40840" y="335268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 Ta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o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6200" y="5051520"/>
            <a:ext cx="4664520" cy="13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68520" y="5737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14800" y="4826160"/>
            <a:ext cx="158760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38680" y="403848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invalid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4571640" y="3962160"/>
            <a:ext cx="10666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943760" y="449568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43760" y="32767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336440" y="3595680"/>
            <a:ext cx="1195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18520" y="4800600"/>
            <a:ext cx="1056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91480" y="32767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791480" y="44956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91480" y="57150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58600" y="334800"/>
            <a:ext cx="7467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ch Misprediction Invalid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6200" y="2286000"/>
            <a:ext cx="4664520" cy="13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200" y="3657600"/>
            <a:ext cx="4664520" cy="13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(%ecx,%edx,4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27400" y="3429000"/>
            <a:ext cx="158760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68520" y="43434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39760" y="335268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 Taken (Oo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6200" y="5051520"/>
            <a:ext cx="4664520" cy="819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68520" y="541008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45040" y="44956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ali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4826160"/>
            <a:ext cx="158760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80988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411480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434340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457200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80060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525780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" y="548640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" y="571500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62720" y="3733920"/>
            <a:ext cx="304560" cy="2057400"/>
          </a:xfrm>
          <a:custGeom>
            <a:avLst/>
            <a:gdLst>
              <a:gd name="textAreaLeft" fmla="*/ 0 w 304560"/>
              <a:gd name="textAreaRight" fmla="*/ 109800 w 3045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99800" y="334800"/>
            <a:ext cx="6985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ch Misprediction Reco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44600" y="4952880"/>
            <a:ext cx="8254800" cy="137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prediction on Pentium III wastes ~14 clock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’s a lot of time on a high performance process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3520" y="2286000"/>
            <a:ext cx="5076720" cy="227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b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l   0xffffffe8(%ebp)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e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l   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bf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l   %e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8c0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l   %e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27400" y="3429000"/>
            <a:ext cx="196848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25560" y="335268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ely not ta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55480" y="334800"/>
            <a:ext cx="6273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 for Alpha Process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44600" y="5257440"/>
            <a:ext cx="8254800" cy="6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all trends very similar to those for Pentium II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 though very different architecture and compi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711360" y="1219320"/>
          <a:ext cx="830556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219320"/>
                    <a:ext cx="83055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31520" y="304920"/>
            <a:ext cx="77216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-Dependent Opt.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er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 carefully at generated code to see whether help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p Unro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ompilers do this automatical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ly not as clever as what can achieve by h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sing Instruction-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machine depen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its depend heavily on particular mach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 if performed by compi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GCC on IA32/Linux is not very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only for performance-critical parts of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331720" y="304920"/>
            <a:ext cx="45212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le of Program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w should I write my programs, given that I have a good, optimizing compile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: Smash Code into Obliv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read, maintain, &amp; assure correctn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best algorith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code that’s readable &amp; maintain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s, recursion, without built-in constant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though these factors can slow down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e optimization block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compiler to do its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on Inner Loo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detailed optimizations where code will be executed repeated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get most performance ga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82280" y="334800"/>
            <a:ext cx="7620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 Independent Opt. 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9000"/>
          </a:bodyPr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2360" indent="-6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function calls and memory references within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2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Anoma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2360" indent="-6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ing FP product of all elements exceptionally slo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2360" indent="-6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large speedup when accumulate in tempor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2360" indent="-6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d by quirk of IA32 floating po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43360" indent="-47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uses 64-bit format, register use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43360" indent="-47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chmark data caused overflow of 64 bits, but not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2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905120"/>
          <a:ext cx="8229600" cy="238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822960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7696080" y="26668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3149640"/>
            <a:ext cx="3657600" cy="1353960"/>
          </a:xfrm>
          <a:custGeom>
            <a:avLst/>
            <a:gdLst/>
            <a:ahLst/>
            <a:rect l="l" t="t" r="r" b="b"/>
            <a:pathLst>
              <a:path w="2304" h="853">
                <a:moveTo>
                  <a:pt x="0" y="848"/>
                </a:moveTo>
                <a:cubicBezTo>
                  <a:pt x="243" y="844"/>
                  <a:pt x="1129" y="853"/>
                  <a:pt x="1456" y="824"/>
                </a:cubicBezTo>
                <a:cubicBezTo>
                  <a:pt x="1783" y="795"/>
                  <a:pt x="1847" y="760"/>
                  <a:pt x="1960" y="672"/>
                </a:cubicBezTo>
                <a:cubicBezTo>
                  <a:pt x="2073" y="584"/>
                  <a:pt x="2095" y="397"/>
                  <a:pt x="2136" y="296"/>
                </a:cubicBezTo>
                <a:cubicBezTo>
                  <a:pt x="2177" y="195"/>
                  <a:pt x="2180" y="113"/>
                  <a:pt x="2208" y="64"/>
                </a:cubicBezTo>
                <a:cubicBezTo>
                  <a:pt x="2236" y="15"/>
                  <a:pt x="2284" y="13"/>
                  <a:pt x="2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440" y="334800"/>
            <a:ext cx="2971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inter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pointers rather than array refer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E:   3.00 (Compiled -O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ps!  We’re not making progress he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ar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Some compilers do better job optimizing array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93200" y="914400"/>
            <a:ext cx="5119200" cy="3380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4p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end = data+lengt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data &lt; dend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*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5781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inter vs. Array Code Inner Loo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er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 Code: 4 instructions in 2 clock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er Code: Almost same 4 instructions in 3 clock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523880"/>
            <a:ext cx="6476760" cy="1460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(%eax,%edx,4)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um += data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l 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si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: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 .L2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f &lt; goto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3581280"/>
            <a:ext cx="6553080" cy="1460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3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(%eax)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 sum += *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$4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 data 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d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 data:d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b .L3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 if &lt; goto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31720" y="334800"/>
            <a:ext cx="45212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ern CPU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95560" y="3276720"/>
            <a:ext cx="5029200" cy="289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52760" y="3657600"/>
            <a:ext cx="4495680" cy="8380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95560" y="1066680"/>
            <a:ext cx="4952880" cy="18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29080" y="3809880"/>
            <a:ext cx="533160" cy="45720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er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48040" y="3809880"/>
            <a:ext cx="533520" cy="45720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57880" y="3809880"/>
            <a:ext cx="533160" cy="45720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/D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67360" y="3809880"/>
            <a:ext cx="533520" cy="45720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76840" y="3809880"/>
            <a:ext cx="533520" cy="45720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81760" y="1523880"/>
            <a:ext cx="838080" cy="106704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67360" y="5334120"/>
            <a:ext cx="1143000" cy="60948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29280" y="1447920"/>
            <a:ext cx="914400" cy="53316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29280" y="2057400"/>
            <a:ext cx="914400" cy="53352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43680" y="16765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143680" y="22860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86480" y="2590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705040" y="1523880"/>
            <a:ext cx="1524240" cy="228600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19640" y="42670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448240" y="42670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29480" y="42670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8080" y="42670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91840" y="13478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38840" y="197316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7600" y="254304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04320" y="2847960"/>
            <a:ext cx="10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K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83200" y="493704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80200" y="49291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11760" y="47242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50040" y="47084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33640" y="358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52960" y="358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62440" y="358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72280" y="358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81760" y="358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33640" y="358128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38560" y="3809880"/>
            <a:ext cx="533520" cy="45720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43480" y="358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47840" y="464832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857680" y="4267080"/>
            <a:ext cx="3047760" cy="380880"/>
            <a:chOff x="2857680" y="4267080"/>
            <a:chExt cx="3047760" cy="380880"/>
          </a:xfrm>
        </p:grpSpPr>
        <p:sp>
          <p:nvSpPr>
            <p:cNvPr id="104" name=""/>
            <p:cNvSpPr/>
            <p:nvPr/>
          </p:nvSpPr>
          <p:spPr>
            <a:xfrm>
              <a:off x="2857680" y="4267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76640" y="4267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86480" y="4267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95960" y="4267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05440" y="4267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67160" y="42670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087360" y="4648320"/>
            <a:ext cx="119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on 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86280" y="1600200"/>
            <a:ext cx="914400" cy="99072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38560" y="20574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05040" y="19810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400480" y="2438280"/>
            <a:ext cx="838080" cy="221004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2560" y="2832120"/>
            <a:ext cx="89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4804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24360" y="259092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144"/>
                </a:move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82560" y="334440"/>
            <a:ext cx="6019920" cy="1641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tiumPro Block Diagram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64680" y="4437000"/>
            <a:ext cx="2141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roprocessor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/16/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00480" y="1117440"/>
            <a:ext cx="408924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01680" y="334800"/>
            <a:ext cx="6781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PU Capabilities of Pentium II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Instructions Can Execute in Parall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lo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st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integer (one may be branc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P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P Multiplication or Div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Instructions Take &gt; 1 Cycle, but Can be Pipel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s/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/ Sto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 Multip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 Div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/Single FP Multip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/Single FP Ad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/Single FP Div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4:46:03Z</dcterms:created>
  <dc:creator>Randal E. Bryant</dc:creator>
  <dc:description/>
  <dc:language>en-US</dc:language>
  <cp:lastModifiedBy>Gregory Kesden</cp:lastModifiedBy>
  <cp:lastPrinted>1999-11-05T21:53:50Z</cp:lastPrinted>
  <dcterms:modified xsi:type="dcterms:W3CDTF">2002-02-19T06:02:10Z</dcterms:modified>
  <cp:revision>139</cp:revision>
  <dc:subject/>
  <dc:title>Caches  CS 347  Feb. 3, 1998</dc:title>
</cp:coreProperties>
</file>