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96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‘S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3D5030CD-093D-4A01-A3EA-30B4FDCEF15F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1294920"/>
            <a:ext cx="454644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2742840"/>
            <a:ext cx="5194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-Dependent Optim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instruction level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Processor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 of instructions int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of-order execution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es and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5.11, 5.14, 5.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3049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241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2895120"/>
            <a:ext cx="8254800" cy="34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s Instruction Bytes From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s Instructions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s Register References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57400" y="838080"/>
            <a:ext cx="4952880" cy="2211840"/>
            <a:chOff x="2057400" y="838080"/>
            <a:chExt cx="4952880" cy="2211840"/>
          </a:xfrm>
        </p:grpSpPr>
        <p:sp>
          <p:nvSpPr>
            <p:cNvPr id="126" name=""/>
            <p:cNvSpPr/>
            <p:nvPr/>
          </p:nvSpPr>
          <p:spPr>
            <a:xfrm>
              <a:off x="2057400" y="838080"/>
              <a:ext cx="4952880" cy="182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ction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600" y="1295280"/>
              <a:ext cx="838080" cy="106668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0760" y="1218960"/>
              <a:ext cx="914400" cy="5335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0760" y="1828440"/>
              <a:ext cx="914400" cy="5335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05160" y="144756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04800" y="205704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7960" y="23619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53320" y="111888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00680" y="174456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r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3560" y="274284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7760" y="1371240"/>
              <a:ext cx="914400" cy="9907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ir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1828440"/>
              <a:ext cx="60948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2057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361960"/>
              <a:ext cx="761760" cy="22860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480" y="144"/>
                  </a:move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93560" y="334800"/>
            <a:ext cx="4597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data, multiply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7823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Transl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marL="3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into two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from memory to generate temporary resul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peration just operates o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change in loop.  Values will be retrieved from register file during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s on every iteration.  Uniquely identify different versions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44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44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passed directly from producer to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ges on each iteration.  Ren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16096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16096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9240" y="334800"/>
            <a:ext cx="802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Translation Ex.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marL="3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 codes are treated similar to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 tag to define connection between producer and consu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ntrol unit determines destination of ju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s whether will be taken and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s fetching instruction at predicte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unit simply checks whether or not prediction was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, it signals instruction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 then “invalidates” any operations generated from misfetched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s fetching and decoding instructions at correct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37160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37160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59092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259092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64960" y="334800"/>
            <a:ext cx="5054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62520" y="3276720"/>
            <a:ext cx="473688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 position denotes time at which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0840" indent="-15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gin operation until operand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 denotes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 shown only for operands that are passed within execution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14680" y="1371600"/>
            <a:ext cx="3015360" cy="3505320"/>
            <a:chOff x="814680" y="1371600"/>
            <a:chExt cx="3015360" cy="3505320"/>
          </a:xfrm>
        </p:grpSpPr>
        <p:sp>
          <p:nvSpPr>
            <p:cNvPr id="160" name=""/>
            <p:cNvSpPr/>
            <p:nvPr/>
          </p:nvSpPr>
          <p:spPr>
            <a:xfrm>
              <a:off x="2700000" y="24652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80640" y="28926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96880" y="175248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2600" y="4572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8120" y="472428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78120" y="289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35320" y="175248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35320" y="220968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35320" y="266688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6200" y="1981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1620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5200" y="1371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00680" y="1782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68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20920" y="160020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8120" y="1600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16200" y="205740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73400" y="2057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734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20920" y="297180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9196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96880" y="312408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572000" y="1523880"/>
            <a:ext cx="4191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03200" y="334800"/>
            <a:ext cx="6578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Operation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1640" y="3581280"/>
            <a:ext cx="412740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as before, except that add has latency of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523880"/>
            <a:ext cx="4191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191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836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25840" y="3733920"/>
              <a:ext cx="129528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5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83040" y="213372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304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8304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8640" y="1981080"/>
              <a:ext cx="129528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2584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6864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03968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924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46000" y="33480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Iterations of Combining Produ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38680" y="1066320"/>
            <a:ext cx="30607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operation can start as soon as operand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for multiple iterations overlap i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ing factor becomes latency of integer multip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s CPE of 4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4280" y="3348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Iterations of Combining Su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808992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gin a new iteration on each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 require executing 4 integer oper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dadada">
              <a:alpha val="50000"/>
            </a:srgbClr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1200" y="152280"/>
            <a:ext cx="866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ing Sum: Resource Constrai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have two integer functional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perations delayed even though operand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priority based on program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9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 CPE of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03400" y="334800"/>
            <a:ext cx="3378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86040" y="1599840"/>
            <a:ext cx="3225960" cy="42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multiple iterations into single loop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rtizes loop overhead across multiple it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 extras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CPE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440" y="990720"/>
            <a:ext cx="5256360" cy="502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695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ious Best Combining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in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represented by C-style abstract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01720" y="152280"/>
            <a:ext cx="5740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Unrolled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21336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 can pipeline, since don’t have depend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set of loop contro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34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40" name=""/>
              <p:cNvSpPr/>
              <p:nvPr/>
            </p:nvSpPr>
            <p:spPr>
              <a:xfrm>
                <a:off x="7518240" y="19317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27320" y="23619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03800" y="167616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20040" y="373356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43520" y="2361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77240" y="121896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77240" y="16761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077240" y="21333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58120" y="14475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58120" y="1904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86320" y="1066680"/>
                <a:ext cx="297180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86320" y="25905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00720" y="30477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38800" y="35049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67200" y="281916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43520" y="1066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86320" y="24382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65400" y="28191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22920" y="32763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62640" y="12189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07200" y="16761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45280" y="21333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81600" y="2819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20040" y="3276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81600" y="327636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81600" y="10666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20040" y="106668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06360" y="152280"/>
            <a:ext cx="673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ng with 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lvl="1" marL="285840" indent="-11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mplete iteration in 3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give CPE of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1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E of 1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iteration every 4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47720" y="334800"/>
            <a:ext cx="4089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4600" y="4114800"/>
            <a:ext cx="8254800" cy="22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helps integer sum for our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ases constrained by functional unit la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 is nonlinear with degree of unr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ubtle effects determine exact scheduling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199880"/>
                <a:gridCol w="914400"/>
                <a:gridCol w="762120"/>
                <a:gridCol w="1162080"/>
                <a:gridCol w="1009800"/>
                <a:gridCol w="1104840"/>
                <a:gridCol w="914400"/>
              </a:tblGrid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27160" y="334800"/>
            <a:ext cx="5130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562720" y="1066680"/>
            <a:ext cx="3225600" cy="427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mulate in two different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erformed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s property that integer addition &amp; multiplication are associative &amp; commut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 addition &amp; multiplication not associative, but transformation usually accep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16200" y="152280"/>
            <a:ext cx="551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Parallel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21336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multiplies within loop no longer have data dep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them t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346640" y="914400"/>
            <a:ext cx="3853440" cy="3962520"/>
            <a:chOff x="4346640" y="914400"/>
            <a:chExt cx="3853440" cy="3962520"/>
          </a:xfrm>
        </p:grpSpPr>
        <p:sp>
          <p:nvSpPr>
            <p:cNvPr id="286" name=""/>
            <p:cNvSpPr/>
            <p:nvPr/>
          </p:nvSpPr>
          <p:spPr>
            <a:xfrm>
              <a:off x="747072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664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43440" y="16002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4664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43440" y="48006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43440" y="43434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724280" y="914400"/>
              <a:ext cx="2891880" cy="3934080"/>
              <a:chOff x="4724280" y="914400"/>
              <a:chExt cx="2891880" cy="3934080"/>
            </a:xfrm>
          </p:grpSpPr>
          <p:sp>
            <p:nvSpPr>
              <p:cNvPr id="293" name=""/>
              <p:cNvSpPr/>
              <p:nvPr/>
            </p:nvSpPr>
            <p:spPr>
              <a:xfrm>
                <a:off x="4952520" y="2971800"/>
                <a:ext cx="106632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69680" y="200844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1224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28480" y="2667240"/>
                <a:ext cx="755280" cy="16002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52">
                    <a:moveTo>
                      <a:pt x="3927" y="0"/>
                    </a:moveTo>
                    <a:arcTo wR="3927" hR="3927" stAng="16200000" swAng="-5400000"/>
                    <a:lnTo>
                      <a:pt x="0" y="41825"/>
                    </a:lnTo>
                    <a:arcTo wR="3927" hR="3927" stAng="10800000" swAng="-5400000"/>
                    <a:lnTo>
                      <a:pt x="17673" y="45752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0824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09720" y="4267440"/>
                <a:ext cx="213300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09720" y="2438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5000" y="129564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05000" y="1752840"/>
                <a:ext cx="75528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05000" y="2210040"/>
                <a:ext cx="75528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5880" y="1524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85880" y="198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0644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52520" y="1143000"/>
                <a:ext cx="21330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09720" y="11430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85880" y="1600200"/>
                <a:ext cx="45684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52520" y="2514600"/>
                <a:ext cx="22824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4724280" y="25146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6920" y="3124440"/>
                <a:ext cx="755280" cy="16002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52">
                    <a:moveTo>
                      <a:pt x="3927" y="0"/>
                    </a:moveTo>
                    <a:arcTo wR="3927" hR="3927" stAng="16200000" swAng="-5400000"/>
                    <a:lnTo>
                      <a:pt x="0" y="41825"/>
                    </a:lnTo>
                    <a:arcTo wR="3927" hR="3927" stAng="10800000" swAng="-5400000"/>
                    <a:lnTo>
                      <a:pt x="17673" y="45752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0824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47800" y="4724640"/>
                <a:ext cx="129492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47800" y="2895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7800" y="1143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028480" y="29718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4724280" y="29718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866560" y="4343400"/>
                <a:ext cx="76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5068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028480" y="1295640"/>
                <a:ext cx="755280" cy="11430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83">
                    <a:moveTo>
                      <a:pt x="3927" y="0"/>
                    </a:moveTo>
                    <a:arcTo wR="3927" hR="3927" stAng="16200000" swAng="-5400000"/>
                    <a:lnTo>
                      <a:pt x="0" y="28756"/>
                    </a:lnTo>
                    <a:arcTo wR="3927" hR="3927" stAng="10800000" swAng="-5400000"/>
                    <a:lnTo>
                      <a:pt x="17673" y="32683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73040" y="1752840"/>
                <a:ext cx="755280" cy="11430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83">
                    <a:moveTo>
                      <a:pt x="3927" y="0"/>
                    </a:moveTo>
                    <a:arcTo wR="3927" hR="3927" stAng="16200000" swAng="-5400000"/>
                    <a:lnTo>
                      <a:pt x="0" y="28756"/>
                    </a:lnTo>
                    <a:arcTo wR="3927" hR="3927" stAng="10800000" swAng="-5400000"/>
                    <a:lnTo>
                      <a:pt x="17673" y="32683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7160" y="0"/>
            <a:ext cx="634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ng with Parallel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keep 4-cycle multiplier busy performing two simultaneous multi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CPE of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30000" y="334800"/>
            <a:ext cx="7924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Results for Comb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Paralle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5082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old sums/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6 usable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needed for pointers, loop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FP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not enough registers, mu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mporaries onto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pes out any performance g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helped by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reference more operands than instruction set a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X 8 integ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local variables share 1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01600" y="334800"/>
            <a:ext cx="5181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Branche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013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ntrol Unit must work well ahead of Exec.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nerate enough operations to keep EU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30120" y="2514600"/>
            <a:ext cx="504540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2514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77120" y="3124080"/>
            <a:ext cx="304560" cy="60984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0" y="2627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5040" y="32004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60320" y="334800"/>
            <a:ext cx="4064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4240" y="1066680"/>
            <a:ext cx="83185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ncounter conditional branch, cannot determine where to continue fe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 Taken: Transfer control to branch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 Not-Taken: Continue with next instruction 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resolve until outcome determined by branch/integer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6426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orms of Comb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ent declaration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4114800"/>
            <a:ext cx="4051080" cy="22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ent definitions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/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/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60320" y="334800"/>
            <a:ext cx="4064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Predi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ess which way branch will 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executing instructions at predicted 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n’t actually modify register or memo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47520" y="334800"/>
            <a:ext cx="7289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Prediction Through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58600" y="3348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Misprediction Inva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99800" y="334800"/>
            <a:ext cx="6985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Misprediction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4600" y="4952880"/>
            <a:ext cx="8254800" cy="137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prediction on Pentium III wastes ~14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’s a lot of time on a high performance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5480" y="334800"/>
            <a:ext cx="6273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for Alpha Process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44600" y="5257440"/>
            <a:ext cx="8254800" cy="6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trends very similar to those for Pentium II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though very different architecture and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1520" y="304920"/>
            <a:ext cx="7721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Dependent Opt.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carefully at generated code to see whether help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ompilers do this automat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not as clever as what can achieve by h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machine 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depend heavily on particular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if performed by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CC on IA32/Linux is not very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only for performance-critical parts of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331720" y="304920"/>
            <a:ext cx="4521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Program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should I write my programs, given that I have a good, optimizing compil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read, maintain, &amp; assure correct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best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code that’s readable &amp; maintain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, recursion, without built-in constan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se factors can slow dow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optimization bloc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compiler to do it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detailed optimizations where code will be executed repeated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get most performance ga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7620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Independent Opt.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function calls and memory references within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FP product of all elements exceptionally sl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large speedup when accumulate in tempor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quirk of IA32 floating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47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uses 64-bit format, register use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47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 data caused overflow of 64 bits, but no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905120"/>
          <a:ext cx="8229600" cy="23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2296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696080" y="26668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149640"/>
            <a:ext cx="3657600" cy="1353960"/>
          </a:xfrm>
          <a:custGeom>
            <a:avLst/>
            <a:gdLst/>
            <a:ahLst/>
            <a:rect l="l" t="t" r="r" b="b"/>
            <a:pathLst>
              <a:path w="2304" h="853">
                <a:moveTo>
                  <a:pt x="0" y="848"/>
                </a:moveTo>
                <a:cubicBezTo>
                  <a:pt x="243" y="844"/>
                  <a:pt x="1129" y="853"/>
                  <a:pt x="1456" y="824"/>
                </a:cubicBezTo>
                <a:cubicBezTo>
                  <a:pt x="1783" y="795"/>
                  <a:pt x="1847" y="760"/>
                  <a:pt x="1960" y="672"/>
                </a:cubicBezTo>
                <a:cubicBezTo>
                  <a:pt x="2073" y="584"/>
                  <a:pt x="2095" y="397"/>
                  <a:pt x="2136" y="296"/>
                </a:cubicBezTo>
                <a:cubicBezTo>
                  <a:pt x="2177" y="195"/>
                  <a:pt x="2180" y="113"/>
                  <a:pt x="2208" y="64"/>
                </a:cubicBezTo>
                <a:cubicBezTo>
                  <a:pt x="2236" y="15"/>
                  <a:pt x="2284" y="13"/>
                  <a:pt x="2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440" y="334800"/>
            <a:ext cx="297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ointers rather than array 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3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!  We’re not making progress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r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Some compilers do better job optimizing arra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5781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vs. Array Code Inner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de: 4 instructions in 2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er Code: Almost same 4 instructions in 3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31720" y="334800"/>
            <a:ext cx="4521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rn CPU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95560" y="3276720"/>
            <a:ext cx="502920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8840" y="19731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04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2560" y="334440"/>
            <a:ext cx="6019920" cy="1641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Block Diagram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46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00480" y="1117440"/>
            <a:ext cx="40892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1680" y="33480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U Capabilities of Pentium I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t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integer (one may be bran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P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P Multiplication or Di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s/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/ St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Ad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05T21:53:50Z</cp:lastPrinted>
  <dcterms:modified xsi:type="dcterms:W3CDTF">2002-02-19T06:02:10Z</dcterms:modified>
  <cp:revision>139</cp:revision>
  <dc:subject/>
  <dc:title>Caches  CS 347  Feb. 3, 1998</dc:title>
</cp:coreProperties>
</file>