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E0DF8F8A-E1A4-4C3E-952F-4F9E08525D81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76080" y="1294920"/>
            <a:ext cx="41655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Optimiz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2742840"/>
            <a:ext cx="51940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-Independent Optimiz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ubexpress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performance bottlen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5.1 – 5.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440" y="3049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84280" y="334800"/>
            <a:ext cx="2616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D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013600" cy="35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_ptr new_vec(int l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ector of specifie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vec_element(vec_ptr v, int index, int *de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vector element, store at *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0 if out of bounds, 1 if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get_vec_start(vec_ptr v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pointer to start of vect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array implementations in Pascal, ML, 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lways do bounds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295280" y="1523880"/>
            <a:ext cx="3657600" cy="609840"/>
            <a:chOff x="1295280" y="1523880"/>
            <a:chExt cx="3657600" cy="609840"/>
          </a:xfrm>
        </p:grpSpPr>
        <p:sp>
          <p:nvSpPr>
            <p:cNvPr id="80" name=""/>
            <p:cNvSpPr/>
            <p:nvPr/>
          </p:nvSpPr>
          <p:spPr>
            <a:xfrm>
              <a:off x="1295280" y="15238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5280" y="182880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819520" y="1828800"/>
              <a:ext cx="2133000" cy="304920"/>
              <a:chOff x="2819520" y="1828800"/>
              <a:chExt cx="2133000" cy="304920"/>
            </a:xfrm>
          </p:grpSpPr>
          <p:sp>
            <p:nvSpPr>
              <p:cNvPr id="83" name=""/>
              <p:cNvSpPr/>
              <p:nvPr/>
            </p:nvSpPr>
            <p:spPr>
              <a:xfrm>
                <a:off x="281952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2408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29000" y="1828800"/>
                <a:ext cx="3042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64796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733560" y="182880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057400" y="198108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408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1280" y="334800"/>
            <a:ext cx="4902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42667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um of all elements of v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result at destination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7960" y="334800"/>
            <a:ext cx="2768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Sc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lut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use nano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cale of computer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mputers controlled by high frequency clock sig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cle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= 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G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cle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= 0.5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 machines: 550 MHz (1.8 ns clock perio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08040" y="334800"/>
            <a:ext cx="43686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cles Per El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ient way to express performance of program that operators on vectors or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= 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= CPE*n +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47720" y="2362320"/>
          <a:ext cx="584856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2362320"/>
                    <a:ext cx="58485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933720" y="3362400"/>
            <a:ext cx="1257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su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pe =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0720" y="4124160"/>
            <a:ext cx="15429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su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pe = 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1280" y="334800"/>
            <a:ext cx="4902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3877920"/>
            <a:ext cx="830556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um of all elements of integer v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result at destination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data structure and operations defined via abstract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II/III Performance: Clock Cycles / 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.06 (Compiled -g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25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93560" y="334800"/>
            <a:ext cx="4597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25480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vec_length called every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though result always the s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990720"/>
            <a:ext cx="568008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1-goto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gt;= vec_length(v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lt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v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1240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3120" y="36576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360" y="334800"/>
            <a:ext cx="7851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ll Out of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inner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does not change from one iteration t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20.66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_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s only constant time, but significan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31440" y="990720"/>
            <a:ext cx="4982040" cy="3106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2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80800" y="1905120"/>
            <a:ext cx="498204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strlen(s)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Motion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 to Convert String to Lower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cted from 213 lab submissions, Fall, 199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476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er Case Conversion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quadruples when double string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85960" y="2438280"/>
          <a:ext cx="737208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438280"/>
                    <a:ext cx="737208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8080" y="334800"/>
            <a:ext cx="6248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 Loop To Goto For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4876920"/>
            <a:ext cx="8255160" cy="9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xecuted every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near in length of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2680" indent="-110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can string until find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‘\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performance is quadr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1143000"/>
            <a:ext cx="496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gt;= strlen(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i &lt; strlen(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loo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1880" y="368280"/>
            <a:ext cx="3581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 Reality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see 10:1 performance range depending on how code is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optimize at multiple level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, data representations, procedures, and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programs are compiled and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measure program performance and identify bottlene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improve performance without destroying code modularity and gener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63440" y="33480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600" y="3733920"/>
            <a:ext cx="8254800" cy="25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side of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result does not change from one iteration to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of code mo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8640" y="1143000"/>
            <a:ext cx="4982040" cy="2283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 = strlen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4760" y="334800"/>
            <a:ext cx="8255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er Case Conversion 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doubles when double string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88840" y="1943280"/>
          <a:ext cx="7328160" cy="39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943280"/>
                    <a:ext cx="7328160" cy="39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3240" y="304920"/>
            <a:ext cx="8458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Blocker: Procedure C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11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y couldn’t the compiler mov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ut of the inner loo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May Have Side Eff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, alters global state each time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 May Not Return Same Value for Given Argu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other parts of glob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uld interact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y doesn’t compiler look at code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r may overload with different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declared 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ocedural optimization is not used extensively due to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reats procedure call as a black 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 optimizations in and around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41280" y="334800"/>
            <a:ext cx="4902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procedure call to retrieve each vector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pointer to start of array befor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loop just do pointe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s clean in terms of data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6.00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calls are expens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s checking is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31440" y="990720"/>
            <a:ext cx="4982040" cy="255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3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440" y="334800"/>
            <a:ext cx="8966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iminate Unneeded Memory 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need to store in destination until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eld in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s 1 memory read, 1 memory write per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2.00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references are expens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80" y="334800"/>
            <a:ext cx="9016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ng Unneeded Memory Refere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nstructions in 6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read and writ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structions in  2 clock c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9960" y="1501920"/>
            <a:ext cx="425052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1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,%edx,4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%eax,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(%ed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76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12120" y="1501920"/>
            <a:ext cx="425052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24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4320" y="304920"/>
            <a:ext cx="8636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Blocker: Memory Alia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different memory references specify single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: [3, 2, 17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bine3(v, get_vec_start(v)+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bine4(v, get_vec_start(v)+2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have happen in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allowed to do address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access to storag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in habit of introducing local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mulating within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f telling compiler not to check for ali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2600" y="304920"/>
            <a:ext cx="8076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Independent Opt.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are good at this for simple loop/array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’t do well in presence of procedure calls and memory ali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, add instead of multiply or div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are (generally) good at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ct trade-offs machine-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data in registers rather tha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are not good at this, since concerned with ali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ilers have limited algebraic reasoning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01880" y="334800"/>
            <a:ext cx="358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t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ly compute time taken b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modern machines have built in cyc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m to get reliable measurements is tr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 procedure calling frequ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tool gpr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ng assembl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you see what optimizations compiler can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capabilities/limitations of particular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63440" y="334800"/>
            <a:ext cx="5257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Profil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"/>
          </a:bodyPr>
          <a:p>
            <a:pPr marL="13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word frequencies in text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sorted list of words from most frequent to le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strings to lower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has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words and insert into hash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0040" indent="-9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lis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0040" indent="-9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ounter for each uniqu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t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ed works of Shakespe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46,596 total words, 26,596 un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480" indent="-13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implementation: 9.2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867280" y="3124080"/>
          <a:ext cx="2438280" cy="3111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8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9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9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5779440" y="2362320"/>
            <a:ext cx="255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kespeare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frequent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6840" y="30492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ing Compi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efficient mapping of program to 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selection and 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ng minor ineffici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(usually) improve asymptotic ef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programmer to select best overall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-O savings are (often) more important than constant fa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nstant factors also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fficulty overcoming “optimization block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memory ali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procedure side-eff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66760" y="334800"/>
            <a:ext cx="3251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Profi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ment Executable Program with Timing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s (approximate) amount of time spent in eac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computation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ally (~ every 10ms) interrup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what function is currently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 its timer by interval (e.g., 10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maintains counter for each function indicating number of times cal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–O2 –pg prog. –o pr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/pr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in normal fashion, but also generates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mon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prof pr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profile information based 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mon.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12960" y="334800"/>
            <a:ext cx="3759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ling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4600" y="3124080"/>
            <a:ext cx="8254800" cy="320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calls and cumulative time for eac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Limi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inefficient sorting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call uses 87% of CPU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7760" y="1219320"/>
            <a:ext cx="8228160" cy="154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   cumulative   self              self     total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  seconds   seconds    calls  ms/call  ms/call  nam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6.60      8.21     8.21        1  8210.00  8210.00  sort_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.80      8.76     0.55   946596     0.00     0.00  lowe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.75      9.21     0.45   946596     0.00     0.00  find_ele_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27      9.33     0.12   946596     0.00     0.00  h_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Optimiz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4600" y="4266720"/>
            <a:ext cx="8254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step: Use more efficient sorting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 func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s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61920" y="137160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53880" y="334800"/>
            <a:ext cx="4876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rther Optimiz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4600" y="3886200"/>
            <a:ext cx="8254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 first: Use iterative function to insert elements in linked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13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code to slow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 last: Iterative function, places new entry at end of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13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 to place most common words at front of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table: Increase number of hash bu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hash: Use more sophisticated hash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64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lower: Mov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61920" y="106668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06668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77920" y="334800"/>
            <a:ext cx="5029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filing Observ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s identify performance bottlene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useful when have complex system with many compon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shows performance for data tes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linear lower did not show big gain, since words are sh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ic inefficiency could remain lurking i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ing mechanism fairly cru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orks for programs that run for &gt;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4440" y="304920"/>
            <a:ext cx="7975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Optimizing Compi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e Under Fundamental Constra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not cause any change in program behavior under any possible con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prevents it from making optimizations when would only affect behavior under pathological condi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 that may be obvious to the programmer can  be obfuscated by languages and coding sty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data ranges may be more limited than variable types sugg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using an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 C for what could be an enumerated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nalysis is performed only within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le-program analysis is too expensive in most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nalysis is based only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has difficulty anticipating run-time inpu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doubt, the compiler must be conserv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304920"/>
            <a:ext cx="7975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Independent Optimiz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izations you should do regardless of processor / compi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frequency with which computation per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will always produce sam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9480" indent="-155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moving code out of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7640" y="3514680"/>
            <a:ext cx="2848680" cy="72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96120" y="3286080"/>
            <a:ext cx="2848680" cy="115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13040" y="382428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2720" y="304920"/>
            <a:ext cx="7416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iler-Generated Code Mo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mpilers do a good job with array code + simple loop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Generated by GC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3600" y="2209680"/>
            <a:ext cx="2848680" cy="72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43440" y="3809880"/>
            <a:ext cx="5591520" cy="243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a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i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8(%ebp),%ed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al (%edi,%eax,4),%ed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p = a+i*n (scaled by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Inner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L4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12(%ebp),%ed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(%edi,%ecx,4),%eax # b+j  (scaled by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*p = b[j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l $4,%ed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p++  (scaled by 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cl %ec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j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l .L40                 # loop if j&lt;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200400"/>
            <a:ext cx="6098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1828800"/>
            <a:ext cx="2897280" cy="136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int *p = a+n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p++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800600" y="3047760"/>
            <a:ext cx="45720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9840" y="30492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duction in Streng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 costly operation with simpler 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, add instead of multiply or div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*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&lt;&lt;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ty machin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cost of multiply or divide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ntium II or III, integer multiply only requires 4 CPU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2200" y="3886200"/>
            <a:ext cx="2848680" cy="72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01040" y="3657600"/>
            <a:ext cx="2848680" cy="136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int ni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ni +=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17960" y="419580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90520" y="334800"/>
            <a:ext cx="5003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Use of Regis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 and writing registers much faster than reading/writing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not always able to determine whether variable can be held in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ility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example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9720" y="304920"/>
            <a:ext cx="7721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Independent Opts.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use portions of expre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s often not very sophisticated in exploiting arithmetic proper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200" y="2590920"/>
            <a:ext cx="3488400" cy="136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Sum neighbors of i,j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 =    val[(i-1)*n + 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wn =  val[(i+1)*n + 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=  val[i*n   + j-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= val[i*n   + j+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33400" y="2590920"/>
            <a:ext cx="3488400" cy="136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nj = i*n + j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 =    val[inj - 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wn =  val[inj + 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=  val[inj -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= val[inj +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4840" y="4097160"/>
            <a:ext cx="363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multiplications: i*n, (i–1)*n, (i+1)*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60560" y="4097160"/>
            <a:ext cx="20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ultiplication: i*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648320"/>
            <a:ext cx="3657600" cy="1154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al -1(%edx),%ecx  # i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c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# (i-1)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al 1(%edx),%eax   # i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ax     # (i+1)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ull %ebx,%edx     # i*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Randal E. Bryant</dc:creator>
  <dc:description/>
  <dc:language>en-US</dc:language>
  <cp:lastModifiedBy>Gregory Kesden</cp:lastModifiedBy>
  <cp:lastPrinted>1999-11-05T21:53:50Z</cp:lastPrinted>
  <dcterms:modified xsi:type="dcterms:W3CDTF">2002-02-14T07:00:27Z</dcterms:modified>
  <cp:revision>138</cp:revision>
  <dc:subject/>
  <dc:title>Caches  CS 347  Feb. 3, 1998</dc:title>
</cp:coreProperties>
</file>