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59000" y="325548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28960" y="6527880"/>
            <a:ext cx="3053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35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0318F56C-B27A-45BD-99CF-3CE3E10E0482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0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76080" y="1294920"/>
            <a:ext cx="416556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e Optimiza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bruary 14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62320" y="2742840"/>
            <a:ext cx="519408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e-Independent Optimiz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tion in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subexpression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ing performance bottlene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: 5.1 – 5.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440" y="3049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0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84280" y="334800"/>
            <a:ext cx="2616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AD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8013600" cy="35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_ptr new_vec(int le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ector of specified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get_vec_element(vec_ptr v, int index, int *des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vector element, store at *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0 if out of bounds, 1 if suc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get_vec_start(vec_ptr v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pointer to start of vecto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ilar to array implementations in Pascal, ML, Ja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always do bounds 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295280" y="1523880"/>
            <a:ext cx="3657600" cy="609840"/>
            <a:chOff x="1295280" y="1523880"/>
            <a:chExt cx="3657600" cy="609840"/>
          </a:xfrm>
        </p:grpSpPr>
        <p:sp>
          <p:nvSpPr>
            <p:cNvPr id="80" name=""/>
            <p:cNvSpPr/>
            <p:nvPr/>
          </p:nvSpPr>
          <p:spPr>
            <a:xfrm>
              <a:off x="1295280" y="1523880"/>
              <a:ext cx="9144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95280" y="1828800"/>
              <a:ext cx="9144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2819520" y="1828800"/>
              <a:ext cx="2133000" cy="304920"/>
              <a:chOff x="2819520" y="1828800"/>
              <a:chExt cx="2133000" cy="304920"/>
            </a:xfrm>
          </p:grpSpPr>
          <p:sp>
            <p:nvSpPr>
              <p:cNvPr id="83" name=""/>
              <p:cNvSpPr/>
              <p:nvPr/>
            </p:nvSpPr>
            <p:spPr>
              <a:xfrm>
                <a:off x="2819520" y="1828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124080" y="1828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429000" y="1828800"/>
                <a:ext cx="3042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647960" y="1828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733560" y="1828800"/>
                <a:ext cx="91404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2057400" y="198108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19520" y="1523880"/>
              <a:ext cx="304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2408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900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48320" y="1523880"/>
              <a:ext cx="304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–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41280" y="334800"/>
            <a:ext cx="4902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ization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42667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sum of all elements of ve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 result at destination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30360" y="990720"/>
            <a:ext cx="5530680" cy="283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1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vec_length(v)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7960" y="334800"/>
            <a:ext cx="27687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 Sca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olut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ly use nanoseco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scale of computer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ck Cyc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computers controlled by high frequency clock sig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 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MH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ycles per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period = 10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GH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ycles per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period = 0.5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sh machines: 550 MHz (1.8 ns clock perio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08040" y="334800"/>
            <a:ext cx="43686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ycles Per El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nient way to express performance of program that operators on vectors or li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 = 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= CPE*n + Overh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647720" y="2362320"/>
          <a:ext cx="5848560" cy="405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7720" y="2362320"/>
                    <a:ext cx="584856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933720" y="3362400"/>
            <a:ext cx="1257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su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pe = 4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00720" y="4124160"/>
            <a:ext cx="15429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su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pe = 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41280" y="334800"/>
            <a:ext cx="4902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ization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3877920"/>
            <a:ext cx="8305560" cy="244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sum of all elements of integer ve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 result at destination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 data structure and operations defined via abstract data 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tium II/III Performance: Clock Cycles / El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.06 (Compiled -g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.25 (Compiled -O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30360" y="990720"/>
            <a:ext cx="5530680" cy="283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1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vec_length(v)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93560" y="334800"/>
            <a:ext cx="4597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derstanding Lo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5181120"/>
            <a:ext cx="825480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effici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dure vec_length called every it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 though result always the s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990720"/>
            <a:ext cx="568008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1-goto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i &gt;= vec_length(v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d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i &lt;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vec_lengt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v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3124080"/>
            <a:ext cx="457200" cy="1447920"/>
          </a:xfrm>
          <a:custGeom>
            <a:avLst/>
            <a:gdLst>
              <a:gd name="textAreaLeft" fmla="*/ 0 w 457200"/>
              <a:gd name="textAreaRight" fmla="*/ 164880 w 4572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83120" y="36576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it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6360" y="334800"/>
            <a:ext cx="7851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v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vec_lengt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all Out of Lo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1148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 call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_leng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ut of inner lo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does not change from one iteration to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E:   20.66 (Compiled -O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_leng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ires only constant time, but significant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31440" y="990720"/>
            <a:ext cx="4982040" cy="3106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2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ength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080800" y="1905120"/>
            <a:ext cx="4982040" cy="200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lower(char *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strlen(s)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s[i] &gt;= 'A' &amp;&amp; s[i] &lt;= 'Z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[i] -= ('A' - 'a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3760" y="334800"/>
            <a:ext cx="5537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e Motion Example #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 to Convert String to Lower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cted from 213 lab submissions, Fall, 199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4760" y="334800"/>
            <a:ext cx="8255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wer Case Conversion Perform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4600" y="13716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quadruples when double string leng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85960" y="2438280"/>
          <a:ext cx="7372080" cy="351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2438280"/>
                    <a:ext cx="737208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68080" y="334800"/>
            <a:ext cx="6248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 Loop To Goto For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4876920"/>
            <a:ext cx="8255160" cy="92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lvl="1" marL="375480" indent="-14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l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xecuted every it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5480" indent="-14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l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near in length of st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2680" indent="-110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can string until find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‘\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5480" indent="-14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all performance is quadra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1143000"/>
            <a:ext cx="4962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lower(char *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i &gt;= strlen(s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d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s[i] &gt;= 'A' &amp;&amp; s[i] &lt;= 'Z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[i] -= ('A' - 'a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i &lt; strlen(s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loo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1880" y="368280"/>
            <a:ext cx="35812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eat Reality #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re’s more to performance than asymptotic complex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 factors matter too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ily see 10:1 performance range depending on how code is writ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optimize at multiple level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, data representations, procedures, and l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understand system to optimiz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programs are compiled and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to measure program performance and identify bottlene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to improve performance without destroying code modularity and gener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63440" y="334800"/>
            <a:ext cx="5257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roving Perform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4600" y="3733920"/>
            <a:ext cx="8254800" cy="259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 call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l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utside of lo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result does not change from one iteration to an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 of code mo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88640" y="1143000"/>
            <a:ext cx="4982040" cy="2283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lower(char *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 = strlen(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en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s[i] &gt;= 'A' &amp;&amp; s[i] &lt;= 'Z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[i] -= ('A' - 'a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4760" y="334800"/>
            <a:ext cx="8255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wer Case Conversion Perform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doubles when double string leng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88840" y="1943280"/>
          <a:ext cx="7328160" cy="397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1943280"/>
                    <a:ext cx="7328160" cy="39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3240" y="304920"/>
            <a:ext cx="8458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ization Blocker: Procedure Cal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255160" cy="511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y couldn’t the compiler mov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ec_le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le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out of the inner loo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dure May Have Side Eff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6040" indent="-158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, alters global state each time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 May Not Return Same Value for Given Argu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6040" indent="-158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s on other parts of glob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6040" indent="-158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uld interact wit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y doesn’t compiler look at code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ec_le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le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er may overload with different ver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6040" indent="-158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ess declared st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ocedural optimization is not used extensively due to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 treats procedure call as a black bo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ak optimizations in and around th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41280" y="334800"/>
            <a:ext cx="4902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duction in Streng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37339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oid procedure call to retrieve each vector e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pointer to start of array before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loop just do pointer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s clean in terms of data abs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E:   6.00 (Compiled -O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calls are expensiv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s checking is 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31440" y="990720"/>
            <a:ext cx="4982040" cy="2557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3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ength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+= data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9440" y="334800"/>
            <a:ext cx="8966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iminate Unneeded Memory Referen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’t need to store in destination until 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varia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eld in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oids 1 memory read, 1 memory write per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E:   2.00 (Compiled -O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references are expensiv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31440" y="990720"/>
            <a:ext cx="4982040" cy="283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4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ength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80" y="334800"/>
            <a:ext cx="90169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cting Unneeded Memory Referen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instructions in 6 clock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read and writ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instructions in  2 clock c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9960" y="1501920"/>
            <a:ext cx="4250520" cy="200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18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cx,%edx,4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%eax,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(%ed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 .L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7600" y="1066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12120" y="1501920"/>
            <a:ext cx="4250520" cy="200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2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(%eax,%edx,4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 .L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2400" y="1066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4320" y="304920"/>
            <a:ext cx="86360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ization Blocker: Memory Alias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ia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different memory references specify single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: [3, 2, 17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bine3(v, get_vec_start(v)+2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bine4(v, get_vec_start(v)+2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to have happen in 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allowed to do address arithme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access to storage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in habit of introducing local vari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mulating within l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f telling compiler not to check for alia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52600" y="304920"/>
            <a:ext cx="8076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-Independent Opt.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Mo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ilers are good at this for simple loop/array struc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n’t do well in presence of procedure calls and memory alia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tion in Streng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ft, add instead of multiply or div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ilers are (generally) good at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act trade-offs machine-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ep data in registers rather than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ilers are not good at this, since concerned with alia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 Common Subexpres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ilers have limited algebraic reasoning capabil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01880" y="334800"/>
            <a:ext cx="3581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ortant 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urately compute time taken by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modern machines have built in cycle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m to get reliable measurements is tr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le procedure calling frequenc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tool gpr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ng assembly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s you see what optimizations compiler can 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capabilities/limitations of particular comp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63440" y="334800"/>
            <a:ext cx="5257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e Profiling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"/>
          </a:bodyPr>
          <a:p>
            <a:pPr marL="13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480" indent="-1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 word frequencies in text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480" indent="-1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 sorted list of words from most frequent to le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480" indent="-1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 strings to lower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480" indent="-1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hash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480" indent="-1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words and insert into hash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0040" indent="-9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list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0040" indent="-9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counter for each unique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480" indent="-1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rt resul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480" indent="-1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cted works of Shakespe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480" indent="-1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46,596 total words, 26,596 uniq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480" indent="-1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 implementation: 9.2 seco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867280" y="3124080"/>
          <a:ext cx="2438280" cy="3111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8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5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9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3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9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7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5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5779440" y="2362320"/>
            <a:ext cx="2556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144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kespeare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frequent 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66840" y="304920"/>
            <a:ext cx="4851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izing Compil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efficient mapping of program to mach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al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selection and orde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ing minor inefficienc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(usually) improve asymptotic effici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 to programmer to select best overall algorith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-O savings are (often) more important than constant fa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constant factors also m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difficulty overcoming “optimization blocker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 memory alia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 procedure side-eff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966760" y="334800"/>
            <a:ext cx="3251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e Profi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gment Executable Program with Timing Fun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s (approximate) amount of time spent in each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computation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ally (~ every 10ms) interrupt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what function is currently exec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 its timer by interval (e.g., 10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 maintains counter for each function indicating number of times call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cc –O2 –pg prog. –o pr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/pr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s in normal fashion, but also generates fi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mon.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prof pr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s profile information based o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mon.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12960" y="334800"/>
            <a:ext cx="3759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filing 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4600" y="3124080"/>
            <a:ext cx="8254800" cy="320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Stat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of calls and cumulative time for each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Limi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inefficient sorting algorith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call uses 87% of CPU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7760" y="1219320"/>
            <a:ext cx="8228160" cy="1549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   cumulative   self              self     total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   seconds   seconds    calls  ms/call  ms/call  name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6.60      8.21     8.21        1  8210.00  8210.00  sort_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.80      8.76     0.55   946596     0.00     0.00  lowe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.75      9.21     0.45   946596     0.00     0.00  find_ele_r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.27      9.33     0.12   946596     0.00     0.00  h_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82480" y="334800"/>
            <a:ext cx="4419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e Optimiz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44600" y="4266720"/>
            <a:ext cx="82548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lvl="1" marL="280080" indent="-111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step: Use more efficient sorting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111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 func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qs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961920" y="1371600"/>
          <a:ext cx="7220160" cy="26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371600"/>
                    <a:ext cx="722016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53880" y="334800"/>
            <a:ext cx="4876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rther Optimiz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44600" y="3886200"/>
            <a:ext cx="8254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lvl="1" marL="414720" indent="-164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r first: Use iterative function to insert elements in linked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1360" indent="-122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s code to slow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4720" indent="-164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r last: Iterative function, places new entry at end of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1360" indent="-122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d to place most common words at front of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4720" indent="-164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 table: Increase number of hash bucke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4720" indent="-164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ter hash: Use more sophisticated hash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4720" indent="-164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lower: Mov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l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ut of lo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61920" y="1066680"/>
          <a:ext cx="7220160" cy="26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066680"/>
                    <a:ext cx="722016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77920" y="334800"/>
            <a:ext cx="5029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filing Observ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s identify performance bottlene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ecially useful when have complex system with many compon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shows performance for data tes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linear lower did not show big gain, since words are sh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 inefficiency could remain lurking in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ing mechanism fairly cru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works for programs that run for &gt; 3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4440" y="304920"/>
            <a:ext cx="7975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mitations of Optimizing Compil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e Under Fundamental Constrai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not cause any change in program behavior under any possible con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ten prevents it from making optimizations when would only affect behavior under pathological condi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havior that may be obvious to the programmer can  be obfuscated by languages and coding sty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data ranges may be more limited than variable types sugg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using an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in C for what could be an enumerated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analysis is performed only within proced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le-program analysis is too expensive in most ca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analysis is based only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 has difficulty anticipating run-time inpu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n doubt, the compiler must be conserva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304920"/>
            <a:ext cx="7975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-Independent Optimiz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mizations you should do regardless of processor / compi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Mo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 frequency with which computation perform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-155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will always produce same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-155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ally moving code out of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7640" y="3514680"/>
            <a:ext cx="2848680" cy="72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[n*i + j] = b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96120" y="3286080"/>
            <a:ext cx="2848680" cy="115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int ni = n*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[ni + j] = b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13040" y="382428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2720" y="304920"/>
            <a:ext cx="7416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er-Generated Code Mo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compilers do a good job with array code + simple loop struc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Generated by GC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3600" y="2209680"/>
            <a:ext cx="2848680" cy="72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[n*i + j] = b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43440" y="3809880"/>
            <a:ext cx="5591520" cy="2433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mull %ebx,%ea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i*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 8(%ebp),%edi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al (%edi,%eax,4),%ed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p = a+i*n (scaled by 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Inner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L40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 12(%ebp),%edi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 (%edi,%ecx,4),%eax # b+j  (scaled by 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 %eax,(%edx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*p = b[j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l $4,%ed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p++  (scaled by 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cl %ec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j+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l .L40                 # loop if j&lt;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3200400"/>
            <a:ext cx="6098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10080" y="1828800"/>
            <a:ext cx="2897280" cy="1367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ni = n*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int *p = a+n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p++ = b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800600" y="3047760"/>
            <a:ext cx="45720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9840" y="304920"/>
            <a:ext cx="4902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duction in Streng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ace costly operation with simpler 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ft, add instead of multiply or div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6*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&lt;&lt;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ility machine 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s on cost of multiply or divide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Pentium II or III, integer multiply only requires 4 CPU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62200" y="3886200"/>
            <a:ext cx="2848680" cy="72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[n*i + j] = b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01040" y="3657600"/>
            <a:ext cx="2848680" cy="1367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int ni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[ni + j] = b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ni += 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17960" y="419580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90520" y="334800"/>
            <a:ext cx="5003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 Use of Regis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 and writing registers much faster than reading/writing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 not always able to determine whether variable can be held in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ility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ia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example l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9720" y="304920"/>
            <a:ext cx="77216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-Independent Opts.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 Common Subexpres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use portions of expres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s often not very sophisticated in exploiting arithmetic proper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7200" y="2590920"/>
            <a:ext cx="3488400" cy="136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Sum neighbors of i,j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p =    val[(i-1)*n + 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wn =  val[(i+1)*n + 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ft =  val[i*n   + j-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ght = val[i*n   + j+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m = up + down + left + righ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33400" y="2590920"/>
            <a:ext cx="3488400" cy="136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inj = i*n + j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p =    val[inj - n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wn =  val[inj + n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ft =  val[inj -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ght = val[inj +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m = up + down + left + righ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4840" y="4097160"/>
            <a:ext cx="3630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multiplications: i*n, (i–1)*n, (i+1)*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60560" y="4097160"/>
            <a:ext cx="2048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multiplication: i*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648320"/>
            <a:ext cx="3657600" cy="1154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al -1(%edx),%ecx  # i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mull %ebx,%ec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# (i-1)*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al 1(%edx),%eax   # i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mull %ebx,%eax     # (i+1)*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mull %ebx,%edx     # i*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2T14:46:03Z</dcterms:created>
  <dc:creator>Randal E. Bryant</dc:creator>
  <dc:description/>
  <dc:language>en-US</dc:language>
  <cp:lastModifiedBy>Gregory Kesden</cp:lastModifiedBy>
  <cp:lastPrinted>1999-11-05T21:53:50Z</cp:lastPrinted>
  <dcterms:modified xsi:type="dcterms:W3CDTF">2002-02-14T07:00:27Z</dcterms:modified>
  <cp:revision>138</cp:revision>
  <dc:subject/>
  <dc:title>Caches  CS 347  Feb. 3, 1998</dc:title>
</cp:coreProperties>
</file>