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7519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C5FE5D62-9DEE-4468-8B00-468F2AD3F458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1447560"/>
            <a:ext cx="485136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Language V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Topic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2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962520"/>
            <a:ext cx="43560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Memory Lay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Poi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3.12 – 3.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3.24 and 3.3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Worm and IM W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8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Worm attacks thousands of Internet ho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id it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launches MSN Messenger (instant messaging syste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enger clients can access popular AOL Instant Messaging Service (AIM) ser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4720" y="4370760"/>
            <a:ext cx="122076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55560" y="336420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22160" y="542160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19000" y="437076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93080" y="4370760"/>
            <a:ext cx="122076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4440" y="4816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06920" y="4816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4114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181120" y="518148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Worm and IM Wa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teriously, Messenger clients can no longer access AIM serv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and AOL begin the IM wa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L changes server to disallow Messenger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makes changes to clients to defeat AOL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13 such skirm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id it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 Worm and AOL/Microsoft War were both based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ck buffer over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loit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Unix functions,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cpy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o not check argument si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arget buffers to overf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68480" y="228600"/>
            <a:ext cx="5207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ulnerable Buff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343400"/>
            <a:ext cx="449568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t main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printf("Type a string:"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echo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return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828800"/>
            <a:ext cx="54100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1280" y="228600"/>
            <a:ext cx="612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Exec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06668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28600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58128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4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276720"/>
            <a:ext cx="708660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cho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Save %ebp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ovl %esp,%eb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bl $20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Save %eb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ddl $-12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MS Mincho"/>
              </a:rPr>
              <a:t>leal -4(%ebp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Compute buf as %ebp-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Push buf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l ge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Call ge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990720"/>
            <a:ext cx="541044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0880" y="990720"/>
            <a:ext cx="2651760" cy="3123720"/>
            <a:chOff x="380880" y="990720"/>
            <a:chExt cx="2651760" cy="3123720"/>
          </a:xfrm>
        </p:grpSpPr>
        <p:sp>
          <p:nvSpPr>
            <p:cNvPr id="212" name=""/>
            <p:cNvSpPr/>
            <p:nvPr/>
          </p:nvSpPr>
          <p:spPr>
            <a:xfrm>
              <a:off x="380880" y="213336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880" y="243828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88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176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42640" y="2743200"/>
              <a:ext cx="38124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2388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692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04760" y="25905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4120" y="2438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243828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880" y="9907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53088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2590920"/>
            <a:ext cx="2499480" cy="3124080"/>
            <a:chOff x="914400" y="2590920"/>
            <a:chExt cx="2499480" cy="3124080"/>
          </a:xfrm>
        </p:grpSpPr>
        <p:sp>
          <p:nvSpPr>
            <p:cNvPr id="225" name=""/>
            <p:cNvSpPr/>
            <p:nvPr/>
          </p:nvSpPr>
          <p:spPr>
            <a:xfrm>
              <a:off x="914400" y="3733920"/>
              <a:ext cx="1523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403884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43434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74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4044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437920" y="4191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5360" y="403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403884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2590920"/>
              <a:ext cx="152388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715000" y="2590920"/>
            <a:ext cx="1523880" cy="3124080"/>
            <a:chOff x="5715000" y="2590920"/>
            <a:chExt cx="1523880" cy="3124080"/>
          </a:xfrm>
        </p:grpSpPr>
        <p:grpSp>
          <p:nvGrpSpPr>
            <p:cNvPr id="237" name=""/>
            <p:cNvGrpSpPr/>
            <p:nvPr/>
          </p:nvGrpSpPr>
          <p:grpSpPr>
            <a:xfrm>
              <a:off x="5715000" y="4038480"/>
              <a:ext cx="1523520" cy="304560"/>
              <a:chOff x="5715000" y="4038480"/>
              <a:chExt cx="152352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5715000" y="40384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95880" y="40384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76760" y="40384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57640" y="40384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715000" y="3733920"/>
              <a:ext cx="1523520" cy="304560"/>
              <a:chOff x="5715000" y="3733920"/>
              <a:chExt cx="1523520" cy="304560"/>
            </a:xfrm>
          </p:grpSpPr>
          <p:sp>
            <p:nvSpPr>
              <p:cNvPr id="243" name=""/>
              <p:cNvSpPr/>
              <p:nvPr/>
            </p:nvSpPr>
            <p:spPr>
              <a:xfrm>
                <a:off x="5715000" y="3733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95880" y="37339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6760" y="37339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57640" y="3733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7150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6760" y="43434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403848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5909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067040" y="205740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93840" y="152280"/>
            <a:ext cx="481356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gdb buf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break 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 at 0x80485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, 0x8048583 in echo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int /x *(unsigned *)$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1 = 0xbffff8f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int /x *((unsigned *)$ebp +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3 = 0x80486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5867280"/>
            <a:ext cx="662940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2120" y="4038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8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2666880"/>
            <a:ext cx="762120" cy="152424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960"/>
                </a:moveTo>
                <a:cubicBezTo>
                  <a:pt x="352" y="928"/>
                  <a:pt x="224" y="896"/>
                  <a:pt x="144" y="816"/>
                </a:cubicBezTo>
                <a:cubicBezTo>
                  <a:pt x="64" y="736"/>
                  <a:pt x="0" y="600"/>
                  <a:pt x="0" y="480"/>
                </a:cubicBezTo>
                <a:cubicBezTo>
                  <a:pt x="0" y="360"/>
                  <a:pt x="72" y="176"/>
                  <a:pt x="144" y="96"/>
                </a:cubicBezTo>
                <a:cubicBezTo>
                  <a:pt x="216" y="16"/>
                  <a:pt x="324" y="8"/>
                  <a:pt x="43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523880" y="2286000"/>
            <a:ext cx="2499480" cy="3124080"/>
            <a:chOff x="1523880" y="2286000"/>
            <a:chExt cx="2499480" cy="3124080"/>
          </a:xfrm>
        </p:grpSpPr>
        <p:sp>
          <p:nvSpPr>
            <p:cNvPr id="260" name=""/>
            <p:cNvSpPr/>
            <p:nvPr/>
          </p:nvSpPr>
          <p:spPr>
            <a:xfrm>
              <a:off x="1523880" y="3429000"/>
              <a:ext cx="1523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73392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4760" y="403848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920" y="4038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047400" y="38862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5484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73392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286000"/>
              <a:ext cx="152388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194000" y="2209680"/>
            <a:ext cx="1523880" cy="3124080"/>
            <a:chOff x="4194000" y="2209680"/>
            <a:chExt cx="1523880" cy="3124080"/>
          </a:xfrm>
        </p:grpSpPr>
        <p:grpSp>
          <p:nvGrpSpPr>
            <p:cNvPr id="272" name=""/>
            <p:cNvGrpSpPr/>
            <p:nvPr/>
          </p:nvGrpSpPr>
          <p:grpSpPr>
            <a:xfrm>
              <a:off x="4194000" y="3657240"/>
              <a:ext cx="1523520" cy="304560"/>
              <a:chOff x="4194000" y="3657240"/>
              <a:chExt cx="1523520" cy="304560"/>
            </a:xfrm>
          </p:grpSpPr>
          <p:sp>
            <p:nvSpPr>
              <p:cNvPr id="273" name=""/>
              <p:cNvSpPr/>
              <p:nvPr/>
            </p:nvSpPr>
            <p:spPr>
              <a:xfrm>
                <a:off x="419400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7488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576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3664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194000" y="3352680"/>
              <a:ext cx="1523520" cy="304560"/>
              <a:chOff x="4194000" y="3352680"/>
              <a:chExt cx="1523520" cy="304560"/>
            </a:xfrm>
          </p:grpSpPr>
          <p:sp>
            <p:nvSpPr>
              <p:cNvPr id="278" name=""/>
              <p:cNvSpPr/>
              <p:nvPr/>
            </p:nvSpPr>
            <p:spPr>
              <a:xfrm>
                <a:off x="419400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7488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5576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3664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41940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488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5760" y="39621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70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4000" y="36572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4000" y="22096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16360" y="172728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1160" y="1676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07000" y="5370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629400" y="2209680"/>
            <a:ext cx="1523880" cy="3124080"/>
            <a:chOff x="6629400" y="2209680"/>
            <a:chExt cx="1523880" cy="3124080"/>
          </a:xfrm>
        </p:grpSpPr>
        <p:grpSp>
          <p:nvGrpSpPr>
            <p:cNvPr id="292" name=""/>
            <p:cNvGrpSpPr/>
            <p:nvPr/>
          </p:nvGrpSpPr>
          <p:grpSpPr>
            <a:xfrm>
              <a:off x="6629400" y="3657240"/>
              <a:ext cx="1523520" cy="304560"/>
              <a:chOff x="6629400" y="3657240"/>
              <a:chExt cx="1523520" cy="304560"/>
            </a:xfrm>
          </p:grpSpPr>
          <p:sp>
            <p:nvSpPr>
              <p:cNvPr id="293" name=""/>
              <p:cNvSpPr/>
              <p:nvPr/>
            </p:nvSpPr>
            <p:spPr>
              <a:xfrm>
                <a:off x="662940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1028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9116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7204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629400" y="3352680"/>
              <a:ext cx="1523520" cy="304560"/>
              <a:chOff x="6629400" y="3352680"/>
              <a:chExt cx="1523520" cy="304560"/>
            </a:xfrm>
          </p:grpSpPr>
          <p:sp>
            <p:nvSpPr>
              <p:cNvPr id="298" name=""/>
              <p:cNvSpPr/>
              <p:nvPr/>
            </p:nvSpPr>
            <p:spPr>
              <a:xfrm>
                <a:off x="662940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1028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9116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7204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66294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1028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91160" y="39621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724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36572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29400" y="22096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4600" y="990720"/>
            <a:ext cx="2499120" cy="3124080"/>
            <a:chOff x="444600" y="990720"/>
            <a:chExt cx="2499120" cy="3124080"/>
          </a:xfrm>
        </p:grpSpPr>
        <p:sp>
          <p:nvSpPr>
            <p:cNvPr id="310" name=""/>
            <p:cNvSpPr/>
            <p:nvPr/>
          </p:nvSpPr>
          <p:spPr>
            <a:xfrm>
              <a:off x="444600" y="2133720"/>
              <a:ext cx="1523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4600" y="2438640"/>
              <a:ext cx="152352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460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512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0636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8724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7028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68120" y="2590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75200" y="2438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4600" y="2438640"/>
              <a:ext cx="152352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4600" y="990720"/>
              <a:ext cx="15235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334120" y="10666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45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valu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bfff00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581280" y="990720"/>
            <a:ext cx="1523880" cy="3124080"/>
            <a:chOff x="3581280" y="990720"/>
            <a:chExt cx="1523880" cy="3124080"/>
          </a:xfrm>
        </p:grpSpPr>
        <p:grpSp>
          <p:nvGrpSpPr>
            <p:cNvPr id="323" name=""/>
            <p:cNvGrpSpPr/>
            <p:nvPr/>
          </p:nvGrpSpPr>
          <p:grpSpPr>
            <a:xfrm>
              <a:off x="3581280" y="2438280"/>
              <a:ext cx="1523520" cy="304560"/>
              <a:chOff x="3581280" y="2438280"/>
              <a:chExt cx="1523520" cy="304560"/>
            </a:xfrm>
          </p:grpSpPr>
          <p:sp>
            <p:nvSpPr>
              <p:cNvPr id="324" name=""/>
              <p:cNvSpPr/>
              <p:nvPr/>
            </p:nvSpPr>
            <p:spPr>
              <a:xfrm>
                <a:off x="3581280" y="24382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62160" y="24382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040" y="24382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3920" y="24382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581280" y="2133720"/>
              <a:ext cx="1523520" cy="304560"/>
              <a:chOff x="3581280" y="2133720"/>
              <a:chExt cx="1523520" cy="304560"/>
            </a:xfrm>
          </p:grpSpPr>
          <p:sp>
            <p:nvSpPr>
              <p:cNvPr id="329" name=""/>
              <p:cNvSpPr/>
              <p:nvPr/>
            </p:nvSpPr>
            <p:spPr>
              <a:xfrm>
                <a:off x="3581280" y="2133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62160" y="21337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040" y="21337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23920" y="2133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58128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216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040" y="27432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428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1280" y="243828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81280" y="9907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09480" y="4724280"/>
            <a:ext cx="7848720" cy="155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3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80483e4 &lt;_init+0x5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0xffffffe8(%ebp),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b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d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# %ebp gets set to invalid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e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72120" y="2438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8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806560" y="2590200"/>
            <a:ext cx="762120" cy="198108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960"/>
                </a:moveTo>
                <a:cubicBezTo>
                  <a:pt x="352" y="928"/>
                  <a:pt x="224" y="896"/>
                  <a:pt x="144" y="816"/>
                </a:cubicBezTo>
                <a:cubicBezTo>
                  <a:pt x="64" y="736"/>
                  <a:pt x="0" y="600"/>
                  <a:pt x="0" y="480"/>
                </a:cubicBezTo>
                <a:cubicBezTo>
                  <a:pt x="0" y="360"/>
                  <a:pt x="72" y="176"/>
                  <a:pt x="144" y="96"/>
                </a:cubicBezTo>
                <a:cubicBezTo>
                  <a:pt x="216" y="16"/>
                  <a:pt x="324" y="8"/>
                  <a:pt x="43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4343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7440" y="228600"/>
            <a:ext cx="690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51040" y="1523880"/>
            <a:ext cx="2499120" cy="3124080"/>
            <a:chOff x="851040" y="1523880"/>
            <a:chExt cx="2499120" cy="3124080"/>
          </a:xfrm>
        </p:grpSpPr>
        <p:sp>
          <p:nvSpPr>
            <p:cNvPr id="345" name=""/>
            <p:cNvSpPr/>
            <p:nvPr/>
          </p:nvSpPr>
          <p:spPr>
            <a:xfrm>
              <a:off x="851040" y="2666880"/>
              <a:ext cx="1523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1040" y="2971800"/>
              <a:ext cx="152352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3156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1280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9368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76720" y="3276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7456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816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2971800"/>
              <a:ext cx="152352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1040" y="1523880"/>
              <a:ext cx="15235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91120" y="1523880"/>
            <a:ext cx="1523880" cy="3124080"/>
            <a:chOff x="4191120" y="1523880"/>
            <a:chExt cx="1523880" cy="3124080"/>
          </a:xfrm>
        </p:grpSpPr>
        <p:grpSp>
          <p:nvGrpSpPr>
            <p:cNvPr id="357" name=""/>
            <p:cNvGrpSpPr/>
            <p:nvPr/>
          </p:nvGrpSpPr>
          <p:grpSpPr>
            <a:xfrm>
              <a:off x="4191120" y="2971440"/>
              <a:ext cx="1523520" cy="304560"/>
              <a:chOff x="4191120" y="2971440"/>
              <a:chExt cx="1523520" cy="304560"/>
            </a:xfrm>
          </p:grpSpPr>
          <p:sp>
            <p:nvSpPr>
              <p:cNvPr id="358" name=""/>
              <p:cNvSpPr/>
              <p:nvPr/>
            </p:nvSpPr>
            <p:spPr>
              <a:xfrm>
                <a:off x="4191120" y="29714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72000" y="29714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52880" y="29714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33760" y="29714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191120" y="2666880"/>
              <a:ext cx="1523520" cy="304560"/>
              <a:chOff x="4191120" y="2666880"/>
              <a:chExt cx="1523520" cy="304560"/>
            </a:xfrm>
          </p:grpSpPr>
          <p:sp>
            <p:nvSpPr>
              <p:cNvPr id="363" name=""/>
              <p:cNvSpPr/>
              <p:nvPr/>
            </p:nvSpPr>
            <p:spPr>
              <a:xfrm>
                <a:off x="4191120" y="26668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2000" y="26668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52880" y="26668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3760" y="26668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419112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7200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32763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412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1120" y="29714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91120" y="15238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019920" y="1371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45678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turn address corru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47880" y="5562720"/>
            <a:ext cx="710676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fc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 3c 33 0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b   $0xa,(%ebx,%esi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0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5 a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ne    80485b0 &lt;good_echo+0x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0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1 b8 97 04 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0x80497b8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2895480"/>
            <a:ext cx="762120" cy="3048120"/>
          </a:xfrm>
          <a:custGeom>
            <a:avLst/>
            <a:gdLst/>
            <a:ahLst/>
            <a:rect l="l" t="t" r="r" b="b"/>
            <a:pathLst>
              <a:path w="640" h="2016">
                <a:moveTo>
                  <a:pt x="0" y="0"/>
                </a:moveTo>
                <a:cubicBezTo>
                  <a:pt x="192" y="80"/>
                  <a:pt x="384" y="160"/>
                  <a:pt x="480" y="336"/>
                </a:cubicBezTo>
                <a:cubicBezTo>
                  <a:pt x="576" y="512"/>
                  <a:pt x="640" y="776"/>
                  <a:pt x="576" y="1056"/>
                </a:cubicBezTo>
                <a:cubicBezTo>
                  <a:pt x="512" y="1336"/>
                  <a:pt x="176" y="1856"/>
                  <a:pt x="96" y="201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4880" y="510552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od_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27000" y="228600"/>
            <a:ext cx="7290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icious Use of Buffer Over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5486040"/>
            <a:ext cx="825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 string contains byte representation of executable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write return address with address of bu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r(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xecut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will jump to exploit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3416400"/>
            <a:ext cx="24382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ba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buf[64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bu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1971720"/>
            <a:ext cx="18288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o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21120" y="7491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all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29400" y="2819520"/>
            <a:ext cx="106668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29400" y="1600200"/>
            <a:ext cx="1066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72400" y="16002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89680" y="3200400"/>
            <a:ext cx="211320" cy="2209680"/>
          </a:xfrm>
          <a:custGeom>
            <a:avLst/>
            <a:gdLst>
              <a:gd name="textAreaLeft" fmla="*/ 0 w 211320"/>
              <a:gd name="textAreaRight" fmla="*/ 76320 w 211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29400" y="4788000"/>
            <a:ext cx="106668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48240" y="2273040"/>
            <a:ext cx="10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2730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52840" y="22089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97840" y="41284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64400" y="461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59320" y="4788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27600" y="4136400"/>
            <a:ext cx="106704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7600" y="3195720"/>
            <a:ext cx="1067040" cy="936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18080" y="28321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62480" y="29890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880" y="22860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Memory Lay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360" y="9144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stack (8MB lim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allocat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Linked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 routines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d into object code when first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ally allocat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arrays &amp; strings declared in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 machin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057400"/>
            <a:ext cx="10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ex digits of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505320"/>
            <a:ext cx="12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 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920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0292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290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8288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4080" y="15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4080" y="17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080" y="3381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4080" y="499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1523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4080" y="312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08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080" y="6324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28600"/>
            <a:ext cx="1447560" cy="640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1828800"/>
            <a:ext cx="144756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7242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58672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56272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029200"/>
            <a:ext cx="1447560" cy="5335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200400"/>
            <a:ext cx="1447560" cy="1523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408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28600"/>
            <a:ext cx="1447560" cy="160020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6172200"/>
            <a:ext cx="1447560" cy="45720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comment, .stab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stabstr, &amp;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1360" y="228600"/>
            <a:ext cx="772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its based on buffer over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600" y="9018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w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versions of the finger server (fingerd) us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read the argument sent by the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nger droh@cs.cm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m attacked fingerd server by sending phony argum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nger “exploit code  padding  new return addr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code: executed a root shell on the victim machine with a direct TCP connection to the attac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W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L exploited existing buffer overflow bug in AIM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code: returned 4-byte signature (the bytes at some location in the AIM client) to serve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icrosoft changed code to match signature, AOL changed signature loc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e: Wed, 11 Aug 1999 11:30:57 -0700 (PDT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: Phil Bucking &lt;philbucking@yahoo.com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ject: AOL exploiting buffer overrun bug in their own software!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: rms@pharlap.com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r. Smith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am writing you because I have discovered something that I think you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ght find interesting because you are an Internet security expert with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perience in this area. I have also tried to contact AOL but receiv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 respons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am a developer who has been working on a revolutionary new insta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ssaging client that should be released later this yea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appears that the AIM client has a buffer overrun bug. By itsel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might not be the end of the world, as MS surely has had its shar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t AOL is now *exploiting their own buffer overrun bug* to help i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s efforts to block MS Instant Messeng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ce you have significant credibility with the press I hope that yo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n use this information to help inform people that behind AOL'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iendly exterior they are nefariously compromising peoples' securit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cerely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il Buckin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under, Bucking Consultin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ilbucking@yahoo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5638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as later determined that this email originated from within Microsof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4267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Floating Poi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86: first computer to implement IEEE F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8087 FPU (floating point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: merged FPU and Integer Unit onto one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o add, multiply, and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data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ous control &amp; status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64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80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1447920"/>
            <a:ext cx="16761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d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9608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0" y="4343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4343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0" y="30481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543800" y="24382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0" y="3048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05920" y="3048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29400" y="4876920"/>
            <a:ext cx="190512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U Data Register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U register format (extended precis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1830240"/>
            <a:ext cx="3045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830240"/>
            <a:ext cx="914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1830240"/>
            <a:ext cx="4267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29120" y="1523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20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34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76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268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60840" y="4648320"/>
            <a:ext cx="2152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096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352680" y="5714640"/>
            <a:ext cx="28584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2590920"/>
            <a:ext cx="411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U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ly forms shallow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push too many, bottom values disapp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44480" y="56070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49528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52578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55627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2680" y="464832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3840" y="556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3840" y="5257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3840" y="4952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384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679840" y="228600"/>
            <a:ext cx="378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U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number of floating point instructions and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50 basic instruction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, store, add, multip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, cos, tan, arctan, and lo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instru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3840" y="3352680"/>
            <a:ext cx="8489520" cy="2056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d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ds  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ingle precision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muls 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0) &lt;- %st(0)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dd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1) &lt;- %st(0)+%st(1); p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nd p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451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Inner Product of Two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computing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processing workho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7600" y="2585880"/>
            <a:ext cx="3502080" cy="300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ipf (float x[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y[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result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+= x[i] * y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56680" y="1371600"/>
            <a:ext cx="5087880" cy="499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l %ebp              # set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sp,%eb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l %eb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8(%ebp),%ebx       # %ebx=&amp;x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2(%ebp),%ecx      # %ecx=&amp;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6(%ebp),%edx      # %edx=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ldz                    # push +0.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l %eax,%eax          # i=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 %edx,%eax          # if i&gt;=n d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ge .L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5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lds (%ebx,%eax,4)      # push x[i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muls (%ecx,%eax,4)     # st(0)*=y[i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addp                   # st(1)+=st(0);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 %eax               # i+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 %edx,%eax          # if i&lt;n repe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l .L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3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-4(%ebp),%ebx      # finish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bp, 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                 # st(0) =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er Product Stack Tr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8880" y="126360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z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16444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5200" y="16444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000" y="164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62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31240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92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0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88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5200" y="43434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0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397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727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88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+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5200" y="56386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0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896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81480" y="31240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26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194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22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864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78600" y="43434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194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831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1]*y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161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022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78600" y="56386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86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3480" y="6019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+x[1]*y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1720" y="806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88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1364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51240" y="228600"/>
            <a:ext cx="424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l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machine dependent (including kernel vers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partitioning: stack/data/text/heap/DLL found in most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Declaration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ation obscure, but very system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with Strang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to analyze nonstandard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hat happens when stack corrupted due to buffer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s to step through with G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32 Floating 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nge “shallow stack”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0640" y="228600"/>
            <a:ext cx="5562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Memor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023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7577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575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5573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000" y="1495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6000" y="3110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600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000" y="285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6000" y="445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6000" y="6053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55736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557360"/>
            <a:ext cx="1447920" cy="1191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74848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44356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03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47721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31719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5717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5680" y="1509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5680" y="312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5680" y="4738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5680" y="286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5680" y="44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5680" y="606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571760"/>
            <a:ext cx="144756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571760"/>
            <a:ext cx="1447560" cy="1807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6724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576252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545796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762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7862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1860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15858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5360" y="1523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536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5360" y="4753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5360" y="2881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5360" y="448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360" y="6081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58580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585800"/>
            <a:ext cx="1447920" cy="2430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48164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577692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47200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733920"/>
            <a:ext cx="1447920" cy="7477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762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48006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32004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16002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5400" y="153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5400" y="3152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767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5400" y="28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5400" y="4495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5400" y="6095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160020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1600200"/>
            <a:ext cx="144792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449568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79132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548640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5105520"/>
            <a:ext cx="1447920" cy="380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2971800"/>
            <a:ext cx="1447920" cy="1523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360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153280" y="4876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00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568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536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540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60520" y="228600"/>
            <a:ext cx="622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Alloc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244520"/>
            <a:ext cx="7010640" cy="447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big_array[1&lt;&lt;24];  /*  1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huge_array[1&lt;&lt;28];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beyo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1, *p2, *p3, *p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useless() {  return 0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1 &lt;&lt;28); 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1 &lt;&lt; 8);  /* 256 B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1 &lt;&lt;28); 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1 &lt;&lt; 8);  /* 256 B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ome print statements ..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371600"/>
            <a:ext cx="8534160" cy="161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break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point 1, 0x80483fc in main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print $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3 = (void *) 0xbffffb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4600" y="4267080"/>
            <a:ext cx="8254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3f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uld be re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bffff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1280" y="228600"/>
            <a:ext cx="612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the Stack and He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120" y="22860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ading of A Dynamic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914400"/>
            <a:ext cx="8534160" cy="300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disassemble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 function contains specified addr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print * (char *)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not access memory at address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break mall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, main () at q.c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       p1 = malloc(1 &lt;&lt;28);  /* 256 MB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mp of assembler code for function __libc_mall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0 &lt;__libc_malloc&gt;:     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1 &lt;__libc_malloc+1&gt;:   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3 &lt;__libc_malloc+3&gt;:   sub    $0x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191120"/>
            <a:ext cx="8254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ould be re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bffffb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lo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ed by __libc_mall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ked into memory at runtime – not present before program sta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143000"/>
            <a:ext cx="5105520" cy="447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es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bffff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50011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4010f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libc_mallo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400734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7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6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6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g_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8049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ge_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95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less(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3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41148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146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9144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480" y="852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0480" y="246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30480" y="408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30480" y="220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0480" y="3809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0480" y="5410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914400"/>
            <a:ext cx="144756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914400"/>
            <a:ext cx="1447560" cy="1810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38098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10552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480060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048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724280" y="5333760"/>
            <a:ext cx="198144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5029200"/>
            <a:ext cx="19814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648320"/>
            <a:ext cx="198144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4267080"/>
            <a:ext cx="1905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886200"/>
            <a:ext cx="1905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581280"/>
            <a:ext cx="19051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3200400"/>
            <a:ext cx="17524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819520"/>
            <a:ext cx="175248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438280"/>
            <a:ext cx="182880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057400"/>
            <a:ext cx="1828800" cy="175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676520"/>
            <a:ext cx="1752480" cy="167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800600" y="1066320"/>
            <a:ext cx="18288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048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0480" y="4510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3048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36760" y="228600"/>
            <a:ext cx="4470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Addr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25960" y="228600"/>
            <a:ext cx="269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oper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9400" y="884160"/>
            <a:ext cx="725220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)  []  -&gt;  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!  ~  ++  --  +  -  *  &amp;  (type)  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 /  %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  &gt;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  &lt;=  &gt;  &gt;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  !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  +=  -=  *=  /=  %=  &amp;=  ^=  !=  &lt;&lt;=  &gt;&gt;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Unary +, -, and * have higher precedence than binary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95560" y="228600"/>
            <a:ext cx="4952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pointer decla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8120" y="1054080"/>
            <a:ext cx="840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[1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(p[13]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*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a pointer to an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p)[1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an array[13] of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f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function returning a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f)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pointer to a function returning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(*f())[13])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function returning ptr to an array[1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inters to functions returning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(*x[3])())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is an array[3] of pointers  to fun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pointers to array[5] of 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4:01:04Z</dcterms:created>
  <dc:creator/>
  <dc:description/>
  <dc:language>en-US</dc:language>
  <cp:lastModifiedBy>Gregory Kesden</cp:lastModifiedBy>
  <cp:lastPrinted>2001-09-25T17:18:08Z</cp:lastPrinted>
  <dcterms:modified xsi:type="dcterms:W3CDTF">2002-02-12T07:56:29Z</dcterms:modified>
  <cp:revision>52</cp:revision>
  <dc:subject/>
  <dc:title>Structured Data II</dc:title>
</cp:coreProperties>
</file>