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694E9D83-B8FB-4400-A22E-A5E80AB8431A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1447560"/>
            <a:ext cx="485136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Language V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opic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962520"/>
            <a:ext cx="43560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12 – 3.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24 and 3.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Worm attacks thousands of Internet ho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launches MSN Messenger (instant messaging syste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enger clients can access popular AOL Instant Messaging Service (AIM)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72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5560" y="33642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22160" y="54216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19000" y="437076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9308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0692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4114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81120" y="518148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teriously, Messenger clients can no longer access AIM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and AOL begin the IM wa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L changes server to disallow Messenger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makes changes to clients to defeat AOL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3 such skirm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nix functions,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o not check argument s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arget buffers to over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ulnerable Buff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343400"/>
            <a:ext cx="44956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5410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Exec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0666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28600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5812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276720"/>
            <a:ext cx="70866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990720"/>
            <a:ext cx="2651760" cy="3123720"/>
            <a:chOff x="380880" y="990720"/>
            <a:chExt cx="2651760" cy="3123720"/>
          </a:xfrm>
        </p:grpSpPr>
        <p:sp>
          <p:nvSpPr>
            <p:cNvPr id="212" name=""/>
            <p:cNvSpPr/>
            <p:nvPr/>
          </p:nvSpPr>
          <p:spPr>
            <a:xfrm>
              <a:off x="380880" y="213336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243828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76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2640" y="2743200"/>
              <a:ext cx="38124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3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69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04760" y="25905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4120" y="2438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243828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2590920"/>
            <a:ext cx="2499480" cy="3124080"/>
            <a:chOff x="914400" y="2590920"/>
            <a:chExt cx="2499480" cy="3124080"/>
          </a:xfrm>
        </p:grpSpPr>
        <p:sp>
          <p:nvSpPr>
            <p:cNvPr id="225" name=""/>
            <p:cNvSpPr/>
            <p:nvPr/>
          </p:nvSpPr>
          <p:spPr>
            <a:xfrm>
              <a:off x="914400" y="373392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403884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044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437920" y="4191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536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403884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259092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715000" y="2590920"/>
            <a:ext cx="1523880" cy="3124080"/>
            <a:chOff x="5715000" y="2590920"/>
            <a:chExt cx="1523880" cy="3124080"/>
          </a:xfrm>
        </p:grpSpPr>
        <p:grpSp>
          <p:nvGrpSpPr>
            <p:cNvPr id="237" name=""/>
            <p:cNvGrpSpPr/>
            <p:nvPr/>
          </p:nvGrpSpPr>
          <p:grpSpPr>
            <a:xfrm>
              <a:off x="5715000" y="4038480"/>
              <a:ext cx="1523520" cy="304560"/>
              <a:chOff x="5715000" y="4038480"/>
              <a:chExt cx="15235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571500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588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7676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764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715000" y="3733920"/>
              <a:ext cx="1523520" cy="304560"/>
              <a:chOff x="5715000" y="3733920"/>
              <a:chExt cx="1523520" cy="3045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9588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676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5764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676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40384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5909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67040" y="20574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5867280"/>
            <a:ext cx="6629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212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666880"/>
            <a:ext cx="76212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23880" y="2286000"/>
            <a:ext cx="2499480" cy="3124080"/>
            <a:chOff x="1523880" y="2286000"/>
            <a:chExt cx="2499480" cy="3124080"/>
          </a:xfrm>
        </p:grpSpPr>
        <p:sp>
          <p:nvSpPr>
            <p:cNvPr id="260" name=""/>
            <p:cNvSpPr/>
            <p:nvPr/>
          </p:nvSpPr>
          <p:spPr>
            <a:xfrm>
              <a:off x="1523880" y="342900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73392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4760" y="403848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920" y="4038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47400" y="3886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484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73392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28600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194000" y="2209680"/>
            <a:ext cx="1523880" cy="3124080"/>
            <a:chOff x="4194000" y="2209680"/>
            <a:chExt cx="1523880" cy="3124080"/>
          </a:xfrm>
        </p:grpSpPr>
        <p:grpSp>
          <p:nvGrpSpPr>
            <p:cNvPr id="272" name=""/>
            <p:cNvGrpSpPr/>
            <p:nvPr/>
          </p:nvGrpSpPr>
          <p:grpSpPr>
            <a:xfrm>
              <a:off x="4194000" y="3657240"/>
              <a:ext cx="1523520" cy="304560"/>
              <a:chOff x="4194000" y="3657240"/>
              <a:chExt cx="1523520" cy="304560"/>
            </a:xfrm>
          </p:grpSpPr>
          <p:sp>
            <p:nvSpPr>
              <p:cNvPr id="273" name=""/>
              <p:cNvSpPr/>
              <p:nvPr/>
            </p:nvSpPr>
            <p:spPr>
              <a:xfrm>
                <a:off x="41940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748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57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366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94000" y="3352680"/>
              <a:ext cx="1523520" cy="304560"/>
              <a:chOff x="4194000" y="3352680"/>
              <a:chExt cx="1523520" cy="304560"/>
            </a:xfrm>
          </p:grpSpPr>
          <p:sp>
            <p:nvSpPr>
              <p:cNvPr id="278" name=""/>
              <p:cNvSpPr/>
              <p:nvPr/>
            </p:nvSpPr>
            <p:spPr>
              <a:xfrm>
                <a:off x="41940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48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557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366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194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48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57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7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40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40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16360" y="172728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116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7000" y="5370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629400" y="2209680"/>
            <a:ext cx="1523880" cy="3124080"/>
            <a:chOff x="6629400" y="2209680"/>
            <a:chExt cx="1523880" cy="3124080"/>
          </a:xfrm>
        </p:grpSpPr>
        <p:grpSp>
          <p:nvGrpSpPr>
            <p:cNvPr id="292" name=""/>
            <p:cNvGrpSpPr/>
            <p:nvPr/>
          </p:nvGrpSpPr>
          <p:grpSpPr>
            <a:xfrm>
              <a:off x="6629400" y="3657240"/>
              <a:ext cx="1523520" cy="304560"/>
              <a:chOff x="6629400" y="3657240"/>
              <a:chExt cx="1523520" cy="304560"/>
            </a:xfrm>
          </p:grpSpPr>
          <p:sp>
            <p:nvSpPr>
              <p:cNvPr id="293" name=""/>
              <p:cNvSpPr/>
              <p:nvPr/>
            </p:nvSpPr>
            <p:spPr>
              <a:xfrm>
                <a:off x="66294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102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720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629400" y="3352680"/>
              <a:ext cx="1523520" cy="304560"/>
              <a:chOff x="6629400" y="3352680"/>
              <a:chExt cx="1523520" cy="304560"/>
            </a:xfrm>
          </p:grpSpPr>
          <p:sp>
            <p:nvSpPr>
              <p:cNvPr id="298" name=""/>
              <p:cNvSpPr/>
              <p:nvPr/>
            </p:nvSpPr>
            <p:spPr>
              <a:xfrm>
                <a:off x="66294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102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911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720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6629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102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911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2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294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4600" y="990720"/>
            <a:ext cx="2499120" cy="3124080"/>
            <a:chOff x="444600" y="990720"/>
            <a:chExt cx="2499120" cy="3124080"/>
          </a:xfrm>
        </p:grpSpPr>
        <p:sp>
          <p:nvSpPr>
            <p:cNvPr id="310" name=""/>
            <p:cNvSpPr/>
            <p:nvPr/>
          </p:nvSpPr>
          <p:spPr>
            <a:xfrm>
              <a:off x="444600" y="213372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4600" y="243864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60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12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0636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8724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7028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68120" y="2590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7520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600" y="243864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600" y="99072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334120" y="1066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581280" y="990720"/>
            <a:ext cx="1523880" cy="3124080"/>
            <a:chOff x="3581280" y="990720"/>
            <a:chExt cx="1523880" cy="3124080"/>
          </a:xfrm>
        </p:grpSpPr>
        <p:grpSp>
          <p:nvGrpSpPr>
            <p:cNvPr id="323" name=""/>
            <p:cNvGrpSpPr/>
            <p:nvPr/>
          </p:nvGrpSpPr>
          <p:grpSpPr>
            <a:xfrm>
              <a:off x="3581280" y="2438280"/>
              <a:ext cx="1523520" cy="304560"/>
              <a:chOff x="3581280" y="2438280"/>
              <a:chExt cx="1523520" cy="304560"/>
            </a:xfrm>
          </p:grpSpPr>
          <p:sp>
            <p:nvSpPr>
              <p:cNvPr id="324" name=""/>
              <p:cNvSpPr/>
              <p:nvPr/>
            </p:nvSpPr>
            <p:spPr>
              <a:xfrm>
                <a:off x="358128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216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04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392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581280" y="2133720"/>
              <a:ext cx="1523520" cy="304560"/>
              <a:chOff x="3581280" y="2133720"/>
              <a:chExt cx="152352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358128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216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04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392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81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16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040" y="27432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1280" y="24382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12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80483e4 &lt;_init+0x5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72120" y="2438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806560" y="2590200"/>
            <a:ext cx="762120" cy="198108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7440" y="228600"/>
            <a:ext cx="690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51040" y="1523880"/>
            <a:ext cx="2499120" cy="3124080"/>
            <a:chOff x="851040" y="1523880"/>
            <a:chExt cx="2499120" cy="3124080"/>
          </a:xfrm>
        </p:grpSpPr>
        <p:sp>
          <p:nvSpPr>
            <p:cNvPr id="345" name=""/>
            <p:cNvSpPr/>
            <p:nvPr/>
          </p:nvSpPr>
          <p:spPr>
            <a:xfrm>
              <a:off x="851040" y="266688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1040" y="297180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3156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280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9368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76720" y="3276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7456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816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297180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1040" y="152388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1523880"/>
            <a:ext cx="1523880" cy="3124080"/>
            <a:chOff x="4191120" y="1523880"/>
            <a:chExt cx="1523880" cy="3124080"/>
          </a:xfrm>
        </p:grpSpPr>
        <p:grpSp>
          <p:nvGrpSpPr>
            <p:cNvPr id="357" name=""/>
            <p:cNvGrpSpPr/>
            <p:nvPr/>
          </p:nvGrpSpPr>
          <p:grpSpPr>
            <a:xfrm>
              <a:off x="4191120" y="2971440"/>
              <a:ext cx="1523520" cy="304560"/>
              <a:chOff x="4191120" y="2971440"/>
              <a:chExt cx="1523520" cy="30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419112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88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376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191120" y="2666880"/>
              <a:ext cx="1523520" cy="304560"/>
              <a:chOff x="4191120" y="2666880"/>
              <a:chExt cx="1523520" cy="304560"/>
            </a:xfrm>
          </p:grpSpPr>
          <p:sp>
            <p:nvSpPr>
              <p:cNvPr id="363" name=""/>
              <p:cNvSpPr/>
              <p:nvPr/>
            </p:nvSpPr>
            <p:spPr>
              <a:xfrm>
                <a:off x="419112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200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5288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376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191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200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32763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4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1120" y="29714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1120" y="15238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019920" y="1371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47880" y="5562720"/>
            <a:ext cx="710676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fc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 3c 33 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b   $0xa,(%ebx,%esi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5 a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ne    80485b0 &lt;good_echo+0x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1 b8 97 04 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80497b8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2895480"/>
            <a:ext cx="762120" cy="304812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0" y="0"/>
                </a:moveTo>
                <a:cubicBezTo>
                  <a:pt x="192" y="80"/>
                  <a:pt x="384" y="160"/>
                  <a:pt x="480" y="336"/>
                </a:cubicBezTo>
                <a:cubicBezTo>
                  <a:pt x="576" y="512"/>
                  <a:pt x="640" y="776"/>
                  <a:pt x="576" y="1056"/>
                </a:cubicBezTo>
                <a:cubicBezTo>
                  <a:pt x="512" y="1336"/>
                  <a:pt x="176" y="1856"/>
                  <a:pt x="96" y="201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4880" y="510552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od_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icious Use of Buffer Over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 string contains byte representation of executabl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write return address with address of bu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r(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xecu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will jump to exploit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360" y="9144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0292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290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828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4080" y="15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4080" y="17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080" y="3381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4080" y="499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40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08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080" y="6324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28600"/>
            <a:ext cx="1447560" cy="640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828800"/>
            <a:ext cx="144756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724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867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5627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029200"/>
            <a:ext cx="1447560" cy="5335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200400"/>
            <a:ext cx="144756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08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28600"/>
            <a:ext cx="1447560" cy="1600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172200"/>
            <a:ext cx="1447560" cy="457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comment, .stab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stabstr, &amp;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s based on buffer over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600" y="9018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versions of the finger server (fingerd) us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read the argument sent by the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droh@cs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m attacked fingerd server by sending phony argum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“exploit code  padding  new return addr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executed a root shell on the victim machine with a direct TCP connection to the attac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 exploited existing buffer overflow bug in AIM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icrosoft changed code to match signature, AOL changed signature lo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86: first computer to implement IEEE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8087 FPU (floating point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: merged FPU and Integer Unit onto one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o add, multiply, and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control &amp; status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80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Data Register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1830240"/>
            <a:ext cx="3045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30240"/>
            <a:ext cx="914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1830240"/>
            <a:ext cx="4267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2912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34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76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268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60840" y="4648320"/>
            <a:ext cx="2152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096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352680" y="5714640"/>
            <a:ext cx="28584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forms shallow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push too many, bottom values disap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44480" y="56070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49528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52578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5627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46483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3840" y="556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3840" y="5257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3840" y="4952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384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50 basic instruction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, store, add,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, cos, tan, arctan, and lo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3840" y="3352680"/>
            <a:ext cx="8489520" cy="205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451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omputing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processing workh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7600" y="2585880"/>
            <a:ext cx="350208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er Product Stack Tr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machine dependent (including kernel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artitioning: stack/data/text/heap/DLL found in mos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tion obscure, but very syst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to analyze nonstandard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hat happens when stack corrupted due to buffer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to step through with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ge “shallow stack”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023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7577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575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5573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000" y="1495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6000" y="3110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600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000" y="285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000" y="445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000" y="6053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55736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557360"/>
            <a:ext cx="1447920" cy="1191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4848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44356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03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47721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1719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5717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5680" y="1509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56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5680" y="4738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5680" y="286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5680" y="44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5680" y="606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57176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571760"/>
            <a:ext cx="1447560" cy="1807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6724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576252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545796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786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1860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15858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536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536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5360" y="4753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5360" y="288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5360" y="448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360" y="608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5858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585800"/>
            <a:ext cx="1447920" cy="2430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48164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577692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4720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733920"/>
            <a:ext cx="1447920" cy="7477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8006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32004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1600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5400" y="15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5400" y="3152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767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5400" y="28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540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5400" y="6095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6002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1600200"/>
            <a:ext cx="144792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449568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79132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54864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05520"/>
            <a:ext cx="1447920" cy="380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2971800"/>
            <a:ext cx="144792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1532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0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568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536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54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llo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371600"/>
            <a:ext cx="8534160" cy="161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point 1, 0x80483fc in main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3 = (void *) 0xbffffb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600" y="4267080"/>
            <a:ext cx="825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f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the Stack and He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120" y="2286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ading of A Dynamic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914400"/>
            <a:ext cx="853416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disassemble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function contains specified addr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print * (char *)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not access memory at address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break mal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main () at q.c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      p1 = malloc(1 &lt;&lt;28);  /* 256 MB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__libc_mall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0 &lt;__libc_malloc&gt;:  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1 &lt;__libc_malloc+1&gt;: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3 &lt;__libc_malloc+3&gt;: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191120"/>
            <a:ext cx="8254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o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ed by __libc_mall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ked into memory at runtime – not present before program sta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50011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10f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libc_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0734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7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8049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95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4114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146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9144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48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0480" y="24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30480" y="408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0480" y="220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0480" y="3809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0480" y="54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91440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914400"/>
            <a:ext cx="1447560" cy="1810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8098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048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048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0480" y="45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36760" y="228600"/>
            <a:ext cx="4470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25960" y="228600"/>
            <a:ext cx="269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oper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400" y="884160"/>
            <a:ext cx="725220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  []  -&gt;  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!  ~  ++  --  +  -  *  &amp;  (type)  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 /  %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  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  &lt;=  &gt;  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 !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 +=  -=  *=  /=  %=  &amp;=  ^=  !=  &lt;&lt;=  &gt;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Unary +, -, and * have higher precedence than bina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95560" y="22860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pointer decla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01:04Z</dcterms:created>
  <dc:creator/>
  <dc:description/>
  <dc:language>en-US</dc:language>
  <cp:lastModifiedBy>Gregory Kesden</cp:lastModifiedBy>
  <cp:lastPrinted>2001-09-25T17:18:08Z</cp:lastPrinted>
  <dcterms:modified xsi:type="dcterms:W3CDTF">2002-02-12T07:56:29Z</dcterms:modified>
  <cp:revision>52</cp:revision>
  <dc:subject/>
  <dc:title>Structured Data II</dc:title>
</cp:coreProperties>
</file>