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760" y="91440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460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760" y="3780360"/>
            <a:ext cx="26578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8480" y="3149280"/>
            <a:ext cx="1067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78036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914400"/>
            <a:ext cx="4028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4600" y="3780360"/>
            <a:ext cx="82548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1067040" cy="421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28960" y="6527880"/>
            <a:ext cx="3053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15-213 S’02 (Based on CS 213 F’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92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51920" y="6527880"/>
            <a:ext cx="123696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– </a:t>
            </a:r>
            <a:fld id="{1099AFBB-1908-400C-AEBB-420F8DE5218C}" type="slidenum">
              <a:rPr b="0" lang="en-US" sz="14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919191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1880" y="64245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1447560"/>
            <a:ext cx="4851360" cy="1617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hine Language V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scellaneous Topic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bruary 12,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2320" y="3962520"/>
            <a:ext cx="43560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ing 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Over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: 3.12 – 3.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: 3.24 and 3.3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09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4400" y="762120"/>
            <a:ext cx="15523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-2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4600" y="914040"/>
            <a:ext cx="8254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Worm attacks thousands of Internet ho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launches MSN Messenger (instant messaging syste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enger clients can access popular AOL Instant Messaging Service (AIM)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72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5560" y="33642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22160" y="542160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19000" y="4370760"/>
            <a:ext cx="109980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93080" y="4370760"/>
            <a:ext cx="1220760" cy="90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06920" y="4816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4114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81120" y="518148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 Worm and IM War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teriously, Messenger clients can no longer access AIM serv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and AOL begin the IM wa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L changes server to disallow Messenger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makes changes to clients to defeat AOL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13 such skirm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i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nix functions,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o not check argument siz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arget buffers to overf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68480" y="228600"/>
            <a:ext cx="52070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ulnerable Buffer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343400"/>
            <a:ext cx="4495680" cy="17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828800"/>
            <a:ext cx="541008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Exec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10666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28600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581280"/>
            <a:ext cx="5410080" cy="91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20760" y="228600"/>
            <a:ext cx="4902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276720"/>
            <a:ext cx="7086600" cy="283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0880" y="990720"/>
            <a:ext cx="2651760" cy="3123720"/>
            <a:chOff x="380880" y="990720"/>
            <a:chExt cx="2651760" cy="3123720"/>
          </a:xfrm>
        </p:grpSpPr>
        <p:sp>
          <p:nvSpPr>
            <p:cNvPr id="212" name=""/>
            <p:cNvSpPr/>
            <p:nvPr/>
          </p:nvSpPr>
          <p:spPr>
            <a:xfrm>
              <a:off x="380880" y="213336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880" y="243828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76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2640" y="2743200"/>
              <a:ext cx="38124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3880" y="2743200"/>
              <a:ext cx="380880" cy="304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692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04760" y="25905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4120" y="2438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243828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8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4400" y="2590920"/>
            <a:ext cx="2499480" cy="3124080"/>
            <a:chOff x="914400" y="2590920"/>
            <a:chExt cx="2499480" cy="3124080"/>
          </a:xfrm>
        </p:grpSpPr>
        <p:sp>
          <p:nvSpPr>
            <p:cNvPr id="225" name=""/>
            <p:cNvSpPr/>
            <p:nvPr/>
          </p:nvSpPr>
          <p:spPr>
            <a:xfrm>
              <a:off x="914400" y="373392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403884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7652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4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044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437920" y="4191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5360" y="40388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403884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259092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715000" y="2590920"/>
            <a:ext cx="1523880" cy="3124080"/>
            <a:chOff x="5715000" y="2590920"/>
            <a:chExt cx="1523880" cy="3124080"/>
          </a:xfrm>
        </p:grpSpPr>
        <p:grpSp>
          <p:nvGrpSpPr>
            <p:cNvPr id="237" name=""/>
            <p:cNvGrpSpPr/>
            <p:nvPr/>
          </p:nvGrpSpPr>
          <p:grpSpPr>
            <a:xfrm>
              <a:off x="5715000" y="4038480"/>
              <a:ext cx="1523520" cy="304560"/>
              <a:chOff x="5715000" y="4038480"/>
              <a:chExt cx="15235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571500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588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76760" y="40384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7640" y="40384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5715000" y="3733920"/>
              <a:ext cx="1523520" cy="304560"/>
              <a:chOff x="5715000" y="3733920"/>
              <a:chExt cx="1523520" cy="3045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9588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6760" y="37339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57640" y="37339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588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6760" y="43434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43434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40384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5909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067040" y="20574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93840" y="152280"/>
            <a:ext cx="4813560" cy="228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5867280"/>
            <a:ext cx="6629400" cy="580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2120" y="4038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666880"/>
            <a:ext cx="76212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523880" y="2286000"/>
            <a:ext cx="2499480" cy="3124080"/>
            <a:chOff x="1523880" y="2286000"/>
            <a:chExt cx="2499480" cy="3124080"/>
          </a:xfrm>
        </p:grpSpPr>
        <p:sp>
          <p:nvSpPr>
            <p:cNvPr id="260" name=""/>
            <p:cNvSpPr/>
            <p:nvPr/>
          </p:nvSpPr>
          <p:spPr>
            <a:xfrm>
              <a:off x="1523880" y="3429000"/>
              <a:ext cx="1523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733920"/>
              <a:ext cx="1523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04760" y="403848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66880" y="403848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920" y="4038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47400" y="38862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484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733920"/>
              <a:ext cx="152388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286000"/>
              <a:ext cx="152388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194000" y="2209680"/>
            <a:ext cx="1523880" cy="3124080"/>
            <a:chOff x="4194000" y="2209680"/>
            <a:chExt cx="1523880" cy="3124080"/>
          </a:xfrm>
        </p:grpSpPr>
        <p:grpSp>
          <p:nvGrpSpPr>
            <p:cNvPr id="272" name=""/>
            <p:cNvGrpSpPr/>
            <p:nvPr/>
          </p:nvGrpSpPr>
          <p:grpSpPr>
            <a:xfrm>
              <a:off x="4194000" y="3657240"/>
              <a:ext cx="1523520" cy="304560"/>
              <a:chOff x="4194000" y="3657240"/>
              <a:chExt cx="1523520" cy="304560"/>
            </a:xfrm>
          </p:grpSpPr>
          <p:sp>
            <p:nvSpPr>
              <p:cNvPr id="273" name=""/>
              <p:cNvSpPr/>
              <p:nvPr/>
            </p:nvSpPr>
            <p:spPr>
              <a:xfrm>
                <a:off x="41940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748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57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366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194000" y="3352680"/>
              <a:ext cx="1523520" cy="304560"/>
              <a:chOff x="4194000" y="3352680"/>
              <a:chExt cx="1523520" cy="304560"/>
            </a:xfrm>
          </p:grpSpPr>
          <p:sp>
            <p:nvSpPr>
              <p:cNvPr id="278" name=""/>
              <p:cNvSpPr/>
              <p:nvPr/>
            </p:nvSpPr>
            <p:spPr>
              <a:xfrm>
                <a:off x="41940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48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557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366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194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48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57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70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940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40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816360" y="172728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116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7000" y="5370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629400" y="2209680"/>
            <a:ext cx="1523880" cy="3124080"/>
            <a:chOff x="6629400" y="2209680"/>
            <a:chExt cx="1523880" cy="3124080"/>
          </a:xfrm>
        </p:grpSpPr>
        <p:grpSp>
          <p:nvGrpSpPr>
            <p:cNvPr id="292" name=""/>
            <p:cNvGrpSpPr/>
            <p:nvPr/>
          </p:nvGrpSpPr>
          <p:grpSpPr>
            <a:xfrm>
              <a:off x="6629400" y="3657240"/>
              <a:ext cx="1523520" cy="304560"/>
              <a:chOff x="6629400" y="3657240"/>
              <a:chExt cx="1523520" cy="304560"/>
            </a:xfrm>
          </p:grpSpPr>
          <p:sp>
            <p:nvSpPr>
              <p:cNvPr id="293" name=""/>
              <p:cNvSpPr/>
              <p:nvPr/>
            </p:nvSpPr>
            <p:spPr>
              <a:xfrm>
                <a:off x="662940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1028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91160" y="36572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72040" y="36572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629400" y="3352680"/>
              <a:ext cx="1523520" cy="304560"/>
              <a:chOff x="6629400" y="3352680"/>
              <a:chExt cx="1523520" cy="304560"/>
            </a:xfrm>
          </p:grpSpPr>
          <p:sp>
            <p:nvSpPr>
              <p:cNvPr id="298" name=""/>
              <p:cNvSpPr/>
              <p:nvPr/>
            </p:nvSpPr>
            <p:spPr>
              <a:xfrm>
                <a:off x="662940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1028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91160" y="33526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772040" y="33526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6629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1028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91160" y="39621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2400" y="39621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36572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29400" y="22096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99920" y="228600"/>
            <a:ext cx="75438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 #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4600" y="990720"/>
            <a:ext cx="2499120" cy="3124080"/>
            <a:chOff x="444600" y="990720"/>
            <a:chExt cx="2499120" cy="3124080"/>
          </a:xfrm>
        </p:grpSpPr>
        <p:sp>
          <p:nvSpPr>
            <p:cNvPr id="310" name=""/>
            <p:cNvSpPr/>
            <p:nvPr/>
          </p:nvSpPr>
          <p:spPr>
            <a:xfrm>
              <a:off x="444600" y="213372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4600" y="243864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60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12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0636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87240" y="274320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7028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68120" y="2590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75200" y="243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600" y="243864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600" y="99072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334120" y="10666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581280" y="990720"/>
            <a:ext cx="1523880" cy="3124080"/>
            <a:chOff x="3581280" y="990720"/>
            <a:chExt cx="1523880" cy="3124080"/>
          </a:xfrm>
        </p:grpSpPr>
        <p:grpSp>
          <p:nvGrpSpPr>
            <p:cNvPr id="323" name=""/>
            <p:cNvGrpSpPr/>
            <p:nvPr/>
          </p:nvGrpSpPr>
          <p:grpSpPr>
            <a:xfrm>
              <a:off x="3581280" y="2438280"/>
              <a:ext cx="1523520" cy="304560"/>
              <a:chOff x="3581280" y="2438280"/>
              <a:chExt cx="1523520" cy="304560"/>
            </a:xfrm>
          </p:grpSpPr>
          <p:sp>
            <p:nvSpPr>
              <p:cNvPr id="324" name=""/>
              <p:cNvSpPr/>
              <p:nvPr/>
            </p:nvSpPr>
            <p:spPr>
              <a:xfrm>
                <a:off x="358128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b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6216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040" y="24382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3920" y="24382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581280" y="2133720"/>
              <a:ext cx="1523520" cy="304560"/>
              <a:chOff x="3581280" y="2133720"/>
              <a:chExt cx="152352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358128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216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040" y="213372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3920" y="2133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4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81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6216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3040" y="274320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4280" y="274320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1280" y="243828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81280" y="99072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80483e4 &lt;_init+0x5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72120" y="2438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8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806560" y="2590200"/>
            <a:ext cx="762120" cy="198108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960"/>
                </a:moveTo>
                <a:cubicBezTo>
                  <a:pt x="352" y="928"/>
                  <a:pt x="224" y="896"/>
                  <a:pt x="144" y="816"/>
                </a:cubicBezTo>
                <a:cubicBezTo>
                  <a:pt x="64" y="736"/>
                  <a:pt x="0" y="600"/>
                  <a:pt x="0" y="480"/>
                </a:cubicBezTo>
                <a:cubicBezTo>
                  <a:pt x="0" y="360"/>
                  <a:pt x="72" y="176"/>
                  <a:pt x="144" y="96"/>
                </a:cubicBezTo>
                <a:cubicBezTo>
                  <a:pt x="216" y="16"/>
                  <a:pt x="324" y="8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7440" y="228600"/>
            <a:ext cx="690912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 Overflow Stack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851040" y="1523880"/>
            <a:ext cx="2499120" cy="3124080"/>
            <a:chOff x="851040" y="1523880"/>
            <a:chExt cx="2499120" cy="3124080"/>
          </a:xfrm>
        </p:grpSpPr>
        <p:sp>
          <p:nvSpPr>
            <p:cNvPr id="345" name=""/>
            <p:cNvSpPr/>
            <p:nvPr/>
          </p:nvSpPr>
          <p:spPr>
            <a:xfrm>
              <a:off x="851040" y="2666880"/>
              <a:ext cx="1523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1040" y="2971800"/>
              <a:ext cx="152352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3156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1280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93680" y="3276360"/>
              <a:ext cx="38052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76720" y="32763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74560" y="3124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81640" y="2971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2971800"/>
              <a:ext cx="1523520" cy="1676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1040" y="1523880"/>
              <a:ext cx="15235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191120" y="1523880"/>
            <a:ext cx="1523880" cy="3124080"/>
            <a:chOff x="4191120" y="1523880"/>
            <a:chExt cx="1523880" cy="3124080"/>
          </a:xfrm>
        </p:grpSpPr>
        <p:grpSp>
          <p:nvGrpSpPr>
            <p:cNvPr id="357" name=""/>
            <p:cNvGrpSpPr/>
            <p:nvPr/>
          </p:nvGrpSpPr>
          <p:grpSpPr>
            <a:xfrm>
              <a:off x="4191120" y="2971440"/>
              <a:ext cx="1523520" cy="304560"/>
              <a:chOff x="4191120" y="2971440"/>
              <a:chExt cx="1523520" cy="30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419112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52880" y="297144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33760" y="29714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3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191120" y="2666880"/>
              <a:ext cx="1523520" cy="304560"/>
              <a:chOff x="4191120" y="2666880"/>
              <a:chExt cx="1523520" cy="304560"/>
            </a:xfrm>
          </p:grpSpPr>
          <p:sp>
            <p:nvSpPr>
              <p:cNvPr id="363" name=""/>
              <p:cNvSpPr/>
              <p:nvPr/>
            </p:nvSpPr>
            <p:spPr>
              <a:xfrm>
                <a:off x="419112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200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52880" y="2666880"/>
                <a:ext cx="38052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33760" y="266688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4191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200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3276360"/>
              <a:ext cx="38124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4120" y="3276360"/>
              <a:ext cx="3808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1120" y="2971440"/>
              <a:ext cx="1523880" cy="1676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91120" y="1523880"/>
              <a:ext cx="1523880" cy="1447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019920" y="1371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47880" y="5562720"/>
            <a:ext cx="7106760" cy="824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5fc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 3c 33 0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mpb   $0xa,(%ebx,%esi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0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5 a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ne    80485b0 &lt;good_echo+0x10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048602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1 b8 97 04 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0x80497b8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2895480"/>
            <a:ext cx="762120" cy="304812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0" y="0"/>
                </a:moveTo>
                <a:cubicBezTo>
                  <a:pt x="192" y="80"/>
                  <a:pt x="384" y="160"/>
                  <a:pt x="480" y="336"/>
                </a:cubicBezTo>
                <a:cubicBezTo>
                  <a:pt x="576" y="512"/>
                  <a:pt x="640" y="776"/>
                  <a:pt x="576" y="1056"/>
                </a:cubicBezTo>
                <a:cubicBezTo>
                  <a:pt x="512" y="1336"/>
                  <a:pt x="176" y="1856"/>
                  <a:pt x="96" y="201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4880" y="5105520"/>
            <a:ext cx="21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od_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7000" y="228600"/>
            <a:ext cx="72900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licious Use of Buffer Overfl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 string contains byte representation of executabl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write return address with address of bu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02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r(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xecu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will jump to exploit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8240" y="227304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66680" y="2730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52840" y="22089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97840" y="41284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64400" y="461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9320" y="4788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27600" y="413640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880" y="228600"/>
            <a:ext cx="48513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Layo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360" y="9144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ime stack (8MB lim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allocated sto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cal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Linked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 routines (e.g.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into object code when first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cally alloca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arrays &amp; strings declared in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able machin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760" indent="-219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324480"/>
            <a:ext cx="1905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057400"/>
            <a:ext cx="10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ex digits of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505320"/>
            <a:ext cx="12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 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920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0292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290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828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4080" y="15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4080" y="17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080" y="3381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4080" y="499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40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408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080" y="6324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228600"/>
            <a:ext cx="1447560" cy="640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828800"/>
            <a:ext cx="144756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724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58672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5627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029200"/>
            <a:ext cx="1447560" cy="5335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200400"/>
            <a:ext cx="144756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4080" y="6019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28600"/>
            <a:ext cx="1447560" cy="1600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6172200"/>
            <a:ext cx="1447560" cy="45720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comment, .stab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stabstr, &amp;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1360" y="228600"/>
            <a:ext cx="77212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s based on buffer over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600" y="9018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versions of the finger server (fingerd) us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read the argument sent by the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droh@cs.cm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m attacked fingerd server by sending phony argum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finger “exploit code  padding  new return addr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executed a root shell on the victim machine with a direct TCP connection to the attac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L exploited existing buffer overflow bug in AIM cl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icrosoft changed code to match signature, AOL changed signature lo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12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4267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86: first computer to implement IEEE F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8087 FPU (floating point u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: merged FPU and Integer Unit onto one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o add, multiply, and div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ating point data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ous control &amp; status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32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64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precision (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: 80 b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43434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304812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543800" y="2438280"/>
            <a:ext cx="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3048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41400" y="228600"/>
            <a:ext cx="546120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Data Register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1830240"/>
            <a:ext cx="30456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830240"/>
            <a:ext cx="914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1830240"/>
            <a:ext cx="4267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29120" y="1523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34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7760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2680" y="1525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60840" y="4648320"/>
            <a:ext cx="2152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096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352680" y="5714640"/>
            <a:ext cx="28584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ly forms shallow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all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push too many, bottom values disapp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44480" y="56070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49528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52578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55627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46483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3840" y="556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3840" y="5257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3840" y="4952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384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79840" y="228600"/>
            <a:ext cx="37843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PU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50 basic instruction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, store, add, multip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, cos, tan, arctan, and log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3840" y="3352680"/>
            <a:ext cx="8489520" cy="205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4800"/>
                <a:tab algn="l" pos="4516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4515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oating Point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ecision arithm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computing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processing workho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7600" y="2585880"/>
            <a:ext cx="350208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56680" y="1371600"/>
            <a:ext cx="5087880" cy="4995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79096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ner Product Stack Tr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5200" y="16444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00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92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0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52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0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27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52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0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81480" y="3124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264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1940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7860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1940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1616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78600" y="56386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9860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348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72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88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1364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51240" y="228600"/>
            <a:ext cx="42415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 Observ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machine dependent (including kernel ver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partitioning: stack/data/text/heap/DLL found in most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Declarations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ation obscure, but very system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to analyze nonstandard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165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hat happens when stack corrupted due to buffer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s to step through with G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nge “shallow stack”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0640" y="228600"/>
            <a:ext cx="556272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 Memory Allo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023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7577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575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55736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000" y="1495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6000" y="3110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600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000" y="285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6000" y="4452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6000" y="6053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55736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557360"/>
            <a:ext cx="1447920" cy="1191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574848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44356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038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47721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31719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57176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5680" y="1509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5680" y="3124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5680" y="4738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5680" y="286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5680" y="44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5680" y="6067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57176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571760"/>
            <a:ext cx="1447560" cy="1807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6724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576252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545796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786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1860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15858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5360" y="1523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536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5360" y="4753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5360" y="2881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5360" y="448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360" y="6081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5858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585800"/>
            <a:ext cx="1447920" cy="2430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48164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577692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4720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733920"/>
            <a:ext cx="1447920" cy="74772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762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8006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32004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160020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5400" y="15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5400" y="3152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767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5400" y="28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540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5400" y="6095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1600200"/>
            <a:ext cx="1447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1600200"/>
            <a:ext cx="1447920" cy="3808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449568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791320"/>
            <a:ext cx="144792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5486400"/>
            <a:ext cx="144792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05520"/>
            <a:ext cx="1447920" cy="380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2971800"/>
            <a:ext cx="1447920" cy="1523880"/>
          </a:xfrm>
          <a:prstGeom prst="rect">
            <a:avLst/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905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2057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3276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1532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0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568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536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5400" y="579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0520" y="228600"/>
            <a:ext cx="622296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ory Allocation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244520"/>
            <a:ext cx="701064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big_array[1&lt;&lt;24];  /*  1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huge_array[1&lt;&lt;28];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beyo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1, *p2, *p3, *p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useless() {  return 0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3 = malloc(1 &lt;&lt;28);  /* 256 M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4 = malloc(1 &lt;&lt; 8);  /* 256 B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Some print statements ...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371600"/>
            <a:ext cx="8534160" cy="161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break 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point 1, 0x80483fc in main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db) print $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3 = (void *) 0xbffffb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600" y="4267080"/>
            <a:ext cx="825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bffff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1280" y="228600"/>
            <a:ext cx="612144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ing the Stack and He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120" y="228600"/>
            <a:ext cx="662940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ading of A Dynamic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914400"/>
            <a:ext cx="8534160" cy="300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disassemble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function contains specified addr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print * (char *)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not access memory at address 0x400734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db) break mall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point 1, main () at q.c: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1       p1 = malloc(1 &lt;&lt;28);  /* 256 MB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__libc_mall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0 &lt;__libc_malloc&gt;:  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1 &lt;__libc_malloc+1&gt;: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400734e3 &lt;__libc_malloc+3&gt;: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191120"/>
            <a:ext cx="8254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ould be re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loc(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ed by __libc_mall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ked into memory at runtime – not present before program sta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143000"/>
            <a:ext cx="5105520" cy="447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es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bffffb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3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50011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10f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libc_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400734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7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90496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g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18049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ge_arr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95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(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less(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x080483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41148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146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91440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480" y="852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0480" y="24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30480" y="4081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0480" y="220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0480" y="3809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0480" y="54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914400"/>
            <a:ext cx="144756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914400"/>
            <a:ext cx="1447560" cy="18108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2920" y="380988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3048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724280" y="5333760"/>
            <a:ext cx="19814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5029200"/>
            <a:ext cx="19814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648320"/>
            <a:ext cx="198144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26708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886200"/>
            <a:ext cx="1905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581280"/>
            <a:ext cx="19051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200400"/>
            <a:ext cx="175248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819520"/>
            <a:ext cx="175248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438280"/>
            <a:ext cx="182880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057400"/>
            <a:ext cx="182880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676520"/>
            <a:ext cx="1752480" cy="167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800600" y="1066320"/>
            <a:ext cx="1828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048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30480" y="4510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3048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36760" y="228600"/>
            <a:ext cx="44704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Addr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25960" y="228600"/>
            <a:ext cx="2692080" cy="1093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oper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400" y="884160"/>
            <a:ext cx="725220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)  []  -&gt;  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!  ~  ++  --  +  -  *  &amp;  (type)  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 /  %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  &gt;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  &lt;=  &gt;  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 !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  +=  -=  *=  /=  %=  &amp;=  ^=  !=  &lt;&lt;=  &gt;&gt;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Unary +, -, and * have higher precedence than bina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95560" y="228600"/>
            <a:ext cx="4952880" cy="573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pointer decla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8120" y="1054080"/>
            <a:ext cx="840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p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(p[13]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n array[13] of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*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 pointer to an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p)[13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is a pointer to an array[13] of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f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a pointer to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f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pointer to a function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f())[13])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is a function returning ptr to an array[1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inters to functions returning 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(*(*x[3])())[5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is an array[3] of pointers  to 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pointers to array[5] of 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01:04Z</dcterms:created>
  <dc:creator/>
  <dc:description/>
  <dc:language>en-US</dc:language>
  <cp:lastModifiedBy>Gregory Kesden</cp:lastModifiedBy>
  <cp:lastPrinted>2001-09-25T17:18:08Z</cp:lastPrinted>
  <dcterms:modified xsi:type="dcterms:W3CDTF">2002-02-12T07:56:29Z</dcterms:modified>
  <cp:revision>52</cp:revision>
  <dc:subject/>
  <dc:title>Structured Data II</dc:title>
</cp:coreProperties>
</file>