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2551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0360"/>
            <a:ext cx="82551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028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0880" y="914400"/>
            <a:ext cx="4028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0360"/>
            <a:ext cx="4028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0880" y="3780360"/>
            <a:ext cx="4028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160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68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160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68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028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0880" y="914400"/>
            <a:ext cx="4028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14928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028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0880" y="914400"/>
            <a:ext cx="4028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0360"/>
            <a:ext cx="4028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028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0880" y="914400"/>
            <a:ext cx="4028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0880" y="3780360"/>
            <a:ext cx="4028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028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0880" y="914400"/>
            <a:ext cx="4028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0360"/>
            <a:ext cx="82551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553000" y="6527880"/>
            <a:ext cx="3053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2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75192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94D021A5-D5BE-4350-A639-5F1DBD186E73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8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520" y="1676520"/>
            <a:ext cx="386100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uctured Data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bruary, 7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62320" y="3580920"/>
            <a:ext cx="4356000" cy="24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: 3.8-3.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: 3.3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8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944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082960" y="228600"/>
            <a:ext cx="49780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sted Array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426708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lvl="1" marL="532440" indent="-211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laration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p_dig pgh[4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 equivalent to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pgh[4][5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7760" indent="-156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notes  array of 4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4520" indent="-158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d contigu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7760" indent="-156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element is an array of 5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4520" indent="-158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d contigu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2440" indent="-211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w-Major” ordering of all elements guarante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981080" y="838080"/>
            <a:ext cx="492444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define PCOUNT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p_dig pgh[PCOUNT]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{1, 5, 2, 0, 6}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1, 5, 2, 1, 3 }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1, 5, 2, 1, 7 }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1, 5, 2, 2, 1 }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609120" y="2819520"/>
            <a:ext cx="7916400" cy="1282680"/>
            <a:chOff x="609120" y="2819520"/>
            <a:chExt cx="7916400" cy="1282680"/>
          </a:xfrm>
        </p:grpSpPr>
        <p:sp>
          <p:nvSpPr>
            <p:cNvPr id="292" name=""/>
            <p:cNvSpPr/>
            <p:nvPr/>
          </p:nvSpPr>
          <p:spPr>
            <a:xfrm>
              <a:off x="609120" y="2895480"/>
              <a:ext cx="114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zip_di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gh[4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1905840" y="2819520"/>
              <a:ext cx="6619680" cy="1282680"/>
              <a:chOff x="1905840" y="2819520"/>
              <a:chExt cx="6619680" cy="1282680"/>
            </a:xfrm>
          </p:grpSpPr>
          <p:sp>
            <p:nvSpPr>
              <p:cNvPr id="294" name=""/>
              <p:cNvSpPr/>
              <p:nvPr/>
            </p:nvSpPr>
            <p:spPr>
              <a:xfrm flipV="1">
                <a:off x="2133360" y="35809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05840" y="373392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7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3657240" y="35809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29720" y="373392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9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181480" y="35809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885200" y="37339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6705360" y="35809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409080" y="37339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3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8229240" y="35809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933320" y="37339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5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" name=""/>
              <p:cNvGrpSpPr/>
              <p:nvPr/>
            </p:nvGrpSpPr>
            <p:grpSpPr>
              <a:xfrm>
                <a:off x="2057040" y="2819520"/>
                <a:ext cx="6096240" cy="761760"/>
                <a:chOff x="2057040" y="2819520"/>
                <a:chExt cx="6096240" cy="761760"/>
              </a:xfrm>
            </p:grpSpPr>
            <p:grpSp>
              <p:nvGrpSpPr>
                <p:cNvPr id="305" name=""/>
                <p:cNvGrpSpPr/>
                <p:nvPr/>
              </p:nvGrpSpPr>
              <p:grpSpPr>
                <a:xfrm>
                  <a:off x="2057040" y="2819520"/>
                  <a:ext cx="1524240" cy="761760"/>
                  <a:chOff x="2057040" y="2819520"/>
                  <a:chExt cx="1524240" cy="76176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20570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23619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266688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29714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32763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6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3581280" y="2819520"/>
                  <a:ext cx="1523520" cy="761760"/>
                  <a:chOff x="3581280" y="2819520"/>
                  <a:chExt cx="1523520" cy="7617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>
                    <a:off x="358128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388584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4190760" y="2819520"/>
                    <a:ext cx="30420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44953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480024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5105160" y="2819520"/>
                  <a:ext cx="1523520" cy="761760"/>
                  <a:chOff x="5105160" y="2819520"/>
                  <a:chExt cx="1523520" cy="76176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510516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54097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714640" y="2819520"/>
                    <a:ext cx="30420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601920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63241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7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6629040" y="2819520"/>
                  <a:ext cx="1524240" cy="761760"/>
                  <a:chOff x="6629040" y="2819520"/>
                  <a:chExt cx="1524240" cy="76176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>
                    <a:off x="66290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69339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723888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75434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78483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2057040" y="2819520"/>
                  <a:ext cx="152424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581280" y="2819520"/>
                  <a:ext cx="152388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105160" y="2819520"/>
                  <a:ext cx="152388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629040" y="2819520"/>
                  <a:ext cx="152424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17720" y="228600"/>
            <a:ext cx="53085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sted Array Allo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449604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18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]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 of data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o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um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lement requir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 S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n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-Major Orde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724280" y="990720"/>
            <a:ext cx="4038120" cy="2209680"/>
            <a:chOff x="4724280" y="990720"/>
            <a:chExt cx="4038120" cy="2209680"/>
          </a:xfrm>
        </p:grpSpPr>
        <p:sp>
          <p:nvSpPr>
            <p:cNvPr id="336" name=""/>
            <p:cNvSpPr/>
            <p:nvPr/>
          </p:nvSpPr>
          <p:spPr>
            <a:xfrm>
              <a:off x="4876560" y="1143000"/>
              <a:ext cx="12193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0]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467480" y="1143000"/>
              <a:ext cx="12189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0][C-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876560" y="2666880"/>
              <a:ext cx="12193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R-1]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171840" y="1143000"/>
              <a:ext cx="9144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48160" y="2666880"/>
              <a:ext cx="9144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67480" y="2666880"/>
              <a:ext cx="12189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R-1][C-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333760" y="1752480"/>
              <a:ext cx="4572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96080" y="1752480"/>
              <a:ext cx="4572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724280" y="990720"/>
              <a:ext cx="152280" cy="2209680"/>
            </a:xfrm>
            <a:custGeom>
              <a:avLst/>
              <a:gdLst/>
              <a:ahLst/>
              <a:rect l="l" t="t" r="r" b="b"/>
              <a:pathLst>
                <a:path w="96" h="1392">
                  <a:moveTo>
                    <a:pt x="96" y="0"/>
                  </a:moveTo>
                  <a:lnTo>
                    <a:pt x="0" y="0"/>
                  </a:lnTo>
                  <a:lnTo>
                    <a:pt x="0" y="1392"/>
                  </a:lnTo>
                  <a:lnTo>
                    <a:pt x="96" y="1392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8609760" y="990720"/>
              <a:ext cx="152280" cy="2209680"/>
            </a:xfrm>
            <a:custGeom>
              <a:avLst/>
              <a:gdLst/>
              <a:ahLst/>
              <a:rect l="l" t="t" r="r" b="b"/>
              <a:pathLst>
                <a:path w="96" h="1392">
                  <a:moveTo>
                    <a:pt x="96" y="0"/>
                  </a:moveTo>
                  <a:lnTo>
                    <a:pt x="0" y="0"/>
                  </a:lnTo>
                  <a:lnTo>
                    <a:pt x="0" y="1392"/>
                  </a:lnTo>
                  <a:lnTo>
                    <a:pt x="96" y="1392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55040" y="44956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A[R][C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57200" y="4952880"/>
            <a:ext cx="8229240" cy="990720"/>
            <a:chOff x="457200" y="4952880"/>
            <a:chExt cx="8229240" cy="990720"/>
          </a:xfrm>
        </p:grpSpPr>
        <p:grpSp>
          <p:nvGrpSpPr>
            <p:cNvPr id="348" name=""/>
            <p:cNvGrpSpPr/>
            <p:nvPr/>
          </p:nvGrpSpPr>
          <p:grpSpPr>
            <a:xfrm>
              <a:off x="457200" y="4952880"/>
              <a:ext cx="2133360" cy="990360"/>
              <a:chOff x="457200" y="4952880"/>
              <a:chExt cx="2133360" cy="990360"/>
            </a:xfrm>
          </p:grpSpPr>
          <p:sp>
            <p:nvSpPr>
              <p:cNvPr id="349" name=""/>
              <p:cNvSpPr/>
              <p:nvPr/>
            </p:nvSpPr>
            <p:spPr>
              <a:xfrm>
                <a:off x="457200" y="4952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981080" y="4952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57200" y="4952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2590560" y="4952880"/>
              <a:ext cx="2133360" cy="990360"/>
              <a:chOff x="2590560" y="4952880"/>
              <a:chExt cx="2133360" cy="990360"/>
            </a:xfrm>
          </p:grpSpPr>
          <p:sp>
            <p:nvSpPr>
              <p:cNvPr id="353" name=""/>
              <p:cNvSpPr/>
              <p:nvPr/>
            </p:nvSpPr>
            <p:spPr>
              <a:xfrm>
                <a:off x="2590560" y="4952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114440" y="4952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590560" y="4952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553080" y="4952880"/>
              <a:ext cx="2133360" cy="990360"/>
              <a:chOff x="6553080" y="4952880"/>
              <a:chExt cx="2133360" cy="990360"/>
            </a:xfrm>
          </p:grpSpPr>
          <p:sp>
            <p:nvSpPr>
              <p:cNvPr id="357" name=""/>
              <p:cNvSpPr/>
              <p:nvPr/>
            </p:nvSpPr>
            <p:spPr>
              <a:xfrm>
                <a:off x="6553080" y="4952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076960" y="4952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553080" y="4952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4724280" y="4952880"/>
              <a:ext cx="1828800" cy="99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•  •  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457200" y="6019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686800" y="6019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05320" y="6019920"/>
            <a:ext cx="14475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*R*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5791320" y="3809880"/>
            <a:ext cx="9903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57909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sted Array Row Ac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449604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w Ve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rray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element of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ing 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3657600" y="3276720"/>
            <a:ext cx="2133720" cy="1523520"/>
            <a:chOff x="3657600" y="3276720"/>
            <a:chExt cx="2133720" cy="1523520"/>
          </a:xfrm>
        </p:grpSpPr>
        <p:grpSp>
          <p:nvGrpSpPr>
            <p:cNvPr id="369" name=""/>
            <p:cNvGrpSpPr/>
            <p:nvPr/>
          </p:nvGrpSpPr>
          <p:grpSpPr>
            <a:xfrm>
              <a:off x="3657600" y="3809880"/>
              <a:ext cx="2133360" cy="990360"/>
              <a:chOff x="3657600" y="3809880"/>
              <a:chExt cx="2133360" cy="990360"/>
            </a:xfrm>
          </p:grpSpPr>
          <p:sp>
            <p:nvSpPr>
              <p:cNvPr id="370" name=""/>
              <p:cNvSpPr/>
              <p:nvPr/>
            </p:nvSpPr>
            <p:spPr>
              <a:xfrm>
                <a:off x="365760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i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18148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i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657600" y="3809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365760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5760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9132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57600" y="350532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43400" y="3276720"/>
              <a:ext cx="8384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i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6705720" y="3276720"/>
            <a:ext cx="2133360" cy="1523520"/>
            <a:chOff x="6705720" y="3276720"/>
            <a:chExt cx="2133360" cy="1523520"/>
          </a:xfrm>
        </p:grpSpPr>
        <p:grpSp>
          <p:nvGrpSpPr>
            <p:cNvPr id="379" name=""/>
            <p:cNvGrpSpPr/>
            <p:nvPr/>
          </p:nvGrpSpPr>
          <p:grpSpPr>
            <a:xfrm>
              <a:off x="6705720" y="3809880"/>
              <a:ext cx="2133360" cy="990360"/>
              <a:chOff x="6705720" y="3809880"/>
              <a:chExt cx="2133360" cy="990360"/>
            </a:xfrm>
          </p:grpSpPr>
          <p:sp>
            <p:nvSpPr>
              <p:cNvPr id="380" name=""/>
              <p:cNvSpPr/>
              <p:nvPr/>
            </p:nvSpPr>
            <p:spPr>
              <a:xfrm>
                <a:off x="670572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22960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705720" y="3809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670572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83908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05720" y="3505320"/>
              <a:ext cx="213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91160" y="3276720"/>
              <a:ext cx="837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R-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2666880" y="3809880"/>
            <a:ext cx="9907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" y="502920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09480" y="47858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3733920" y="48002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33520" y="3276720"/>
            <a:ext cx="2133360" cy="1523520"/>
            <a:chOff x="533520" y="3276720"/>
            <a:chExt cx="2133360" cy="1523520"/>
          </a:xfrm>
        </p:grpSpPr>
        <p:grpSp>
          <p:nvGrpSpPr>
            <p:cNvPr id="392" name=""/>
            <p:cNvGrpSpPr/>
            <p:nvPr/>
          </p:nvGrpSpPr>
          <p:grpSpPr>
            <a:xfrm>
              <a:off x="533520" y="3809880"/>
              <a:ext cx="2133360" cy="990360"/>
              <a:chOff x="533520" y="3809880"/>
              <a:chExt cx="2133360" cy="990360"/>
            </a:xfrm>
          </p:grpSpPr>
          <p:sp>
            <p:nvSpPr>
              <p:cNvPr id="393" name=""/>
              <p:cNvSpPr/>
              <p:nvPr/>
            </p:nvSpPr>
            <p:spPr>
              <a:xfrm>
                <a:off x="53352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05740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33520" y="3809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53352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3520" y="3505320"/>
              <a:ext cx="213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19320" y="3276720"/>
              <a:ext cx="8380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66688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79080" y="26668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A[R][C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81280" y="5105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i*C*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553080" y="51055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(R-1)*C*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6781680" y="48002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1480" y="228600"/>
            <a:ext cx="70610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sted Array Row Access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54864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08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w Ve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1280" indent="-206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[index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rray of 5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1280" indent="-206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ing 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+20*inde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1280" indent="-206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s and returns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1280" indent="-206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 + 4*(index+4*inde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362320" y="914400"/>
            <a:ext cx="411480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get_pgh_zip(int ind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pgh[index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66680" y="4724280"/>
            <a:ext cx="6782040" cy="91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ax =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(%eax,%eax,4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5 *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pgh(,%eax,4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pgh + (20 * ind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70080" y="228600"/>
            <a:ext cx="66038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sted Array Element Ac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44960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 Ele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[i][j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element of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*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791320" y="3809880"/>
            <a:ext cx="9903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19720" y="3809880"/>
            <a:ext cx="6094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j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5880" y="1295280"/>
            <a:ext cx="60984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j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657600" y="3809880"/>
            <a:ext cx="213372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• • 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57600" y="3429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657600" y="3429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3429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657600" y="350532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43400" y="32767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[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6705720" y="3276720"/>
            <a:ext cx="2133360" cy="1523520"/>
            <a:chOff x="6705720" y="3276720"/>
            <a:chExt cx="2133360" cy="1523520"/>
          </a:xfrm>
        </p:grpSpPr>
        <p:grpSp>
          <p:nvGrpSpPr>
            <p:cNvPr id="420" name=""/>
            <p:cNvGrpSpPr/>
            <p:nvPr/>
          </p:nvGrpSpPr>
          <p:grpSpPr>
            <a:xfrm>
              <a:off x="6705720" y="3809880"/>
              <a:ext cx="2133360" cy="990360"/>
              <a:chOff x="6705720" y="3809880"/>
              <a:chExt cx="2133360" cy="990360"/>
            </a:xfrm>
          </p:grpSpPr>
          <p:sp>
            <p:nvSpPr>
              <p:cNvPr id="421" name=""/>
              <p:cNvSpPr/>
              <p:nvPr/>
            </p:nvSpPr>
            <p:spPr>
              <a:xfrm>
                <a:off x="670572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22960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705720" y="3809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670572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83908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705720" y="3505320"/>
              <a:ext cx="213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391160" y="3276720"/>
              <a:ext cx="837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R-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2666880" y="3809880"/>
            <a:ext cx="9907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" y="502920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609480" y="47858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733920" y="48002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533520" y="3276720"/>
            <a:ext cx="2133360" cy="1523520"/>
            <a:chOff x="533520" y="3276720"/>
            <a:chExt cx="2133360" cy="1523520"/>
          </a:xfrm>
        </p:grpSpPr>
        <p:grpSp>
          <p:nvGrpSpPr>
            <p:cNvPr id="433" name=""/>
            <p:cNvGrpSpPr/>
            <p:nvPr/>
          </p:nvGrpSpPr>
          <p:grpSpPr>
            <a:xfrm>
              <a:off x="533520" y="3809880"/>
              <a:ext cx="2133360" cy="990360"/>
              <a:chOff x="533520" y="3809880"/>
              <a:chExt cx="2133360" cy="990360"/>
            </a:xfrm>
          </p:grpSpPr>
          <p:sp>
            <p:nvSpPr>
              <p:cNvPr id="434" name=""/>
              <p:cNvSpPr/>
              <p:nvPr/>
            </p:nvSpPr>
            <p:spPr>
              <a:xfrm>
                <a:off x="53352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05740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3520" y="3809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53352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3520" y="3505320"/>
              <a:ext cx="213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219320" y="3276720"/>
              <a:ext cx="8380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66688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379080" y="26668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A[R][C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971800" y="5105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i*C*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553080" y="51055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(R-1)*C*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6781680" y="48002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657600" y="3809880"/>
            <a:ext cx="213372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 • •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572000" y="48002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5486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(i*C+j)*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35040" y="228600"/>
            <a:ext cx="78739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sted Array Element Access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57150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01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 Ele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4360" indent="-200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[index][dig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360" indent="-200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55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 + 20*index + 4*d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4360" indent="-200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s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55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 + 4*dig + 4*(index+4*ind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360" indent="-200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forms memory refer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55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48320" y="1295280"/>
            <a:ext cx="373356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get_pgh_dig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pgh[index][dig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4191120"/>
            <a:ext cx="800100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cx = d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ax =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0(,%ecx,4)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4*d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(%eax,%eax,4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5*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pgh(%edx,%eax,4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*(pgh + 4*dig + 20*ind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858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ange Referencing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80520" y="2819160"/>
            <a:ext cx="825516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arante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[3][3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6+20*3+4*3 = 14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[2][5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6+20*2+4*5 = 13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[2][-1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6+20*2+4*-1 = 11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[4][-1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6+20*4+4*-1 = 15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[0][19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6+20*0+4*19 = 15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[0][-1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6+20*0+4*-1 = 7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??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does not do any bounds chec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ing of elements within array guarante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761760" y="1066680"/>
            <a:ext cx="7916400" cy="1282680"/>
            <a:chOff x="761760" y="1066680"/>
            <a:chExt cx="7916400" cy="1282680"/>
          </a:xfrm>
        </p:grpSpPr>
        <p:sp>
          <p:nvSpPr>
            <p:cNvPr id="455" name=""/>
            <p:cNvSpPr/>
            <p:nvPr/>
          </p:nvSpPr>
          <p:spPr>
            <a:xfrm>
              <a:off x="761760" y="1143000"/>
              <a:ext cx="114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zip_di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gh[4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2058480" y="1066680"/>
              <a:ext cx="6619680" cy="1282680"/>
              <a:chOff x="2058480" y="1066680"/>
              <a:chExt cx="6619680" cy="1282680"/>
            </a:xfrm>
          </p:grpSpPr>
          <p:sp>
            <p:nvSpPr>
              <p:cNvPr id="457" name=""/>
              <p:cNvSpPr/>
              <p:nvPr/>
            </p:nvSpPr>
            <p:spPr>
              <a:xfrm flipV="1">
                <a:off x="2286000" y="182808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058480" y="19810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7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3809880" y="182808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582360" y="19810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9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5334120" y="182808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37840" y="198108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6858000" y="182808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561720" y="198108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3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8381880" y="182808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085960" y="198108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5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2209680" y="1066680"/>
                <a:ext cx="6096240" cy="761760"/>
                <a:chOff x="2209680" y="1066680"/>
                <a:chExt cx="6096240" cy="761760"/>
              </a:xfrm>
            </p:grpSpPr>
            <p:grpSp>
              <p:nvGrpSpPr>
                <p:cNvPr id="468" name=""/>
                <p:cNvGrpSpPr/>
                <p:nvPr/>
              </p:nvGrpSpPr>
              <p:grpSpPr>
                <a:xfrm>
                  <a:off x="2209680" y="1066680"/>
                  <a:ext cx="1524240" cy="761760"/>
                  <a:chOff x="2209680" y="1066680"/>
                  <a:chExt cx="1524240" cy="76176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2209680" y="106668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2514600" y="106668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2819520" y="106668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3124080" y="106668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3429000" y="106668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6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" name=""/>
                <p:cNvGrpSpPr/>
                <p:nvPr/>
              </p:nvGrpSpPr>
              <p:grpSpPr>
                <a:xfrm>
                  <a:off x="3733920" y="1066680"/>
                  <a:ext cx="1523520" cy="761760"/>
                  <a:chOff x="3733920" y="1066680"/>
                  <a:chExt cx="1523520" cy="76176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>
                    <a:off x="3733920" y="106668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4038480" y="106668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4343400" y="1066680"/>
                    <a:ext cx="30420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4647960" y="106668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4952880" y="106668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5257800" y="1066680"/>
                  <a:ext cx="1523520" cy="761760"/>
                  <a:chOff x="5257800" y="1066680"/>
                  <a:chExt cx="1523520" cy="76176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>
                    <a:off x="5257800" y="106668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5562360" y="106668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5867280" y="1066680"/>
                    <a:ext cx="30420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171840" y="106668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6476760" y="106668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7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6" name=""/>
                <p:cNvGrpSpPr/>
                <p:nvPr/>
              </p:nvGrpSpPr>
              <p:grpSpPr>
                <a:xfrm>
                  <a:off x="6781680" y="1066680"/>
                  <a:ext cx="1524240" cy="761760"/>
                  <a:chOff x="6781680" y="1066680"/>
                  <a:chExt cx="1524240" cy="761760"/>
                </a:xfrm>
              </p:grpSpPr>
              <p:sp>
                <p:nvSpPr>
                  <p:cNvPr id="487" name=""/>
                  <p:cNvSpPr/>
                  <p:nvPr/>
                </p:nvSpPr>
                <p:spPr>
                  <a:xfrm>
                    <a:off x="6781680" y="106668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7086600" y="106668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7391520" y="106668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7696080" y="106668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8001000" y="106668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"/>
                <p:cNvSpPr/>
                <p:nvPr/>
              </p:nvSpPr>
              <p:spPr>
                <a:xfrm>
                  <a:off x="2209680" y="1066680"/>
                  <a:ext cx="152424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3733920" y="1066680"/>
                  <a:ext cx="152388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257800" y="1066680"/>
                  <a:ext cx="152388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781680" y="1066680"/>
                  <a:ext cx="152424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50960" y="228600"/>
            <a:ext cx="58420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-Level Array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0481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notes array of 3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element is a poi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pointer points to array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’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200400" y="838080"/>
            <a:ext cx="5257800" cy="91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p_dig cmu = { 1, 5, 2, 1, 3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p_dig mit = { 0, 2, 1, 3, 9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p_dig ucb = { 9, 4, 7, 2, 0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00400" y="1905120"/>
            <a:ext cx="525780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define UCOUN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univ[UCOUNT] = {mit, cmu, ucb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381600" y="3733920"/>
            <a:ext cx="8303760" cy="2591640"/>
            <a:chOff x="381600" y="3733920"/>
            <a:chExt cx="8303760" cy="2591640"/>
          </a:xfrm>
        </p:grpSpPr>
        <p:grpSp>
          <p:nvGrpSpPr>
            <p:cNvPr id="501" name=""/>
            <p:cNvGrpSpPr/>
            <p:nvPr/>
          </p:nvGrpSpPr>
          <p:grpSpPr>
            <a:xfrm>
              <a:off x="381600" y="4190760"/>
              <a:ext cx="1980360" cy="1523520"/>
              <a:chOff x="381600" y="4190760"/>
              <a:chExt cx="1980360" cy="1523520"/>
            </a:xfrm>
          </p:grpSpPr>
          <p:sp>
            <p:nvSpPr>
              <p:cNvPr id="502" name=""/>
              <p:cNvSpPr/>
              <p:nvPr/>
            </p:nvSpPr>
            <p:spPr>
              <a:xfrm>
                <a:off x="1447560" y="4571640"/>
                <a:ext cx="914400" cy="380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990360" y="47239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97440" y="45097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6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447560" y="4952520"/>
                <a:ext cx="914400" cy="380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447560" y="53334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990360" y="51048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990360" y="54860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81600" y="48762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6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81600" y="53334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6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447920" y="419076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uni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981080" y="472392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981080" y="51048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981080" y="548604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124800" y="3733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m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3658320" y="4038480"/>
              <a:ext cx="5027040" cy="748800"/>
              <a:chOff x="3658320" y="4038480"/>
              <a:chExt cx="5027040" cy="748800"/>
            </a:xfrm>
          </p:grpSpPr>
          <p:grpSp>
            <p:nvGrpSpPr>
              <p:cNvPr id="517" name=""/>
              <p:cNvGrpSpPr/>
              <p:nvPr/>
            </p:nvGrpSpPr>
            <p:grpSpPr>
              <a:xfrm>
                <a:off x="3809880" y="4038480"/>
                <a:ext cx="4572000" cy="228240"/>
                <a:chOff x="3809880" y="4038480"/>
                <a:chExt cx="4572000" cy="22824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38098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47242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6386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5530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74674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3" name=""/>
              <p:cNvSpPr/>
              <p:nvPr/>
            </p:nvSpPr>
            <p:spPr>
              <a:xfrm flipV="1">
                <a:off x="3885840" y="426672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6583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4800240" y="426672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5727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5714640" y="426672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4871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2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6629040" y="426672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4015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2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7543440" y="426672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3159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3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457840" y="426672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2303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3200760" y="4572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m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3642480" y="4814640"/>
              <a:ext cx="5027040" cy="748800"/>
              <a:chOff x="3642480" y="4814640"/>
              <a:chExt cx="5027040" cy="748800"/>
            </a:xfrm>
          </p:grpSpPr>
          <p:grpSp>
            <p:nvGrpSpPr>
              <p:cNvPr id="537" name=""/>
              <p:cNvGrpSpPr/>
              <p:nvPr/>
            </p:nvGrpSpPr>
            <p:grpSpPr>
              <a:xfrm>
                <a:off x="3794040" y="4814640"/>
                <a:ext cx="4572000" cy="228240"/>
                <a:chOff x="3794040" y="4814640"/>
                <a:chExt cx="4572000" cy="22824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37940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7084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6228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5372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4516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3" name=""/>
              <p:cNvSpPr/>
              <p:nvPr/>
            </p:nvSpPr>
            <p:spPr>
              <a:xfrm flipV="1">
                <a:off x="3870000" y="504288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6424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4784400" y="504288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5568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4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5698800" y="504288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712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4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6613200" y="504288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3856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4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7527600" y="504288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3000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5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8442000" y="504288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2144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3124800" y="52718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uc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3642480" y="5576760"/>
              <a:ext cx="5027040" cy="748800"/>
              <a:chOff x="3642480" y="5576760"/>
              <a:chExt cx="5027040" cy="74880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3794040" y="5576760"/>
                <a:ext cx="4572000" cy="228240"/>
                <a:chOff x="3794040" y="5576760"/>
                <a:chExt cx="4572000" cy="22824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37940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7084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56228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65372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4516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3" name=""/>
              <p:cNvSpPr/>
              <p:nvPr/>
            </p:nvSpPr>
            <p:spPr>
              <a:xfrm flipV="1">
                <a:off x="3870000" y="580500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6424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4784400" y="580500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5568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6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>
                <a:off x="5698800" y="580500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712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6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6613200" y="580500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3856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6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7527600" y="580500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3000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7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8442000" y="580500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2144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7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75" name=""/>
            <p:cNvCxnSpPr>
              <a:stCxn id="513" idx="0"/>
              <a:endCxn id="518" idx="1"/>
            </p:cNvCxnSpPr>
            <p:nvPr/>
          </p:nvCxnSpPr>
          <p:spPr>
            <a:xfrm flipH="1" flipV="1" rot="5400000">
              <a:off x="2457000" y="3751920"/>
              <a:ext cx="939960" cy="174060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6" name=""/>
            <p:cNvCxnSpPr>
              <a:stCxn id="512" idx="6"/>
              <a:endCxn id="538" idx="1"/>
            </p:cNvCxnSpPr>
            <p:nvPr/>
          </p:nvCxnSpPr>
          <p:spPr>
            <a:xfrm>
              <a:off x="2145960" y="4800600"/>
              <a:ext cx="1635840" cy="128880"/>
            </a:xfrm>
            <a:prstGeom prst="curvedConnector5">
              <a:avLst>
                <a:gd name="adj1" fmla="val 49988"/>
                <a:gd name="adj2" fmla="val 49859"/>
                <a:gd name="adj3" fmla="val 49988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7" name=""/>
            <p:cNvCxnSpPr>
              <a:stCxn id="514" idx="0"/>
              <a:endCxn id="558" idx="1"/>
            </p:cNvCxnSpPr>
            <p:nvPr/>
          </p:nvCxnSpPr>
          <p:spPr>
            <a:xfrm flipH="1" rot="16200000">
              <a:off x="2810160" y="4719960"/>
              <a:ext cx="218160" cy="1724760"/>
            </a:xfrm>
            <a:prstGeom prst="curvedConnector5">
              <a:avLst>
                <a:gd name="adj1" fmla="val -99173"/>
                <a:gd name="adj2" fmla="val 26283"/>
                <a:gd name="adj3" fmla="val -99173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33280" y="228600"/>
            <a:ext cx="8686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ing Element in Multi-Level Arr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 acc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m[Mem[univ+4*index]+4*dig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do two memory rea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get pointer to row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access element within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914400" y="3352680"/>
            <a:ext cx="723888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cx =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ax = d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0(,%ecx,4)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4*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univ(%edx)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Mem[univ+4*index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dx,%eax,4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Mem[...+4*dig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105520" y="1371600"/>
            <a:ext cx="388620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get_univ_dig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univ[index][dig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858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ange Referencing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80520" y="3429000"/>
            <a:ext cx="825516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183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arante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v[2][3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6+4*3  = 6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v[1][5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6+4*5  = 3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v[2][-1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6+4*-1 = 5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v[3][-1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??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??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v[1][12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6+4*12 = 6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82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does not do any bounds chec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82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ing of elements in different arrays not guarante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29320" y="838080"/>
            <a:ext cx="8303760" cy="2592360"/>
            <a:chOff x="229320" y="838080"/>
            <a:chExt cx="8303760" cy="2592360"/>
          </a:xfrm>
        </p:grpSpPr>
        <p:grpSp>
          <p:nvGrpSpPr>
            <p:cNvPr id="585" name=""/>
            <p:cNvGrpSpPr/>
            <p:nvPr/>
          </p:nvGrpSpPr>
          <p:grpSpPr>
            <a:xfrm>
              <a:off x="229320" y="1295280"/>
              <a:ext cx="1980360" cy="1524240"/>
              <a:chOff x="229320" y="1295280"/>
              <a:chExt cx="1980360" cy="1524240"/>
            </a:xfrm>
          </p:grpSpPr>
          <p:sp>
            <p:nvSpPr>
              <p:cNvPr id="586" name=""/>
              <p:cNvSpPr/>
              <p:nvPr/>
            </p:nvSpPr>
            <p:spPr>
              <a:xfrm>
                <a:off x="1295280" y="167652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38080" y="18288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45160" y="16146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6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295280" y="20574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295280" y="24382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38080" y="22096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38080" y="25909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29320" y="198108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6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29320" y="243828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6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295640" y="129528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uni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28800" y="18288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28800" y="22096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828800" y="25909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2972520" y="838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m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3506040" y="1143000"/>
              <a:ext cx="5027040" cy="749160"/>
              <a:chOff x="3506040" y="1143000"/>
              <a:chExt cx="5027040" cy="74916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3657600" y="1143000"/>
                <a:ext cx="4572000" cy="228600"/>
                <a:chOff x="3657600" y="1143000"/>
                <a:chExt cx="4572000" cy="22860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6576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45720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4864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4008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73152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7" name=""/>
              <p:cNvSpPr/>
              <p:nvPr/>
            </p:nvSpPr>
            <p:spPr>
              <a:xfrm flipV="1">
                <a:off x="3733560" y="137124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5060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4647960" y="137124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4204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5562360" y="137124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3348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2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6476760" y="137124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492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2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7391160" y="137124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1636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3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8305560" y="137124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0780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3048480" y="16765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m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3490200" y="1919160"/>
              <a:ext cx="5027040" cy="749160"/>
              <a:chOff x="3490200" y="1919160"/>
              <a:chExt cx="5027040" cy="74916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3641760" y="1919160"/>
                <a:ext cx="4572000" cy="228600"/>
                <a:chOff x="3641760" y="1919160"/>
                <a:chExt cx="4572000" cy="22860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36417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45561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4705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3849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72993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 flipV="1">
                <a:off x="3717720" y="214740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4902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4632120" y="214740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4046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4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5546520" y="214740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3190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4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6460920" y="214740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2334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4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7375320" y="214740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1478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5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8289720" y="214740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0622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2972520" y="23763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uc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3490200" y="2681280"/>
              <a:ext cx="5027040" cy="749160"/>
              <a:chOff x="3490200" y="2681280"/>
              <a:chExt cx="5027040" cy="749160"/>
            </a:xfrm>
          </p:grpSpPr>
          <p:grpSp>
            <p:nvGrpSpPr>
              <p:cNvPr id="641" name=""/>
              <p:cNvGrpSpPr/>
              <p:nvPr/>
            </p:nvGrpSpPr>
            <p:grpSpPr>
              <a:xfrm>
                <a:off x="3641760" y="2681280"/>
                <a:ext cx="4572000" cy="228600"/>
                <a:chOff x="3641760" y="2681280"/>
                <a:chExt cx="4572000" cy="22860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6417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5561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4705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3849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72993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7" name=""/>
              <p:cNvSpPr/>
              <p:nvPr/>
            </p:nvSpPr>
            <p:spPr>
              <a:xfrm flipV="1">
                <a:off x="3717720" y="29095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4902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4632120" y="29095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4046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6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5546520" y="29095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3190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6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6460920" y="29095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2334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6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7375320" y="29095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1478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7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8289720" y="29095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0622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7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59" name=""/>
            <p:cNvCxnSpPr>
              <a:stCxn id="597" idx="0"/>
              <a:endCxn id="602" idx="1"/>
            </p:cNvCxnSpPr>
            <p:nvPr/>
          </p:nvCxnSpPr>
          <p:spPr>
            <a:xfrm flipH="1" flipV="1" rot="5400000">
              <a:off x="2304360" y="856800"/>
              <a:ext cx="940320" cy="174060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0" name=""/>
            <p:cNvCxnSpPr>
              <a:stCxn id="596" idx="6"/>
              <a:endCxn id="622" idx="1"/>
            </p:cNvCxnSpPr>
            <p:nvPr/>
          </p:nvCxnSpPr>
          <p:spPr>
            <a:xfrm>
              <a:off x="1993680" y="1904760"/>
              <a:ext cx="1635840" cy="129240"/>
            </a:xfrm>
            <a:prstGeom prst="curvedConnector5">
              <a:avLst>
                <a:gd name="adj1" fmla="val 49988"/>
                <a:gd name="adj2" fmla="val 50000"/>
                <a:gd name="adj3" fmla="val 49988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1" name=""/>
            <p:cNvCxnSpPr>
              <a:stCxn id="598" idx="0"/>
              <a:endCxn id="642" idx="1"/>
            </p:cNvCxnSpPr>
            <p:nvPr/>
          </p:nvCxnSpPr>
          <p:spPr>
            <a:xfrm flipH="1" rot="16200000">
              <a:off x="2657520" y="1823760"/>
              <a:ext cx="218520" cy="1724760"/>
            </a:xfrm>
            <a:prstGeom prst="curvedConnector5">
              <a:avLst>
                <a:gd name="adj1" fmla="val -99174"/>
                <a:gd name="adj2" fmla="val 26283"/>
                <a:gd name="adj3" fmla="val -99174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36640" y="520560"/>
            <a:ext cx="39114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ic Data Typ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2551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d &amp; operated on in general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ed vs. unsigned depends on instructions 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 wor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ating Poi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d &amp; operated on in floating point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/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 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260440" y="228600"/>
            <a:ext cx="4623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Nested Array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3353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compiler handles doubly subscripted arr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s very efficient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multiply in index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works if have fixed array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419720" y="990720"/>
            <a:ext cx="423864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define N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def int fix_matrix[N][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419720" y="1828800"/>
            <a:ext cx="4343400" cy="338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ompute element i,k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xed matrix produc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ix_prod_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x_matrix a, fix_matrix b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, int 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 = 0; j &lt; N; j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+= a[i][j]*b[j][k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686880" y="4419720"/>
            <a:ext cx="3455280" cy="1658520"/>
            <a:chOff x="686880" y="4419720"/>
            <a:chExt cx="3455280" cy="1658520"/>
          </a:xfrm>
        </p:grpSpPr>
        <p:sp>
          <p:nvSpPr>
            <p:cNvPr id="667" name=""/>
            <p:cNvSpPr/>
            <p:nvPr/>
          </p:nvSpPr>
          <p:spPr>
            <a:xfrm>
              <a:off x="1925640" y="475308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57400" y="533412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932120" y="5127840"/>
              <a:ext cx="58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512800" y="495324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(i,*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1" name=""/>
            <p:cNvGrpSpPr/>
            <p:nvPr/>
          </p:nvGrpSpPr>
          <p:grpSpPr>
            <a:xfrm>
              <a:off x="3274920" y="4419720"/>
              <a:ext cx="867240" cy="1277640"/>
              <a:chOff x="3274920" y="4419720"/>
              <a:chExt cx="867240" cy="1277640"/>
            </a:xfrm>
          </p:grpSpPr>
          <p:sp>
            <p:nvSpPr>
              <p:cNvPr id="672" name=""/>
              <p:cNvSpPr/>
              <p:nvPr/>
            </p:nvSpPr>
            <p:spPr>
              <a:xfrm>
                <a:off x="3297240" y="4753080"/>
                <a:ext cx="59688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429000" y="5334120"/>
                <a:ext cx="333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19360" y="4759560"/>
                <a:ext cx="0" cy="50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274920" y="441972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(*,k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1602000" y="5715000"/>
              <a:ext cx="1498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umn-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3200400" y="5333760"/>
              <a:ext cx="30492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86880" y="533412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1371600" y="5105160"/>
              <a:ext cx="398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942920" y="228600"/>
            <a:ext cx="5257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ynamic Nested Array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create matrix of arbitrary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do index computation explici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ing single element cos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do multi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419720" y="990720"/>
            <a:ext cx="419076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 new_var_matrix(int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(int *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oc(sizeof(int), n*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419720" y="2819520"/>
            <a:ext cx="419076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var_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*a, int 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j, int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a[i*n+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066680" y="4648320"/>
            <a:ext cx="65534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12(%ebp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20(%ebp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n*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16(%ebp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n*i+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dx,%eax,4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Mem[a+4*(i*n+j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359000" y="228600"/>
            <a:ext cx="6426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ynamic Array Multipl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39625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out Optimiz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for sub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fo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for array index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for loop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fo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572000" y="914400"/>
            <a:ext cx="4238640" cy="365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ompute element i,k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 matrix produc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var_prod_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*a, int *b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, int k, int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 = 0; j &lt; n; j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+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[i*n+j] * b[j*n+k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10560" y="4572000"/>
            <a:ext cx="3455280" cy="1658520"/>
            <a:chOff x="610560" y="4572000"/>
            <a:chExt cx="3455280" cy="1658520"/>
          </a:xfrm>
        </p:grpSpPr>
        <p:sp>
          <p:nvSpPr>
            <p:cNvPr id="689" name=""/>
            <p:cNvSpPr/>
            <p:nvPr/>
          </p:nvSpPr>
          <p:spPr>
            <a:xfrm>
              <a:off x="1849320" y="49053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81080" y="54864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855800" y="5280120"/>
              <a:ext cx="58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436480" y="510552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(i,*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3198600" y="4572000"/>
              <a:ext cx="867240" cy="1277640"/>
              <a:chOff x="3198600" y="4572000"/>
              <a:chExt cx="867240" cy="1277640"/>
            </a:xfrm>
          </p:grpSpPr>
          <p:sp>
            <p:nvSpPr>
              <p:cNvPr id="694" name=""/>
              <p:cNvSpPr/>
              <p:nvPr/>
            </p:nvSpPr>
            <p:spPr>
              <a:xfrm>
                <a:off x="3220920" y="4905360"/>
                <a:ext cx="59688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352680" y="5486400"/>
                <a:ext cx="333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443040" y="4911840"/>
                <a:ext cx="0" cy="50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198600" y="457200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(*,k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1525680" y="5867280"/>
              <a:ext cx="1498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umn-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3124080" y="5486040"/>
              <a:ext cx="30492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10560" y="54864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1295280" y="5257440"/>
              <a:ext cx="398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14120" y="228600"/>
            <a:ext cx="8915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izing Dynamic Array Multipl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38102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ed when set optimization level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O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Mo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es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*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n be computed outside lo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 Re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ing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s effect of incrementing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*n+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 can optimize regular access patter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572000" y="762120"/>
            <a:ext cx="4238640" cy="228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 = 0; j &lt; n; j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+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[i*n+j] * b[j*n+k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572000" y="3048120"/>
            <a:ext cx="4238640" cy="338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Tn = i*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jTnPk = 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 = 0; j &lt; n; j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+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[iTn+j] * b[jTnPk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TnPk +=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85800" y="2514600"/>
            <a:ext cx="297180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rec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a[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648320" y="4648320"/>
            <a:ext cx="33652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962520" y="5181480"/>
            <a:ext cx="4876560" cy="91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ax = 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dx =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Mem[r] = 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85800" y="4575240"/>
            <a:ext cx="296856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_i(struct rec *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-&gt;i =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365640" y="228600"/>
            <a:ext cx="24127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93480" y="91440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guously-allocated region of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 to members within structure by na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bers may be of different typ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Structure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648320" y="2666880"/>
            <a:ext cx="3365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4952520" y="3276720"/>
            <a:ext cx="2741400" cy="779040"/>
            <a:chOff x="4952520" y="3276720"/>
            <a:chExt cx="2741400" cy="779040"/>
          </a:xfrm>
        </p:grpSpPr>
        <p:sp>
          <p:nvSpPr>
            <p:cNvPr id="714" name=""/>
            <p:cNvSpPr/>
            <p:nvPr/>
          </p:nvSpPr>
          <p:spPr>
            <a:xfrm>
              <a:off x="5132520" y="3276720"/>
              <a:ext cx="4316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589720" y="3276720"/>
              <a:ext cx="13460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961320" y="3276720"/>
              <a:ext cx="4316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952520" y="36925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409720" y="36925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780960" y="3692520"/>
              <a:ext cx="45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238160" y="3675240"/>
              <a:ext cx="45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609480" y="1066680"/>
            <a:ext cx="313380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rec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a[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200400" y="5029200"/>
            <a:ext cx="50896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cx = i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dx =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0(,%ecx,4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4*i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4(%eax,%edx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r+4*idx+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648320" y="2895480"/>
            <a:ext cx="380988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d_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struct rec *r, int id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&amp;r-&gt;a[idx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ting Pointer to Structure Memb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80520" y="2666880"/>
            <a:ext cx="389916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ing Pointer to Array El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 of each structure member determined at compile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4876200" y="1447920"/>
            <a:ext cx="2440080" cy="779040"/>
            <a:chOff x="4876200" y="1447920"/>
            <a:chExt cx="2440080" cy="779040"/>
          </a:xfrm>
        </p:grpSpPr>
        <p:sp>
          <p:nvSpPr>
            <p:cNvPr id="727" name=""/>
            <p:cNvSpPr/>
            <p:nvPr/>
          </p:nvSpPr>
          <p:spPr>
            <a:xfrm>
              <a:off x="5056200" y="1447920"/>
              <a:ext cx="43128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513400" y="1447920"/>
              <a:ext cx="134568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885000" y="1447920"/>
              <a:ext cx="43128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76200" y="18637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33040" y="18637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704640" y="1863720"/>
              <a:ext cx="45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 flipV="1">
            <a:off x="5943600" y="19051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88800" y="22860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 + 4 + 4*i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029200" y="10666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878000" y="685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533520" y="1600200"/>
            <a:ext cx="297180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rec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a[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581280" y="4114800"/>
            <a:ext cx="54104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dx =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dx),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r-&gt;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0(,%ecx,4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4*(r-&gt;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4(%edx,%eax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r+4+4*(r-&gt;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ax,16(%edx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Update r-&gt;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33520" y="3276720"/>
            <a:ext cx="296856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_p(struct rec *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-&gt;p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r-&gt;a[r-&gt;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308240" y="228600"/>
            <a:ext cx="65275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ucture Referencing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4571640" y="2057400"/>
            <a:ext cx="2440440" cy="1447920"/>
            <a:chOff x="4571640" y="2057400"/>
            <a:chExt cx="2440440" cy="1447920"/>
          </a:xfrm>
        </p:grpSpPr>
        <p:grpSp>
          <p:nvGrpSpPr>
            <p:cNvPr id="743" name=""/>
            <p:cNvGrpSpPr/>
            <p:nvPr/>
          </p:nvGrpSpPr>
          <p:grpSpPr>
            <a:xfrm>
              <a:off x="4571640" y="2286000"/>
              <a:ext cx="2440440" cy="779040"/>
              <a:chOff x="4571640" y="2286000"/>
              <a:chExt cx="2440440" cy="779040"/>
            </a:xfrm>
          </p:grpSpPr>
          <p:sp>
            <p:nvSpPr>
              <p:cNvPr id="744" name=""/>
              <p:cNvSpPr/>
              <p:nvPr/>
            </p:nvSpPr>
            <p:spPr>
              <a:xfrm>
                <a:off x="4751640" y="2286000"/>
                <a:ext cx="431640" cy="431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208840" y="2286000"/>
                <a:ext cx="1346040" cy="431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580440" y="2286000"/>
                <a:ext cx="431640" cy="431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571640" y="2701800"/>
                <a:ext cx="31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028840" y="2701800"/>
                <a:ext cx="31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400080" y="2701800"/>
                <a:ext cx="455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6705720" y="2438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791320" y="2057400"/>
              <a:ext cx="990360" cy="457200"/>
            </a:xfrm>
            <a:custGeom>
              <a:avLst/>
              <a:gdLst/>
              <a:ahLst/>
              <a:rect l="l" t="t" r="r" b="b"/>
              <a:pathLst>
                <a:path w="624" h="288">
                  <a:moveTo>
                    <a:pt x="624" y="288"/>
                  </a:moveTo>
                  <a:lnTo>
                    <a:pt x="576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5867280" y="27432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029200" y="3124080"/>
              <a:ext cx="1523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lement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4571640" y="1219320"/>
            <a:ext cx="2440440" cy="779040"/>
            <a:chOff x="4571640" y="1219320"/>
            <a:chExt cx="2440440" cy="779040"/>
          </a:xfrm>
        </p:grpSpPr>
        <p:sp>
          <p:nvSpPr>
            <p:cNvPr id="755" name=""/>
            <p:cNvSpPr/>
            <p:nvPr/>
          </p:nvSpPr>
          <p:spPr>
            <a:xfrm>
              <a:off x="4751640" y="1219320"/>
              <a:ext cx="4316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208840" y="1219320"/>
              <a:ext cx="13460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580440" y="1219320"/>
              <a:ext cx="4316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571640" y="16351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028840" y="16351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00080" y="1635120"/>
              <a:ext cx="45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438000" y="228600"/>
            <a:ext cx="2265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igned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itive data type requires K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must be multiple of 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d on some machines; advised on IA3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ed differently by Linux and Window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 for Aligning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accessed by (aligned) double or quad-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fficient to load or store datum that spans quad word 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emory very tricky when datum spans 2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s gaps in structure to ensure correct alignment of fiel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12640" y="228600"/>
            <a:ext cx="6345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fic Cases of Align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ze of Primitive Data Typ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 by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.g.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strictions on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 by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.g.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st 1 bit of address must be 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 by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.g.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etc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st 2 bits of address must be 0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8 by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.g.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(and most other OS’s &amp; instruction set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st 3 bits of address must be 00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st 2 bits of address must be 0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treated the same as a 4-byte primitive 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2 by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 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st 2 bits of address must be 0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treated the same as a 4-byte primitive 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5943600" y="2514600"/>
            <a:ext cx="221472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S1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76200" y="228600"/>
            <a:ext cx="8391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tisfying Alignment with Struct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5803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sets Within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satisfy element’s alignment requir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all Structure Plac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tructure has alignment requirement 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alignment of any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 address &amp; structure length must be multiples of 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(under Windows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= 8, due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457200" y="4191120"/>
            <a:ext cx="8015040" cy="2057400"/>
            <a:chOff x="457200" y="4191120"/>
            <a:chExt cx="8015040" cy="2057400"/>
          </a:xfrm>
        </p:grpSpPr>
        <p:grpSp>
          <p:nvGrpSpPr>
            <p:cNvPr id="769" name=""/>
            <p:cNvGrpSpPr/>
            <p:nvPr/>
          </p:nvGrpSpPr>
          <p:grpSpPr>
            <a:xfrm>
              <a:off x="487800" y="4191120"/>
              <a:ext cx="7984440" cy="1447920"/>
              <a:chOff x="487800" y="4191120"/>
              <a:chExt cx="7984440" cy="1447920"/>
            </a:xfrm>
          </p:grpSpPr>
          <p:grpSp>
            <p:nvGrpSpPr>
              <p:cNvPr id="770" name=""/>
              <p:cNvGrpSpPr/>
              <p:nvPr/>
            </p:nvGrpSpPr>
            <p:grpSpPr>
              <a:xfrm>
                <a:off x="487800" y="4191120"/>
                <a:ext cx="7984440" cy="655200"/>
                <a:chOff x="487800" y="4191120"/>
                <a:chExt cx="7984440" cy="65520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909360" y="4191120"/>
                  <a:ext cx="279360" cy="279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2128680" y="4191120"/>
                  <a:ext cx="1193760" cy="279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i[0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3348000" y="4191120"/>
                  <a:ext cx="1193760" cy="279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i[1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5786280" y="4191120"/>
                  <a:ext cx="2413080" cy="279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1214280" y="4191120"/>
                  <a:ext cx="888840" cy="279360"/>
                </a:xfrm>
                <a:prstGeom prst="rect">
                  <a:avLst/>
                </a:prstGeom>
                <a:solidFill>
                  <a:srgbClr val="919191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566960" y="4191120"/>
                  <a:ext cx="1193760" cy="279360"/>
                </a:xfrm>
                <a:prstGeom prst="rect">
                  <a:avLst/>
                </a:prstGeom>
                <a:solidFill>
                  <a:srgbClr val="919191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87800" y="4483080"/>
                  <a:ext cx="5929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p+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706760" y="4483080"/>
                  <a:ext cx="5929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p+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2926080" y="4483080"/>
                  <a:ext cx="5929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p+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303880" y="4483080"/>
                  <a:ext cx="7300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p+1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7742160" y="4483080"/>
                  <a:ext cx="7300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p+2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2" name=""/>
              <p:cNvSpPr/>
              <p:nvPr/>
            </p:nvSpPr>
            <p:spPr>
              <a:xfrm flipV="1">
                <a:off x="2147760" y="480096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004760" y="5258160"/>
                <a:ext cx="20574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23920" indent="-223920" algn="ctr"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ultiple of 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586040" y="5258160"/>
                <a:ext cx="259092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23920" indent="-223920" algn="ctr"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ultiple of 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5805360" y="480096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6" name=""/>
            <p:cNvSpPr/>
            <p:nvPr/>
          </p:nvSpPr>
          <p:spPr>
            <a:xfrm>
              <a:off x="457200" y="586764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685800" y="4876560"/>
              <a:ext cx="0" cy="83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791320" y="5867640"/>
              <a:ext cx="2590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8229600" y="4876560"/>
              <a:ext cx="0" cy="83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43200" y="228600"/>
            <a:ext cx="36576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ray Allo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2551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03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inc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 of data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leng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guously allocated reg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of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82560" y="2590920"/>
            <a:ext cx="6099120" cy="839520"/>
            <a:chOff x="682560" y="2590920"/>
            <a:chExt cx="6099120" cy="839520"/>
          </a:xfrm>
        </p:grpSpPr>
        <p:sp>
          <p:nvSpPr>
            <p:cNvPr id="50" name=""/>
            <p:cNvSpPr/>
            <p:nvPr/>
          </p:nvSpPr>
          <p:spPr>
            <a:xfrm>
              <a:off x="682560" y="259092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har string[12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3048120" y="2666880"/>
              <a:ext cx="3733560" cy="763560"/>
              <a:chOff x="3048120" y="2666880"/>
              <a:chExt cx="3733560" cy="7635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3200400" y="2666880"/>
                <a:ext cx="2743200" cy="228600"/>
                <a:chOff x="3200400" y="2666880"/>
                <a:chExt cx="2743200" cy="22860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32004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4290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36576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38862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41148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43434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45720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48006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50292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52578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54864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57150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" name=""/>
              <p:cNvSpPr/>
              <p:nvPr/>
            </p:nvSpPr>
            <p:spPr>
              <a:xfrm>
                <a:off x="3048120" y="3062160"/>
                <a:ext cx="39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791320" y="3062160"/>
                <a:ext cx="99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 1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3276720" y="28951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6019920" y="28951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" name=""/>
          <p:cNvGrpSpPr/>
          <p:nvPr/>
        </p:nvGrpSpPr>
        <p:grpSpPr>
          <a:xfrm>
            <a:off x="1369800" y="3352680"/>
            <a:ext cx="7240680" cy="839520"/>
            <a:chOff x="1369800" y="3352680"/>
            <a:chExt cx="7240680" cy="839520"/>
          </a:xfrm>
        </p:grpSpPr>
        <p:grpSp>
          <p:nvGrpSpPr>
            <p:cNvPr id="70" name=""/>
            <p:cNvGrpSpPr/>
            <p:nvPr/>
          </p:nvGrpSpPr>
          <p:grpSpPr>
            <a:xfrm>
              <a:off x="3200400" y="3428640"/>
              <a:ext cx="4572000" cy="228600"/>
              <a:chOff x="3200400" y="3428640"/>
              <a:chExt cx="4572000" cy="228600"/>
            </a:xfrm>
          </p:grpSpPr>
          <p:sp>
            <p:nvSpPr>
              <p:cNvPr id="71" name=""/>
              <p:cNvSpPr/>
              <p:nvPr/>
            </p:nvSpPr>
            <p:spPr>
              <a:xfrm>
                <a:off x="32004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1148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292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9436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8580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369800" y="33526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t val[5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8120" y="380988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625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276720" y="36428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4191120" y="36568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69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36568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913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019920" y="36568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057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934320" y="36568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01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7848720" y="36568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76000" y="4038480"/>
            <a:ext cx="8377560" cy="1220760"/>
            <a:chOff x="576000" y="4038480"/>
            <a:chExt cx="8377560" cy="1220760"/>
          </a:xfrm>
        </p:grpSpPr>
        <p:sp>
          <p:nvSpPr>
            <p:cNvPr id="90" name=""/>
            <p:cNvSpPr/>
            <p:nvPr/>
          </p:nvSpPr>
          <p:spPr>
            <a:xfrm>
              <a:off x="576000" y="403848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ouble a[4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609480" y="4495680"/>
              <a:ext cx="8344080" cy="763560"/>
              <a:chOff x="609480" y="4495680"/>
              <a:chExt cx="8344080" cy="76356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762120" y="4495680"/>
                <a:ext cx="7315200" cy="228600"/>
                <a:chOff x="762120" y="4495680"/>
                <a:chExt cx="7315200" cy="2286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7621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5909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4197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2485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"/>
              <p:cNvSpPr/>
              <p:nvPr/>
            </p:nvSpPr>
            <p:spPr>
              <a:xfrm flipV="1">
                <a:off x="6362640" y="470988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962840" y="48909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 3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8191440" y="47239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172200" y="48769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 2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09480" y="4862520"/>
                <a:ext cx="3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838080" y="469548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438280" y="48769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 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2666880" y="470988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267080" y="48769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 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4495680" y="470988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"/>
          <p:cNvSpPr/>
          <p:nvPr/>
        </p:nvSpPr>
        <p:spPr>
          <a:xfrm>
            <a:off x="760320" y="55627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[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66880" y="5638680"/>
            <a:ext cx="2895480" cy="763560"/>
            <a:chOff x="2666880" y="5638680"/>
            <a:chExt cx="2895480" cy="763560"/>
          </a:xfrm>
        </p:grpSpPr>
        <p:grpSp>
          <p:nvGrpSpPr>
            <p:cNvPr id="109" name=""/>
            <p:cNvGrpSpPr/>
            <p:nvPr/>
          </p:nvGrpSpPr>
          <p:grpSpPr>
            <a:xfrm>
              <a:off x="2819160" y="5638680"/>
              <a:ext cx="2743200" cy="228600"/>
              <a:chOff x="2819160" y="5638680"/>
              <a:chExt cx="2743200" cy="228600"/>
            </a:xfrm>
          </p:grpSpPr>
          <p:sp>
            <p:nvSpPr>
              <p:cNvPr id="110" name=""/>
              <p:cNvSpPr/>
              <p:nvPr/>
            </p:nvSpPr>
            <p:spPr>
              <a:xfrm>
                <a:off x="2819160" y="563868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733560" y="563868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47960" y="563868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2666880" y="601956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81280" y="60339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895480" y="58525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809880" y="58669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95680" y="60339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724280" y="58669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460240" y="228600"/>
            <a:ext cx="4241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ux vs. Windo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ndows (including Cygwin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= 8, due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nux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= 4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reated like a 4-byte data 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019920" y="838080"/>
            <a:ext cx="221436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S1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533520" y="2514600"/>
            <a:ext cx="8015040" cy="1447920"/>
            <a:chOff x="533520" y="2514600"/>
            <a:chExt cx="8015040" cy="1447920"/>
          </a:xfrm>
        </p:grpSpPr>
        <p:grpSp>
          <p:nvGrpSpPr>
            <p:cNvPr id="794" name=""/>
            <p:cNvGrpSpPr/>
            <p:nvPr/>
          </p:nvGrpSpPr>
          <p:grpSpPr>
            <a:xfrm>
              <a:off x="564120" y="2514600"/>
              <a:ext cx="7984440" cy="655200"/>
              <a:chOff x="564120" y="2514600"/>
              <a:chExt cx="7984440" cy="655200"/>
            </a:xfrm>
          </p:grpSpPr>
          <p:sp>
            <p:nvSpPr>
              <p:cNvPr id="795" name=""/>
              <p:cNvSpPr/>
              <p:nvPr/>
            </p:nvSpPr>
            <p:spPr>
              <a:xfrm>
                <a:off x="985680" y="2514600"/>
                <a:ext cx="2793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205000" y="251460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i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424320" y="251460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i[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862600" y="2514600"/>
                <a:ext cx="24130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290600" y="2514600"/>
                <a:ext cx="888840" cy="27936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643280" y="2514600"/>
                <a:ext cx="1193760" cy="27936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64120" y="2806560"/>
                <a:ext cx="592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+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783080" y="2806560"/>
                <a:ext cx="592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+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002400" y="2806560"/>
                <a:ext cx="592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+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380200" y="2806560"/>
                <a:ext cx="7300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+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818480" y="2806560"/>
                <a:ext cx="7300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+2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 flipV="1">
              <a:off x="2209680" y="3047760"/>
              <a:ext cx="144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219320" y="3276720"/>
              <a:ext cx="2057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72000" y="327672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5867280" y="3047760"/>
              <a:ext cx="144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33520" y="3581280"/>
              <a:ext cx="2590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762120" y="312372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867280" y="350532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8305920" y="312372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985680" y="4800600"/>
            <a:ext cx="2797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05000" y="480060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[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424320" y="480060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290600" y="4800600"/>
            <a:ext cx="889200" cy="2793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64120" y="50925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+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783440" y="50925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+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002400" y="50925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+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2209680" y="5333760"/>
            <a:ext cx="144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219320" y="5562720"/>
            <a:ext cx="2057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124080" y="556272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33520" y="5867280"/>
            <a:ext cx="2590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762120" y="540972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4113360" y="4800600"/>
            <a:ext cx="3168360" cy="1371600"/>
            <a:chOff x="4113360" y="4800600"/>
            <a:chExt cx="3168360" cy="1371600"/>
          </a:xfrm>
        </p:grpSpPr>
        <p:sp>
          <p:nvSpPr>
            <p:cNvPr id="827" name=""/>
            <p:cNvSpPr/>
            <p:nvPr/>
          </p:nvSpPr>
          <p:spPr>
            <a:xfrm>
              <a:off x="4595760" y="48006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113360" y="509256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551640" y="509256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4600440" y="5333760"/>
              <a:ext cx="144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600440" y="579132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7039080" y="540972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-51120" y="228600"/>
            <a:ext cx="9247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ect of Overall Alignment Requir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838080" y="2819520"/>
            <a:ext cx="7315200" cy="279360"/>
            <a:chOff x="838080" y="2819520"/>
            <a:chExt cx="7315200" cy="279360"/>
          </a:xfrm>
        </p:grpSpPr>
        <p:sp>
          <p:nvSpPr>
            <p:cNvPr id="835" name=""/>
            <p:cNvSpPr/>
            <p:nvPr/>
          </p:nvSpPr>
          <p:spPr>
            <a:xfrm>
              <a:off x="571464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276360" y="2819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495680" y="2819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38080" y="281952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019560" y="2819520"/>
              <a:ext cx="2133720" cy="27936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608400" y="320040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+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148280" y="320040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+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970720" y="320040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+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443560" y="320040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+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548760" y="3200400"/>
            <a:ext cx="1964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ndows: p+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: p+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914400" y="1066680"/>
            <a:ext cx="221472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S2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838080" y="3733920"/>
            <a:ext cx="221472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S3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x[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608400" y="5410080"/>
            <a:ext cx="6749640" cy="744120"/>
            <a:chOff x="608400" y="5410080"/>
            <a:chExt cx="6749640" cy="744120"/>
          </a:xfrm>
        </p:grpSpPr>
        <p:sp>
          <p:nvSpPr>
            <p:cNvPr id="848" name=""/>
            <p:cNvSpPr/>
            <p:nvPr/>
          </p:nvSpPr>
          <p:spPr>
            <a:xfrm>
              <a:off x="5715000" y="541008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27672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49568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019920" y="5410080"/>
              <a:ext cx="914400" cy="27936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08400" y="579096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48280" y="579096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970720" y="579096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443560" y="579096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27960" y="579096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3808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05740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51400" y="579096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3583800" y="1295280"/>
            <a:ext cx="242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multiple of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for Wind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for 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657600" y="441972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multiple of 4 (in either 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61880" y="228600"/>
            <a:ext cx="8221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dering Elements Within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914400"/>
            <a:ext cx="221436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S4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38080" y="3581280"/>
            <a:ext cx="221472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S5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532440" y="2819520"/>
            <a:ext cx="7815960" cy="667800"/>
            <a:chOff x="532440" y="2819520"/>
            <a:chExt cx="7815960" cy="667800"/>
          </a:xfrm>
        </p:grpSpPr>
        <p:sp>
          <p:nvSpPr>
            <p:cNvPr id="866" name=""/>
            <p:cNvSpPr/>
            <p:nvPr/>
          </p:nvSpPr>
          <p:spPr>
            <a:xfrm>
              <a:off x="761760" y="2819520"/>
              <a:ext cx="2790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781680" y="2819520"/>
              <a:ext cx="11934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200400" y="2819520"/>
              <a:ext cx="2412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066680" y="2819520"/>
              <a:ext cx="2133360" cy="27936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32440" y="31240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475320" y="31240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894040" y="31240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367240" y="31240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618320" y="31240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62360" y="2819520"/>
              <a:ext cx="2790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867280" y="2819520"/>
              <a:ext cx="914040" cy="27936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684720" y="5486400"/>
            <a:ext cx="5565240" cy="668160"/>
            <a:chOff x="684720" y="5486400"/>
            <a:chExt cx="5565240" cy="668160"/>
          </a:xfrm>
        </p:grpSpPr>
        <p:sp>
          <p:nvSpPr>
            <p:cNvPr id="878" name=""/>
            <p:cNvSpPr/>
            <p:nvPr/>
          </p:nvSpPr>
          <p:spPr>
            <a:xfrm>
              <a:off x="3886200" y="5486400"/>
              <a:ext cx="609480" cy="27936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352680" y="548640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495680" y="548640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914400" y="54864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472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18968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04704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1988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657600" y="548640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3788640" y="1447920"/>
            <a:ext cx="37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bytes wasted space in Wind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574880" y="44197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bytes wasted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122560" y="304920"/>
            <a:ext cx="4873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rays of Struct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52707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cated by repeating allocation for array 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general, may nest arrays &amp; structures to arbitrary dep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1295280" y="5257800"/>
            <a:ext cx="6615000" cy="659160"/>
            <a:chOff x="1295280" y="5257800"/>
            <a:chExt cx="6615000" cy="659160"/>
          </a:xfrm>
        </p:grpSpPr>
        <p:sp>
          <p:nvSpPr>
            <p:cNvPr id="892" name=""/>
            <p:cNvSpPr/>
            <p:nvPr/>
          </p:nvSpPr>
          <p:spPr>
            <a:xfrm>
              <a:off x="1596960" y="5292720"/>
              <a:ext cx="18032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295280" y="5584680"/>
              <a:ext cx="547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425760" y="5292720"/>
              <a:ext cx="18032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254560" y="5292720"/>
              <a:ext cx="18032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078360" y="5584680"/>
              <a:ext cx="669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+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907160" y="5584680"/>
              <a:ext cx="669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+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735960" y="5584680"/>
              <a:ext cx="669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+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358400" y="5257800"/>
              <a:ext cx="551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• • 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1143000" y="4114800"/>
            <a:ext cx="2209680" cy="1143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257800" y="4114800"/>
            <a:ext cx="3124080" cy="1143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91296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63724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27528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99956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791320" y="1752480"/>
            <a:ext cx="221436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S6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a[10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1066680" y="3809880"/>
            <a:ext cx="7315200" cy="279360"/>
            <a:chOff x="1066680" y="3809880"/>
            <a:chExt cx="7315200" cy="279360"/>
          </a:xfrm>
        </p:grpSpPr>
        <p:sp>
          <p:nvSpPr>
            <p:cNvPr id="908" name=""/>
            <p:cNvSpPr/>
            <p:nvPr/>
          </p:nvSpPr>
          <p:spPr>
            <a:xfrm>
              <a:off x="1066680" y="3809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1].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43600" y="3809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1].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504960" y="380988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1]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286000" y="3809880"/>
              <a:ext cx="1218960" cy="27936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162560" y="3809880"/>
              <a:ext cx="1219320" cy="27936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63360" y="228600"/>
            <a:ext cx="7140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ing Element within Arr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527076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offset to start of stru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 12*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s 4*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 element according to its offset within stru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set by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mbler gives displacement as a +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er must set actual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1219320" y="5105520"/>
            <a:ext cx="358128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 flipV="1">
            <a:off x="6553080" y="5105160"/>
            <a:ext cx="198144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1066680" y="4800600"/>
            <a:ext cx="7162920" cy="684720"/>
            <a:chOff x="1066680" y="4800600"/>
            <a:chExt cx="7162920" cy="684720"/>
          </a:xfrm>
        </p:grpSpPr>
        <p:sp>
          <p:nvSpPr>
            <p:cNvPr id="918" name=""/>
            <p:cNvSpPr/>
            <p:nvPr/>
          </p:nvSpPr>
          <p:spPr>
            <a:xfrm>
              <a:off x="1371600" y="4800600"/>
              <a:ext cx="18032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066680" y="5153040"/>
              <a:ext cx="547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800600" y="4800600"/>
              <a:ext cx="18032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[i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496040" y="513072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+12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200400" y="4800600"/>
              <a:ext cx="16002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• • 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629400" y="4800600"/>
              <a:ext cx="16002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• • 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457200" y="3276720"/>
            <a:ext cx="327672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 get_j(int id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a[idx].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86200" y="3276720"/>
            <a:ext cx="4648320" cy="91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ax = i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(%eax,%eax,2),%eax # 3*i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swl a+8(,%eax,4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064880" y="6095880"/>
            <a:ext cx="86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12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560200" y="6095880"/>
            <a:ext cx="1141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12i+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019920" y="1447920"/>
            <a:ext cx="221436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S6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a[10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1219320" y="5715000"/>
            <a:ext cx="7315200" cy="279360"/>
            <a:chOff x="1219320" y="5715000"/>
            <a:chExt cx="7315200" cy="279360"/>
          </a:xfrm>
        </p:grpSpPr>
        <p:sp>
          <p:nvSpPr>
            <p:cNvPr id="930" name=""/>
            <p:cNvSpPr/>
            <p:nvPr/>
          </p:nvSpPr>
          <p:spPr>
            <a:xfrm>
              <a:off x="1219320" y="571500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i].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096240" y="571500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i].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657600" y="57150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i]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38640" y="5715000"/>
              <a:ext cx="1218960" cy="27936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315200" y="5715000"/>
              <a:ext cx="1219320" cy="27936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77560" y="304920"/>
            <a:ext cx="8537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tisfying Alignment within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63244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hieving Alig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ing address of structure array must be multiple of worst-case alignment for any e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multiple of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 of element within structure must be multiple of element’s alignment requir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s offset of 4 is a multiple of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all size of structure must be multiple of worst-case alignment for any e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 padded with unused space to be 12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629400" y="1600200"/>
            <a:ext cx="221472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S6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a[10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1217880" y="4191120"/>
            <a:ext cx="7511040" cy="1658520"/>
            <a:chOff x="1217880" y="4191120"/>
            <a:chExt cx="7511040" cy="1658520"/>
          </a:xfrm>
        </p:grpSpPr>
        <p:sp>
          <p:nvSpPr>
            <p:cNvPr id="939" name=""/>
            <p:cNvSpPr/>
            <p:nvPr/>
          </p:nvSpPr>
          <p:spPr>
            <a:xfrm flipH="1">
              <a:off x="1414080" y="4496040"/>
              <a:ext cx="3580920" cy="6094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 flipV="1">
              <a:off x="6747840" y="4495680"/>
              <a:ext cx="1981080" cy="6094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1217880" y="4191120"/>
              <a:ext cx="7206480" cy="715680"/>
              <a:chOff x="1217880" y="4191120"/>
              <a:chExt cx="7206480" cy="715680"/>
            </a:xfrm>
          </p:grpSpPr>
          <p:sp>
            <p:nvSpPr>
              <p:cNvPr id="942" name=""/>
              <p:cNvSpPr/>
              <p:nvPr/>
            </p:nvSpPr>
            <p:spPr>
              <a:xfrm>
                <a:off x="1566720" y="4191120"/>
                <a:ext cx="18028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217880" y="4543560"/>
                <a:ext cx="592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+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995720" y="4191120"/>
                <a:ext cx="18028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[i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617360" y="452124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+12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395520" y="4191120"/>
                <a:ext cx="159984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• • 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824520" y="4191120"/>
                <a:ext cx="159984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• • 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8" name=""/>
            <p:cNvSpPr/>
            <p:nvPr/>
          </p:nvSpPr>
          <p:spPr>
            <a:xfrm>
              <a:off x="1260000" y="548640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+12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621600" y="5486400"/>
              <a:ext cx="1141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+12i+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0" name=""/>
            <p:cNvGrpSpPr/>
            <p:nvPr/>
          </p:nvGrpSpPr>
          <p:grpSpPr>
            <a:xfrm>
              <a:off x="1414440" y="5105520"/>
              <a:ext cx="7314480" cy="279360"/>
              <a:chOff x="1414440" y="5105520"/>
              <a:chExt cx="7314480" cy="279360"/>
            </a:xfrm>
          </p:grpSpPr>
          <p:sp>
            <p:nvSpPr>
              <p:cNvPr id="951" name=""/>
              <p:cNvSpPr/>
              <p:nvPr/>
            </p:nvSpPr>
            <p:spPr>
              <a:xfrm>
                <a:off x="1414440" y="5105520"/>
                <a:ext cx="119340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[1].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291000" y="5105520"/>
                <a:ext cx="119340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[1].j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852360" y="5105520"/>
                <a:ext cx="24127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[1].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633400" y="5105520"/>
                <a:ext cx="1218600" cy="27936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509960" y="5105520"/>
                <a:ext cx="1218960" cy="27936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6" name=""/>
          <p:cNvSpPr/>
          <p:nvPr/>
        </p:nvSpPr>
        <p:spPr>
          <a:xfrm flipH="1" flipV="1">
            <a:off x="4190760" y="6095520"/>
            <a:ext cx="6094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955760" y="63198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1066680" y="4800600"/>
            <a:ext cx="30492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59720" y="58626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rot="16200000">
            <a:off x="4000320" y="5295600"/>
            <a:ext cx="380880" cy="1219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2722320" y="304920"/>
            <a:ext cx="36478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on Allo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lay union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cate according to largest e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only use one field at a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57200" y="2514600"/>
            <a:ext cx="220968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on U1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*u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3198960" y="2819520"/>
            <a:ext cx="3168720" cy="1242720"/>
            <a:chOff x="3198960" y="2819520"/>
            <a:chExt cx="3168720" cy="1242720"/>
          </a:xfrm>
        </p:grpSpPr>
        <p:sp>
          <p:nvSpPr>
            <p:cNvPr id="965" name=""/>
            <p:cNvSpPr/>
            <p:nvPr/>
          </p:nvSpPr>
          <p:spPr>
            <a:xfrm>
              <a:off x="375768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757680" y="3124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977000" y="3124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757680" y="34290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198960" y="36990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up+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418280" y="36990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up+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37600" y="36990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up+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457200" y="4114800"/>
            <a:ext cx="221472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S1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*s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455760" y="5715000"/>
            <a:ext cx="8121600" cy="655200"/>
            <a:chOff x="455760" y="5715000"/>
            <a:chExt cx="8121600" cy="655200"/>
          </a:xfrm>
        </p:grpSpPr>
        <p:sp>
          <p:nvSpPr>
            <p:cNvPr id="974" name=""/>
            <p:cNvSpPr/>
            <p:nvPr/>
          </p:nvSpPr>
          <p:spPr>
            <a:xfrm>
              <a:off x="1014120" y="5715000"/>
              <a:ext cx="2790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233440" y="5715000"/>
              <a:ext cx="11934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452760" y="5715000"/>
              <a:ext cx="11934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91040" y="571500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319040" y="5715000"/>
              <a:ext cx="888480" cy="27936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671720" y="5715000"/>
              <a:ext cx="1193400" cy="27936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5760" y="600696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p+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674720" y="600696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p+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893680" y="600696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p+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271480" y="600696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p+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710120" y="600696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p+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4056840" y="50706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Windows align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528480" y="985680"/>
            <a:ext cx="251964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def un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signed 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bit_float_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800600" y="990720"/>
            <a:ext cx="388296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bit2float(unsigned u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t_float_t ar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.u = 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arg.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1083960" y="2527200"/>
            <a:ext cx="1537560" cy="938160"/>
            <a:chOff x="1083960" y="2527200"/>
            <a:chExt cx="1537560" cy="938160"/>
          </a:xfrm>
        </p:grpSpPr>
        <p:sp>
          <p:nvSpPr>
            <p:cNvPr id="989" name=""/>
            <p:cNvSpPr/>
            <p:nvPr/>
          </p:nvSpPr>
          <p:spPr>
            <a:xfrm>
              <a:off x="1231920" y="252720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231920" y="28321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083960" y="31021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302920" y="31021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4800600" y="2971800"/>
            <a:ext cx="388296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signed float2bit(float f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t_float_t ar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.f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arg.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06240" y="228600"/>
            <a:ext cx="7932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Union to Access Bit Patter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28240" y="3581280"/>
            <a:ext cx="46609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direct access to bit representation of flo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t2flo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es float with given bit patter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the same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loat)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2b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es bit pattern from flo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the same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unsigned)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004920" y="520560"/>
            <a:ext cx="31748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te Ord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2551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/quad words stored in memory as 4/8 consecutive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is most (least) significan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cause problems when exchanging binary data between mach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 Endi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significant byte has lowest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360/370, Motorola 68K, Spa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tle Endi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st significant byte has lowest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 x86, Digital VA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001600" y="520560"/>
            <a:ext cx="5181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te Ordering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28480" y="1379520"/>
            <a:ext cx="403560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signed char c[8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signed short s[4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signed int i[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signed long l[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dw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7020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[3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06072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[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841400" y="4280040"/>
            <a:ext cx="24130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[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06072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[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451240" y="3670200"/>
            <a:ext cx="5839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[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84140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[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84140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[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108840" y="3670200"/>
            <a:ext cx="5839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[7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49900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[3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280040" y="4280040"/>
            <a:ext cx="24127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[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49900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[6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88952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[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28004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[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280040" y="3670200"/>
            <a:ext cx="5839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[4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841400" y="4584600"/>
            <a:ext cx="24256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[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267080" y="4572000"/>
            <a:ext cx="2425680" cy="2793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8120" y="228600"/>
            <a:ext cx="30477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ray Ac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2551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4000"/>
          </a:bodyPr>
          <a:p>
            <a:pPr marL="53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inc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4280" indent="-53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 of data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leng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4280" indent="-53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n be used as a pointer to starting element of the arr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[4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+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val[2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[5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(val+1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4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88920" y="2362320"/>
            <a:ext cx="7240680" cy="839520"/>
            <a:chOff x="988920" y="2362320"/>
            <a:chExt cx="7240680" cy="839520"/>
          </a:xfrm>
        </p:grpSpPr>
        <p:grpSp>
          <p:nvGrpSpPr>
            <p:cNvPr id="122" name=""/>
            <p:cNvGrpSpPr/>
            <p:nvPr/>
          </p:nvGrpSpPr>
          <p:grpSpPr>
            <a:xfrm>
              <a:off x="2819520" y="2438280"/>
              <a:ext cx="4572000" cy="228240"/>
              <a:chOff x="2819520" y="2438280"/>
              <a:chExt cx="4572000" cy="228240"/>
            </a:xfrm>
          </p:grpSpPr>
          <p:sp>
            <p:nvSpPr>
              <p:cNvPr id="123" name=""/>
              <p:cNvSpPr/>
              <p:nvPr/>
            </p:nvSpPr>
            <p:spPr>
              <a:xfrm>
                <a:off x="2819520" y="243828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33920" y="243828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648320" y="243828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562720" y="243828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77120" y="243828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988920" y="236232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t val[5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6880" y="28191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81280" y="28335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895480" y="2652480"/>
              <a:ext cx="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809880" y="2666880"/>
              <a:ext cx="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95680" y="28335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724280" y="2666880"/>
              <a:ext cx="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10080" y="28335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638680" y="2666880"/>
              <a:ext cx="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4480" y="28335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553080" y="2666880"/>
              <a:ext cx="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38880" y="28335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7467480" y="2666880"/>
              <a:ext cx="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6781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te Ordering Example (Cont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19320" y="990720"/>
            <a:ext cx="6384960" cy="530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 = 0; j &lt; 8; j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.c[j] = 0xf0 +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haracters 0-7 ==  [0x%x,0x%x,0x%x,0x%x,0x%x,0x%x,0x%x,0x%x]\n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.c[0], dw.c[1], dw.c[2], dw.c[3]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.c[4], dw.c[5], dw.c[6], dw.c[7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Shorts 0-3 == [0x%x,0x%x,0x%x,0x%x]\n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.s[0], dw.s[1], dw.s[2], dw.s[3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Ints 0-1 == [0x%x,0x%x]\n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.i[0], dw.i[1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ong 0 == [0x%lx]\n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.l[0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209680" y="304920"/>
            <a:ext cx="47498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te Ordering on x8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57200" y="11430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tle En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14440" y="5105520"/>
            <a:ext cx="827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acters 0-7 == [0xf0,0xf1,0xf2,0xf3,0xf4,0xf5,0xf6,0xf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s     0-3 == [0xf1f0,0xf3f2,0xf5f4,0xf7f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s       0-1 == [0xf3f2f1f0,0xf7f6f5f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       0   == [f3f2f1f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57200" y="4640400"/>
            <a:ext cx="3657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 on Pentiu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1752480" y="1676520"/>
            <a:ext cx="4851360" cy="2892960"/>
            <a:chOff x="1752480" y="1676520"/>
            <a:chExt cx="4851360" cy="2892960"/>
          </a:xfrm>
        </p:grpSpPr>
        <p:grpSp>
          <p:nvGrpSpPr>
            <p:cNvPr id="1023" name=""/>
            <p:cNvGrpSpPr/>
            <p:nvPr/>
          </p:nvGrpSpPr>
          <p:grpSpPr>
            <a:xfrm>
              <a:off x="1804680" y="1676520"/>
              <a:ext cx="4746600" cy="332280"/>
              <a:chOff x="1804680" y="1676520"/>
              <a:chExt cx="4746600" cy="332280"/>
            </a:xfrm>
          </p:grpSpPr>
          <p:sp>
            <p:nvSpPr>
              <p:cNvPr id="1024" name=""/>
              <p:cNvSpPr/>
              <p:nvPr/>
            </p:nvSpPr>
            <p:spPr>
              <a:xfrm>
                <a:off x="180468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41416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02400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63348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24296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85280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46228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07176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2" name=""/>
            <p:cNvGrpSpPr/>
            <p:nvPr/>
          </p:nvGrpSpPr>
          <p:grpSpPr>
            <a:xfrm>
              <a:off x="1752480" y="1982880"/>
              <a:ext cx="4851360" cy="2586600"/>
              <a:chOff x="1752480" y="1982880"/>
              <a:chExt cx="4851360" cy="2586600"/>
            </a:xfrm>
          </p:grpSpPr>
          <p:sp>
            <p:nvSpPr>
              <p:cNvPr id="1033" name=""/>
              <p:cNvSpPr/>
              <p:nvPr/>
            </p:nvSpPr>
            <p:spPr>
              <a:xfrm>
                <a:off x="3581280" y="1982880"/>
                <a:ext cx="5839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97144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s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752480" y="3202200"/>
                <a:ext cx="24127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i[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77948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34936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7144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[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36196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75248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s[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752480" y="1982880"/>
                <a:ext cx="5839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[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779480" y="289584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568320" y="289584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99844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56832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01956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41008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s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4190760" y="3202200"/>
                <a:ext cx="24130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i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21776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478764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410080" y="1982880"/>
                <a:ext cx="5839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80024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19076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s[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19076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217760" y="289584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006960" y="289584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43708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00696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>
                <a:off x="3187080" y="4256280"/>
                <a:ext cx="2133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921480" y="4267440"/>
                <a:ext cx="588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i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752480" y="3811680"/>
                <a:ext cx="24127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l[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779480" y="350532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644640" y="350532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2133720" y="304920"/>
            <a:ext cx="4851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te Ordering on Su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57200" y="11430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 En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38480" y="5029200"/>
            <a:ext cx="827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acters 0-7 == [0xf0,0xf1,0xf2,0xf3,0xf4,0xf5,0xf6,0xf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s     0-3 == [0xf0f1,0xf2f3,0xf4f5,0xf6f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s       0-1 == [0xf0f1f2f3,0xf4f5f6f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       0   == [0xf0f1f2f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57200" y="4495680"/>
            <a:ext cx="3657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 on S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1778040" y="1676520"/>
            <a:ext cx="4919760" cy="2892960"/>
            <a:chOff x="1778040" y="1676520"/>
            <a:chExt cx="4919760" cy="2892960"/>
          </a:xfrm>
        </p:grpSpPr>
        <p:sp>
          <p:nvSpPr>
            <p:cNvPr id="1069" name=""/>
            <p:cNvSpPr/>
            <p:nvPr/>
          </p:nvSpPr>
          <p:spPr>
            <a:xfrm>
              <a:off x="3619800" y="198288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00996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791000" y="320220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16140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77804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00996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40048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79100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791000" y="198288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778040" y="289584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646800" y="289584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42748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99736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05808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44860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229280" y="32022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64680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21668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448600" y="198288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83876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22928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22928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216680" y="289584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085080" y="289584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86576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43564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84320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45268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6252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67200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28148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89132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50080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11028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3225600" y="425628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960000" y="4267440"/>
              <a:ext cx="588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791000" y="381168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778040" y="350532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722760" y="350532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5257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te Ordering on Alph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57200" y="106668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tle En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62160" y="5105520"/>
            <a:ext cx="827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acters 0-7 == [0xf0,0xf1,0xf2,0xf3,0xf4,0xf5,0xf6,0xf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s     0-3 == [0xf1f0,0xf3f2,0xf5f4,0xf7f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s       0-1 == [0xf3f2f1f0,0xf7f6f5f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       0   == [0xf7f6f5f4f3f2f1f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57200" y="4640400"/>
            <a:ext cx="3657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 on Alph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1752480" y="1600200"/>
            <a:ext cx="4851360" cy="2892960"/>
            <a:chOff x="1752480" y="1600200"/>
            <a:chExt cx="4851360" cy="2892960"/>
          </a:xfrm>
        </p:grpSpPr>
        <p:sp>
          <p:nvSpPr>
            <p:cNvPr id="1113" name=""/>
            <p:cNvSpPr/>
            <p:nvPr/>
          </p:nvSpPr>
          <p:spPr>
            <a:xfrm>
              <a:off x="3581280" y="189396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97144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752480" y="311328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76652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33640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97144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36196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75248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752480" y="189396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766520" y="281952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555720" y="281952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98584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55572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01956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41008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190760" y="311328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20516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77504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410080" y="189396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80024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19076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19076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205160" y="281952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994000" y="281952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42412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99400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817280" y="1600200"/>
              <a:ext cx="454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42712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03660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646080" y="1600200"/>
              <a:ext cx="454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25592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86540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474880" y="1600200"/>
              <a:ext cx="454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08472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187080" y="416736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934080" y="4191120"/>
              <a:ext cx="588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752480" y="3722760"/>
              <a:ext cx="4851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766520" y="3429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994000" y="3429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467160" y="228600"/>
            <a:ext cx="22096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s in 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guous allocation of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er to first e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bounds chec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Optimiz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 often turns array code into pointer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d2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addressing modes to scale array ind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ts of tricks to improve array indexing in loo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cate bytes in order decla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d in middle and at end to satisfy align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lay decla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y to circumvent type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908440" y="228600"/>
            <a:ext cx="3327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ray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4876560"/>
            <a:ext cx="754380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laration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p_dig cm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 equivalent to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mu[5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arrays were allocated in successive 20 byte b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uaranteed to happen i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838080"/>
            <a:ext cx="49244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def int zip_dig[5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p_dig cmu = { 1, 5, 2, 1, 3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p_dig mit = { 0, 2, 1, 3, 9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p_dig ucb = { 9, 4, 7, 2, 0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69800" y="2438280"/>
            <a:ext cx="6858720" cy="2363760"/>
            <a:chOff x="1369800" y="2438280"/>
            <a:chExt cx="6858720" cy="2363760"/>
          </a:xfrm>
        </p:grpSpPr>
        <p:grpSp>
          <p:nvGrpSpPr>
            <p:cNvPr id="145" name=""/>
            <p:cNvGrpSpPr/>
            <p:nvPr/>
          </p:nvGrpSpPr>
          <p:grpSpPr>
            <a:xfrm>
              <a:off x="1385640" y="2438280"/>
              <a:ext cx="6842880" cy="825480"/>
              <a:chOff x="1385640" y="2438280"/>
              <a:chExt cx="6842880" cy="825480"/>
            </a:xfrm>
          </p:grpSpPr>
          <p:sp>
            <p:nvSpPr>
              <p:cNvPr id="146" name=""/>
              <p:cNvSpPr/>
              <p:nvPr/>
            </p:nvSpPr>
            <p:spPr>
              <a:xfrm>
                <a:off x="1385640" y="243828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ip_dig cmu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3201480" y="2514600"/>
                <a:ext cx="5027040" cy="749160"/>
                <a:chOff x="3201480" y="2514600"/>
                <a:chExt cx="5027040" cy="749160"/>
              </a:xfrm>
            </p:grpSpPr>
            <p:grpSp>
              <p:nvGrpSpPr>
                <p:cNvPr id="148" name=""/>
                <p:cNvGrpSpPr/>
                <p:nvPr/>
              </p:nvGrpSpPr>
              <p:grpSpPr>
                <a:xfrm>
                  <a:off x="3353040" y="2514600"/>
                  <a:ext cx="4572000" cy="228600"/>
                  <a:chOff x="3353040" y="2514600"/>
                  <a:chExt cx="4572000" cy="2286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3353040" y="25146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267440" y="25146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5181840" y="25146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6096240" y="25146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7010640" y="25146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" name=""/>
                <p:cNvSpPr/>
                <p:nvPr/>
              </p:nvSpPr>
              <p:spPr>
                <a:xfrm flipV="1">
                  <a:off x="3429000" y="27428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01480" y="28954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1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4343400" y="27428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115880" y="28954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5257800" y="27428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30280" y="28954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6172200" y="27428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944680" y="28954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V="1">
                  <a:off x="7086600" y="27428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859080" y="28954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>
                  <a:off x="8001000" y="27428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773480" y="28954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1369800" y="3214800"/>
              <a:ext cx="6842880" cy="824760"/>
              <a:chOff x="1369800" y="3214800"/>
              <a:chExt cx="6842880" cy="824760"/>
            </a:xfrm>
          </p:grpSpPr>
          <p:sp>
            <p:nvSpPr>
              <p:cNvPr id="167" name=""/>
              <p:cNvSpPr/>
              <p:nvPr/>
            </p:nvSpPr>
            <p:spPr>
              <a:xfrm>
                <a:off x="1369800" y="321480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ip_dig mi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3185640" y="3290760"/>
                <a:ext cx="5027040" cy="748800"/>
                <a:chOff x="3185640" y="3290760"/>
                <a:chExt cx="5027040" cy="7488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3337200" y="3290760"/>
                  <a:ext cx="4572000" cy="228240"/>
                  <a:chOff x="3337200" y="3290760"/>
                  <a:chExt cx="4572000" cy="2282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3337200" y="32907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4251600" y="32907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5166000" y="32907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6080400" y="32907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6994800" y="32907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5" name=""/>
                <p:cNvSpPr/>
                <p:nvPr/>
              </p:nvSpPr>
              <p:spPr>
                <a:xfrm flipV="1">
                  <a:off x="3413160" y="35190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185640" y="36712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>
                  <a:off x="4327560" y="35190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100040" y="36712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4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5241960" y="35190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014440" y="36712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4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6156360" y="35190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928840" y="36712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4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V="1">
                  <a:off x="7070760" y="35190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843240" y="36712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5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>
                  <a:off x="7985160" y="35190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757640" y="36712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7" name=""/>
            <p:cNvGrpSpPr/>
            <p:nvPr/>
          </p:nvGrpSpPr>
          <p:grpSpPr>
            <a:xfrm>
              <a:off x="1369800" y="3976560"/>
              <a:ext cx="6842880" cy="825480"/>
              <a:chOff x="1369800" y="3976560"/>
              <a:chExt cx="6842880" cy="825480"/>
            </a:xfrm>
          </p:grpSpPr>
          <p:sp>
            <p:nvSpPr>
              <p:cNvPr id="188" name=""/>
              <p:cNvSpPr/>
              <p:nvPr/>
            </p:nvSpPr>
            <p:spPr>
              <a:xfrm>
                <a:off x="1369800" y="397656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ip_dig ucb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3185640" y="4052880"/>
                <a:ext cx="5027040" cy="749160"/>
                <a:chOff x="3185640" y="4052880"/>
                <a:chExt cx="5027040" cy="749160"/>
              </a:xfrm>
            </p:grpSpPr>
            <p:grpSp>
              <p:nvGrpSpPr>
                <p:cNvPr id="190" name=""/>
                <p:cNvGrpSpPr/>
                <p:nvPr/>
              </p:nvGrpSpPr>
              <p:grpSpPr>
                <a:xfrm>
                  <a:off x="3337200" y="4052880"/>
                  <a:ext cx="4572000" cy="228600"/>
                  <a:chOff x="3337200" y="4052880"/>
                  <a:chExt cx="4572000" cy="2286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3337200" y="40528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4251600" y="40528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5166000" y="40528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7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6080400" y="40528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6994800" y="40528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" name=""/>
                <p:cNvSpPr/>
                <p:nvPr/>
              </p:nvSpPr>
              <p:spPr>
                <a:xfrm flipV="1">
                  <a:off x="3413160" y="42811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185640" y="44337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4327560" y="42811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100040" y="44337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6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V="1">
                  <a:off x="5241960" y="42811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014440" y="44337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6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V="1">
                  <a:off x="6156360" y="42811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928840" y="44337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6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V="1">
                  <a:off x="7070760" y="42811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843240" y="44337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7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7985160" y="42811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757640" y="44337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7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01720" y="228600"/>
            <a:ext cx="57405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ray Accessing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90920" y="396216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Reference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05520" y="1523880"/>
            <a:ext cx="342900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get_dig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zip_dig z, int di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z[dig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57400" y="4419720"/>
            <a:ext cx="4924440" cy="91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dx =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ax = d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dx,%eax,4),%eax # z[dig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066680"/>
            <a:ext cx="4495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ntains starting address of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ntains array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red digit a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*%eax +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memory referenc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%edx,%eax,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50292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ferencing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3504960"/>
            <a:ext cx="825516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Does Not Do Any Bounds Checking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arante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t[3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6 + 4* 3 = 4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t[5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6 + 4* 5 = 5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t[-1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6 + 4*-1 = 3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u[15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6 + 4*15 = 7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??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 of range behavior implementation-depend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guaranteed relative allocation of different arra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217520" y="990720"/>
            <a:ext cx="6858720" cy="2362680"/>
            <a:chOff x="1217520" y="990720"/>
            <a:chExt cx="6858720" cy="2362680"/>
          </a:xfrm>
        </p:grpSpPr>
        <p:grpSp>
          <p:nvGrpSpPr>
            <p:cNvPr id="216" name=""/>
            <p:cNvGrpSpPr/>
            <p:nvPr/>
          </p:nvGrpSpPr>
          <p:grpSpPr>
            <a:xfrm>
              <a:off x="1233360" y="990720"/>
              <a:ext cx="6842880" cy="824760"/>
              <a:chOff x="1233360" y="990720"/>
              <a:chExt cx="6842880" cy="824760"/>
            </a:xfrm>
          </p:grpSpPr>
          <p:sp>
            <p:nvSpPr>
              <p:cNvPr id="217" name=""/>
              <p:cNvSpPr/>
              <p:nvPr/>
            </p:nvSpPr>
            <p:spPr>
              <a:xfrm>
                <a:off x="1233360" y="99072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ip_dig cmu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3049200" y="1066680"/>
                <a:ext cx="5027040" cy="748800"/>
                <a:chOff x="3049200" y="1066680"/>
                <a:chExt cx="5027040" cy="7488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3200760" y="1066680"/>
                  <a:ext cx="4572000" cy="228240"/>
                  <a:chOff x="3200760" y="1066680"/>
                  <a:chExt cx="4572000" cy="22824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32007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41151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50295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59439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68583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 flipV="1">
                  <a:off x="32767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0492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1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41911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9636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>
                  <a:off x="51055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8780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V="1">
                  <a:off x="60199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7924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69343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7068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V="1">
                  <a:off x="78487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6212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7" name=""/>
            <p:cNvGrpSpPr/>
            <p:nvPr/>
          </p:nvGrpSpPr>
          <p:grpSpPr>
            <a:xfrm>
              <a:off x="1217520" y="1766880"/>
              <a:ext cx="6842880" cy="824400"/>
              <a:chOff x="1217520" y="1766880"/>
              <a:chExt cx="6842880" cy="824400"/>
            </a:xfrm>
          </p:grpSpPr>
          <p:sp>
            <p:nvSpPr>
              <p:cNvPr id="238" name=""/>
              <p:cNvSpPr/>
              <p:nvPr/>
            </p:nvSpPr>
            <p:spPr>
              <a:xfrm>
                <a:off x="1217520" y="176688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ip_dig mi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3033360" y="1842840"/>
                <a:ext cx="5027040" cy="748440"/>
                <a:chOff x="3033360" y="1842840"/>
                <a:chExt cx="5027040" cy="74844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3184920" y="1842840"/>
                  <a:ext cx="4572000" cy="228240"/>
                  <a:chOff x="3184920" y="1842840"/>
                  <a:chExt cx="4572000" cy="22824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31849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40993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50137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59281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68425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6" name=""/>
                <p:cNvSpPr/>
                <p:nvPr/>
              </p:nvSpPr>
              <p:spPr>
                <a:xfrm flipV="1">
                  <a:off x="32608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0333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41752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9477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4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V="1">
                  <a:off x="50896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8621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4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V="1">
                  <a:off x="60040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7765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4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69184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6909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5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V="1">
                  <a:off x="78328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6053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8" name=""/>
            <p:cNvGrpSpPr/>
            <p:nvPr/>
          </p:nvGrpSpPr>
          <p:grpSpPr>
            <a:xfrm>
              <a:off x="1217520" y="2528640"/>
              <a:ext cx="6842880" cy="824760"/>
              <a:chOff x="1217520" y="2528640"/>
              <a:chExt cx="6842880" cy="824760"/>
            </a:xfrm>
          </p:grpSpPr>
          <p:sp>
            <p:nvSpPr>
              <p:cNvPr id="259" name=""/>
              <p:cNvSpPr/>
              <p:nvPr/>
            </p:nvSpPr>
            <p:spPr>
              <a:xfrm>
                <a:off x="1217520" y="252864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ip_dig ucb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3033360" y="2604600"/>
                <a:ext cx="5027040" cy="748800"/>
                <a:chOff x="3033360" y="2604600"/>
                <a:chExt cx="5027040" cy="748800"/>
              </a:xfrm>
            </p:grpSpPr>
            <p:grpSp>
              <p:nvGrpSpPr>
                <p:cNvPr id="261" name=""/>
                <p:cNvGrpSpPr/>
                <p:nvPr/>
              </p:nvGrpSpPr>
              <p:grpSpPr>
                <a:xfrm>
                  <a:off x="3184920" y="2604600"/>
                  <a:ext cx="4572000" cy="228240"/>
                  <a:chOff x="3184920" y="2604600"/>
                  <a:chExt cx="4572000" cy="22824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>
                    <a:off x="31849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40993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0137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7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9281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68425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7" name=""/>
                <p:cNvSpPr/>
                <p:nvPr/>
              </p:nvSpPr>
              <p:spPr>
                <a:xfrm flipV="1">
                  <a:off x="32608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0333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>
                  <a:off x="41752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477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6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50896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8621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6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V="1">
                  <a:off x="60040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7765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6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69184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6909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7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V="1">
                  <a:off x="78328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6053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7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648320" y="762120"/>
            <a:ext cx="4038480" cy="25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5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 = 10 * zi + z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4572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ray Loop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3200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al Sou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3429000"/>
            <a:ext cx="403848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3505320"/>
            <a:ext cx="3657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214920" indent="-214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formed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generated by G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e loop varia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 array code to pointer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ess in do-whil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6040" indent="-158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to test at ent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840" indent="-21348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905120" y="3733920"/>
            <a:ext cx="6705360" cy="283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6070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ray Loop Implem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304812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181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lnSpc>
                <a:spcPct val="100000"/>
              </a:lnSpc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lnSpc>
                <a:spcPct val="100000"/>
              </a:lnSpc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lnSpc>
                <a:spcPct val="100000"/>
              </a:lnSpc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180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*zi + *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implemented as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z + 2*(zi+4*z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1800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crements by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48320" y="838080"/>
            <a:ext cx="403848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10:17:55Z</dcterms:created>
  <dc:creator/>
  <dc:description/>
  <dc:language>en-US</dc:language>
  <cp:lastModifiedBy>Gregory Kesden</cp:lastModifiedBy>
  <cp:lastPrinted>1997-01-21T16:44:32Z</cp:lastPrinted>
  <dcterms:modified xsi:type="dcterms:W3CDTF">2002-02-07T10:32:44Z</dcterms:modified>
  <cp:revision>36</cp:revision>
  <dc:subject/>
  <dc:title>Structured Data</dc:title>
</cp:coreProperties>
</file>