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0360"/>
            <a:ext cx="8255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088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0880" y="378036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0880" y="914400"/>
            <a:ext cx="4028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82551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55300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7519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E5BFF030-4C63-43CE-A8D0-63D3EA5B26DC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1676520"/>
            <a:ext cx="386100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d Data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, 7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580920"/>
            <a:ext cx="4356000" cy="24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3.8-3.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3.3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82960" y="228600"/>
            <a:ext cx="4978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42670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ation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pgh[4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equivalent to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pgh[4][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 array of 4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4520" indent="-15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contig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64520" indent="-158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contig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w-Major” ordering of all elements guarant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09120" y="2819520"/>
            <a:ext cx="7916400" cy="1282680"/>
            <a:chOff x="609120" y="2819520"/>
            <a:chExt cx="7916400" cy="1282680"/>
          </a:xfrm>
        </p:grpSpPr>
        <p:sp>
          <p:nvSpPr>
            <p:cNvPr id="292" name=""/>
            <p:cNvSpPr/>
            <p:nvPr/>
          </p:nvSpPr>
          <p:spPr>
            <a:xfrm>
              <a:off x="60912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905840" y="2819520"/>
              <a:ext cx="6619680" cy="1282680"/>
              <a:chOff x="1905840" y="2819520"/>
              <a:chExt cx="6619680" cy="1282680"/>
            </a:xfrm>
          </p:grpSpPr>
          <p:sp>
            <p:nvSpPr>
              <p:cNvPr id="294" name=""/>
              <p:cNvSpPr/>
              <p:nvPr/>
            </p:nvSpPr>
            <p:spPr>
              <a:xfrm flipV="1">
                <a:off x="2133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0584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3657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7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18148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852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705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090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8229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3332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2057040" y="2819520"/>
                <a:ext cx="6096240" cy="761760"/>
                <a:chOff x="2057040" y="2819520"/>
                <a:chExt cx="6096240" cy="76176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2057040" y="2819520"/>
                  <a:ext cx="1524240" cy="761760"/>
                  <a:chOff x="2057040" y="2819520"/>
                  <a:chExt cx="1524240" cy="7617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2057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361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666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971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276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581280" y="2819520"/>
                  <a:ext cx="1523520" cy="761760"/>
                  <a:chOff x="3581280" y="2819520"/>
                  <a:chExt cx="1523520" cy="7617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35812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8858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19076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495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8002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5105160" y="2819520"/>
                  <a:ext cx="1523520" cy="761760"/>
                  <a:chOff x="5105160" y="2819520"/>
                  <a:chExt cx="1523520" cy="7617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510516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409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71464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01920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24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6629040" y="2819520"/>
                  <a:ext cx="1524240" cy="761760"/>
                  <a:chOff x="6629040" y="2819520"/>
                  <a:chExt cx="1524240" cy="7617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6629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933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7238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7543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848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2057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8128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0516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29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17720" y="228600"/>
            <a:ext cx="53085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960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of dat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 requir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-Major 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724280" y="990720"/>
            <a:ext cx="4038120" cy="2209680"/>
            <a:chOff x="4724280" y="990720"/>
            <a:chExt cx="4038120" cy="2209680"/>
          </a:xfrm>
        </p:grpSpPr>
        <p:sp>
          <p:nvSpPr>
            <p:cNvPr id="336" name=""/>
            <p:cNvSpPr/>
            <p:nvPr/>
          </p:nvSpPr>
          <p:spPr>
            <a:xfrm>
              <a:off x="4876560" y="114300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67480" y="114300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76560" y="266688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71840" y="114300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48160" y="266688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67480" y="266688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376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9608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2428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60976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5040" y="4495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4952880"/>
            <a:ext cx="8229240" cy="990720"/>
            <a:chOff x="457200" y="4952880"/>
            <a:chExt cx="8229240" cy="990720"/>
          </a:xfrm>
        </p:grpSpPr>
        <p:grpSp>
          <p:nvGrpSpPr>
            <p:cNvPr id="348" name=""/>
            <p:cNvGrpSpPr/>
            <p:nvPr/>
          </p:nvGrpSpPr>
          <p:grpSpPr>
            <a:xfrm>
              <a:off x="457200" y="4952880"/>
              <a:ext cx="2133360" cy="990360"/>
              <a:chOff x="457200" y="4952880"/>
              <a:chExt cx="2133360" cy="990360"/>
            </a:xfrm>
          </p:grpSpPr>
          <p:sp>
            <p:nvSpPr>
              <p:cNvPr id="349" name=""/>
              <p:cNvSpPr/>
              <p:nvPr/>
            </p:nvSpPr>
            <p:spPr>
              <a:xfrm>
                <a:off x="45720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8108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7200" y="4952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590560" y="4952880"/>
              <a:ext cx="2133360" cy="990360"/>
              <a:chOff x="2590560" y="4952880"/>
              <a:chExt cx="2133360" cy="990360"/>
            </a:xfrm>
          </p:grpSpPr>
          <p:sp>
            <p:nvSpPr>
              <p:cNvPr id="353" name=""/>
              <p:cNvSpPr/>
              <p:nvPr/>
            </p:nvSpPr>
            <p:spPr>
              <a:xfrm>
                <a:off x="259056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1444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90560" y="4952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553080" y="4952880"/>
              <a:ext cx="2133360" cy="990360"/>
              <a:chOff x="6553080" y="4952880"/>
              <a:chExt cx="2133360" cy="990360"/>
            </a:xfrm>
          </p:grpSpPr>
          <p:sp>
            <p:nvSpPr>
              <p:cNvPr id="357" name=""/>
              <p:cNvSpPr/>
              <p:nvPr/>
            </p:nvSpPr>
            <p:spPr>
              <a:xfrm>
                <a:off x="655308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076960" y="4952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553080" y="4952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4724280" y="495288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57200" y="6019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686800" y="6019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6019920"/>
            <a:ext cx="1447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Row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96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rray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element of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657600" y="3276720"/>
            <a:ext cx="2133720" cy="1523520"/>
            <a:chOff x="3657600" y="3276720"/>
            <a:chExt cx="2133720" cy="1523520"/>
          </a:xfrm>
        </p:grpSpPr>
        <p:grpSp>
          <p:nvGrpSpPr>
            <p:cNvPr id="369" name=""/>
            <p:cNvGrpSpPr/>
            <p:nvPr/>
          </p:nvGrpSpPr>
          <p:grpSpPr>
            <a:xfrm>
              <a:off x="3657600" y="3809880"/>
              <a:ext cx="2133360" cy="990360"/>
              <a:chOff x="3657600" y="3809880"/>
              <a:chExt cx="2133360" cy="990360"/>
            </a:xfrm>
          </p:grpSpPr>
          <p:sp>
            <p:nvSpPr>
              <p:cNvPr id="370" name=""/>
              <p:cNvSpPr/>
              <p:nvPr/>
            </p:nvSpPr>
            <p:spPr>
              <a:xfrm>
                <a:off x="3657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18148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65760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65760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5760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913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600" y="350532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3400" y="327672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379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380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392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393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480" y="228600"/>
            <a:ext cx="70610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Row Access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index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rray of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+20*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s and return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 + 4*(index+4*inde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4724280"/>
            <a:ext cx="678204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70080" y="228600"/>
            <a:ext cx="6603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Element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]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element of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3429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350532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420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421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433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434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572000" y="48002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35040" y="228600"/>
            <a:ext cx="78739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Array Element Access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0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index][dig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 + 20*index + 4*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 + 4*dig + 4*(index+4*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4360" indent="-200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s memory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5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1295280"/>
            <a:ext cx="37335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4191120"/>
            <a:ext cx="80010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nge Referencing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80520" y="2819160"/>
            <a:ext cx="82551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10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3][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3+4*3 = 14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2]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2+4*5 = 13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2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2+4*-1 = 1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4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4+4*-1 = 1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0][19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0+4*19 = 1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gh[0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6+20*0+4*-1 = 7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6680" indent="-208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ing of elements within array guarant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761760" y="1066680"/>
            <a:ext cx="7916400" cy="1282680"/>
            <a:chOff x="761760" y="1066680"/>
            <a:chExt cx="7916400" cy="1282680"/>
          </a:xfrm>
        </p:grpSpPr>
        <p:sp>
          <p:nvSpPr>
            <p:cNvPr id="455" name=""/>
            <p:cNvSpPr/>
            <p:nvPr/>
          </p:nvSpPr>
          <p:spPr>
            <a:xfrm>
              <a:off x="761760" y="114300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058480" y="1066680"/>
              <a:ext cx="6619680" cy="1282680"/>
              <a:chOff x="2058480" y="1066680"/>
              <a:chExt cx="6619680" cy="128268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228600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058480" y="19810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380988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2360" y="19810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33412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3784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85800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617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381880" y="18280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8596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2209680" y="1066680"/>
                <a:ext cx="6096240" cy="761760"/>
                <a:chOff x="2209680" y="1066680"/>
                <a:chExt cx="6096240" cy="76176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2209680" y="1066680"/>
                  <a:ext cx="1524240" cy="761760"/>
                  <a:chOff x="2209680" y="1066680"/>
                  <a:chExt cx="1524240" cy="76176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22096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5146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81952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1240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4290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3733920" y="1066680"/>
                  <a:ext cx="1523520" cy="761760"/>
                  <a:chOff x="3733920" y="1066680"/>
                  <a:chExt cx="1523520" cy="76176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373392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03848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343400" y="106668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64796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95288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5257800" y="1066680"/>
                  <a:ext cx="1523520" cy="761760"/>
                  <a:chOff x="5257800" y="1066680"/>
                  <a:chExt cx="1523520" cy="76176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525780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56236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867280" y="106668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17184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47676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6781680" y="1066680"/>
                  <a:ext cx="1524240" cy="761760"/>
                  <a:chOff x="6781680" y="1066680"/>
                  <a:chExt cx="1524240" cy="76176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67816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0866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391520" y="106668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69608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01000" y="106668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"/>
                <p:cNvSpPr/>
                <p:nvPr/>
              </p:nvSpPr>
              <p:spPr>
                <a:xfrm>
                  <a:off x="2209680" y="106668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733920" y="106668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257800" y="106668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781680" y="106668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50960" y="228600"/>
            <a:ext cx="5842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Level Arra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0481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notes array of 3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element is a poi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ointer points to array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00400" y="838080"/>
            <a:ext cx="525780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1905120"/>
            <a:ext cx="525780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1600" y="3733920"/>
            <a:ext cx="8303760" cy="2591640"/>
            <a:chOff x="381600" y="3733920"/>
            <a:chExt cx="8303760" cy="2591640"/>
          </a:xfrm>
        </p:grpSpPr>
        <p:grpSp>
          <p:nvGrpSpPr>
            <p:cNvPr id="501" name=""/>
            <p:cNvGrpSpPr/>
            <p:nvPr/>
          </p:nvGrpSpPr>
          <p:grpSpPr>
            <a:xfrm>
              <a:off x="381600" y="4190760"/>
              <a:ext cx="1980360" cy="1523520"/>
              <a:chOff x="381600" y="4190760"/>
              <a:chExt cx="1980360" cy="1523520"/>
            </a:xfrm>
          </p:grpSpPr>
          <p:sp>
            <p:nvSpPr>
              <p:cNvPr id="502" name=""/>
              <p:cNvSpPr/>
              <p:nvPr/>
            </p:nvSpPr>
            <p:spPr>
              <a:xfrm>
                <a:off x="1447560" y="457164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90360" y="4723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7440" y="45097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47560" y="495252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447560" y="5333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90360" y="5104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90360" y="548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1600" y="48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81600" y="5333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447920" y="4190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81080" y="472392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81080" y="5104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81080" y="548604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12480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3658320" y="4038480"/>
              <a:ext cx="5027040" cy="748800"/>
              <a:chOff x="3658320" y="4038480"/>
              <a:chExt cx="5027040" cy="7488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3809880" y="4038480"/>
                <a:ext cx="4572000" cy="228240"/>
                <a:chOff x="3809880" y="4038480"/>
                <a:chExt cx="4572000" cy="2282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8098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7242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6386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5530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4674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 flipV="1">
                <a:off x="3885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58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48002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5727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7146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871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66290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4015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434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159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457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30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320076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3642480" y="4814640"/>
              <a:ext cx="5027040" cy="748800"/>
              <a:chOff x="3642480" y="4814640"/>
              <a:chExt cx="5027040" cy="74880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3794040" y="4814640"/>
                <a:ext cx="4572000" cy="228240"/>
                <a:chOff x="3794040" y="4814640"/>
                <a:chExt cx="4572000" cy="2282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7940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084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6228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5372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4516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 flipV="1">
                <a:off x="3870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642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7844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568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6988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712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66132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3856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75276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000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442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214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3124800" y="527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3642480" y="5576760"/>
              <a:ext cx="5027040" cy="748800"/>
              <a:chOff x="3642480" y="5576760"/>
              <a:chExt cx="5027040" cy="7488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3794040" y="5576760"/>
                <a:ext cx="4572000" cy="228240"/>
                <a:chOff x="3794040" y="5576760"/>
                <a:chExt cx="4572000" cy="2282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37940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7084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6228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5372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4516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 flipV="1">
                <a:off x="3870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42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7844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568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56988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12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66132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856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75276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000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8442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214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5" name=""/>
            <p:cNvCxnSpPr>
              <a:stCxn id="513" idx="0"/>
              <a:endCxn id="518" idx="1"/>
            </p:cNvCxnSpPr>
            <p:nvPr/>
          </p:nvCxnSpPr>
          <p:spPr>
            <a:xfrm flipH="1" flipV="1" rot="5400000">
              <a:off x="2457000" y="3751920"/>
              <a:ext cx="939960" cy="174060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6" name=""/>
            <p:cNvCxnSpPr>
              <a:stCxn id="512" idx="6"/>
              <a:endCxn id="538" idx="1"/>
            </p:cNvCxnSpPr>
            <p:nvPr/>
          </p:nvCxnSpPr>
          <p:spPr>
            <a:xfrm>
              <a:off x="2145960" y="4800600"/>
              <a:ext cx="1635840" cy="128880"/>
            </a:xfrm>
            <a:prstGeom prst="curvedConnector5">
              <a:avLst>
                <a:gd name="adj1" fmla="val 49988"/>
                <a:gd name="adj2" fmla="val 49859"/>
                <a:gd name="adj3" fmla="val 49988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14" idx="0"/>
              <a:endCxn id="558" idx="1"/>
            </p:cNvCxnSpPr>
            <p:nvPr/>
          </p:nvCxnSpPr>
          <p:spPr>
            <a:xfrm flipH="1" rot="16200000">
              <a:off x="2810160" y="4719960"/>
              <a:ext cx="218160" cy="1724760"/>
            </a:xfrm>
            <a:prstGeom prst="curvedConnector5">
              <a:avLst>
                <a:gd name="adj1" fmla="val -99173"/>
                <a:gd name="adj2" fmla="val 26283"/>
                <a:gd name="adj3" fmla="val -9917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686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Element in Multi-Level Arr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 acc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do two memory 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get pointer to row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access element within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3352680"/>
            <a:ext cx="72388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1371600"/>
            <a:ext cx="38862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nge Referencing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520" y="342900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83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-182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29320" y="838080"/>
            <a:ext cx="8303760" cy="2592360"/>
            <a:chOff x="229320" y="838080"/>
            <a:chExt cx="8303760" cy="2592360"/>
          </a:xfrm>
        </p:grpSpPr>
        <p:grpSp>
          <p:nvGrpSpPr>
            <p:cNvPr id="585" name=""/>
            <p:cNvGrpSpPr/>
            <p:nvPr/>
          </p:nvGrpSpPr>
          <p:grpSpPr>
            <a:xfrm>
              <a:off x="229320" y="1295280"/>
              <a:ext cx="1980360" cy="1524240"/>
              <a:chOff x="229320" y="1295280"/>
              <a:chExt cx="1980360" cy="1524240"/>
            </a:xfrm>
          </p:grpSpPr>
          <p:sp>
            <p:nvSpPr>
              <p:cNvPr id="58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38080" y="1828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516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38080" y="22096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38080" y="2590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93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932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9564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297252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3506040" y="1143000"/>
              <a:ext cx="5027040" cy="749160"/>
              <a:chOff x="3506040" y="1143000"/>
              <a:chExt cx="5027040" cy="7491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 flipV="1">
                <a:off x="3733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506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46479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204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5623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348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4767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2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73911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1636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8305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078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304848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490200" y="1919160"/>
              <a:ext cx="5027040" cy="749160"/>
              <a:chOff x="3490200" y="1919160"/>
              <a:chExt cx="5027040" cy="749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 flipV="1">
                <a:off x="3717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490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46321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046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5465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3190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09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334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73753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478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8289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62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297252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3490200" y="2681280"/>
              <a:ext cx="5027040" cy="749160"/>
              <a:chOff x="3490200" y="2681280"/>
              <a:chExt cx="5027040" cy="74916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 flipV="1">
                <a:off x="3717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90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46321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046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5465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190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4609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334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3753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478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8289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062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9" name=""/>
            <p:cNvCxnSpPr>
              <a:stCxn id="597" idx="0"/>
              <a:endCxn id="602" idx="1"/>
            </p:cNvCxnSpPr>
            <p:nvPr/>
          </p:nvCxnSpPr>
          <p:spPr>
            <a:xfrm flipH="1" flipV="1" rot="5400000">
              <a:off x="2304360" y="856800"/>
              <a:ext cx="940320" cy="1740600"/>
            </a:xfrm>
            <a:prstGeom prst="curved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0" name=""/>
            <p:cNvCxnSpPr>
              <a:stCxn id="596" idx="6"/>
              <a:endCxn id="622" idx="1"/>
            </p:cNvCxnSpPr>
            <p:nvPr/>
          </p:nvCxnSpPr>
          <p:spPr>
            <a:xfrm>
              <a:off x="199368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1" name=""/>
            <p:cNvCxnSpPr>
              <a:stCxn id="598" idx="0"/>
              <a:endCxn id="642" idx="1"/>
            </p:cNvCxnSpPr>
            <p:nvPr/>
          </p:nvCxnSpPr>
          <p:spPr>
            <a:xfrm flipH="1" rot="16200000">
              <a:off x="2657520" y="1823760"/>
              <a:ext cx="218520" cy="1724760"/>
            </a:xfrm>
            <a:prstGeom prst="curvedConnector5">
              <a:avLst>
                <a:gd name="adj1" fmla="val -99174"/>
                <a:gd name="adj2" fmla="val 26283"/>
                <a:gd name="adj3" fmla="val -9917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36640" y="520560"/>
            <a:ext cx="39114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Data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255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&amp; operated on in general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ed vs. unsigned depends on instruction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wo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d &amp; operated on in floating point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60440" y="228600"/>
            <a:ext cx="4623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Nested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353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compiler handles doubly subscripted arr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s very efficient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multiply in index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works if have fixed array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86880" y="4419720"/>
            <a:ext cx="3455280" cy="1658520"/>
            <a:chOff x="686880" y="4419720"/>
            <a:chExt cx="3455280" cy="1658520"/>
          </a:xfrm>
        </p:grpSpPr>
        <p:sp>
          <p:nvSpPr>
            <p:cNvPr id="667" name=""/>
            <p:cNvSpPr/>
            <p:nvPr/>
          </p:nvSpPr>
          <p:spPr>
            <a:xfrm>
              <a:off x="1925640" y="475308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53341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32120" y="5127840"/>
              <a:ext cx="58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12800" y="495324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3274920" y="4419720"/>
              <a:ext cx="867240" cy="1277640"/>
              <a:chOff x="3274920" y="4419720"/>
              <a:chExt cx="867240" cy="1277640"/>
            </a:xfrm>
          </p:grpSpPr>
          <p:sp>
            <p:nvSpPr>
              <p:cNvPr id="672" name=""/>
              <p:cNvSpPr/>
              <p:nvPr/>
            </p:nvSpPr>
            <p:spPr>
              <a:xfrm>
                <a:off x="3297240" y="475308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429000" y="533412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19360" y="4759560"/>
                <a:ext cx="0" cy="50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274920" y="4419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1602000" y="571500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200400" y="5333760"/>
              <a:ext cx="3049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6880" y="533412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371600" y="5105160"/>
              <a:ext cx="398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2920" y="228600"/>
            <a:ext cx="5257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Nested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reate matrix of arbitrary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do index computation explici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ing single element cos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do multi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66680" y="4648320"/>
            <a:ext cx="6553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59000" y="228600"/>
            <a:ext cx="6426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ynamic Array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or sub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or array index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or loop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914400"/>
            <a:ext cx="4238640" cy="365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10560" y="4572000"/>
            <a:ext cx="3455280" cy="1658520"/>
            <a:chOff x="610560" y="4572000"/>
            <a:chExt cx="3455280" cy="1658520"/>
          </a:xfrm>
        </p:grpSpPr>
        <p:sp>
          <p:nvSpPr>
            <p:cNvPr id="689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55800" y="5280120"/>
              <a:ext cx="58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4364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3198600" y="4572000"/>
              <a:ext cx="867240" cy="1277640"/>
              <a:chOff x="3198600" y="4572000"/>
              <a:chExt cx="867240" cy="1277640"/>
            </a:xfrm>
          </p:grpSpPr>
          <p:sp>
            <p:nvSpPr>
              <p:cNvPr id="694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443040" y="4911840"/>
                <a:ext cx="0" cy="50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986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152568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124080" y="5486040"/>
              <a:ext cx="30492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1056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1295280" y="5257440"/>
              <a:ext cx="398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izing Dynamic Array Multipl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ed when set optimization leve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O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*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be computed outside lo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effect of increment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*n+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can optimize regular access patter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762120"/>
            <a:ext cx="4238640" cy="228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0" y="3048120"/>
            <a:ext cx="423864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685800" y="251460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4575240"/>
            <a:ext cx="2968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65640" y="228600"/>
            <a:ext cx="24127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93480" y="9144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ly-allocated region of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 to members within structure by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ers may be of different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952520" y="3276720"/>
            <a:ext cx="2741400" cy="779040"/>
            <a:chOff x="4952520" y="3276720"/>
            <a:chExt cx="2741400" cy="779040"/>
          </a:xfrm>
        </p:grpSpPr>
        <p:sp>
          <p:nvSpPr>
            <p:cNvPr id="714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525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097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8096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3816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00400" y="5029200"/>
            <a:ext cx="508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ing Pointer to Structure Memb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8991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of each structure member determined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876200" y="1447920"/>
            <a:ext cx="2440080" cy="779040"/>
            <a:chOff x="4876200" y="1447920"/>
            <a:chExt cx="2440080" cy="779040"/>
          </a:xfrm>
        </p:grpSpPr>
        <p:sp>
          <p:nvSpPr>
            <p:cNvPr id="727" name=""/>
            <p:cNvSpPr/>
            <p:nvPr/>
          </p:nvSpPr>
          <p:spPr>
            <a:xfrm>
              <a:off x="5056200" y="1447920"/>
              <a:ext cx="43128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13400" y="1447920"/>
              <a:ext cx="134568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85000" y="1447920"/>
              <a:ext cx="43128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76200" y="18637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33040" y="18637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04640" y="18637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594360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888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1066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87800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533520" y="1600200"/>
            <a:ext cx="29718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81280" y="4114800"/>
            <a:ext cx="5410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3520" y="3276720"/>
            <a:ext cx="29685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Referencing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4571640" y="2057400"/>
            <a:ext cx="2440440" cy="1447920"/>
            <a:chOff x="4571640" y="2057400"/>
            <a:chExt cx="2440440" cy="1447920"/>
          </a:xfrm>
        </p:grpSpPr>
        <p:grpSp>
          <p:nvGrpSpPr>
            <p:cNvPr id="743" name=""/>
            <p:cNvGrpSpPr/>
            <p:nvPr/>
          </p:nvGrpSpPr>
          <p:grpSpPr>
            <a:xfrm>
              <a:off x="4571640" y="2286000"/>
              <a:ext cx="2440440" cy="779040"/>
              <a:chOff x="4571640" y="2286000"/>
              <a:chExt cx="2440440" cy="779040"/>
            </a:xfrm>
          </p:grpSpPr>
          <p:sp>
            <p:nvSpPr>
              <p:cNvPr id="744" name=""/>
              <p:cNvSpPr/>
              <p:nvPr/>
            </p:nvSpPr>
            <p:spPr>
              <a:xfrm>
                <a:off x="47516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08840" y="2286000"/>
                <a:ext cx="13460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5804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716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288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0008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5867280" y="27432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571640" y="1219320"/>
            <a:ext cx="2440440" cy="779040"/>
            <a:chOff x="4571640" y="1219320"/>
            <a:chExt cx="2440440" cy="779040"/>
          </a:xfrm>
        </p:grpSpPr>
        <p:sp>
          <p:nvSpPr>
            <p:cNvPr id="755" name=""/>
            <p:cNvSpPr/>
            <p:nvPr/>
          </p:nvSpPr>
          <p:spPr>
            <a:xfrm>
              <a:off x="47516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8840" y="12193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804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16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288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0008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438000" y="228600"/>
            <a:ext cx="2265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itive data type requires K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must be multiple of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on some machines; advised on IA3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 differently by Linux and Window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ed by (aligned) double or quad-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icient to load or store datum that spans quad word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very tricky when datum spans 2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s gaps in structure to ensure correct alignment of fiel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12640" y="228600"/>
            <a:ext cx="6345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Cases of Align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 by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strictions 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1 bit of address must be 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2 bits of address must be 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(and most other OS’s &amp; instruction se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3 bits of address must be 0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2 bits of address must be 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treated the same as a 4-byte primitive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2 by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2 bits of address must be 0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treated the same as a 4-byte primitive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5943600" y="251460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76200" y="228600"/>
            <a:ext cx="8391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ing Alignment with 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5803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satisfy element’s alignment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tructure has alignment requirement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alignment of any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address &amp; structure length must be multiples of 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8, due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57200" y="4191120"/>
            <a:ext cx="8015040" cy="2057400"/>
            <a:chOff x="457200" y="4191120"/>
            <a:chExt cx="8015040" cy="2057400"/>
          </a:xfrm>
        </p:grpSpPr>
        <p:grpSp>
          <p:nvGrpSpPr>
            <p:cNvPr id="769" name=""/>
            <p:cNvGrpSpPr/>
            <p:nvPr/>
          </p:nvGrpSpPr>
          <p:grpSpPr>
            <a:xfrm>
              <a:off x="487800" y="4191120"/>
              <a:ext cx="7984440" cy="1447920"/>
              <a:chOff x="487800" y="4191120"/>
              <a:chExt cx="7984440" cy="144792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487800" y="4191120"/>
                <a:ext cx="7984440" cy="655200"/>
                <a:chOff x="487800" y="4191120"/>
                <a:chExt cx="7984440" cy="6552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909360" y="4191120"/>
                  <a:ext cx="27936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128680" y="4191120"/>
                  <a:ext cx="119376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i[0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348000" y="4191120"/>
                  <a:ext cx="119376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i[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786280" y="4191120"/>
                  <a:ext cx="2413080" cy="2793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214280" y="4191120"/>
                  <a:ext cx="888840" cy="27936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566960" y="4191120"/>
                  <a:ext cx="1193760" cy="27936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87800" y="4483080"/>
                  <a:ext cx="5929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06760" y="4483080"/>
                  <a:ext cx="5929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926080" y="4483080"/>
                  <a:ext cx="5929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3880" y="4483080"/>
                  <a:ext cx="730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742160" y="4483080"/>
                  <a:ext cx="7300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p+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 flipV="1">
                <a:off x="2147760" y="480096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004760" y="5258160"/>
                <a:ext cx="20574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23920" indent="-223920" algn="ctr"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ultiple of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586040" y="5258160"/>
                <a:ext cx="25909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23920" indent="-223920" algn="ctr"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895320"/>
                    <a:tab algn="l" pos="1790640"/>
                    <a:tab algn="l" pos="2685960"/>
                    <a:tab algn="l" pos="3581280"/>
                    <a:tab algn="l" pos="4476600"/>
                    <a:tab algn="l" pos="5372280"/>
                    <a:tab algn="l" pos="6267600"/>
                    <a:tab algn="l" pos="7162920"/>
                    <a:tab algn="l" pos="8058240"/>
                    <a:tab algn="l" pos="8953560"/>
                    <a:tab algn="l" pos="9848880"/>
                    <a:tab algn="l" pos="10744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ultiple of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5805360" y="480096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457200" y="586764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85800" y="487656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791320" y="5867640"/>
              <a:ext cx="2590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8229600" y="487656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36576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of dat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ly allocated reg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of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2560" y="2590920"/>
            <a:ext cx="6099120" cy="839520"/>
            <a:chOff x="682560" y="2590920"/>
            <a:chExt cx="6099120" cy="839520"/>
          </a:xfrm>
        </p:grpSpPr>
        <p:sp>
          <p:nvSpPr>
            <p:cNvPr id="50" name=""/>
            <p:cNvSpPr/>
            <p:nvPr/>
          </p:nvSpPr>
          <p:spPr>
            <a:xfrm>
              <a:off x="68256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276720" y="2895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019920" y="28951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1369800" y="3352680"/>
            <a:ext cx="7240680" cy="839520"/>
            <a:chOff x="1369800" y="3352680"/>
            <a:chExt cx="7240680" cy="839520"/>
          </a:xfrm>
        </p:grpSpPr>
        <p:grpSp>
          <p:nvGrpSpPr>
            <p:cNvPr id="70" name=""/>
            <p:cNvGrpSpPr/>
            <p:nvPr/>
          </p:nvGrpSpPr>
          <p:grpSpPr>
            <a:xfrm>
              <a:off x="3200400" y="3428640"/>
              <a:ext cx="4572000" cy="228600"/>
              <a:chOff x="3200400" y="3428640"/>
              <a:chExt cx="4572000" cy="228600"/>
            </a:xfrm>
          </p:grpSpPr>
          <p:sp>
            <p:nvSpPr>
              <p:cNvPr id="71" name=""/>
              <p:cNvSpPr/>
              <p:nvPr/>
            </p:nvSpPr>
            <p:spPr>
              <a:xfrm>
                <a:off x="32004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148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292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9436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580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36980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625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276720" y="36428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1911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69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3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0199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9343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01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848720" y="3656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76000" y="4038480"/>
            <a:ext cx="8377560" cy="1220760"/>
            <a:chOff x="576000" y="4038480"/>
            <a:chExt cx="8377560" cy="1220760"/>
          </a:xfrm>
        </p:grpSpPr>
        <p:sp>
          <p:nvSpPr>
            <p:cNvPr id="90" name=""/>
            <p:cNvSpPr/>
            <p:nvPr/>
          </p:nvSpPr>
          <p:spPr>
            <a:xfrm>
              <a:off x="57600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flipV="1">
                <a:off x="6362640" y="4709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191440" y="472392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838080" y="46954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666880" y="4709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4495680" y="470988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76032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66880" y="5638680"/>
            <a:ext cx="2895480" cy="763560"/>
            <a:chOff x="2666880" y="5638680"/>
            <a:chExt cx="2895480" cy="763560"/>
          </a:xfrm>
        </p:grpSpPr>
        <p:grpSp>
          <p:nvGrpSpPr>
            <p:cNvPr id="109" name=""/>
            <p:cNvGrpSpPr/>
            <p:nvPr/>
          </p:nvGrpSpPr>
          <p:grpSpPr>
            <a:xfrm>
              <a:off x="2819160" y="5638680"/>
              <a:ext cx="2743200" cy="228600"/>
              <a:chOff x="2819160" y="5638680"/>
              <a:chExt cx="2743200" cy="228600"/>
            </a:xfrm>
          </p:grpSpPr>
          <p:sp>
            <p:nvSpPr>
              <p:cNvPr id="110" name=""/>
              <p:cNvSpPr/>
              <p:nvPr/>
            </p:nvSpPr>
            <p:spPr>
              <a:xfrm>
                <a:off x="28191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5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479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666880" y="6019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12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895480" y="5852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09880" y="5866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956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724280" y="5866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460240" y="228600"/>
            <a:ext cx="4241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vs. Wind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8, due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nu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4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eated like a 4-byte data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33520" y="2514600"/>
            <a:ext cx="8015040" cy="1447920"/>
            <a:chOff x="533520" y="2514600"/>
            <a:chExt cx="8015040" cy="1447920"/>
          </a:xfrm>
        </p:grpSpPr>
        <p:grpSp>
          <p:nvGrpSpPr>
            <p:cNvPr id="794" name=""/>
            <p:cNvGrpSpPr/>
            <p:nvPr/>
          </p:nvGrpSpPr>
          <p:grpSpPr>
            <a:xfrm>
              <a:off x="564120" y="2514600"/>
              <a:ext cx="7984440" cy="655200"/>
              <a:chOff x="564120" y="2514600"/>
              <a:chExt cx="7984440" cy="655200"/>
            </a:xfrm>
          </p:grpSpPr>
          <p:sp>
            <p:nvSpPr>
              <p:cNvPr id="795" name=""/>
              <p:cNvSpPr/>
              <p:nvPr/>
            </p:nvSpPr>
            <p:spPr>
              <a:xfrm>
                <a:off x="985680" y="2514600"/>
                <a:ext cx="2793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205000" y="25146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24320" y="25146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i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2600" y="25146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90600" y="2514600"/>
                <a:ext cx="88884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643280" y="2514600"/>
                <a:ext cx="119376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64120" y="2806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783080" y="2806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02400" y="2806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380200" y="280656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1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18480" y="280656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+2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 flipV="1">
              <a:off x="2209680" y="3047760"/>
              <a:ext cx="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19320" y="32767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72000" y="32767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867280" y="3047760"/>
              <a:ext cx="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3520" y="3581280"/>
              <a:ext cx="2590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62120" y="31237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6728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8305920" y="31237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985680" y="4800600"/>
            <a:ext cx="279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5000" y="48006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24320" y="48006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90600" y="4800600"/>
            <a:ext cx="889200" cy="2793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4120" y="50925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783440" y="50925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002400" y="50925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209680" y="5333760"/>
            <a:ext cx="144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24080" y="55627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5867280"/>
            <a:ext cx="259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62120" y="54097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113360" y="4800600"/>
            <a:ext cx="3168360" cy="1371600"/>
            <a:chOff x="4113360" y="4800600"/>
            <a:chExt cx="3168360" cy="1371600"/>
          </a:xfrm>
        </p:grpSpPr>
        <p:sp>
          <p:nvSpPr>
            <p:cNvPr id="827" name=""/>
            <p:cNvSpPr/>
            <p:nvPr/>
          </p:nvSpPr>
          <p:spPr>
            <a:xfrm>
              <a:off x="4595760" y="48006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113360" y="50925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1640" y="50925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600440" y="5333760"/>
              <a:ext cx="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600440" y="5791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039080" y="540972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-51120" y="228600"/>
            <a:ext cx="9247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Overall Alignment Requi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838080" y="2819520"/>
            <a:ext cx="7315200" cy="279360"/>
            <a:chOff x="838080" y="2819520"/>
            <a:chExt cx="7315200" cy="279360"/>
          </a:xfrm>
        </p:grpSpPr>
        <p:sp>
          <p:nvSpPr>
            <p:cNvPr id="835" name=""/>
            <p:cNvSpPr/>
            <p:nvPr/>
          </p:nvSpPr>
          <p:spPr>
            <a:xfrm>
              <a:off x="571464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27636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38080" y="281952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560" y="2819520"/>
              <a:ext cx="213372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08400" y="32004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48280" y="320040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70720" y="320040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320040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48760" y="3200400"/>
            <a:ext cx="1964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ndows: p+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: p+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08400" y="5410080"/>
            <a:ext cx="6749640" cy="744120"/>
            <a:chOff x="608400" y="5410080"/>
            <a:chExt cx="6749640" cy="744120"/>
          </a:xfrm>
        </p:grpSpPr>
        <p:sp>
          <p:nvSpPr>
            <p:cNvPr id="848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8400" y="57909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48280" y="5790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0720" y="57909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443560" y="5790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27960" y="5790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1400" y="579096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3583800" y="1295280"/>
            <a:ext cx="24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multiple of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for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57600" y="44197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multiple of 4 (in either 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dering Elements Within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32440" y="2819520"/>
            <a:ext cx="7815960" cy="667800"/>
            <a:chOff x="532440" y="2819520"/>
            <a:chExt cx="7815960" cy="667800"/>
          </a:xfrm>
        </p:grpSpPr>
        <p:sp>
          <p:nvSpPr>
            <p:cNvPr id="866" name=""/>
            <p:cNvSpPr/>
            <p:nvPr/>
          </p:nvSpPr>
          <p:spPr>
            <a:xfrm>
              <a:off x="761760" y="2819520"/>
              <a:ext cx="2790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81680" y="2819520"/>
              <a:ext cx="11934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00400" y="2819520"/>
              <a:ext cx="2412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66680" y="2819520"/>
              <a:ext cx="213336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24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7532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8940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6724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1832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62360" y="2819520"/>
              <a:ext cx="2790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67280" y="2819520"/>
              <a:ext cx="91404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84720" y="5486400"/>
            <a:ext cx="5565240" cy="668160"/>
            <a:chOff x="684720" y="5486400"/>
            <a:chExt cx="5565240" cy="668160"/>
          </a:xfrm>
        </p:grpSpPr>
        <p:sp>
          <p:nvSpPr>
            <p:cNvPr id="878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896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4704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3788640" y="144792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bytes wasted space in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4880" y="4419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ytes wasted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122560" y="304920"/>
            <a:ext cx="4873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s of Stru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270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d by repeating allocation for array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, may nest arrays &amp; structures to arbitrary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295280" y="5257800"/>
            <a:ext cx="6615000" cy="659160"/>
            <a:chOff x="1295280" y="5257800"/>
            <a:chExt cx="6615000" cy="659160"/>
          </a:xfrm>
        </p:grpSpPr>
        <p:sp>
          <p:nvSpPr>
            <p:cNvPr id="892" name=""/>
            <p:cNvSpPr/>
            <p:nvPr/>
          </p:nvSpPr>
          <p:spPr>
            <a:xfrm>
              <a:off x="1596960" y="529272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29528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25760" y="529272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54560" y="529272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783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907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35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5840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257800" y="4114800"/>
            <a:ext cx="312408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129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3724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2752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9995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08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504960" y="3809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286000" y="3809880"/>
              <a:ext cx="121896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62560" y="3809880"/>
              <a:ext cx="121932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63360" y="228600"/>
            <a:ext cx="7140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Element within Arr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52707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offset to start of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12*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 4*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element according to its offset within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set by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er gives displacement as a +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r must set actual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1219320" y="5105520"/>
            <a:ext cx="358128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6553080" y="5105160"/>
            <a:ext cx="198144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066680" y="4800600"/>
            <a:ext cx="7162920" cy="684720"/>
            <a:chOff x="1066680" y="4800600"/>
            <a:chExt cx="7162920" cy="684720"/>
          </a:xfrm>
        </p:grpSpPr>
        <p:sp>
          <p:nvSpPr>
            <p:cNvPr id="918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666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49604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0648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020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30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9624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38640" y="5715000"/>
              <a:ext cx="121896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77560" y="304920"/>
            <a:ext cx="8537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ing Alignment within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multiple o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offset of 4 is a multiple o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 size of structure must be multiple of worst-case alignment for any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padded with unused space to be 12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629400" y="160020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217880" y="4191120"/>
            <a:ext cx="7511040" cy="1658520"/>
            <a:chOff x="1217880" y="4191120"/>
            <a:chExt cx="7511040" cy="1658520"/>
          </a:xfrm>
        </p:grpSpPr>
        <p:sp>
          <p:nvSpPr>
            <p:cNvPr id="939" name=""/>
            <p:cNvSpPr/>
            <p:nvPr/>
          </p:nvSpPr>
          <p:spPr>
            <a:xfrm flipH="1">
              <a:off x="1414080" y="4496040"/>
              <a:ext cx="3580920" cy="60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6747840" y="4495680"/>
              <a:ext cx="1981080" cy="60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1217880" y="4191120"/>
              <a:ext cx="7206480" cy="715680"/>
              <a:chOff x="1217880" y="4191120"/>
              <a:chExt cx="7206480" cy="715680"/>
            </a:xfrm>
          </p:grpSpPr>
          <p:sp>
            <p:nvSpPr>
              <p:cNvPr id="942" name=""/>
              <p:cNvSpPr/>
              <p:nvPr/>
            </p:nvSpPr>
            <p:spPr>
              <a:xfrm>
                <a:off x="1566720" y="4191120"/>
                <a:ext cx="18028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17880" y="454356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995720" y="4191120"/>
                <a:ext cx="18028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617360" y="4521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95520" y="4191120"/>
                <a:ext cx="159984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4520" y="4191120"/>
                <a:ext cx="159984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8" name=""/>
            <p:cNvSpPr/>
            <p:nvPr/>
          </p:nvSpPr>
          <p:spPr>
            <a:xfrm>
              <a:off x="1260000" y="548640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21600" y="548640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1414440" y="5105520"/>
              <a:ext cx="7314480" cy="279360"/>
              <a:chOff x="1414440" y="5105520"/>
              <a:chExt cx="7314480" cy="279360"/>
            </a:xfrm>
          </p:grpSpPr>
          <p:sp>
            <p:nvSpPr>
              <p:cNvPr id="951" name=""/>
              <p:cNvSpPr/>
              <p:nvPr/>
            </p:nvSpPr>
            <p:spPr>
              <a:xfrm>
                <a:off x="1414440" y="5105520"/>
                <a:ext cx="11934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91000" y="5105520"/>
                <a:ext cx="11934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852360" y="510552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33400" y="5105520"/>
                <a:ext cx="121860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509960" y="5105520"/>
                <a:ext cx="1218960" cy="27936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"/>
          <p:cNvSpPr/>
          <p:nvPr/>
        </p:nvSpPr>
        <p:spPr>
          <a:xfrm flipH="1" flipV="1">
            <a:off x="4190760" y="609552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5760" y="63198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1066680" y="4800600"/>
            <a:ext cx="30492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9720" y="58626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200000">
            <a:off x="4000320" y="52956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722320" y="304920"/>
            <a:ext cx="3647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on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y union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according to larges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nly use one field at a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57200" y="2514600"/>
            <a:ext cx="22096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3198960" y="2819520"/>
            <a:ext cx="3168720" cy="1242720"/>
            <a:chOff x="3198960" y="2819520"/>
            <a:chExt cx="3168720" cy="1242720"/>
          </a:xfrm>
        </p:grpSpPr>
        <p:sp>
          <p:nvSpPr>
            <p:cNvPr id="965" name=""/>
            <p:cNvSpPr/>
            <p:nvPr/>
          </p:nvSpPr>
          <p:spPr>
            <a:xfrm>
              <a:off x="375768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57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7700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5768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98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1828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3760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457200" y="4114800"/>
            <a:ext cx="221472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455760" y="5715000"/>
            <a:ext cx="8121600" cy="655200"/>
            <a:chOff x="455760" y="5715000"/>
            <a:chExt cx="8121600" cy="655200"/>
          </a:xfrm>
        </p:grpSpPr>
        <p:sp>
          <p:nvSpPr>
            <p:cNvPr id="974" name=""/>
            <p:cNvSpPr/>
            <p:nvPr/>
          </p:nvSpPr>
          <p:spPr>
            <a:xfrm>
              <a:off x="1014120" y="5715000"/>
              <a:ext cx="2790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33440" y="5715000"/>
              <a:ext cx="11934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452760" y="5715000"/>
              <a:ext cx="11934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91040" y="57150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19040" y="5715000"/>
              <a:ext cx="88848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71720" y="5715000"/>
              <a:ext cx="1193400" cy="279360"/>
            </a:xfrm>
            <a:prstGeom prst="rect">
              <a:avLst/>
            </a:prstGeom>
            <a:solidFill>
              <a:srgbClr val="919191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5760" y="6006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74720" y="6006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93680" y="600696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71480" y="60069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710120" y="60069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405684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083960" y="2527200"/>
            <a:ext cx="1537560" cy="938160"/>
            <a:chOff x="1083960" y="2527200"/>
            <a:chExt cx="1537560" cy="938160"/>
          </a:xfrm>
        </p:grpSpPr>
        <p:sp>
          <p:nvSpPr>
            <p:cNvPr id="989" name=""/>
            <p:cNvSpPr/>
            <p:nvPr/>
          </p:nvSpPr>
          <p:spPr>
            <a:xfrm>
              <a:off x="1231920" y="25272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231920" y="28321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083960" y="3102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02920" y="3102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6240" y="228600"/>
            <a:ext cx="79326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Union to Access Bit Patter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28240" y="3581280"/>
            <a:ext cx="46609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direct access to bit representation of 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t2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s float with given bit patt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loat)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2b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s bit pattern from fl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unsigned)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04920" y="520560"/>
            <a:ext cx="31748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2551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/quad words stored in memory as 4/8 consecutive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most (least) signific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ause problems when exchanging binary data between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ignificant byte has low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360/370, Motorola 68K, Spa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x86, Digital V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001600" y="520560"/>
            <a:ext cx="5181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8120" y="228600"/>
            <a:ext cx="3047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-53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ay of data typ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-53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be used as a pointer to starting element of the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[4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val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[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(val+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34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88920" y="2362320"/>
            <a:ext cx="7240680" cy="839520"/>
            <a:chOff x="988920" y="2362320"/>
            <a:chExt cx="7240680" cy="839520"/>
          </a:xfrm>
        </p:grpSpPr>
        <p:grpSp>
          <p:nvGrpSpPr>
            <p:cNvPr id="122" name=""/>
            <p:cNvGrpSpPr/>
            <p:nvPr/>
          </p:nvGrpSpPr>
          <p:grpSpPr>
            <a:xfrm>
              <a:off x="2819520" y="2438280"/>
              <a:ext cx="4572000" cy="228240"/>
              <a:chOff x="2819520" y="2438280"/>
              <a:chExt cx="4572000" cy="228240"/>
            </a:xfrm>
          </p:grpSpPr>
          <p:sp>
            <p:nvSpPr>
              <p:cNvPr id="123" name=""/>
              <p:cNvSpPr/>
              <p:nvPr/>
            </p:nvSpPr>
            <p:spPr>
              <a:xfrm>
                <a:off x="2819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339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83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5627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771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988920" y="23623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2819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12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895480" y="26524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098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56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7242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6386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30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38880" y="28335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467480" y="26668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7816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Example (Cont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47498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on x8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444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52480" y="1676520"/>
            <a:ext cx="4851360" cy="2892960"/>
            <a:chOff x="1752480" y="1676520"/>
            <a:chExt cx="4851360" cy="2892960"/>
          </a:xfrm>
        </p:grpSpPr>
        <p:grpSp>
          <p:nvGrpSpPr>
            <p:cNvPr id="1023" name=""/>
            <p:cNvGrpSpPr/>
            <p:nvPr/>
          </p:nvGrpSpPr>
          <p:grpSpPr>
            <a:xfrm>
              <a:off x="1804680" y="1676520"/>
              <a:ext cx="4746600" cy="332280"/>
              <a:chOff x="1804680" y="1676520"/>
              <a:chExt cx="4746600" cy="332280"/>
            </a:xfrm>
          </p:grpSpPr>
          <p:sp>
            <p:nvSpPr>
              <p:cNvPr id="1024" name=""/>
              <p:cNvSpPr/>
              <p:nvPr/>
            </p:nvSpPr>
            <p:spPr>
              <a:xfrm>
                <a:off x="18046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4141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0240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6334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2429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8528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4622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0717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1752480" y="1982880"/>
              <a:ext cx="4851360" cy="2586600"/>
              <a:chOff x="1752480" y="1982880"/>
              <a:chExt cx="4851360" cy="2586600"/>
            </a:xfrm>
          </p:grpSpPr>
          <p:sp>
            <p:nvSpPr>
              <p:cNvPr id="1033" name=""/>
              <p:cNvSpPr/>
              <p:nvPr/>
            </p:nvSpPr>
            <p:spPr>
              <a:xfrm>
                <a:off x="35812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97144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52480" y="32022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794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3493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714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3619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524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7948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6832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9984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6832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0195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190760" y="32022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2177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7876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100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8002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19076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1907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21776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0696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370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0069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3187080" y="4256280"/>
                <a:ext cx="213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921480" y="426744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752480" y="381168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7794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46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on S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848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1778040" y="1676520"/>
            <a:ext cx="4919760" cy="2892960"/>
            <a:chOff x="1778040" y="1676520"/>
            <a:chExt cx="4919760" cy="2892960"/>
          </a:xfrm>
        </p:grpSpPr>
        <p:sp>
          <p:nvSpPr>
            <p:cNvPr id="1069" name=""/>
            <p:cNvSpPr/>
            <p:nvPr/>
          </p:nvSpPr>
          <p:spPr>
            <a:xfrm>
              <a:off x="36198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91000" y="32022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614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780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4004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910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910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7804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4680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2748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99736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0580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4486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29280" y="32022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6468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2166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486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2292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21668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8508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86576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4356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432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625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720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913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008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3225600" y="425628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960000" y="426744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91000" y="38116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7804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2276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5257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te Ordering on Alph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216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13" name=""/>
            <p:cNvSpPr/>
            <p:nvPr/>
          </p:nvSpPr>
          <p:spPr>
            <a:xfrm>
              <a:off x="35812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97144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752480" y="31132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7665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3364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714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3619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7524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7665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557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9858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557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95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190760" y="31132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051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750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100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002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19076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907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051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9400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41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940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8172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4271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366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460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559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654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748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0847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187080" y="416736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7665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9400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 allocation of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er to first e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ounds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often turns array code into pointer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d2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addressing modes to scale array ind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tricks to improve array indexing in lo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cate bytes in order decl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 in middle and at end to satisfy alig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y decla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 to circumvent type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08440" y="228600"/>
            <a:ext cx="3327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4876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ation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cm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equivalent to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mu[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arrays were allocated in successive 20 byte b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uaranteed to happen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69800" y="2438280"/>
            <a:ext cx="6858720" cy="2363760"/>
            <a:chOff x="1369800" y="2438280"/>
            <a:chExt cx="6858720" cy="2363760"/>
          </a:xfrm>
        </p:grpSpPr>
        <p:grpSp>
          <p:nvGrpSpPr>
            <p:cNvPr id="145" name=""/>
            <p:cNvGrpSpPr/>
            <p:nvPr/>
          </p:nvGrpSpPr>
          <p:grpSpPr>
            <a:xfrm>
              <a:off x="1385640" y="2438280"/>
              <a:ext cx="6842880" cy="825480"/>
              <a:chOff x="1385640" y="2438280"/>
              <a:chExt cx="6842880" cy="825480"/>
            </a:xfrm>
          </p:grpSpPr>
          <p:sp>
            <p:nvSpPr>
              <p:cNvPr id="146" name=""/>
              <p:cNvSpPr/>
              <p:nvPr/>
            </p:nvSpPr>
            <p:spPr>
              <a:xfrm>
                <a:off x="1385640" y="24382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3201480" y="2514600"/>
                <a:ext cx="5027040" cy="749160"/>
                <a:chOff x="3201480" y="2514600"/>
                <a:chExt cx="5027040" cy="74916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3353040" y="2514600"/>
                  <a:ext cx="4572000" cy="228600"/>
                  <a:chOff x="3353040" y="2514600"/>
                  <a:chExt cx="4572000" cy="2286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33530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2674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1818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0962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010640" y="25146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 flipV="1">
                  <a:off x="34290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014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3434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1158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2578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302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61722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9446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70866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590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8001000" y="27428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73480" y="28954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1369800" y="3214800"/>
              <a:ext cx="6842880" cy="824760"/>
              <a:chOff x="1369800" y="3214800"/>
              <a:chExt cx="6842880" cy="824760"/>
            </a:xfrm>
          </p:grpSpPr>
          <p:sp>
            <p:nvSpPr>
              <p:cNvPr id="167" name=""/>
              <p:cNvSpPr/>
              <p:nvPr/>
            </p:nvSpPr>
            <p:spPr>
              <a:xfrm>
                <a:off x="1369800" y="32148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3185640" y="3290760"/>
                <a:ext cx="5027040" cy="748800"/>
                <a:chOff x="3185640" y="3290760"/>
                <a:chExt cx="5027040" cy="7488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3337200" y="3290760"/>
                  <a:ext cx="4572000" cy="228240"/>
                  <a:chOff x="3337200" y="3290760"/>
                  <a:chExt cx="4572000" cy="2282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3372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2516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1660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0804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994800" y="32907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 flipV="1">
                  <a:off x="34131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1856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43275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000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52419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0144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61563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288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70707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8432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7985160" y="35190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57640" y="36712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1369800" y="3976560"/>
              <a:ext cx="6842880" cy="825480"/>
              <a:chOff x="1369800" y="3976560"/>
              <a:chExt cx="6842880" cy="825480"/>
            </a:xfrm>
          </p:grpSpPr>
          <p:sp>
            <p:nvSpPr>
              <p:cNvPr id="188" name=""/>
              <p:cNvSpPr/>
              <p:nvPr/>
            </p:nvSpPr>
            <p:spPr>
              <a:xfrm>
                <a:off x="1369800" y="39765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185640" y="4052880"/>
                <a:ext cx="5027040" cy="749160"/>
                <a:chOff x="3185640" y="4052880"/>
                <a:chExt cx="5027040" cy="7491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3337200" y="4052880"/>
                  <a:ext cx="4572000" cy="228600"/>
                  <a:chOff x="3337200" y="4052880"/>
                  <a:chExt cx="4572000" cy="2286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3372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2516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51660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0804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994800" y="40528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 flipV="1">
                  <a:off x="34131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1856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43275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000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52419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144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61563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288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70707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432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7985160" y="42811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757640" y="44337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01720" y="228600"/>
            <a:ext cx="57405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Accessing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90920" y="39621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4419720"/>
            <a:ext cx="492444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066680"/>
            <a:ext cx="449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tains starting address of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tains array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red digit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*%eax +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memory refere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%edx,%eax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5029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erencing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3504960"/>
            <a:ext cx="82551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[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6 + 4* 3 = 4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6 + 4* 5 = 5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t[-1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6 + 4*-1 = 3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u[1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 + 4*15 = 7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?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range behavior implementation-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uaranteed relative allocation of different arr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17520" y="990720"/>
            <a:ext cx="6858720" cy="2362680"/>
            <a:chOff x="1217520" y="990720"/>
            <a:chExt cx="6858720" cy="2362680"/>
          </a:xfrm>
        </p:grpSpPr>
        <p:grpSp>
          <p:nvGrpSpPr>
            <p:cNvPr id="216" name=""/>
            <p:cNvGrpSpPr/>
            <p:nvPr/>
          </p:nvGrpSpPr>
          <p:grpSpPr>
            <a:xfrm>
              <a:off x="1233360" y="990720"/>
              <a:ext cx="6842880" cy="824760"/>
              <a:chOff x="1233360" y="990720"/>
              <a:chExt cx="6842880" cy="824760"/>
            </a:xfrm>
          </p:grpSpPr>
          <p:sp>
            <p:nvSpPr>
              <p:cNvPr id="217" name=""/>
              <p:cNvSpPr/>
              <p:nvPr/>
            </p:nvSpPr>
            <p:spPr>
              <a:xfrm>
                <a:off x="123336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049200" y="1066680"/>
                <a:ext cx="5027040" cy="748800"/>
                <a:chOff x="3049200" y="1066680"/>
                <a:chExt cx="5027040" cy="7488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3200760" y="1066680"/>
                  <a:ext cx="4572000" cy="228240"/>
                  <a:chOff x="3200760" y="1066680"/>
                  <a:chExt cx="4572000" cy="2282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32007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1151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50295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59439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68583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 flipV="1">
                  <a:off x="3276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49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1911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636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1055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8780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60199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7924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69343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7068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>
                  <a:off x="7848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621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1217520" y="1766880"/>
              <a:ext cx="6842880" cy="824400"/>
              <a:chOff x="1217520" y="1766880"/>
              <a:chExt cx="6842880" cy="824400"/>
            </a:xfrm>
          </p:grpSpPr>
          <p:sp>
            <p:nvSpPr>
              <p:cNvPr id="238" name=""/>
              <p:cNvSpPr/>
              <p:nvPr/>
            </p:nvSpPr>
            <p:spPr>
              <a:xfrm>
                <a:off x="121752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3033360" y="1842840"/>
                <a:ext cx="5027040" cy="748440"/>
                <a:chOff x="3033360" y="1842840"/>
                <a:chExt cx="5027040" cy="7484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3184920" y="1842840"/>
                  <a:ext cx="4572000" cy="228240"/>
                  <a:chOff x="3184920" y="1842840"/>
                  <a:chExt cx="4572000" cy="2282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31849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0993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50137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9281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68425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 flipV="1">
                  <a:off x="3260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033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41752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477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50896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8621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60040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765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69184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6909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832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05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1217520" y="2528640"/>
              <a:ext cx="6842880" cy="824760"/>
              <a:chOff x="1217520" y="2528640"/>
              <a:chExt cx="6842880" cy="824760"/>
            </a:xfrm>
          </p:grpSpPr>
          <p:sp>
            <p:nvSpPr>
              <p:cNvPr id="259" name=""/>
              <p:cNvSpPr/>
              <p:nvPr/>
            </p:nvSpPr>
            <p:spPr>
              <a:xfrm>
                <a:off x="1217520" y="25286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3033360" y="2604600"/>
                <a:ext cx="5027040" cy="748800"/>
                <a:chOff x="3033360" y="2604600"/>
                <a:chExt cx="5027040" cy="74880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3184920" y="2604600"/>
                  <a:ext cx="4572000" cy="228240"/>
                  <a:chOff x="3184920" y="2604600"/>
                  <a:chExt cx="4572000" cy="228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31849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0993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137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9281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8425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 flipV="1">
                  <a:off x="3260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33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41752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477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50896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8621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60040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765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69184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909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7832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05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572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Loop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50532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214920" indent="-214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generated by G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loop varia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array code to pointer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in do-whil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6040" indent="-158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test at ent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840" indent="-21348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05120" y="3733920"/>
            <a:ext cx="6705360" cy="283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6070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 Loop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181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*zi + *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mplemented as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z + 2*(zi+4*z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1800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ments by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838080"/>
            <a:ext cx="403848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0:17:55Z</dcterms:created>
  <dc:creator/>
  <dc:description/>
  <dc:language>en-US</dc:language>
  <cp:lastModifiedBy>Gregory Kesden</cp:lastModifiedBy>
  <cp:lastPrinted>1997-01-21T16:44:32Z</cp:lastPrinted>
  <dcterms:modified xsi:type="dcterms:W3CDTF">2002-02-07T10:32:44Z</dcterms:modified>
  <cp:revision>36</cp:revision>
  <dc:subject/>
  <dc:title>Structured Data</dc:title>
</cp:coreProperties>
</file>