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590800" y="652788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1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80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00505B03-05C3-4212-A667-3FCDC67EC624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981080"/>
            <a:ext cx="7035840" cy="161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Level Programming III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dur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bruary 5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73400" y="3885840"/>
            <a:ext cx="4356000" cy="223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32 stack discipl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saving conven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ing pointers to local vari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3.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work: N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special request, Homework answer will be on the Web so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03680" y="304920"/>
            <a:ext cx="3536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siting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114800"/>
            <a:ext cx="396216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71600"/>
            <a:ext cx="396216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ip1 = 1521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ip2 = 9112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all_swap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&amp;zip1, &amp;zip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1447920"/>
            <a:ext cx="42670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_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$zip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Global 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$zip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Global 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sw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46483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0292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54100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102440" y="5581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6440" y="5410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68560" y="350532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32004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03680" y="304920"/>
            <a:ext cx="3536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siting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2057400"/>
            <a:ext cx="396216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8320" y="1066680"/>
            <a:ext cx="33526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cx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x,(%ec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2514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02440" y="3124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14479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080" y="44197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72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943360" y="304920"/>
            <a:ext cx="3257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etup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074000" y="199404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68000" y="1822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90800" y="86364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064280" y="46162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58640" y="4444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43360" y="304920"/>
            <a:ext cx="3257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etup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086600" y="45720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8060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2600" y="12952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7089480" y="4692600"/>
            <a:ext cx="469800" cy="27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44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943360" y="304920"/>
            <a:ext cx="3257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etup #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086600" y="45720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8060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2600" y="12952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4800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102440" y="4971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44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81080" y="3657600"/>
            <a:ext cx="4038840" cy="380880"/>
          </a:xfrm>
          <a:prstGeom prst="rect">
            <a:avLst/>
          </a:prstGeom>
          <a:solidFill>
            <a:srgbClr val="47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4038480"/>
            <a:ext cx="4038840" cy="3812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3276720"/>
            <a:ext cx="4038840" cy="3808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90680" y="304920"/>
            <a:ext cx="4578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 o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et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086600" y="45720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8060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7120" y="441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8712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8712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712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31000" y="27432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92600" y="12952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19920" y="4800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102440" y="4971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9644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05200" y="228600"/>
            <a:ext cx="3333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inish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0" y="2514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2895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352680" y="3809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704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320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320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5320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5320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340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020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0" y="106668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368520" y="42102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628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0400" y="121932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5320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4600" y="5181120"/>
            <a:ext cx="8254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 &amp; restored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80240" y="255276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80240" y="293364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80240" y="331488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80240" y="369576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946920" y="384804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40920" y="3676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47440" y="3695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47440" y="3314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47440" y="2933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47440" y="2552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67640" y="20955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80240" y="110484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80240" y="407664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962760" y="42480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56760" y="4076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94640" y="12574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47440" y="4076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905200" y="228600"/>
            <a:ext cx="3333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inish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14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0" y="2895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352680" y="3809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4704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5320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5320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5320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320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7340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020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0" y="106668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368520" y="42102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8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00400" y="121932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5320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86680" y="257796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86680" y="29592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86680" y="334008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86680" y="372096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353360" y="38736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947360" y="3701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53880" y="3720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53880" y="3340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53880" y="2959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53880" y="2577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74080" y="21207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10880" y="114948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86680" y="1130400"/>
            <a:ext cx="1066680" cy="144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7356240" y="3974760"/>
            <a:ext cx="469800" cy="29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63200" y="4102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01080" y="1282680"/>
            <a:ext cx="100296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905200" y="228600"/>
            <a:ext cx="3333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inish #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86680" y="2514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86680" y="2895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8668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24560" y="1219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918920" y="104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5388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5388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5388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7408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1088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86680" y="106668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43280" y="2603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43280" y="298440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43280" y="336564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43280" y="3746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009960" y="3898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27640" y="376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10480" y="374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10480" y="3365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10480" y="2984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10480" y="2603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030680" y="21463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7480" y="117468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43280" y="11556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3012840" y="4000320"/>
            <a:ext cx="469800" cy="29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57680" y="1308240"/>
            <a:ext cx="100296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80120" y="412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7394400" y="3454200"/>
            <a:ext cx="470160" cy="29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86168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905200" y="228600"/>
            <a:ext cx="3333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inish #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86400" y="2514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2895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6553080" y="3048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3280" y="2895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360" y="182880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6400" y="106668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553080" y="1219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147440" y="104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4600" y="5181120"/>
            <a:ext cx="8254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 &amp; restored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dn’t do so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070000" y="245124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70000" y="28321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70000" y="321300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3108240" y="11556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02240" y="98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37560" y="3213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37560" y="2832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37560" y="2451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57400" y="1994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4560" y="102240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70000" y="1003320"/>
            <a:ext cx="106704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3178080" y="3390480"/>
            <a:ext cx="470160" cy="29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45360" y="3517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680" y="228600"/>
            <a:ext cx="2438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32 St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4323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memory managed with stack discip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dicates lowest allocated position in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address of top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 operand 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reme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operand at address given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operand at address given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190400" y="4267080"/>
            <a:ext cx="1521000" cy="911880"/>
            <a:chOff x="4190400" y="4267080"/>
            <a:chExt cx="1521000" cy="911880"/>
          </a:xfrm>
        </p:grpSpPr>
        <p:sp>
          <p:nvSpPr>
            <p:cNvPr id="48" name=""/>
            <p:cNvSpPr/>
            <p:nvPr/>
          </p:nvSpPr>
          <p:spPr>
            <a:xfrm>
              <a:off x="5203440" y="500544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0400" y="426708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5715000" y="1981080"/>
            <a:ext cx="129240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70760" y="3809880"/>
            <a:ext cx="3024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9520" y="4111560"/>
            <a:ext cx="1565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Gr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230240" y="1600200"/>
            <a:ext cx="1347480" cy="1295280"/>
            <a:chOff x="7230240" y="1600200"/>
            <a:chExt cx="1347480" cy="1295280"/>
          </a:xfrm>
        </p:grpSpPr>
        <p:sp>
          <p:nvSpPr>
            <p:cNvPr id="54" name=""/>
            <p:cNvSpPr/>
            <p:nvPr/>
          </p:nvSpPr>
          <p:spPr>
            <a:xfrm flipV="1">
              <a:off x="7914960" y="160020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30240" y="2001960"/>
              <a:ext cx="134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crea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 flipH="1" flipV="1">
            <a:off x="6543720" y="5181120"/>
            <a:ext cx="63504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22760" y="563868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“Top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769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1160" y="83808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“Botto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781680" y="1295280"/>
            <a:ext cx="457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477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ister Saving Conven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procedu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o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o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ll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Register be Used for Temporary Stora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s of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verwritten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r Sav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r saves temporary in its frame before 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e Sav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e saves temporary in its frame before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0880" y="2133720"/>
            <a:ext cx="3781440" cy="2009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o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15213,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%edx,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2133720"/>
            <a:ext cx="3781440" cy="1734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$91125,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25760" y="228600"/>
            <a:ext cx="5892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32/Linux Register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4240" y="914400"/>
            <a:ext cx="3670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mised by looking at code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have special u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managed as callee-s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values saved on stack prior to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managed as caller-s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hat you please, but expect any callee to do so,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stores returned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324480" y="1600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24480" y="20574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25146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24480" y="29718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324480" y="34290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24480" y="3886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324480" y="4343400"/>
            <a:ext cx="251460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24480" y="4800600"/>
            <a:ext cx="251460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638680" y="1600200"/>
            <a:ext cx="533520" cy="1295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38680" y="2971800"/>
            <a:ext cx="533520" cy="1295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638680" y="4343400"/>
            <a:ext cx="533520" cy="8380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90240" y="190512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r-S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41000" y="327672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e-S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3440" y="45720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838080" y="914400"/>
            <a:ext cx="340056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fact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val = rfact(x-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val *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152280"/>
            <a:ext cx="3505320" cy="639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globl rf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fact,@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$1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 .L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-1(%ebx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rf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%eb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align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7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1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7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4343400" cy="109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ursive Factori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80880" y="3809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123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Assemb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1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mbler directiv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9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 beginning with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9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of concern to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1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9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1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65360" y="228600"/>
            <a:ext cx="4013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fact Stack Set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29000" y="2895480"/>
            <a:ext cx="3505320" cy="1186200"/>
          </a:xfrm>
          <a:prstGeom prst="rect">
            <a:avLst/>
          </a:prstGeom>
          <a:noFill/>
          <a:ln w="5724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82880" y="91440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ing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450080" y="3581280"/>
            <a:ext cx="3623040" cy="2667240"/>
            <a:chOff x="1450080" y="3581280"/>
            <a:chExt cx="3623040" cy="2667240"/>
          </a:xfrm>
        </p:grpSpPr>
        <p:sp>
          <p:nvSpPr>
            <p:cNvPr id="470" name=""/>
            <p:cNvSpPr/>
            <p:nvPr/>
          </p:nvSpPr>
          <p:spPr>
            <a:xfrm>
              <a:off x="2666880" y="4495680"/>
              <a:ext cx="106704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66880" y="48769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66880" y="52578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3733920" y="5410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27920" y="5238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34440" y="5257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34440" y="4876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34440" y="4495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66880" y="5638680"/>
              <a:ext cx="106704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3749760" y="5810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43760" y="5638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34440" y="5638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1676160" y="525780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1905120" y="48769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05120" y="358128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50080" y="3962520"/>
              <a:ext cx="814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l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50080" y="5410080"/>
              <a:ext cx="852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ll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992880" y="1066680"/>
            <a:ext cx="3623040" cy="1371600"/>
            <a:chOff x="992880" y="1066680"/>
            <a:chExt cx="3623040" cy="1371600"/>
          </a:xfrm>
        </p:grpSpPr>
        <p:sp>
          <p:nvSpPr>
            <p:cNvPr id="488" name=""/>
            <p:cNvSpPr/>
            <p:nvPr/>
          </p:nvSpPr>
          <p:spPr>
            <a:xfrm>
              <a:off x="2209680" y="16765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209680" y="20574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1218960" y="243828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47920" y="106668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92880" y="1523880"/>
              <a:ext cx="814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l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3292560" y="222876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86560" y="2057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2540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fact Bod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266720" y="4038120"/>
            <a:ext cx="46609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d value of 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ea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ry value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ed value fr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fact(x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ed value from this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19520" y="380880"/>
            <a:ext cx="5867280" cy="310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b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$1,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Compare x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 .L7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lt;= goto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-1(%eb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x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Push x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rf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fact(x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%eb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val *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7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Goto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78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1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eturn val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7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3520" y="3886200"/>
            <a:ext cx="340020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fact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val = rfact(x-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val *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13080" y="1244520"/>
            <a:ext cx="507960" cy="1028880"/>
          </a:xfrm>
          <a:custGeom>
            <a:avLst/>
            <a:gdLst>
              <a:gd name="textAreaLeft" fmla="*/ 324720 w 507960"/>
              <a:gd name="textAreaRight" fmla="*/ 508320 w 507960"/>
              <a:gd name="textAreaTop" fmla="*/ 26640 h 1028880"/>
              <a:gd name="textAreaBottom" fmla="*/ 1002240 h 10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00360" y="15098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3632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fact Recur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352680" y="1523880"/>
            <a:ext cx="2895120" cy="3886200"/>
            <a:chOff x="3352680" y="1523880"/>
            <a:chExt cx="2895120" cy="3886200"/>
          </a:xfrm>
        </p:grpSpPr>
        <p:sp>
          <p:nvSpPr>
            <p:cNvPr id="503" name=""/>
            <p:cNvSpPr/>
            <p:nvPr/>
          </p:nvSpPr>
          <p:spPr>
            <a:xfrm>
              <a:off x="3657600" y="1523880"/>
              <a:ext cx="1600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ushl 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3657600" y="2057400"/>
              <a:ext cx="2590200" cy="1949400"/>
              <a:chOff x="3657600" y="2057400"/>
              <a:chExt cx="2590200" cy="1949400"/>
            </a:xfrm>
          </p:grpSpPr>
          <p:sp>
            <p:nvSpPr>
              <p:cNvPr id="505" name=""/>
              <p:cNvSpPr/>
              <p:nvPr/>
            </p:nvSpPr>
            <p:spPr>
              <a:xfrm>
                <a:off x="4038480" y="205740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038480" y="2438280"/>
                <a:ext cx="106704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tn ad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038480" y="281952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5105520" y="29718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518440" y="28004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038480" y="320040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5105520" y="38098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8440" y="36385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038480" y="3581280"/>
                <a:ext cx="106704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57600" y="281952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4038480" y="46483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352680" y="4648320"/>
              <a:ext cx="6098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38480" y="50292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52680" y="5029200"/>
              <a:ext cx="6098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52280" y="838080"/>
            <a:ext cx="3047760" cy="3886200"/>
            <a:chOff x="152280" y="838080"/>
            <a:chExt cx="3047760" cy="3886200"/>
          </a:xfrm>
        </p:grpSpPr>
        <p:sp>
          <p:nvSpPr>
            <p:cNvPr id="520" name=""/>
            <p:cNvSpPr/>
            <p:nvPr/>
          </p:nvSpPr>
          <p:spPr>
            <a:xfrm>
              <a:off x="914400" y="137160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14400" y="17524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213372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1981080" y="22860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54480" y="2128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14400" y="251460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1996920" y="268596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70680" y="252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520" y="213372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14400" y="396252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8600" y="396252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14400" y="434340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" y="434340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52280" y="838080"/>
              <a:ext cx="266724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eal -1(%ebx),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6095880" y="2438280"/>
            <a:ext cx="2895120" cy="3886200"/>
            <a:chOff x="6095880" y="2438280"/>
            <a:chExt cx="2895120" cy="3886200"/>
          </a:xfrm>
        </p:grpSpPr>
        <p:grpSp>
          <p:nvGrpSpPr>
            <p:cNvPr id="535" name=""/>
            <p:cNvGrpSpPr/>
            <p:nvPr/>
          </p:nvGrpSpPr>
          <p:grpSpPr>
            <a:xfrm>
              <a:off x="6400800" y="2971800"/>
              <a:ext cx="2590200" cy="2286000"/>
              <a:chOff x="6400800" y="2971800"/>
              <a:chExt cx="2590200" cy="2286000"/>
            </a:xfrm>
          </p:grpSpPr>
          <p:sp>
            <p:nvSpPr>
              <p:cNvPr id="536" name=""/>
              <p:cNvSpPr/>
              <p:nvPr/>
            </p:nvSpPr>
            <p:spPr>
              <a:xfrm>
                <a:off x="6781680" y="297180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781680" y="3352680"/>
                <a:ext cx="106704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tn ad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81680" y="373392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7848720" y="38862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261640" y="37148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11480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7848720" y="50292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261640" y="48578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781680" y="4495680"/>
                <a:ext cx="106704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781680" y="487692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tn ad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477120" y="373392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400800" y="525780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6781680" y="5562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95880" y="5562720"/>
              <a:ext cx="6098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781680" y="5943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95880" y="5943600"/>
              <a:ext cx="6098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77120" y="2438280"/>
              <a:ext cx="167616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all rf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428640" y="152280"/>
            <a:ext cx="2793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fact Resul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4800600" y="1523880"/>
            <a:ext cx="2895120" cy="3886200"/>
            <a:chOff x="4800600" y="1523880"/>
            <a:chExt cx="2895120" cy="3886200"/>
          </a:xfrm>
        </p:grpSpPr>
        <p:sp>
          <p:nvSpPr>
            <p:cNvPr id="555" name=""/>
            <p:cNvSpPr/>
            <p:nvPr/>
          </p:nvSpPr>
          <p:spPr>
            <a:xfrm>
              <a:off x="4952880" y="1523880"/>
              <a:ext cx="236232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mull %ebx,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5105520" y="2057400"/>
              <a:ext cx="2590200" cy="1949400"/>
              <a:chOff x="5105520" y="2057400"/>
              <a:chExt cx="2590200" cy="1949400"/>
            </a:xfrm>
          </p:grpSpPr>
          <p:sp>
            <p:nvSpPr>
              <p:cNvPr id="557" name=""/>
              <p:cNvSpPr/>
              <p:nvPr/>
            </p:nvSpPr>
            <p:spPr>
              <a:xfrm>
                <a:off x="5486400" y="20574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86400" y="243828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tn ad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86400" y="281952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6553080" y="29718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966360" y="28004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86400" y="32004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6553080" y="38098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966360" y="36385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86400" y="358128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05520" y="281952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5486400" y="464832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00600" y="464832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86400" y="502920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00600" y="502920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85800" y="1523880"/>
            <a:ext cx="2895120" cy="3886200"/>
            <a:chOff x="685800" y="1523880"/>
            <a:chExt cx="2895120" cy="3886200"/>
          </a:xfrm>
        </p:grpSpPr>
        <p:grpSp>
          <p:nvGrpSpPr>
            <p:cNvPr id="572" name=""/>
            <p:cNvGrpSpPr/>
            <p:nvPr/>
          </p:nvGrpSpPr>
          <p:grpSpPr>
            <a:xfrm>
              <a:off x="990720" y="2057400"/>
              <a:ext cx="2590200" cy="1949400"/>
              <a:chOff x="990720" y="2057400"/>
              <a:chExt cx="2590200" cy="1949400"/>
            </a:xfrm>
          </p:grpSpPr>
          <p:sp>
            <p:nvSpPr>
              <p:cNvPr id="573" name=""/>
              <p:cNvSpPr/>
              <p:nvPr/>
            </p:nvSpPr>
            <p:spPr>
              <a:xfrm>
                <a:off x="1371600" y="20574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243828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tn ad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281952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2438280" y="29718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851560" y="28004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2004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2438280" y="38098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51560" y="36385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58128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990720" y="281952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1371600" y="464832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(x-1)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5800" y="464832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71600" y="502920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5800" y="502920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38080" y="1523880"/>
              <a:ext cx="21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turn from C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616120" y="228600"/>
            <a:ext cx="3911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fact Comple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267080" y="2895480"/>
            <a:ext cx="3505320" cy="1186200"/>
          </a:xfrm>
          <a:prstGeom prst="rect">
            <a:avLst/>
          </a:prstGeom>
          <a:noFill/>
          <a:ln w="5724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990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28800" y="1371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28800" y="1752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2895480" y="1905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489840" y="1733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296000" y="1752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96000" y="1371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96000" y="990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28800" y="2133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911320" y="2685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505680" y="2514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96000" y="2133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410080" y="4800600"/>
            <a:ext cx="2390400" cy="380880"/>
            <a:chOff x="5410080" y="4800600"/>
            <a:chExt cx="2390400" cy="380880"/>
          </a:xfrm>
        </p:grpSpPr>
        <p:sp>
          <p:nvSpPr>
            <p:cNvPr id="603" name=""/>
            <p:cNvSpPr/>
            <p:nvPr/>
          </p:nvSpPr>
          <p:spPr>
            <a:xfrm>
              <a:off x="5410080" y="4800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6477120" y="4800600"/>
              <a:ext cx="1323360" cy="368280"/>
              <a:chOff x="6477120" y="4800600"/>
              <a:chExt cx="1323360" cy="368280"/>
            </a:xfrm>
          </p:grpSpPr>
          <p:sp>
            <p:nvSpPr>
              <p:cNvPr id="605" name=""/>
              <p:cNvSpPr/>
              <p:nvPr/>
            </p:nvSpPr>
            <p:spPr>
              <a:xfrm flipH="1">
                <a:off x="6477120" y="49716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071120" y="480060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7" name=""/>
          <p:cNvSpPr/>
          <p:nvPr/>
        </p:nvSpPr>
        <p:spPr>
          <a:xfrm>
            <a:off x="5410080" y="5486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724280" y="54864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10080" y="5867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724280" y="5867280"/>
            <a:ext cx="609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828800" y="35053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43000" y="3505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28800" y="38862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143000" y="38862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828800" y="2514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9600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85920" y="228600"/>
            <a:ext cx="2971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inter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38080" y="1295280"/>
            <a:ext cx="3705480" cy="310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_hel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*acc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 = *accum *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accum = 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_helper (x-1,accu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7800" y="1371600"/>
            <a:ext cx="34005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_helper(x, &amp;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410800" y="9144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-Level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6960" y="8380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44600" y="4800240"/>
            <a:ext cx="82548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 pointer to update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tail recur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GCC only partially optimize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320840" y="228600"/>
            <a:ext cx="6502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ating &amp; Initializing Poin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800600" y="4724280"/>
            <a:ext cx="34005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_helper(x,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amp;v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1523880"/>
            <a:ext cx="548640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_sf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ave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et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l $16,%es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Add 16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1,-4(%ebp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val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880" y="365760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9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Stack for Local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8600" indent="-198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ust be stored on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7360" indent="-146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reate pointer t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8600" indent="-198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pointer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(%eb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8600" indent="-198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h on stack as second arg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15720" y="990720"/>
            <a:ext cx="30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par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53080" y="1676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553080" y="2057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553080" y="2438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620120" y="2590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214120" y="241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8996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899680" y="205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99680" y="167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53080" y="2819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7635960" y="4133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229960" y="3962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899680" y="2819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3200400"/>
            <a:ext cx="10670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89968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899680" y="3200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900040" y="3962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9548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3352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33526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29718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1752480"/>
            <a:ext cx="1371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51814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25760" y="228600"/>
            <a:ext cx="5892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ck Operation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29718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1752480"/>
            <a:ext cx="1371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51814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89680" y="12193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1520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29718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1752480"/>
            <a:ext cx="1371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51814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7800" y="121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781360" y="228600"/>
            <a:ext cx="3581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sing Poin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3886200"/>
            <a:ext cx="340020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_helper(x,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amp;v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0880" y="1752480"/>
            <a:ext cx="548640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-4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Compute &amp;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Push on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Push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s_help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eturn 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 • •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16080" y="9907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_help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553080" y="1676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553080" y="2057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53080" y="2438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7620120" y="2590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214120" y="241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8996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899680" y="205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99680" y="167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553080" y="2819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7620120" y="4952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214120" y="4781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899680" y="2819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53080" y="3200400"/>
            <a:ext cx="10670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9968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99680" y="3200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00040" y="3962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553080" y="4343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553080" y="4724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467480" y="2935440"/>
            <a:ext cx="1030320" cy="1592280"/>
          </a:xfrm>
          <a:custGeom>
            <a:avLst/>
            <a:gdLst/>
            <a:ahLst/>
            <a:rect l="l" t="t" r="r" b="b"/>
            <a:pathLst>
              <a:path w="649" h="1003">
                <a:moveTo>
                  <a:pt x="0" y="983"/>
                </a:moveTo>
                <a:cubicBezTo>
                  <a:pt x="120" y="1003"/>
                  <a:pt x="243" y="983"/>
                  <a:pt x="336" y="935"/>
                </a:cubicBezTo>
                <a:cubicBezTo>
                  <a:pt x="429" y="887"/>
                  <a:pt x="512" y="789"/>
                  <a:pt x="560" y="695"/>
                </a:cubicBezTo>
                <a:cubicBezTo>
                  <a:pt x="608" y="601"/>
                  <a:pt x="649" y="474"/>
                  <a:pt x="624" y="367"/>
                </a:cubicBezTo>
                <a:cubicBezTo>
                  <a:pt x="599" y="260"/>
                  <a:pt x="495" y="110"/>
                  <a:pt x="408" y="55"/>
                </a:cubicBezTo>
                <a:cubicBezTo>
                  <a:pt x="321" y="0"/>
                  <a:pt x="167" y="42"/>
                  <a:pt x="104" y="3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7680" y="12193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at time of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22560" y="228600"/>
            <a:ext cx="3098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Poin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209680" y="3505320"/>
            <a:ext cx="624852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c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(%ed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 *= *ac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*accum =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914400"/>
            <a:ext cx="340020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_hel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*acc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 = *accum *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accum = 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44600" y="5181120"/>
            <a:ext cx="8254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old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old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c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%edx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ferenc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933640" y="228600"/>
            <a:ext cx="3276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il Recur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33520" y="4648320"/>
            <a:ext cx="40384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fact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t_helper(x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1905120"/>
            <a:ext cx="3657600" cy="1734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_helper(x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_helper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exp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xp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953600" y="1295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724280" y="4191120"/>
            <a:ext cx="39751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ly return value returned by recursive c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convert into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520" y="1447920"/>
            <a:ext cx="403848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_hel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_helper(x-1, val*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12000" y="9907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il Recursive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0200" y="419112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-Level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5613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oving Tail Recur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495680" y="1447920"/>
            <a:ext cx="403884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_hel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 = val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sta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3520" y="1447920"/>
            <a:ext cx="365760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_helper(x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xp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exp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sta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55760" y="99072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ed Gener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64040" y="99072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44600" y="4343040"/>
            <a:ext cx="82548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 of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 recursive chain into single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tack frame nee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 space requi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linear for recursive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7080" y="228600"/>
            <a:ext cx="8889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ted Code for Tail Recursive Proc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429000" y="1600200"/>
            <a:ext cx="556272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d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cx = 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5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t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$1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x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 L5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lt;= goto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d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%ec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val *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cl 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x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val = val *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L5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go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5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080" y="99072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1523880"/>
            <a:ext cx="304812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_hel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 = val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sta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877280" y="99072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for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4648320"/>
            <a:ext cx="2133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ecx 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467160" y="228600"/>
            <a:ext cx="2209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ck Makes Recursion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storage for eac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s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procedure c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iations don’t clobber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ing of locals + arguments can be relative to stack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managed by stack discip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s return in inverse order of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A32 Procedures Combination of Instructions + Con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/ Ret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usage conven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r / Callee s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frame organization conven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38240" y="216000"/>
            <a:ext cx="5308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dure Control 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4600" y="1155240"/>
            <a:ext cx="8254800" cy="258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2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tack to support procedure call and retu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 cal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abel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return address on stack; Jump 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ab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address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560" indent="-12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of instruction beyo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3560" indent="-12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from disassemb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3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54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8 3d 06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 8048b90 &lt;main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3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55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0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 %ea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0160" indent="-92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addres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 retur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560" indent="-12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address from stack; Jump to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9548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038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53341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54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4038480"/>
            <a:ext cx="1371600" cy="3812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3657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438280"/>
            <a:ext cx="1371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5160" y="228600"/>
            <a:ext cx="7213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dure Call / Retur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657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2438280"/>
            <a:ext cx="1371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7242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7360" y="19051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 8048b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15200" y="3657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438280"/>
            <a:ext cx="1371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0840" y="1905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880" y="990720"/>
            <a:ext cx="80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54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8 3d 06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 8048b90 &lt;mai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55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0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53341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b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7242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5334120"/>
            <a:ext cx="1371600" cy="380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47242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586728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i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program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410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ck-Based Langu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s that Support Recu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C, Pascal, 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must be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entr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simultaneous instantiations of singl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some place to store state of each instant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Discip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for given procedure needed for limited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when called to when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e returns before caller do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Allocated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for single procedure instant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25680" y="228600"/>
            <a:ext cx="4368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l Chai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4240" y="914400"/>
            <a:ext cx="275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447920"/>
            <a:ext cx="1523880" cy="228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oo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o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438280"/>
            <a:ext cx="1600200" cy="228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o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1524240" cy="228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933600" y="1143000"/>
            <a:ext cx="1671840" cy="4038480"/>
            <a:chOff x="6933600" y="1143000"/>
            <a:chExt cx="1671840" cy="4038480"/>
          </a:xfrm>
        </p:grpSpPr>
        <p:grpSp>
          <p:nvGrpSpPr>
            <p:cNvPr id="143" name=""/>
            <p:cNvGrpSpPr/>
            <p:nvPr/>
          </p:nvGrpSpPr>
          <p:grpSpPr>
            <a:xfrm>
              <a:off x="7086960" y="1600200"/>
              <a:ext cx="1498320" cy="3581280"/>
              <a:chOff x="7086960" y="1600200"/>
              <a:chExt cx="1498320" cy="3581280"/>
            </a:xfrm>
          </p:grpSpPr>
          <p:sp>
            <p:nvSpPr>
              <p:cNvPr id="144" name=""/>
              <p:cNvSpPr/>
              <p:nvPr/>
            </p:nvSpPr>
            <p:spPr>
              <a:xfrm>
                <a:off x="7086960" y="1600200"/>
                <a:ext cx="1498320" cy="3581280"/>
              </a:xfrm>
              <a:prstGeom prst="rect">
                <a:avLst/>
              </a:prstGeom>
              <a:solidFill>
                <a:srgbClr val="dadada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7543800" y="1828440"/>
                <a:ext cx="617400" cy="3182400"/>
                <a:chOff x="7543800" y="1828440"/>
                <a:chExt cx="617400" cy="31824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554960" y="1828440"/>
                  <a:ext cx="606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yo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554960" y="2514240"/>
                  <a:ext cx="606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wh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43800" y="3188880"/>
                  <a:ext cx="606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am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54960" y="3885840"/>
                  <a:ext cx="606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am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554960" y="4647600"/>
                  <a:ext cx="606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am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859520" y="2133000"/>
                  <a:ext cx="0" cy="432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859520" y="2818800"/>
                  <a:ext cx="0" cy="432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859520" y="3504600"/>
                  <a:ext cx="0" cy="432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859520" y="4266720"/>
                  <a:ext cx="0" cy="431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5" name=""/>
            <p:cNvSpPr/>
            <p:nvPr/>
          </p:nvSpPr>
          <p:spPr>
            <a:xfrm>
              <a:off x="6933600" y="1143000"/>
              <a:ext cx="1671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l Ch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28600" y="51814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m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4309560" y="5386320"/>
            <a:ext cx="1445040" cy="911880"/>
            <a:chOff x="4309560" y="5386320"/>
            <a:chExt cx="1445040" cy="911880"/>
          </a:xfrm>
        </p:grpSpPr>
        <p:sp>
          <p:nvSpPr>
            <p:cNvPr id="158" name=""/>
            <p:cNvSpPr/>
            <p:nvPr/>
          </p:nvSpPr>
          <p:spPr>
            <a:xfrm>
              <a:off x="5246640" y="566748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09560" y="53863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724360" y="304920"/>
            <a:ext cx="1292040" cy="5483880"/>
            <a:chOff x="5724360" y="304920"/>
            <a:chExt cx="1292040" cy="5483880"/>
          </a:xfrm>
        </p:grpSpPr>
        <p:sp>
          <p:nvSpPr>
            <p:cNvPr id="161" name=""/>
            <p:cNvSpPr/>
            <p:nvPr/>
          </p:nvSpPr>
          <p:spPr>
            <a:xfrm>
              <a:off x="5724360" y="1219320"/>
              <a:ext cx="1292040" cy="91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o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24360" y="2133720"/>
              <a:ext cx="1292040" cy="91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h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24360" y="3048120"/>
              <a:ext cx="1292040" cy="91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m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24360" y="3962520"/>
              <a:ext cx="1292040" cy="91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m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24360" y="4876920"/>
              <a:ext cx="1292040" cy="91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m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304920"/>
              <a:ext cx="1292040" cy="91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266720" y="4343400"/>
            <a:ext cx="1445040" cy="911880"/>
            <a:chOff x="4266720" y="4343400"/>
            <a:chExt cx="1445040" cy="911880"/>
          </a:xfrm>
        </p:grpSpPr>
        <p:sp>
          <p:nvSpPr>
            <p:cNvPr id="168" name=""/>
            <p:cNvSpPr/>
            <p:nvPr/>
          </p:nvSpPr>
          <p:spPr>
            <a:xfrm>
              <a:off x="5203800" y="500544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66720" y="43434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238880" y="3505320"/>
            <a:ext cx="1565280" cy="1041120"/>
            <a:chOff x="7238880" y="3505320"/>
            <a:chExt cx="1565280" cy="1041120"/>
          </a:xfrm>
        </p:grpSpPr>
        <p:sp>
          <p:nvSpPr>
            <p:cNvPr id="171" name=""/>
            <p:cNvSpPr/>
            <p:nvPr/>
          </p:nvSpPr>
          <p:spPr>
            <a:xfrm>
              <a:off x="7980480" y="3505320"/>
              <a:ext cx="0" cy="104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38880" y="3806640"/>
              <a:ext cx="1565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ck Gro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239960" y="1295280"/>
            <a:ext cx="1347480" cy="1295280"/>
            <a:chOff x="7239960" y="1295280"/>
            <a:chExt cx="1347480" cy="1295280"/>
          </a:xfrm>
        </p:grpSpPr>
        <p:sp>
          <p:nvSpPr>
            <p:cNvPr id="174" name=""/>
            <p:cNvSpPr/>
            <p:nvPr/>
          </p:nvSpPr>
          <p:spPr>
            <a:xfrm flipV="1">
              <a:off x="7924680" y="129528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39960" y="1697040"/>
              <a:ext cx="134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crea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H="1" flipV="1">
            <a:off x="6832440" y="5791320"/>
            <a:ext cx="635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42720" y="5867280"/>
            <a:ext cx="830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4597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32 Stack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44240" y="914400"/>
            <a:ext cx="4051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Grow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ward lower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of next available location in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me Poi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of current stack fr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17720" y="304920"/>
            <a:ext cx="52833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32/Linux Stack Fra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96040" cy="50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e Stack Frame (“Top” to Botto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s for called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an’t keep in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 register con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frame poi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r Stack Fr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ed b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 for this c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6019920"/>
            <a:ext cx="8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78520" y="5616720"/>
            <a:ext cx="1641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043600" y="2806560"/>
            <a:ext cx="1982160" cy="637560"/>
            <a:chOff x="5043600" y="2806560"/>
            <a:chExt cx="1982160" cy="637560"/>
          </a:xfrm>
        </p:grpSpPr>
        <p:sp>
          <p:nvSpPr>
            <p:cNvPr id="185" name=""/>
            <p:cNvSpPr/>
            <p:nvPr/>
          </p:nvSpPr>
          <p:spPr>
            <a:xfrm>
              <a:off x="6060960" y="3438360"/>
              <a:ext cx="9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43600" y="2806560"/>
              <a:ext cx="1717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037280" y="2959200"/>
            <a:ext cx="135900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37280" y="3568680"/>
            <a:ext cx="1371600" cy="181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37280" y="5410080"/>
            <a:ext cx="1371600" cy="73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37280" y="1143000"/>
            <a:ext cx="1371600" cy="13716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24680" y="3263760"/>
            <a:ext cx="1384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37280" y="2362320"/>
            <a:ext cx="1359000" cy="6094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7520" y="18288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11430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54:12Z</dcterms:created>
  <dc:creator>Randal E. Bryant</dc:creator>
  <dc:description/>
  <dc:language>en-US</dc:language>
  <cp:lastModifiedBy>Gregory Kesden</cp:lastModifiedBy>
  <cp:lastPrinted>2000-09-18T18:15:24Z</cp:lastPrinted>
  <dcterms:modified xsi:type="dcterms:W3CDTF">2002-02-05T11:07:29Z</dcterms:modified>
  <cp:revision>67</cp:revision>
  <dc:subject/>
  <dc:title>Procedure Calls &amp; Returns</dc:title>
</cp:coreProperties>
</file>