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2548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43640"/>
            <a:ext cx="82548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83808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4364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4364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265788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838080"/>
            <a:ext cx="265788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838080"/>
            <a:ext cx="265788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43640"/>
            <a:ext cx="265788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43640"/>
            <a:ext cx="265788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43640"/>
            <a:ext cx="265788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402804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838080"/>
            <a:ext cx="402804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07296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838080"/>
            <a:ext cx="402804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4364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402804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83808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4364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83808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43640"/>
            <a:ext cx="82548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715800" y="6527880"/>
            <a:ext cx="11181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CS 213 F’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2824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B982388F-6972-4786-A629-054FB0EA0D0C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6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447560"/>
            <a:ext cx="6756480" cy="1617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-Level Programming I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ol Flow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nuary 31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3123720"/>
            <a:ext cx="4356000" cy="26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10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-then-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eties of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3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work: 3.3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6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44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447920"/>
            <a:ext cx="26035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828800"/>
            <a:ext cx="381492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act_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while (x &gt;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1371600"/>
            <a:ext cx="2298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828800"/>
            <a:ext cx="381456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act_goto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gt;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63560" y="152280"/>
            <a:ext cx="5816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-While” Loop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510552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backward branch to continue loop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take branch when “while” condition hol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14400" y="1295280"/>
            <a:ext cx="2298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752480"/>
            <a:ext cx="2819520" cy="310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act_g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gt;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82680" y="152280"/>
            <a:ext cx="65786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-While” Loop Comp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4600" y="5049360"/>
            <a:ext cx="3441600" cy="135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5748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5748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5748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1752480"/>
            <a:ext cx="541044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_fact_go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1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%ed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esult *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cl 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x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$1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Compare x 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g L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f &gt; goto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1295280"/>
            <a:ext cx="2298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990720"/>
            <a:ext cx="26035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371600"/>
            <a:ext cx="2514600" cy="911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914400"/>
            <a:ext cx="2298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371600"/>
            <a:ext cx="2438280" cy="1186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640" y="152280"/>
            <a:ext cx="6984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“Do-While” Trans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2895120"/>
            <a:ext cx="825516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509760" indent="-202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n be any C stat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4280" indent="-150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compound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expression returning inte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 interpreted as 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interpreted a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3581280"/>
            <a:ext cx="2209680" cy="1847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06668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447920"/>
            <a:ext cx="381492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act_w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x &gt; 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990720"/>
            <a:ext cx="31240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Goto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1447920"/>
            <a:ext cx="3814560" cy="365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act_while_g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!(x &gt;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27280" y="152280"/>
            <a:ext cx="5689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ile” Loop Example #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2551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is code equivalent to the do-while vers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jump out of loop if test fai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1447920"/>
            <a:ext cx="26035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828800"/>
            <a:ext cx="3814920" cy="25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act_while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x &gt; 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1371600"/>
            <a:ext cx="3429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Goto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1828800"/>
            <a:ext cx="3814560" cy="392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act_while_goto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!(x &gt;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gt;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ual “While” Loop Trans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4724280"/>
            <a:ext cx="37339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same inner loop as do-while ver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ards loop entry with extra t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990720"/>
            <a:ext cx="26035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1447920"/>
            <a:ext cx="1905120" cy="63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3276720"/>
            <a:ext cx="28954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-While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3809880"/>
            <a:ext cx="2362320" cy="1734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60520" y="152280"/>
            <a:ext cx="6222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“While” Trans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3200400"/>
            <a:ext cx="289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3657600"/>
            <a:ext cx="2362320" cy="2009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2362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35053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4572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” Loop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4600" y="4038120"/>
            <a:ext cx="82548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12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it property th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… 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–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es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·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·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· … · (…(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…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8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w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8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it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(lo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914400"/>
            <a:ext cx="716256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pute x raised to nonnegative power 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pwr_for(int x, unsigned 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result = 1; p != 0; p = p&gt;&gt;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726080" y="5105160"/>
            <a:ext cx="1297800" cy="596880"/>
            <a:chOff x="4726080" y="5105160"/>
            <a:chExt cx="1297800" cy="596880"/>
          </a:xfrm>
        </p:grpSpPr>
        <p:sp>
          <p:nvSpPr>
            <p:cNvPr id="141" name=""/>
            <p:cNvSpPr/>
            <p:nvPr/>
          </p:nvSpPr>
          <p:spPr>
            <a:xfrm rot="16200000">
              <a:off x="5238720" y="4819320"/>
              <a:ext cx="190440" cy="76212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234"/>
                  </a:lnTo>
                  <a:cubicBezTo>
                    <a:pt x="10800" y="9134"/>
                    <a:pt x="5400" y="10034"/>
                    <a:pt x="0" y="10034"/>
                  </a:cubicBezTo>
                  <a:cubicBezTo>
                    <a:pt x="5400" y="10034"/>
                    <a:pt x="10800" y="10934"/>
                    <a:pt x="10800" y="1183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26080" y="5333760"/>
              <a:ext cx="12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–1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553080" y="4267080"/>
            <a:ext cx="2133720" cy="162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 ((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86160" y="152280"/>
            <a:ext cx="4171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ipw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914400"/>
            <a:ext cx="693396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pute x raised to nonnegative power 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pwr_for(int x, unsigned 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result = 1; p != 0; p = p&gt;&gt;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676520" y="4191120"/>
          <a:ext cx="5981760" cy="250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191120"/>
                    <a:ext cx="598176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6520" y="520560"/>
            <a:ext cx="4572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” Loop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95680" y="1752480"/>
            <a:ext cx="3505320" cy="780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447920"/>
            <a:ext cx="342900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!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= p&gt;&gt;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1219320"/>
            <a:ext cx="34480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4267080"/>
            <a:ext cx="160020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08600" y="3809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4272120"/>
            <a:ext cx="160020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!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4272120"/>
            <a:ext cx="160020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= p &gt;&gt;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4876920"/>
            <a:ext cx="297180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08360" y="520560"/>
            <a:ext cx="3574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”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“While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190512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523880"/>
            <a:ext cx="3352680" cy="780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1523880"/>
            <a:ext cx="3352680" cy="1460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114800" y="2895480"/>
            <a:ext cx="53352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76720"/>
            <a:ext cx="28958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29200" y="3809880"/>
            <a:ext cx="3814920" cy="2557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1066680"/>
            <a:ext cx="289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1066680"/>
            <a:ext cx="289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819520"/>
            <a:ext cx="28958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-While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3352680"/>
            <a:ext cx="3814920" cy="2283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3505320"/>
            <a:ext cx="53316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79840" y="152280"/>
            <a:ext cx="3784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Bit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ry Fl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ro Fl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 Fl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flow Fl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icit Setting By Arithmetic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analog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 = a+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 set if carry out from most significant b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detect unsigned over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F set 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=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F set 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&lt;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et if two’s complement over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a&gt;0 &amp;&amp; b&gt;0 &amp;&amp; t&lt;0) || (a&lt;0 &amp;&amp; b&lt;0 &amp;&amp; t&gt;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t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5280" y="520560"/>
            <a:ext cx="5334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” Loop Comp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85800" y="4343400"/>
            <a:ext cx="1600200" cy="820440"/>
            <a:chOff x="685800" y="4343400"/>
            <a:chExt cx="1600200" cy="820440"/>
          </a:xfrm>
        </p:grpSpPr>
        <p:sp>
          <p:nvSpPr>
            <p:cNvPr id="174" name=""/>
            <p:cNvSpPr/>
            <p:nvPr/>
          </p:nvSpPr>
          <p:spPr>
            <a:xfrm>
              <a:off x="1143000" y="434340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00" y="4800600"/>
              <a:ext cx="160020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result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666880" y="4343400"/>
            <a:ext cx="1600200" cy="825120"/>
            <a:chOff x="2666880" y="4343400"/>
            <a:chExt cx="1600200" cy="825120"/>
          </a:xfrm>
        </p:grpSpPr>
        <p:sp>
          <p:nvSpPr>
            <p:cNvPr id="177" name=""/>
            <p:cNvSpPr/>
            <p:nvPr/>
          </p:nvSpPr>
          <p:spPr>
            <a:xfrm>
              <a:off x="3017880" y="4343400"/>
              <a:ext cx="102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66880" y="4805280"/>
              <a:ext cx="160020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 !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62120" y="5410080"/>
            <a:ext cx="1600200" cy="825480"/>
            <a:chOff x="762120" y="5410080"/>
            <a:chExt cx="1600200" cy="825480"/>
          </a:xfrm>
        </p:grpSpPr>
        <p:sp>
          <p:nvSpPr>
            <p:cNvPr id="180" name=""/>
            <p:cNvSpPr/>
            <p:nvPr/>
          </p:nvSpPr>
          <p:spPr>
            <a:xfrm>
              <a:off x="838440" y="54100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2120" y="5872320"/>
              <a:ext cx="160020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 = p &gt;&gt;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791320" y="4572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5029200"/>
            <a:ext cx="297180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1430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676520"/>
            <a:ext cx="3814920" cy="2557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1295280"/>
            <a:ext cx="2743200" cy="3106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= p &gt;&gt;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 !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259092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105160" y="151920"/>
            <a:ext cx="373356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itch Stat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29200" y="1523880"/>
            <a:ext cx="3975120" cy="473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es of conditio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if few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 if 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branch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conditio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when cases are small integer 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s one based on cas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g in example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efault g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380880"/>
            <a:ext cx="4876920" cy="584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def e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ADD, MULT, MINUS, DIV, MOD, BAD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unparse_symbol(op_type o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o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ADD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'+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MUL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'*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MIN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'-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DIV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'/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MO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'%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B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'?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58920" y="152280"/>
            <a:ext cx="4826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mp Table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562000" y="1371600"/>
            <a:ext cx="2896200" cy="4952520"/>
            <a:chOff x="5562000" y="1371600"/>
            <a:chExt cx="2896200" cy="4952520"/>
          </a:xfrm>
        </p:grpSpPr>
        <p:grpSp>
          <p:nvGrpSpPr>
            <p:cNvPr id="193" name=""/>
            <p:cNvGrpSpPr/>
            <p:nvPr/>
          </p:nvGrpSpPr>
          <p:grpSpPr>
            <a:xfrm>
              <a:off x="5867280" y="1371600"/>
              <a:ext cx="2590920" cy="838080"/>
              <a:chOff x="5867280" y="1371600"/>
              <a:chExt cx="2590920" cy="838080"/>
            </a:xfrm>
          </p:grpSpPr>
          <p:sp>
            <p:nvSpPr>
              <p:cNvPr id="194" name=""/>
              <p:cNvSpPr/>
              <p:nvPr/>
            </p:nvSpPr>
            <p:spPr>
              <a:xfrm>
                <a:off x="6858000" y="1371600"/>
                <a:ext cx="1600200" cy="838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867280" y="137160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arg0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5867280" y="2361960"/>
              <a:ext cx="2590920" cy="837720"/>
              <a:chOff x="5867280" y="2361960"/>
              <a:chExt cx="2590920" cy="837720"/>
            </a:xfrm>
          </p:grpSpPr>
          <p:sp>
            <p:nvSpPr>
              <p:cNvPr id="197" name=""/>
              <p:cNvSpPr/>
              <p:nvPr/>
            </p:nvSpPr>
            <p:spPr>
              <a:xfrm>
                <a:off x="6858000" y="2361960"/>
                <a:ext cx="1600200" cy="837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67280" y="236196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arg1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5867280" y="3352680"/>
              <a:ext cx="2590920" cy="837720"/>
              <a:chOff x="5867280" y="3352680"/>
              <a:chExt cx="2590920" cy="837720"/>
            </a:xfrm>
          </p:grpSpPr>
          <p:sp>
            <p:nvSpPr>
              <p:cNvPr id="200" name=""/>
              <p:cNvSpPr/>
              <p:nvPr/>
            </p:nvSpPr>
            <p:spPr>
              <a:xfrm>
                <a:off x="6858000" y="3352680"/>
                <a:ext cx="1600200" cy="837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867280" y="335268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arg2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5562000" y="5486040"/>
              <a:ext cx="2864520" cy="838080"/>
              <a:chOff x="5562000" y="5486040"/>
              <a:chExt cx="2864520" cy="838080"/>
            </a:xfrm>
          </p:grpSpPr>
          <p:sp>
            <p:nvSpPr>
              <p:cNvPr id="203" name=""/>
              <p:cNvSpPr/>
              <p:nvPr/>
            </p:nvSpPr>
            <p:spPr>
              <a:xfrm>
                <a:off x="6826320" y="5486040"/>
                <a:ext cx="1600200" cy="838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–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562000" y="548604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arg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1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6858000" y="4343040"/>
              <a:ext cx="160020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971800" y="1447920"/>
            <a:ext cx="2590560" cy="2438280"/>
            <a:chOff x="2971800" y="1447920"/>
            <a:chExt cx="2590560" cy="2438280"/>
          </a:xfrm>
        </p:grpSpPr>
        <p:sp>
          <p:nvSpPr>
            <p:cNvPr id="207" name=""/>
            <p:cNvSpPr/>
            <p:nvPr/>
          </p:nvSpPr>
          <p:spPr>
            <a:xfrm>
              <a:off x="3962160" y="1447920"/>
              <a:ext cx="16002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arg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62160" y="1828800"/>
              <a:ext cx="16002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ar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62160" y="2209680"/>
              <a:ext cx="16002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ar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62160" y="3505320"/>
              <a:ext cx="16002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arg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62160" y="2590920"/>
              <a:ext cx="1600200" cy="91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71800" y="1447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jtab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71600" y="4876920"/>
            <a:ext cx="297180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 = JTab[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*targe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447920"/>
            <a:ext cx="2286000" cy="25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(o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val_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val_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val_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91440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960" y="441972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x. 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5000" y="9144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2600" y="8380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ar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59436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itch Statement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8280" y="882720"/>
            <a:ext cx="3975120" cy="41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ing Possi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5257800"/>
            <a:ext cx="3441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43200" y="4495680"/>
            <a:ext cx="59356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parse_symbo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$5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Compare op :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 .L4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f &gt; goto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*.L57(,%eax,4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goto Table[op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86400" y="1066680"/>
            <a:ext cx="33368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UL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NU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295280"/>
            <a:ext cx="510516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def e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ADD, MULT, MINUS, DIV, MOD, BA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unparse_symbol(op_type o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o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6400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embly Setup Explan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bolic Lab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s of for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X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anslated into addresses by assemb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arget requires 4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 address a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.L4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mp target is denoted by labe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4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*.L57(,%eax,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of jump table denoted by lab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5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cale by factor of 4 to get offset into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tch target from effective Add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57 + op*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76720" y="304920"/>
            <a:ext cx="2666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mp T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3962520"/>
            <a:ext cx="33372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UL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NU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371600"/>
            <a:ext cx="2976840" cy="25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section .ro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align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ong .L5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Op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ong .L5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Op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ong .L5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Op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ong .L5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Op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ong .L5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Op =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ong .L5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Op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838080"/>
            <a:ext cx="3441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14800" y="1523880"/>
            <a:ext cx="4251240" cy="502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43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’+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42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’*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45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’-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47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’/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37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’%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63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’?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Fall Through to .L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94280" y="1103400"/>
            <a:ext cx="34416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s &amp; Com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05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itch Statement Completion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8255160" cy="784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zz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value returned wh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invali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beginning of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becomes the returned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 of Jump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d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way branch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1066680"/>
            <a:ext cx="5935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3035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49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3035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3035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3035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162240" y="152280"/>
            <a:ext cx="2819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548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4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ecomes 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75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ecomes 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bc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2133720"/>
            <a:ext cx="861048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8048718 &lt;unparse_symbol&gt;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18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5             pushl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19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9 e5          movl  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1b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b 45 08       movl   0x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1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3 f8 05       cmpl   $0x5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2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7 39          ja     804875c &lt;unparse_symbol+0x4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2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f 24 85 c0 8b jmp    *0x8048bc0(,%eax,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00120" y="152280"/>
            <a:ext cx="4343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 Code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sn’t show up in disassembled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inspect using G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db code-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x/6xw 0x8048bc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n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e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cimal format “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s” (4-bytes ea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mmand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lp 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to get format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bc0 &lt;_fini+32&gt;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30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37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40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4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50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5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1360" y="152280"/>
            <a:ext cx="7721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tracting Jump Table from Bin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3944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able Stored in Read Only Data Segment (.rodat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ous fixed values needed by your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examine with objdu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bjdump code-examples –s –-section=.ro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everything in indicated seg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 to 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 table entries shown with reversed byte ord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087040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lly mea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x0804873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657600"/>
            <a:ext cx="88394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s of section .rod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bc0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30870408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37870408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0870408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787040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..7...@...G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bd0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50870408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5787040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6616374 28256429  P...W...Fact(%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be0 203d2025 6c640a00 43686172 203d2025   = %ld..Char =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9640" y="152280"/>
            <a:ext cx="6984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ting Condition Codes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 Setting by Compare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b,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comput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-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out setting dest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 set if carry out from most significant b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for unsigned compari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F set 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==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F set 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a-b) &lt;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et if two’s complement over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a&gt;0 &amp;&amp; b&lt;0 &amp;&amp; (a-b)&lt;0) || (a&lt;0 &amp;&amp; b&gt;0 &amp;&amp; (a-b)&gt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82960" y="152280"/>
            <a:ext cx="4978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assembled Targe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4600" y="5562720"/>
            <a:ext cx="8254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i,%es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es not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ed to align instructions for better cache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320" y="1600200"/>
            <a:ext cx="8915400" cy="365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b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2b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25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7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a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2a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1e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804873e: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89 f6      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d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2d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15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7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f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2f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0e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804874e: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89 f6      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5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5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25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5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05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57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3f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3f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15920" y="152280"/>
            <a:ext cx="7112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ching Disassembled Targe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1828800"/>
            <a:ext cx="4800600" cy="365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b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25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7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a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1e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9 f6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d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15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7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f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0e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9 f6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5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5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5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05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57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3f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2286000"/>
            <a:ext cx="2971800" cy="25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3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37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4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5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133720" y="1980720"/>
            <a:ext cx="167616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133720" y="259056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133720" y="3352320"/>
            <a:ext cx="167616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388620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4267080"/>
            <a:ext cx="16761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33720" y="4572000"/>
            <a:ext cx="167616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73320" y="152280"/>
            <a:ext cx="2997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iz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44240" y="838080"/>
            <a:ext cx="405108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then-el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-whi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mbler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m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al jum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t generate assembly code to implement more complex contr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7960" y="838080"/>
            <a:ext cx="405108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Techniq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loops converted to do-while 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switch statements use jump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itions in CIS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SC machines generally have condition code regist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itions in RIS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general registers to store condition in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al comparison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, on Alph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e $16,1,$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register $1 to 1 when Register $16 &lt;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79640" y="152280"/>
            <a:ext cx="6984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ting Condition Codes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 Setting by Test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s condition codes based on valu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to have one of the operands be a m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l b,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comput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&amp;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out setting destin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F set wh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&amp;b =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F set wh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&amp;b &lt;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14320" y="152280"/>
            <a:ext cx="5715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Condition Cod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1828800"/>
          <a:ext cx="8229600" cy="47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2296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X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single byte based on combinations of condition c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Condition Codes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4240" y="838080"/>
            <a:ext cx="54990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X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single byte based on combinations of condition c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of 8 addressable byte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edded within first 4 integer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alter remaining 3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vzb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finish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1600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20574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25146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29718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4290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3886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4343400"/>
            <a:ext cx="251460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800600"/>
            <a:ext cx="251460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53280" y="16002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67480" y="16002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53280" y="20574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67480" y="20574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53280" y="25146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5146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153280" y="29718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b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67480" y="29718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b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352680"/>
            <a:ext cx="381492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gt (int x, int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 &gt;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05520"/>
            <a:ext cx="579096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ax,8(%ebp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Compare x : 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g %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al = x &gt;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zbl %al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Zero rest of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562720" y="55627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89880" y="5370480"/>
            <a:ext cx="13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 inverted orderi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72428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080" y="152280"/>
            <a:ext cx="2031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mp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09480" y="1600200"/>
          <a:ext cx="822960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2296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X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 to different part of code depending on condition c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97160" y="152280"/>
            <a:ext cx="6349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al Branch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286000"/>
            <a:ext cx="312408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x(int x, int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gt;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1371600"/>
            <a:ext cx="380988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_max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a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e L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d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9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2514600"/>
            <a:ext cx="304920" cy="1447920"/>
          </a:xfrm>
          <a:custGeom>
            <a:avLst/>
            <a:gdLst>
              <a:gd name="textAreaLeft" fmla="*/ 0 w 304920"/>
              <a:gd name="textAreaRight" fmla="*/ 11016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97520" y="30481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1676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5600" y="17524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449568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084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6880" y="152280"/>
            <a:ext cx="79502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al Branch Example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4191120"/>
            <a:ext cx="60958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ax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x :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e L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f &lt;= goto L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d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9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066680"/>
            <a:ext cx="388620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goto_max(int x, int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val =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ok = (x &lt;=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o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d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val 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5334120"/>
            <a:ext cx="304920" cy="30456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5880" y="5330880"/>
            <a:ext cx="23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ipped when x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76920" y="1295280"/>
            <a:ext cx="382248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allows “goto” as means of transferring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r to machine-level programming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ly considered bad coding sty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58:12Z</dcterms:created>
  <dc:creator/>
  <dc:description/>
  <dc:language>en-US</dc:language>
  <cp:lastModifiedBy>Gregory Kesden</cp:lastModifiedBy>
  <cp:lastPrinted>1998-02-18T16:18:02Z</cp:lastPrinted>
  <dcterms:modified xsi:type="dcterms:W3CDTF">2002-01-31T08:58:16Z</dcterms:modified>
  <cp:revision>27</cp:revision>
  <dc:subject/>
  <dc:title>Alpha Programming</dc:title>
</cp:coreProperties>
</file>