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5668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22560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53000" y="652788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854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79FFA66C-A541-4F94-90D4-0C70676F9604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1160" y="1836720"/>
            <a:ext cx="678168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2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73400" y="3614400"/>
            <a:ext cx="4356000" cy="25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 Programmer’s Execution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ng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14320" y="304920"/>
            <a:ext cx="5715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” data of 1, 2, or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 (untyped poin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data of 4, 8, or 10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ggregate types such as arrays or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contiguously allocated bytes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arithmetic function on register or memo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data between memory and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data from memory into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register data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ditional jumps to/from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al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2240" y="304920"/>
            <a:ext cx="281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67080" y="914400"/>
            <a:ext cx="45849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encoding of each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ly-complete image of executab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ng linkages between code in different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s references between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s with static run-time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librari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ally lin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ing occurs when program begin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90512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040" y="304920"/>
            <a:ext cx="6451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Instruc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356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wo signed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2 4-byte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” words in GCC par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instruction whether signed or un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+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3360" indent="-156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byt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447920"/>
            <a:ext cx="38829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666880"/>
            <a:ext cx="3886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40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6172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assembling 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4114800"/>
            <a:ext cx="7861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dump -d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tool for examining objec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zes bit pattern of series of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approximate rendition of assembl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run on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mplete executable)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e Disassemb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4114800"/>
            <a:ext cx="6261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db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assemble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ssemble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/13b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e the 13 bytes starting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84200" y="304920"/>
            <a:ext cx="6375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be Disassembl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600" y="5105520"/>
            <a:ext cx="8254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that can be interpreted as executab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ssembler examines bytes and reconstructs assembly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066680"/>
            <a:ext cx="815328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49640" y="304920"/>
            <a:ext cx="284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57276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ve 4-byte (“long”)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for 31% of all instructions in s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: Constant intege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C constant, but prefixed with ‘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-5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d with 1, 2, or 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: One of 8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erved for special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have special uses for particular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: 4 consecutive bytes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“address mod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8360" y="304920"/>
            <a:ext cx="640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perand Combin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5257440"/>
            <a:ext cx="7556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do memory-memory transfers with singl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200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2132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50960" y="304920"/>
            <a:ext cx="5842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 specifies memory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 specifies start of memory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displacement D specifies off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560" y="304920"/>
            <a:ext cx="723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Simple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17640" y="304920"/>
            <a:ext cx="3708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Process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in 1978 with 808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more features as time go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support old features, although obso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different instructions with many different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only small subset encountered with Linux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match performance of Reduced Instruction Set Computers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, Intel has done just tha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304920"/>
            <a:ext cx="4673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177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xed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“displacement” 1, 2, or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register: Any of 8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register: Any, except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: 1, 2, 4, or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39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Computation Instr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ddress mode ex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ddress denoted by ex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address without doing memory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&amp;x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arithmetic expressions of the form x + k*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1, 2, 4, or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Arithmetic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^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l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g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~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6120" y="304920"/>
            <a:ext cx="8591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or Arithmetic Expres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6320" y="304920"/>
            <a:ext cx="4852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r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210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28720" y="304920"/>
            <a:ext cx="3886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68760" y="304920"/>
            <a:ext cx="3606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 Proper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, register,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 + S*Ri + 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arithmetic expressions, to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32 instructions can range from 1 to 15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6553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: Abstract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245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5120" y="5111640"/>
            <a:ext cx="746280" cy="113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5111640"/>
            <a:ext cx="7617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25440" y="53341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111640"/>
            <a:ext cx="65268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30360" y="4959360"/>
            <a:ext cx="2273400" cy="136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640" y="5715000"/>
            <a:ext cx="12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4-byte long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8-byte quad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562720"/>
            <a:ext cx="6094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5562720"/>
            <a:ext cx="7617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87400" y="520560"/>
            <a:ext cx="3809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Pro (P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ounced in Feb. ‘9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Pentium II, Pentium III, Pentium 4, and Celeron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translates instructions to more regular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wide, but simple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s oper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5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deep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–18 cycle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bit processor.  Basis for IBM PC &amp; 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 to 1MB address space.  DOS only gives you 640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elaborate, but not very useful, addressing sche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IBM PC-AT and 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to 32 bits.  Added “flat address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ble of running U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/gcc uses no instructions introduced in later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62040" y="304920"/>
            <a:ext cx="6019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Block 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03120" y="520560"/>
            <a:ext cx="4978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4600" y="121896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s operation, two sources, an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op executed w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nd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uni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controlled by “Reservation Stat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data dependencies between u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relationship between IA32 code &amp; what actually get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predict / optimize performance at assembly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87520" y="304920"/>
            <a:ext cx="4368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se Assembler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4600" y="3124080"/>
            <a:ext cx="82548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 listed in opposite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t, S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c, 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s not preceded by ‘$’, Denote hexadecimal with ‘h’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 size indicated by operands rather than operator suff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format shows effective address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ax*4+100h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100(,%eax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conditional mov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change in underlying micro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sh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8-byte formats and 144 new instructions for streaming SIMD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95560" y="304920"/>
            <a:ext cx="4952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Cl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D has followed just behind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bit slower, a lot che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ed top circuit designers from Digital Equipment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fact that Intel distracted by IA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re close competitors to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ing own extension to 64-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start-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of Linus Torva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cally different approach to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x86 code into “Very Long Instruction Word” (VLIW)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gree of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oting for low-power mar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9040" y="304920"/>
            <a:ext cx="4165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Species: IA6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s to IA64, a 64-bi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cally new instruction set designed for high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be able to run existing IA32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board “x86 eng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project with Hewlett-Pack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1920" y="304920"/>
            <a:ext cx="6680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3657600"/>
            <a:ext cx="40510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of nex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vily used program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status information about most recent arithmetic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conditional bran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38124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160020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143000"/>
            <a:ext cx="320040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143000"/>
            <a:ext cx="2286000" cy="380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82880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905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4382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971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1498680"/>
            <a:ext cx="175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057400"/>
            <a:ext cx="175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59092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124080"/>
            <a:ext cx="9907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51460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5105520"/>
            <a:ext cx="40510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-21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 addressabl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, user data, (some) O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stack used to support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7280" y="2514600"/>
            <a:ext cx="326412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rning C into 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in fi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 p2.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with comm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O p1.c p2.c -o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5440" y="30492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Into Assemb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98720" y="990720"/>
            <a:ext cx="1612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958680"/>
            <a:ext cx="3594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9528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1:56Z</dcterms:created>
  <dc:creator>Randal E. Bryant</dc:creator>
  <dc:description/>
  <dc:language>en-US</dc:language>
  <cp:lastModifiedBy>Gregory Kesden</cp:lastModifiedBy>
  <cp:lastPrinted>2009-04-22T19:24:48Z</cp:lastPrinted>
  <dcterms:modified xsi:type="dcterms:W3CDTF">2002-01-29T10:44:04Z</dcterms:modified>
  <cp:revision>52</cp:revision>
  <dc:subject/>
  <dc:title>Machine-Level Programming CS 213 Sept. 3, 1998</dc:title>
</cp:coreProperties>
</file>