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038480" y="228600"/>
            <a:ext cx="106704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44600" y="914400"/>
            <a:ext cx="825480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44600" y="3780360"/>
            <a:ext cx="825480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038480" y="228600"/>
            <a:ext cx="106704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44600" y="914400"/>
            <a:ext cx="402804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600" y="914400"/>
            <a:ext cx="402804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44600" y="3780360"/>
            <a:ext cx="402804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600" y="3780360"/>
            <a:ext cx="402804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038480" y="228600"/>
            <a:ext cx="106704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44600" y="914400"/>
            <a:ext cx="26578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5680" y="914400"/>
            <a:ext cx="26578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6760" y="914400"/>
            <a:ext cx="26578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44600" y="3780360"/>
            <a:ext cx="26578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5680" y="3780360"/>
            <a:ext cx="26578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6760" y="3780360"/>
            <a:ext cx="26578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038480" y="228600"/>
            <a:ext cx="106704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44600" y="914400"/>
            <a:ext cx="8254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038480" y="228600"/>
            <a:ext cx="106704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44600" y="914400"/>
            <a:ext cx="82548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038480" y="228600"/>
            <a:ext cx="106704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44600" y="914400"/>
            <a:ext cx="402804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600" y="914400"/>
            <a:ext cx="402804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038480" y="228600"/>
            <a:ext cx="106704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038480" y="3149280"/>
            <a:ext cx="106704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038480" y="228600"/>
            <a:ext cx="106704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44600" y="914400"/>
            <a:ext cx="402804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600" y="914400"/>
            <a:ext cx="402804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44600" y="3780360"/>
            <a:ext cx="402804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038480" y="228600"/>
            <a:ext cx="106704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44600" y="914400"/>
            <a:ext cx="402804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600" y="914400"/>
            <a:ext cx="402804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600" y="3780360"/>
            <a:ext cx="402804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038480" y="228600"/>
            <a:ext cx="106704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44600" y="914400"/>
            <a:ext cx="402804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600" y="914400"/>
            <a:ext cx="402804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44600" y="3780360"/>
            <a:ext cx="825480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38480" y="228600"/>
            <a:ext cx="106704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5705640" y="6462720"/>
            <a:ext cx="3003120" cy="2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5-213 S’02(Based on CS 213 F’01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44600" y="914400"/>
            <a:ext cx="82548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23920" indent="-223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Helvetica"/>
              <a:buChar char="•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223920" indent="-223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Helvetica"/>
              <a:buChar char="–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223920" indent="-223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Helvetica"/>
              <a:buChar char="»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23920" indent="-223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»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23920" indent="-223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»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23920" indent="-223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»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4133160" y="6527880"/>
            <a:ext cx="1236960" cy="2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fld id="{B3FD4A8D-8629-4B37-A7FA-937DC85C7F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821880" y="6424560"/>
            <a:ext cx="13550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lass04.p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42840" y="1371240"/>
            <a:ext cx="3784680" cy="16142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loating Point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January 24, 2002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285640" y="3657240"/>
            <a:ext cx="5194440" cy="2165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pic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EEE Floating Point Standar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und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loating Point Oper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thematical propert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ggested Reading: 2.4-2.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ggested Practice Problems: 2.50 and 2.51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09280" y="6411960"/>
            <a:ext cx="13550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lass04.p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94400" y="762120"/>
            <a:ext cx="1552320" cy="5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5-21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895120" y="304920"/>
            <a:ext cx="332748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pecial Valu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44600" y="914400"/>
            <a:ext cx="82548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di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11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s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11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ra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0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resents value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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infinit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ration that overflo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th positive and nega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spcBef>
                <a:spcPts val="901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, 1.0/0.0 =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0/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0 = +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0/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0 =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Courier New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11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ra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0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-a-Number (N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resents case when no numeric value can be determ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, sqrt(–1),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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36840" y="228240"/>
            <a:ext cx="6070320" cy="10954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mmary of Floating Point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al Number Encoding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838080" y="2828880"/>
            <a:ext cx="7315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838080" y="267660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8153280" y="32860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8153280" y="267660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267080" y="267660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153280" y="3438360"/>
            <a:ext cx="5335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8155440" y="3143160"/>
            <a:ext cx="5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686800" y="32860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049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3505320"/>
            <a:ext cx="5331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06720" y="3209760"/>
            <a:ext cx="5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3808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769160" y="2319480"/>
            <a:ext cx="58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36560" y="22953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988800" y="327348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867280" y="267660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739400" y="2448000"/>
            <a:ext cx="112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Denor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099120" y="2448000"/>
            <a:ext cx="146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Normaliz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050640" y="246204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Denor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8120" y="267660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406880" y="2448000"/>
            <a:ext cx="140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Normaliz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724280" y="267660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495680" y="267660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924680" y="267660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143000" y="267660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4267080" y="2819520"/>
            <a:ext cx="228600" cy="380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4495320" y="2819520"/>
            <a:ext cx="228600" cy="380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573440" y="3276720"/>
            <a:ext cx="44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549440" y="228600"/>
            <a:ext cx="604512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iny floating point exampl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44600" y="914400"/>
            <a:ext cx="82548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8-bit Floating Point Represent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sign bit is in the most significant bit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next four bits are the exponent, with a bias of 7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last three bits are th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ra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me General Form as IEEE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rmalized, denormalize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resentation of 0, NaN, infinit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232000" y="4572000"/>
            <a:ext cx="30492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536920" y="4572000"/>
            <a:ext cx="17524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289400" y="4572000"/>
            <a:ext cx="18288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ra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967360" y="426564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290840" y="42670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062240" y="42670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42670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255760" y="42670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93760" y="228600"/>
            <a:ext cx="675648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Values related to the exponen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132280" y="1143000"/>
            <a:ext cx="50446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49160"/>
                <a:tab algn="l" pos="1714680"/>
                <a:tab algn="l" pos="2577960"/>
                <a:tab algn="l" pos="3492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p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p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Courier New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49160"/>
                <a:tab algn="l" pos="1714680"/>
                <a:tab algn="l" pos="2577960"/>
                <a:tab algn="l" pos="3492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49160"/>
                <a:tab algn="l" pos="1714680"/>
                <a:tab algn="l" pos="2577960"/>
                <a:tab algn="l" pos="3492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0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6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1/64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denorm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49160"/>
                <a:tab algn="l" pos="1714680"/>
                <a:tab algn="l" pos="2577960"/>
                <a:tab algn="l" pos="3492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001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6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1/6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49160"/>
                <a:tab algn="l" pos="1714680"/>
                <a:tab algn="l" pos="2577960"/>
                <a:tab algn="l" pos="3492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01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5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1/3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49160"/>
                <a:tab algn="l" pos="1714680"/>
                <a:tab algn="l" pos="2577960"/>
                <a:tab algn="l" pos="3492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011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4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1/1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49160"/>
                <a:tab algn="l" pos="1714680"/>
                <a:tab algn="l" pos="2577960"/>
                <a:tab algn="l" pos="3492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1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1/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49160"/>
                <a:tab algn="l" pos="1714680"/>
                <a:tab algn="l" pos="2577960"/>
                <a:tab algn="l" pos="3492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101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1/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49160"/>
                <a:tab algn="l" pos="1714680"/>
                <a:tab algn="l" pos="2577960"/>
                <a:tab algn="l" pos="3492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6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11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1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1/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49160"/>
                <a:tab algn="l" pos="1714680"/>
                <a:tab algn="l" pos="2577960"/>
                <a:tab algn="l" pos="3492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111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49160"/>
                <a:tab algn="l" pos="1714680"/>
                <a:tab algn="l" pos="2577960"/>
                <a:tab algn="l" pos="3492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10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+1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49160"/>
                <a:tab algn="l" pos="1714680"/>
                <a:tab algn="l" pos="2577960"/>
                <a:tab algn="l" pos="3492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1001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+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49160"/>
                <a:tab algn="l" pos="1714680"/>
                <a:tab algn="l" pos="2577960"/>
                <a:tab algn="l" pos="3492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1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101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+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49160"/>
                <a:tab algn="l" pos="1714680"/>
                <a:tab algn="l" pos="2577960"/>
                <a:tab algn="l" pos="3492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11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1011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+4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49160"/>
                <a:tab algn="l" pos="1714680"/>
                <a:tab algn="l" pos="2577960"/>
                <a:tab algn="l" pos="3492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1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11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+5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49160"/>
                <a:tab algn="l" pos="1714680"/>
                <a:tab algn="l" pos="2577960"/>
                <a:tab algn="l" pos="3492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1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1101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+6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6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49160"/>
                <a:tab algn="l" pos="1714680"/>
                <a:tab algn="l" pos="2577960"/>
                <a:tab algn="l" pos="3492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14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111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+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12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49160"/>
                <a:tab algn="l" pos="1714680"/>
                <a:tab algn="l" pos="2577960"/>
                <a:tab algn="l" pos="3492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15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1111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/a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inf, Na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793960" y="228600"/>
            <a:ext cx="355608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ynamic Rang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673280" y="892080"/>
            <a:ext cx="51184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 exp  fra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alu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0000 0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6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0000 001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6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1/8*1/64 = 1/5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0000 01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6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2/8*1/64 = 2/5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0000 11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6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6/8*1/64 = 6/5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0000 111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6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7/8*1/64 = 7/5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0001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6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8/8*1/64 = 8/5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0001 001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6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9/8*1/64 = 9/5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0110 11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1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14/8*1/2 = 14/1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0110 111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1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15/8*1/2 = 15/1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0111 0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8/8*1    =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0111 001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9/8*1    = 9/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0111 01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10/8*1   = 10/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111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11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14/8*128 = 22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1110 111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15/8*128 = 24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1111 0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/a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977520" y="167652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osest to ze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039080" y="2757600"/>
            <a:ext cx="170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rgest denor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038720" y="3048120"/>
            <a:ext cx="160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mallest nor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038720" y="4114800"/>
            <a:ext cx="199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osest to 1 bel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038360" y="4662360"/>
            <a:ext cx="202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osest to 1 abo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6781680" y="1828800"/>
            <a:ext cx="269640" cy="4092480"/>
            <a:chOff x="6781680" y="1828800"/>
            <a:chExt cx="269640" cy="4092480"/>
          </a:xfrm>
        </p:grpSpPr>
        <p:sp>
          <p:nvSpPr>
            <p:cNvPr id="156" name=""/>
            <p:cNvSpPr/>
            <p:nvPr/>
          </p:nvSpPr>
          <p:spPr>
            <a:xfrm flipH="1">
              <a:off x="6781680" y="1828800"/>
              <a:ext cx="259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H="1">
              <a:off x="6792120" y="2949480"/>
              <a:ext cx="259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6792120" y="3240000"/>
              <a:ext cx="259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>
              <a:off x="6792120" y="4307040"/>
              <a:ext cx="259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H="1">
              <a:off x="6792120" y="4854600"/>
              <a:ext cx="259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flipH="1">
              <a:off x="6792120" y="5921280"/>
              <a:ext cx="259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2" name=""/>
          <p:cNvSpPr/>
          <p:nvPr/>
        </p:nvSpPr>
        <p:spPr>
          <a:xfrm>
            <a:off x="7038360" y="5729400"/>
            <a:ext cx="144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rgest nor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800" y="1981080"/>
            <a:ext cx="167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normaliz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umb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36800" y="4343400"/>
            <a:ext cx="141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rmaliz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umb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57200" y="3048120"/>
            <a:ext cx="830592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09480" y="6095880"/>
            <a:ext cx="830592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07960" y="228600"/>
            <a:ext cx="812808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istribution of Representable Valu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44600" y="914040"/>
            <a:ext cx="825480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-bit IEEE-like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 = 3 exponent bi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 = 2 significand bi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as is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spcBef>
                <a:spcPts val="675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ice how the distribution gets denser toward zero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409680" y="4010040"/>
          <a:ext cx="8326440" cy="1095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9680" y="4010040"/>
                    <a:ext cx="8326440" cy="10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07960" y="228240"/>
            <a:ext cx="8128080" cy="10954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istribution of Representable Values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(close-up view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44600" y="1447560"/>
            <a:ext cx="8254800" cy="160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-bit IEEE-like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 = 3 exponent bi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 = 2 significand bi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as is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spcBef>
                <a:spcPts val="675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404640" y="3772080"/>
          <a:ext cx="8336160" cy="1104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4640" y="3772080"/>
                    <a:ext cx="8336160" cy="110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286000" y="228600"/>
            <a:ext cx="457200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teresting Number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44600" y="914400"/>
            <a:ext cx="82548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3657600"/>
                <a:tab algn="l" pos="532116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scrip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p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ra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umeric Val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3657600"/>
                <a:tab algn="l" pos="532116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er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0…0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0…0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3657600"/>
                <a:tab algn="l" pos="532116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mallest Pos. Denorm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0…0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0…0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{23,52}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X 2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{126,1022}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spcBef>
                <a:spcPts val="224"/>
              </a:spcBef>
              <a:buClr>
                <a:srgbClr val="000000"/>
              </a:buClr>
              <a:buFont typeface="Helvetica"/>
              <a:buChar char="•"/>
              <a:tabLst>
                <a:tab algn="l" pos="2743200"/>
                <a:tab algn="l" pos="3657600"/>
                <a:tab algn="l" pos="532116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ng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1.4 X 1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–45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spcBef>
                <a:spcPts val="224"/>
              </a:spcBef>
              <a:buClr>
                <a:srgbClr val="000000"/>
              </a:buClr>
              <a:buFont typeface="Helvetica"/>
              <a:buChar char="•"/>
              <a:tabLst>
                <a:tab algn="l" pos="2743200"/>
                <a:tab algn="l" pos="3657600"/>
                <a:tab algn="l" pos="532116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ubl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4.9 X 1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–324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3657600"/>
                <a:tab algn="l" pos="532116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rgest Denormaliz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0…0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…1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1.0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X 2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{126,1022}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spcBef>
                <a:spcPts val="224"/>
              </a:spcBef>
              <a:buClr>
                <a:srgbClr val="000000"/>
              </a:buClr>
              <a:buFont typeface="Helvetica"/>
              <a:buChar char="•"/>
              <a:tabLst>
                <a:tab algn="l" pos="2743200"/>
                <a:tab algn="l" pos="3657600"/>
                <a:tab algn="l" pos="532116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ng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1.18 X 1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–38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spcBef>
                <a:spcPts val="224"/>
              </a:spcBef>
              <a:buClr>
                <a:srgbClr val="000000"/>
              </a:buClr>
              <a:buFont typeface="Helvetica"/>
              <a:buChar char="•"/>
              <a:tabLst>
                <a:tab algn="l" pos="2743200"/>
                <a:tab algn="l" pos="3657600"/>
                <a:tab algn="l" pos="532116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ubl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2.2 X 1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–308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3657600"/>
                <a:tab algn="l" pos="532116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mallest Pos. Normaliz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0…0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0…0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0 X 2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{126,1022}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spcBef>
                <a:spcPts val="224"/>
              </a:spcBef>
              <a:buClr>
                <a:srgbClr val="000000"/>
              </a:buClr>
              <a:buFont typeface="Helvetica"/>
              <a:buChar char="•"/>
              <a:tabLst>
                <a:tab algn="l" pos="2743200"/>
                <a:tab algn="l" pos="3657600"/>
                <a:tab algn="l" pos="532116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ust larger than largest denormalize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3657600"/>
                <a:tab algn="l" pos="532116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1…1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0…0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3657600"/>
                <a:tab algn="l" pos="532116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rgest Normaliz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…1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…1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2.0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X 2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{127,1023}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spcBef>
                <a:spcPts val="224"/>
              </a:spcBef>
              <a:buClr>
                <a:srgbClr val="000000"/>
              </a:buClr>
              <a:buFont typeface="Helvetica"/>
              <a:buChar char="•"/>
              <a:tabLst>
                <a:tab algn="l" pos="2743200"/>
                <a:tab algn="l" pos="3657600"/>
                <a:tab algn="l" pos="532116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ng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3.4 X 1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38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spcBef>
                <a:spcPts val="224"/>
              </a:spcBef>
              <a:buClr>
                <a:srgbClr val="000000"/>
              </a:buClr>
              <a:buFont typeface="Helvetica"/>
              <a:buChar char="•"/>
              <a:tabLst>
                <a:tab algn="l" pos="2743200"/>
                <a:tab algn="l" pos="3657600"/>
                <a:tab algn="l" pos="532116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ubl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1.8 X 1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308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066320" y="304920"/>
            <a:ext cx="688356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pecial Properties of Encoding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44600" y="914400"/>
            <a:ext cx="82548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P Zero Same as Integer Zer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l bits =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n (Almost) Use Unsigned Integer Comparis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ust first compare sign bi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ust consider -0 =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aNs problemati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ll be greater than any other val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should comparison yiel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wise OK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orm vs. normaliz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rmalized vs. infin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752120" y="304920"/>
            <a:ext cx="571500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loating Point Operat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44600" y="914400"/>
            <a:ext cx="82548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ceptual View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rst compute exact resul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it fit into desired precis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ssibly overflow if exponent too la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ssibly round to fit into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ra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unding Modes (illustrate with $ rounding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$1.4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$1.6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$1.5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$2.5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–$1.5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Zer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1.0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1.0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1.0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2.0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$1.0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und down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1.0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1.0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1.0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2.0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$2.0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und up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2.0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2.0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2.0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3.0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$1.0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arest Even (default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1.0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2.0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2.0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2.0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$2.0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29200" y="5029200"/>
            <a:ext cx="8206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  Round down: rounded result is close to but no greater than true resul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  Round up: rounded result is close to but no less than true result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082960" y="228600"/>
            <a:ext cx="497808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loating Point Puzzl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44600" y="914400"/>
            <a:ext cx="8254800" cy="317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28000"/>
          </a:bodyPr>
          <a:p>
            <a:pPr lvl="1" marL="156600" indent="-62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 each of the following C expressions, either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235080" indent="-4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gue that it is true for all argument valu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235080" indent="-4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plain why not tr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583080" y="2135160"/>
            <a:ext cx="5254560" cy="41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91960" indent="-29196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463840"/>
                <a:tab algn="l" pos="3086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 == (int)(float) 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463840"/>
                <a:tab algn="l" pos="3086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 == (int)(double) 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463840"/>
                <a:tab algn="l" pos="3086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 == (float)(double) 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463840"/>
                <a:tab algn="l" pos="3086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 == (float) 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463840"/>
                <a:tab algn="l" pos="3086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 == -(-f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463840"/>
                <a:tab algn="l" pos="3086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2/3 == 2/3.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463840"/>
                <a:tab algn="l" pos="3086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 &lt;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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(d*2) &lt; 0.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463840"/>
                <a:tab algn="l" pos="3086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 &gt; f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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f &lt; -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463840"/>
                <a:tab algn="l" pos="3086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 * d &gt;= 0.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463840"/>
                <a:tab algn="l" pos="3086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d+f)-d == 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22360" y="2655720"/>
            <a:ext cx="2612880" cy="1197720"/>
          </a:xfrm>
          <a:prstGeom prst="rect">
            <a:avLst/>
          </a:prstGeom>
          <a:noFill/>
          <a:ln w="2556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x = …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loat f = …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ouble d = …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72120" y="4321080"/>
            <a:ext cx="189432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sume neith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nor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s N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27000" y="228600"/>
            <a:ext cx="729000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 Closer Look at Round-To-Eve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44600" y="914400"/>
            <a:ext cx="82548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2171880"/>
                <a:tab algn="l" pos="314964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fault Rounding Mo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2171880"/>
                <a:tab algn="l" pos="314964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rd to get any other kind without dropping into assembl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2171880"/>
                <a:tab algn="l" pos="314964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l others are statistically biase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2171880"/>
                <a:tab algn="l" pos="314964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m of set of positive numbers will consistently be over- or under- estim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2171880"/>
                <a:tab algn="l" pos="314964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pplying to Other Decimal Plac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2171880"/>
                <a:tab algn="l" pos="314964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exactly halfway between two possible valu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2171880"/>
                <a:tab algn="l" pos="314964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und so that least significant digit is ev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2171880"/>
                <a:tab algn="l" pos="314964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.g., round to nearest hundredth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0">
              <a:spcBef>
                <a:spcPts val="675"/>
              </a:spcBef>
              <a:buNone/>
              <a:tabLst>
                <a:tab algn="l" pos="0"/>
                <a:tab algn="l" pos="2171880"/>
                <a:tab algn="l" pos="314964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2349999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2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Less than half wa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0">
              <a:spcBef>
                <a:spcPts val="675"/>
              </a:spcBef>
              <a:buNone/>
              <a:tabLst>
                <a:tab algn="l" pos="0"/>
                <a:tab algn="l" pos="2171880"/>
                <a:tab algn="l" pos="314964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235000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2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Greater than half wa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0">
              <a:spcBef>
                <a:spcPts val="675"/>
              </a:spcBef>
              <a:buNone/>
              <a:tabLst>
                <a:tab algn="l" pos="0"/>
                <a:tab algn="l" pos="2171880"/>
                <a:tab algn="l" pos="314964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235000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2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Half way—round u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0">
              <a:spcBef>
                <a:spcPts val="675"/>
              </a:spcBef>
              <a:buNone/>
              <a:tabLst>
                <a:tab algn="l" pos="0"/>
                <a:tab algn="l" pos="2171880"/>
                <a:tab algn="l" pos="314964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245000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2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Half way—round dow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612800" y="228600"/>
            <a:ext cx="591840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ounding Binary Number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44600" y="914400"/>
            <a:ext cx="82548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1486080"/>
                <a:tab algn="l" pos="2971800"/>
                <a:tab algn="l" pos="4292640"/>
                <a:tab algn="l" pos="628668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inary Fractional Numbe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1486080"/>
                <a:tab algn="l" pos="2971800"/>
                <a:tab algn="l" pos="4292640"/>
                <a:tab algn="l" pos="628668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ven” when least significant bit i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1486080"/>
                <a:tab algn="l" pos="2971800"/>
                <a:tab algn="l" pos="4292640"/>
                <a:tab algn="l" pos="628668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lf way when bits to right of rounding position =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10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ourier New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1486080"/>
                <a:tab algn="l" pos="2971800"/>
                <a:tab algn="l" pos="4292640"/>
                <a:tab algn="l" pos="628668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1486080"/>
                <a:tab algn="l" pos="2971800"/>
                <a:tab algn="l" pos="4292640"/>
                <a:tab algn="l" pos="628668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und to nearest 1/4 (2 bits right of binary point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spcBef>
                <a:spcPts val="675"/>
              </a:spcBef>
              <a:buNone/>
              <a:tabLst>
                <a:tab algn="l" pos="0"/>
                <a:tab algn="l" pos="1486080"/>
                <a:tab algn="l" pos="2971800"/>
                <a:tab algn="l" pos="4292640"/>
                <a:tab algn="l" pos="628668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alu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nar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unde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unded Val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spcBef>
                <a:spcPts val="675"/>
              </a:spcBef>
              <a:buNone/>
              <a:tabLst>
                <a:tab algn="l" pos="0"/>
                <a:tab algn="l" pos="1486080"/>
                <a:tab algn="l" pos="2971800"/>
                <a:tab algn="l" pos="4292640"/>
                <a:tab algn="l" pos="628668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 3/3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10.00011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ourier New"/>
              </a:rPr>
              <a:t>2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10.00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ourier New"/>
              </a:rPr>
              <a:t>2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&lt;1/2—down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spcBef>
                <a:spcPts val="675"/>
              </a:spcBef>
              <a:buNone/>
              <a:tabLst>
                <a:tab algn="l" pos="0"/>
                <a:tab algn="l" pos="1486080"/>
                <a:tab algn="l" pos="2971800"/>
                <a:tab algn="l" pos="4292640"/>
                <a:tab algn="l" pos="628668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 3/1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10.00110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ourier New"/>
              </a:rPr>
              <a:t>2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10.01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ourier New"/>
              </a:rPr>
              <a:t>2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&gt;1/2—up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 1/4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spcBef>
                <a:spcPts val="675"/>
              </a:spcBef>
              <a:buNone/>
              <a:tabLst>
                <a:tab algn="l" pos="0"/>
                <a:tab algn="l" pos="1486080"/>
                <a:tab algn="l" pos="2971800"/>
                <a:tab algn="l" pos="4292640"/>
                <a:tab algn="l" pos="628668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 7/8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10.11100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ourier New"/>
              </a:rPr>
              <a:t>2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11.00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ourier New"/>
              </a:rPr>
              <a:t>2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/2—up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spcBef>
                <a:spcPts val="675"/>
              </a:spcBef>
              <a:buNone/>
              <a:tabLst>
                <a:tab algn="l" pos="0"/>
                <a:tab algn="l" pos="1486080"/>
                <a:tab algn="l" pos="2971800"/>
                <a:tab algn="l" pos="4292640"/>
                <a:tab algn="l" pos="628668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 5/8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10.10100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ourier New"/>
              </a:rPr>
              <a:t>2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10.10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ourier New"/>
              </a:rPr>
              <a:t>2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/2—down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 1/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spcBef>
                <a:spcPts val="675"/>
              </a:spcBef>
              <a:buNone/>
              <a:tabLst>
                <a:tab algn="l" pos="1486080"/>
                <a:tab algn="l" pos="2971800"/>
                <a:tab algn="l" pos="4292640"/>
                <a:tab algn="l" pos="628668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spcBef>
                <a:spcPts val="675"/>
              </a:spcBef>
              <a:buNone/>
              <a:tabLst>
                <a:tab algn="l" pos="1486080"/>
                <a:tab algn="l" pos="2971800"/>
                <a:tab algn="l" pos="4292640"/>
                <a:tab algn="l" pos="628668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742840" y="304920"/>
            <a:ext cx="378468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P Multiplica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44600" y="914400"/>
            <a:ext cx="82548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rand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–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)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Arial"/>
              </a:rPr>
              <a:t>s1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M1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Arial"/>
              </a:rPr>
              <a:t>E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–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)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Arial"/>
              </a:rPr>
              <a:t>s2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M2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Arial"/>
              </a:rPr>
              <a:t>E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ct Resul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–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)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Arial"/>
              </a:rPr>
              <a:t>s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M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Arial"/>
              </a:rPr>
              <a:t>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g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^ 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gnificand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* 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ponen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+ 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x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2,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hif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right, incremen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out of range, overflow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und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o fi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ra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ecis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ggest chore is multiplying signific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200040" y="304920"/>
            <a:ext cx="269244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P Addi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44600" y="914400"/>
            <a:ext cx="82548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rand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–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)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Arial"/>
              </a:rPr>
              <a:t>s1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M1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Arial"/>
              </a:rPr>
              <a:t>E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–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)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Arial"/>
              </a:rPr>
              <a:t>s2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M2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Arial"/>
              </a:rPr>
              <a:t>E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sum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&gt;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ct Resul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–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)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Arial"/>
              </a:rPr>
              <a:t>s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M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Arial"/>
              </a:rPr>
              <a:t>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g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significand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ult of signed align &amp; ad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ponen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x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2,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hif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right, incremen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&lt; 1,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hif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lef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ositions, decremen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by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verflow i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out of rang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und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o fi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ra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ecis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4203720" y="1395360"/>
            <a:ext cx="4089240" cy="1944720"/>
            <a:chOff x="4203720" y="1395360"/>
            <a:chExt cx="4089240" cy="1944720"/>
          </a:xfrm>
        </p:grpSpPr>
        <p:sp>
          <p:nvSpPr>
            <p:cNvPr id="191" name=""/>
            <p:cNvSpPr/>
            <p:nvPr/>
          </p:nvSpPr>
          <p:spPr>
            <a:xfrm>
              <a:off x="4432320" y="1765440"/>
              <a:ext cx="203184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lvl="1" marL="457200" algn="ctr"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(–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)</a:t>
              </a:r>
              <a:r>
                <a:rPr b="0" i="1" lang="en-US" sz="1800" spc="-1" strike="noStrike" baseline="30000">
                  <a:solidFill>
                    <a:srgbClr val="000000"/>
                  </a:solidFill>
                  <a:latin typeface="Arial"/>
                </a:rPr>
                <a:t>s1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 m1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184800" y="2298600"/>
              <a:ext cx="203220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lvl="1" marL="457200" algn="ctr"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(–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)</a:t>
              </a:r>
              <a:r>
                <a:rPr b="0" i="1" lang="en-US" sz="1800" spc="-1" strike="noStrike" baseline="30000">
                  <a:solidFill>
                    <a:srgbClr val="000000"/>
                  </a:solidFill>
                  <a:latin typeface="Arial"/>
                </a:rPr>
                <a:t>s2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 m2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477120" y="1460520"/>
              <a:ext cx="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229600" y="1460520"/>
              <a:ext cx="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489720" y="1523880"/>
              <a:ext cx="172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995520" y="1395360"/>
              <a:ext cx="716040" cy="302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E1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E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252320" y="2340000"/>
              <a:ext cx="3157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203720" y="2895480"/>
              <a:ext cx="4089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508640" y="3060720"/>
              <a:ext cx="370836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lvl="1" marL="457200" algn="ctr"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(–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)</a:t>
              </a:r>
              <a:r>
                <a:rPr b="0" i="1" lang="en-US" sz="1800" spc="-1" strike="noStrike" baseline="30000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 m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769608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athematical Properties of FP Add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44600" y="914400"/>
            <a:ext cx="82548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1943280"/>
                <a:tab algn="l" pos="50292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are to those of Abelian Grou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1943280"/>
                <a:tab algn="l" pos="50292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osed under addition?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1943280"/>
                <a:tab algn="l" pos="50292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t may generate infinity or N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1943280"/>
                <a:tab algn="l" pos="50292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mutative?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1943280"/>
                <a:tab algn="l" pos="50292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sociative?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1943280"/>
                <a:tab algn="l" pos="50292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verflow and inexactness of roun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1943280"/>
                <a:tab algn="l" pos="50292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 is additive identity?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1943280"/>
                <a:tab algn="l" pos="50292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very element has additive invers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MOS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1943280"/>
                <a:tab algn="l" pos="50292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cept for infinities &amp; Na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1943280"/>
                <a:tab algn="l" pos="50292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notonicit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1943280"/>
                <a:tab algn="l" pos="50292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MOS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1943280"/>
                <a:tab algn="l" pos="50292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cept for infinities &amp; Na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143000" y="304920"/>
            <a:ext cx="693432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lgebraic Properties of FP Mul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44600" y="914400"/>
            <a:ext cx="82548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554976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are to Commutative R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554976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osed under multiplication?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554976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t may generate infinity or N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554976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ultiplication Commutative?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554976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ultiplication is Associative?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554976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ssibility of overflow, inexactness of roun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554976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is multiplicative identity?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554976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ultiplication distributes over addition?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554976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ssibility of overflow, inexactness of roun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554976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notonicit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554976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&amp;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≥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 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*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*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MOS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554976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cept for infinities &amp; Na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489040" y="228600"/>
            <a:ext cx="416592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loating Point in C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44600" y="914400"/>
            <a:ext cx="82548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 Guarantees Two Level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loa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recis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oub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ouble precis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vers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sting betwee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loa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oub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changes numeric valu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oub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loa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uncates fractional p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ke rounding toward ze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 defined when out of r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120680" indent="-166680">
              <a:spcBef>
                <a:spcPts val="675"/>
              </a:spcBef>
              <a:buClr>
                <a:srgbClr val="000000"/>
              </a:buClr>
              <a:buFont typeface="Helvetica"/>
              <a:buChar char="»"/>
              <a:tabLst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lly saturates to TMin or TMa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ou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ct conversion, as long as int has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≤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53 bit word si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lo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ll round according to rounding m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787320" y="228600"/>
            <a:ext cx="756936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nswers to Floating Point Puzzl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33520" y="2209680"/>
            <a:ext cx="792468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91960" indent="-29196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463840"/>
                <a:tab algn="l" pos="3086280"/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 == (int)(float) x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: 24 bit signific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463840"/>
                <a:tab algn="l" pos="3086280"/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 == (int)(double) x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es: 53 bit signific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463840"/>
                <a:tab algn="l" pos="3086280"/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 == (float)(double) f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es: increases preci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463840"/>
                <a:tab algn="l" pos="3086280"/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 == (float) 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: loses preci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463840"/>
                <a:tab algn="l" pos="3086280"/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 == -(-f);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es: Just change sign b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463840"/>
                <a:tab algn="l" pos="3086280"/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2/3 == 2/3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: 2/3 ==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463840"/>
                <a:tab algn="l" pos="3086280"/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 &lt; 0.0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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(d*2) &lt; 0.0)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es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463840"/>
                <a:tab algn="l" pos="3086280"/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 &gt; f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f &lt; -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463840"/>
                <a:tab algn="l" pos="3086280"/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 * d &gt;=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es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463840"/>
                <a:tab algn="l" pos="3086280"/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d+f)-d == f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: Not associati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752480" y="838080"/>
            <a:ext cx="2613240" cy="1197720"/>
          </a:xfrm>
          <a:prstGeom prst="rect">
            <a:avLst/>
          </a:prstGeom>
          <a:noFill/>
          <a:ln w="2556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x = …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loat f = …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ouble d = …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105880" y="914400"/>
            <a:ext cx="189432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sume neith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nor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s N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467160" y="228600"/>
            <a:ext cx="220968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44600" y="914400"/>
            <a:ext cx="82548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EEE Floating Point Has Clear Mathematical  Properti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resents numbers of form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X 2</a:t>
            </a:r>
            <a:r>
              <a:rPr b="1" i="1" lang="en-US" sz="1800" spc="-1" strike="noStrike" baseline="30000">
                <a:solidFill>
                  <a:srgbClr val="000000"/>
                </a:solidFill>
                <a:latin typeface="Arial"/>
              </a:rPr>
              <a:t>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n reason about operations independent of implement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 if computed with perfect precision and then roun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t the same as real arithmeti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olates associativity/distribu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kes life difficult for compilers &amp; serious numerical applications programm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61960" y="228600"/>
            <a:ext cx="434340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EEE Floating Poin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44600" y="914400"/>
            <a:ext cx="82548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EEE Standard 754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stablished in 1985 as uniform standard for floating point arithmeti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fore that, many idiosyncratic forma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pported by all major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iven by Numerical Concer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ice standards for rounding, overflow, underflow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rd to make go fas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erical analysts predominated over hardware types in defining 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87600" y="228600"/>
            <a:ext cx="596880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ractional Binary Number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44600" y="4571640"/>
            <a:ext cx="8254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present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s to right of “binary point” represent fractional powers of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resents rational number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1539720" y="762120"/>
            <a:ext cx="5029200" cy="3873240"/>
            <a:chOff x="1539720" y="762120"/>
            <a:chExt cx="5029200" cy="3873240"/>
          </a:xfrm>
        </p:grpSpPr>
        <p:grpSp>
          <p:nvGrpSpPr>
            <p:cNvPr id="55" name=""/>
            <p:cNvGrpSpPr/>
            <p:nvPr/>
          </p:nvGrpSpPr>
          <p:grpSpPr>
            <a:xfrm>
              <a:off x="1539720" y="2565360"/>
              <a:ext cx="5029200" cy="533520"/>
              <a:chOff x="1539720" y="2565360"/>
              <a:chExt cx="5029200" cy="533520"/>
            </a:xfrm>
          </p:grpSpPr>
          <p:sp>
            <p:nvSpPr>
              <p:cNvPr id="56" name=""/>
              <p:cNvSpPr/>
              <p:nvPr/>
            </p:nvSpPr>
            <p:spPr>
              <a:xfrm>
                <a:off x="1539720" y="2565360"/>
                <a:ext cx="381240" cy="5335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r>
                  <a:rPr b="0" i="1" lang="en-US" sz="1800" spc="-1" strike="noStrike" baseline="-25000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920960" y="2565360"/>
                <a:ext cx="380880" cy="5335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r>
                  <a:rPr b="0" i="1" lang="en-US" sz="1800" spc="-1" strike="noStrike" baseline="-25000">
                    <a:solidFill>
                      <a:srgbClr val="000000"/>
                    </a:solidFill>
                    <a:latin typeface="Times New Roman"/>
                  </a:rPr>
                  <a:t>i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Times New Roman"/>
                  </a:rPr>
                  <a:t>–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3063960" y="2565360"/>
                <a:ext cx="380880" cy="5335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3444840" y="2565360"/>
                <a:ext cx="380880" cy="5335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3825720" y="2565360"/>
                <a:ext cx="381240" cy="5335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4282920" y="2565360"/>
                <a:ext cx="381240" cy="5335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Times New Roman"/>
                  </a:rPr>
                  <a:t>–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4664160" y="2565360"/>
                <a:ext cx="380880" cy="5335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Times New Roman"/>
                  </a:rPr>
                  <a:t>–2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045040" y="2565360"/>
                <a:ext cx="380880" cy="5335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Times New Roman"/>
                  </a:rPr>
                  <a:t>–3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6188040" y="2565360"/>
                <a:ext cx="380880" cy="5335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Times New Roman"/>
                  </a:rPr>
                  <a:t>–</a:t>
                </a:r>
                <a:r>
                  <a:rPr b="0" i="1" lang="en-US" sz="1800" spc="-1" strike="noStrike" baseline="-25000">
                    <a:solidFill>
                      <a:srgbClr val="000000"/>
                    </a:solidFill>
                    <a:latin typeface="Times New Roman"/>
                  </a:rPr>
                  <a:t>j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5425920" y="2565360"/>
                <a:ext cx="762120" cy="5335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• • •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2301840" y="2565360"/>
                <a:ext cx="762120" cy="5335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• • •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4206960" y="2565360"/>
                <a:ext cx="75960" cy="5335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8" name=""/>
            <p:cNvSpPr/>
            <p:nvPr/>
          </p:nvSpPr>
          <p:spPr>
            <a:xfrm>
              <a:off x="4192560" y="22860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192560" y="19810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192560" y="16765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204800" y="1092240"/>
              <a:ext cx="466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i="1" lang="en-US" sz="1800" spc="-1" strike="noStrike" baseline="30000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Times New Roman"/>
                </a:rPr>
                <a:t>–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195800" y="762120"/>
              <a:ext cx="331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i="1" lang="en-US" sz="1800" spc="-1" strike="noStrike" baseline="30000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3" name=""/>
            <p:cNvGrpSpPr/>
            <p:nvPr/>
          </p:nvGrpSpPr>
          <p:grpSpPr>
            <a:xfrm>
              <a:off x="1676520" y="990720"/>
              <a:ext cx="2530440" cy="1676160"/>
              <a:chOff x="1676520" y="990720"/>
              <a:chExt cx="2530440" cy="1676160"/>
            </a:xfrm>
          </p:grpSpPr>
          <p:sp>
            <p:nvSpPr>
              <p:cNvPr id="74" name=""/>
              <p:cNvSpPr/>
              <p:nvPr/>
            </p:nvSpPr>
            <p:spPr>
              <a:xfrm>
                <a:off x="3962520" y="2489040"/>
                <a:ext cx="244440" cy="177840"/>
              </a:xfrm>
              <a:custGeom>
                <a:avLst/>
                <a:gdLst/>
                <a:ahLst/>
                <a:rect l="l" t="t" r="r" b="b"/>
                <a:pathLst>
                  <a:path w="144" h="96">
                    <a:moveTo>
                      <a:pt x="144" y="0"/>
                    </a:moveTo>
                    <a:lnTo>
                      <a:pt x="0" y="0"/>
                    </a:lnTo>
                    <a:lnTo>
                      <a:pt x="0" y="96"/>
                    </a:ln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581280" y="2209680"/>
                <a:ext cx="609840" cy="457200"/>
              </a:xfrm>
              <a:custGeom>
                <a:avLst/>
                <a:gdLst/>
                <a:ahLst/>
                <a:rect l="l" t="t" r="r" b="b"/>
                <a:pathLst>
                  <a:path w="144" h="96">
                    <a:moveTo>
                      <a:pt x="144" y="0"/>
                    </a:moveTo>
                    <a:lnTo>
                      <a:pt x="0" y="0"/>
                    </a:lnTo>
                    <a:lnTo>
                      <a:pt x="0" y="96"/>
                    </a:ln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3200400" y="1930320"/>
                <a:ext cx="974880" cy="736560"/>
              </a:xfrm>
              <a:custGeom>
                <a:avLst/>
                <a:gdLst/>
                <a:ahLst/>
                <a:rect l="l" t="t" r="r" b="b"/>
                <a:pathLst>
                  <a:path w="144" h="96">
                    <a:moveTo>
                      <a:pt x="144" y="0"/>
                    </a:moveTo>
                    <a:lnTo>
                      <a:pt x="0" y="0"/>
                    </a:lnTo>
                    <a:lnTo>
                      <a:pt x="0" y="96"/>
                    </a:ln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1981080" y="1295280"/>
                <a:ext cx="2210040" cy="1371600"/>
              </a:xfrm>
              <a:custGeom>
                <a:avLst/>
                <a:gdLst/>
                <a:ahLst/>
                <a:rect l="l" t="t" r="r" b="b"/>
                <a:pathLst>
                  <a:path w="144" h="96">
                    <a:moveTo>
                      <a:pt x="144" y="0"/>
                    </a:moveTo>
                    <a:lnTo>
                      <a:pt x="0" y="0"/>
                    </a:lnTo>
                    <a:lnTo>
                      <a:pt x="0" y="96"/>
                    </a:ln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1676520" y="990720"/>
                <a:ext cx="2514600" cy="1676160"/>
              </a:xfrm>
              <a:custGeom>
                <a:avLst/>
                <a:gdLst/>
                <a:ahLst/>
                <a:rect l="l" t="t" r="r" b="b"/>
                <a:pathLst>
                  <a:path w="144" h="96">
                    <a:moveTo>
                      <a:pt x="144" y="0"/>
                    </a:moveTo>
                    <a:lnTo>
                      <a:pt x="0" y="0"/>
                    </a:lnTo>
                    <a:lnTo>
                      <a:pt x="0" y="96"/>
                    </a:ln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2301840" y="1828800"/>
                <a:ext cx="762120" cy="5335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• • •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0" name=""/>
            <p:cNvSpPr/>
            <p:nvPr/>
          </p:nvSpPr>
          <p:spPr>
            <a:xfrm rot="10800000">
              <a:off x="4188960" y="3046320"/>
              <a:ext cx="244440" cy="177840"/>
            </a:xfrm>
            <a:custGeom>
              <a:avLst/>
              <a:gdLst/>
              <a:ahLst/>
              <a:rect l="l" t="t" r="r" b="b"/>
              <a:pathLst>
                <a:path w="144" h="96">
                  <a:moveTo>
                    <a:pt x="144" y="0"/>
                  </a:moveTo>
                  <a:lnTo>
                    <a:pt x="0" y="0"/>
                  </a:lnTo>
                  <a:lnTo>
                    <a:pt x="0" y="96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 rot="10800000">
              <a:off x="4205160" y="3046320"/>
              <a:ext cx="609840" cy="457200"/>
            </a:xfrm>
            <a:custGeom>
              <a:avLst/>
              <a:gdLst/>
              <a:ahLst/>
              <a:rect l="l" t="t" r="r" b="b"/>
              <a:pathLst>
                <a:path w="144" h="96">
                  <a:moveTo>
                    <a:pt x="144" y="0"/>
                  </a:moveTo>
                  <a:lnTo>
                    <a:pt x="0" y="0"/>
                  </a:lnTo>
                  <a:lnTo>
                    <a:pt x="0" y="96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 rot="10800000">
              <a:off x="4221000" y="3046320"/>
              <a:ext cx="974880" cy="736560"/>
            </a:xfrm>
            <a:custGeom>
              <a:avLst/>
              <a:gdLst/>
              <a:ahLst/>
              <a:rect l="l" t="t" r="r" b="b"/>
              <a:pathLst>
                <a:path w="144" h="96">
                  <a:moveTo>
                    <a:pt x="144" y="0"/>
                  </a:moveTo>
                  <a:lnTo>
                    <a:pt x="0" y="0"/>
                  </a:lnTo>
                  <a:lnTo>
                    <a:pt x="0" y="96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 rot="10800000">
              <a:off x="4204800" y="3046320"/>
              <a:ext cx="2210040" cy="1371600"/>
            </a:xfrm>
            <a:custGeom>
              <a:avLst/>
              <a:gdLst/>
              <a:ahLst/>
              <a:rect l="l" t="t" r="r" b="b"/>
              <a:pathLst>
                <a:path w="144" h="96">
                  <a:moveTo>
                    <a:pt x="144" y="0"/>
                  </a:moveTo>
                  <a:lnTo>
                    <a:pt x="0" y="0"/>
                  </a:lnTo>
                  <a:lnTo>
                    <a:pt x="0" y="96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0800000">
              <a:off x="5331960" y="3351240"/>
              <a:ext cx="76212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• • •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709800" y="3048120"/>
              <a:ext cx="473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/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716280" y="3352680"/>
              <a:ext cx="473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/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716280" y="3672000"/>
              <a:ext cx="473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/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801960" y="4267080"/>
              <a:ext cx="398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Times New Roman"/>
                </a:rPr>
                <a:t>–</a:t>
              </a:r>
              <a:r>
                <a:rPr b="0" i="1" lang="en-US" sz="1800" spc="-1" strike="noStrike" baseline="30000">
                  <a:solidFill>
                    <a:srgbClr val="000000"/>
                  </a:solidFill>
                  <a:latin typeface="Times New Roman"/>
                </a:rPr>
                <a:t>j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4502160" y="5429160"/>
                <a:ext cx="927000" cy="67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rPr>
                            <m:lit/>
                            <m:nor/>
                          </m:rPr>
                          <m:t xml:space="preserve">=-</m:t>
                        </m:r>
                        <m:r>
                          <m:t xml:space="preserve">j</m:t>
                        </m:r>
                      </m:sub>
                      <m:sup>
                        <m:r>
                          <m:t xml:space="preserve">i</m:t>
                        </m:r>
                      </m:sup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k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84280" y="228600"/>
            <a:ext cx="797544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ractional Binary Number Exampl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44600" y="914400"/>
            <a:ext cx="82548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2214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240048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alu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present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47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40048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-3/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101.11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ourier New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47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40048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-7/8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10.111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ourier New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47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40048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3/6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111111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ourier New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14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240048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bserv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4760" indent="-2199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240048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vide by 2 by shifting righ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4760" indent="-2199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240048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umbers of form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.111111…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ourier New"/>
              </a:rPr>
              <a:t>2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ust below 1.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1240" indent="-1634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240048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notation 1.0 –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14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240048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mit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4760" indent="-2199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240048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n only exactly represent numbers of the form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2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Arial"/>
              </a:rPr>
              <a:t>k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4760" indent="-2199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240048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numbers have repeating bit represent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14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240048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alu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present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47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40048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/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.0101010101[01]…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ourier New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47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40048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/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.001100110011[0011]…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ourier New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47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40048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/1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.0001100110011[0011]…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ourier New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47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40048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444600" y="914400"/>
            <a:ext cx="82548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umerical 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Times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Arial"/>
              </a:rPr>
              <a:t>s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M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Arial"/>
              </a:rPr>
              <a:t>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gn bi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etermines whether number is negative or posi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gnificand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rmally a fractional value in range [1.0,2.0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onen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weights value by power of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cod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SB is sign bi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ourier New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field encodes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ourier New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ra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field encodes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z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recision: 8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bits, 23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ra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bi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 bits to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ouble precision: 11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bits, 52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ra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bi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4 bits to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1307880" y="304920"/>
            <a:ext cx="662940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loating Point Representa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1295280" y="3048120"/>
            <a:ext cx="6984720" cy="355320"/>
            <a:chOff x="1295280" y="3048120"/>
            <a:chExt cx="6984720" cy="355320"/>
          </a:xfrm>
        </p:grpSpPr>
        <p:sp>
          <p:nvSpPr>
            <p:cNvPr id="95" name=""/>
            <p:cNvSpPr/>
            <p:nvPr/>
          </p:nvSpPr>
          <p:spPr>
            <a:xfrm>
              <a:off x="1295280" y="3048120"/>
              <a:ext cx="355320" cy="3553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676160" y="3048120"/>
              <a:ext cx="2108160" cy="3553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ex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809880" y="3048120"/>
              <a:ext cx="4470120" cy="3553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fra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94920" y="304920"/>
            <a:ext cx="660420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ormalized” Numeric Valu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44600" y="914400"/>
            <a:ext cx="82548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di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0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11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ponent coded as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biase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valu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 Exp – Bi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xp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unsigned value denoted by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p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ia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Bias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120680" indent="-1666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»"/>
              <a:tabLst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ngle precision: 127 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x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1…254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-126…12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120680" indent="-1666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»"/>
              <a:tabLst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uble precision: 1023 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x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1…2046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-1022…102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120680" indent="-1666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»"/>
              <a:tabLst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general: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ia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2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m-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- 1, where m is the number of exponent b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gnificand coded with implied leading 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1.xx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x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bits of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ra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nimum whe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0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1.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ximum whe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11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2.0 –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 extra leading bit for “free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68560" y="228600"/>
            <a:ext cx="680688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ormalized Encoding Exampl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838080"/>
            <a:ext cx="8255160" cy="15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46000"/>
          </a:bodyPr>
          <a:p>
            <a:pPr marL="10296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400480"/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57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400480"/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 F = 15213.0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57760" indent="-102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400480"/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5213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= 11101101101101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= 1.1101101101101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X 2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3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0296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400480"/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gnifican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57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400480"/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1101101101101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57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400480"/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=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Courier New"/>
              </a:rPr>
              <a:t>1101101101101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0000000000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Courier New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0296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400480"/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n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57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400480"/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57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400480"/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Bia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27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57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400480"/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Ex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40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10001100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Courier New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57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400480"/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57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400480"/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0296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400480"/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0296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400480"/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4495680"/>
            <a:ext cx="6781680" cy="21686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084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oating Point Representation (Class 02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084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x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4    6    6    D    B    4    0    0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nary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100 0110 0110 1101 1011 0100 0000 0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084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40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100 0110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084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5213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110 1101 1011 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09680" y="304920"/>
            <a:ext cx="472464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enormalized Valu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44600" y="914400"/>
            <a:ext cx="82548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di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0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ponent valu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 –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Bia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gnificand valu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.xx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Courier New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x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its of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ra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s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0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ra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0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resents value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e that have distinct values +0 and –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Courier New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0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ra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0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s very close to 0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se precision as get sma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dual underflow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11T09:18:51Z</dcterms:created>
  <dc:creator>Randal Bryant and David O'Hallaron</dc:creator>
  <dc:description/>
  <dc:language>en-US</dc:language>
  <cp:lastModifiedBy>Gregory Kesden</cp:lastModifiedBy>
  <cp:lastPrinted>2001-09-05T16:01:31Z</cp:lastPrinted>
  <dcterms:modified xsi:type="dcterms:W3CDTF">2002-01-24T08:20:14Z</dcterms:modified>
  <cp:revision>94</cp:revision>
  <dc:subject/>
  <dc:title>Floating Point</dc:title>
</cp:coreProperties>
</file>