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05640" y="646272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3316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fld id="{27A50D31-5DB6-4B4A-BBDB-3022C4571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1371240"/>
            <a:ext cx="37846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24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657240"/>
            <a:ext cx="5194440" cy="216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EEE Floating Point Stand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ating Point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ematical proper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gested Reading: 2.4-2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gested Practice Problems: 2.50 and 2.5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4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5120" y="304920"/>
            <a:ext cx="3327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valu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fi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that over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positive and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1.0/0.0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 = 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-a-Number (N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case when no numeric value can be determ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qrt(–1)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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6840" y="228240"/>
            <a:ext cx="607032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of Floating Poin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 Number Encod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828880"/>
            <a:ext cx="7315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53280" y="3286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532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53280" y="343836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5440" y="31431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686800" y="3286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50532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6720" y="32097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69160" y="231948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6560" y="229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88800" y="3273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39400" y="2448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De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9120" y="2448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Norm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50640" y="2462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e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06880" y="2448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rm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267660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267080" y="2819520"/>
            <a:ext cx="2286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495320" y="2819520"/>
            <a:ext cx="2286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3440" y="3276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49440" y="228600"/>
            <a:ext cx="6045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ny floating point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-bit Floating Point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gn bit is in the most significant b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xt four bits are the exponent, with a bias of 7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st three bits are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General Form as IEE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ed, denormal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tion of 0, NaN, infin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32000" y="4572000"/>
            <a:ext cx="304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36920" y="4572000"/>
            <a:ext cx="1752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89400" y="4572000"/>
            <a:ext cx="1828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67360" y="42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908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22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557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93760" y="228600"/>
            <a:ext cx="6756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s related to the expon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32280" y="1143000"/>
            <a:ext cx="504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6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denor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f, N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93960" y="228600"/>
            <a:ext cx="3556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R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3280" y="892080"/>
            <a:ext cx="511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 exp  fra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8*1/64 = 1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/8*1/64 = 2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/8*1/64 = 6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0 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/8*1/64 = 7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/8*1/64 = 8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001 001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/8*1/64 = 9/5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0 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4/8*1/2 = 14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0 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5/8*1/2 = 15/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1 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/8*1   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1 00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/8*1    = 9/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0111 0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/8*1   = 10/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1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4/8*128 = 2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1110 1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5/8*128 = 2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1111 0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77520" y="16765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st to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9080" y="2757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de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38720" y="30481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 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38720" y="411480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st to 1 be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38360" y="46623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st to 1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781680" y="1828800"/>
            <a:ext cx="269640" cy="4092480"/>
            <a:chOff x="6781680" y="1828800"/>
            <a:chExt cx="269640" cy="4092480"/>
          </a:xfrm>
        </p:grpSpPr>
        <p:sp>
          <p:nvSpPr>
            <p:cNvPr id="156" name=""/>
            <p:cNvSpPr/>
            <p:nvPr/>
          </p:nvSpPr>
          <p:spPr>
            <a:xfrm flipH="1">
              <a:off x="6781680" y="182880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792120" y="294948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792120" y="324000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792120" y="430704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792120" y="485460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792120" y="5921280"/>
              <a:ext cx="25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7038360" y="57294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00" y="19810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orm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6800" y="434340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04812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609588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812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tribution of Representable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 exponent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= 2 significand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as is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ce how the distribution gets denser toward zer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09680" y="4010040"/>
          <a:ext cx="832644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4010040"/>
                    <a:ext cx="8326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1280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tribution of Representable Valu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close-up vie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4600" y="1447560"/>
            <a:ext cx="8254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 exponent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= 2 significand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as is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04640" y="3772080"/>
          <a:ext cx="8336160" cy="110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3772080"/>
                    <a:ext cx="83361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esting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 Pos. Denor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23,52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4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4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.9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3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Denorm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.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18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.2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3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 Pos. Norm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larger than largest denormal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…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rm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…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.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{127,1023}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.4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224"/>
              </a:spcBef>
              <a:buClr>
                <a:srgbClr val="000000"/>
              </a:buClr>
              <a:buFont typeface="Helvetica"/>
              <a:buChar char="•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8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6883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Properties of Enco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 Zero Same as Integer Ze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bits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(Almost) Use Unsigned Integer Compari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first compare sign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consider -0 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Ns problema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greater than any other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comparison yie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wise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orm vs. n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ed vs.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571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ual 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compute exact res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it fit into desired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overflow if exponent too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round to fit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ing Modes (illustrate with $ round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.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1.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.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$1.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$1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dow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$2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up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$1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est Even (defaul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$2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00" y="5029200"/>
            <a:ext cx="820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Round down: rounded result is close to but no greater than true resu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Round up: rounded result is close to but no less than true resu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Puzz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31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lvl="1" marL="156600" indent="-62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ach of the following C expressions, either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4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gue that it is true for all argumen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4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ain why not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3080" y="2135160"/>
            <a:ext cx="525456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= (int)(float)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= (int)(double)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= (float)(double)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== (float)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= -(-f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/3 == 2/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&lt;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d*2) &lt; 0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&gt; 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f &lt; -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* d &gt;=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d+f)-d ==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2360" y="2655720"/>
            <a:ext cx="2612880" cy="1197720"/>
          </a:xfrm>
          <a:prstGeom prst="rect">
            <a:avLst/>
          </a:prstGeom>
          <a:noFill/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2120" y="432108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27000" y="228600"/>
            <a:ext cx="7290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loser Look at Round-To-Ev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Rounding 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get any other kind without dropping into assemb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others are statistically bi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of set of positive numbers will consistently be over- or under- estim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ing to Other Decimal Pl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exactly halfway between two possible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so that least significant digit is 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round to nearest hundre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3499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ss than half 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350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reater than half 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35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lf way—round 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spcBef>
                <a:spcPts val="675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45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lf way—round d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12800" y="228600"/>
            <a:ext cx="5918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nding Binary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Fractional Nu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” when least significant bit i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lf way when bits to right of rounding position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to nearest 1/4 (2 bits right of binary poi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ed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3/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000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&lt;1/2—dow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3/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001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0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&gt;1/2—up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1/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7/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111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.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/2—up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5/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1010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.1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/2—dow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1/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spcBef>
                <a:spcPts val="675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42840" y="304920"/>
            <a:ext cx="3784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P Multipl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^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ific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n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ight, incre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 of range, overfl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st chore is multiplying signific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00040" y="304920"/>
            <a:ext cx="2692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P Add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signific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 of signed align &amp;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n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ight, incre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1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if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f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sitions, decrem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flow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t of 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203720" y="1395360"/>
            <a:ext cx="4089240" cy="1944720"/>
            <a:chOff x="4203720" y="1395360"/>
            <a:chExt cx="4089240" cy="1944720"/>
          </a:xfrm>
        </p:grpSpPr>
        <p:sp>
          <p:nvSpPr>
            <p:cNvPr id="191" name=""/>
            <p:cNvSpPr/>
            <p:nvPr/>
          </p:nvSpPr>
          <p:spPr>
            <a:xfrm>
              <a:off x="4432320" y="1765440"/>
              <a:ext cx="20318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m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84800" y="2298600"/>
              <a:ext cx="2032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m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7120" y="1460520"/>
              <a:ext cx="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29600" y="1460520"/>
              <a:ext cx="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89720" y="1523880"/>
              <a:ext cx="172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95520" y="1395360"/>
              <a:ext cx="7160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52320" y="234000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3720" y="2895480"/>
              <a:ext cx="4089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08640" y="3060720"/>
              <a:ext cx="3708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hematical Properties of FP Ad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to those of Abelian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d under addition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ay generate infinity or 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tativ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and inexactness of ro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is additive identity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y element has additive inver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for infinities &amp; N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for infinities &amp; N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ebraic Properties of FP Mul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to Commutative 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d under multiplication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ay generate infinity or 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on Commutativ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on is Associativ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overflow, inexactness of ro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is multiplicative identity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on distributes over addition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overflow, inexactness of ro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amp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for infinities &amp; N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in 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Guarantees Two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ting betwe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nges numeric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s fractional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rounding toward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defined when out of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saturates to TMin or T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ct conversion, as long as int h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3 bit word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round according to roundin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7320" y="228600"/>
            <a:ext cx="7569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s to Floating Point Puzz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2209680"/>
            <a:ext cx="792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: 24 bit signific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: 53 bit signific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: increases pr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: loses pr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: Just change sign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: 2/3 =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f &lt; -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: Not assoc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838080"/>
            <a:ext cx="2613240" cy="1197720"/>
          </a:xfrm>
          <a:prstGeom prst="rect">
            <a:avLst/>
          </a:prstGeom>
          <a:noFill/>
          <a:ln w="255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880" y="91440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 Floating Point Has Clear Mathematical  Proper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numbers of for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reason about operations independent of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f computed with perfect precision and then rou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the same as real 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ates associativity/distribu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life difficult for compilers &amp; serious numerical applications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4343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EEE Floating Poi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 Standard 75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ed in 1985 as uniform standard for floating point 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hat, many idiosyncratic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ed by all major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n by Numerical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e standards for rounding, overflow, under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to make go f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al analysts predominated over hardware types in defining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7600" y="228600"/>
            <a:ext cx="5968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actional Binary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4600" y="457164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s to right of “binary point” represent fractional powers of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rational numb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39720" y="762120"/>
            <a:ext cx="5029200" cy="3873240"/>
            <a:chOff x="1539720" y="762120"/>
            <a:chExt cx="5029200" cy="3873240"/>
          </a:xfrm>
        </p:grpSpPr>
        <p:grpSp>
          <p:nvGrpSpPr>
            <p:cNvPr id="55" name=""/>
            <p:cNvGrpSpPr/>
            <p:nvPr/>
          </p:nvGrpSpPr>
          <p:grpSpPr>
            <a:xfrm>
              <a:off x="1539720" y="2565360"/>
              <a:ext cx="5029200" cy="533520"/>
              <a:chOff x="1539720" y="2565360"/>
              <a:chExt cx="5029200" cy="533520"/>
            </a:xfrm>
          </p:grpSpPr>
          <p:sp>
            <p:nvSpPr>
              <p:cNvPr id="56" name=""/>
              <p:cNvSpPr/>
              <p:nvPr/>
            </p:nvSpPr>
            <p:spPr>
              <a:xfrm>
                <a:off x="1539720" y="2565360"/>
                <a:ext cx="38124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2096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6396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44484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25720" y="2565360"/>
                <a:ext cx="38124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282920" y="2565360"/>
                <a:ext cx="38124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66416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4504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188040" y="2565360"/>
                <a:ext cx="38088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425920" y="2565360"/>
                <a:ext cx="76212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• 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01840" y="2565360"/>
                <a:ext cx="76212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• 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06960" y="2565360"/>
                <a:ext cx="7596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4192560" y="2286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92560" y="1981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256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04800" y="109224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5800" y="762120"/>
              <a:ext cx="33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1676520" y="990720"/>
              <a:ext cx="2530440" cy="1676160"/>
              <a:chOff x="1676520" y="990720"/>
              <a:chExt cx="2530440" cy="1676160"/>
            </a:xfrm>
          </p:grpSpPr>
          <p:sp>
            <p:nvSpPr>
              <p:cNvPr id="74" name=""/>
              <p:cNvSpPr/>
              <p:nvPr/>
            </p:nvSpPr>
            <p:spPr>
              <a:xfrm>
                <a:off x="3962520" y="2489040"/>
                <a:ext cx="244440" cy="17784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81280" y="2209680"/>
                <a:ext cx="609840" cy="45720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200400" y="1930320"/>
                <a:ext cx="974880" cy="73656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81080" y="1295280"/>
                <a:ext cx="2210040" cy="137160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76520" y="990720"/>
                <a:ext cx="2514600" cy="167616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144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01840" y="1828800"/>
                <a:ext cx="762120" cy="53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• 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rot="10800000">
              <a:off x="4188960" y="3046320"/>
              <a:ext cx="244440" cy="1778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4205160" y="3046320"/>
              <a:ext cx="609840" cy="4572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4221000" y="3046320"/>
              <a:ext cx="974880" cy="736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4204800" y="3046320"/>
              <a:ext cx="2210040" cy="1371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5331960" y="335124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09800" y="30481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16280" y="33526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16280" y="36720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01960" y="4267080"/>
              <a:ext cx="39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02160" y="5429160"/>
                <a:ext cx="9270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actional Binary Number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3/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.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7/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.1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/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11111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by 2 by shifting r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 of for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111111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below 1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1240" indent="-163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notation 1.0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exactly represent numbers of the for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numbers have repeating bit represen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0101010101[01]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001100110011[0011]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0001100110011[0011]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b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termines whether number is negative or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fractional value in range [1.0,2.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n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ights value by power of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B is sign 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ield encod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ield encod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ecision: 8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s, 23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precision: 1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s, 5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bits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07880" y="304920"/>
            <a:ext cx="6629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Re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95280" y="3048120"/>
            <a:ext cx="6984720" cy="355320"/>
            <a:chOff x="1295280" y="3048120"/>
            <a:chExt cx="6984720" cy="355320"/>
          </a:xfrm>
        </p:grpSpPr>
        <p:sp>
          <p:nvSpPr>
            <p:cNvPr id="95" name=""/>
            <p:cNvSpPr/>
            <p:nvPr/>
          </p:nvSpPr>
          <p:spPr>
            <a:xfrm>
              <a:off x="1295280" y="3048120"/>
              <a:ext cx="355320" cy="35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160" y="3048120"/>
              <a:ext cx="2108160" cy="35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9880" y="3048120"/>
              <a:ext cx="4470120" cy="355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6604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lized” Numeric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 coded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a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Exp – B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nsigned value denot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i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i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precision: 127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…254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-126…1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precision: 1023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…2046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-1022…10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1, where m is the number of exponent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nd coded with implied leading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x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its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w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.0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extra leading bit for “fre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68560" y="228600"/>
            <a:ext cx="6806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rmalized Encoding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551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F = 15213.0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-10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213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1110110110110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.110110110110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10110110110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10110110110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0000000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001100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5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495680"/>
            <a:ext cx="6781680" cy="216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Representation (Class 02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0 011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0 1101 1011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47246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ormalized Val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nent valu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ificand valu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.x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valu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have distinct values +0 and –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s very close to 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precision as get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l underflow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Bryant and David O'Hallaron</dc:creator>
  <dc:description/>
  <dc:language>en-US</dc:language>
  <cp:lastModifiedBy>Gregory Kesden</cp:lastModifiedBy>
  <cp:lastPrinted>2001-09-05T16:01:31Z</cp:lastPrinted>
  <dcterms:modified xsi:type="dcterms:W3CDTF">2002-01-24T08:20:14Z</dcterms:modified>
  <cp:revision>94</cp:revision>
  <dc:subject/>
  <dc:title>Floating Point</dc:title>
</cp:coreProperties>
</file>