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59000" y="32364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39448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4600" y="3852360"/>
            <a:ext cx="839448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59000" y="32364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964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066320"/>
            <a:ext cx="40964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4600" y="3852360"/>
            <a:ext cx="40964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6240" y="3852360"/>
            <a:ext cx="40964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59000" y="32364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270288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2840" y="1066320"/>
            <a:ext cx="270288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1440" y="1066320"/>
            <a:ext cx="270288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4600" y="3852360"/>
            <a:ext cx="270288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2840" y="3852360"/>
            <a:ext cx="270288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1440" y="3852360"/>
            <a:ext cx="270288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59000" y="32364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4600" y="1066320"/>
            <a:ext cx="839448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59000" y="32364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3944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59000" y="32364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9644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6240" y="1066320"/>
            <a:ext cx="409644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59000" y="32364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59000" y="3244320"/>
            <a:ext cx="10666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59000" y="32364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964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6240" y="1066320"/>
            <a:ext cx="409644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4600" y="3852360"/>
            <a:ext cx="40964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59000" y="32364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9644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6240" y="1066320"/>
            <a:ext cx="40964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6240" y="3852360"/>
            <a:ext cx="40964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59000" y="32364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964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6240" y="1066320"/>
            <a:ext cx="40964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4600" y="3852360"/>
            <a:ext cx="839448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59000" y="32364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706000" y="6400800"/>
            <a:ext cx="309312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</a:rPr>
              <a:t>CS 213 S’02 (Based on CS 213 F’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44600" y="1066320"/>
            <a:ext cx="83944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056840" y="6527880"/>
            <a:ext cx="123696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</a:rPr>
              <a:t>– </a:t>
            </a:r>
            <a:fld id="{B95E1D9A-1457-4517-B5AD-011E20628E7C}" type="slidenum">
              <a:rPr b="0" lang="en-US" sz="1400" spc="-1" strike="noStrike">
                <a:solidFill>
                  <a:srgbClr val="474747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474747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71120" y="6510240"/>
            <a:ext cx="1355040" cy="2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02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png"/><Relationship Id="rId5" Type="http://schemas.openxmlformats.org/officeDocument/2006/relationships/package" Target="../embeddings/oleObject3.docx"/><Relationship Id="rId6" Type="http://schemas.openxmlformats.org/officeDocument/2006/relationships/image" Target="../media/image3.png"/><Relationship Id="rId7" Type="http://schemas.openxmlformats.org/officeDocument/2006/relationships/package" Target="../embeddings/oleObject4.docx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53920" y="1142640"/>
            <a:ext cx="3784680" cy="16142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its and Byte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anuary 17,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057040" y="2743200"/>
            <a:ext cx="519444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bit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presenting information as b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nary/Hexadeci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yte represent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racters and string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truction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t-level manip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olean algebr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ressing in 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ggested Reading: 2.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ggested Problems: 2.35 and 2.37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76040" y="6510240"/>
            <a:ext cx="1355040" cy="2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02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533520"/>
            <a:ext cx="632448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5-2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06000" y="6400800"/>
            <a:ext cx="309312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</a:rPr>
              <a:t>CS 213 S’02 (Based on CS 213 F’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0120" y="323640"/>
            <a:ext cx="72644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ining Data Represent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44600" y="1066680"/>
            <a:ext cx="67183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de to Print Byte Representation of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ting pointer t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nsigned char 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reates byte arr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295280" y="2209680"/>
            <a:ext cx="5943600" cy="2837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ypedef unsigned char *point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show_bytes(pointer start, int l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 = 0; i &lt; len; 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0x%p\t0x%.2x\n"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rt+i, start[i]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50840" y="5332320"/>
            <a:ext cx="353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tf directiv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t poi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t Hexadeci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96840" y="323640"/>
            <a:ext cx="7191360" cy="572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show_byt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Execution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600200" y="1981080"/>
            <a:ext cx="5943600" cy="1069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a = 15213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int a = 15213;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how_bytes((pointer) &amp;a, sizeof(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525680" y="358452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133720" y="4191120"/>
            <a:ext cx="5181480" cy="1770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a = 15213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x11ffffcb8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x6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x11ffffcb9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x3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x11ffffcba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x11ffffcbb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16080" y="323640"/>
            <a:ext cx="49528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presenting Integ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344160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A = 15213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B = -15213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ng int C = 15213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114800" y="1066680"/>
            <a:ext cx="3962520" cy="1202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mal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52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ary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011 1011 0110 1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3    B    6   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88680" y="2438280"/>
            <a:ext cx="2614680" cy="1676160"/>
            <a:chOff x="688680" y="2438280"/>
            <a:chExt cx="2614680" cy="1676160"/>
          </a:xfrm>
        </p:grpSpPr>
        <p:grpSp>
          <p:nvGrpSpPr>
            <p:cNvPr id="227" name=""/>
            <p:cNvGrpSpPr/>
            <p:nvPr/>
          </p:nvGrpSpPr>
          <p:grpSpPr>
            <a:xfrm>
              <a:off x="688680" y="2438280"/>
              <a:ext cx="1572120" cy="1675800"/>
              <a:chOff x="688680" y="2438280"/>
              <a:chExt cx="1572120" cy="1675800"/>
            </a:xfrm>
          </p:grpSpPr>
          <p:grpSp>
            <p:nvGrpSpPr>
              <p:cNvPr id="228" name=""/>
              <p:cNvGrpSpPr/>
              <p:nvPr/>
            </p:nvGrpSpPr>
            <p:grpSpPr>
              <a:xfrm>
                <a:off x="914400" y="2895480"/>
                <a:ext cx="609480" cy="1218600"/>
                <a:chOff x="914400" y="2895480"/>
                <a:chExt cx="609480" cy="121860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914400" y="2895480"/>
                  <a:ext cx="609480" cy="304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6D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914400" y="3200040"/>
                  <a:ext cx="609480" cy="304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3B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914400" y="3504600"/>
                  <a:ext cx="609480" cy="304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914400" y="3809520"/>
                  <a:ext cx="609480" cy="304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688680" y="2438280"/>
                <a:ext cx="1572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inux/Alpha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516040" y="2438280"/>
              <a:ext cx="787320" cy="1676160"/>
              <a:chOff x="2516040" y="2438280"/>
              <a:chExt cx="787320" cy="167616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590920" y="2895480"/>
                <a:ext cx="609480" cy="1218960"/>
                <a:chOff x="2590920" y="2895480"/>
                <a:chExt cx="609480" cy="121896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590920" y="3504960"/>
                  <a:ext cx="609480" cy="30492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3B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590920" y="3809880"/>
                  <a:ext cx="609480" cy="304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6D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2590920" y="2895480"/>
                  <a:ext cx="609480" cy="304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90920" y="3200040"/>
                  <a:ext cx="609480" cy="30492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0" name=""/>
              <p:cNvSpPr/>
              <p:nvPr/>
            </p:nvSpPr>
            <p:spPr>
              <a:xfrm>
                <a:off x="2516040" y="2438280"/>
                <a:ext cx="78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un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>
              <a:off x="1523880" y="3047760"/>
              <a:ext cx="106704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523880" y="3352680"/>
              <a:ext cx="106704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1523880" y="3352680"/>
              <a:ext cx="106704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1523880" y="3047760"/>
              <a:ext cx="106704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688680" y="4495680"/>
            <a:ext cx="2614680" cy="1676160"/>
            <a:chOff x="688680" y="4495680"/>
            <a:chExt cx="2614680" cy="1676160"/>
          </a:xfrm>
        </p:grpSpPr>
        <p:grpSp>
          <p:nvGrpSpPr>
            <p:cNvPr id="246" name=""/>
            <p:cNvGrpSpPr/>
            <p:nvPr/>
          </p:nvGrpSpPr>
          <p:grpSpPr>
            <a:xfrm>
              <a:off x="688680" y="4495680"/>
              <a:ext cx="1572120" cy="1675800"/>
              <a:chOff x="688680" y="4495680"/>
              <a:chExt cx="1572120" cy="1675800"/>
            </a:xfrm>
          </p:grpSpPr>
          <p:grpSp>
            <p:nvGrpSpPr>
              <p:cNvPr id="247" name=""/>
              <p:cNvGrpSpPr/>
              <p:nvPr/>
            </p:nvGrpSpPr>
            <p:grpSpPr>
              <a:xfrm>
                <a:off x="914400" y="4952880"/>
                <a:ext cx="609480" cy="1218600"/>
                <a:chOff x="914400" y="4952880"/>
                <a:chExt cx="609480" cy="121860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914400" y="4952880"/>
                  <a:ext cx="609480" cy="304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9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914400" y="5257440"/>
                  <a:ext cx="609480" cy="304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C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914400" y="5562000"/>
                  <a:ext cx="609480" cy="304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FF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914400" y="5866920"/>
                  <a:ext cx="609480" cy="304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FF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2" name=""/>
              <p:cNvSpPr/>
              <p:nvPr/>
            </p:nvSpPr>
            <p:spPr>
              <a:xfrm>
                <a:off x="688680" y="4495680"/>
                <a:ext cx="1572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inux/Alpha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2516040" y="4495680"/>
              <a:ext cx="787320" cy="1676160"/>
              <a:chOff x="2516040" y="4495680"/>
              <a:chExt cx="787320" cy="1676160"/>
            </a:xfrm>
          </p:grpSpPr>
          <p:grpSp>
            <p:nvGrpSpPr>
              <p:cNvPr id="254" name=""/>
              <p:cNvGrpSpPr/>
              <p:nvPr/>
            </p:nvGrpSpPr>
            <p:grpSpPr>
              <a:xfrm>
                <a:off x="2590920" y="4952880"/>
                <a:ext cx="609480" cy="1218960"/>
                <a:chOff x="2590920" y="4952880"/>
                <a:chExt cx="609480" cy="121896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2590920" y="5562360"/>
                  <a:ext cx="609480" cy="30492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C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2590920" y="5867280"/>
                  <a:ext cx="609480" cy="304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9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2590920" y="4952880"/>
                  <a:ext cx="609480" cy="304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FF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2590920" y="5257440"/>
                  <a:ext cx="609480" cy="30492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FF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9" name=""/>
              <p:cNvSpPr/>
              <p:nvPr/>
            </p:nvSpPr>
            <p:spPr>
              <a:xfrm>
                <a:off x="2516040" y="4495680"/>
                <a:ext cx="78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un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1523880" y="5105160"/>
              <a:ext cx="106704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523880" y="5410080"/>
              <a:ext cx="106704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1523880" y="5410080"/>
              <a:ext cx="106704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1523880" y="5105160"/>
              <a:ext cx="106704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348080" y="5867280"/>
            <a:ext cx="360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’s complement repres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vered next lectu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 flipV="1">
            <a:off x="3352680" y="5638320"/>
            <a:ext cx="91440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4421880" y="2514600"/>
            <a:ext cx="4291560" cy="2895120"/>
            <a:chOff x="4421880" y="2514600"/>
            <a:chExt cx="4291560" cy="2895120"/>
          </a:xfrm>
        </p:grpSpPr>
        <p:grpSp>
          <p:nvGrpSpPr>
            <p:cNvPr id="267" name=""/>
            <p:cNvGrpSpPr/>
            <p:nvPr/>
          </p:nvGrpSpPr>
          <p:grpSpPr>
            <a:xfrm>
              <a:off x="6098040" y="2514600"/>
              <a:ext cx="2615400" cy="2895120"/>
              <a:chOff x="6098040" y="2514600"/>
              <a:chExt cx="2615400" cy="2895120"/>
            </a:xfrm>
          </p:grpSpPr>
          <p:grpSp>
            <p:nvGrpSpPr>
              <p:cNvPr id="268" name=""/>
              <p:cNvGrpSpPr/>
              <p:nvPr/>
            </p:nvGrpSpPr>
            <p:grpSpPr>
              <a:xfrm>
                <a:off x="6324480" y="4191120"/>
                <a:ext cx="609840" cy="1218600"/>
                <a:chOff x="6324480" y="4191120"/>
                <a:chExt cx="609840" cy="121860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6324480" y="4191120"/>
                  <a:ext cx="609840" cy="304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324480" y="4495680"/>
                  <a:ext cx="609840" cy="304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6324480" y="4800600"/>
                  <a:ext cx="609840" cy="304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6324480" y="5105160"/>
                  <a:ext cx="609840" cy="304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6098040" y="2514600"/>
                <a:ext cx="2615400" cy="1676160"/>
                <a:chOff x="6098040" y="2514600"/>
                <a:chExt cx="2615400" cy="1676160"/>
              </a:xfrm>
            </p:grpSpPr>
            <p:grpSp>
              <p:nvGrpSpPr>
                <p:cNvPr id="274" name=""/>
                <p:cNvGrpSpPr/>
                <p:nvPr/>
              </p:nvGrpSpPr>
              <p:grpSpPr>
                <a:xfrm>
                  <a:off x="6098040" y="2514600"/>
                  <a:ext cx="964080" cy="1675800"/>
                  <a:chOff x="6098040" y="2514600"/>
                  <a:chExt cx="964080" cy="1675800"/>
                </a:xfrm>
              </p:grpSpPr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6324480" y="2971800"/>
                    <a:ext cx="609480" cy="1218600"/>
                    <a:chOff x="6324480" y="2971800"/>
                    <a:chExt cx="609480" cy="121860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>
                      <a:off x="6324480" y="2971800"/>
                      <a:ext cx="609480" cy="304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6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6324480" y="3276360"/>
                      <a:ext cx="609480" cy="3042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6324480" y="3580920"/>
                      <a:ext cx="609480" cy="304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6324480" y="3885840"/>
                      <a:ext cx="609480" cy="304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0" name=""/>
                  <p:cNvSpPr/>
                  <p:nvPr/>
                </p:nvSpPr>
                <p:spPr>
                  <a:xfrm>
                    <a:off x="6098040" y="2514600"/>
                    <a:ext cx="964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Alpha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C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1" name=""/>
                <p:cNvGrpSpPr/>
                <p:nvPr/>
              </p:nvGrpSpPr>
              <p:grpSpPr>
                <a:xfrm>
                  <a:off x="7926120" y="2514600"/>
                  <a:ext cx="787320" cy="1676160"/>
                  <a:chOff x="7926120" y="2514600"/>
                  <a:chExt cx="787320" cy="1676160"/>
                </a:xfrm>
              </p:grpSpPr>
              <p:grpSp>
                <p:nvGrpSpPr>
                  <p:cNvPr id="282" name=""/>
                  <p:cNvGrpSpPr/>
                  <p:nvPr/>
                </p:nvGrpSpPr>
                <p:grpSpPr>
                  <a:xfrm>
                    <a:off x="8001000" y="2971800"/>
                    <a:ext cx="609480" cy="1218960"/>
                    <a:chOff x="8001000" y="2971800"/>
                    <a:chExt cx="609480" cy="1218960"/>
                  </a:xfrm>
                </p:grpSpPr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8001000" y="3581280"/>
                      <a:ext cx="609480" cy="3049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8001000" y="3886200"/>
                      <a:ext cx="609480" cy="304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6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>
                      <a:off x="8001000" y="2971800"/>
                      <a:ext cx="609480" cy="304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8001000" y="3276360"/>
                      <a:ext cx="609480" cy="3049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7" name=""/>
                  <p:cNvSpPr/>
                  <p:nvPr/>
                </p:nvSpPr>
                <p:spPr>
                  <a:xfrm>
                    <a:off x="7926120" y="2514600"/>
                    <a:ext cx="7873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Sun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C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6933960" y="3124080"/>
                  <a:ext cx="1067040" cy="9144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6933960" y="3429000"/>
                  <a:ext cx="1067040" cy="3045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flipV="1">
                  <a:off x="6933960" y="3429000"/>
                  <a:ext cx="1067040" cy="3045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 flipV="1">
                  <a:off x="6933960" y="3124080"/>
                  <a:ext cx="1067040" cy="9144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2" name=""/>
            <p:cNvGrpSpPr/>
            <p:nvPr/>
          </p:nvGrpSpPr>
          <p:grpSpPr>
            <a:xfrm>
              <a:off x="4421880" y="2514600"/>
              <a:ext cx="1902600" cy="1675800"/>
              <a:chOff x="4421880" y="2514600"/>
              <a:chExt cx="1902600" cy="1675800"/>
            </a:xfrm>
          </p:grpSpPr>
          <p:grpSp>
            <p:nvGrpSpPr>
              <p:cNvPr id="293" name=""/>
              <p:cNvGrpSpPr/>
              <p:nvPr/>
            </p:nvGrpSpPr>
            <p:grpSpPr>
              <a:xfrm>
                <a:off x="4421880" y="2514600"/>
                <a:ext cx="925920" cy="1675800"/>
                <a:chOff x="4421880" y="2514600"/>
                <a:chExt cx="925920" cy="1675800"/>
              </a:xfrm>
            </p:grpSpPr>
            <p:grpSp>
              <p:nvGrpSpPr>
                <p:cNvPr id="294" name=""/>
                <p:cNvGrpSpPr/>
                <p:nvPr/>
              </p:nvGrpSpPr>
              <p:grpSpPr>
                <a:xfrm>
                  <a:off x="4648320" y="2971800"/>
                  <a:ext cx="609480" cy="1218600"/>
                  <a:chOff x="4648320" y="2971800"/>
                  <a:chExt cx="609480" cy="1218600"/>
                </a:xfrm>
              </p:grpSpPr>
              <p:sp>
                <p:nvSpPr>
                  <p:cNvPr id="295" name=""/>
                  <p:cNvSpPr/>
                  <p:nvPr/>
                </p:nvSpPr>
                <p:spPr>
                  <a:xfrm>
                    <a:off x="4648320" y="2971800"/>
                    <a:ext cx="6094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6D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4648320" y="3276360"/>
                    <a:ext cx="6094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3B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4648320" y="3580920"/>
                    <a:ext cx="6094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0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4648320" y="3885840"/>
                    <a:ext cx="6094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0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9" name=""/>
                <p:cNvSpPr/>
                <p:nvPr/>
              </p:nvSpPr>
              <p:spPr>
                <a:xfrm>
                  <a:off x="4421880" y="25146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Linux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0" name=""/>
              <p:cNvSpPr/>
              <p:nvPr/>
            </p:nvSpPr>
            <p:spPr>
              <a:xfrm>
                <a:off x="5257800" y="4038480"/>
                <a:ext cx="1066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257800" y="3429000"/>
                <a:ext cx="1066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257800" y="3733920"/>
                <a:ext cx="1066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257800" y="3124080"/>
                <a:ext cx="1066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090520" y="323640"/>
            <a:ext cx="50036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presenting Point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344160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B = -15213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*P = &amp;B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57200" y="1828800"/>
            <a:ext cx="7467480" cy="1202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pha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x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1    F    F    F    F    F    C    A   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ary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01 1111 1111 1111 1111 1111 1100 1010 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7849440" y="228600"/>
            <a:ext cx="1017360" cy="2895480"/>
            <a:chOff x="7849440" y="228600"/>
            <a:chExt cx="1017360" cy="2895480"/>
          </a:xfrm>
        </p:grpSpPr>
        <p:grpSp>
          <p:nvGrpSpPr>
            <p:cNvPr id="308" name=""/>
            <p:cNvGrpSpPr/>
            <p:nvPr/>
          </p:nvGrpSpPr>
          <p:grpSpPr>
            <a:xfrm>
              <a:off x="8077320" y="1904760"/>
              <a:ext cx="609480" cy="1219320"/>
              <a:chOff x="8077320" y="1904760"/>
              <a:chExt cx="609480" cy="1219320"/>
            </a:xfrm>
          </p:grpSpPr>
          <p:sp>
            <p:nvSpPr>
              <p:cNvPr id="309" name=""/>
              <p:cNvSpPr/>
              <p:nvPr/>
            </p:nvSpPr>
            <p:spPr>
              <a:xfrm>
                <a:off x="8077320" y="190476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0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8077320" y="220968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8077320" y="251460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8077320" y="281916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7849440" y="228600"/>
              <a:ext cx="1017360" cy="1675800"/>
              <a:chOff x="7849440" y="228600"/>
              <a:chExt cx="1017360" cy="1675800"/>
            </a:xfrm>
          </p:grpSpPr>
          <p:grpSp>
            <p:nvGrpSpPr>
              <p:cNvPr id="314" name=""/>
              <p:cNvGrpSpPr/>
              <p:nvPr/>
            </p:nvGrpSpPr>
            <p:grpSpPr>
              <a:xfrm>
                <a:off x="8077320" y="685800"/>
                <a:ext cx="609480" cy="1218600"/>
                <a:chOff x="8077320" y="685800"/>
                <a:chExt cx="609480" cy="121860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8077320" y="685800"/>
                  <a:ext cx="609480" cy="304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A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8077320" y="990360"/>
                  <a:ext cx="609480" cy="304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FC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8077320" y="1294920"/>
                  <a:ext cx="609480" cy="304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FF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8077320" y="1599840"/>
                  <a:ext cx="609480" cy="304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FF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9" name=""/>
              <p:cNvSpPr/>
              <p:nvPr/>
            </p:nvSpPr>
            <p:spPr>
              <a:xfrm>
                <a:off x="7849440" y="228600"/>
                <a:ext cx="1017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lpha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0" name=""/>
          <p:cNvGrpSpPr/>
          <p:nvPr/>
        </p:nvGrpSpPr>
        <p:grpSpPr>
          <a:xfrm>
            <a:off x="229320" y="3124080"/>
            <a:ext cx="814680" cy="1676160"/>
            <a:chOff x="229320" y="3124080"/>
            <a:chExt cx="814680" cy="1676160"/>
          </a:xfrm>
        </p:grpSpPr>
        <p:grpSp>
          <p:nvGrpSpPr>
            <p:cNvPr id="321" name=""/>
            <p:cNvGrpSpPr/>
            <p:nvPr/>
          </p:nvGrpSpPr>
          <p:grpSpPr>
            <a:xfrm>
              <a:off x="317520" y="3581280"/>
              <a:ext cx="609480" cy="1218960"/>
              <a:chOff x="317520" y="3581280"/>
              <a:chExt cx="609480" cy="1218960"/>
            </a:xfrm>
          </p:grpSpPr>
          <p:sp>
            <p:nvSpPr>
              <p:cNvPr id="322" name=""/>
              <p:cNvSpPr/>
              <p:nvPr/>
            </p:nvSpPr>
            <p:spPr>
              <a:xfrm>
                <a:off x="317520" y="419076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F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17520" y="449568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2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17520" y="358128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EF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17520" y="388584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FF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6" name=""/>
            <p:cNvSpPr/>
            <p:nvPr/>
          </p:nvSpPr>
          <p:spPr>
            <a:xfrm>
              <a:off x="229320" y="312408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un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1181160" y="3276720"/>
            <a:ext cx="6781680" cy="1334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n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x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E    F    F    F    F    B    2    C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ary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110 1111 1111 1111 1111 1011 0010 1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62480" y="5791320"/>
            <a:ext cx="75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ifferent compilers &amp; machines assign different locations to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8074440" y="4038480"/>
            <a:ext cx="992880" cy="1676160"/>
            <a:chOff x="8074440" y="4038480"/>
            <a:chExt cx="992880" cy="1676160"/>
          </a:xfrm>
        </p:grpSpPr>
        <p:grpSp>
          <p:nvGrpSpPr>
            <p:cNvPr id="330" name=""/>
            <p:cNvGrpSpPr/>
            <p:nvPr/>
          </p:nvGrpSpPr>
          <p:grpSpPr>
            <a:xfrm>
              <a:off x="8251560" y="4495680"/>
              <a:ext cx="609480" cy="1218960"/>
              <a:chOff x="8251560" y="4495680"/>
              <a:chExt cx="609480" cy="1218960"/>
            </a:xfrm>
          </p:grpSpPr>
          <p:sp>
            <p:nvSpPr>
              <p:cNvPr id="331" name=""/>
              <p:cNvSpPr/>
              <p:nvPr/>
            </p:nvSpPr>
            <p:spPr>
              <a:xfrm>
                <a:off x="8251560" y="510516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FF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8251560" y="541008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BF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8251560" y="449568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D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8251560" y="480024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F8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5" name=""/>
            <p:cNvSpPr/>
            <p:nvPr/>
          </p:nvSpPr>
          <p:spPr>
            <a:xfrm>
              <a:off x="8074440" y="4038480"/>
              <a:ext cx="99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inux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1181160" y="4495680"/>
            <a:ext cx="6781680" cy="1334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ux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x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B    F    F    F    F    8    D    4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ary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11 1111 1111 1111 1111 1000 1101 0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331720" y="323640"/>
            <a:ext cx="4521240" cy="572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presenting Floa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34416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oat F = 15213.0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62120" y="3733920"/>
            <a:ext cx="6781680" cy="175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EEE Single Precision Floating Point Repres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x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4    6    6    D    B    4    0    0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ary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100 0110 0110 1101 1011 0100 0000 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213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1110 1101 1011 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64640" y="5791320"/>
            <a:ext cx="76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ot same as integer representation, but consistent across mach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29000" y="5334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638680" y="5334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429000" y="5410080"/>
            <a:ext cx="22096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4651200" y="1447920"/>
            <a:ext cx="2614680" cy="1676160"/>
            <a:chOff x="4651200" y="1447920"/>
            <a:chExt cx="2614680" cy="1676160"/>
          </a:xfrm>
        </p:grpSpPr>
        <p:grpSp>
          <p:nvGrpSpPr>
            <p:cNvPr id="345" name=""/>
            <p:cNvGrpSpPr/>
            <p:nvPr/>
          </p:nvGrpSpPr>
          <p:grpSpPr>
            <a:xfrm>
              <a:off x="4651200" y="1447920"/>
              <a:ext cx="1572120" cy="1675800"/>
              <a:chOff x="4651200" y="1447920"/>
              <a:chExt cx="1572120" cy="1675800"/>
            </a:xfrm>
          </p:grpSpPr>
          <p:grpSp>
            <p:nvGrpSpPr>
              <p:cNvPr id="346" name=""/>
              <p:cNvGrpSpPr/>
              <p:nvPr/>
            </p:nvGrpSpPr>
            <p:grpSpPr>
              <a:xfrm>
                <a:off x="4876920" y="1905120"/>
                <a:ext cx="609480" cy="1218600"/>
                <a:chOff x="4876920" y="1905120"/>
                <a:chExt cx="609480" cy="121860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4876920" y="1905120"/>
                  <a:ext cx="609480" cy="304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4876920" y="2209680"/>
                  <a:ext cx="609480" cy="304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B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4876920" y="2514240"/>
                  <a:ext cx="609480" cy="304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6D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4876920" y="2819160"/>
                  <a:ext cx="609480" cy="304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4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1" name=""/>
              <p:cNvSpPr/>
              <p:nvPr/>
            </p:nvSpPr>
            <p:spPr>
              <a:xfrm>
                <a:off x="4651200" y="1447920"/>
                <a:ext cx="1572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inux/Alpha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6478560" y="1447920"/>
              <a:ext cx="787320" cy="1676160"/>
              <a:chOff x="6478560" y="1447920"/>
              <a:chExt cx="787320" cy="1676160"/>
            </a:xfrm>
          </p:grpSpPr>
          <p:grpSp>
            <p:nvGrpSpPr>
              <p:cNvPr id="353" name=""/>
              <p:cNvGrpSpPr/>
              <p:nvPr/>
            </p:nvGrpSpPr>
            <p:grpSpPr>
              <a:xfrm>
                <a:off x="6553440" y="1905120"/>
                <a:ext cx="609480" cy="1218960"/>
                <a:chOff x="6553440" y="1905120"/>
                <a:chExt cx="609480" cy="121896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6553440" y="2514600"/>
                  <a:ext cx="609480" cy="30492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B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6553440" y="2819520"/>
                  <a:ext cx="609480" cy="304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6553440" y="1905120"/>
                  <a:ext cx="609480" cy="304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4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6553440" y="2209680"/>
                  <a:ext cx="609480" cy="30492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6D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8" name=""/>
              <p:cNvSpPr/>
              <p:nvPr/>
            </p:nvSpPr>
            <p:spPr>
              <a:xfrm>
                <a:off x="6478560" y="1447920"/>
                <a:ext cx="78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un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9" name=""/>
            <p:cNvSpPr/>
            <p:nvPr/>
          </p:nvSpPr>
          <p:spPr>
            <a:xfrm>
              <a:off x="5486400" y="2057400"/>
              <a:ext cx="106704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486400" y="2362320"/>
              <a:ext cx="106704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5486400" y="2362320"/>
              <a:ext cx="106704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5486400" y="2057400"/>
              <a:ext cx="106704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5486400" y="1066680"/>
            <a:ext cx="3429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3920" indent="-2239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S[6] = "15213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217600" y="323640"/>
            <a:ext cx="4749840" cy="572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presenting String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44240" y="1066320"/>
            <a:ext cx="549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ings in 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resented by array of charac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character encoded in ASCII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7-bit encoding of character s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encodings exist, but uncomm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acter “0” has cod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3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gi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has cod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3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ing should be null-termina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al character =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ti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 ordering not an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are single byte quantit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 files generally platform independ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cept for different conventions of line termination character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5946480" y="1905120"/>
            <a:ext cx="2386080" cy="2286000"/>
            <a:chOff x="5946480" y="1905120"/>
            <a:chExt cx="2386080" cy="2286000"/>
          </a:xfrm>
        </p:grpSpPr>
        <p:sp>
          <p:nvSpPr>
            <p:cNvPr id="367" name=""/>
            <p:cNvSpPr/>
            <p:nvPr/>
          </p:nvSpPr>
          <p:spPr>
            <a:xfrm>
              <a:off x="5946480" y="1905120"/>
              <a:ext cx="157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nux/Alpha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545240" y="1905120"/>
              <a:ext cx="78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n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782040" y="2514960"/>
              <a:ext cx="914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0" name=""/>
            <p:cNvGrpSpPr/>
            <p:nvPr/>
          </p:nvGrpSpPr>
          <p:grpSpPr>
            <a:xfrm>
              <a:off x="7696440" y="2362320"/>
              <a:ext cx="609480" cy="1828800"/>
              <a:chOff x="7696440" y="2362320"/>
              <a:chExt cx="609480" cy="1828800"/>
            </a:xfrm>
          </p:grpSpPr>
          <p:sp>
            <p:nvSpPr>
              <p:cNvPr id="371" name=""/>
              <p:cNvSpPr/>
              <p:nvPr/>
            </p:nvSpPr>
            <p:spPr>
              <a:xfrm>
                <a:off x="7696440" y="297216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3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7696440" y="327672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3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96440" y="236232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3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696440" y="266724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3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696440" y="358164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3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696440" y="388656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6172200" y="2362320"/>
              <a:ext cx="609480" cy="1828800"/>
              <a:chOff x="6172200" y="2362320"/>
              <a:chExt cx="609480" cy="1828800"/>
            </a:xfrm>
          </p:grpSpPr>
          <p:sp>
            <p:nvSpPr>
              <p:cNvPr id="378" name=""/>
              <p:cNvSpPr/>
              <p:nvPr/>
            </p:nvSpPr>
            <p:spPr>
              <a:xfrm>
                <a:off x="6172200" y="297216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3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172200" y="327672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3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172200" y="236232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3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172200" y="266724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3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172200" y="358164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3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172200" y="388656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4" name=""/>
            <p:cNvSpPr/>
            <p:nvPr/>
          </p:nvSpPr>
          <p:spPr>
            <a:xfrm>
              <a:off x="6782040" y="2819520"/>
              <a:ext cx="914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782040" y="3124440"/>
              <a:ext cx="914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782040" y="3429360"/>
              <a:ext cx="914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782040" y="3733920"/>
              <a:ext cx="914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782040" y="4038840"/>
              <a:ext cx="914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059000" y="323640"/>
            <a:ext cx="1066680" cy="63025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chine-Level Code Represen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3944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code Program as Sequence of Instru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simple op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ithmetic op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 or write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ditional bran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s encoded as by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pha’s, Sun’s, Mac’s use 4 byte instru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uced Instruction Set Computer (RISC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C’s use variable length instru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x Instruction Set Computer (CISC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ent instruction types and encodings for different machi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code not binary compat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s are Byte Sequences Too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696680" y="323640"/>
            <a:ext cx="5791320" cy="572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presenting Instru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441600" cy="1371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sum(int x, int y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x+y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066320" y="6019920"/>
            <a:ext cx="746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ifferent machines use totally different instructions and encod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4649760" y="1447920"/>
            <a:ext cx="1238400" cy="2895480"/>
            <a:chOff x="4649760" y="1447920"/>
            <a:chExt cx="1238400" cy="2895480"/>
          </a:xfrm>
        </p:grpSpPr>
        <p:grpSp>
          <p:nvGrpSpPr>
            <p:cNvPr id="395" name=""/>
            <p:cNvGrpSpPr/>
            <p:nvPr/>
          </p:nvGrpSpPr>
          <p:grpSpPr>
            <a:xfrm>
              <a:off x="4876920" y="1905120"/>
              <a:ext cx="609480" cy="1218600"/>
              <a:chOff x="4876920" y="1905120"/>
              <a:chExt cx="609480" cy="1218600"/>
            </a:xfrm>
          </p:grpSpPr>
          <p:sp>
            <p:nvSpPr>
              <p:cNvPr id="396" name=""/>
              <p:cNvSpPr/>
              <p:nvPr/>
            </p:nvSpPr>
            <p:spPr>
              <a:xfrm>
                <a:off x="4876920" y="190512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876920" y="2209680"/>
                <a:ext cx="609480" cy="3042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876920" y="251424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3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876920" y="281916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4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0" name=""/>
            <p:cNvSpPr/>
            <p:nvPr/>
          </p:nvSpPr>
          <p:spPr>
            <a:xfrm>
              <a:off x="4649760" y="1447920"/>
              <a:ext cx="123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lpha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su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4876920" y="3124080"/>
              <a:ext cx="609480" cy="1219320"/>
              <a:chOff x="4876920" y="3124080"/>
              <a:chExt cx="609480" cy="1219320"/>
            </a:xfrm>
          </p:grpSpPr>
          <p:sp>
            <p:nvSpPr>
              <p:cNvPr id="402" name=""/>
              <p:cNvSpPr/>
              <p:nvPr/>
            </p:nvSpPr>
            <p:spPr>
              <a:xfrm>
                <a:off x="4876920" y="312408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0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876920" y="342900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8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876920" y="373356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F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876920" y="403848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6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6" name=""/>
          <p:cNvGrpSpPr/>
          <p:nvPr/>
        </p:nvGrpSpPr>
        <p:grpSpPr>
          <a:xfrm>
            <a:off x="6341400" y="1447920"/>
            <a:ext cx="1061640" cy="2895480"/>
            <a:chOff x="6341400" y="1447920"/>
            <a:chExt cx="1061640" cy="2895480"/>
          </a:xfrm>
        </p:grpSpPr>
        <p:grpSp>
          <p:nvGrpSpPr>
            <p:cNvPr id="407" name=""/>
            <p:cNvGrpSpPr/>
            <p:nvPr/>
          </p:nvGrpSpPr>
          <p:grpSpPr>
            <a:xfrm>
              <a:off x="6553080" y="1905120"/>
              <a:ext cx="609480" cy="1218960"/>
              <a:chOff x="6553080" y="1905120"/>
              <a:chExt cx="609480" cy="1218960"/>
            </a:xfrm>
          </p:grpSpPr>
          <p:sp>
            <p:nvSpPr>
              <p:cNvPr id="408" name=""/>
              <p:cNvSpPr/>
              <p:nvPr/>
            </p:nvSpPr>
            <p:spPr>
              <a:xfrm>
                <a:off x="6553080" y="251460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E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553080" y="281952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08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553080" y="190512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8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553080" y="220968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C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2" name=""/>
            <p:cNvSpPr/>
            <p:nvPr/>
          </p:nvSpPr>
          <p:spPr>
            <a:xfrm>
              <a:off x="6341400" y="1447920"/>
              <a:ext cx="106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n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su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3" name=""/>
            <p:cNvGrpSpPr/>
            <p:nvPr/>
          </p:nvGrpSpPr>
          <p:grpSpPr>
            <a:xfrm>
              <a:off x="6553080" y="3124080"/>
              <a:ext cx="609480" cy="1219320"/>
              <a:chOff x="6553080" y="3124080"/>
              <a:chExt cx="609480" cy="1219320"/>
            </a:xfrm>
          </p:grpSpPr>
          <p:sp>
            <p:nvSpPr>
              <p:cNvPr id="414" name=""/>
              <p:cNvSpPr/>
              <p:nvPr/>
            </p:nvSpPr>
            <p:spPr>
              <a:xfrm>
                <a:off x="6553080" y="312408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9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553080" y="342900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0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553080" y="373356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553080" y="403848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09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8" name=""/>
          <p:cNvSpPr/>
          <p:nvPr/>
        </p:nvSpPr>
        <p:spPr>
          <a:xfrm>
            <a:off x="457200" y="3276720"/>
            <a:ext cx="426708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1000"/>
          </a:bodyPr>
          <a:p>
            <a:pPr lvl="1" marL="453960" indent="-1800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this example, Alpha &amp; Sun use two 4-byte instru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80040" indent="-1335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differing numbers of instructions in other c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960" indent="-1800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C uses 7 instructions with lengths 1, 2, and 3 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80040" indent="-1335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for NT and for Lin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80040" indent="-1335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T / Linux not fully binary compat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7817400" y="1447920"/>
            <a:ext cx="973080" cy="4419360"/>
            <a:chOff x="7817400" y="1447920"/>
            <a:chExt cx="973080" cy="4419360"/>
          </a:xfrm>
        </p:grpSpPr>
        <p:grpSp>
          <p:nvGrpSpPr>
            <p:cNvPr id="420" name=""/>
            <p:cNvGrpSpPr/>
            <p:nvPr/>
          </p:nvGrpSpPr>
          <p:grpSpPr>
            <a:xfrm>
              <a:off x="7985160" y="1905120"/>
              <a:ext cx="609480" cy="1218960"/>
              <a:chOff x="7985160" y="1905120"/>
              <a:chExt cx="609480" cy="1218960"/>
            </a:xfrm>
          </p:grpSpPr>
          <p:sp>
            <p:nvSpPr>
              <p:cNvPr id="421" name=""/>
              <p:cNvSpPr/>
              <p:nvPr/>
            </p:nvSpPr>
            <p:spPr>
              <a:xfrm>
                <a:off x="7985160" y="251460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E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985160" y="281952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8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985160" y="190512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5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985160" y="220968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89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5" name=""/>
            <p:cNvSpPr/>
            <p:nvPr/>
          </p:nvSpPr>
          <p:spPr>
            <a:xfrm>
              <a:off x="7817400" y="1447920"/>
              <a:ext cx="97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C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su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6" name=""/>
            <p:cNvGrpSpPr/>
            <p:nvPr/>
          </p:nvGrpSpPr>
          <p:grpSpPr>
            <a:xfrm>
              <a:off x="7985160" y="3124080"/>
              <a:ext cx="609480" cy="1219320"/>
              <a:chOff x="7985160" y="3124080"/>
              <a:chExt cx="609480" cy="1219320"/>
            </a:xfrm>
          </p:grpSpPr>
          <p:sp>
            <p:nvSpPr>
              <p:cNvPr id="427" name=""/>
              <p:cNvSpPr/>
              <p:nvPr/>
            </p:nvSpPr>
            <p:spPr>
              <a:xfrm>
                <a:off x="7985160" y="312408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4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985160" y="342900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0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985160" y="373356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0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985160" y="403848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4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8001000" y="4343400"/>
              <a:ext cx="609480" cy="1219320"/>
              <a:chOff x="8001000" y="4343400"/>
              <a:chExt cx="609480" cy="1219320"/>
            </a:xfrm>
          </p:grpSpPr>
          <p:sp>
            <p:nvSpPr>
              <p:cNvPr id="432" name=""/>
              <p:cNvSpPr/>
              <p:nvPr/>
            </p:nvSpPr>
            <p:spPr>
              <a:xfrm>
                <a:off x="8001000" y="434340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08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8001000" y="464832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89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8001000" y="495288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E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8001000" y="525780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5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8001000" y="5562720"/>
              <a:ext cx="60948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712960" y="323640"/>
            <a:ext cx="3759120" cy="572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oolean Algebr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3944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veloped by George Boole in 19th Centu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gebraic representation of logi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code “True” as 1 and “False” a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28600" y="2286000"/>
            <a:ext cx="4432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&amp;B = 1 when both A=1 and B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1600200" y="2971800"/>
          <a:ext cx="1397160" cy="137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971800"/>
                    <a:ext cx="1397160" cy="13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2" name=""/>
          <p:cNvGraphicFramePr/>
          <p:nvPr/>
        </p:nvGraphicFramePr>
        <p:xfrm>
          <a:off x="1447920" y="4952880"/>
          <a:ext cx="1396800" cy="13766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4952880"/>
                    <a:ext cx="1396800" cy="13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4" name=""/>
          <p:cNvSpPr/>
          <p:nvPr/>
        </p:nvSpPr>
        <p:spPr>
          <a:xfrm>
            <a:off x="228600" y="4191120"/>
            <a:ext cx="4432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~A = 1 when A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419720" y="2286000"/>
            <a:ext cx="4432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|B = 1 when either A=1 or B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6" name=""/>
          <p:cNvGraphicFramePr/>
          <p:nvPr/>
        </p:nvGraphicFramePr>
        <p:xfrm>
          <a:off x="5791320" y="3048120"/>
          <a:ext cx="1396800" cy="13762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91320" y="3048120"/>
                    <a:ext cx="1396800" cy="13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8" name=""/>
          <p:cNvGraphicFramePr/>
          <p:nvPr/>
        </p:nvGraphicFramePr>
        <p:xfrm>
          <a:off x="5626080" y="5257800"/>
          <a:ext cx="1397160" cy="137628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626080" y="5257800"/>
                    <a:ext cx="1397160" cy="13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0" name=""/>
          <p:cNvSpPr/>
          <p:nvPr/>
        </p:nvSpPr>
        <p:spPr>
          <a:xfrm>
            <a:off x="4419720" y="4343400"/>
            <a:ext cx="4432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2000"/>
          </a:bodyPr>
          <a:p>
            <a:pPr marL="183600" indent="-1836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lusive-Or (X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9360" indent="-182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^B = 1 when either A=1 or B=1, but not bo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"/>
          <p:cNvGrpSpPr/>
          <p:nvPr/>
        </p:nvGrpSpPr>
        <p:grpSpPr>
          <a:xfrm>
            <a:off x="1539720" y="3228480"/>
            <a:ext cx="3048120" cy="1143360"/>
            <a:chOff x="1539720" y="3228480"/>
            <a:chExt cx="3048120" cy="1143360"/>
          </a:xfrm>
        </p:grpSpPr>
        <p:sp>
          <p:nvSpPr>
            <p:cNvPr id="452" name=""/>
            <p:cNvSpPr/>
            <p:nvPr/>
          </p:nvSpPr>
          <p:spPr>
            <a:xfrm flipV="1">
              <a:off x="1996920" y="3228480"/>
              <a:ext cx="1066680" cy="60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996920" y="3838320"/>
              <a:ext cx="106668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63600" y="3228840"/>
              <a:ext cx="1067040" cy="53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3063600" y="3762000"/>
              <a:ext cx="1067040" cy="60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438280" y="3276360"/>
              <a:ext cx="473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454120" y="3990600"/>
              <a:ext cx="473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216240" y="3276360"/>
              <a:ext cx="473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232080" y="3990600"/>
              <a:ext cx="473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130640" y="3762000"/>
              <a:ext cx="304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692000" y="3838320"/>
              <a:ext cx="304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39720" y="37620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435200" y="36860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5109480" y="3352680"/>
            <a:ext cx="194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 w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&amp;~B | ~A&amp;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A^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25360" y="323640"/>
            <a:ext cx="6934320" cy="572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pplication of Boolean Algebr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394480" cy="358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ed to Digital Systems by Claude Shann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37 MIT Master’s Thes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son about networks of relay switch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code closed switch as 1, open switch a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059000" y="323640"/>
            <a:ext cx="1066680" cy="63025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y Don’t Computers Use Base 10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3944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 10 Number Repres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at’s why fingers are known as “digit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tural representation for financial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oating point number cannot exactly represent $1.2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en carries through in scientific not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5213 X 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ing Electronical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 to sto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IAC (First electronic computer) used 10 vacuum tubes / dig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 to transm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high precision to encode 10 signal levels on single wi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ssy to implement digital logic 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ition, multiplication, et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023480" y="323640"/>
            <a:ext cx="7139160" cy="572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perties of &amp; and | Oper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3944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69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00664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er Arithmeti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9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Symbol" charset="2"/>
              <a:buChar char=""/>
              <a:tabLst>
                <a:tab algn="l" pos="200664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, +, *, –, 0, 1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ms a “ring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9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00664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ition is “sum” op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9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00664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plication is “product” op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9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00664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additive inver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9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00664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 is identity for su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9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00664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is identity for produ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9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00664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olean Algebr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9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Symbol" charset="2"/>
              <a:buChar char=""/>
              <a:tabLst>
                <a:tab algn="l" pos="200664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0,1}, |, &amp;, ~, 0, 1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s a “Boolean algebra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9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00664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is “sum” op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9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00664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is “product” op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9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00664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~ is “complement” operation (not additive invers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9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00664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 is identity for su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9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00664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is identity for produ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200664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9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00664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85400" y="323640"/>
            <a:ext cx="8813880" cy="572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perties of Rings &amp; Boolean Algebra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3944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168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14300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olean Algebr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er 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7360" indent="-285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14300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mmuta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7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14300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| B    =  B | 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+ B  =  B +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7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14300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&amp; B    =  B &amp; 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* B  =  B *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7360" indent="-285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14300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ssocia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7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14300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 |  B)  | C    =  A | (B | C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 + B) + C  =  A + (B + C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7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14300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 &amp; B) &amp; C    =  A &amp; (B &amp; C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 * B) * C  =  A * (B * C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7360" indent="-285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14300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roduct distributes over su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7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14300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&amp; (B | C)  =  (A &amp; B) | (A &amp; C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* (B + C)  =  A * B + B * 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7360" indent="-285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14300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um and product identit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7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14300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| 0  =  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+ 0  = 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7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14300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&amp; 1  =  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* 1  = A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7360" indent="-285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14300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Zero is product annihilat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7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14300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&amp; 0  =  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* 0  = 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7360" indent="-285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14300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ancellation of neg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7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14300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~ (~ A) =  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– (– A)  = 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952280" y="323640"/>
            <a:ext cx="52801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g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Boolean Algebr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3944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69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143000"/>
                <a:tab algn="l" pos="492120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olean Algebr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er 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9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143000"/>
                <a:tab algn="l" pos="492120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lean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um distributes over produ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143000"/>
                <a:tab algn="l" pos="492120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| (B &amp; C)  =  (A | B) &amp; (A | C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+ (B * C)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(A + B) * (B + C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9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143000"/>
                <a:tab algn="l" pos="492120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lean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dempotenc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143000"/>
                <a:tab algn="l" pos="492120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| A  =  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 + A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-1652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1143000"/>
                <a:tab algn="l" pos="492120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is true” or “A is true” = “A is true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143000"/>
                <a:tab algn="l" pos="492120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&amp; A  =  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 * A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9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143000"/>
                <a:tab algn="l" pos="492120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lean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bsorp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143000"/>
                <a:tab algn="l" pos="492120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| (A &amp; B)  =  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+ (A * B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-1652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1143000"/>
                <a:tab algn="l" pos="492120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is true” or “A is true and B is true” = “A is true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143000"/>
                <a:tab algn="l" pos="492120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&amp; (A | B)  =  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* (A + B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9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143000"/>
                <a:tab algn="l" pos="492120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lean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aws of Compl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143000"/>
                <a:tab algn="l" pos="492120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| ~A  =  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 + –A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-1652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1143000"/>
                <a:tab algn="l" pos="492120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is true” or “A is false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9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143000"/>
                <a:tab algn="l" pos="492120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ng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very element has additive inver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143000"/>
                <a:tab algn="l" pos="492120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| ~A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+ –A =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225160" y="323640"/>
            <a:ext cx="4737240" cy="572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perties of &amp; and ^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3944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69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3657600"/>
                <a:tab algn="l" pos="55371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olean 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9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Symbol" charset="2"/>
              <a:buChar char=""/>
              <a:tabLst>
                <a:tab algn="l" pos="3657600"/>
                <a:tab algn="l" pos="55371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0,1}, ^, &amp;,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0, 1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9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3657600"/>
                <a:tab algn="l" pos="55371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ntical to integers mod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9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3657600"/>
                <a:tab algn="l" pos="55371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identity operation: </a:t>
            </a: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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 =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55371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^ A =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9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3657600"/>
                <a:tab algn="l" pos="55371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per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olean 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9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3657600"/>
                <a:tab algn="l" pos="55371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tative su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^ B  =  B ^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9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3657600"/>
                <a:tab algn="l" pos="55371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tative produ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&amp; B  =  B &amp;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9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3657600"/>
                <a:tab algn="l" pos="55371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ociative su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 ^ B) ^ C  =  A ^ (B ^ C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9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3657600"/>
                <a:tab algn="l" pos="55371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ociative produ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 &amp; B) &amp; C  =  A &amp; (B &amp; C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9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3657600"/>
                <a:tab algn="l" pos="55371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. over su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&amp; (B ^ C)  =  (A &amp; B) ^ (B &amp; C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9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3657600"/>
                <a:tab algn="l" pos="55371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 is sum ident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^ 0  = 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9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3657600"/>
                <a:tab algn="l" pos="55371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is prod. ident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&amp; 1  = 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9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3657600"/>
                <a:tab algn="l" pos="55371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 is product annihila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&amp; 0 =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9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3657600"/>
                <a:tab algn="l" pos="55371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itive inver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^ A  = 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26880" y="323640"/>
            <a:ext cx="6730920" cy="572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lations Between Oper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3944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rgan’s La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ress &amp; in terms of |, and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&amp; B  =  ~(~A | ~B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and B are true if and only if neither A nor B is fal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| B  =  ~(~A &amp; ~B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or B are true if and only if A and B are not both fal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lusive-Or using Inclusive 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^ B  =  (~A &amp; B) | (A &amp; ~B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ctly one of A and B is tr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^ B  =  (A | B) &amp; ~(A &amp; B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ither A is true, or B is true, but not bo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671480" y="323640"/>
            <a:ext cx="5842080" cy="572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ral Boolean Algebra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44600" y="1066680"/>
            <a:ext cx="74800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77760"/>
                <a:tab algn="l" pos="2514600"/>
                <a:tab algn="l" pos="3543480"/>
                <a:tab algn="l" pos="50925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e on Bit Vec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977760"/>
                <a:tab algn="l" pos="2514600"/>
                <a:tab algn="l" pos="3543480"/>
                <a:tab algn="l" pos="50925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ons applied bitwi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77760"/>
                <a:tab algn="l" pos="2514600"/>
                <a:tab algn="l" pos="3543480"/>
                <a:tab algn="l" pos="50925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77760"/>
                <a:tab algn="l" pos="2514600"/>
                <a:tab algn="l" pos="3543480"/>
                <a:tab algn="l" pos="50925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77760"/>
                <a:tab algn="l" pos="2514600"/>
                <a:tab algn="l" pos="3543480"/>
                <a:tab algn="l" pos="50925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77760"/>
                <a:tab algn="l" pos="2514600"/>
                <a:tab algn="l" pos="3543480"/>
                <a:tab algn="l" pos="50925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ation of Se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977760"/>
                <a:tab algn="l" pos="2514600"/>
                <a:tab algn="l" pos="3543480"/>
                <a:tab algn="l" pos="50925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d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it vector represents subsets o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0, …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1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977760"/>
                <a:tab algn="l" pos="2514600"/>
                <a:tab algn="l" pos="3543480"/>
                <a:tab algn="l" pos="50925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–"/>
              <a:tabLst>
                <a:tab algn="l" pos="977760"/>
                <a:tab algn="l" pos="2514600"/>
                <a:tab algn="l" pos="3543480"/>
                <a:tab algn="l" pos="50925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110100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 0, 3, 5, 6 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–"/>
              <a:tabLst>
                <a:tab algn="l" pos="977760"/>
                <a:tab algn="l" pos="2514600"/>
                <a:tab algn="l" pos="3543480"/>
                <a:tab algn="l" pos="50925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101010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 0, 2, 4, 6 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977760"/>
                <a:tab algn="l" pos="2514600"/>
                <a:tab algn="l" pos="3543480"/>
                <a:tab algn="l" pos="50925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se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100000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0, 6 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977760"/>
                <a:tab algn="l" pos="2514600"/>
                <a:tab algn="l" pos="3543480"/>
                <a:tab algn="l" pos="50925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|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111110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0, 2, 3, 4, 5, 6 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977760"/>
                <a:tab algn="l" pos="2514600"/>
                <a:tab algn="l" pos="3543480"/>
                <a:tab algn="l" pos="50925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^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mmetric differe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1111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2, 3, 4, 5 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977760"/>
                <a:tab algn="l" pos="2514600"/>
                <a:tab algn="l" pos="3543480"/>
                <a:tab algn="l" pos="50925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m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10101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1, 3, 5, 7 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77760"/>
                <a:tab algn="l" pos="2514600"/>
                <a:tab algn="l" pos="3543480"/>
                <a:tab algn="l" pos="50925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77760"/>
                <a:tab algn="l" pos="2514600"/>
                <a:tab algn="l" pos="3543480"/>
                <a:tab algn="l" pos="50925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760680" y="1905120"/>
            <a:ext cx="1552320" cy="916920"/>
            <a:chOff x="760680" y="1905120"/>
            <a:chExt cx="1552320" cy="916920"/>
          </a:xfrm>
        </p:grpSpPr>
        <p:sp>
          <p:nvSpPr>
            <p:cNvPr id="480" name=""/>
            <p:cNvSpPr/>
            <p:nvPr/>
          </p:nvSpPr>
          <p:spPr>
            <a:xfrm>
              <a:off x="760680" y="1905120"/>
              <a:ext cx="1552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01101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amp; 010101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01000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54280" y="2463840"/>
              <a:ext cx="1371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2589480" y="1905120"/>
            <a:ext cx="1552320" cy="916920"/>
            <a:chOff x="2589480" y="1905120"/>
            <a:chExt cx="1552320" cy="916920"/>
          </a:xfrm>
        </p:grpSpPr>
        <p:sp>
          <p:nvSpPr>
            <p:cNvPr id="483" name=""/>
            <p:cNvSpPr/>
            <p:nvPr/>
          </p:nvSpPr>
          <p:spPr>
            <a:xfrm>
              <a:off x="2589480" y="1905120"/>
              <a:ext cx="1552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01101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| 010101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011111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683080" y="2463840"/>
              <a:ext cx="1371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4418280" y="1905120"/>
            <a:ext cx="1552320" cy="916920"/>
            <a:chOff x="4418280" y="1905120"/>
            <a:chExt cx="1552320" cy="916920"/>
          </a:xfrm>
        </p:grpSpPr>
        <p:sp>
          <p:nvSpPr>
            <p:cNvPr id="486" name=""/>
            <p:cNvSpPr/>
            <p:nvPr/>
          </p:nvSpPr>
          <p:spPr>
            <a:xfrm>
              <a:off x="4418280" y="1905120"/>
              <a:ext cx="1552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01101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^ 010101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00111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511880" y="2463840"/>
              <a:ext cx="1371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6323040" y="1905120"/>
            <a:ext cx="1552320" cy="916920"/>
            <a:chOff x="6323040" y="1905120"/>
            <a:chExt cx="1552320" cy="916920"/>
          </a:xfrm>
        </p:grpSpPr>
        <p:sp>
          <p:nvSpPr>
            <p:cNvPr id="489" name=""/>
            <p:cNvSpPr/>
            <p:nvPr/>
          </p:nvSpPr>
          <p:spPr>
            <a:xfrm>
              <a:off x="6323040" y="1905120"/>
              <a:ext cx="1552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~ 010101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101010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416640" y="2463840"/>
              <a:ext cx="1371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798560" y="323640"/>
            <a:ext cx="5587920" cy="572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it-Level Operations in C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3944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ons &amp;,  |,  ~,  ^ Available in 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o any “integral” data typ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–"/>
              <a:tabLst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ho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ew arguments as bit vec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guments applied bit-wi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s (Char data typ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~0x41 --&gt;  0xB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~01000001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&g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111110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~0x00 --&gt;  0xF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~00000000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&g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1111111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69 &amp; 0x55  --&gt;  0x4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1101001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&amp; 01010101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--&gt; 01000001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69 | 0x55  --&gt;  0x7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1101001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| 01010101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--&gt; 01111101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074600" y="323640"/>
            <a:ext cx="7035840" cy="572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rast: Logic Operations in C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44240" y="1066320"/>
            <a:ext cx="59562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ast to Logical Opera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||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ew 0 as “False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ything nonzero as “True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ways return 0 or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rly termin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s (char data typ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!0x41  --&gt;  0x0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!0x00  --&gt;  0x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!!0x41 --&gt;  0x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69 &amp;&amp; 0x55  --&gt;  0x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69 || 0x55  --&gt;  0x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 &amp;&amp; *p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oids null pointer acces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750760" y="323640"/>
            <a:ext cx="3683160" cy="572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hift Oper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44240" y="1066320"/>
            <a:ext cx="49654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06532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ft Shift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&lt;&lt; 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06532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ift bit-vecto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ef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osi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06532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ow away extra bits on lef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06532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l with 0’s on righ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06532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ght Shift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&gt;&gt; 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06532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ift bit-vecto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igh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osi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06532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ow away extra bits on righ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06532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cal shif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06532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l with 0’s on lef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06532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ithmetic shif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06532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licate most significant bit on righ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06532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ful with two’s complement integer represent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206532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5410080" y="1371600"/>
            <a:ext cx="2743200" cy="1828800"/>
            <a:chOff x="5410080" y="1371600"/>
            <a:chExt cx="2743200" cy="1828800"/>
          </a:xfrm>
        </p:grpSpPr>
        <p:sp>
          <p:nvSpPr>
            <p:cNvPr id="498" name=""/>
            <p:cNvSpPr/>
            <p:nvPr/>
          </p:nvSpPr>
          <p:spPr>
            <a:xfrm>
              <a:off x="6781680" y="1371600"/>
              <a:ext cx="137160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011000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410080" y="1371600"/>
              <a:ext cx="137160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rgument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781680" y="1828800"/>
              <a:ext cx="137160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00010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ourier New"/>
                </a:rPr>
                <a:t>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410080" y="1828800"/>
              <a:ext cx="137160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&lt;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781680" y="2286000"/>
              <a:ext cx="137160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urier New"/>
                </a:rPr>
                <a:t>00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011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410080" y="2286000"/>
              <a:ext cx="137160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g.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gt;&gt;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781680" y="2743200"/>
              <a:ext cx="137160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urier New"/>
                </a:rPr>
                <a:t>00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011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410080" y="2743200"/>
              <a:ext cx="137160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rith.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gt;&gt;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5410080" y="3581280"/>
            <a:ext cx="2743200" cy="1828800"/>
            <a:chOff x="5410080" y="3581280"/>
            <a:chExt cx="2743200" cy="1828800"/>
          </a:xfrm>
        </p:grpSpPr>
        <p:sp>
          <p:nvSpPr>
            <p:cNvPr id="507" name=""/>
            <p:cNvSpPr/>
            <p:nvPr/>
          </p:nvSpPr>
          <p:spPr>
            <a:xfrm>
              <a:off x="6781680" y="3581280"/>
              <a:ext cx="137160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101000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410080" y="3581280"/>
              <a:ext cx="137160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rgument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781680" y="4038480"/>
              <a:ext cx="137160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00010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ourier New"/>
                </a:rPr>
                <a:t>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410080" y="4038480"/>
              <a:ext cx="137160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&lt;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781680" y="4495680"/>
              <a:ext cx="137160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urier New"/>
                </a:rPr>
                <a:t>00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101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410080" y="4495680"/>
              <a:ext cx="137160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g.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gt;&gt;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781680" y="4952880"/>
              <a:ext cx="137160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urier New"/>
                </a:rPr>
                <a:t>11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101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410080" y="4952880"/>
              <a:ext cx="137160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rith.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gt;&gt;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71400" y="323640"/>
            <a:ext cx="4241880" cy="572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ol Stuff with X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343400" y="1447920"/>
            <a:ext cx="4267080" cy="2133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3920" indent="-22392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funny(int *x, int *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x = *x ^ *y;    /* #1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y = *x ^ *y;    /* #2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x = *x ^ *y;    /* #3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1676520" y="3987720"/>
          <a:ext cx="6248160" cy="246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987720"/>
                    <a:ext cx="6248160" cy="24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3365280" cy="19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wise Xor is form of add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 extra property that every value is its own additive inver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^ A =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63440" y="323640"/>
            <a:ext cx="52578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inary Represent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3944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10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 2 Number Repres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6680" indent="-208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resent 15213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11101101101101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6680" indent="-208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resent 1.20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1.0011001100110011[0011]…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6680" indent="-208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resent 1.5213 X 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4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1.1101101101101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X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ronic Implem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6680" indent="-208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sy to store with bistable el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6680" indent="-208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iably transmitted on noisy and inaccurate wire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0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0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0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0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0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6680" indent="-208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aightforward implementation of arithmetic 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763920" y="3733920"/>
            <a:ext cx="6856200" cy="2196720"/>
            <a:chOff x="763920" y="3733920"/>
            <a:chExt cx="6856200" cy="2196720"/>
          </a:xfrm>
        </p:grpSpPr>
        <p:sp>
          <p:nvSpPr>
            <p:cNvPr id="51" name=""/>
            <p:cNvSpPr/>
            <p:nvPr/>
          </p:nvSpPr>
          <p:spPr>
            <a:xfrm>
              <a:off x="1676520" y="5333760"/>
              <a:ext cx="5943600" cy="3808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676520" y="4343400"/>
              <a:ext cx="5943600" cy="3805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76520" y="4502160"/>
              <a:ext cx="5924520" cy="1136160"/>
            </a:xfrm>
            <a:custGeom>
              <a:avLst/>
              <a:gdLst/>
              <a:ahLst/>
              <a:rect l="l" t="t" r="r" b="b"/>
              <a:pathLst>
                <a:path w="3578" h="716">
                  <a:moveTo>
                    <a:pt x="0" y="706"/>
                  </a:moveTo>
                  <a:cubicBezTo>
                    <a:pt x="54" y="694"/>
                    <a:pt x="101" y="657"/>
                    <a:pt x="157" y="653"/>
                  </a:cubicBezTo>
                  <a:cubicBezTo>
                    <a:pt x="202" y="649"/>
                    <a:pt x="248" y="646"/>
                    <a:pt x="294" y="643"/>
                  </a:cubicBezTo>
                  <a:cubicBezTo>
                    <a:pt x="377" y="658"/>
                    <a:pt x="462" y="670"/>
                    <a:pt x="547" y="685"/>
                  </a:cubicBezTo>
                  <a:cubicBezTo>
                    <a:pt x="628" y="655"/>
                    <a:pt x="660" y="660"/>
                    <a:pt x="768" y="653"/>
                  </a:cubicBezTo>
                  <a:cubicBezTo>
                    <a:pt x="792" y="648"/>
                    <a:pt x="875" y="632"/>
                    <a:pt x="894" y="632"/>
                  </a:cubicBezTo>
                  <a:cubicBezTo>
                    <a:pt x="938" y="632"/>
                    <a:pt x="977" y="659"/>
                    <a:pt x="1021" y="664"/>
                  </a:cubicBezTo>
                  <a:cubicBezTo>
                    <a:pt x="1073" y="669"/>
                    <a:pt x="1125" y="670"/>
                    <a:pt x="1178" y="674"/>
                  </a:cubicBezTo>
                  <a:cubicBezTo>
                    <a:pt x="1209" y="670"/>
                    <a:pt x="1241" y="669"/>
                    <a:pt x="1273" y="664"/>
                  </a:cubicBezTo>
                  <a:cubicBezTo>
                    <a:pt x="1284" y="662"/>
                    <a:pt x="1298" y="661"/>
                    <a:pt x="1305" y="653"/>
                  </a:cubicBezTo>
                  <a:cubicBezTo>
                    <a:pt x="1324" y="628"/>
                    <a:pt x="1329" y="595"/>
                    <a:pt x="1347" y="569"/>
                  </a:cubicBezTo>
                  <a:cubicBezTo>
                    <a:pt x="1416" y="462"/>
                    <a:pt x="1419" y="362"/>
                    <a:pt x="1463" y="253"/>
                  </a:cubicBezTo>
                  <a:cubicBezTo>
                    <a:pt x="1480" y="209"/>
                    <a:pt x="1520" y="153"/>
                    <a:pt x="1547" y="116"/>
                  </a:cubicBezTo>
                  <a:cubicBezTo>
                    <a:pt x="1568" y="86"/>
                    <a:pt x="1605" y="60"/>
                    <a:pt x="1642" y="53"/>
                  </a:cubicBezTo>
                  <a:cubicBezTo>
                    <a:pt x="1704" y="40"/>
                    <a:pt x="1831" y="21"/>
                    <a:pt x="1831" y="21"/>
                  </a:cubicBezTo>
                  <a:cubicBezTo>
                    <a:pt x="1897" y="24"/>
                    <a:pt x="1964" y="26"/>
                    <a:pt x="2031" y="32"/>
                  </a:cubicBezTo>
                  <a:cubicBezTo>
                    <a:pt x="2045" y="33"/>
                    <a:pt x="2058" y="42"/>
                    <a:pt x="2073" y="42"/>
                  </a:cubicBezTo>
                  <a:cubicBezTo>
                    <a:pt x="2130" y="42"/>
                    <a:pt x="2194" y="20"/>
                    <a:pt x="2252" y="11"/>
                  </a:cubicBezTo>
                  <a:cubicBezTo>
                    <a:pt x="2274" y="17"/>
                    <a:pt x="2292" y="35"/>
                    <a:pt x="2315" y="42"/>
                  </a:cubicBezTo>
                  <a:cubicBezTo>
                    <a:pt x="2338" y="49"/>
                    <a:pt x="2364" y="49"/>
                    <a:pt x="2389" y="53"/>
                  </a:cubicBezTo>
                  <a:cubicBezTo>
                    <a:pt x="2450" y="36"/>
                    <a:pt x="2493" y="31"/>
                    <a:pt x="2557" y="42"/>
                  </a:cubicBezTo>
                  <a:cubicBezTo>
                    <a:pt x="2578" y="49"/>
                    <a:pt x="2598" y="71"/>
                    <a:pt x="2620" y="64"/>
                  </a:cubicBezTo>
                  <a:cubicBezTo>
                    <a:pt x="2654" y="52"/>
                    <a:pt x="2679" y="18"/>
                    <a:pt x="2715" y="11"/>
                  </a:cubicBezTo>
                  <a:cubicBezTo>
                    <a:pt x="2732" y="7"/>
                    <a:pt x="2750" y="3"/>
                    <a:pt x="2768" y="0"/>
                  </a:cubicBezTo>
                  <a:cubicBezTo>
                    <a:pt x="2929" y="161"/>
                    <a:pt x="2957" y="167"/>
                    <a:pt x="3041" y="411"/>
                  </a:cubicBezTo>
                  <a:cubicBezTo>
                    <a:pt x="3071" y="498"/>
                    <a:pt x="3069" y="597"/>
                    <a:pt x="3157" y="643"/>
                  </a:cubicBezTo>
                  <a:cubicBezTo>
                    <a:pt x="3289" y="619"/>
                    <a:pt x="3221" y="590"/>
                    <a:pt x="3347" y="716"/>
                  </a:cubicBezTo>
                  <a:cubicBezTo>
                    <a:pt x="3378" y="712"/>
                    <a:pt x="3411" y="716"/>
                    <a:pt x="3441" y="706"/>
                  </a:cubicBezTo>
                  <a:cubicBezTo>
                    <a:pt x="3452" y="701"/>
                    <a:pt x="3452" y="681"/>
                    <a:pt x="3462" y="674"/>
                  </a:cubicBezTo>
                  <a:cubicBezTo>
                    <a:pt x="3489" y="652"/>
                    <a:pt x="3545" y="653"/>
                    <a:pt x="3578" y="653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1447560" y="571500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1447560" y="434340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63920" y="55623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0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63920" y="51814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5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63920" y="45720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.8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63920" y="41907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.3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76520" y="3886200"/>
              <a:ext cx="2209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91120" y="3886200"/>
              <a:ext cx="228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81680" y="3886200"/>
              <a:ext cx="762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86200" y="3809880"/>
              <a:ext cx="0" cy="159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91120" y="380988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77120" y="380988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781680" y="3809880"/>
              <a:ext cx="0" cy="152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14600" y="3733920"/>
              <a:ext cx="473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952880" y="3733920"/>
              <a:ext cx="473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010280" y="373392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1447560" y="53337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1447560" y="472428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59000" y="323640"/>
            <a:ext cx="1066680" cy="63025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yte-Oriented Memory Organiz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3944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s Refer to Virtual Addre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eptually very large array of by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ually implemented with hierarchy of different memory typ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RAM, DRAM, dis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ly allocate for regions actually used by progr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Unix and Windows NT, address space private to particular “proc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 being execu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 can clobber its own data, but not that of oth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r + Run-Time System Control Allo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different program objects should be stor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ple mechanisms: static, stack, and hea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ny case, all allocation within single virtual address spa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28680" y="323640"/>
            <a:ext cx="4927680" cy="572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coding Byte Valu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65656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166840"/>
                <a:tab algn="l" pos="3487680"/>
                <a:tab algn="l" pos="40640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yte = 8 bi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166840"/>
                <a:tab algn="l" pos="3487680"/>
                <a:tab algn="l" pos="40640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ar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0000000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111111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166840"/>
                <a:tab algn="l" pos="3487680"/>
                <a:tab algn="l" pos="40640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imal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5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166840"/>
                <a:tab algn="l" pos="3487680"/>
                <a:tab algn="l" pos="40640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xadecima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0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166840"/>
                <a:tab algn="l" pos="3487680"/>
                <a:tab algn="l" pos="40640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 16 number represent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166840"/>
                <a:tab algn="l" pos="3487680"/>
                <a:tab algn="l" pos="40640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characters ‘0’ to ‘9’ and ‘A’ to ‘F’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166840"/>
                <a:tab algn="l" pos="3487680"/>
                <a:tab algn="l" pos="40640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FA1D37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C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A1D37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2166840"/>
                <a:tab algn="l" pos="3487680"/>
                <a:tab algn="l" pos="40640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a1d37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705720" y="1098360"/>
            <a:ext cx="1817640" cy="4518360"/>
            <a:chOff x="6705720" y="1098360"/>
            <a:chExt cx="1817640" cy="4518360"/>
          </a:xfrm>
        </p:grpSpPr>
        <p:grpSp>
          <p:nvGrpSpPr>
            <p:cNvPr id="77" name=""/>
            <p:cNvGrpSpPr/>
            <p:nvPr/>
          </p:nvGrpSpPr>
          <p:grpSpPr>
            <a:xfrm>
              <a:off x="6705720" y="1959120"/>
              <a:ext cx="1752480" cy="3657600"/>
              <a:chOff x="6705720" y="1959120"/>
              <a:chExt cx="1752480" cy="3657600"/>
            </a:xfrm>
          </p:grpSpPr>
          <p:sp>
            <p:nvSpPr>
              <p:cNvPr id="78" name=""/>
              <p:cNvSpPr/>
              <p:nvPr/>
            </p:nvSpPr>
            <p:spPr>
              <a:xfrm>
                <a:off x="6705720" y="19591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162920" y="19591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20120" y="19591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00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705720" y="21877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162920" y="21877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20120" y="21877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000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705720" y="24163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162920" y="24163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20120" y="24163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001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705720" y="26449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162920" y="26449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20120" y="26449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001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705720" y="28735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162920" y="28735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20120" y="28735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01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705720" y="31021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162920" y="31021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20120" y="31021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010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705720" y="33307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162920" y="33307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20120" y="33307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011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705720" y="35593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162920" y="35593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20120" y="35593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011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705720" y="37879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162920" y="37879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20120" y="37879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10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705720" y="40165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162920" y="40165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620120" y="40165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100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705720" y="42451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162920" y="42451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620120" y="42451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101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705720" y="44737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162920" y="44737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620120" y="44737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101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705720" y="47023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162920" y="47023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620120" y="47023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11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705720" y="49309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162920" y="49309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1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620120" y="49309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110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705720" y="51595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162920" y="51595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1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620120" y="51595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111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705720" y="53881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162920" y="53881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620120" y="53881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111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 rot="19282200">
              <a:off x="6784560" y="1501200"/>
              <a:ext cx="58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19282200">
              <a:off x="7196040" y="137124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cim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19282200">
              <a:off x="7671960" y="1426680"/>
              <a:ext cx="82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ina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39680" y="323640"/>
            <a:ext cx="3505320" cy="572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chine Wor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3944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chine Has “Word Size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minal size of integer-valued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luding addr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current machines are 32 bits (4 byte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 addresses to 4G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coming too small for memory-intensive applic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-end systems are 64 bits (8 byte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tentially address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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8 X 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1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y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hines support multiple data forma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ctions or multiples of word 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ways integral number of by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28480" y="323640"/>
            <a:ext cx="8128080" cy="572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ord-Oriented Memory Organiz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434340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166840"/>
                <a:tab algn="l" pos="3436920"/>
                <a:tab algn="l" pos="39956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resses Specify Byte Lo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166840"/>
                <a:tab algn="l" pos="3436920"/>
                <a:tab algn="l" pos="39956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ess of first byte in wor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166840"/>
                <a:tab algn="l" pos="3436920"/>
                <a:tab algn="l" pos="39956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esses of successive words differ by 4 (32-bit) or 8 (64-bi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737400" y="1523880"/>
            <a:ext cx="609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37400" y="1828800"/>
            <a:ext cx="609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37400" y="2133720"/>
            <a:ext cx="6094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737400" y="2438280"/>
            <a:ext cx="609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37400" y="2743200"/>
            <a:ext cx="609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37400" y="3048120"/>
            <a:ext cx="6094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37400" y="3352680"/>
            <a:ext cx="609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37400" y="3657600"/>
            <a:ext cx="609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37400" y="3962520"/>
            <a:ext cx="6094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37400" y="4267080"/>
            <a:ext cx="609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37400" y="4572000"/>
            <a:ext cx="609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37400" y="4876920"/>
            <a:ext cx="6094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499880" y="15238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99880" y="18288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499880" y="2133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499880" y="2438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499880" y="274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499880" y="30481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499880" y="3352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499880" y="3657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499880" y="3962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499880" y="42670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499880" y="45720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499880" y="4876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5791320" y="1523880"/>
            <a:ext cx="609120" cy="4876560"/>
            <a:chOff x="5791320" y="1523880"/>
            <a:chExt cx="609120" cy="4876560"/>
          </a:xfrm>
        </p:grpSpPr>
        <p:sp>
          <p:nvSpPr>
            <p:cNvPr id="158" name=""/>
            <p:cNvSpPr/>
            <p:nvPr/>
          </p:nvSpPr>
          <p:spPr>
            <a:xfrm>
              <a:off x="5791320" y="3962160"/>
              <a:ext cx="609120" cy="2438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91320" y="1523880"/>
              <a:ext cx="609120" cy="2438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4876920" y="1523880"/>
            <a:ext cx="609120" cy="4876560"/>
            <a:chOff x="4876920" y="1523880"/>
            <a:chExt cx="609120" cy="4876560"/>
          </a:xfrm>
        </p:grpSpPr>
        <p:sp>
          <p:nvSpPr>
            <p:cNvPr id="161" name=""/>
            <p:cNvSpPr/>
            <p:nvPr/>
          </p:nvSpPr>
          <p:spPr>
            <a:xfrm>
              <a:off x="4876920" y="1523880"/>
              <a:ext cx="609120" cy="1218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876920" y="2742840"/>
              <a:ext cx="609120" cy="12193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76920" y="3962160"/>
              <a:ext cx="609120" cy="12193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76920" y="5181480"/>
              <a:ext cx="609120" cy="1218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4725720" y="914400"/>
            <a:ext cx="8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2-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631920" y="99072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449840" y="9907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737400" y="5181480"/>
            <a:ext cx="609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499880" y="5181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0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37400" y="5486400"/>
            <a:ext cx="609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499880" y="54864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37400" y="5791320"/>
            <a:ext cx="6094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99880" y="57913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37400" y="6095880"/>
            <a:ext cx="609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499880" y="60958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0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40120" y="882720"/>
            <a:ext cx="8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4-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791320" y="2362320"/>
            <a:ext cx="609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91320" y="4724280"/>
            <a:ext cx="609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76920" y="1752480"/>
            <a:ext cx="609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76920" y="2971800"/>
            <a:ext cx="609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76920" y="4191120"/>
            <a:ext cx="609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76920" y="5410080"/>
            <a:ext cx="609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179440" y="323640"/>
            <a:ext cx="48258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ata Represent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3944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06440"/>
                <a:tab algn="l" pos="2349360"/>
                <a:tab algn="l" pos="2743200"/>
                <a:tab algn="l" pos="4114800"/>
                <a:tab algn="l" pos="4572000"/>
                <a:tab algn="l" pos="5830920"/>
                <a:tab algn="r" pos="6508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zes of C Objects (in Byte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406440"/>
                <a:tab algn="l" pos="2349360"/>
                <a:tab algn="l" pos="2743200"/>
                <a:tab algn="l" pos="4114800"/>
                <a:tab algn="l" pos="4572000"/>
                <a:tab algn="l" pos="5830920"/>
                <a:tab algn="r" pos="6508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Data Ty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q Alph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ical 32-bi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l IA3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406440"/>
                <a:tab algn="l" pos="2349360"/>
                <a:tab algn="l" pos="2743200"/>
                <a:tab algn="l" pos="4114800"/>
                <a:tab algn="l" pos="4572000"/>
                <a:tab algn="l" pos="5830920"/>
                <a:tab algn="r" pos="6508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406440"/>
                <a:tab algn="l" pos="2349360"/>
                <a:tab algn="l" pos="2743200"/>
                <a:tab algn="l" pos="4114800"/>
                <a:tab algn="l" pos="4572000"/>
                <a:tab algn="l" pos="5830920"/>
                <a:tab algn="r" pos="6508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ng i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406440"/>
                <a:tab algn="l" pos="2349360"/>
                <a:tab algn="l" pos="2743200"/>
                <a:tab algn="l" pos="4114800"/>
                <a:tab algn="l" pos="4572000"/>
                <a:tab algn="l" pos="5830920"/>
                <a:tab algn="r" pos="6508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406440"/>
                <a:tab algn="l" pos="2349360"/>
                <a:tab algn="l" pos="2743200"/>
                <a:tab algn="l" pos="4114800"/>
                <a:tab algn="l" pos="4572000"/>
                <a:tab algn="l" pos="5830920"/>
                <a:tab algn="r" pos="6508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ho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406440"/>
                <a:tab algn="l" pos="2349360"/>
                <a:tab algn="l" pos="2743200"/>
                <a:tab algn="l" pos="4114800"/>
                <a:tab algn="l" pos="4572000"/>
                <a:tab algn="l" pos="5830920"/>
                <a:tab algn="r" pos="6508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406440"/>
                <a:tab algn="l" pos="2349360"/>
                <a:tab algn="l" pos="2743200"/>
                <a:tab algn="l" pos="4114800"/>
                <a:tab algn="l" pos="4572000"/>
                <a:tab algn="l" pos="5830920"/>
                <a:tab algn="r" pos="6508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406440"/>
                <a:tab algn="l" pos="2349360"/>
                <a:tab algn="l" pos="2743200"/>
                <a:tab algn="l" pos="4114800"/>
                <a:tab algn="l" pos="4572000"/>
                <a:tab algn="l" pos="5830920"/>
                <a:tab algn="r" pos="6508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ng doub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/1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406440"/>
                <a:tab algn="l" pos="2349360"/>
                <a:tab algn="l" pos="2743200"/>
                <a:tab algn="l" pos="4114800"/>
                <a:tab algn="l" pos="4572000"/>
                <a:tab algn="l" pos="5830920"/>
                <a:tab algn="r" pos="6508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406440"/>
                <a:tab algn="l" pos="2349360"/>
                <a:tab algn="l" pos="2743200"/>
                <a:tab algn="l" pos="4114800"/>
                <a:tab algn="l" pos="4572000"/>
                <a:tab algn="l" pos="5830920"/>
                <a:tab algn="r" pos="6508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 poin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04920" y="323640"/>
            <a:ext cx="31748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yte Order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44240" y="1066320"/>
            <a:ext cx="831852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s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should bytes within multi-byte word be ordered in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ven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phas, PC’s are “Little Endian” machi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ast significant byte has lowest add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n’s, Mac’s are “Big Endian” machi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ast significant byte has highest add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iabl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as 4-byte representat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0123456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ess given by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amp;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10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752480" y="4648320"/>
            <a:ext cx="5486400" cy="609480"/>
            <a:chOff x="1752480" y="4648320"/>
            <a:chExt cx="5486400" cy="609480"/>
          </a:xfrm>
        </p:grpSpPr>
        <p:sp>
          <p:nvSpPr>
            <p:cNvPr id="188" name=""/>
            <p:cNvSpPr/>
            <p:nvPr/>
          </p:nvSpPr>
          <p:spPr>
            <a:xfrm>
              <a:off x="3124080" y="4648320"/>
              <a:ext cx="685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0x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809880" y="4648320"/>
              <a:ext cx="685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0x1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495680" y="4648320"/>
              <a:ext cx="685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0x1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81480" y="4648320"/>
              <a:ext cx="685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0x10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752480" y="4953240"/>
              <a:ext cx="6858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438280" y="4953240"/>
              <a:ext cx="6858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124080" y="4953240"/>
              <a:ext cx="6858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09880" y="4953240"/>
              <a:ext cx="6858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495680" y="4953240"/>
              <a:ext cx="6858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181480" y="4953240"/>
              <a:ext cx="6858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6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867280" y="4953240"/>
              <a:ext cx="6858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553080" y="4953240"/>
              <a:ext cx="6858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1752480" y="5486400"/>
            <a:ext cx="5486400" cy="609480"/>
            <a:chOff x="1752480" y="5486400"/>
            <a:chExt cx="5486400" cy="609480"/>
          </a:xfrm>
        </p:grpSpPr>
        <p:sp>
          <p:nvSpPr>
            <p:cNvPr id="201" name=""/>
            <p:cNvSpPr/>
            <p:nvPr/>
          </p:nvSpPr>
          <p:spPr>
            <a:xfrm>
              <a:off x="3124080" y="5486400"/>
              <a:ext cx="685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0x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09880" y="5486400"/>
              <a:ext cx="685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0x1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495680" y="5486400"/>
              <a:ext cx="685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0x1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181480" y="5486400"/>
              <a:ext cx="685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0x10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752480" y="5791320"/>
              <a:ext cx="6858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438280" y="5791320"/>
              <a:ext cx="6858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124080" y="5791320"/>
              <a:ext cx="6858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6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809880" y="5791320"/>
              <a:ext cx="6858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495680" y="5791320"/>
              <a:ext cx="6858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181480" y="5791320"/>
              <a:ext cx="6858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867280" y="5791320"/>
              <a:ext cx="6858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553080" y="5791320"/>
              <a:ext cx="6858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33520" y="4572000"/>
            <a:ext cx="177948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g End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3520" y="5410080"/>
            <a:ext cx="177948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ttle End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13:19:16Z</dcterms:created>
  <dc:creator>Randal E. Bryant</dc:creator>
  <dc:description/>
  <dc:language>en-US</dc:language>
  <cp:lastModifiedBy>Gregory Kesden</cp:lastModifiedBy>
  <cp:lastPrinted>1998-08-27T18:17:18Z</cp:lastPrinted>
  <dcterms:modified xsi:type="dcterms:W3CDTF">2002-01-18T22:43:45Z</dcterms:modified>
  <cp:revision>54</cp:revision>
  <dc:subject/>
  <dc:title>Bit-Level Operations  CS 213  Aug. 27, 1998</dc:title>
</cp:coreProperties>
</file>