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5236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84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144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84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144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4432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6000" y="640080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CS 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0568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– </a:t>
            </a:r>
            <a:fld id="{CFA54F79-2B54-42E6-9593-1F33FE76B638}" type="slidenum">
              <a:rPr b="0" lang="en-US" sz="1400" spc="-1" strike="noStrike">
                <a:solidFill>
                  <a:srgbClr val="474747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112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53920" y="1142640"/>
            <a:ext cx="37846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ts and Byt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17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040" y="2743200"/>
            <a:ext cx="51944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bit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ing information as b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/Hexadeci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represent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and 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t-level manip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essing in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Reading: 2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Problems: 2.35 and 2.3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33520"/>
            <a:ext cx="6324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06000" y="640080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CS 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0120" y="323640"/>
            <a:ext cx="7264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ing Data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6718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ing pointer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reates byt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6840" y="323640"/>
            <a:ext cx="71913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how_by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ecu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5680" y="35845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16080" y="323640"/>
            <a:ext cx="4952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Integ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441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8680" y="2438280"/>
            <a:ext cx="2614680" cy="1676160"/>
            <a:chOff x="688680" y="2438280"/>
            <a:chExt cx="2614680" cy="1676160"/>
          </a:xfrm>
        </p:grpSpPr>
        <p:grpSp>
          <p:nvGrpSpPr>
            <p:cNvPr id="227" name=""/>
            <p:cNvGrpSpPr/>
            <p:nvPr/>
          </p:nvGrpSpPr>
          <p:grpSpPr>
            <a:xfrm>
              <a:off x="688680" y="2438280"/>
              <a:ext cx="1572120" cy="1675800"/>
              <a:chOff x="688680" y="2438280"/>
              <a:chExt cx="1572120" cy="16758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914400" y="2895480"/>
                <a:ext cx="609480" cy="1218600"/>
                <a:chOff x="914400" y="2895480"/>
                <a:chExt cx="609480" cy="12186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914400" y="28954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914400" y="320004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914400" y="35046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14400" y="38095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688680" y="24382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516040" y="2438280"/>
              <a:ext cx="787320" cy="1676160"/>
              <a:chOff x="2516040" y="2438280"/>
              <a:chExt cx="787320" cy="16761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590920" y="2895480"/>
                <a:ext cx="609480" cy="1218960"/>
                <a:chOff x="2590920" y="2895480"/>
                <a:chExt cx="609480" cy="12189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590920" y="350496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90920" y="3809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90920" y="28954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0920" y="320004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516040" y="243828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523880" y="30477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3880" y="33526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23880" y="33526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523880" y="30477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8680" y="4495680"/>
            <a:ext cx="2614680" cy="1676160"/>
            <a:chOff x="688680" y="4495680"/>
            <a:chExt cx="2614680" cy="1676160"/>
          </a:xfrm>
        </p:grpSpPr>
        <p:grpSp>
          <p:nvGrpSpPr>
            <p:cNvPr id="246" name=""/>
            <p:cNvGrpSpPr/>
            <p:nvPr/>
          </p:nvGrpSpPr>
          <p:grpSpPr>
            <a:xfrm>
              <a:off x="688680" y="4495680"/>
              <a:ext cx="1572120" cy="1675800"/>
              <a:chOff x="688680" y="4495680"/>
              <a:chExt cx="1572120" cy="167580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914400" y="4952880"/>
                <a:ext cx="609480" cy="1218600"/>
                <a:chOff x="914400" y="4952880"/>
                <a:chExt cx="609480" cy="12186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914400" y="4952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914400" y="525744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914400" y="55620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914400" y="58669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688680" y="44956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516040" y="4495680"/>
              <a:ext cx="787320" cy="1676160"/>
              <a:chOff x="2516040" y="4495680"/>
              <a:chExt cx="787320" cy="16761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590920" y="4952880"/>
                <a:ext cx="609480" cy="1218960"/>
                <a:chOff x="2590920" y="4952880"/>
                <a:chExt cx="609480" cy="1218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590920" y="556236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590920" y="58672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590920" y="4952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590920" y="525744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516040" y="449568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523880" y="51051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54100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523880" y="54100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523880" y="51051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8080" y="586728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421880" y="2514600"/>
            <a:ext cx="4291560" cy="2895120"/>
            <a:chOff x="4421880" y="2514600"/>
            <a:chExt cx="4291560" cy="2895120"/>
          </a:xfrm>
        </p:grpSpPr>
        <p:grpSp>
          <p:nvGrpSpPr>
            <p:cNvPr id="267" name=""/>
            <p:cNvGrpSpPr/>
            <p:nvPr/>
          </p:nvGrpSpPr>
          <p:grpSpPr>
            <a:xfrm>
              <a:off x="6098040" y="2514600"/>
              <a:ext cx="2615400" cy="2895120"/>
              <a:chOff x="6098040" y="2514600"/>
              <a:chExt cx="2615400" cy="289512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6324480" y="4191120"/>
                <a:ext cx="609840" cy="1218600"/>
                <a:chOff x="6324480" y="4191120"/>
                <a:chExt cx="609840" cy="1218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324480" y="419112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324480" y="449568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24480" y="4800600"/>
                  <a:ext cx="60984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324480" y="510516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098040" y="2514600"/>
                <a:ext cx="2615400" cy="1676160"/>
                <a:chOff x="6098040" y="2514600"/>
                <a:chExt cx="2615400" cy="16761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6098040" y="2514600"/>
                  <a:ext cx="964080" cy="1675800"/>
                  <a:chOff x="6098040" y="2514600"/>
                  <a:chExt cx="964080" cy="1675800"/>
                </a:xfrm>
              </p:grpSpPr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6324480" y="2971800"/>
                    <a:ext cx="609480" cy="1218600"/>
                    <a:chOff x="6324480" y="2971800"/>
                    <a:chExt cx="609480" cy="12186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324480" y="29718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324480" y="3276360"/>
                      <a:ext cx="609480" cy="304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324480" y="358092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324480" y="388584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6098040" y="2514600"/>
                    <a:ext cx="964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lpha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926120" y="2514600"/>
                  <a:ext cx="787320" cy="1676160"/>
                  <a:chOff x="7926120" y="2514600"/>
                  <a:chExt cx="787320" cy="167616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8001000" y="2971800"/>
                    <a:ext cx="609480" cy="1218960"/>
                    <a:chOff x="8001000" y="2971800"/>
                    <a:chExt cx="609480" cy="121896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001000" y="3581280"/>
                      <a:ext cx="60948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001000" y="38862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8001000" y="29718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001000" y="3276360"/>
                      <a:ext cx="60948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>
                    <a:off x="7926120" y="2514600"/>
                    <a:ext cx="787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un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6933960" y="3124080"/>
                  <a:ext cx="106704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933960" y="3429000"/>
                  <a:ext cx="10670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33960" y="3429000"/>
                  <a:ext cx="10670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6933960" y="3124080"/>
                  <a:ext cx="106704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4421880" y="2514600"/>
              <a:ext cx="1902600" cy="1675800"/>
              <a:chOff x="4421880" y="2514600"/>
              <a:chExt cx="1902600" cy="16758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421880" y="2514600"/>
                <a:ext cx="925920" cy="1675800"/>
                <a:chOff x="4421880" y="2514600"/>
                <a:chExt cx="925920" cy="167580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4648320" y="2971800"/>
                  <a:ext cx="609480" cy="1218600"/>
                  <a:chOff x="4648320" y="2971800"/>
                  <a:chExt cx="609480" cy="12186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4648320" y="297180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648320" y="3276360"/>
                    <a:ext cx="6094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648320" y="358092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4648320" y="388584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4421880" y="25146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inux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257800" y="403848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57800" y="342900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57800" y="373392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57800" y="312408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90520" y="323640"/>
            <a:ext cx="5003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Poi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441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849440" y="228600"/>
            <a:ext cx="1017360" cy="2895480"/>
            <a:chOff x="7849440" y="228600"/>
            <a:chExt cx="1017360" cy="2895480"/>
          </a:xfrm>
        </p:grpSpPr>
        <p:grpSp>
          <p:nvGrpSpPr>
            <p:cNvPr id="308" name=""/>
            <p:cNvGrpSpPr/>
            <p:nvPr/>
          </p:nvGrpSpPr>
          <p:grpSpPr>
            <a:xfrm>
              <a:off x="8077320" y="1904760"/>
              <a:ext cx="609480" cy="1219320"/>
              <a:chOff x="8077320" y="1904760"/>
              <a:chExt cx="609480" cy="1219320"/>
            </a:xfrm>
          </p:grpSpPr>
          <p:sp>
            <p:nvSpPr>
              <p:cNvPr id="309" name=""/>
              <p:cNvSpPr/>
              <p:nvPr/>
            </p:nvSpPr>
            <p:spPr>
              <a:xfrm>
                <a:off x="8077320" y="19047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07732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077320" y="25146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77320" y="28191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849440" y="228600"/>
              <a:ext cx="1017360" cy="1675800"/>
              <a:chOff x="7849440" y="228600"/>
              <a:chExt cx="1017360" cy="16758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8077320" y="685800"/>
                <a:ext cx="609480" cy="1218600"/>
                <a:chOff x="8077320" y="685800"/>
                <a:chExt cx="609480" cy="12186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8077320" y="6858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077320" y="99036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077320" y="12949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77320" y="159984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7849440" y="228600"/>
                <a:ext cx="101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lpha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229320" y="3124080"/>
            <a:ext cx="814680" cy="1676160"/>
            <a:chOff x="229320" y="3124080"/>
            <a:chExt cx="814680" cy="1676160"/>
          </a:xfrm>
        </p:grpSpPr>
        <p:grpSp>
          <p:nvGrpSpPr>
            <p:cNvPr id="321" name=""/>
            <p:cNvGrpSpPr/>
            <p:nvPr/>
          </p:nvGrpSpPr>
          <p:grpSpPr>
            <a:xfrm>
              <a:off x="317520" y="3581280"/>
              <a:ext cx="609480" cy="1218960"/>
              <a:chOff x="317520" y="3581280"/>
              <a:chExt cx="609480" cy="1218960"/>
            </a:xfrm>
          </p:grpSpPr>
          <p:sp>
            <p:nvSpPr>
              <p:cNvPr id="322" name=""/>
              <p:cNvSpPr/>
              <p:nvPr/>
            </p:nvSpPr>
            <p:spPr>
              <a:xfrm>
                <a:off x="317520" y="41907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7520" y="44956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75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7520" y="38858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229320" y="31240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8074440" y="4038480"/>
            <a:ext cx="992880" cy="1676160"/>
            <a:chOff x="8074440" y="4038480"/>
            <a:chExt cx="992880" cy="1676160"/>
          </a:xfrm>
        </p:grpSpPr>
        <p:grpSp>
          <p:nvGrpSpPr>
            <p:cNvPr id="330" name=""/>
            <p:cNvGrpSpPr/>
            <p:nvPr/>
          </p:nvGrpSpPr>
          <p:grpSpPr>
            <a:xfrm>
              <a:off x="8251560" y="4495680"/>
              <a:ext cx="609480" cy="1218960"/>
              <a:chOff x="8251560" y="4495680"/>
              <a:chExt cx="609480" cy="1218960"/>
            </a:xfrm>
          </p:grpSpPr>
          <p:sp>
            <p:nvSpPr>
              <p:cNvPr id="331" name=""/>
              <p:cNvSpPr/>
              <p:nvPr/>
            </p:nvSpPr>
            <p:spPr>
              <a:xfrm>
                <a:off x="8251560" y="51051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251560" y="54100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51560" y="44956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51560" y="4800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8074440" y="4038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31720" y="323640"/>
            <a:ext cx="45212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Floa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34416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4640" y="579132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41008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51200" y="1447920"/>
            <a:ext cx="2614680" cy="1676160"/>
            <a:chOff x="4651200" y="1447920"/>
            <a:chExt cx="2614680" cy="1676160"/>
          </a:xfrm>
        </p:grpSpPr>
        <p:grpSp>
          <p:nvGrpSpPr>
            <p:cNvPr id="345" name=""/>
            <p:cNvGrpSpPr/>
            <p:nvPr/>
          </p:nvGrpSpPr>
          <p:grpSpPr>
            <a:xfrm>
              <a:off x="4651200" y="1447920"/>
              <a:ext cx="1572120" cy="1675800"/>
              <a:chOff x="4651200" y="1447920"/>
              <a:chExt cx="1572120" cy="16758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876920" y="1905120"/>
                <a:ext cx="609480" cy="1218600"/>
                <a:chOff x="4876920" y="1905120"/>
                <a:chExt cx="609480" cy="12186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876920" y="19051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76920" y="220968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B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76920" y="251424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876920" y="281916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4651200" y="144792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478560" y="1447920"/>
              <a:ext cx="787320" cy="1676160"/>
              <a:chOff x="6478560" y="1447920"/>
              <a:chExt cx="787320" cy="16761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6553440" y="1905120"/>
                <a:ext cx="609480" cy="1218960"/>
                <a:chOff x="6553440" y="1905120"/>
                <a:chExt cx="609480" cy="1218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53440" y="251460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B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53440" y="28195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53440" y="19051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53440" y="220968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6478560" y="144792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486400" y="205740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86400" y="236232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486400" y="236232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486400" y="205740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17600" y="323640"/>
            <a:ext cx="47498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549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ed by array of charac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haracter encoded in ASCII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 should be null-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ordering not a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files generally platform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 for different conventions of line termination charact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946480" y="1905120"/>
            <a:ext cx="2386080" cy="2286000"/>
            <a:chOff x="5946480" y="1905120"/>
            <a:chExt cx="2386080" cy="2286000"/>
          </a:xfrm>
        </p:grpSpPr>
        <p:sp>
          <p:nvSpPr>
            <p:cNvPr id="367" name=""/>
            <p:cNvSpPr/>
            <p:nvPr/>
          </p:nvSpPr>
          <p:spPr>
            <a:xfrm>
              <a:off x="5946480" y="190512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ux/Alph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45240" y="190512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82040" y="25149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7696440" y="2362320"/>
              <a:ext cx="609480" cy="1828800"/>
              <a:chOff x="7696440" y="2362320"/>
              <a:chExt cx="609480" cy="1828800"/>
            </a:xfrm>
          </p:grpSpPr>
          <p:sp>
            <p:nvSpPr>
              <p:cNvPr id="371" name=""/>
              <p:cNvSpPr/>
              <p:nvPr/>
            </p:nvSpPr>
            <p:spPr>
              <a:xfrm>
                <a:off x="769644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9644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96440" y="2362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96440" y="2667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644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9644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172200" y="2362320"/>
              <a:ext cx="609480" cy="1828800"/>
              <a:chOff x="6172200" y="2362320"/>
              <a:chExt cx="609480" cy="1828800"/>
            </a:xfrm>
          </p:grpSpPr>
          <p:sp>
            <p:nvSpPr>
              <p:cNvPr id="378" name=""/>
              <p:cNvSpPr/>
              <p:nvPr/>
            </p:nvSpPr>
            <p:spPr>
              <a:xfrm>
                <a:off x="61722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722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72200" y="2362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72200" y="2667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722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22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6782040" y="28195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82040" y="31244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82040" y="34293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2040" y="37339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82040" y="40388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Code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imple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encoded as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struction types and encodings for different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96680" y="323640"/>
            <a:ext cx="5791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44160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(int x, int 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+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649760" y="1447920"/>
            <a:ext cx="1238400" cy="2895480"/>
            <a:chOff x="4649760" y="1447920"/>
            <a:chExt cx="1238400" cy="2895480"/>
          </a:xfrm>
        </p:grpSpPr>
        <p:grpSp>
          <p:nvGrpSpPr>
            <p:cNvPr id="395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6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4649760" y="1447920"/>
              <a:ext cx="12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ph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02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6341400" y="1447920"/>
            <a:ext cx="1061640" cy="2895480"/>
            <a:chOff x="6341400" y="1447920"/>
            <a:chExt cx="1061640" cy="2895480"/>
          </a:xfrm>
        </p:grpSpPr>
        <p:grpSp>
          <p:nvGrpSpPr>
            <p:cNvPr id="407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8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6341400" y="144792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14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7200" y="3276720"/>
            <a:ext cx="4267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is example, Alpha &amp; Sun use two 4-byte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uses 7 instructions with lengths 1, 2, and 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20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21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32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712960" y="323640"/>
            <a:ext cx="37591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ebraic representation of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22860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&amp;B = 1 when both A=1 and B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600200" y="2971800"/>
          <a:ext cx="1397160" cy="137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1800"/>
                    <a:ext cx="13971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447920" y="4952880"/>
          <a:ext cx="1396800" cy="137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952880"/>
                    <a:ext cx="139680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228600" y="419112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A = 1 when 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22860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|B = 1 when either A=1 or B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791320" y="3048120"/>
          <a:ext cx="1396800" cy="137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048120"/>
                    <a:ext cx="1396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5626080" y="5257800"/>
          <a:ext cx="1397160" cy="137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26080" y="5257800"/>
                    <a:ext cx="13971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4419720" y="43434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183600" indent="-183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-Or (X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^B = 1 when either A=1 or B=1, but not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452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109480" y="335268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~B | ~A&amp;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^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25360" y="323640"/>
            <a:ext cx="6934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of 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37 MIT Master’s The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 about networks of relay swi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Don’t Computers Use Base 10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’s why fingers are known as “digit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representation for financial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carries through in scientific no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st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y to implement digital logic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23480" y="323640"/>
            <a:ext cx="71391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&amp; and |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, +, *, –, 0,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s a “r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 is “sum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is “product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identity f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identity fo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0,1}, |, &amp;, ~, 0,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 a “Boolean algebra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is “sum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s “product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is “complement” operation (not additive inver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identity f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identity fo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5400" y="323640"/>
            <a:ext cx="88138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ings &amp; Boolean Algebr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uta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B    =  B |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B  =  B +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  =  B &amp;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B  =  B *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ocia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|  B)  | C    =  A | (B |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 + C  =  A + (B +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&amp; B) &amp; C    =  A &amp; (B &amp;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* B) * C  =  A * (B *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duct distributes ove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B | C)  =  (A &amp; B) | (A &amp;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(B + C)  =  A * B + B *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m and product id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0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0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1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1  =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ero is product annihil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0  = 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0  =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ncellation of n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(~ A)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(– A)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g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m distributes ov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(B &amp; C)  =  (A | B) &amp; (A |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(B * C)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A + B) * (B +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dempo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A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+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A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*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(A &amp; B)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(A * B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A | B)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(A + B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ws of Comp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~A  =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+ –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g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ry element has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~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–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25160" y="323640"/>
            <a:ext cx="47372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&amp; and ^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0,1}, ^, &amp;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0, 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cal to integers mod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dentity operation: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=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B ^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 prod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=  B &amp;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^ B) ^ C  =  A ^ (B ^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prod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&amp; B) &amp; C  =  A &amp; (B &amp;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. over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B ^ C)  =  (A &amp; B) ^ (B &amp;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sum ident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0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prod. ident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1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product annihil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0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ve inver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 =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26880" y="323640"/>
            <a:ext cx="67309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Between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&amp; in terms of |, and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71480" y="323640"/>
            <a:ext cx="58420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Boolean Algebr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7480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pplied bit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of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 vector represents subset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0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0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11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0, 2, 3, 4, 5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11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2, 3, 4, 5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1, 3, 5, 7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60680" y="1905120"/>
            <a:ext cx="1552320" cy="916920"/>
            <a:chOff x="760680" y="1905120"/>
            <a:chExt cx="1552320" cy="916920"/>
          </a:xfrm>
        </p:grpSpPr>
        <p:sp>
          <p:nvSpPr>
            <p:cNvPr id="480" name=""/>
            <p:cNvSpPr/>
            <p:nvPr/>
          </p:nvSpPr>
          <p:spPr>
            <a:xfrm>
              <a:off x="7606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amp;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000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42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589480" y="1905120"/>
            <a:ext cx="1552320" cy="916920"/>
            <a:chOff x="2589480" y="1905120"/>
            <a:chExt cx="1552320" cy="916920"/>
          </a:xfrm>
        </p:grpSpPr>
        <p:sp>
          <p:nvSpPr>
            <p:cNvPr id="483" name=""/>
            <p:cNvSpPr/>
            <p:nvPr/>
          </p:nvSpPr>
          <p:spPr>
            <a:xfrm>
              <a:off x="25894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|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11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830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418280" y="1905120"/>
            <a:ext cx="1552320" cy="916920"/>
            <a:chOff x="4418280" y="1905120"/>
            <a:chExt cx="1552320" cy="916920"/>
          </a:xfrm>
        </p:grpSpPr>
        <p:sp>
          <p:nvSpPr>
            <p:cNvPr id="486" name=""/>
            <p:cNvSpPr/>
            <p:nvPr/>
          </p:nvSpPr>
          <p:spPr>
            <a:xfrm>
              <a:off x="44182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^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111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118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323040" y="1905120"/>
            <a:ext cx="1552320" cy="916920"/>
            <a:chOff x="6323040" y="1905120"/>
            <a:chExt cx="1552320" cy="916920"/>
          </a:xfrm>
        </p:grpSpPr>
        <p:sp>
          <p:nvSpPr>
            <p:cNvPr id="489" name=""/>
            <p:cNvSpPr/>
            <p:nvPr/>
          </p:nvSpPr>
          <p:spPr>
            <a:xfrm>
              <a:off x="632304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~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1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1664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8560" y="323640"/>
            <a:ext cx="55879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t-Level Operations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o any “integral”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arguments as bit v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applied bit-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x41 --&gt;  0x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x00 --&gt;  0x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&amp; 0x55  --&gt;  0x4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| 0x55  --&gt;  0x7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4600" y="323640"/>
            <a:ext cx="70358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st: Logic Operations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5956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0x41  --&gt;  0x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0x00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!0x41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&amp;&amp; 0x55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|| 0x55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&amp;&amp; *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s null pointer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50760" y="323640"/>
            <a:ext cx="36831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ift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965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bit-vect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f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bit-vect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shi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shi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410080" y="1371600"/>
            <a:ext cx="2743200" cy="1828800"/>
            <a:chOff x="5410080" y="1371600"/>
            <a:chExt cx="2743200" cy="1828800"/>
          </a:xfrm>
        </p:grpSpPr>
        <p:sp>
          <p:nvSpPr>
            <p:cNvPr id="498" name=""/>
            <p:cNvSpPr/>
            <p:nvPr/>
          </p:nvSpPr>
          <p:spPr>
            <a:xfrm>
              <a:off x="6781680" y="13716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10080" y="13716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gumen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81680" y="18288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1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10080" y="18288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&lt;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1680" y="22860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10080" y="22860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81680" y="27432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27432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ith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410080" y="3581280"/>
            <a:ext cx="2743200" cy="1828800"/>
            <a:chOff x="5410080" y="3581280"/>
            <a:chExt cx="2743200" cy="1828800"/>
          </a:xfrm>
        </p:grpSpPr>
        <p:sp>
          <p:nvSpPr>
            <p:cNvPr id="507" name=""/>
            <p:cNvSpPr/>
            <p:nvPr/>
          </p:nvSpPr>
          <p:spPr>
            <a:xfrm>
              <a:off x="6781680" y="35812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10080" y="35812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gumen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81680" y="40384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1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10080" y="40384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&lt;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1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100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81680" y="49528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0080" y="49528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ith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71400" y="323640"/>
            <a:ext cx="42418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 Stuff with X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676520" y="3987720"/>
          <a:ext cx="6248160" cy="24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987720"/>
                    <a:ext cx="6248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wise Xor is form of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xtra property that every value is its own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63440" y="32364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5213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110110110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.2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.0011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.5213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.110110110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store with bistabl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y transmitted on noisy and inaccurate wi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ightforward implementation of arithmetic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3920" y="3733920"/>
            <a:ext cx="6856200" cy="2196720"/>
            <a:chOff x="763920" y="3733920"/>
            <a:chExt cx="6856200" cy="2196720"/>
          </a:xfrm>
        </p:grpSpPr>
        <p:sp>
          <p:nvSpPr>
            <p:cNvPr id="51" name=""/>
            <p:cNvSpPr/>
            <p:nvPr/>
          </p:nvSpPr>
          <p:spPr>
            <a:xfrm>
              <a:off x="1676520" y="5333760"/>
              <a:ext cx="5943600" cy="380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6520" y="4343400"/>
              <a:ext cx="5943600" cy="38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4502160"/>
              <a:ext cx="5924520" cy="113616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447560" y="4343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3920" y="5562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3920" y="51814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3920" y="419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38862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3886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81680" y="38862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6200" y="3809880"/>
              <a:ext cx="0" cy="159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38098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38098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81680" y="3809880"/>
              <a:ext cx="0" cy="152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373392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373392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10280" y="3733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447560" y="5333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447560" y="47242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-Oriented Memory Organ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ly very large array of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ly implemented with hierarchy of different memory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Unix and Windows NT, address space private to particular “proc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ifferent program objects should be sto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mechanisms: static, stack, and he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y case, all allocation within single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8680" y="323640"/>
            <a:ext cx="49276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coding Byte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65656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0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mal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adecim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05720" y="1098360"/>
            <a:ext cx="1817640" cy="4518360"/>
            <a:chOff x="6705720" y="1098360"/>
            <a:chExt cx="1817640" cy="4518360"/>
          </a:xfrm>
        </p:grpSpPr>
        <p:grpSp>
          <p:nvGrpSpPr>
            <p:cNvPr id="77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78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rot="19282200">
              <a:off x="6784560" y="150120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282200">
              <a:off x="7196040" y="1371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282200">
              <a:off x="7671960" y="14266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39680" y="323640"/>
            <a:ext cx="3505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Wo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inal size of integer-valu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urrent machines are 32 bits (4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end systems are 64 bits (8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s support multiple data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d-Oriented Memory Organ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first byte in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s of successive words differ by 4 (32-bit) or 8 (64-b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58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61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79440" y="323640"/>
            <a:ext cx="4825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ata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q 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32-b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IA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04920" y="323640"/>
            <a:ext cx="3174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3185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should bytes within multi-byte word be ordered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s, PC’s are “Little Endian”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’s, Mac’s are “Big Endian”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4-byte represent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123456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188" name=""/>
            <p:cNvSpPr/>
            <p:nvPr/>
          </p:nvSpPr>
          <p:spPr>
            <a:xfrm>
              <a:off x="31240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56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814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24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98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56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30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01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</dc:creator>
  <dc:description/>
  <dc:language>en-US</dc:language>
  <cp:lastModifiedBy>Gregory Kesden</cp:lastModifiedBy>
  <cp:lastPrinted>1998-08-27T18:17:18Z</cp:lastPrinted>
  <dcterms:modified xsi:type="dcterms:W3CDTF">2002-01-18T22:43:45Z</dcterms:modified>
  <cp:revision>54</cp:revision>
  <dc:subject/>
  <dc:title>Bit-Level Operations  CS 213  Aug. 27, 1998</dc:title>
</cp:coreProperties>
</file>