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45E4-86A1-4DDC-90C3-6DE471A63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E512-2FE6-4BFC-850C-C91A0FC0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5EEE-EAA5-458F-BAC8-9C409AE3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9554-CBC3-496C-B7DB-BB7AB126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B837-55B7-41CC-B889-F7DC7268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0B46-D0B1-448C-903A-AA683302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AA3A-607B-4A90-989A-C65F27C6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CD8C-AC72-4F1E-BE73-23533A82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B281-A60F-4875-98DB-3E98906C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82D1-43A5-4FB6-98B8-DCC40DBA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02BC-D0C4-4D28-A771-F379E840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A411-82FC-4706-BD18-E4A7B9DE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33AE-5C26-4A64-8CBD-1CB4C8844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5-213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ecitation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12: 11/25/02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9625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cket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cho Client/Serv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1523880"/>
            <a:ext cx="38102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ie L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-ma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uluo@cs.cmu.e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ffice Hou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rsday 6:00 – 7: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an 84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19810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809880"/>
            <a:ext cx="365760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hat’s 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L7 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Proxy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ue: Thursday, Dec.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al: Tuesday, Dec. 17, 8:30am, Porter Hall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9400" y="105840"/>
            <a:ext cx="709128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Client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pen_clientfd()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connect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 the client creates a connection with th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lient process suspend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blocks) until the connection is created with the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resuming, the client is ready to exchange messages with the server via Unix I/O calls on the descript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ckf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501480" y="3774960"/>
            <a:ext cx="8471160" cy="2527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fd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socket descripto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stru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ent *hp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DNS host entry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stru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ckaddr_in serveraddr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server’s IP addres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Establish a connection with the serve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connect(clientfd, (SA *)&amp;serveraddr, sizeof(serveraddr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f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106200"/>
            <a:ext cx="59436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Server Main Routin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"/>
          <p:cNvSpPr/>
          <p:nvPr/>
        </p:nvSpPr>
        <p:spPr>
          <a:xfrm>
            <a:off x="323640" y="990720"/>
            <a:ext cx="8593200" cy="5204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gc,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cha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*argv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, connfd, port, clientle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stru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ckaddr_in clientadd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stru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ent *h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cha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haddr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= atoi(argv[1])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the server listens on a port pass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                 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on the command l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 = open_listenfd(por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whi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1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len = sizeof(clientaddr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 = Accept(listenfd, (SA *)&amp;clientaddr, &amp;client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p = Gethostbyaddr((const char *)&amp;clientaddr.sin_addr.s_add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zeof(clientaddr.sin_addr.s_addr), AF_INE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ddrp = inet_ntoa(clientaddr.sin_add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server connected to %s (%s)\n", hp-&gt;h_name, haddr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cho(conn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23840" y="106200"/>
            <a:ext cx="714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Server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pen_listenfd(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"/>
          <p:cNvSpPr/>
          <p:nvPr/>
        </p:nvSpPr>
        <p:spPr>
          <a:xfrm>
            <a:off x="627480" y="1231920"/>
            <a:ext cx="7861680" cy="3744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pen_listenfd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, optval = 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stru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ockaddr_in serveradd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Create a socket descriptor */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(listenfd = socket(AF_INET, SOCK_STREAM, 0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Eliminates "Address already in use" error from bind.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setsockopt(listenfd, SOL_SOCKET, SO_REUSEADDR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const voi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)&amp;optval ,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sizeo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... (more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39280" cy="10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Server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pen_listenfd()   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(cont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"/>
          <p:cNvSpPr/>
          <p:nvPr/>
        </p:nvSpPr>
        <p:spPr>
          <a:xfrm>
            <a:off x="399600" y="1523880"/>
            <a:ext cx="8349480" cy="4474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Listenfd will be an endpoint for all requests to 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on any IP address for this host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zero((char *) &amp;serveraddr, sizeof(serveraddr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family = AF_INET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addr.s_addr = htonl(INADDR_ANY)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port = htons((unsigned short)port)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bind(listenfd, (SA *)&amp;serveraddr, sizeof(serveraddr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Make it a listening socket ready to accep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connection requests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listen(listenfd, LISTENQ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880" y="1668240"/>
            <a:ext cx="8763120" cy="145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ocket(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s a socket descriptor on th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AF_IN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indicates that the socket is associated with Internet protocol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SOCK_STREA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selects a reliable byte stream connec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023840" y="105840"/>
            <a:ext cx="71424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Server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pen_listenfd(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socket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"/>
          <p:cNvSpPr/>
          <p:nvPr/>
        </p:nvSpPr>
        <p:spPr>
          <a:xfrm>
            <a:off x="930960" y="3429000"/>
            <a:ext cx="6764400" cy="1310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listening socket descriptor */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Create a socket descriptor */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(listenfd = socket(AF_INET, SOCK_STREAM, 0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0480" y="105840"/>
            <a:ext cx="726912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server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pen_listenfd()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setsockopt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the socket some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o rerun the server immediately after we kill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herwise we would have to wait about 15 se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iminates “Address already in use” error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ind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ongly suggest you do this for all your servers to simplify debugg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822600" y="2346480"/>
            <a:ext cx="7617960" cy="1067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Eliminates "Address already in use" error from bind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setsockopt(listenfd, SOL_SOCKET, SO_REUSEADDR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const voi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)&amp;optval ,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sizeo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8320" y="105840"/>
            <a:ext cx="726948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Server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pen_listenfd()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(initialize socket address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44600" y="1439640"/>
            <a:ext cx="854712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initialize the socket with the server’s Internet address (IP address and por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addr and port stored in network (big-endian) byte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onl()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verts longs from host byte order to network byte 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ons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vers shorts from host byte order to network byte ord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855000" y="2438280"/>
            <a:ext cx="7130160" cy="2040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stru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ockaddr_in serveraddr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server’s socket add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Listenfd will be an endpoint for all requests to 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on any IP address for this host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zero((char *) &amp;serveraddr, sizeof(serveraddr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family = AF_INET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addr.s_addr = htonl(INADDR_ANY)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port = htons((unsigned short)port)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60480" y="105840"/>
            <a:ext cx="726912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Server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pen_listenfd()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bind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43200"/>
            <a:ext cx="7772400" cy="31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bind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sociates the socket with the socket address we just cre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551520" y="2819520"/>
            <a:ext cx="7861680" cy="2284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listening socke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stru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ockaddr_in serveraddr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server’s socket add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listenfd will be an endpoint for all requests to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on any IP address for this host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bind(listenfd, (SA *)&amp;serveraddr, sizeof(serveraddr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1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33000" y="105840"/>
            <a:ext cx="672012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server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pen_listenfd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listen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4600" y="1676520"/>
            <a:ext cx="825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listen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dicates that this socket will accept connection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nect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requests from cl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 ready to enter the main server loop that accepts and processes client connection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323640" y="2664000"/>
            <a:ext cx="8593200" cy="2040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,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listening socke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Make it a listening socket ready to accept connection requests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listen(listenfd, LISTENQ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01600" y="106200"/>
            <a:ext cx="518148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Server: Main Loop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er loops endlessly, waiting for connection requests, then reading input from the client, and echoing the input back to the clien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639000" y="2666880"/>
            <a:ext cx="8105400" cy="2527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create and configure the listening socke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wh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1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Accept(): wait for a connection reques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echo(): read and echo input lines from client til EOF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Close(): close the connection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106200"/>
            <a:ext cx="72216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ent-Server Programming Model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and server communicate over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-to-point, full-duplex, and rel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uniquely identified by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ocket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iaddr:cliport, servaddr:serv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or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6-bit integer that identifies a proce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ephemeral port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igned automatically on client when client makes a connection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well-known port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sociated with some service provided by a serv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rt 7: echo serv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rt 23: telnet serv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rt 25: mail serv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rt 80: web serv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44600" y="990720"/>
            <a:ext cx="8254800" cy="52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accept()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cks waiting for a connection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cept(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s a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connected descrip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nf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with the same properties as the listening descripto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enf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when connection between client and server is 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I/O with the client will be done via the connected so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cept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fills in client’s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82520" y="106200"/>
            <a:ext cx="521964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Server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ccept(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1600200"/>
            <a:ext cx="8245440" cy="1797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istenfd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listening descripto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connected descripto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stru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ckaddr_in clientadd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len;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len =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sizeo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clientaddr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 = Accept(listenfd, (SA *)&amp;clientaddr, &amp;client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76640" y="106200"/>
            <a:ext cx="46353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ccept()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Illustrated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"/>
          <p:cNvSpPr/>
          <p:nvPr/>
        </p:nvSpPr>
        <p:spPr>
          <a:xfrm>
            <a:off x="3313080" y="1789200"/>
            <a:ext cx="128520" cy="128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70360" y="138060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2093760"/>
            <a:ext cx="128880" cy="128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9800" y="1717560"/>
            <a:ext cx="1059120" cy="58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11560" y="1422000"/>
            <a:ext cx="329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. Server blocks in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accept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, waiting for connection request on listening descriptor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listenf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06200" y="22474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49520" y="1704960"/>
            <a:ext cx="1059120" cy="58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13080" y="3344760"/>
            <a:ext cx="128520" cy="128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70360" y="29365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3649680"/>
            <a:ext cx="128880" cy="128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9800" y="3273480"/>
            <a:ext cx="1059120" cy="58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06200" y="38034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49520" y="3260880"/>
            <a:ext cx="1059120" cy="58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36840" y="340344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56920" y="3303720"/>
            <a:ext cx="38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. Client makes connection request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alling and blocking in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conn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00480" y="4906800"/>
            <a:ext cx="128520" cy="128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57760" y="449856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11280" y="5211720"/>
            <a:ext cx="128520" cy="128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835520"/>
            <a:ext cx="1058760" cy="58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3600" y="53654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36920" y="4822920"/>
            <a:ext cx="1058760" cy="58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57640" y="4558680"/>
            <a:ext cx="4010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3. Server returns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connf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accept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lient returns from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connect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 Connection is now established between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clientf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connf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24440" y="2819520"/>
            <a:ext cx="125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14880" y="5224320"/>
            <a:ext cx="128520" cy="128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70080" y="537804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50960" y="528336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7432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434340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58600" y="106200"/>
            <a:ext cx="746748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Server: Identifying the Clien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er can determine the domain name and IP address of the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399960" y="2362320"/>
            <a:ext cx="8593200" cy="2040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stru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hostent *hp;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pointer to DNS host entry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cha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haddrp;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pointer to dotted decimal string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p = Gethostbyaddr(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const cha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)&amp;clientaddr.sin_addr.s_add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sizeo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clientaddr.sin_addr.s_addr), AF_INE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ddrp = inet_ntoa(clientaddr.sin_add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server connected to %s (%s)\n", hp-&gt;h_name, haddr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57200" y="106200"/>
            <a:ext cx="467028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Server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cho(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er uses RIO to read and echo text lines until EOF is encoun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OF notification caused by client calling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ose(clientf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855360" y="2971800"/>
            <a:ext cx="7252200" cy="301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voi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cho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ze_t n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cha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MAXLINE]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t ri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readinitb(&amp;rio, connfd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wh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(n = Rio_readlineb(&amp;rio, buf, MAXLINE)) != 0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server received %d bytes\n", n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writen(connfd, buf, n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57200" y="106200"/>
            <a:ext cx="467028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eb Servers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s and servers communicate using  the HyperText Transfer Protocol (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TT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and server establish TCP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requests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responds with requested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and server close connection (usua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version is HTTP/1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5041800" y="4348080"/>
            <a:ext cx="1368360" cy="1287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54480" y="4648320"/>
            <a:ext cx="1749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3120" y="4267440"/>
            <a:ext cx="182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06760" y="5256360"/>
            <a:ext cx="1446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80680" y="5383440"/>
            <a:ext cx="1966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ont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36600" y="4348080"/>
            <a:ext cx="1370160" cy="1287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rows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570888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HTTP Protocol Anatomy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"/>
          <p:cNvSpPr/>
          <p:nvPr/>
        </p:nvSpPr>
        <p:spPr>
          <a:xfrm>
            <a:off x="166320" y="1206360"/>
            <a:ext cx="87271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x&gt;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telnet www.aol.com 80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lient: open connection to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ying 205.188.146.23...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lnet prints 3 lines to the 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ected to aol.co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scape character is '^]'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 / HTTP/1.1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lient: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request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: www.aol.com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lient: required HTTP/1.1 HOST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lient: empty line terminates header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TTP/1.0 200 OK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response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IME-Version: 1.0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followed by five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response he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e: Mon, 08 Jan 2001 04:59:42 G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NaviServer/2.0 AOLserver/2.3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ent-Type: text/html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expect HTML in th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sponse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tent-Length: 42092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expect 42,092 bytes in the resp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empty line (“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\r\n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”) terminates hd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 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first HTML line in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response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    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766 lines of HTML not sh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html&gt;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last HTML line in response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ection closed by foreign host.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er: closes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x&gt;              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lient: closes connection and termin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95440" y="106200"/>
            <a:ext cx="43941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Key Data Structur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usr/include/netinet/in.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cast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ckaddr_in 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to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ockaddr 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f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n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i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ce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752480"/>
            <a:ext cx="8305920" cy="3501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generic socket addres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stru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ckadd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unsigned shor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a_family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protocol family */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cha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a_data[14]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address data */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internet specific socket addres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stru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ckaddr_in 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unsigned shor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n_family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address family (always AF_INET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unsigned shor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n_port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port number (big-endian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stru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_addr sin_addr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IP address (big-endian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unsigned cha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n_zero[8]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pad to sizeof(struct sockaddr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98480" y="106200"/>
            <a:ext cx="398772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ore on Socke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ocket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descriptor for networking I/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ix uses the same abstraction for file I/O and network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and server communicate by reading/writing to/from socket descrip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robust I/O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cket I/O differs from file I/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complicated when application “opens” socket descrip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71200" y="106200"/>
            <a:ext cx="744228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ocket Interfac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35440" y="821880"/>
            <a:ext cx="8674200" cy="5578920"/>
            <a:chOff x="235440" y="821880"/>
            <a:chExt cx="8674200" cy="5578920"/>
          </a:xfrm>
        </p:grpSpPr>
        <p:sp>
          <p:nvSpPr>
            <p:cNvPr id="55" name=""/>
            <p:cNvSpPr/>
            <p:nvPr/>
          </p:nvSpPr>
          <p:spPr>
            <a:xfrm>
              <a:off x="2673360" y="82188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91080" y="837720"/>
              <a:ext cx="81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51360" y="1660320"/>
              <a:ext cx="0" cy="16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51360" y="3657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51360" y="43434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51360" y="50292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870520" y="16002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870520" y="22860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70520" y="29718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70520" y="3657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70520" y="43434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70520" y="50292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870520" y="57150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79960" y="348912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79960" y="554652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13120" y="4174920"/>
              <a:ext cx="129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812760" y="4860720"/>
              <a:ext cx="129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89240" y="1261800"/>
              <a:ext cx="1523880" cy="3812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oc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108760" y="1261800"/>
              <a:ext cx="1447560" cy="3812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oc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08760" y="1936800"/>
              <a:ext cx="1447560" cy="3808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bi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08760" y="2611440"/>
              <a:ext cx="1447560" cy="3808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08760" y="3319200"/>
              <a:ext cx="1447560" cy="3812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ccep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108760" y="5343480"/>
              <a:ext cx="1447560" cy="3808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readline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08760" y="3994200"/>
              <a:ext cx="1447560" cy="3808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readline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08760" y="4668840"/>
              <a:ext cx="1447560" cy="3808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wri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108760" y="6019560"/>
              <a:ext cx="1447560" cy="3812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lo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89240" y="4668840"/>
              <a:ext cx="1523880" cy="3808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readline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89240" y="3319200"/>
              <a:ext cx="1523880" cy="3812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onn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89240" y="3994200"/>
              <a:ext cx="1523880" cy="3808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wri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89240" y="5344920"/>
              <a:ext cx="1523880" cy="38124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lo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50120" y="2971800"/>
              <a:ext cx="1293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95440" y="527256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556320" y="62323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7013520" y="3489120"/>
              <a:ext cx="0" cy="27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6556320" y="3489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054200" y="4264560"/>
              <a:ext cx="1855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wait 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quest fr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xt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08960" y="1279440"/>
              <a:ext cx="152280" cy="1752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64840" y="1964880"/>
              <a:ext cx="176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pen_listenf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84320" y="1279440"/>
              <a:ext cx="152640" cy="243828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63360 h 2438280"/>
                <a:gd name="textAreaBottom" fmla="*/ 237492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35440" y="2314080"/>
              <a:ext cx="176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pen_clientf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106200"/>
            <a:ext cx="701028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Client Main Routine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"/>
          <p:cNvSpPr/>
          <p:nvPr/>
        </p:nvSpPr>
        <p:spPr>
          <a:xfrm>
            <a:off x="1463400" y="825480"/>
            <a:ext cx="6154920" cy="5691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#includ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“csapp.h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usage: ./echoclient host por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gc,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cha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*arg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fd, por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cha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host, buf[MAXLINE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t ri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 = argv[1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= atoi(argv[2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fd = Open_clientfd(host, por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readinitb(&amp;rio, client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whi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Fgets(buf, MAXLINE, stdin) != NULL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writen(clientfd, buf, strlen(buf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readlineb(&amp;rio, buf, MAXLINE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puts(buf, stdou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lientfd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2760" y="106200"/>
            <a:ext cx="69645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Client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pen_clientfd(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"/>
          <p:cNvSpPr/>
          <p:nvPr/>
        </p:nvSpPr>
        <p:spPr>
          <a:xfrm>
            <a:off x="323640" y="825480"/>
            <a:ext cx="8593200" cy="5691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n_clientfd(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cha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hostname,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f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stru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ent *h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stru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ckaddr_in serveradd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(clientfd = socket(AF_INET, SOCK_STREAM, 0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check errno for cause of erro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Fill in the server's IP address and port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(hp = gethostbyname(hostname)) == NUL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2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check h_errno for cause of erro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zero((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*) &amp;serveraddr, sizeof(serveraddr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family = AF_INE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copy((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*)hp-&gt;h_addr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*)&amp;serveraddr.sin_addr.s_addr, hp-&gt;h_length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port = htons(por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Establish a connection with the serve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connect(clientfd, (SA *) &amp;serveraddr, sizeof(serveraddr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f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58400" y="105840"/>
            <a:ext cx="709164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Client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pen_clientfd()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socket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8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ocket()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s a socket descriptor on the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AF_IN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dicates that the socket is associated with Internet protoc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SOCK_STREA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selects a reliable byte stream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083240" y="3429000"/>
            <a:ext cx="6764400" cy="1310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fd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socket descripto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…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(clientfd = socket(AF_INET, SOCK_STREAM, 0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check errno for cause of erro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9400" y="105840"/>
            <a:ext cx="709128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Echo Client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pen_clientfd()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(gethostbyname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4600" y="159984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the client builds the server’s Internet addre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702000" y="2362320"/>
            <a:ext cx="7435080" cy="3501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fd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socket descripto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stru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ent *hp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DNS host entry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struc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ckaddr_in serveraddr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server’s IP addres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Fill in the server's IP address and port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i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(hp = gethostbyname(hostname)) == NUL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retur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2;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check h_errno for cause of erro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zero((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*) &amp;serveraddr, sizeof(serveraddr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family = AF_INE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copy((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*)hp-&gt;h_addr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00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*)&amp;serveraddr.sin_addr.s_addr, hp-&gt;h_length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port = htons(por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22:58:45Z</dcterms:created>
  <dc:creator>Anusha</dc:creator>
  <dc:description/>
  <dc:language>en-US</dc:language>
  <cp:lastModifiedBy>SCS</cp:lastModifiedBy>
  <dcterms:modified xsi:type="dcterms:W3CDTF">2002-11-24T23:53:18Z</dcterms:modified>
  <cp:revision>851</cp:revision>
  <dc:subject/>
  <dc:title>Call Chain Example</dc:title>
</cp:coreProperties>
</file>