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E24-7A62-46C7-830A-B3281ACC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148-6575-4243-B96E-336272E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0CC-FA50-4945-8BE7-5FBE9749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82F-6A50-4C79-B8DF-BAE9BA63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42C-9CAB-4D51-A70B-5190D2A7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C1B-89A0-4EF3-A18D-77ECB34B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4E1-5CCC-42AF-81C3-CAC8AE4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637-7F1A-40AA-9040-756EE601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DD5-5732-45CC-9C2C-B2007D9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901-AA1F-463C-B323-2E9A122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E4F-4234-448C-8280-0F403CD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0FC-CB61-4EE9-BFDE-A189E852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C4B-D762-4032-AE41-FF2AB2B8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5-213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cit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12: 11/25/02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ket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o Client/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523880"/>
            <a:ext cx="38102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9880"/>
            <a:ext cx="3657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’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7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x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ue: Thursday, Dec.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: Tuesday, Dec. 17, 8:30am, Porter Hall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400" y="105840"/>
            <a:ext cx="70912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connec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the client creates a connection with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ent process suspend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locks) until the connection is created with the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resuming, the client is ready to exchange messages with the server via Unix I/O calls on the descrip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f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3774960"/>
            <a:ext cx="8471160" cy="252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IP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nect(client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1062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 Main Routin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c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106200"/>
            <a:ext cx="714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n_listenfd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optval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optval 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3928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   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con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ind(listen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cket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socket descriptor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F_I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OCK_STR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lects a reliable byte stream conn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23840" y="105840"/>
            <a:ext cx="714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ocke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930960" y="3429000"/>
            <a:ext cx="6764400" cy="131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0480" y="105840"/>
            <a:ext cx="7269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tsockop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the socket som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o rerun the server immediately after we kill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 we would have to wait about 15 se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n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ly suggest you do this for all your servers to simplify debug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22600" y="2346480"/>
            <a:ext cx="7617960" cy="106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liminates "Address already in use" error from bin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optval 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8320" y="105840"/>
            <a:ext cx="7269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initialize socket addres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547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initialize the socket with the server’s Internet address (IP address and po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addr and port stored in network (big-endian) byt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onl(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s longs from host byte order to network byte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ons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vers shorts from host byte order to network byte ord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55000" y="2438280"/>
            <a:ext cx="713016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socket add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0480" y="105840"/>
            <a:ext cx="7269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bin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3200"/>
            <a:ext cx="77724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ind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es the socket with the socket address we just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51520" y="2819520"/>
            <a:ext cx="7861680" cy="2284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socket add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ind(listen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000" y="105840"/>
            <a:ext cx="6720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isten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4600" y="1676520"/>
            <a:ext cx="825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isten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cates that this socket will accept conne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requests from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ready to enter the main server loop that accepts and processes client connection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23640" y="2664000"/>
            <a:ext cx="859320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01600" y="106200"/>
            <a:ext cx="51814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Main 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loops endlessly, waiting for connection requests, then reading input from the client, and echoing the input back to the 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39000" y="2666880"/>
            <a:ext cx="8105400" cy="252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06200"/>
            <a:ext cx="7221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ent-Server Programming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and server communicate ove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, full-duplex, and rel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uniquely identified by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cket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addr:cliport, servaddr:serv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r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6-bit integer that identifies a proc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phemeral por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ed automatically on client when client makes a connection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ell-known por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some service provided by a ser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7: echo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23: telnet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25: mail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80: web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4600" y="990720"/>
            <a:ext cx="82548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waiting for a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s a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connected descrip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the same properties as the listening descrip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enf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when connection between client and server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I/O with the client will be done via the connected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fills in client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2520" y="106200"/>
            <a:ext cx="52196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cept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sten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onnected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6640" y="106200"/>
            <a:ext cx="46353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llustrate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3313080" y="1789200"/>
            <a:ext cx="128520" cy="128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0360" y="1380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093760"/>
            <a:ext cx="128880" cy="128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9800" y="171756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1560" y="1422000"/>
            <a:ext cx="329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Server blocks i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waiting for connection request on listening descriptor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ste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6200" y="2247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9520" y="170496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3080" y="3344760"/>
            <a:ext cx="128520" cy="128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0360" y="29365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649680"/>
            <a:ext cx="12888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9800" y="327348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6200" y="3803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49520" y="326088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6840" y="340344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6920" y="3303720"/>
            <a:ext cx="38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Client makes connection request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lling and blocking i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00480" y="4906800"/>
            <a:ext cx="128520" cy="1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7760" y="44985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1172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835520"/>
            <a:ext cx="10587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3600" y="5365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6920" y="4822920"/>
            <a:ext cx="10587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57640" y="4558680"/>
            <a:ext cx="401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Server returns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returns from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Connection is now established betwee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4440" y="281952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14880" y="5224320"/>
            <a:ext cx="128520" cy="128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0080" y="5378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0960" y="528336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743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3434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8600" y="1062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Identifying the Cli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can determine the domain name and IP address of th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9960" y="2362320"/>
            <a:ext cx="859320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ent *hp;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inter to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addrp;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inter to dotted decimal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7200" y="106200"/>
            <a:ext cx="467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cho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uses RIO to read and echo text lines until EOF is encoun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 notification caused by client calling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clientf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855360" y="2971800"/>
            <a:ext cx="7252200" cy="30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7200" y="106200"/>
            <a:ext cx="467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b Serv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and servers communicate using  the HyperText Transfer Protocol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establish TC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requests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responds with requested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close connection (usua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version is HTTP/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5041800" y="4348080"/>
            <a:ext cx="136836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4480" y="4648320"/>
            <a:ext cx="17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3120" y="42674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6760" y="5256360"/>
            <a:ext cx="1446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80680" y="53834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6600" y="4348080"/>
            <a:ext cx="137016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5708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TTP Protocol Anatom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telnet www.aol.com 8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205.188.146.23...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aol.com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empty line terminates head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ollowed by fiv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HTML in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mpty line (“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\r\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) terminates h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irst HTML line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closes connection and ter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95440" y="106200"/>
            <a:ext cx="43941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y Data Stru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include/netinet/in.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as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addr_in 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t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addr 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305920" cy="350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generic socket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_family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rotocol family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_data[14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ddress data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internet specific socket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family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ddress family (always AF_INET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port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rt number (big-endian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_addr sin_addr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IP address (big-endian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zero[8]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ad to sizeof(struct sockaddr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8480" y="106200"/>
            <a:ext cx="39877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re on Socke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cke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descriptor for networking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 uses the same abstraction for file I/O and network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communicate by reading/writing to/from socket descrip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robust I/O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ket I/O differs from file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complicated when application “opens” socket descrip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1200" y="106200"/>
            <a:ext cx="7442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cket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35440" y="821880"/>
            <a:ext cx="8674200" cy="5578920"/>
            <a:chOff x="235440" y="821880"/>
            <a:chExt cx="8674200" cy="5578920"/>
          </a:xfrm>
        </p:grpSpPr>
        <p:sp>
          <p:nvSpPr>
            <p:cNvPr id="55" name=""/>
            <p:cNvSpPr/>
            <p:nvPr/>
          </p:nvSpPr>
          <p:spPr>
            <a:xfrm>
              <a:off x="2673360" y="8218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91080" y="83772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1360" y="16603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51360" y="3657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1360" y="434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1360" y="5029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600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0520" y="2286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70520" y="2971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0520" y="3657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0520" y="434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5029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70520" y="5715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9960" y="34891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9960" y="5546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13120" y="41749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812760" y="48607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9240" y="126180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08760" y="126180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8760" y="193680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08760" y="261144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08760" y="331920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8760" y="534348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08760" y="399420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8760" y="466884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8760" y="601956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9240" y="4668840"/>
              <a:ext cx="1523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9240" y="331920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9240" y="3994200"/>
              <a:ext cx="1523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9240" y="534492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0120" y="29718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5440" y="5272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6320" y="623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13520" y="348912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556320" y="3489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54200" y="42645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8960" y="1279440"/>
              <a:ext cx="152280" cy="1752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64840" y="19648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n_listenf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4320" y="1279440"/>
              <a:ext cx="152640" cy="2438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440" y="23140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n_clientf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06200"/>
            <a:ext cx="701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 Main Routine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1463400" y="825480"/>
            <a:ext cx="6154920" cy="56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c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, p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ost, 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Open_clientfd(host, 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wh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2760" y="106200"/>
            <a:ext cx="69645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323640" y="825480"/>
            <a:ext cx="8593200" cy="56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ostname,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nect(clientfd, (SA *) 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8400" y="105840"/>
            <a:ext cx="70916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ocke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cket()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socket descriptor on th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F_I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at the socket is associated with Internet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OCK_STR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lects a reliable byte stream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083240" y="3429000"/>
            <a:ext cx="6764400" cy="131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400" y="105840"/>
            <a:ext cx="70912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gethostbynam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the client builds the server’s Internet addr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" y="2362320"/>
            <a:ext cx="7435080" cy="350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IP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1-24T23:53:18Z</dcterms:modified>
  <cp:revision>851</cp:revision>
  <dc:subject/>
  <dc:title>Call Chain Example</dc:title>
</cp:coreProperties>
</file>