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2A9-1F05-44AA-A647-C967A385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DAA-97A2-4103-8F69-077E57BC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487-3A04-46E6-827C-6DC51B30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31A-714E-44D7-A2DE-B345D961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1C9-D2EE-48AF-8086-B68F2845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F23-BC95-4762-A740-35B0C59C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09A-FA70-4A8F-AD1B-9E0DB110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D80-9663-4114-8B2D-76D2CB9D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BCBA-A824-468D-A070-0E80B4FE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777-219B-4FF3-9C07-335ED37F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09A-5CA9-483F-B7ED-7E9AFB6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2EF-6263-4251-B9D4-164F03E4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2A34-DC78-41B9-9B00-29A0D6B1F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5-213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citation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12: 11/25/02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62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cket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ho Client/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523880"/>
            <a:ext cx="38102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09880"/>
            <a:ext cx="36576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at’s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7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Prox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ue: Thursday, Dec.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l: Tuesday, Dec. 17, 8:30am, Porter Hall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9400" y="105840"/>
            <a:ext cx="70912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Client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client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connect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 the client creates a connection with th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ient process suspend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locks) until the connection is created with the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resuming, the client is ready to exchange messages with the server via Unix I/O calls on the descript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ckf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3774960"/>
            <a:ext cx="8471160" cy="252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ocket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ent *hp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DNS host entr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serveraddr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erver’s IP addr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nnect(clientfd, (SA *)&amp;serveraddr, sizeof(serveraddr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106200"/>
            <a:ext cx="59436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 Main Routin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323640" y="990720"/>
            <a:ext cx="8593200" cy="5204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gc,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*argv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, connfd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ent *h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haddr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the server listens on a port pass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whi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23840" y="106200"/>
            <a:ext cx="714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/>
          <p:nvPr/>
        </p:nvSpPr>
        <p:spPr>
          <a:xfrm>
            <a:off x="627480" y="1231920"/>
            <a:ext cx="7861680" cy="3744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pen_listenfd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, optval = 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reate a socket descriptor *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listen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etsockopt(listenfd, SOL_SOCKET, SO_REUSE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onst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)&amp;optval ,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ize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3928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   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(cont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399600" y="1523880"/>
            <a:ext cx="8349480" cy="4474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bind(listenfd, (SA *)&amp;serveraddr, sizeof(serveraddr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listen(listenfd, LISTENQ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668240"/>
            <a:ext cx="876312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ocket(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s a socket descriptor on th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AF_IN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indicates that the socket is associated with Internet protoc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OCK_STREA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selects a reliable byte stream conne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023840" y="105840"/>
            <a:ext cx="71424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ocket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930960" y="3429000"/>
            <a:ext cx="6764400" cy="1310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ing socket descriptor *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reate a socket descriptor *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listen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0480" y="105840"/>
            <a:ext cx="72691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etsockopt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the socket som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o rerun the server immediately after we kill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wise we would have to wait about 15 se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iminates “Address already in use” error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n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ongly suggest you do this for all your servers to simplify debugg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822600" y="2346480"/>
            <a:ext cx="7617960" cy="106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Eliminates "Address already in use" error from bind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etsockopt(listenfd, SOL_SOCKET, SO_REUSE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onst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)&amp;optval ,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ize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8320" y="105840"/>
            <a:ext cx="72694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(initialize socket address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4600" y="1439640"/>
            <a:ext cx="854712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initialize the socket with the server’s Internet address (IP address and por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addr and port stored in network (big-endian) byt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onl()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ts longs from host byte order to network byte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ons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vers shorts from host byte order to network byte ord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55000" y="2438280"/>
            <a:ext cx="7130160" cy="204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ockaddr_in serveraddr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erver’s socket add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0480" y="105840"/>
            <a:ext cx="72691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bin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43200"/>
            <a:ext cx="77724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ind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sociates the socket with the socket address we just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51520" y="2819520"/>
            <a:ext cx="7861680" cy="2284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ing sock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ockaddr_in serveraddr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erver’s socket add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fd will be an endpoint for all requests to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bind(listenfd, (SA *)&amp;serveraddr, sizeof(serveraddr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000" y="105840"/>
            <a:ext cx="67201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listen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4600" y="1676520"/>
            <a:ext cx="825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listen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dicates that this socket will accept connecti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requests from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 ready to enter the main server loop that accepts and processes client connection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23640" y="2664000"/>
            <a:ext cx="8593200" cy="204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,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ing sock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Make it a listening socket ready to accept connection request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listen(listenfd, LISTENQ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01600" y="106200"/>
            <a:ext cx="51814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Main Loop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er loops endlessly, waiting for connection requests, then reading input from the client, and echoing the input back to the 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39000" y="2666880"/>
            <a:ext cx="8105400" cy="252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reate and configure the listening sock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Accept(): wait for a connection reques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echo(): read and echo input lines from client til EO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lose(): close the connection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06200"/>
            <a:ext cx="72216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ent-Server Programming Mod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and server communicate over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-to-point, full-duplex, and rel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uniquely identified by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ocket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addr:cliport, servaddr:serv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r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6-bit integer that identifies a proc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phemeral port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ed automatically on client when client makes a connection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well-known port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sociated with some service provided by a serv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 7: echo 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 23: telnet 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 25: mail 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 80: web 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4600" y="990720"/>
            <a:ext cx="825480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accept()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s waiting for a connection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(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s a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connected descrip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f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the same properties as the listening descrip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enf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when connection between client and server is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I/O with the client will be done via the connected 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fills in client’s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82520" y="106200"/>
            <a:ext cx="52196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ccept(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600200"/>
            <a:ext cx="8245440" cy="1797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istenfd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ing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onnected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ize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lientadd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76640" y="106200"/>
            <a:ext cx="46353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ccept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Illustrated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"/>
          <p:cNvSpPr/>
          <p:nvPr/>
        </p:nvSpPr>
        <p:spPr>
          <a:xfrm>
            <a:off x="3313080" y="1789200"/>
            <a:ext cx="128520" cy="128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0360" y="13806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093760"/>
            <a:ext cx="128880" cy="128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9800" y="1717560"/>
            <a:ext cx="105912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11560" y="1422000"/>
            <a:ext cx="329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Server blocks in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 waiting for connection request on listening descriptor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stenf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6200" y="22474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9520" y="1704960"/>
            <a:ext cx="105912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3080" y="3344760"/>
            <a:ext cx="128520" cy="128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0360" y="29365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3649680"/>
            <a:ext cx="128880" cy="128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9800" y="3273480"/>
            <a:ext cx="105912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6200" y="38034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49520" y="3260880"/>
            <a:ext cx="105912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6840" y="340344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56920" y="3303720"/>
            <a:ext cx="38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 Client makes connection request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alling and blocking in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conn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00480" y="4906800"/>
            <a:ext cx="128520" cy="128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57760" y="44985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11280" y="5211720"/>
            <a:ext cx="128520" cy="128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835520"/>
            <a:ext cx="105876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3600" y="53654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36920" y="4822920"/>
            <a:ext cx="105876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57640" y="4558680"/>
            <a:ext cx="4010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Server returns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connf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 returns from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connec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 Connection is now established between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clientf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connf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24440" y="2819520"/>
            <a:ext cx="12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14880" y="5224320"/>
            <a:ext cx="128520" cy="128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70080" y="53780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50960" y="528336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7432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3434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58600" y="106200"/>
            <a:ext cx="74674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Identifying the Clie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er can determine the domain name and IP address of the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99960" y="2362320"/>
            <a:ext cx="8593200" cy="204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hostent *hp;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pointer to DNS host entr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haddrp;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pointer to dotted decimal string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p = Gethostbyaddr(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onst 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)&amp;clientaddr.sin_addr.s_add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ize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lientaddr.sin_addr.s_addr), AF_IN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7200" y="106200"/>
            <a:ext cx="46702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cho(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er uses RIO to read and echo text lines until EOF is encoun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OF notification caused by client calling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ose(clientf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855360" y="2971800"/>
            <a:ext cx="7252200" cy="30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MAXLINE]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n = Rio_readlineb(&amp;rio, buf, MAXLINE)) != 0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7200" y="106200"/>
            <a:ext cx="46702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eb Server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s and servers communicate using  the HyperText Transfer Protocol 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T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and server establish TCP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requests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responds with requested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and server close connection (usua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version is HTTP/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5041800" y="4348080"/>
            <a:ext cx="136836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4480" y="4648320"/>
            <a:ext cx="174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3120" y="4267440"/>
            <a:ext cx="182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6760" y="5256360"/>
            <a:ext cx="1446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80680" y="5383440"/>
            <a:ext cx="196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ont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6600" y="4348080"/>
            <a:ext cx="137016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ows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57088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TTP Protocol Anatom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"/>
          <p:cNvSpPr/>
          <p:nvPr/>
        </p:nvSpPr>
        <p:spPr>
          <a:xfrm>
            <a:off x="166320" y="1206360"/>
            <a:ext cx="8727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telnet www.aol.com 8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: open connection to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ing 205.188.146.23...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lnet prints 3 lines to the 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ed to aol.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 / HTTP/1.1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: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ques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: www.aol.com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: required HTTP/1.1 HOST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: empty line terminates head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0 200 OK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ME-Version: 1.0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followed by fiv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h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: Mon, 08 Jan 2001 04:59:42 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NaviServer/2.0 AOLserver/2.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xpect HTML in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Length: 42092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xpect 42,092 bytes in the resp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mpty line (“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\r\n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) terminates hd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first HTML line in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766 lines of HTML not sh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tml&gt;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last HTML line in 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closed by foreign host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closes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&gt;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: closes connection and ter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95440" y="106200"/>
            <a:ext cx="43941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ey Data Structu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include/netinet/in.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cas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ckaddr_in 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to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ckaddr 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752480"/>
            <a:ext cx="8305920" cy="3501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generic socket addr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unsigned sho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_family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protocol family *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_data[14]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address data *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internet specific socket addr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unsigned sho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n_family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address family (always AF_INET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unsigned sho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n_port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port number (big-endian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_addr sin_addr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IP address (big-endian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unsigned 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n_zero[8]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pad to sizeof(struct sockaddr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8480" y="106200"/>
            <a:ext cx="39877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re on Socke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ocket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descriptor for networking I/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x uses the same abstraction for file I/O and network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and server communicate by reading/writing to/from socket descrip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robust I/O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cket I/O differs from file I/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complicated when application “opens” socket descrip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1200" y="106200"/>
            <a:ext cx="74422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cket Interfac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35440" y="821880"/>
            <a:ext cx="8674200" cy="5578920"/>
            <a:chOff x="235440" y="821880"/>
            <a:chExt cx="8674200" cy="5578920"/>
          </a:xfrm>
        </p:grpSpPr>
        <p:sp>
          <p:nvSpPr>
            <p:cNvPr id="55" name=""/>
            <p:cNvSpPr/>
            <p:nvPr/>
          </p:nvSpPr>
          <p:spPr>
            <a:xfrm>
              <a:off x="2673360" y="8218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91080" y="83772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51360" y="166032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51360" y="3657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51360" y="43434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51360" y="50292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70520" y="16002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70520" y="22860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70520" y="29718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70520" y="3657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70520" y="43434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70520" y="50292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70520" y="57150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79960" y="34891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9960" y="55465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13120" y="417492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812760" y="486072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89240" y="1261800"/>
              <a:ext cx="152388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08760" y="1261800"/>
              <a:ext cx="144756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08760" y="1936800"/>
              <a:ext cx="144756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08760" y="2611440"/>
              <a:ext cx="144756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08760" y="3319200"/>
              <a:ext cx="144756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08760" y="5343480"/>
              <a:ext cx="144756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08760" y="3994200"/>
              <a:ext cx="144756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08760" y="4668840"/>
              <a:ext cx="144756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08760" y="6019560"/>
              <a:ext cx="144756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9240" y="4668840"/>
              <a:ext cx="152388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89240" y="3319200"/>
              <a:ext cx="152388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89240" y="3994200"/>
              <a:ext cx="152388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9240" y="5344920"/>
              <a:ext cx="152388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50120" y="2971800"/>
              <a:ext cx="129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95440" y="527256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56320" y="62323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013520" y="348912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6556320" y="3489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54200" y="4264560"/>
              <a:ext cx="185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ait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xt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8960" y="1279440"/>
              <a:ext cx="152280" cy="1752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64840" y="1964880"/>
              <a:ext cx="17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n_listenf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4320" y="1279440"/>
              <a:ext cx="152640" cy="24382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5440" y="2314080"/>
              <a:ext cx="17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n_clientf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06200"/>
            <a:ext cx="70102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Client Main Routine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"/>
          <p:cNvSpPr/>
          <p:nvPr/>
        </p:nvSpPr>
        <p:spPr>
          <a:xfrm>
            <a:off x="1463400" y="825480"/>
            <a:ext cx="6154920" cy="56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#includ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“csapp.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gc,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, por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host, buf[MAXLINE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 = argv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2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 = Open_clientfd(host, 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lient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whi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gets(buf, MAXLINE, stdin) != NULL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2760" y="106200"/>
            <a:ext cx="69645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Client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clientfd(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323640" y="825480"/>
            <a:ext cx="8593200" cy="56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clientfd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hostname,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ent *h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client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heck 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hp = gethostbyname(hostname)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2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heck h_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copy(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hp-&gt;h_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&amp;serveraddr.sin_addr.s_addr, hp-&gt;h_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nnect(clientfd, (SA *) &amp;serveraddr, sizeof(serveraddr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58400" y="105840"/>
            <a:ext cx="709164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Client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client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ocket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ocket()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s a socket descriptor on the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AF_IN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icates that the socket is associated with Internet 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OCK_STREA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selects a reliable byte stream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083240" y="3429000"/>
            <a:ext cx="6764400" cy="1310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ocket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client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heck 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9400" y="105840"/>
            <a:ext cx="70912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Client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client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gethostbynam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4600" y="15998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the client builds the server’s Internet addr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702000" y="2362320"/>
            <a:ext cx="7435080" cy="3501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ocket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ent *hp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DNS host entr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serveraddr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erver’s IP addr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hp = gethostbyname(hostname)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2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heck h_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copy(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hp-&gt;h_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&amp;serveraddr.sin_addr.s_addr, hp-&gt;h_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SCS</cp:lastModifiedBy>
  <dcterms:modified xsi:type="dcterms:W3CDTF">2002-11-24T23:53:18Z</dcterms:modified>
  <cp:revision>851</cp:revision>
  <dc:subject/>
  <dc:title>Call Chain Example</dc:title>
</cp:coreProperties>
</file>