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982-B420-43CD-A4E4-9CABBBD3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943-8E00-4744-B4D4-B4BE127B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FB4-1CB5-47D3-9B29-AAB15DE8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40E-B2D7-4ADA-8C86-288A4F79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23C-D756-4ED5-98FA-AB90F16F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F0C-E01A-46AF-93D3-DCCF1C0E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302-2DF9-4573-AA96-482FD1D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505-CBCD-4AAA-BBDD-F37A25E7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F8E-4CF3-40BF-BA58-330C503B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08D-61C4-4CAD-9000-EAA39CE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56F-98A8-43A9-A739-8577166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FA7-FCE3-44AF-8F6C-D41A3E4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C6B-702C-42BE-AF61-ACEE14CC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11: 11/1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ust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11 Practic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36576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6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alloc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Nov.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: Thursday, Dec.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descrip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ways return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turn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of the 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Representation of Open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ren inherit from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fil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c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ount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information in th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32880" y="2666880"/>
            <a:ext cx="5941440" cy="366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pen file table entries and separate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ads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9720" y="2631960"/>
            <a:ext cx="5791320" cy="37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 = %c\n”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inherits the parent’s 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and parent share an open table entry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 ==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hare a file posi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u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fl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escriptor 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ies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old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724120"/>
            <a:ext cx="5486400" cy="350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redirec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So the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the file position offset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y Use Robust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ignal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text lines from a term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network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buffering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Unbuffered Input/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data directly between memory and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pplication level 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Buffered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 read buff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reading lines from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a line(stop 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both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 and bina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string is NOT null-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0560" y="1023120"/>
            <a:ext cx="6788160" cy="520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leaving RIO Rea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interleave calls on the same file descriptor between the two sets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 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functions have upper case equivale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.), which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unction encounters a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reads are no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also handle interrupted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y do not ignore EPIPE errors, which are not fatal errors for Lab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s from Chapter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8120" y="2362320"/>
            <a:ext cx="5529960" cy="3111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18T17:15:48Z</dcterms:modified>
  <cp:revision>762</cp:revision>
  <dc:subject/>
  <dc:title>Call Chain Example</dc:title>
</cp:coreProperties>
</file>