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BBC-3AC2-4606-A861-E08E6DFC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009-4043-4C4F-B8F9-611DBEBC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AB3-882E-4F99-9D45-66D6E297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05B-33BC-4261-B0F3-15E54F13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13F-5B47-4364-9DA5-749B13DC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AD0-73FE-4943-8E14-E9F1AC7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CEC-CB89-40E2-903B-37A1198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BD6-E0E7-4E4F-B8E0-475A776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70D-0548-4CE8-BBF9-3BBA639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81C-CCC5-43DD-86F9-5E4A2DDE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044-94BA-4A6E-85DB-03FE1D8A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004-2E9A-4B3A-8E11-F0425247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620A-996A-43C2-A1EE-D1FB417D0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11: 11/1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ust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11 Practic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36576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6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alloc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Nov.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: Thursday, Dec.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descrip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ways return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turn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of the 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Representation of Open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ren inherit from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fil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c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ount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information in th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32880" y="2666880"/>
            <a:ext cx="5941440" cy="366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pen file table entries and separate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ads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9720" y="2631960"/>
            <a:ext cx="5791320" cy="37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 = %c\n”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inherits the parent’s 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and parent share an open table entry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 ==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hare a file posi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u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fl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escriptor 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ies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old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724120"/>
            <a:ext cx="5486400" cy="350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redirec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So the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the file position offset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y Use Robust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ignal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text lines from a term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network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buffering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Unbuffered Input/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data directly between memory and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pplication level 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Buffered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 read buff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reading lines from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a line(stop 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both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 and bina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string is NOT null-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0560" y="1023120"/>
            <a:ext cx="6788160" cy="520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leaving RIO Rea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interleave calls on the same file descriptor between the two sets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 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functions have upper case equivale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.), which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unction encounters a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reads are no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also handle interrupted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y do not ignore EPIPE errors, which are not fatal errors for Lab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s from Chapter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8120" y="2362320"/>
            <a:ext cx="5529960" cy="3111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18T17:15:48Z</dcterms:modified>
  <cp:revision>762</cp:revision>
  <dc:subject/>
  <dc:title>Call Chain Example</dc:title>
</cp:coreProperties>
</file>