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193-2F61-4DC0-886B-142D21EE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19A-AFDA-42B7-A610-71102EA9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CC5-CA77-47F5-8E97-8D0C8F7C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C6B-4E65-40EE-9EAB-9206FC24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CE3-E52B-46A0-9989-3E85CF5D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AA9-0503-4476-9B08-73583586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D39-DA45-4055-A22D-3E700D0D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2C9-2264-48EE-B96C-FE653861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2D7-5C30-4EF9-B162-6AB9E314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EB3-830C-45F6-8BE0-F38B6C29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3B61-1219-4A65-AB8C-1F824ACA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974-2898-4253-AA55-32F65E4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DF91-2947-47BF-8C45-AE3D7AA70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5-213 Recitation 11: 11/18/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ust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pter 11 Practice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1981080"/>
            <a:ext cx="38102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nie L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uluo@cs.cmu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ffice Hou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ursday 6:00 – 7: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an 84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9810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352680"/>
            <a:ext cx="365760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What’s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6 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Malloc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ue: Thursday, Nov. 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7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x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e: Thursday, Dec. 5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: Tuesday, Dec. 17, 8:30am, Porter Hall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ault descriptor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descriptor 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descriptor 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er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descriptor 2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ways returns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lowest, unope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cri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s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s 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so return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of the progra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d2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Kernel Representation of Open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or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per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ildren inherit from pa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fil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et of all ope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by all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fc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ount of file descriptors pointing to each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-nod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ains information in the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sta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by all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that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s of six ASCII characters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.  Then what is the output of the following progra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32880" y="2666880"/>
            <a:ext cx="5941440" cy="366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, fd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escripto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pen file table entries and separate file posi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so reads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ir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the outpu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before, suppose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s of six ASCII characters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.  Then what is the output of the following progra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39720" y="2631960"/>
            <a:ext cx="5791320" cy="374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Fork()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, &amp;c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, &amp;c, 1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“c = %c\n”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 inherits the parent’s descriptor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ld and parent share an open table entry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fcnt ==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share a file posi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utpu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use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dup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refl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descriptor 5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up2(int oldfd, int newf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pies descriptor table entry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oldf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descriptor table entry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newf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up2(5,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dup2(5,STDIN_FILEN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ing that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sts of six ASCII characters 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.  Then what is the output of the following progr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724120"/>
            <a:ext cx="5486400" cy="3501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p2(fd2, f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swer to Problem 11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redirec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So the sec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the file position offset of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fd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hy Use Robust I/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s interrupted system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ignal hand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es short 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ountering end-of-file (EOF) on reads (disk f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ing text lines from a termi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ing and writing network sockets or Unix pi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in network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ject to short 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buffering constra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 network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o: Unbuffered Input/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data directly between memory and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pplication level buff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for reading/writing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inar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o/from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put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returns short count on E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ver returns shor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o: Buffered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init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int f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only once per open 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ocia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 read buff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line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void* usrbuf, size_t maxlen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reading lines from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ile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 a line(stop 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‘\n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xlen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hars from file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rminate the text line with null (zero) chara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number of chars read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n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void* usrbuf, size_t 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both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text and bina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ult string is NOT null-termin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number of chars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io_readlin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0560" y="1023120"/>
            <a:ext cx="6788160" cy="520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rio_readlineb(rio_t *rp,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usrbuf, size_t maxle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, r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, *bufp = usrbu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n = 1; n &lt; maxlen; n++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(rc = rio_read(rp, &amp;c, 1)) == 1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++ =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c == '\n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 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c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n ==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no data re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some data was re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rro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terleaving RIO Rea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interleave calls on the same file descriptor between the two sets of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each set it is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89320" y="2946240"/>
            <a:ext cx="2161800" cy="132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ini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lin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94280" y="2973240"/>
            <a:ext cx="170460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wr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io Error Che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functions have upper case equivalent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c.), which c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function encounters an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reads are no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s also handle interrupted system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they do not ignore EPIPE errors, which are not fatal errors for Lab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s from Chapter 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oblem 11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progra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8120" y="2362320"/>
            <a:ext cx="5529960" cy="3111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, fd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fd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baz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fd2 = %d\n", fd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22:58:45Z</dcterms:created>
  <dc:creator>Anusha</dc:creator>
  <dc:description/>
  <dc:language>en-US</dc:language>
  <cp:lastModifiedBy>Andrew Carnegie</cp:lastModifiedBy>
  <dcterms:modified xsi:type="dcterms:W3CDTF">2002-11-18T17:15:48Z</dcterms:modified>
  <cp:revision>762</cp:revision>
  <dc:subject/>
  <dc:title>Call Chain Example</dc:title>
</cp:coreProperties>
</file>