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781-2ADC-4880-A239-6C92EB64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CBC-38C0-42CD-9A07-C539642C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74F-E7D2-4B79-A3F3-51DE6465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8B8-A6BB-40C6-A1B3-0263586D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979-411B-43E4-8B02-91B73E06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61E-4DB9-407D-8C80-FEFF85E3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9C6-061F-4226-B412-793668A1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6EC-5689-4239-BD0B-252DF854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0FC-E681-4510-B21C-A45FAE6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248-7671-4D6A-B71E-15A86D91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E96-D6B6-4D0C-AA79-4CF9AD0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900-4E81-4F90-B0C9-56F9FF2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52E6-A22C-4361-93C1-3FF910D64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nuxcentral.com/linux/man-pages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9: 11/04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ux man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962520"/>
            <a:ext cx="396252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 2: Tuesday, Nov.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Review session next Monday eve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6 Due: Friday, Nov.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week’s le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xt book: 1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eed I/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data between main memory and external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evices modeled as files i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drives, terminals,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nix file is a sequence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/Output performed by reading and writing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ernel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Kernel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level I/O functions provided by the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stand system concepts (process, V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impossible/inappropriate to use standard library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 such as file size, crea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ing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kernel I/O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maintains all fil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s only keep track of file descriptor returned from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n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st 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pathnam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 is a small integer – file descrip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file descrip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d 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unistd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open with each shell-created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Input (descriptor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Output (descriptor 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Error (descriptor 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Read and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read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a file (fd) to memory (bu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current posi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aintained by 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gge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reater than fil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“EOF charact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writ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memory (buf) to a file (f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os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frees data structures created by file open (if 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ores file descriptor to a pool of available descri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a process terminat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closes all open files and free memory (for this p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ndard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I/O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,fclose, fread,fwrite, fgets,fput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forma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ntual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s the kernel I/O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s an open file a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er to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ion for file descriptor and for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eam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use stream bu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expensive Unix system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buffered_io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295280"/>
            <a:ext cx="7238880" cy="266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46479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ystem calls (kernel I/O routine)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3352680"/>
            <a:ext cx="723888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s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prints out info about all the system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le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Library equivalent of file 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ormatted I/O routines: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print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sc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an extra first argument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rintf(const char *format, ..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printf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const char *format, 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args) == fprint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args) == fscan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 Which Should I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tandard I/O routines for disk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ll duplex: can input and output on the sam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sty restrictions when use stdio on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 cannot follow output (and vice versa) without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flush,  fseek, fsetpos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w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ush the buffer for the first rest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wo streams for the second rest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do not use standard I/O functions for network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verage of 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last year’s exa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 optim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 miss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 miss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 to the special rec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. 11/11 ev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 T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shing a 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 buff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d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line-buffered when it points to a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 lines not appear until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flus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produce unexpected results, esp. with debugging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may also be input buffering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ints to a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shing a File Syst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ces a write of all buffe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_io_flush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3505320"/>
            <a:ext cx="7238880" cy="28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flush(stdou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Rev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86000"/>
            <a:ext cx="723888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“213", 3213) = 3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fered_io_fl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Man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ecify the list of processes that kill should sig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l.  Each pid can be one of four things.   A  pr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ss  name in which case processes called that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1: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ff that you could run from a Unix prom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p(1), bash(1), kill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2: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king with the Kern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(2), open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3: Library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 Librar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3), scanf(3), fflush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pecify a man se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n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2 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Tahoma"/>
                <a:hlinkClick r:id="rId1"/>
              </a:rPr>
              <a:t>http://www.linuxcentral.com/linux/man-pag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should always check erro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s can help in mo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sure to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debugging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 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grouped into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eck return code of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only for 5 points in your lab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subtle ways that things can go wro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status info kernel provides 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ach in this class: 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error handling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NS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return value when encounter error (always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global variabl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 erro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e cause of th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for text descrip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only indicate success (0) or failure (non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results returned in function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cod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NS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a NULL pointer on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global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_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h_err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Wra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40384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ix B: csapp.c and csapp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-Style, for kil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es exactly like the base function if n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s informative message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371600"/>
            <a:ext cx="72388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ot All Errors are Fa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s are not always the correct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 all information as fatal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the program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an error is not f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124080"/>
            <a:ext cx="7238880" cy="289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pid = waitpid(-1, NULL, 0))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coverage in Lecture 24, and Chapter 11 in text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folks were having some issues with the Shell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lush? printf? fprintf? scanf? fscan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se issues will pop up with the Malloc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drew Carnegie</cp:lastModifiedBy>
  <dcterms:modified xsi:type="dcterms:W3CDTF">2002-11-04T17:49:47Z</dcterms:modified>
  <cp:revision>668</cp:revision>
  <dc:subject/>
  <dc:title>Call Chain Example</dc:title>
</cp:coreProperties>
</file>