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2708-01C5-4593-B1AF-8ADBE6467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1F88-79D8-410F-8549-F14D49727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9DD9-431C-4C4B-BDAA-C46661E16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316D-B049-4AA5-84D9-8CCE1DA7C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DEE5-8FAC-429E-99FF-4E8B1CAD6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035B-2FAF-4E55-8E7C-37A09894E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6B5D-7A65-48DA-8837-C1EDCD6A9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C298-C150-4541-9D36-90038B97B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A74D-2D44-4CD3-9A37-7C6D55E76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78D0-BD22-4FF8-90BF-9445007C6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B4BD-B214-4BE1-9276-AB7C8F202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4C03-FDAD-4EE0-BF37-86751345E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36AB6-8886-47A6-A602-8FFDF0C886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linuxcentral.com/linux/man-pages/" TargetMode="Externa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15-213 Recitation 9: 11/04/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625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Out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/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nux man p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724280" y="1981080"/>
            <a:ext cx="3810240" cy="29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nnie Lu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-mai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uluo@cs.cmu.e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Office Hour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ursday 6:00 – 7: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an 84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0" y="1981080"/>
            <a:ext cx="0" cy="39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3962520"/>
            <a:ext cx="3962520" cy="27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Rem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 2: Tuesday, Nov. 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Review session next Monday eve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6 Due: Friday, Nov. 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is week’s lec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ext book: 10.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Unix I/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need I/O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py data between main memory and external de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devices modeled as files in Un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k drives, terminals,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Unix file is a sequence of by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put/Output performed by reading and writing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Kernel I/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Kernel I/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ystem level I/O functions provided by the ker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derstand system concepts (process, VM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impossible/inappropriate to use standard library I/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o such as file size, creation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tworking programm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kernel I/O work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ernel maintains all file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ps only keep track of file descriptor returned from ker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unctions – Op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open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const cha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*pathname,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lag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turn value is a small integer – file descript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file descripto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ed in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&lt;unistd.h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ault open with each shell-created proces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ndard Input (descriptor =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ndard Output (descriptor =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ndard Error (descriptor = 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unctions – Read and Wr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size_t read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d,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buf, size_t coun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py count &gt;0 bytes from a file (fd) to memory (buf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current position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maintained by kern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igger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EO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when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greater than file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“EOF character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size_t write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d,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buf, size_t coun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py count &gt;0 bytes from memory (buf) to a file (f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unctions – Clo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close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d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ernel frees data structures created by file open (if an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tores file descriptor to a pool of available descrip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if a process terminates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ernel closes all open files and free memory (for this pro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tandard I/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I/O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pen,fclose, fread,fwrite, fgets,fputs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canf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formated I/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Eventually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lls the kernel I/O rout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s an open file as a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trea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pointer to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traction for file descriptor and for a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tream 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use stream buff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 expensive Unix system call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xample: buffered_io.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14400" y="1295280"/>
            <a:ext cx="7238880" cy="2667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#includ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&lt;stdio.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in(vo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1"); printf("5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2"); printf("1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3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120" y="4647960"/>
            <a:ext cx="815364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many system calls (kernel I/O routine) used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Use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strace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to Che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3352680"/>
            <a:ext cx="7238880" cy="1447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nix&gt; strace ./buffered_io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rite(1, "15213", 515213) = 5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8153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tra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&lt;program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uns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&lt;program&gt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prints out info about all the system ca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ru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ac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uffered_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ile Stre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Library equivalent of file descrip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ormatted I/O routines: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fprint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fscan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ke an extra first argument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FILE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printf(const char *format, ...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fprintf(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FILE *stream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, const char *format, ...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f(args) == fprintf(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stdou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arg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canf(args) == fscanf(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stdi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arg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o Which Should I U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standard I/O routines for disks and termi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ll duplex: can input and output on the same 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sty restrictions when use stdio on s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put cannot follow output (and vice versa) without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fflush,  fseek, fsetpos,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rewi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ush the buffer for the first restri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two streams for the second restri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do not use standard I/O functions for network s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overage of Exam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last year’s exam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 optimiz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che sim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che miss 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che miss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rtual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e to the special reci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. 11/11 eve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tion TB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lushing a Fil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tder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not buff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tdou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line-buffered when it points to a term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tial lines not appear until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fflus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ex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produce unexpected results, esp. with debugging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may also be input buffering when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td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oints to a term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lushing a File System (cont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ces a write of all buffere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fflush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FI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*stream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flush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stdou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uffered_io_flush.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3505320"/>
            <a:ext cx="7238880" cy="2895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#includ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&lt;stdio.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in(vo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1"); printf("5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fflush(stdout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2"); printf("1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3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strace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Revi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2286000"/>
            <a:ext cx="7238880" cy="2133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nix&gt; strace ./buffered_io_flush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rite(1, "15", 215) =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rite(1, “213", 3213) = 3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ru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ac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uffered_io_fl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Unix Man p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unix&gt; man ki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KILL(1)             Linux Programmer's Manual             KILL(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kill - terminate a pro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YNOP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kill [ -s signal | -p ]  [ -a ] pid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kill -l [ signal 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SCRIP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kill  sends the specified signal to the specified proces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no signal is specified, the TERM signal is  sent.  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ERM  signal  will  kill processes which do not catch th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gnal.  For other processes, if may be necessary  to  u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he KILL (9) signal, since this signal cannot be caugh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st modern shells have a builtin kill func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id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ecify the list of processes that kill should sig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al.  Each pid can be one of four things.   A  pro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ess  name in which case processes called that wi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Man Page Sections (cont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tion 1: Comm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ff that you could run from a Unix prompt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p(1), bash(1), kill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tion 2: System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lking with the Kernel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ill(2), open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tion 3: Library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C Library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f(3), scanf(3), fflush(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Man Page S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specify a man sec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n n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n 2 ki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cc"/>
                </a:solidFill>
                <a:uFillTx/>
                <a:latin typeface="Tahoma"/>
                <a:hlinkClick r:id="rId1"/>
              </a:rPr>
              <a:t>http://www.linuxcentral.com/linux/man-pages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should always check error c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appers can help in most c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sure to call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flush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th debugging co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 pa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formation grouped into s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rror Hand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alw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heck return code of system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only for 5 points in your lab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re are subtle ways that things can go wro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the status info kernel provides u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ach in this class: Wrap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error handling sty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ix-Sty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x-Sty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NS-Sty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Unix-Style Error Hand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return value when encounter error (always –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global variable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errn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an error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e cause of the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trerr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unction for text description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er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3200400"/>
            <a:ext cx="7239240" cy="3124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nix_error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cha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*ms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printf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stder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“%s: %s\n“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sg, strerror(errno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…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(pid = wait(NULL)) &lt;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nix_error(“Error in wait”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OSIX-Style Error Hand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 value only indicate success (0) or failure (nonze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results returned in function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47600" y="3200400"/>
            <a:ext cx="7239240" cy="3124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six_error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code,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cha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*ms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printf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stder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“%s: %s\n“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sg, strerror(code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…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(retcode = pthread_create(…)) !=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six_error(retcode, “Error in pthread”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DNS-Style Error Hand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 a NULL pointer on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he global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h_errn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47600" y="3200400"/>
            <a:ext cx="7239240" cy="3124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ns_error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cha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*ms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printf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stder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“%s: DNS error %d\n“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sg, h_errno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…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(p = gethostbyname(name)) == NUL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ns_error(“Error in gethostbyname”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xample: Wrapp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4038480"/>
            <a:ext cx="815364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ix B: csapp.c and csapp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x-Style, for kill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haves exactly like the base function if no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nts informative message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erminat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e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1371600"/>
            <a:ext cx="7238880" cy="1981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ill (pid_t pid,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signu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c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(rc = kill(pid, signum)) &lt;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nix_error(“Kill error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Not All Errors are Fa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15364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appers are not always the correct 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eat all information as fatal err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rminate the program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i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times an error is not fa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3124080"/>
            <a:ext cx="7238880" cy="28958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igchld_handler(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ignu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id_t pi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whi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(pid = waitpid(-1, NULL, 0)) &gt; 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“Reaped %d\n”, 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pid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errno != ECHIL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nix_error(“waitpid error”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/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coverage in Lecture 24, and Chapter 11 in text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folks were having some issues with the Shell 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flush? printf? fprintf? scanf? fscanf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these issues will pop up with the Malloc 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7T22:58:45Z</dcterms:created>
  <dc:creator>Anusha</dc:creator>
  <dc:description/>
  <dc:language>en-US</dc:language>
  <cp:lastModifiedBy>Andrew Carnegie</cp:lastModifiedBy>
  <dcterms:modified xsi:type="dcterms:W3CDTF">2002-11-04T17:49:47Z</dcterms:modified>
  <cp:revision>668</cp:revision>
  <dc:subject/>
  <dc:title>Call Chain Example</dc:title>
</cp:coreProperties>
</file>