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41ED-4328-425C-90CD-220576E43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E43C-D8B0-4FF1-B9F5-95C70351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6A48-A501-445A-8046-D0627EA52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6A6C-D19F-4C84-83C0-1F5E4E667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8413-E633-415E-A88F-C109A099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AE67-994D-4CD9-B93E-83D18521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CDBF-2AD4-4AA2-88F4-58DEE00D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89C3-B8C0-4704-8B92-7BF54892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0B62-C187-494C-AC8D-408B8A7B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E055-B17B-4A3D-BE5B-43A4A172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07AE-74CB-48CB-BAC8-EFCE9C94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DA70-8ADE-434F-8276-F5B99738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FCDD-1C5D-44F8-B6D7-414292B98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15-213 Recitation 8: 10/28/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cing Haz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ping Child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1981080"/>
            <a:ext cx="3810240" cy="29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nie L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-mai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uluo@cs.cmu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ffice Hou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ursday 6:00 – 7: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an 84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19810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4495680"/>
            <a:ext cx="3962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em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5 due: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lloween night, 11:59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j0304951" descr=""/>
          <p:cNvPicPr/>
          <p:nvPr/>
        </p:nvPicPr>
        <p:blipFill>
          <a:blip r:embed="rId1"/>
          <a:stretch/>
        </p:blipFill>
        <p:spPr>
          <a:xfrm>
            <a:off x="3352680" y="5334120"/>
            <a:ext cx="1143000" cy="742680"/>
          </a:xfrm>
          <a:prstGeom prst="rect">
            <a:avLst/>
          </a:prstGeom>
          <a:ln w="0">
            <a:noFill/>
          </a:ln>
        </p:spPr>
      </p:pic>
      <p:pic>
        <p:nvPicPr>
          <p:cNvPr id="49" name="SO01716_" descr=""/>
          <p:cNvPicPr/>
          <p:nvPr/>
        </p:nvPicPr>
        <p:blipFill>
          <a:blip r:embed="rId2"/>
          <a:stretch/>
        </p:blipFill>
        <p:spPr>
          <a:xfrm>
            <a:off x="1219320" y="4152960"/>
            <a:ext cx="7239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ynchronizing Parent and Child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emptive scheduler run multiple programs “concurrently” by time sli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es time slicing work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cheduler can stop a program at any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 handler code can run at any point, to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behaviors depend on how the scheduler interleaves the execution of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cing condition between parent and chil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chld_handler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 = waitpid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letejob(pi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eval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pid == 0){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 child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ve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 signal handler might run BEFORE addjob(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job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arent &amp; Children Racing Haz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71600" y="213372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n Okay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49520" y="1647720"/>
            <a:ext cx="8686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6160" y="1638360"/>
            <a:ext cx="22845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78480" y="1638360"/>
            <a:ext cx="9082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98760" y="2209680"/>
            <a:ext cx="1644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job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43760" y="3116160"/>
            <a:ext cx="1644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ecv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18200" y="4173480"/>
            <a:ext cx="3290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igchld_handler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jobs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312408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411480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510552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2057400"/>
            <a:ext cx="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2133720"/>
            <a:ext cx="0" cy="3047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2760" y="1639800"/>
            <a:ext cx="8276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2133720"/>
            <a:ext cx="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92920" y="312408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95800" y="411480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71600" y="213372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 Problematic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49520" y="1647720"/>
            <a:ext cx="8686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656160" y="1638360"/>
            <a:ext cx="22845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78480" y="1638360"/>
            <a:ext cx="9082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99120" y="2209680"/>
            <a:ext cx="127872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13760" y="2666880"/>
            <a:ext cx="1644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ecv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99120" y="3716280"/>
            <a:ext cx="3290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igchld_handler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jobs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266688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366696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464832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057400"/>
            <a:ext cx="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2133720"/>
            <a:ext cx="0" cy="3047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2760" y="1639800"/>
            <a:ext cx="8276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62920" y="267480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365760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98760" y="4724280"/>
            <a:ext cx="16444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job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518148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464832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449000" y="4724280"/>
            <a:ext cx="7414920" cy="1119600"/>
            <a:chOff x="1449000" y="4724280"/>
            <a:chExt cx="7414920" cy="1119600"/>
          </a:xfrm>
        </p:grpSpPr>
        <p:sp>
          <p:nvSpPr>
            <p:cNvPr id="131" name=""/>
            <p:cNvSpPr/>
            <p:nvPr/>
          </p:nvSpPr>
          <p:spPr>
            <a:xfrm>
              <a:off x="1449000" y="5445000"/>
              <a:ext cx="74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Job added to job list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ahoma"/>
                </a:rPr>
                <a:t>after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the signal handler tried to delete it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24080" y="4724280"/>
              <a:ext cx="609840" cy="685800"/>
            </a:xfrm>
            <a:prstGeom prst="lightningBol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chld_handle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 = waitpid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letejob(pi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eval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sigprocmask(SIG_BLOCK, …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 = fork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pid == 0){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/* chil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sigprocmask(SIG_UNBLOCK, …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ecve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/* signal handler might run BEFORE addjob()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job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sigprocmask(SIG_UNBLOCK, …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olution to P&amp;C Racing Haz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84640" y="6019920"/>
            <a:ext cx="458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details see section 8.5.6 (p.63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aiting for Foreground Child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the parent’s behavior for foreground chil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blocke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eval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arent uses a busy loop checking foreground child p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ent pauses if fg child processes is still al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eval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job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procmask(SIG_UNBLOCK, 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fg process still al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use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chld_handler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 = waitpid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letejob(pi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usy Loop: Pause vs. Sleep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19000" y="3048120"/>
            <a:ext cx="376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use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uses the invok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to sleep until a signa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receiv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2514600" y="3123720"/>
            <a:ext cx="1828800" cy="304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19000" y="4267080"/>
            <a:ext cx="33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’s the problem here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86240" y="4794120"/>
            <a:ext cx="4137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signal is handled before paus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called, then it will not retur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fg process sends SIGCH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eval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job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procmask(SIG_UNBLOCK, 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fg process still al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leep(1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chld_handler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 = waitpid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letejob(pi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usy Loop: Pause vs. Sleep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51760" y="3260880"/>
            <a:ext cx="24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st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2590920" y="3123720"/>
            <a:ext cx="1828800" cy="304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eaping Child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ld process becomes zombie when termi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consume system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ent performs reaping on terminated 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to wait children processes to terminate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ggested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igchld_handler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aitpid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detecting any terminated or stopped jobs and reaping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aitp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d in signal handler of SIGCH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ps all available zombie child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es not wait for any other currently running child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pid in deta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_t waitpid(pid_t pid, int *status, int op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pid: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ild process ID being waited to termin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pid = -1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ait for any child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statu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 tells why child termin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option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WNOHA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return immediately if no children has exited (zombi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WUNTRAC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return for stopped children (status not repor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How Programmers Play with Pro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: executing copy of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ork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awns new  process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exit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inates own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wait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waitpid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ait for and reap terminated child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execl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execve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un a new program in an existing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kill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arbitrary signal to process or process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kill(-pid, SIGINT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s SIGINT to every process in pg “pi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tatus in Waitp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tatus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aitpid(pid, &amp;status, NU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cros to evaluate stat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WIFEXITED(status):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ild exited nor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WEXITSTATUS(status):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 code when child ex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WIFSIGNALED(status)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ild exited because of a signal not cau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WTERMSIG(status)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ives the number of the term.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WIFSTOPPED(status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hild is currently stop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WSTOPSIG(status)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ives the number of the stop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276228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3886200"/>
            <a:ext cx="75960" cy="685800"/>
          </a:xfrm>
          <a:custGeom>
            <a:avLst/>
            <a:gdLst>
              <a:gd name="textAreaLeft" fmla="*/ 48600 w 75960"/>
              <a:gd name="textAreaRight" fmla="*/ 7632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47600" y="5248440"/>
            <a:ext cx="76320" cy="457200"/>
          </a:xfrm>
          <a:custGeom>
            <a:avLst/>
            <a:gdLst>
              <a:gd name="textAreaLeft" fmla="*/ 48960 w 76320"/>
              <a:gd name="textAreaRight" fmla="*/ 7632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rovides applications with the illusions o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clusively use of the processor and the ma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interface with OS, applications c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child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 new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tch signals from other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ma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nything is not clea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ing style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ocess IDs and Process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rocess has its own, unique process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d_t getpid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rocess belongs to exactly one process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d_t getpgid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process group does a new process belong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s parent’s process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d_t getppid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can make a process group for itself and its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pgid(pid, pgi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etpgid(0,0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put the child in a new pgroup other than th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050920" y="2622600"/>
            <a:ext cx="982800" cy="885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46560" y="2622600"/>
            <a:ext cx="982800" cy="863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 #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00800" y="2622600"/>
            <a:ext cx="984240" cy="885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 #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51240" y="1298520"/>
            <a:ext cx="984240" cy="776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92200" y="3808440"/>
            <a:ext cx="984240" cy="77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17920" y="3808440"/>
            <a:ext cx="984240" cy="77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058840" y="3444840"/>
            <a:ext cx="182880" cy="37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38600" y="3441600"/>
            <a:ext cx="163440" cy="36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46600" y="2060640"/>
            <a:ext cx="0" cy="55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921040" y="1968480"/>
            <a:ext cx="1481040" cy="80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21360" y="1928880"/>
            <a:ext cx="1412640" cy="83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53480" y="146304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d=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gid=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2516040"/>
            <a:ext cx="2442960" cy="2648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1280" y="521028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re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cess group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59080" y="2516040"/>
            <a:ext cx="1176480" cy="1086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20400" y="359568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cess group 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30360" y="360216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ackgro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cess group 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97480" y="2516040"/>
            <a:ext cx="1176480" cy="1086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54960" y="275832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d=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17200" y="280908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d=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gid=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28600" y="283608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d=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gid=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54840" y="461412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d=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97840" y="462384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d=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ocess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ig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tion 8.5 in text 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 at least twice, reall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reap background job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aitpid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one is not en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ckground jobs become zomb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tells our process that some event has occurred in the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we use signal to count event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mportant Sig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rupt signal from keyboard (ctrl-c), terminates the current foreground j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TS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p signal from keyboard (ctrl-z), suspends current job until next SIGC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CH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hild process has terminated (becomes a zombie) or stop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91200" y="5943600"/>
            <a:ext cx="658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 at Figure 8.23 for a complete list of Linux sig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ignals – Se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is sent through the kernel to a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does the kernel send a signa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kernel detects a system event, e.g.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vide-by-zero (SIGF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rmination of a child process (SIGCHL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other process invokes a system call, e.g.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ill(pid_t pid, int SIGI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arm(unsigned int sec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ignals – Rece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receives a signal when the kernel forces it to react to the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default ways to react to a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rocess ignores the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rocess terminates (and dump co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rocess stops until next SIGC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modify the default action (except SIGSTOP and SIGKILL) by executing signal handler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ignal(SIGINT, sigint_handl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ignal Handling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tle when deal wi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ultipl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ding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re 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blocke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not que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me type of signal currently being processed by hand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received until after the current handler retu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most ONE pending signal of the same type at an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end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it vector: bi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set when signal type k is delivered, clear when signal re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block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it vector: can be set by the program using the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igprocmas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22:58:45Z</dcterms:created>
  <dc:creator>Anusha</dc:creator>
  <dc:description/>
  <dc:language>en-US</dc:language>
  <cp:lastModifiedBy>SCS</cp:lastModifiedBy>
  <dcterms:modified xsi:type="dcterms:W3CDTF">2002-10-28T16:08:34Z</dcterms:modified>
  <cp:revision>474</cp:revision>
  <dc:subject/>
  <dc:title>Call Chain Example</dc:title>
</cp:coreProperties>
</file>