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2FC-4AC5-4C2C-9B7F-396CDE6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C78-AD6A-4B60-B853-787B811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134-DEBE-4B84-A287-BBAC767E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B52-DADA-406C-9715-150ADDA5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D05-900B-4715-9055-0C6A852F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2D1-7452-4764-A0EA-5445B1F9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63D-C8F6-4627-A041-CDFB873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08D-E65C-4C06-ACED-58779F1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13F-E150-4B2C-97FB-E0BF79CE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0C7-366C-4701-9612-775ED21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BA5-1B64-419A-98E4-16110639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E10-58DD-402F-BDA1-BC144D5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A58A-7A15-45AF-8C0F-4AB7A80AF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8: 10/2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ing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pi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5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loween night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304951" descr=""/>
          <p:cNvPicPr/>
          <p:nvPr/>
        </p:nvPicPr>
        <p:blipFill>
          <a:blip r:embed="rId1"/>
          <a:stretch/>
        </p:blipFill>
        <p:spPr>
          <a:xfrm>
            <a:off x="3352680" y="5334120"/>
            <a:ext cx="1143000" cy="742680"/>
          </a:xfrm>
          <a:prstGeom prst="rect">
            <a:avLst/>
          </a:prstGeom>
          <a:ln w="0">
            <a:noFill/>
          </a:ln>
        </p:spPr>
      </p:pic>
      <p:pic>
        <p:nvPicPr>
          <p:cNvPr id="49" name="SO01716_" descr=""/>
          <p:cNvPicPr/>
          <p:nvPr/>
        </p:nvPicPr>
        <p:blipFill>
          <a:blip r:embed="rId2"/>
          <a:stretch/>
        </p:blipFill>
        <p:spPr>
          <a:xfrm>
            <a:off x="1219320" y="4152960"/>
            <a:ext cx="723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ynchronizing Parent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emptive scheduler run multiple programs “concurrently” by time s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time slicing wor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cheduler can stop a program at any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handler code can run at any point,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behaviors depend on how the scheduler interleaves the execution of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ing condition between parent and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rent &amp; Children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131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to P&amp;C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84640" y="601992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details see section 8.5.6 (p.6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ing for Foreground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parent’s behavior for foreground chil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lock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va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ent uses a busy loop checking foreground child 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auses if fg child processes is still a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000" y="3048120"/>
            <a:ext cx="376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e invok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o sleep until a sign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51460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000" y="426708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’s the problem 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6240" y="4794120"/>
            <a:ext cx="41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ignal is handled before p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alled, then it will not retur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g process sends SIGCH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51760" y="3260880"/>
            <a:ext cx="24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59092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ping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to wait children processes to termin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chld_handler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tecting any terminated or stopped jobs and reap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in signal handler of 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ps all available zombi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wait for any other currently running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pid in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ld process ID being waited to termin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 = -1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tells why child 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NOHA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immediately if no children has exited (zomb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UNTRAC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for stopped children (status not repor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w Programmers Play with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executing copy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k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wns new 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s ow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ait for and reap terminated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v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 a new program in an exis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arbitrary signal to process or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kill(-pid, SIGIN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s SIGINT to every process in pg “pi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us in 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because of a signal not ca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term.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rovides applications with the illusions 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lusively use of the processor and the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interface with OS, applications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chil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new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signals from oth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styl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IDs and 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has its own, unique proces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belongs to exactly one proces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process group does a new process belong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parent’s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can make a process group for itself and its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pid, pg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tpgid(0,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ut the child in a new pgroup other than th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8.5 in tex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at least twice, real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reap background jo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e is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jobs become zom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tells our process that some event has occurred in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use signal to count ev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ortan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signal from keyboard (ctrl-c), terminates the current foregroun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T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signal from keyboard (ctrl-z), suspends current job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ild process has terminated (becomes a zombie) or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91200" y="59436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Figure 8.23 for a complete list of Linux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S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is sent through the kernel to a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oes the kernel send a sig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kernel detects a system event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process invokes a system call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Rece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receives a signal when the kernel forces it to react to th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default ways to react to a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ignores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terminates (and dump c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stops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modify the default action (except SIGSTOP and SIGKILL) by executing signal handl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nal(SIGINT, sigint_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 Handl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tle when deal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din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block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not que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type of signal currently being processed by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eceived until after the current handler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most ONE pending signal of the same typ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e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b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set when signal type k is delivered, clear when signal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loc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can be set by the program using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gprocma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8T16:08:34Z</dcterms:modified>
  <cp:revision>474</cp:revision>
  <dc:subject/>
  <dc:title>Call Chain Example</dc:title>
</cp:coreProperties>
</file>