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CAC4-CD01-4638-BA2E-2B078024C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D860-C7B4-48A7-B8FF-71F5BD8B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0A89-8A2B-4734-9FCC-1E3BC27F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C8F8-0CCE-47F1-8A83-14002D35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AAB7-4EB1-4083-8CF9-3F1D8334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DAE0-45BA-420A-90FB-C984FA8D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9577-31D4-475B-9BEC-480B8E2E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4792-8FBA-4290-89B8-F835FC62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0001-A814-4EB2-9663-B92A618C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D133-128E-4F28-9D0A-21A907BD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D629-7A47-44DE-9694-353A9C04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0A23-E73F-471A-AF17-80269A58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33E3-BBF9-4AE0-8035-3D5FAE1EB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15-213 Recitation 8: 10/28/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cing Haz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ping Child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1981080"/>
            <a:ext cx="3810240" cy="29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nie L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-mai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uluo@cs.cmu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ffice Hou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ursday 6:00 – 7: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an 84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19810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4495680"/>
            <a:ext cx="3962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em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5 due: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lloween night, 11:59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j0304951" descr=""/>
          <p:cNvPicPr/>
          <p:nvPr/>
        </p:nvPicPr>
        <p:blipFill>
          <a:blip r:embed="rId1"/>
          <a:stretch/>
        </p:blipFill>
        <p:spPr>
          <a:xfrm>
            <a:off x="3352680" y="5334120"/>
            <a:ext cx="1143000" cy="742680"/>
          </a:xfrm>
          <a:prstGeom prst="rect">
            <a:avLst/>
          </a:prstGeom>
          <a:ln w="0">
            <a:noFill/>
          </a:ln>
        </p:spPr>
      </p:pic>
      <p:pic>
        <p:nvPicPr>
          <p:cNvPr id="49" name="SO01716_" descr=""/>
          <p:cNvPicPr/>
          <p:nvPr/>
        </p:nvPicPr>
        <p:blipFill>
          <a:blip r:embed="rId2"/>
          <a:stretch/>
        </p:blipFill>
        <p:spPr>
          <a:xfrm>
            <a:off x="1219320" y="4152960"/>
            <a:ext cx="7239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ynchronizing Parent and Child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emptive scheduler run multiple programs “concurrently” by time sl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es time slicing work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cheduler can stop a program at any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 handler code can run at any point, t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behaviors depend on how the scheduler interleaves the execution of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cing condition between parent and chil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chld_handler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 = waitpid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letejob(p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val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pid == 0){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child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ve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signal handler might run BEFORE addjob(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arent &amp; Children Racing Haz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71600" y="21337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n Okay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49520" y="1647720"/>
            <a:ext cx="868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6160" y="1638360"/>
            <a:ext cx="22845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78480" y="1638360"/>
            <a:ext cx="9082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98760" y="220968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job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43760" y="311616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ecv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18200" y="4173480"/>
            <a:ext cx="329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gchld_handle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jobs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31240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11480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51055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05740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133720"/>
            <a:ext cx="0" cy="3047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2760" y="1639800"/>
            <a:ext cx="8276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2133720"/>
            <a:ext cx="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92920" y="312408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95800" y="41148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71600" y="21337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 Problematic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49520" y="1647720"/>
            <a:ext cx="868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56160" y="1638360"/>
            <a:ext cx="22845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78480" y="1638360"/>
            <a:ext cx="9082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99120" y="2209680"/>
            <a:ext cx="127872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313760" y="266688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ecv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99120" y="3716280"/>
            <a:ext cx="329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gchld_handle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jobs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26668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366696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46483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05740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133720"/>
            <a:ext cx="0" cy="3047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2760" y="1639800"/>
            <a:ext cx="8276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62920" y="26748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36576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98760" y="4724280"/>
            <a:ext cx="16444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job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51814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464832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449000" y="4724280"/>
            <a:ext cx="7414920" cy="1119600"/>
            <a:chOff x="1449000" y="4724280"/>
            <a:chExt cx="7414920" cy="1119600"/>
          </a:xfrm>
        </p:grpSpPr>
        <p:sp>
          <p:nvSpPr>
            <p:cNvPr id="131" name=""/>
            <p:cNvSpPr/>
            <p:nvPr/>
          </p:nvSpPr>
          <p:spPr>
            <a:xfrm>
              <a:off x="1449000" y="5445000"/>
              <a:ext cx="74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Job added to job lis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ahoma"/>
                </a:rPr>
                <a:t>after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the signal handler tried to delete it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24080" y="4724280"/>
              <a:ext cx="609840" cy="685800"/>
            </a:xfrm>
            <a:prstGeom prst="lightningBol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chld_handle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= waitpid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letejob(pi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val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igprocmask(SIG_BLOCK, …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= fork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pid == 0){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/* chil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igprocmask(SIG_UNBLOCK, …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ecve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/* signal handler might run BEFORE addjob(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igprocmask(SIG_UNBLOCK, …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olution to P&amp;C Racing Haz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84640" y="6019920"/>
            <a:ext cx="458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details see section 8.5.6 (p.63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aiting for Foreground Child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the parent’s behavior for foreground chil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blocke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eval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arent uses a busy loop checking foreground child p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ent pauses if fg child processes is still al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val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procmask(SIG_UNBLOCK, 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fg process still al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use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chld_handler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 = waitpid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letejob(p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usy Loop: Pause vs. Sleep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19000" y="3048120"/>
            <a:ext cx="376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use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uses the invok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to sleep until a sign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receiv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2514600" y="3123720"/>
            <a:ext cx="1828800" cy="304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9000" y="4267080"/>
            <a:ext cx="33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’s the problem her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86240" y="4794120"/>
            <a:ext cx="4137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signal is handled before pau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called, then it will not retur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fg process sends SIGCH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val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procmask(SIG_UNBLOCK, 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fg process still al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leep(1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chld_handler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 = waitpid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letejob(p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usy Loop: Pause vs. Sleep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51760" y="3260880"/>
            <a:ext cx="24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st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590920" y="3123720"/>
            <a:ext cx="1828800" cy="304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eaping Child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ld process becomes zombie when termin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consume system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ent performs reaping on terminated 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to wait children processes to terminat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ggested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igchld_handler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aitpid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detecting any terminated or stopped jobs and reaping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aitp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d in signal handler of SIGCH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ps all available zombie child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 not wait for any other currently running child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pid in deta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_t waitpid(pid_t pid, int *status, int op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pid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ild process ID being waited to termin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pid = -1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ait for any child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statu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 tells why child termin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option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WNOHA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return immediately if no children has exited (zombi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WUNTRAC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return for stopped children (status not repor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How Programmers Play with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: executing copy of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ork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awns new  process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exit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tes ow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ait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aitpid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ait for and reap terminated child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execl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execve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un a new program in an exist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kill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arbitrary signal to process or process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kill(-pid, SIGINT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s SIGINT to every process in pg “pi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tatus in Waitp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tatus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itpid(pid, &amp;status, NU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cros to evaluate stat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IFEXITED(status):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ld exited nor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EXITSTATUS(status):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code when child ex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IFSIGNALED(status)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ld exited because of a signal not cau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TERMSIG(status)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ives the number of the term.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IFSTOPPED(status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hild is currently stop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STOPSIG(status)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ives the number of the stop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276228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3886200"/>
            <a:ext cx="75960" cy="685800"/>
          </a:xfrm>
          <a:custGeom>
            <a:avLst/>
            <a:gdLst>
              <a:gd name="textAreaLeft" fmla="*/ 48600 w 75960"/>
              <a:gd name="textAreaRight" fmla="*/ 7632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47600" y="5248440"/>
            <a:ext cx="76320" cy="457200"/>
          </a:xfrm>
          <a:custGeom>
            <a:avLst/>
            <a:gdLst>
              <a:gd name="textAreaLeft" fmla="*/ 48960 w 76320"/>
              <a:gd name="textAreaRight" fmla="*/ 7632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rovides applications with the illusions o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lusively use of the processor and the ma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interface with OS, applications c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child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un new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tch signals from other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ma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nything is not cle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ing style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ocess IDs and Process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rocess has its own, unique process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_t getpid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rocess belongs to exactly one process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_t getpgid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process group does a new process belong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s parent’s process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_t getppid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can make a process group for itself and its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pgid(pid, pgid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etpgid(0,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put the child in a new pgroup other than th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050920" y="2622600"/>
            <a:ext cx="982800" cy="88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46560" y="2622600"/>
            <a:ext cx="982800" cy="86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#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00800" y="2622600"/>
            <a:ext cx="984240" cy="88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#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51240" y="1298520"/>
            <a:ext cx="984240" cy="776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92200" y="380844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17920" y="380844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058840" y="3444840"/>
            <a:ext cx="182880" cy="3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38600" y="3441600"/>
            <a:ext cx="163440" cy="3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46600" y="206064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921040" y="1968480"/>
            <a:ext cx="148104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21360" y="1928880"/>
            <a:ext cx="1412640" cy="83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53480" y="146304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2516040"/>
            <a:ext cx="2442960" cy="2648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1280" y="521028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re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ess group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59080" y="2516040"/>
            <a:ext cx="1176480" cy="108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20400" y="359568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ess group 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30360" y="360216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ackgro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ess group 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97480" y="2516040"/>
            <a:ext cx="1176480" cy="108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54960" y="275832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17200" y="280908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28600" y="283608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54840" y="461412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97840" y="462384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ocess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tion 8.5 in text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 at least twice, reall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reap background job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aitpid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one is not en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ckground jobs become zomb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tells our process that some event has occurred in the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we use signal to count event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mportant 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rupt signal from keyboard (ctrl-c), terminates the current foreground j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TS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p signal from keyboard (ctrl-z), suspends current job until next SIGC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CH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hild process has terminated (becomes a zombie) or stop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91200" y="5943600"/>
            <a:ext cx="658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 at Figure 8.23 for a complete list of Linux sig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ignals – S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is sent through the kernel to a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does the kernel send a signa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kernel detects a system event, e.g.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vide-by-zero (SIGF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rmination of a child process (SIGCHL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other process invokes a system call, e.g.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ill(pid_t pid, int SIGI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arm(unsigned int sec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ignals – Rece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receives a signal when the kernel forces it to react to the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default ways to react to a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ocess ignores the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ocess terminates (and dump co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ocess stops until next SIGCO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modify the default action (except SIGSTOP and SIGKILL) by executing signal handler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signal(SIGINT, sigint_handl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ignal Handling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tle when deal 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ultipl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ding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re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blocke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not que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me type of signal currently being processed by hand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received until after the current handler retu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most ONE pending signal of the same type at an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pen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it vector: bi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set when signal type k is delivered, clear when signal 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block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it vector: can be set by the program using th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sigprocmas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22:58:45Z</dcterms:created>
  <dc:creator>Anusha</dc:creator>
  <dc:description/>
  <dc:language>en-US</dc:language>
  <cp:lastModifiedBy>SCS</cp:lastModifiedBy>
  <dcterms:modified xsi:type="dcterms:W3CDTF">2002-10-28T16:08:34Z</dcterms:modified>
  <cp:revision>474</cp:revision>
  <dc:subject/>
  <dc:title>Call Chain Example</dc:title>
</cp:coreProperties>
</file>