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7D5B-2619-4E6B-910B-213EDC533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9270-D5C6-431D-A3A8-02AD9D2F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1950-6948-40FE-BF9B-993628E8D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F289-F438-4474-A940-4A2034325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BC75-B6F2-4A2C-8028-5770E935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3D4F-9E19-4490-A5AA-AC3357BD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0564-7DD5-44F0-8604-90AFC297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3E1A-A043-403D-8E25-390181F5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C587-8A84-477E-9B7F-3A361AC5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1C70-CA94-49D8-BB08-F07C5FF6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2F51-0F04-4850-8B22-C329D540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03B9-627B-4E51-B208-EC531CDF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0C01-2CBB-42D2-8D3A-10D72A627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2.cs.cmu.edu/afs/cs/academic/class/15213-f02/www/L4.html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15-213 Recitation 7: 10/21/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 Optim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chine Indepen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chine Depend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op Unro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1981080"/>
            <a:ext cx="3810240" cy="29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nie L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-mai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uluo@cs.cmu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ffice Hou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ursday 6:00 – 7: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an 84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19810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4495680"/>
            <a:ext cx="3962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Rem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4 due: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rsday 10/24, 11:59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mission is *online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60958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Lucida Sans Unicode"/>
                <a:hlinkClick r:id="rId1"/>
              </a:rPr>
              <a:t>http://www2.cs.cmu.edu/afs/cs/academic/class/15213-f02/www/L4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olution 5.1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0820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ner6(vec_ptr u, vec_ptr v, data_t *dest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ength = vec_length(u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imit = length-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_t *udata = get_vec_start(u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_t *vdata = get_vec_start(v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_t sum0 = (data_t)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_t sum1 = (data_t)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Do four elements at a tim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i = 0; i &lt; limit; i+=4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0 += udata[i] * vdata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1 += udata[i+1] * vdata[i+1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0 += udata[i+2] * vdata[i+2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1 += udata[i+3] * vdata[i+3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Finish off any remaining element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; i &lt; length; i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0 = sum0 + udata[i] * vdata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dest = sum0 + sum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olution 5.1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ach element, we must perform two loads with a unit that can only load one value per clock cyc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must also perform one floating-point multiplication with a unit that can only perform one multiplication every two clock cyc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of these factors limit the CPE to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ummary of Matrix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2666880"/>
            <a:ext cx="2667240" cy="257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(i=0; i&lt;n; i++) 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(j=0; j&lt;n; j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 = 0.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(k=0; k&lt;n; k++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um += a[i][k] * b[k][j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[i][j] = su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3160" y="1371600"/>
            <a:ext cx="24570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jk (&amp; jik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loads, 0 s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2666880"/>
            <a:ext cx="2361960" cy="257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(k=0; k&lt;n; k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(i=0; i&lt;n; i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= a[i][k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(j=0; j&lt;n; j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[i][j] += r * b[k][j]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2666880"/>
            <a:ext cx="2438640" cy="257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(j=0; j&lt;n; j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(k=0; k&lt;n; k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= b[k][j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(i=0; i&lt;n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[i][j] += a[i][k] * 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27840" y="1371600"/>
            <a:ext cx="2315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j (&amp; ikj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loads, 1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42440" y="1371600"/>
            <a:ext cx="2315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ki (&amp; kji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loads, 1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98320" y="5329080"/>
            <a:ext cx="1915920" cy="1071720"/>
            <a:chOff x="598320" y="5329080"/>
            <a:chExt cx="1915920" cy="1071720"/>
          </a:xfrm>
        </p:grpSpPr>
        <p:sp>
          <p:nvSpPr>
            <p:cNvPr id="130" name=""/>
            <p:cNvSpPr/>
            <p:nvPr/>
          </p:nvSpPr>
          <p:spPr>
            <a:xfrm>
              <a:off x="598320" y="5587200"/>
              <a:ext cx="439200" cy="40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98240" y="5587200"/>
              <a:ext cx="439200" cy="40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71440" y="5587200"/>
              <a:ext cx="439200" cy="40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4800" y="603756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95080" y="603756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68280" y="60364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62040" y="5592240"/>
              <a:ext cx="720" cy="393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2640" y="5877720"/>
              <a:ext cx="429840" cy="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29960" y="5740920"/>
              <a:ext cx="46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i,*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87440" y="5329080"/>
              <a:ext cx="46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*,j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88440" y="5828400"/>
              <a:ext cx="37080" cy="3924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55240" y="55652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i,j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274560" y="5559480"/>
            <a:ext cx="2529360" cy="840240"/>
            <a:chOff x="3274560" y="5559480"/>
            <a:chExt cx="2529360" cy="840240"/>
          </a:xfrm>
        </p:grpSpPr>
        <p:sp>
          <p:nvSpPr>
            <p:cNvPr id="143" name=""/>
            <p:cNvSpPr/>
            <p:nvPr/>
          </p:nvSpPr>
          <p:spPr>
            <a:xfrm>
              <a:off x="3351960" y="5581800"/>
              <a:ext cx="465480" cy="407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974040" y="5581800"/>
              <a:ext cx="465480" cy="407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85920" y="5581800"/>
              <a:ext cx="465480" cy="407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54560" y="603648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76280" y="603648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59000" y="60364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43480" y="5738400"/>
              <a:ext cx="46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i,*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90600" y="5874840"/>
              <a:ext cx="455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16760" y="5884920"/>
              <a:ext cx="39600" cy="3960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4560" y="5559480"/>
              <a:ext cx="48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i,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31600" y="5559480"/>
              <a:ext cx="510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k,*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79080" y="5695920"/>
              <a:ext cx="4554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172200" y="5319720"/>
            <a:ext cx="1907640" cy="1081440"/>
            <a:chOff x="6172200" y="5319720"/>
            <a:chExt cx="1907640" cy="1081440"/>
          </a:xfrm>
        </p:grpSpPr>
        <p:sp>
          <p:nvSpPr>
            <p:cNvPr id="156" name=""/>
            <p:cNvSpPr/>
            <p:nvPr/>
          </p:nvSpPr>
          <p:spPr>
            <a:xfrm>
              <a:off x="6172200" y="5581440"/>
              <a:ext cx="532800" cy="40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62320" y="5581440"/>
              <a:ext cx="532800" cy="40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47040" y="5581440"/>
              <a:ext cx="532800" cy="40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89200" y="603648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80040" y="603648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32800" y="603792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81520" y="5319720"/>
              <a:ext cx="46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*,j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81480" y="5895720"/>
              <a:ext cx="45000" cy="3960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85280" y="5568840"/>
              <a:ext cx="48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k,j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6585840" y="5576400"/>
              <a:ext cx="0" cy="419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688880" y="5586120"/>
              <a:ext cx="0" cy="419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33480" y="5319720"/>
              <a:ext cx="510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*,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mprove Temporal Locality by Blo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Blocked matrix multi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” (in this context) does not mean “cache block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ead, it means a sub-block within the matri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: n = 8; sub-block size = 4 x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86240" y="5072040"/>
            <a:ext cx="479988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= 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1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= 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= 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1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= 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06840" y="3224160"/>
            <a:ext cx="78516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733400" y="3200400"/>
            <a:ext cx="216000" cy="838080"/>
            <a:chOff x="1733400" y="3200400"/>
            <a:chExt cx="216000" cy="838080"/>
          </a:xfrm>
        </p:grpSpPr>
        <p:sp>
          <p:nvSpPr>
            <p:cNvPr id="173" name=""/>
            <p:cNvSpPr/>
            <p:nvPr/>
          </p:nvSpPr>
          <p:spPr>
            <a:xfrm>
              <a:off x="1733400" y="3213000"/>
              <a:ext cx="0" cy="81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46000" y="32004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46000" y="40384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480760" y="3200400"/>
            <a:ext cx="228960" cy="838080"/>
            <a:chOff x="2480760" y="3200400"/>
            <a:chExt cx="228960" cy="838080"/>
          </a:xfrm>
        </p:grpSpPr>
        <p:sp>
          <p:nvSpPr>
            <p:cNvPr id="177" name=""/>
            <p:cNvSpPr/>
            <p:nvPr/>
          </p:nvSpPr>
          <p:spPr>
            <a:xfrm flipV="1">
              <a:off x="2709720" y="3200400"/>
              <a:ext cx="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2480760" y="40384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2480760" y="32004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3480120" y="3224160"/>
            <a:ext cx="78804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409920" y="3200400"/>
            <a:ext cx="215640" cy="838080"/>
            <a:chOff x="3409920" y="3200400"/>
            <a:chExt cx="215640" cy="838080"/>
          </a:xfrm>
        </p:grpSpPr>
        <p:sp>
          <p:nvSpPr>
            <p:cNvPr id="182" name=""/>
            <p:cNvSpPr/>
            <p:nvPr/>
          </p:nvSpPr>
          <p:spPr>
            <a:xfrm>
              <a:off x="3409920" y="3213000"/>
              <a:ext cx="0" cy="81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22520" y="32004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22520" y="40384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152600" y="3200400"/>
            <a:ext cx="228960" cy="838080"/>
            <a:chOff x="4152600" y="3200400"/>
            <a:chExt cx="228960" cy="838080"/>
          </a:xfrm>
        </p:grpSpPr>
        <p:sp>
          <p:nvSpPr>
            <p:cNvPr id="186" name=""/>
            <p:cNvSpPr/>
            <p:nvPr/>
          </p:nvSpPr>
          <p:spPr>
            <a:xfrm flipV="1">
              <a:off x="4381560" y="3200400"/>
              <a:ext cx="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4152600" y="40384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4152600" y="32004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891520" y="3481560"/>
            <a:ext cx="286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360" y="3452760"/>
            <a:ext cx="329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85360" y="3224160"/>
            <a:ext cx="78156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010120" y="3200400"/>
            <a:ext cx="215640" cy="838080"/>
            <a:chOff x="5010120" y="3200400"/>
            <a:chExt cx="215640" cy="838080"/>
          </a:xfrm>
        </p:grpSpPr>
        <p:sp>
          <p:nvSpPr>
            <p:cNvPr id="193" name=""/>
            <p:cNvSpPr/>
            <p:nvPr/>
          </p:nvSpPr>
          <p:spPr>
            <a:xfrm>
              <a:off x="5010120" y="3213000"/>
              <a:ext cx="0" cy="81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22720" y="32004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22720" y="40384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790960" y="3200400"/>
            <a:ext cx="228960" cy="838080"/>
            <a:chOff x="5790960" y="3200400"/>
            <a:chExt cx="228960" cy="838080"/>
          </a:xfrm>
        </p:grpSpPr>
        <p:sp>
          <p:nvSpPr>
            <p:cNvPr id="197" name=""/>
            <p:cNvSpPr/>
            <p:nvPr/>
          </p:nvSpPr>
          <p:spPr>
            <a:xfrm flipV="1">
              <a:off x="6019920" y="3200400"/>
              <a:ext cx="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5790960" y="40384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790960" y="32004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533520" y="4406760"/>
            <a:ext cx="74674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Key idea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b-blocks (i.e.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x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can be treated just like scal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locked Matrix Multiply (bij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20880" y="1066680"/>
            <a:ext cx="6900840" cy="55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 = n/bsiz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*assume n is an integral multiple of bsiz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=0; i&lt;n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j=0; j&lt;n; j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i][j] = 0.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kk=0; kk&lt;en; kk+=bsize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jj=0; jj&lt;en; jj+=bsiz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i=0; i&lt;n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or(j=jj; j&lt;jj+bsize; j++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= c[i][j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or(k=kk; k&lt;kk+bsize; k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+= a[i][k] * b[k][j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[i][j] += s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1040" y="3962520"/>
            <a:ext cx="230040" cy="1677960"/>
          </a:xfrm>
          <a:custGeom>
            <a:avLst/>
            <a:gdLst/>
            <a:ahLst/>
            <a:rect l="l" t="t" r="r" b="b"/>
            <a:pathLst>
              <a:path w="145" h="1057">
                <a:moveTo>
                  <a:pt x="96" y="0"/>
                </a:moveTo>
                <a:lnTo>
                  <a:pt x="0" y="0"/>
                </a:lnTo>
                <a:lnTo>
                  <a:pt x="0" y="1056"/>
                </a:lnTo>
                <a:lnTo>
                  <a:pt x="144" y="105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locked Matrix Multiply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21080" y="464832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991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nermost loop pair multiplies a </a:t>
            </a: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1 x b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liver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y a </a:t>
            </a: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bsize x b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lock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accumulates into </a:t>
            </a: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1 x b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liver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p over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eps throug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ow slivers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amp;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using sam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14840" y="464832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83400" y="464832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27640" y="522936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46600" y="522936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91480" y="522936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24440" y="6067440"/>
            <a:ext cx="2260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reus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s in succ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639960" y="4743360"/>
            <a:ext cx="636840" cy="982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21320" y="4654440"/>
            <a:ext cx="203040" cy="20340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81080" y="5788080"/>
            <a:ext cx="2171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sliver acc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s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635800" y="493344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46640" y="5686560"/>
            <a:ext cx="2095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succes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s of sl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6981840" y="4806720"/>
            <a:ext cx="558720" cy="787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41680" y="4832280"/>
            <a:ext cx="0" cy="355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03600" y="484344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04000" y="4832280"/>
            <a:ext cx="0" cy="355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65920" y="484344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112000" y="4603680"/>
            <a:ext cx="361440" cy="736560"/>
            <a:chOff x="5112000" y="4603680"/>
            <a:chExt cx="361440" cy="736560"/>
          </a:xfrm>
        </p:grpSpPr>
        <p:sp>
          <p:nvSpPr>
            <p:cNvPr id="224" name=""/>
            <p:cNvSpPr/>
            <p:nvPr/>
          </p:nvSpPr>
          <p:spPr>
            <a:xfrm>
              <a:off x="5280120" y="4603680"/>
              <a:ext cx="0" cy="73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12000" y="4690800"/>
              <a:ext cx="361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6689880" y="4730760"/>
            <a:ext cx="203040" cy="7632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27560" y="4730760"/>
            <a:ext cx="203040" cy="7632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302000" y="4309920"/>
            <a:ext cx="736560" cy="302040"/>
            <a:chOff x="4302000" y="4309920"/>
            <a:chExt cx="736560" cy="302040"/>
          </a:xfrm>
        </p:grpSpPr>
        <p:sp>
          <p:nvSpPr>
            <p:cNvPr id="229" name=""/>
            <p:cNvSpPr/>
            <p:nvPr/>
          </p:nvSpPr>
          <p:spPr>
            <a:xfrm>
              <a:off x="4302000" y="4438440"/>
              <a:ext cx="73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26200" y="4309920"/>
              <a:ext cx="361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664320" y="4309920"/>
            <a:ext cx="736560" cy="302040"/>
            <a:chOff x="6664320" y="4309920"/>
            <a:chExt cx="736560" cy="302040"/>
          </a:xfrm>
        </p:grpSpPr>
        <p:sp>
          <p:nvSpPr>
            <p:cNvPr id="232" name=""/>
            <p:cNvSpPr/>
            <p:nvPr/>
          </p:nvSpPr>
          <p:spPr>
            <a:xfrm>
              <a:off x="6664320" y="4438440"/>
              <a:ext cx="73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89600" y="4309920"/>
              <a:ext cx="2606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445000" y="4309920"/>
            <a:ext cx="736560" cy="302040"/>
            <a:chOff x="5445000" y="4309920"/>
            <a:chExt cx="736560" cy="302040"/>
          </a:xfrm>
        </p:grpSpPr>
        <p:sp>
          <p:nvSpPr>
            <p:cNvPr id="235" name=""/>
            <p:cNvSpPr/>
            <p:nvPr/>
          </p:nvSpPr>
          <p:spPr>
            <a:xfrm>
              <a:off x="5445000" y="4438440"/>
              <a:ext cx="73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70640" y="4309920"/>
              <a:ext cx="2606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936720" y="2438280"/>
            <a:ext cx="690084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or(j=jj; j&lt;jj+bsize; j++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= c[i][j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or(k=kk; k&lt;kk+bsize; k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+= a[i][k] * b[k][j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[i][j] += s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62080" y="2838600"/>
            <a:ext cx="230040" cy="1753920"/>
          </a:xfrm>
          <a:custGeom>
            <a:avLst/>
            <a:gdLst/>
            <a:ahLst/>
            <a:rect l="l" t="t" r="r" b="b"/>
            <a:pathLst>
              <a:path w="145" h="1249">
                <a:moveTo>
                  <a:pt x="96" y="0"/>
                </a:moveTo>
                <a:lnTo>
                  <a:pt x="0" y="0"/>
                </a:lnTo>
                <a:lnTo>
                  <a:pt x="0" y="1248"/>
                </a:lnTo>
                <a:lnTo>
                  <a:pt x="144" y="124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31800" y="3352680"/>
            <a:ext cx="533520" cy="392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8920" y="3733920"/>
            <a:ext cx="10425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nerm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op P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entium Blocked Mat-Mul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65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(bijk and bikj) improves performance by a factor of two over unblocked versions (ijk and ji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vely insensitive to array s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33520" y="2428920"/>
          <a:ext cx="7815240" cy="534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28920"/>
                    <a:ext cx="781524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improve the performance of your progra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 working set reasonably small (temporal local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mall strides (spatial local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d writing “cache friendly co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olute optimum performance is very platform specific: cache sizes, line sizes,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chine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Independen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e repeating code out of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in 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lace costly operations with simpler 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 data in registers rather tha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procedure call in loop, use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Common sub-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Procedure calls are expensiv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Bounds checking is expensiv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Memory references are expensive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chine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Dependent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system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 unro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3505320"/>
            <a:ext cx="5029200" cy="3047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3886200"/>
            <a:ext cx="4495680" cy="8380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295280"/>
            <a:ext cx="4952880" cy="182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4038480"/>
            <a:ext cx="5335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er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4038480"/>
            <a:ext cx="5335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d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038480"/>
            <a:ext cx="5335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ult/D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4038480"/>
            <a:ext cx="5331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3400" y="4038480"/>
            <a:ext cx="5335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1752480"/>
            <a:ext cx="838080" cy="1067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5562720"/>
            <a:ext cx="114300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1676520"/>
            <a:ext cx="91440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2286000"/>
            <a:ext cx="91440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9880" y="19051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809520" y="25146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28195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370880" y="1752480"/>
            <a:ext cx="1523880" cy="2286000"/>
          </a:xfrm>
          <a:custGeom>
            <a:avLst/>
            <a:gdLst/>
            <a:ahLst/>
            <a:rect l="l" t="t" r="r" b="b"/>
            <a:pathLst>
              <a:path w="144" h="864">
                <a:moveTo>
                  <a:pt x="0" y="0"/>
                </a:moveTo>
                <a:lnTo>
                  <a:pt x="144" y="0"/>
                </a:lnTo>
                <a:lnTo>
                  <a:pt x="144" y="86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86200" y="44956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114800" y="44956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44956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44956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58040" y="157644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46240" y="220176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13800" y="277164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0880" y="3076560"/>
            <a:ext cx="105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K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9760" y="516564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46400" y="515772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78320" y="495288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6240" y="493704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3809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19520" y="3809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3809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3809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809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380988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4038480"/>
            <a:ext cx="5331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ene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3809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4876920"/>
            <a:ext cx="3962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523880" y="4495680"/>
            <a:ext cx="3047760" cy="380880"/>
            <a:chOff x="1523880" y="4495680"/>
            <a:chExt cx="3047760" cy="380880"/>
          </a:xfrm>
        </p:grpSpPr>
        <p:sp>
          <p:nvSpPr>
            <p:cNvPr id="91" name=""/>
            <p:cNvSpPr/>
            <p:nvPr/>
          </p:nvSpPr>
          <p:spPr>
            <a:xfrm>
              <a:off x="1523880" y="44956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42840" y="44956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52680" y="44956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62160" y="44956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1640" y="44956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33360" y="44956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753920" y="4876920"/>
            <a:ext cx="119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ion Resu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828800"/>
            <a:ext cx="914400" cy="990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i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2286000"/>
            <a:ext cx="6094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209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065960" y="2666880"/>
            <a:ext cx="838440" cy="2210040"/>
          </a:xfrm>
          <a:custGeom>
            <a:avLst/>
            <a:gdLst/>
            <a:ahLst/>
            <a:rect l="l" t="t" r="r" b="b"/>
            <a:pathLst>
              <a:path w="144" h="864">
                <a:moveTo>
                  <a:pt x="0" y="0"/>
                </a:moveTo>
                <a:lnTo>
                  <a:pt x="144" y="0"/>
                </a:lnTo>
                <a:lnTo>
                  <a:pt x="144" y="86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9120" y="3060720"/>
            <a:ext cx="89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2514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2819520"/>
            <a:ext cx="76176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480" y="144"/>
                </a:moveTo>
                <a:lnTo>
                  <a:pt x="0" y="14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op Unrolling – Why We Can Do So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9920" y="1295280"/>
            <a:ext cx="2590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uperscal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form multiple operations on every clock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Out-of-ord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ecuted instructions need not correspond to the 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Instructions Can Execute in Parall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integer (one may be bran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FP Ad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FP Multiplication or Di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Instructions Take &gt; 1 Cycle, but Can be Pipel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ruc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nc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ycles/Is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ad / Sto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er Multipl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er Divid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uble/Single FP Multipl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uble/Single FP 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uble/Single FP Divid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PU Capability of Pentium I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op Unro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562360" y="1294920"/>
            <a:ext cx="3276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bine multiple iterations into single loop bod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form more data operations in each it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ortize loop overhead across multiple it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uting loop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ing loop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ke sure the loop condition NOT to run over array bou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ish extras at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5440" y="1177920"/>
            <a:ext cx="5256360" cy="50266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combine5(vec_ptr v, int *d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imit = length-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Combine 3 elements at a tim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limit; i+=3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data[i] + data[i+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 data[i+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Finish any remaining element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; i &lt; length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data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actice Time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 on practice problem 5.12 and 5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olution 5.1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364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ner5(vec_ptr u, vec_ptr v, data_t *de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ength = vec_length(u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imit = length-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_t *udata = get_vec_start(u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_t *vdata = get_vec_start(v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_t sum = (data_t)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Do four elements at a tim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i = 0; i &lt; limit; i+=4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 += udata[i] * vdata[i] + udata[i+1] * vdata[i+1]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data[i+2] * vdata[i+2] + udata[i+3] * vdata[i+3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Finish off any remaining element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; i &lt; length; i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 += udata[i] * vdata[i]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dest = s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olution 5.1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. We must perform two loads per element to read values for udata and vdata. There is only one unit to perform these loads, and it requires one 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. The performance for floating point is still limited by the 3 cycle latency of the floating-point ad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22:58:45Z</dcterms:created>
  <dc:creator>Anusha</dc:creator>
  <dc:description/>
  <dc:language>en-US</dc:language>
  <cp:lastModifiedBy>SCS</cp:lastModifiedBy>
  <dcterms:modified xsi:type="dcterms:W3CDTF">2002-10-21T15:04:46Z</dcterms:modified>
  <cp:revision>319</cp:revision>
  <dc:subject/>
  <dc:title>Call Chain Example</dc:title>
</cp:coreProperties>
</file>