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D87A-B89B-4648-AB52-0574D77D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05D-4E54-4881-94FE-5B62F0E2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B55-EE57-4887-819D-F418F6DBD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E776-F229-4549-94E2-15729F4B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57AF-C50E-45E6-9E3B-6B5F5BCF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EB9F-98E6-4FE7-9882-A4EE9FED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CD2-A605-49EA-B377-F1024226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E9FD-EDE4-401A-A88D-5EF02593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03F-F6B6-40C3-9EC3-6A6B848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BD46-2420-4A77-A828-1D62503C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5C9-967C-4B76-BF42-88AE749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502A-3992-4D3F-B497-8151C9A8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111-6726-4ACB-A00B-661209B92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2.cs.cmu.edu/afs/cs/academic/class/15213-f02/www/L4.html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7: 10/21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In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chine Depen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4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rsday 10/24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mission is *onlin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6095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Lucida Sans Unicode"/>
                <a:hlinkClick r:id="rId1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element, we must perform two loads with a unit that can only load one value per clock cyc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also perform one floating-point multiplication with a unit that can only perform one multiplication every two clock cyc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of these factors limit the CPE t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 of Matrix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666880"/>
            <a:ext cx="26672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31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2666880"/>
            <a:ext cx="236196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r * b[k][j]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2666880"/>
            <a:ext cx="243864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278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4244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8320" y="5329080"/>
            <a:ext cx="1915920" cy="1071720"/>
            <a:chOff x="598320" y="5329080"/>
            <a:chExt cx="1915920" cy="1071720"/>
          </a:xfrm>
        </p:grpSpPr>
        <p:sp>
          <p:nvSpPr>
            <p:cNvPr id="130" name=""/>
            <p:cNvSpPr/>
            <p:nvPr/>
          </p:nvSpPr>
          <p:spPr>
            <a:xfrm>
              <a:off x="59832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982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71440" y="5587200"/>
              <a:ext cx="439200" cy="40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480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95080" y="60375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6828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2040" y="5592240"/>
              <a:ext cx="720" cy="393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2640" y="5877720"/>
              <a:ext cx="429840" cy="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29960" y="57409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532908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88440" y="5828400"/>
              <a:ext cx="37080" cy="3924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5240" y="5565240"/>
              <a:ext cx="429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74560" y="5559480"/>
            <a:ext cx="2529360" cy="840240"/>
            <a:chOff x="3274560" y="5559480"/>
            <a:chExt cx="2529360" cy="840240"/>
          </a:xfrm>
        </p:grpSpPr>
        <p:sp>
          <p:nvSpPr>
            <p:cNvPr id="143" name=""/>
            <p:cNvSpPr/>
            <p:nvPr/>
          </p:nvSpPr>
          <p:spPr>
            <a:xfrm>
              <a:off x="335196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7404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920" y="5581800"/>
              <a:ext cx="465480" cy="407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456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628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59000" y="603648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43480" y="573840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90600" y="5874840"/>
              <a:ext cx="455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16760" y="5884920"/>
              <a:ext cx="396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74560" y="555948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i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31600" y="555948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*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79080" y="5695920"/>
              <a:ext cx="455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72200" y="5319720"/>
            <a:ext cx="1907640" cy="1081440"/>
            <a:chOff x="6172200" y="5319720"/>
            <a:chExt cx="1907640" cy="1081440"/>
          </a:xfrm>
        </p:grpSpPr>
        <p:sp>
          <p:nvSpPr>
            <p:cNvPr id="156" name=""/>
            <p:cNvSpPr/>
            <p:nvPr/>
          </p:nvSpPr>
          <p:spPr>
            <a:xfrm>
              <a:off x="617220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6232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47040" y="5581440"/>
              <a:ext cx="532800" cy="40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920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80040" y="603648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32800" y="603792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481520" y="5319720"/>
              <a:ext cx="46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81480" y="5895720"/>
              <a:ext cx="45000" cy="3960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85280" y="5568840"/>
              <a:ext cx="48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k,j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585840" y="557640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688880" y="5586120"/>
              <a:ext cx="0" cy="419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3480" y="5319720"/>
              <a:ext cx="510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*,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rove Temporal Locality by Blo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” (in this context) does not mean “cache bloc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ead, it means a sub-block within the matri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: n = 8; sub-block size = 4 x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86240" y="507204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068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733400" y="3200400"/>
            <a:ext cx="216000" cy="838080"/>
            <a:chOff x="1733400" y="3200400"/>
            <a:chExt cx="216000" cy="838080"/>
          </a:xfrm>
        </p:grpSpPr>
        <p:sp>
          <p:nvSpPr>
            <p:cNvPr id="173" name=""/>
            <p:cNvSpPr/>
            <p:nvPr/>
          </p:nvSpPr>
          <p:spPr>
            <a:xfrm>
              <a:off x="17334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46000" y="320040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46000" y="4038480"/>
              <a:ext cx="203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480760" y="3200400"/>
            <a:ext cx="228960" cy="838080"/>
            <a:chOff x="2480760" y="3200400"/>
            <a:chExt cx="228960" cy="838080"/>
          </a:xfrm>
        </p:grpSpPr>
        <p:sp>
          <p:nvSpPr>
            <p:cNvPr id="177" name=""/>
            <p:cNvSpPr/>
            <p:nvPr/>
          </p:nvSpPr>
          <p:spPr>
            <a:xfrm flipV="1">
              <a:off x="27097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4807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4807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48012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09920" y="3200400"/>
            <a:ext cx="215640" cy="838080"/>
            <a:chOff x="3409920" y="3200400"/>
            <a:chExt cx="215640" cy="838080"/>
          </a:xfrm>
        </p:grpSpPr>
        <p:sp>
          <p:nvSpPr>
            <p:cNvPr id="182" name=""/>
            <p:cNvSpPr/>
            <p:nvPr/>
          </p:nvSpPr>
          <p:spPr>
            <a:xfrm>
              <a:off x="34099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25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25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52600" y="3200400"/>
            <a:ext cx="228960" cy="838080"/>
            <a:chOff x="4152600" y="3200400"/>
            <a:chExt cx="228960" cy="838080"/>
          </a:xfrm>
        </p:grpSpPr>
        <p:sp>
          <p:nvSpPr>
            <p:cNvPr id="186" name=""/>
            <p:cNvSpPr/>
            <p:nvPr/>
          </p:nvSpPr>
          <p:spPr>
            <a:xfrm flipV="1">
              <a:off x="438156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15260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5260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891520" y="348156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360" y="34527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853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ahoma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010120" y="3200400"/>
            <a:ext cx="215640" cy="838080"/>
            <a:chOff x="5010120" y="3200400"/>
            <a:chExt cx="215640" cy="838080"/>
          </a:xfrm>
        </p:grpSpPr>
        <p:sp>
          <p:nvSpPr>
            <p:cNvPr id="193" name=""/>
            <p:cNvSpPr/>
            <p:nvPr/>
          </p:nvSpPr>
          <p:spPr>
            <a:xfrm>
              <a:off x="501012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2272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272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790960" y="3200400"/>
            <a:ext cx="228960" cy="838080"/>
            <a:chOff x="5790960" y="3200400"/>
            <a:chExt cx="228960" cy="838080"/>
          </a:xfrm>
        </p:grpSpPr>
        <p:sp>
          <p:nvSpPr>
            <p:cNvPr id="197" name=""/>
            <p:cNvSpPr/>
            <p:nvPr/>
          </p:nvSpPr>
          <p:spPr>
            <a:xfrm flipV="1">
              <a:off x="601992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79096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79096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533520" y="4406760"/>
            <a:ext cx="74674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Key idea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-blocks (i.e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n be treated just like scala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(bij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20880" y="1066680"/>
            <a:ext cx="690084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 = n/bsiz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*assume n is an integral multiple of bsiz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=0; j&lt;n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kk=0; kk&lt;e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jj=0; jj&lt;e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1040" y="3962520"/>
            <a:ext cx="23004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locked Matrix Multipl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2108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nermost loop pair multiplies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a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accumulates into </a:t>
            </a: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1484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83400" y="464832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46600" y="52293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91480" y="522936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24440" y="606744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39960" y="4743360"/>
            <a:ext cx="636840" cy="9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21320" y="4654440"/>
            <a:ext cx="203040" cy="20340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81080" y="578808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635800" y="49334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46640" y="568656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6981840" y="480672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4168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0360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4832280"/>
            <a:ext cx="0" cy="355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65920" y="484344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112000" y="4603680"/>
            <a:ext cx="361440" cy="736560"/>
            <a:chOff x="5112000" y="4603680"/>
            <a:chExt cx="361440" cy="736560"/>
          </a:xfrm>
        </p:grpSpPr>
        <p:sp>
          <p:nvSpPr>
            <p:cNvPr id="224" name=""/>
            <p:cNvSpPr/>
            <p:nvPr/>
          </p:nvSpPr>
          <p:spPr>
            <a:xfrm>
              <a:off x="5280120" y="460368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12000" y="469080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68988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27560" y="473076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302000" y="4309920"/>
            <a:ext cx="736560" cy="302040"/>
            <a:chOff x="4302000" y="4309920"/>
            <a:chExt cx="736560" cy="302040"/>
          </a:xfrm>
        </p:grpSpPr>
        <p:sp>
          <p:nvSpPr>
            <p:cNvPr id="229" name=""/>
            <p:cNvSpPr/>
            <p:nvPr/>
          </p:nvSpPr>
          <p:spPr>
            <a:xfrm>
              <a:off x="4302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6200" y="43099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664320" y="4309920"/>
            <a:ext cx="736560" cy="302040"/>
            <a:chOff x="6664320" y="4309920"/>
            <a:chExt cx="736560" cy="302040"/>
          </a:xfrm>
        </p:grpSpPr>
        <p:sp>
          <p:nvSpPr>
            <p:cNvPr id="232" name=""/>
            <p:cNvSpPr/>
            <p:nvPr/>
          </p:nvSpPr>
          <p:spPr>
            <a:xfrm>
              <a:off x="666432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8960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445000" y="4309920"/>
            <a:ext cx="736560" cy="302040"/>
            <a:chOff x="5445000" y="4309920"/>
            <a:chExt cx="736560" cy="302040"/>
          </a:xfrm>
        </p:grpSpPr>
        <p:sp>
          <p:nvSpPr>
            <p:cNvPr id="235" name=""/>
            <p:cNvSpPr/>
            <p:nvPr/>
          </p:nvSpPr>
          <p:spPr>
            <a:xfrm>
              <a:off x="5445000" y="443844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70640" y="43099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936720" y="2438280"/>
            <a:ext cx="690084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j=jj; j&lt;jj+bsize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c[i][j]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(k=kk; k&lt;kk+bsize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62080" y="2838600"/>
            <a:ext cx="230040" cy="1753920"/>
          </a:xfrm>
          <a:custGeom>
            <a:avLst/>
            <a:gdLst/>
            <a:ahLst/>
            <a:rect l="l" t="t" r="r" b="b"/>
            <a:pathLst>
              <a:path w="145" h="1249">
                <a:moveTo>
                  <a:pt x="96" y="0"/>
                </a:moveTo>
                <a:lnTo>
                  <a:pt x="0" y="0"/>
                </a:lnTo>
                <a:lnTo>
                  <a:pt x="0" y="1248"/>
                </a:lnTo>
                <a:lnTo>
                  <a:pt x="144" y="124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31800" y="3352680"/>
            <a:ext cx="533520" cy="39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8920" y="3733920"/>
            <a:ext cx="1042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m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op P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ntium Blocked Mat-Mu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33520" y="242892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2892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improve the performance of your progr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working set reasonably small (tempor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mall strides (spatial loca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d writing “cache friendly co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ptimum performance is very platform specific: cache sizes, line size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Independent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e repeating code out of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tion in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 costly operations with simpler 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data in registers rather tha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procedure call in loop, use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Common sub-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Procedure calls are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Bounds checking is expensiv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ahoma"/>
              </a:rPr>
              <a:t>Memory references are expensiv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hine </a:t>
            </a: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Dependent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system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3505320"/>
            <a:ext cx="5029200" cy="304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38862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95280"/>
            <a:ext cx="4952880" cy="18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038480"/>
            <a:ext cx="53352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752480"/>
            <a:ext cx="838080" cy="10670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562720"/>
            <a:ext cx="1143000" cy="6094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1676520"/>
            <a:ext cx="914400" cy="533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286000"/>
            <a:ext cx="91440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1905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520" y="2514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28195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370880" y="1752480"/>
            <a:ext cx="152388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620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1480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44956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4495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58040" y="15764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46240" y="22017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13800" y="27716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0880" y="30765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9760" y="51656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46400" y="51577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78320" y="49528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6240" y="49370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380988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038480"/>
            <a:ext cx="53316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3809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4876920"/>
            <a:ext cx="39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4495680"/>
            <a:ext cx="3047760" cy="380880"/>
            <a:chOff x="1523880" y="4495680"/>
            <a:chExt cx="3047760" cy="380880"/>
          </a:xfrm>
        </p:grpSpPr>
        <p:sp>
          <p:nvSpPr>
            <p:cNvPr id="91" name=""/>
            <p:cNvSpPr/>
            <p:nvPr/>
          </p:nvSpPr>
          <p:spPr>
            <a:xfrm>
              <a:off x="15238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28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5268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621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164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133360" y="44956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3920" y="48769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828800"/>
            <a:ext cx="914400" cy="99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2860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209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65960" y="2666880"/>
            <a:ext cx="83844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9120" y="30607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2819520"/>
            <a:ext cx="76176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 – Why We Can Do So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1295280"/>
            <a:ext cx="25905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perscal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ultiple operations on every clock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Out-of-ord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cuted instructions need not correspond to the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Instructions Can Execute in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integer (one may be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FP Multiplication or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Instructions Take &gt; 1 Cycle, but Can be Pipel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ru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es/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/ Stor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er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Multipl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uble/Single FP Divi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PU Capability of Pentium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bine multiple iterations into single loop bod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form more data operations in each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ortize loop overhead across multiple it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ing loop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ing loop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the loop condition NOT to run over array b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sh extras at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actice Time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 on practice problem 5.12 and 5.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36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; i &lt; length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5.1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. We must perform two loads per element to read values for udata and vdata. There is only one unit to perform these loads, and it requires one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. The performance for floating point is still limited by the 3 cycle latency of the floating-point ad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1T15:04:46Z</dcterms:modified>
  <cp:revision>319</cp:revision>
  <dc:subject/>
  <dc:title>Call Chain Example</dc:title>
</cp:coreProperties>
</file>