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2927-2636-4379-B832-56A45385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A64-14B8-4C9D-A016-9F7C7A07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717-B377-4DEF-9480-2B5519A3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BD8-3F86-48E6-A29F-8C45769C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0D9-2DF3-468B-BE1E-5C34138F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A91-4A4C-4CEA-AFA2-7C635CDF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BFB8-54FF-4DCE-82D7-2259743C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FED-8B79-4266-BA1B-7C42897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41E-11F3-470D-A44C-5E56AFAA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1AD-F34B-49B7-B66E-89C9B5C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A1B-17FD-4A19-B619-A5B083E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710-8B6D-40E5-8D19-B835D9E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CDD-AB00-4934-B153-D17813571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.cs.cmu.edu/afs/cs/academic/class/15213-f02/www/L4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7: 10/21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Depen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4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10/24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ssion is *onlin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5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element, we must perform two loads with a unit that can only load one value per clock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also perform one floating-point multiplication with a unit that can only perform one multiplication every two clock cy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of these factors limit the CPE t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 of Matrix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666880"/>
            <a:ext cx="26672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31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666880"/>
            <a:ext cx="236196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r * b[k][j]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78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424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8320" y="5329080"/>
            <a:ext cx="1915920" cy="1071720"/>
            <a:chOff x="598320" y="5329080"/>
            <a:chExt cx="1915920" cy="1071720"/>
          </a:xfrm>
        </p:grpSpPr>
        <p:sp>
          <p:nvSpPr>
            <p:cNvPr id="130" name=""/>
            <p:cNvSpPr/>
            <p:nvPr/>
          </p:nvSpPr>
          <p:spPr>
            <a:xfrm>
              <a:off x="59832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82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14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0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508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828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2040" y="5592240"/>
              <a:ext cx="720" cy="393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2640" y="5877720"/>
              <a:ext cx="4298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9960" y="57409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532908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8440" y="5828400"/>
              <a:ext cx="37080" cy="392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5240" y="55652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74560" y="5559480"/>
            <a:ext cx="2529360" cy="840240"/>
            <a:chOff x="3274560" y="5559480"/>
            <a:chExt cx="2529360" cy="840240"/>
          </a:xfrm>
        </p:grpSpPr>
        <p:sp>
          <p:nvSpPr>
            <p:cNvPr id="143" name=""/>
            <p:cNvSpPr/>
            <p:nvPr/>
          </p:nvSpPr>
          <p:spPr>
            <a:xfrm>
              <a:off x="335196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7404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92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456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628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900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3480" y="573840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0600" y="5874840"/>
              <a:ext cx="455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6760" y="5884920"/>
              <a:ext cx="396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4560" y="555948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31600" y="555948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9080" y="5695920"/>
              <a:ext cx="455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72200" y="5319720"/>
            <a:ext cx="1907640" cy="1081440"/>
            <a:chOff x="6172200" y="5319720"/>
            <a:chExt cx="1907640" cy="1081440"/>
          </a:xfrm>
        </p:grpSpPr>
        <p:sp>
          <p:nvSpPr>
            <p:cNvPr id="156" name=""/>
            <p:cNvSpPr/>
            <p:nvPr/>
          </p:nvSpPr>
          <p:spPr>
            <a:xfrm>
              <a:off x="617220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232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704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920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8004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60379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1520" y="53197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480" y="5895720"/>
              <a:ext cx="450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5280" y="556884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585840" y="557640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688880" y="558612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3480" y="531972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rove Temporal Locality by 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” (in this context) does not mean “cache bloc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, it means a sub-block within the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: n = 8; sub-block size = 4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6240" y="507204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068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33400" y="3200400"/>
            <a:ext cx="216000" cy="838080"/>
            <a:chOff x="1733400" y="3200400"/>
            <a:chExt cx="216000" cy="838080"/>
          </a:xfrm>
        </p:grpSpPr>
        <p:sp>
          <p:nvSpPr>
            <p:cNvPr id="173" name=""/>
            <p:cNvSpPr/>
            <p:nvPr/>
          </p:nvSpPr>
          <p:spPr>
            <a:xfrm>
              <a:off x="17334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460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6000" y="40384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0760" y="3200400"/>
            <a:ext cx="228960" cy="838080"/>
            <a:chOff x="2480760" y="3200400"/>
            <a:chExt cx="228960" cy="838080"/>
          </a:xfrm>
        </p:grpSpPr>
        <p:sp>
          <p:nvSpPr>
            <p:cNvPr id="177" name=""/>
            <p:cNvSpPr/>
            <p:nvPr/>
          </p:nvSpPr>
          <p:spPr>
            <a:xfrm flipV="1">
              <a:off x="27097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807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4807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48012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09920" y="3200400"/>
            <a:ext cx="215640" cy="838080"/>
            <a:chOff x="3409920" y="3200400"/>
            <a:chExt cx="215640" cy="838080"/>
          </a:xfrm>
        </p:grpSpPr>
        <p:sp>
          <p:nvSpPr>
            <p:cNvPr id="182" name=""/>
            <p:cNvSpPr/>
            <p:nvPr/>
          </p:nvSpPr>
          <p:spPr>
            <a:xfrm>
              <a:off x="34099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25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25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52600" y="3200400"/>
            <a:ext cx="228960" cy="838080"/>
            <a:chOff x="4152600" y="3200400"/>
            <a:chExt cx="228960" cy="838080"/>
          </a:xfrm>
        </p:grpSpPr>
        <p:sp>
          <p:nvSpPr>
            <p:cNvPr id="186" name=""/>
            <p:cNvSpPr/>
            <p:nvPr/>
          </p:nvSpPr>
          <p:spPr>
            <a:xfrm flipV="1">
              <a:off x="438156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15260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5260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91520" y="348156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360" y="34527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853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010120" y="3200400"/>
            <a:ext cx="215640" cy="838080"/>
            <a:chOff x="5010120" y="3200400"/>
            <a:chExt cx="215640" cy="838080"/>
          </a:xfrm>
        </p:grpSpPr>
        <p:sp>
          <p:nvSpPr>
            <p:cNvPr id="193" name=""/>
            <p:cNvSpPr/>
            <p:nvPr/>
          </p:nvSpPr>
          <p:spPr>
            <a:xfrm>
              <a:off x="50101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27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27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790960" y="3200400"/>
            <a:ext cx="228960" cy="838080"/>
            <a:chOff x="5790960" y="3200400"/>
            <a:chExt cx="228960" cy="838080"/>
          </a:xfrm>
        </p:grpSpPr>
        <p:sp>
          <p:nvSpPr>
            <p:cNvPr id="197" name=""/>
            <p:cNvSpPr/>
            <p:nvPr/>
          </p:nvSpPr>
          <p:spPr>
            <a:xfrm flipV="1">
              <a:off x="60199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7909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7909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3520" y="4406760"/>
            <a:ext cx="7467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ey ide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-blocks (i.e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n be treated just like sca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(bij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0880" y="1066680"/>
            <a:ext cx="690084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 = n/bsiz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assume n is an integral multiple of bsiz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kk=0; kk&lt;e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j=0; jj&lt;e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1040" y="3962520"/>
            <a:ext cx="23004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2108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most loop pair multiplies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ccumulates into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484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8340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660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91480" y="5229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4440" y="606744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39960" y="474336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1320" y="4654440"/>
            <a:ext cx="203040" cy="2034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81080" y="578808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35800" y="49334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6640" y="568656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981840" y="480672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168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360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6592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12000" y="4603680"/>
            <a:ext cx="361440" cy="736560"/>
            <a:chOff x="5112000" y="4603680"/>
            <a:chExt cx="361440" cy="736560"/>
          </a:xfrm>
        </p:grpSpPr>
        <p:sp>
          <p:nvSpPr>
            <p:cNvPr id="224" name=""/>
            <p:cNvSpPr/>
            <p:nvPr/>
          </p:nvSpPr>
          <p:spPr>
            <a:xfrm>
              <a:off x="5280120" y="460368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2000" y="469080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68988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756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302000" y="4309920"/>
            <a:ext cx="736560" cy="302040"/>
            <a:chOff x="4302000" y="4309920"/>
            <a:chExt cx="736560" cy="302040"/>
          </a:xfrm>
        </p:grpSpPr>
        <p:sp>
          <p:nvSpPr>
            <p:cNvPr id="229" name=""/>
            <p:cNvSpPr/>
            <p:nvPr/>
          </p:nvSpPr>
          <p:spPr>
            <a:xfrm>
              <a:off x="4302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6200" y="43099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64320" y="4309920"/>
            <a:ext cx="736560" cy="302040"/>
            <a:chOff x="6664320" y="4309920"/>
            <a:chExt cx="736560" cy="302040"/>
          </a:xfrm>
        </p:grpSpPr>
        <p:sp>
          <p:nvSpPr>
            <p:cNvPr id="232" name=""/>
            <p:cNvSpPr/>
            <p:nvPr/>
          </p:nvSpPr>
          <p:spPr>
            <a:xfrm>
              <a:off x="666432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960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445000" y="4309920"/>
            <a:ext cx="736560" cy="302040"/>
            <a:chOff x="5445000" y="4309920"/>
            <a:chExt cx="736560" cy="302040"/>
          </a:xfrm>
        </p:grpSpPr>
        <p:sp>
          <p:nvSpPr>
            <p:cNvPr id="235" name=""/>
            <p:cNvSpPr/>
            <p:nvPr/>
          </p:nvSpPr>
          <p:spPr>
            <a:xfrm>
              <a:off x="5445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7064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936720" y="2438280"/>
            <a:ext cx="69008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62080" y="2838600"/>
            <a:ext cx="230040" cy="1753920"/>
          </a:xfrm>
          <a:custGeom>
            <a:avLst/>
            <a:gdLst/>
            <a:ahLst/>
            <a:rect l="l" t="t" r="r" b="b"/>
            <a:pathLst>
              <a:path w="145" h="1249">
                <a:moveTo>
                  <a:pt x="96" y="0"/>
                </a:moveTo>
                <a:lnTo>
                  <a:pt x="0" y="0"/>
                </a:lnTo>
                <a:lnTo>
                  <a:pt x="0" y="1248"/>
                </a:lnTo>
                <a:lnTo>
                  <a:pt x="144" y="12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31800" y="3352680"/>
            <a:ext cx="533520" cy="39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920" y="3733920"/>
            <a:ext cx="1042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tium Blocked Mat-Mu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242892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2892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improve the performance of your progr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working set reasonably small (tempor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mall strides (spati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d writing “cache friendly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ptimum performance is very platform specific: cache sizes, line size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Independe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repeating code out of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in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costly operations with simpler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data in registers rather tha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procedure call in loop, use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Common sub-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rocedure calls are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ounds checking is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Memory references are expensiv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Dependent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system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505320"/>
            <a:ext cx="50292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8862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952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752480"/>
            <a:ext cx="83808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562720"/>
            <a:ext cx="11430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676520"/>
            <a:ext cx="9144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286000"/>
            <a:ext cx="9144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1905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520" y="2514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370880" y="1752480"/>
            <a:ext cx="152388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1480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58040" y="15764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6240" y="22017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13800" y="27716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0880" y="30765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51656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46400" y="5157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8320" y="49528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6240" y="49370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98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8769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4495680"/>
            <a:ext cx="3047760" cy="380880"/>
            <a:chOff x="1523880" y="4495680"/>
            <a:chExt cx="3047760" cy="380880"/>
          </a:xfrm>
        </p:grpSpPr>
        <p:sp>
          <p:nvSpPr>
            <p:cNvPr id="91" name=""/>
            <p:cNvSpPr/>
            <p:nvPr/>
          </p:nvSpPr>
          <p:spPr>
            <a:xfrm>
              <a:off x="15238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28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16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3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3920" y="48769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828800"/>
            <a:ext cx="9144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2860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65960" y="2666880"/>
            <a:ext cx="83844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120" y="30607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8195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 – Why We Can Do S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1295280"/>
            <a:ext cx="259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ersca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ultiple operations on every clock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ut-of-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ed instructions need not correspond to th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Instructions Can Execute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integer (one may be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Multiplication or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Instructions Take &gt; 1 Cycle, but Can be Pipe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es/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/ Sto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PU Capability of Pentium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multiple iterations into single loop b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ore data operations in each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ortize loop overhead across multiple it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ing loop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loop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the loop condition NOT to run over array b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sh extras a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actice Tim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on practice problem 5.12 and 5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We must perform two loads per element to read values for udata and vdata. There is only one unit to perform these loads, and it requires on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The performance for floating point is still limited by the 3 cycle latency of the floating-point ad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1T15:04:46Z</dcterms:modified>
  <cp:revision>319</cp:revision>
  <dc:subject/>
  <dc:title>Call Chain Example</dc:title>
</cp:coreProperties>
</file>