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F1F-2FE0-4D77-B4B5-E8B69D35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CC5F-E418-4973-A4F0-DE2D9C1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BD8-912F-40D3-9D5D-955E678E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D052-5140-44CC-B620-B5F09FF5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407-5FF5-4668-BE02-18777618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AFD-3A0B-404F-8424-9ECF4EBF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E6D-2E9F-4F3A-98AB-8A83F37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B72D-FA03-4300-BDC1-DEA7936D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E34-7B98-4B49-A02C-DDE1FCF6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7E89-00E8-4A04-B526-556AB8A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912-CD70-49B7-B476-FD4BA3C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921-1E71-4BC4-A65C-A4A1213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DB6E-BB53-4D06-AFC5-91049F03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4: 09/30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sential skill for Lab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-of-bound arra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you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de on the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ut of town next week –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jesh is taking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0384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1:Tue 10/8, 6-7:30pm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Doherty 2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3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 10/7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de You Want To Buffer Over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Your Exploi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60020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3040" y="20574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3276720"/>
            <a:ext cx="228600" cy="236196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3040" y="4281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into Bits n’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cat exploit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./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ut Exploit Code onto the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e8 0xbffff7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2080" y="1714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02320" y="2441520"/>
            <a:ext cx="93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19480" y="28036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2080" y="2438280"/>
            <a:ext cx="103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560" y="1924200"/>
            <a:ext cx="1454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6880" y="3124080"/>
            <a:ext cx="358164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77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09-30T16:01:18Z</dcterms:modified>
  <cp:revision>216</cp:revision>
  <dc:subject/>
  <dc:title>Call Chain Example</dc:title>
</cp:coreProperties>
</file>