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2E9-D26C-4AF7-A173-03FF7928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B47-A85C-43EC-B8AC-BD095EB0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CA3-4813-4683-A759-C07D3A58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20A-B4AD-4BD1-BCF2-FB1E6E51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B4C-2C73-40D9-B50E-252DCDE6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4B6-1B11-4874-A99E-2C9AA209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C4C-6C17-4EF1-A2B4-6F538E51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53A-D7C0-4D43-AF8A-054F5ACF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2AF-94C5-4794-AAF6-94ED5CC8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74C-DCA8-4406-ACB7-AC56A111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F43-2AB2-47DA-94C6-A6C99E41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EE9-9B9A-4671-BD38-D84A57A3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06AD-3285-4A65-8319-F963532CD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4: 09/30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ac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sential skill for Lab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-of-bound arra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de on the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ut of town next week –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ajesh is taking 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03848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1:Tue 10/8, 6-7:30pm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Doherty 2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3 due: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 10/7, 11:59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743200" y="3809880"/>
            <a:ext cx="3429000" cy="1524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de You Want To Buffer Over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ufoverflow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* string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cpy(buf, strin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    0xfffffff0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0x804833c &lt;strc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Your Exploi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abs_shift(</a:t>
            </a:r>
            <a:r>
              <a:rPr b="1" lang="pt-BR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(n&gt;=0 ? n : -n) &lt;&lt;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l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ge .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gl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l $2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0x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16002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3040" y="20574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it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3276720"/>
            <a:ext cx="228600" cy="236196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3040" y="4281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it.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ut Exploit Code into Bits n’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gcc –c exploit.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objdump –d exploit.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0 &lt;.text&gt;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:   8b 45 08            mov 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   85 c0               test 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:   7d 02               jge    0x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:   f7 d8               neg 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:   c1 e0 02            shl    $0x2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 00 00               add    %al,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cat exploit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45 08 85 c0 7d 02 f7 d8 c1 e0 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./sendstring &lt; exploit.txt &gt; exploit.r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od -t x1 exploit.r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 8b 45 08 85 c0 7d 02 f7 d8 c1 e0 02 0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ut Exploit Code onto the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gdb buf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break buf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run &lt; exploit.r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4w $ebp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nexti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4w $ebp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disas 0xbffff7e8 0xbffff7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2080" y="1714680"/>
            <a:ext cx="103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523880" y="2133720"/>
            <a:ext cx="29718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02320" y="2441520"/>
            <a:ext cx="93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666880" y="2362320"/>
            <a:ext cx="18288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9480" y="2803680"/>
            <a:ext cx="103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2080" y="2438280"/>
            <a:ext cx="103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2209680"/>
            <a:ext cx="2209680" cy="838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560" y="1924200"/>
            <a:ext cx="1454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12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located for b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70840" y="6095880"/>
            <a:ext cx="29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 what’s happening after strcpy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29718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32767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676520" y="2819160"/>
            <a:ext cx="4572000" cy="759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3124080"/>
            <a:ext cx="3581640" cy="6098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505320" y="2819520"/>
            <a:ext cx="2743200" cy="12189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90920" y="2819520"/>
            <a:ext cx="3657600" cy="18288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SCS</cp:lastModifiedBy>
  <dcterms:modified xsi:type="dcterms:W3CDTF">2002-09-30T16:01:18Z</dcterms:modified>
  <cp:revision>216</cp:revision>
  <dc:subject/>
  <dc:title>Call Chain Example</dc:title>
</cp:coreProperties>
</file>