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EED-0538-45D0-96B9-C46B19E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FF0-4B52-43EA-8F33-0490339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233-57E1-4FE7-9472-C8D351C0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2A5-6163-439A-8EFF-782B307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D9C-561A-4C6F-A775-EFA0670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ED7-E9B9-47C3-A587-518358E9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E0A-9765-43EF-9552-E809659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DDF-4DF5-4869-976F-F4994A4A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BBA-BD9D-4A97-827E-A75157D6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535-274C-476B-A123-F00FD4F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2E6-A211-4BF1-BE6E-FCA7D5A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394-F5B4-4ECF-BA33-1F94841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6F55-D7C5-41C0-9A6F-7AE21D63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4: 09/30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ntial skill for Lab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-of-bound arra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de on the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t of town next week –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jesh is taking 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0384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1:Tue 10/8, 6-7:30pm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Doherty 2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3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0/7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43200" y="3809880"/>
            <a:ext cx="3429000" cy="1524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de You Want To Buffer Over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overflow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* string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cpy(buf, str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    0xfffffff0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0x804833c &lt;strc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r Exploi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bs_shift(</a:t>
            </a: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(n&gt;=0 ? n : -n) &lt;&lt;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e .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g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0x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6002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3040" y="2057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it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3276720"/>
            <a:ext cx="228600" cy="236196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3040" y="4281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it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ut Exploit Code into Bits n’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gcc –c exploit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objdump –d exploit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0 &lt;.text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   8b 45 08            mov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 85 c0               test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7d 02               jge    0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   f7 d8               neg 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   c1 e0 02            shl    $0x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 00 00               add    %al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cat exploit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85 c0 7d 02 f7 d8 c1 e0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./sendstring &lt; exploit.txt &gt;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od -t x1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 8b 45 08 85 c0 7d 02 f7 d8 c1 e0 02 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ut Exploit Code onto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gdb buf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break buf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run &lt;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nexti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disas 0xbffff7e8 0xbffff7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2080" y="17146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23880" y="2133720"/>
            <a:ext cx="2971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02320" y="2441520"/>
            <a:ext cx="93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666880" y="2362320"/>
            <a:ext cx="1828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9480" y="28036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2080" y="24382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209680"/>
            <a:ext cx="22096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560" y="1924200"/>
            <a:ext cx="1454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12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ocated for b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70840" y="6095880"/>
            <a:ext cx="29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 what’s happening after strcpy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971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276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76520" y="2819160"/>
            <a:ext cx="4572000" cy="75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3124080"/>
            <a:ext cx="3581640" cy="6098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505320" y="2819520"/>
            <a:ext cx="2743200" cy="1218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819520"/>
            <a:ext cx="3657600" cy="18288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09-30T16:01:18Z</dcterms:modified>
  <cp:revision>216</cp:revision>
  <dc:subject/>
  <dc:title>Call Chain Example</dc:title>
</cp:coreProperties>
</file>