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233-1AE6-4A11-B735-B946942F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8F52-7575-4BC1-B08E-C5EF7D91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8AD-336F-4793-998A-F4B6AD14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1445-B769-499B-9F09-753B87A1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9BF-8D9D-41BE-A75F-9243C40D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C5D4-195F-4F79-BBA9-1A542F99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776-3DDD-4B3A-84DF-42362E5E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671-6499-40E8-9B17-D9902ACE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6EE-5751-4B3E-BA82-1B00984C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CBFE-5F97-45C5-86C2-136577EA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049A-29E7-4769-959E-028C86F4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B23-6863-4E02-AEB4-A2CEA1E2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4FAE-8730-4CF4-AEDA-06A0F7768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3: 09/23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 con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s an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s and link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981080"/>
            <a:ext cx="381024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343400"/>
            <a:ext cx="3962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2 is due this Thursd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28954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9800" y="27432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04880" y="274320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323064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9800" y="3078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04880" y="2800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14240" y="3127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3535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79800" y="338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04880" y="2800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4240" y="3127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1600" y="3373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72240" y="369396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72240" y="247968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38419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9800" y="3689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04880" y="2773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14240" y="3100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81600" y="3373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67520" y="3803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27600" y="3689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3805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9800" y="365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086600" y="3798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27600" y="3687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" name=""/>
          <p:cNvCxnSpPr>
            <a:stCxn id="274" idx="3"/>
          </p:cNvCxnSpPr>
          <p:nvPr/>
        </p:nvCxnSpPr>
        <p:spPr>
          <a:xfrm>
            <a:off x="7067160" y="2885760"/>
            <a:ext cx="1067400" cy="2423160"/>
          </a:xfrm>
          <a:prstGeom prst="curvedConnector2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3805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79800" y="365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302" idx="3"/>
          </p:cNvCxnSpPr>
          <p:nvPr/>
        </p:nvCxnSpPr>
        <p:spPr>
          <a:xfrm>
            <a:off x="7067160" y="3191040"/>
            <a:ext cx="1067400" cy="2118240"/>
          </a:xfrm>
          <a:prstGeom prst="curvedConnector2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 flipH="1">
            <a:off x="7086600" y="3798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27600" y="3687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10080" y="3805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79800" y="365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086600" y="3798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27600" y="36878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10080" y="3805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9800" y="365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27600" y="12524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7086600" y="1403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35053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79800" y="33526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79800" y="3382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5800" y="4867200"/>
            <a:ext cx="37339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ample_1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0xc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0x8(%ebp),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7086600" y="140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10080" y="35272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gi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ax: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accumulator.  contains return value from a function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b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umulator.  Often used to hold the starting address of an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cx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mulator.  Often used as a counter or index register for an array or a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dx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 purpose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si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 purpose register.  Pointer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ur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when copying a block of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di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 purpose register.  Pointer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stinati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when copying a block of dat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9800" y="3962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7086600" y="140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410080" y="41068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14240" y="3073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7" name=""/>
          <p:cNvCxnSpPr/>
          <p:nvPr/>
        </p:nvCxnSpPr>
        <p:spPr>
          <a:xfrm rot="10800000">
            <a:off x="7085880" y="4419000"/>
            <a:ext cx="991440" cy="915120"/>
          </a:xfrm>
          <a:prstGeom prst="curvedConnector5">
            <a:avLst>
              <a:gd name="adj1" fmla="val 49981"/>
              <a:gd name="adj2" fmla="val 49980"/>
              <a:gd name="adj3" fmla="val 49981"/>
            </a:avLst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4879800" y="4297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7086600" y="140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72240" y="2743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72240" y="304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72240" y="33526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72240" y="36576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72240" y="396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72240" y="427824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72240" y="15238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72240" y="18288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72240" y="213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72240" y="243828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416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72240" y="365760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81600" y="3346560"/>
            <a:ext cx="12956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14240" y="427032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72240" y="156528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72240" y="1870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7067520" y="1409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410080" y="47242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879800" y="4572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04880" y="4254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799240" y="4575240"/>
            <a:ext cx="114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85400" y="4549680"/>
            <a:ext cx="82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%d\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80160" y="45720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69000" y="3689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769000" y="33908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x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772240" y="156528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72240" y="1870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7067520" y="1409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10080" y="50292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79800" y="4876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04880" y="4254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99240" y="4575240"/>
            <a:ext cx="114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85400" y="4549680"/>
            <a:ext cx="82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d\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780160" y="45720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69000" y="3689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69000" y="33908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80160" y="4886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72240" y="156528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72240" y="1870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7067160" y="1409760"/>
            <a:ext cx="47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5276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1371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79800" y="1219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104880" y="4254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9240" y="4575240"/>
            <a:ext cx="114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85400" y="4549680"/>
            <a:ext cx="82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d\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780160" y="45720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69000" y="3689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769000" y="33908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80160" y="4886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7162920" y="343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624080" y="22860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ld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467480" y="5334120"/>
            <a:ext cx="129564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937200" y="5334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848000" y="5343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72240" y="156528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72240" y="18702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0080" y="13716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79800" y="1219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04880" y="425448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799240" y="4575240"/>
            <a:ext cx="114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85400" y="4549680"/>
            <a:ext cx="82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%d\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80160" y="457200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769000" y="3689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%ebp (m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69000" y="33908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04880" y="2746440"/>
            <a:ext cx="501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80160" y="488628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Return ad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894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90920" y="1600200"/>
            <a:ext cx="41907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xample_1 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,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 + 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= example_1(x,y)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%d\n", res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2: Recu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2: 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894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" y="1371600"/>
            <a:ext cx="79246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xample_2 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esul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n &lt;=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= 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ls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= example_2(n-2) + example_2(n-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,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n=“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f(“%d”, &amp;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ult = example_2(n);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example_2(%d) = %d\n", n, resul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omogenous Data: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cated as contiguous blocks of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boundary check in C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ress Computation Exampl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cmu_class[5] = {213, 212, 122, 111, 451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mu_class begins at memory address 0x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amp;cs_class[0]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 + 4*0 = 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amp;cs_class[3]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 + 4*3 =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amp;cs_class[-1]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 + 4*-1 = 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&amp;cs_class[15]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40 + 4*15 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38080" y="4114800"/>
            <a:ext cx="7696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7696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recursion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s toward lower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s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 “top”, lowest stack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%eb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 “bottom”, start of current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add $0xfffffffc, %esp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# decrease: %esp–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sh %eax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# place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op %ea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#read value pointed by %e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680" indent="-434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add $0x4, %es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#increase %esp+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3: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3: 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4894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85800" y="1371600"/>
            <a:ext cx="79246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xample_3 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[], int nu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i,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= 0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ii=0; ii&lt;num; i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x[ii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[5] = {1, 2, 3, 4, 5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%d\n", example_3(x, 5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ruct and Un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ores multipl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un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tores one single element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bers of a union change how you look a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ons are used for mutually exclusiv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ruct one {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union tw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i;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double d;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double 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 c[2];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char c[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4: Linked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4: 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89480" y="11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ck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mporary space allocated when enter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storage for ea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stan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rocedure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601992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5533920"/>
            <a:ext cx="164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60960" y="345132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6720" y="2971800"/>
            <a:ext cx="1717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2959200"/>
            <a:ext cx="1371600" cy="30456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3568680"/>
            <a:ext cx="1384560" cy="184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10280" y="5410080"/>
            <a:ext cx="1371600" cy="73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1143000"/>
            <a:ext cx="1371600" cy="13716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10280" y="3263760"/>
            <a:ext cx="13716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2362320"/>
            <a:ext cx="1371600" cy="60948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7520" y="18288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143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call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er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aller sa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gisters (if necessar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%eax, %ecx, 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sh argu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n what order?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 return address (done by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r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allee 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 base poi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ush %e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mov %esp, eb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 callee save regis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-40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%ebx, %esi, %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value in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%e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-469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ore regist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mov %ebp, %e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pop %eb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Lucida Console"/>
              </a:rPr>
              <a:t>Old 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72240" y="21686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14479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98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162920" y="343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3000" y="228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668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10080" y="144792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9800" y="1295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198108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9800" y="1828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 1: Procedure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14760" y="1916280"/>
            <a:ext cx="22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05560" y="10666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219320"/>
            <a:ext cx="3733920" cy="350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ain&gt;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b    $0x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example_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sh   $0x80484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  &lt;printf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or    %eax,%e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72240" y="1254240"/>
            <a:ext cx="12952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Old %eb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72240" y="15588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72240" y="18637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72240" y="21686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72240" y="24732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72240" y="27781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2240" y="30830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72240" y="33876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72240" y="369252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72240" y="399744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72240" y="4302000"/>
            <a:ext cx="1295280" cy="28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7067520" y="1432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27600" y="1317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2620800"/>
            <a:ext cx="3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79800" y="2468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%e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80160" y="4583160"/>
            <a:ext cx="1295280" cy="28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Andrew Carnegie</cp:lastModifiedBy>
  <dcterms:modified xsi:type="dcterms:W3CDTF">2002-09-23T20:18:12Z</dcterms:modified>
  <cp:revision>170</cp:revision>
  <dc:subject/>
  <dc:title>Call Chain Example</dc:title>
</cp:coreProperties>
</file>