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7F6-3203-4068-92CA-42401800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977-546A-4269-BAF4-254D6D15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E8C-750B-48D6-BF83-BC8F1394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F2A-3198-4CA0-9BA4-0D673A54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585-BAF9-43FF-938C-36BC77A8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1FC-1A5F-4D5D-8E78-B9431D25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76B-B3EC-4527-99C5-CCB73B0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FA1-9FAD-48A6-8003-669AB7B7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2A9-EE2F-435E-BD9E-BF0E786D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1EE-D15F-4E22-8073-F5279A5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647-2E19-4FB6-AE8C-9B563F1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D73-46B9-4346-87CE-966491E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E562-AE68-4E0B-AB79-42FB13266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3: 09/23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s and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34340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2 is due this Thurs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8954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9800" y="2743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04880" y="274320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3064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9800" y="3078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04880" y="2800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4240" y="3127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353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9800" y="338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04880" y="2800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4240" y="3127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3373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72240" y="369396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72240" y="24796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3841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9800" y="3689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4880" y="2773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4240" y="3100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81600" y="3373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67520" y="3803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7600" y="3689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4" idx="3"/>
          </p:cNvCxnSpPr>
          <p:nvPr/>
        </p:nvCxnSpPr>
        <p:spPr>
          <a:xfrm>
            <a:off x="7067160" y="2885760"/>
            <a:ext cx="1067400" cy="2423160"/>
          </a:xfrm>
          <a:prstGeom prst="curvedConnector2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</p:cNvCxnSpPr>
          <p:nvPr/>
        </p:nvCxnSpPr>
        <p:spPr>
          <a:xfrm>
            <a:off x="7067160" y="3191040"/>
            <a:ext cx="1067400" cy="2118240"/>
          </a:xfrm>
          <a:prstGeom prst="curvedConnector2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27600" y="1252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86600" y="140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5053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9800" y="3352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9800" y="338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35272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ax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accumulator.  contains return value from a 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b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umulator.  Often used to hold the starting address of a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cx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mulator.  Often used as a counter or index register for an array or a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dx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si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. 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ur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when copying a block of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di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. 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tina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when copying a block of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9800" y="3962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41068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/>
          <p:nvPr/>
        </p:nvCxnSpPr>
        <p:spPr>
          <a:xfrm rot="10800000">
            <a:off x="7085880" y="4419000"/>
            <a:ext cx="991440" cy="915120"/>
          </a:xfrm>
          <a:prstGeom prst="curvedConnector5">
            <a:avLst>
              <a:gd name="adj1" fmla="val 49981"/>
              <a:gd name="adj2" fmla="val 49980"/>
              <a:gd name="adj3" fmla="val 49981"/>
            </a:avLst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4879800" y="4297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416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14240" y="4270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067520" y="1409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10080" y="47242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9800" y="4572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067520" y="1409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5029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9800" y="4876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67160" y="14097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371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980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162920" y="34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4080" y="228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ld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1371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980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1600200"/>
            <a:ext cx="41907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1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 + 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1(x,y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%d\n",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2: 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2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1371600"/>
            <a:ext cx="7924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2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sul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n &lt;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2(n-2) + example_2(n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,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n=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f(“%d”, &amp;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2(n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example_2(%d) = %d\n", n,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mogenous Data: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cated as contiguous blocks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boundary check in 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 Computation Examp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cmu_class[5] = {213, 212, 122, 111, 45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mu_class begins at memory address 0x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0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0 =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3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3 =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-1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-1 = 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15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15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080" y="411480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recursio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s toward lower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“top”, lowest stac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“bottom”, start of current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 $0xfffffffc, %esp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 decrease: %esp–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sh %eax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 plac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op %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read value pointed by %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 $0x4, %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increase %esp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3: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3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371600"/>
            <a:ext cx="7924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3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[], int 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i,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= 0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i=0; ii&lt;num; i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x[ii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[5] = {1, 2, 3, 4, 5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%d\n", example_3(x, 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uct and U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ores multipl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ores one single elemen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bers of a union change how you look a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ons are used for mutually exclus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ruct one {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union tw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i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double d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double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 c[2]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char c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4: Linke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4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ck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 space allocated when enter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storage for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rocedur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55339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60960" y="34513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297180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959200"/>
            <a:ext cx="1371600" cy="30456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568680"/>
            <a:ext cx="1384560" cy="184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5410080"/>
            <a:ext cx="13716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1143000"/>
            <a:ext cx="1371600" cy="13716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3263760"/>
            <a:ext cx="13716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2362320"/>
            <a:ext cx="1371600" cy="60948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er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ller sa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gisters (if necessa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%eax, %ecx,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 argu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 what order?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return address (done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llee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base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sh %e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ov %esp, eb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callee save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%ebx, %esi, %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i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ov %ebp, %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op %e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Old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72240" y="21686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447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162920" y="34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3000" y="228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668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447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98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19810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9800" y="1828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6208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9800" y="2468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09-23T20:18:12Z</dcterms:modified>
  <cp:revision>170</cp:revision>
  <dc:subject/>
  <dc:title>Call Chain Example</dc:title>
</cp:coreProperties>
</file>