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8DA-F9B0-4B14-851F-9C29BB62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AC7-E1B6-4EC6-A423-B3828665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81E-3FAE-4558-9543-62DD8690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810-4BB5-46DB-9EBD-3608A82E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800-A6D1-42D2-862C-BBA33D95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8B5-2F29-412B-8F36-4D36EF2C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362-4BDD-4D1E-B467-7006CE72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CB74-8213-4EE0-A6A4-B982618A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93F-B32B-4420-A93D-627AC523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6B7-5953-4F90-8595-EC063C28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4D8-88EB-448C-80F2-5A9B0500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7EC-28DB-423D-8D08-CAF85720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7638-1A22-4A41-B4FA-96B3F4EC0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2: 09/16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86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y walk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G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y with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to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mbly t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981080"/>
            <a:ext cx="381024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1: Arithme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int func1(int a, int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int x,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x 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y = 2*x -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return x*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760" y="12175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vert to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2: If Stat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760" y="12175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vert to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int func2(int a, int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if (a &gt; 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return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else return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3: switch stat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int func3(int a, int 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int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switch(a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case 0: r = a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case 1: r = b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case 2: r = a+b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case 3: r = a-b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case 4: r = a*b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default: r = strlen(MY_STRING)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return 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udience Participation Time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6553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et_su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shl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shl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8(%ebp),%ebx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12(%ebp),%ecx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xorl %eax,%eax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ax,%edx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mpl %ecx,%eax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jge .L4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.L6:    addl (%ebx,%edx,4),%eax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cl %edx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mpl %ecx,%edx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jl .L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.L4:    popl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opl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51160" y="121752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vert 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udience Participation Time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et_su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shl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shl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8(%ebp),%ebx         # ebx = 1st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12(%ebp),%ecx        # ecx = 2nd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xorl %eax,%eax            # eax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ax,%edx            # edx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mpl %ecx,%eax           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jge .L4                   # if (ecx &lt;= 0) goto L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.L6:    addl (%ebx,%edx,4),%eax   # eax += Mem[ebx+edx*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cl %edx                 # edx 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mpl %ecx,%edx           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jl .L6                    # if (ecx &lt; edx) goto L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.L4:    popl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opl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51160" y="121752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vert 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udience Participation: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6553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nt get_sum(int * array, int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nt i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r (i=0; i&lt;size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um += array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yster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nt mystery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compiled into the assembly on the next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1295280"/>
            <a:ext cx="4572000" cy="52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0:  myste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: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ovl   8(%ebp),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2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ovl   $0x0,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3: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mpl   $0x0, 12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4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je     .L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5: .L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6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mpl   $0x0, 12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7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jle    .L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8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dd    %edx,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9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decl   12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0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jmp .L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1:.L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2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ub    %edx,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3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incl   12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4:.L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5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ompl $0x0, 12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6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jne .L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7:.L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8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ov %ebp, 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9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op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20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03760" y="1495440"/>
            <a:ext cx="25779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Get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Set result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ompare y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If(y == 0) goto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Loo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ompare y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If(y &lt;= 0) goto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result +=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y-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goto 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Negativ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result -=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y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hec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ompare y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If(y != 0) goto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D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lean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10960" y="1514520"/>
            <a:ext cx="39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what is the function compu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981080"/>
            <a:ext cx="67816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/*  x times y, where x and y may be pos. or neg.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t multiply(int x, int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int resul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while( y != 0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if (y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esult +=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y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esult -=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y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eturn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hin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362320"/>
            <a:ext cx="38088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2209680"/>
            <a:ext cx="13716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752480"/>
            <a:ext cx="3200400" cy="221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752480"/>
            <a:ext cx="2286000" cy="381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2438280"/>
            <a:ext cx="2286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gram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51460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304812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35812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210816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266688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0040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733920"/>
            <a:ext cx="9903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3124080"/>
            <a:ext cx="13716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ecial Regi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eax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e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eb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(Stack Frame)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es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sembly Programming: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e old base pointer 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shl %eb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own base pointer 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ovl %esp, %eb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this saves the old stack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ons on data, loops,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sembly Programming: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 Clean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value placed in %e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bout returning larger values? (structs, doubl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ore Caller’s Stack Point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ovl %ebp,%es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ore Old Base Pointer 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opl %eb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does it return 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sembly Programming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mple Addressing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10(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 + 1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0x10(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 + 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sembly Programming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dexed Addressing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neric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(Rb, Ri, S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eg[Rb]+S*Reg[Ri]+ 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b,Ri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eg[Rb]+Reg[Ri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(Rb,Ri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eg[Rb]+Reg[Ri]+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b,Ri,S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eg[Rb]+S*Reg[Ri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sing G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NU dubu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 friend for Lab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gdb &lt;name_of_fi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hel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car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gdb type “hel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on web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seful GDB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Lab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sassem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disassembles machine code into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examine memory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u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run the program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et brea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ep, 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tep through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print values of variables and mem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23:36:32Z</dcterms:created>
  <dc:creator>Shaheen Gandhi</dc:creator>
  <dc:description/>
  <dc:language>en-US</dc:language>
  <cp:lastModifiedBy>Andrew Carnegie</cp:lastModifiedBy>
  <dcterms:modified xsi:type="dcterms:W3CDTF">2002-09-16T14:38:59Z</dcterms:modified>
  <cp:revision>84</cp:revision>
  <dc:subject/>
  <dc:title>15-213 Recitation 2 – 1/29/00</dc:title>
</cp:coreProperties>
</file>