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8FE-049E-41C8-AA30-50845E0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769-285A-4ACB-9BAC-9AEE1D7B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01CB-4C45-40B1-B16F-FC5920198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866-C96C-4576-B80D-CFFC09DF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DE1-1EB4-47A8-8125-94CAE1D4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8C8-D344-4DC1-BFD2-470A8219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16F-2B1C-4597-91F1-94AE8A36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CAB0-EBFD-4DF4-8780-3FF6F612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2F4-C3E1-49DB-B355-9658783D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FD10-851D-43DB-A131-DE01BBA9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539-E0F4-47A7-8611-1A21F21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BAA-B152-41AA-8599-B907C1BF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BD0-6484-4A41-80FB-B452F24E7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2: 09/16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862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y walk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G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y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 to 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mbly t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1: Arithme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func1(int a, in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x,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x 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y = 2*x -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return x*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760" y="1217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2: If Stat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760" y="12175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662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nt func2(int a, int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if (a &gt;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else return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3: switch stat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int func3(int a, int b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int 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switch(a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0: r = a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1: r = 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2: r = a+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3: r = a-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case 4: r = a*b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default: r = strlen(MY_STRING);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return 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 Time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et_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8(%ebp),%ebx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12(%ebp),%ecx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xorl %eax,%ea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ax,%ed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a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ge .L4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6:    addl (%ebx,%edx,4),%eax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cl %edx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dx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l .L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4:    pop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op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51160" y="12175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 Time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et_su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ush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8(%ebp),%ebx         # ebx = 1st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12(%ebp),%ecx        # ecx = 2nd a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xorl %eax,%eax            # ea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ax,%edx            # edx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ax           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ge .L4                   # if (ecx &lt;= 0) goto 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6:    addl (%ebx,%edx,4),%eax   # eax += Mem[ebx+edx*4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cl %edx                 # edx 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mpl %ecx,%edx           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jl .L6                    # if (ecx &lt; edx) goto L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.L4:    popl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ovl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opl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51160" y="1217520"/>
            <a:ext cx="19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vert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udience Participation: Ans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2640" y="1752120"/>
            <a:ext cx="6553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get_sum(int * array, 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int i=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for (i=0; i&lt;size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sum += array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yster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int mystery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compiled into the assembly on the next p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1295280"/>
            <a:ext cx="4572000" cy="520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0:  myste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: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l   8(%ebp), 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2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l   $0x0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3: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mpl  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4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e     .L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5: .L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6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mpl  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7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le    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8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dd    %edx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9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decl  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0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mp 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1:.L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2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ub    %edx,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3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cl  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4:.L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5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compl $0x0, 12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6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jne .L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7:.L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8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mov %ebp, 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19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op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20: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03760" y="1495440"/>
            <a:ext cx="25779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Get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Set result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== 0) goto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Loo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&lt;= 0) goto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sult +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y-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goto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Negati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result -=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y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hec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ompare y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If(y != 0) goto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D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Clean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xample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10960" y="1514520"/>
            <a:ext cx="39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 what is the function compu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981080"/>
            <a:ext cx="67816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/*  x times y, where x and y may be pos. or neg.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t multiply(int x, int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nt resul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while( y != 0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if (y &gt;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sult +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y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sult -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y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return resul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62320"/>
            <a:ext cx="3808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220968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2438280"/>
            <a:ext cx="22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5146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3048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5812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210816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266688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0040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73392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12408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pecial Regi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ax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(Stack Frame)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e old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ushl %eb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own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l %esp, %eb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that this saves the old stack 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ons on data, loops,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 Clean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value placed in %e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bout returning larger values? (structs, doubl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Caller’s Stack Point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ovl %ebp,%es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ore Old Base Pointer (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opl %eb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does it return 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mple Addressing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10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 + 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$0x10(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 + 1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ssembly Programming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dexed Addressing 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neric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Rb, Ri, 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S*Reg[Ri]+ 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b,R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Reg[Ri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Rb,R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Reg[Ri]+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Rb,Ri,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[Reg[Rb]+S*Reg[Ri]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ing G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NU dubug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t friend for Lab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gdb &lt;name_of_fi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t hel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car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gdb type “hel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arch on web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Useful GDB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ab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sassem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disassembles machine code into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examine memory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run the program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et break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ep, 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tep through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print values of variables and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3:36:32Z</dcterms:created>
  <dc:creator>Shaheen Gandhi</dc:creator>
  <dc:description/>
  <dc:language>en-US</dc:language>
  <cp:lastModifiedBy>Andrew Carnegie</cp:lastModifiedBy>
  <dcterms:modified xsi:type="dcterms:W3CDTF">2002-09-16T14:38:59Z</dcterms:modified>
  <cp:revision>84</cp:revision>
  <dc:subject/>
  <dc:title>15-213 Recitation 2 – 1/29/00</dc:title>
</cp:coreProperties>
</file>