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75463" cy="9161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0B30-DEE2-4CBD-BD5D-DCB0485E5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672A-B0C9-4DB4-8BA2-3CDB4E249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3F2C-443E-4803-B6B2-826A9682C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6D68-2530-49A7-9D98-CB739DAC2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8027-6715-4691-8090-9219329ED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BEBF-C121-49B5-9D90-C77A39599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6A3C-DCDE-4F9C-ADBB-13B4BBA56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6584-A4CE-40BE-B6FF-D2B7C785B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5FF4-D89B-41F7-807D-EE377C842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9700-24A8-4839-82D0-8C535C076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BADF-ED62-4670-9291-E00DA7AB7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070F-7B0F-49BF-82D0-B37B827C7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3B87C-8F09-49C8-BD8A-DA51135197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15-213 Recitation 2: 09/16/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862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Out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y walkthrou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ing GD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y with exam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 to 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sembly to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724280" y="1981080"/>
            <a:ext cx="3810240" cy="24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nnie Lu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e-mail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uluo@cs.cmu.ed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Office Hour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ursday 6:00 – 7:00p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an 84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72000" y="1981080"/>
            <a:ext cx="0" cy="396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Example 1: Arithmet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6629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Lucida Console"/>
              </a:rPr>
              <a:t>int func1(int a, int 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fr-FR" sz="2400" spc="-1" strike="noStrike">
                <a:solidFill>
                  <a:srgbClr val="000000"/>
                </a:solidFill>
                <a:latin typeface="Lucida Console"/>
              </a:rPr>
              <a:t>int x,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fr-FR" sz="2400" spc="-1" strike="noStrike">
                <a:solidFill>
                  <a:srgbClr val="000000"/>
                </a:solidFill>
                <a:latin typeface="Lucida Console"/>
              </a:rPr>
              <a:t>x = a + b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fr-FR" sz="2400" spc="-1" strike="noStrike">
                <a:solidFill>
                  <a:srgbClr val="000000"/>
                </a:solidFill>
                <a:latin typeface="Lucida Console"/>
              </a:rPr>
              <a:t>y = 2*x - b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fr-FR" sz="2400" spc="-1" strike="noStrike">
                <a:solidFill>
                  <a:srgbClr val="000000"/>
                </a:solidFill>
                <a:latin typeface="Lucida Console"/>
              </a:rPr>
              <a:t>return x*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200760" y="1217520"/>
            <a:ext cx="312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onvert to Assem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Example 2: If State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760" y="1217520"/>
            <a:ext cx="312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onvert to Assem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6629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Lucida Console"/>
              </a:rPr>
              <a:t>int func2(int a, int 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fr-FR" sz="2400" spc="-1" strike="noStrike">
                <a:solidFill>
                  <a:srgbClr val="000000"/>
                </a:solidFill>
                <a:latin typeface="Lucida Console"/>
              </a:rPr>
              <a:t>if (a &gt; b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fr-FR" sz="2400" spc="-1" strike="noStrike">
                <a:solidFill>
                  <a:srgbClr val="000000"/>
                </a:solidFill>
                <a:latin typeface="Lucida Console"/>
              </a:rPr>
              <a:t>return 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fr-FR" sz="2400" spc="-1" strike="noStrike">
                <a:solidFill>
                  <a:srgbClr val="000000"/>
                </a:solidFill>
                <a:latin typeface="Lucida Console"/>
              </a:rPr>
              <a:t>else return b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Example 3: switch stat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696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464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Lucida Console"/>
              </a:rPr>
              <a:t>int func3(int a, int b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4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4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1" lang="fr-FR" sz="2400" spc="-1" strike="noStrike">
                <a:solidFill>
                  <a:srgbClr val="000000"/>
                </a:solidFill>
                <a:latin typeface="Lucida Console"/>
              </a:rPr>
              <a:t>int 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404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4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1" lang="fr-FR" sz="2400" spc="-1" strike="noStrike">
                <a:solidFill>
                  <a:srgbClr val="000000"/>
                </a:solidFill>
                <a:latin typeface="Lucida Console"/>
              </a:rPr>
              <a:t>switch(a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4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1" lang="fr-FR" sz="2400" spc="-1" strike="noStrike">
                <a:solidFill>
                  <a:srgbClr val="000000"/>
                </a:solidFill>
                <a:latin typeface="Lucida Console"/>
              </a:rPr>
              <a:t>case 0: r = a; break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4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1" lang="fr-FR" sz="2400" spc="-1" strike="noStrike">
                <a:solidFill>
                  <a:srgbClr val="000000"/>
                </a:solidFill>
                <a:latin typeface="Lucida Console"/>
              </a:rPr>
              <a:t>case 1: r = b; break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4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1" lang="fr-FR" sz="2400" spc="-1" strike="noStrike">
                <a:solidFill>
                  <a:srgbClr val="000000"/>
                </a:solidFill>
                <a:latin typeface="Lucida Console"/>
              </a:rPr>
              <a:t>case 2: r = a+b; break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4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1" lang="fr-FR" sz="2400" spc="-1" strike="noStrike">
                <a:solidFill>
                  <a:srgbClr val="000000"/>
                </a:solidFill>
                <a:latin typeface="Lucida Console"/>
              </a:rPr>
              <a:t>case 3: r = a-b; break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4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1" lang="fr-FR" sz="2400" spc="-1" strike="noStrike">
                <a:solidFill>
                  <a:srgbClr val="000000"/>
                </a:solidFill>
                <a:latin typeface="Lucida Console"/>
              </a:rPr>
              <a:t>case 4: r = a*b; break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4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1" lang="fr-FR" sz="2400" spc="-1" strike="noStrike">
                <a:solidFill>
                  <a:srgbClr val="000000"/>
                </a:solidFill>
                <a:latin typeface="Lucida Console"/>
              </a:rPr>
              <a:t>default: r = strlen(MY_STRING); break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4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1" lang="fr-FR" sz="2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4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1" lang="fr-FR" sz="2400" spc="-1" strike="noStrike">
                <a:solidFill>
                  <a:srgbClr val="000000"/>
                </a:solidFill>
                <a:latin typeface="Lucida Console"/>
              </a:rPr>
              <a:t>return r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4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Audience Participation Time </a:t>
            </a:r>
            <a:r>
              <a:rPr b="1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42640" y="1752120"/>
            <a:ext cx="65530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479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get_sum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pushl %eb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movl %esp,%eb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pushl %eb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movl 8(%ebp),%ebx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movl 12(%ebp),%ecx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xorl %eax,%eax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movl %eax,%edx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cmpl %ecx,%eax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jge .L4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.L6:    addl (%ebx,%edx,4),%eax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incl %edx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cmpl %ecx,%edx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jl .L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.L4:    popl %eb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movl %ebp,%e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popl %eb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r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251160" y="1217520"/>
            <a:ext cx="195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onvert to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Audience Participation Time </a:t>
            </a:r>
            <a:r>
              <a:rPr b="1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42640" y="1752120"/>
            <a:ext cx="7543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479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get_sum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pushl %eb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movl %esp,%eb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pushl %eb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movl 8(%ebp),%ebx         # ebx = 1st ar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movl 12(%ebp),%ecx        # ecx = 2nd ar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xorl %eax,%eax            # eax =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movl %eax,%edx            # edx =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cmpl %ecx,%eax            #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jge .L4                   # if (ecx &lt;= 0) goto L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.L6:    addl (%ebx,%edx,4),%eax   # eax += Mem[ebx+edx*4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incl %edx                 # edx 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cmpl %ecx,%edx            #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jl .L6                    # if (ecx &lt; edx) goto L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.L4:    popl %eb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movl %ebp,%e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popl %eb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r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51160" y="1217520"/>
            <a:ext cx="195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onvert to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Audience Participation: Answ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2640" y="1752120"/>
            <a:ext cx="65530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int get_sum(int * array, int siz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int sum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int i=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for (i=0; i&lt;size; i+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sum += array[i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return sum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Example 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ystery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int mystery(int x, int 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compiled into the assembly on the next p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s the func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762120" y="1295280"/>
            <a:ext cx="4572000" cy="520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0:  myster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1: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movl   8(%ebp), %ed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2: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movl   $0x0, %ea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3: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cmpl   $0x0, 12(%ebp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4: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je     .L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5: .L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6: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cmpl   $0x0, 12(%ebp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7: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jle    .L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8: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dd    %edx, %ea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9: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decl   12(%ebp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10: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jmp .L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11:.L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12: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ub    %edx, %ea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13: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incl   12(%ebp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14:.L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15: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compl $0x0, 12(%ebp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16: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jne .L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17:.L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18: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mov %ebp, %e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19: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op %eb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20: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r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Example 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03760" y="1495440"/>
            <a:ext cx="257796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# Get 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# Set result =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# Compare y: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# If(y == 0) goto D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# Loo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# Compare y: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# If(y &lt;= 0) goto Nega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# result += 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# y- 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# goto Ch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# Negativ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# result -= 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# y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# Chec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# Compare y: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# If(y != 0) goto Loo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# Don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# Clean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Example 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110960" y="1514520"/>
            <a:ext cx="39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 what is the function computing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19320" y="1981080"/>
            <a:ext cx="678168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/*  x times y, where x and y may be pos. or neg.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int multiply(int x, int 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{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int result =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while( y != 0 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if (y &gt; 0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result += x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y--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else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result -= x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y++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return resul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Machine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2362320"/>
            <a:ext cx="380880" cy="1447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33720" y="2209680"/>
            <a:ext cx="1371600" cy="762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8080" y="1752480"/>
            <a:ext cx="3200400" cy="22100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P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791320" y="1752480"/>
            <a:ext cx="2286000" cy="3810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791320" y="2438280"/>
            <a:ext cx="22860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bject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ogram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038480" y="2514600"/>
            <a:ext cx="17528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038480" y="3048120"/>
            <a:ext cx="175284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038480" y="3581280"/>
            <a:ext cx="175284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038480" y="2108160"/>
            <a:ext cx="1752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ddr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038480" y="2666880"/>
            <a:ext cx="1752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00400"/>
            <a:ext cx="1676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stru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248520" y="3733920"/>
            <a:ext cx="990360" cy="1371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St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133720" y="3124080"/>
            <a:ext cx="137160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ond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o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Special Regis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315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%eax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%ei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ruction Poin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%eb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 (Stack Frame) Poin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%es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ck Poin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Assembly Programming: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unction Set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ve old base pointer (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pushl %eb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own base pointer (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movl %esp, %eb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 that this saves the old stack poin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unction Bo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ions on data, loops, function ca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Assembly Programming: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nction Clean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 value placed in %e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at about returning larger values? (structs, doubles, etc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tore Caller’s Stack Pointer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movl %ebp,%es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tore Old Base Pointer (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popl %eb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re does it return t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Assembly Programming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Simple Addressing M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315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R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m[R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10(R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m[R + 1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0x10(R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m[R + 16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Assembly Programming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Indexed Addressing M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315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Generic Fo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(Rb, Ri, S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m[Reg[Rb]+S*Reg[Ri]+ D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Rb,Ri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m[Reg[Rb]+Reg[Ri]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(Rb,Ri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m[Reg[Rb]+Reg[Ri]+D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Rb,Ri,S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m[Reg[Rb]+S*Reg[Ri]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Using GD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315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NU dubug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st friend for Lab 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gdb &lt;name_of_fil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t help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fcard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gdb type “help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arch on web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Useful GDB Comm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315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Lab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isassemb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– disassembles machine code into assem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– examine memory cont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en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run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– run the program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brea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– set break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tep, nex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– step through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pr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– print values of variables and memor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8T23:36:32Z</dcterms:created>
  <dc:creator>Shaheen Gandhi</dc:creator>
  <dc:description/>
  <dc:language>en-US</dc:language>
  <cp:lastModifiedBy>Andrew Carnegie</cp:lastModifiedBy>
  <dcterms:modified xsi:type="dcterms:W3CDTF">2002-09-16T14:38:59Z</dcterms:modified>
  <cp:revision>84</cp:revision>
  <dc:subject/>
  <dc:title>15-213 Recitation 2 – 1/29/00</dc:title>
</cp:coreProperties>
</file>