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DF2C3-8721-4EF0-9A9D-95B1A28C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ED759-6D8F-49D9-AA03-1396D02D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F94FE-3CC3-40FF-895D-7129F379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3C68D-9864-4229-9FA0-B2D45CAD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260B0-D4EB-4CDF-A62A-236B6C32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7656480" cy="32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BC890-5ADE-48B2-84E2-5D17051D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1039C-A512-4B95-9C41-72CD908A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1B9F0-9703-4DA2-8446-D795B265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26FA9-1045-4744-9876-96248AE4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4910A-10E5-4752-92AD-9F76FC9E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7637A-5D03-45CF-A66E-7C97924C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7CCE4-FD61-49A3-9859-4C1A1C8B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7656480" cy="32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  <a:ea typeface="굴림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295280" y="1052640"/>
            <a:ext cx="7848720" cy="0"/>
          </a:xfrm>
          <a:prstGeom prst="line">
            <a:avLst/>
          </a:prstGeom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219320" y="14479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16002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e6d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5492880" y="95400"/>
            <a:ext cx="3612960" cy="3394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0" y="30240"/>
            <a:ext cx="914400" cy="88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2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3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4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B1F9-15FE-4423-90A3-7E67458AF33B}" type="slidenum">
              <a:rPr b="1" lang="en-US" sz="26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1187280" y="1425240"/>
            <a:ext cx="752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5984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e6d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492880" y="95400"/>
            <a:ext cx="3612960" cy="33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0" y="30240"/>
            <a:ext cx="914400" cy="884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52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5984"/>
                </a:solidFill>
                <a:latin typeface="Verdana"/>
              </a:rPr>
              <a:t>SymbSys246</a:t>
            </a:r>
            <a:br>
              <a:rPr sz="3200"/>
            </a:br>
            <a:r>
              <a:rPr b="1" lang="en-US" sz="3200" spc="-1" strike="noStrike">
                <a:solidFill>
                  <a:srgbClr val="445984"/>
                </a:solidFill>
                <a:latin typeface="Verdana"/>
              </a:rPr>
              <a:t>Cognitive Crash</a:t>
            </a:r>
            <a:br>
              <a:rPr sz="3200"/>
            </a:br>
            <a:r>
              <a:rPr b="1" lang="en-US" sz="3200" spc="-1" strike="noStrike">
                <a:solidFill>
                  <a:srgbClr val="445984"/>
                </a:solidFill>
                <a:latin typeface="Verdana"/>
              </a:rPr>
              <a:t>Dummies</a:t>
            </a:r>
            <a:endParaRPr b="1" lang="en-US" sz="32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2927160"/>
            <a:ext cx="7143840" cy="27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nnie E. Joh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fessor, HCI Institu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omas A. Wasow Visiting Schola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in Symbolic Syste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nford Univers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anuary 23, 200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243400" y="914400"/>
            <a:ext cx="3900600" cy="49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Benchmarking with HBMs </a:t>
            </a:r>
            <a:r>
              <a:rPr b="1" lang="en-US" sz="1800" spc="-1" strike="noStrike">
                <a:solidFill>
                  <a:srgbClr val="445984"/>
                </a:solidFill>
                <a:latin typeface="Verdana"/>
              </a:rPr>
              <a:t>(3)</a:t>
            </a:r>
            <a:endParaRPr b="1" lang="en-US" sz="1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 these tasks on “proposed” desig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ok for new designs that give substantial savings on the suite of ta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ss than 20% difference is not to be trusted, because these are approximate mod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ok for trade-off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sks that are faster on the old system than the proposed system deserve more design attention, maybe you can find designs that improve more tas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quantitative predictions to help decide where to put programming eff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quantitative predictions to “market” your new design, both within your own organization and external to your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Rapidly comparing</a:t>
            </a:r>
            <a:br>
              <a:rPr sz="2800"/>
            </a:b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many different interface ideas </a:t>
            </a:r>
            <a:r>
              <a:rPr b="1" lang="en-US" sz="1800" spc="-1" strike="noStrike">
                <a:solidFill>
                  <a:srgbClr val="445984"/>
                </a:solidFill>
                <a:latin typeface="Verdana"/>
              </a:rPr>
              <a:t>(1)</a:t>
            </a:r>
            <a:endParaRPr b="1" lang="en-US" sz="1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get data on skilled performance time, you must h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unning prototype with reasonably accurate system response time, that doesn’t cra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killed us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have to “manufacture” skilled users by providing sufficient time to learn and pract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ually measured by a sliding window of performance time averages that eventually does not detect a difference in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expens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ing is now faster than user testing for skilled performanc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Rapidly comparing</a:t>
            </a:r>
            <a:br>
              <a:rPr sz="2800"/>
            </a:b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many different interface ideas </a:t>
            </a:r>
            <a:r>
              <a:rPr b="1" lang="en-US" sz="1800" spc="-1" strike="noStrike">
                <a:solidFill>
                  <a:srgbClr val="445984"/>
                </a:solidFill>
                <a:latin typeface="Verdana"/>
              </a:rPr>
              <a:t>(2)</a:t>
            </a:r>
            <a:endParaRPr b="1" lang="en-US" sz="1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play “what if” along many dimen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nchmark task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ows in CogToo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face design ideas that accomplish those task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olumns in CogToo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accomplishing task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more rows in CogToo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response time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usually columns in CogToo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Rapidly comparing</a:t>
            </a:r>
            <a:br>
              <a:rPr sz="2800"/>
            </a:b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many different interface ideas </a:t>
            </a:r>
            <a:r>
              <a:rPr b="1" lang="en-US" sz="1800" spc="-1" strike="noStrike">
                <a:solidFill>
                  <a:srgbClr val="445984"/>
                </a:solidFill>
                <a:latin typeface="Verdana"/>
              </a:rPr>
              <a:t>(3)</a:t>
            </a:r>
            <a:endParaRPr b="1" lang="en-US" sz="1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student did 300 models in a summer cou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different designs for entering text on a cellph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-9 and multi-ta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handful of benchmark ta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MS mess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ral different assumptions about when an error is m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fferent places in the SMS mess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ral different assumptions about when an error is detec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 g., immediately, end of word, end of mess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ral different methods for correcting err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ase and start again, back-up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e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Examples of CogTool models</a:t>
            </a: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46160" y="1828800"/>
            <a:ext cx="8921520" cy="40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Examples of  CogTool models </a:t>
            </a:r>
            <a:r>
              <a:rPr b="1" lang="en-US" sz="1800" spc="-1" strike="noStrike">
                <a:solidFill>
                  <a:srgbClr val="445984"/>
                </a:solidFill>
                <a:latin typeface="Verdana"/>
              </a:rPr>
              <a:t>(2)</a:t>
            </a:r>
            <a:endParaRPr b="1" lang="en-US" sz="1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76720" y="1219320"/>
            <a:ext cx="567684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Examples of CogTool models </a:t>
            </a:r>
            <a:r>
              <a:rPr b="1" lang="en-US" sz="1800" spc="-1" strike="noStrike">
                <a:solidFill>
                  <a:srgbClr val="445984"/>
                </a:solidFill>
                <a:latin typeface="Verdana"/>
              </a:rPr>
              <a:t>(3)</a:t>
            </a:r>
            <a:endParaRPr b="1" lang="en-US" sz="1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SA Crew Exploration Vehi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739116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Examples of CogTool models </a:t>
            </a:r>
            <a:r>
              <a:rPr b="1" lang="en-US" sz="1800" spc="-1" strike="noStrike">
                <a:solidFill>
                  <a:srgbClr val="445984"/>
                </a:solidFill>
                <a:latin typeface="Verdana"/>
              </a:rPr>
              <a:t>(3 con’t)</a:t>
            </a:r>
            <a:endParaRPr b="1" lang="en-US" sz="1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8637480" cy="46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697120" y="1295280"/>
            <a:ext cx="6446880" cy="4853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Examples of CogTool models </a:t>
            </a:r>
            <a:r>
              <a:rPr b="1" lang="en-US" sz="1800" spc="-1" strike="noStrike">
                <a:solidFill>
                  <a:srgbClr val="445984"/>
                </a:solidFill>
                <a:latin typeface="Verdana"/>
              </a:rPr>
              <a:t>(4)</a:t>
            </a:r>
            <a:endParaRPr b="1" lang="en-US" sz="1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i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235240" y="1789200"/>
            <a:ext cx="6908760" cy="4535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Examples of CogTool models </a:t>
            </a:r>
            <a:r>
              <a:rPr b="1" lang="en-US" sz="1800" spc="-1" strike="noStrike">
                <a:solidFill>
                  <a:srgbClr val="445984"/>
                </a:solidFill>
                <a:latin typeface="Verdana"/>
              </a:rPr>
              <a:t>(5)</a:t>
            </a:r>
            <a:endParaRPr b="1" lang="en-US" sz="1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gg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H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984"/>
                </a:solidFill>
                <a:latin typeface="Verdana"/>
              </a:rPr>
              <a:t>Schedule for SymbSys246</a:t>
            </a:r>
            <a:endParaRPr b="1" lang="en-US" sz="2400" spc="-1" strike="noStrike">
              <a:solidFill>
                <a:srgbClr val="445984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95280" y="1324080"/>
          <a:ext cx="6782040" cy="4782960"/>
        </p:xfrm>
        <a:graphic>
          <a:graphicData uri="http://schemas.openxmlformats.org/drawingml/2006/table">
            <a:tbl>
              <a:tblPr/>
              <a:tblGrid>
                <a:gridCol w="1371600"/>
                <a:gridCol w="2514600"/>
                <a:gridCol w="28958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cture/Discuss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nds-on/Critiqu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6dae1"/>
                          </a:solidFill>
                          <a:latin typeface="Verdana"/>
                        </a:rPr>
                        <a:t>Jan 1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6dae1"/>
                          </a:solidFill>
                          <a:latin typeface="Verdana"/>
                        </a:rPr>
                        <a:t>Introduction to predictive human behavior model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6dae1"/>
                          </a:solidFill>
                          <a:latin typeface="Verdana"/>
                        </a:rPr>
                        <a:t>CogTool tutorial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e6dae1"/>
                          </a:solidFill>
                          <a:latin typeface="Verdana"/>
                        </a:rPr>
                        <a:t>HW assigne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n 2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ications of human behavior modeling to interactive system desig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ew HW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pose Project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n 3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onso Vera, NASA: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ling at NAS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ew progress on Project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pose Project 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b 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ter Pirolli, PARC: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ling Information Forag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ew progress on Projec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b 1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ture of human behavior model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 Projec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Questions?</a:t>
            </a: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 we’ll move on to the HW and your ideas for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The Blogger editor HW</a:t>
            </a: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unwittingly set you up to fa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ol new menus I showed you had some bu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was painful, ugly, but not wr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itions can only be drawn from 100% zo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’s an ugly work-around for th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was really wr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you get the menus in, they create the wrong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y team has checked in a fix, they are testing it, and they say it will be available to you tomorr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will send you email with a pointer to a new Cog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let’s discuss it anyw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Applications</a:t>
            </a:r>
            <a:br>
              <a:rPr sz="2800"/>
            </a:b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of Human Behavior Modeling</a:t>
            </a: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ular points to ma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ness of skilled execution time predi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examples of applications of models made in CogT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ong the way we’ll talk about other metrics and other tools for modeling, as it comes up through questions and discu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Usefulness</a:t>
            </a:r>
            <a:br>
              <a:rPr sz="2800"/>
            </a:b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of skilled execution time predictions</a:t>
            </a: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i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nchmarking against existing produ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itors’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rlier ver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pidly comparing many different interface id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Time is Money</a:t>
            </a: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45984"/>
                </a:solidFill>
                <a:latin typeface="Verdana"/>
              </a:rPr>
              <a:t>Economies of scal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g companies with a lot of staff doing relatively repetitive th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ncial transactions / purcha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time you have customers wa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 de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alog s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irport 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45984"/>
                </a:solidFill>
                <a:latin typeface="Verdana"/>
              </a:rPr>
              <a:t>Marketing valu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viduals feeling that your system wastes their time and those individuals have the power to vote with their pocketb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Time is Safety</a:t>
            </a: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45984"/>
                </a:solidFill>
                <a:latin typeface="Verdana"/>
              </a:rPr>
              <a:t>Human attention is a limited re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humans have to multi-task, performance slows dow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bine this fact with real-time deadlines and there can be dangerous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iving and in-vehicle information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ying with new cockpit desig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 of dynamic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litary weapons or communication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Benchmarking</a:t>
            </a:r>
            <a:br>
              <a:rPr sz="2800"/>
            </a:b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against existing products</a:t>
            </a:r>
            <a:endParaRPr b="1" lang="en-US" sz="2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chmarking is a common engineering appro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42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Benchmarking with HBMs </a:t>
            </a:r>
            <a:r>
              <a:rPr b="1" lang="en-US" sz="1800" spc="-1" strike="noStrike">
                <a:solidFill>
                  <a:srgbClr val="445984"/>
                </a:solidFill>
                <a:latin typeface="Verdana"/>
              </a:rPr>
              <a:t>(1)</a:t>
            </a:r>
            <a:endParaRPr b="1" lang="en-US" sz="1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a reasonable suite of benchmark tas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t tasks, tasks that cover the functionality of the system, important tas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4598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5984"/>
                </a:solidFill>
                <a:latin typeface="Verdana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asks (don’t just suck them out of your thum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656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984"/>
                </a:solidFill>
                <a:latin typeface="Verdana"/>
              </a:rPr>
              <a:t>Benchmarking with HBMs </a:t>
            </a:r>
            <a:r>
              <a:rPr b="1" lang="en-US" sz="1800" spc="-1" strike="noStrike">
                <a:solidFill>
                  <a:srgbClr val="445984"/>
                </a:solidFill>
                <a:latin typeface="Verdana"/>
              </a:rPr>
              <a:t>(2)</a:t>
            </a:r>
            <a:endParaRPr b="1" lang="en-US" sz="1800" spc="-1" strike="noStrike">
              <a:solidFill>
                <a:srgbClr val="44598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 these tasks on the “old”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itor’s existing pro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version of your own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per-based system that is already in pl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2320" indent="-376920">
              <a:lnSpc>
                <a:spcPct val="90000"/>
              </a:lnSpc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 available in CogTool yet, but watch our website for a function allowing the addition of arbitrary physical opera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se models to profile where the time go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sks that are the biggest time-sinks deserve the most design atten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2320" indent="-376920">
              <a:lnSpc>
                <a:spcPct val="90000"/>
              </a:lnSpc>
              <a:spcBef>
                <a:spcPts val="451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kin to the CS maxim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file before optimiz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44598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a new design eliminate keystrokes? Mouse clicks? System response time? Thinking tim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7:43:25Z</dcterms:created>
  <dc:creator>CMU SCS</dc:creator>
  <dc:description/>
  <dc:language>en-US</dc:language>
  <cp:lastModifiedBy>CMU SCS</cp:lastModifiedBy>
  <dcterms:modified xsi:type="dcterms:W3CDTF">2007-01-24T02:43:39Z</dcterms:modified>
  <cp:revision>79</cp:revision>
  <dc:subject/>
  <dc:title>PowerPoint Presentation</dc:title>
</cp:coreProperties>
</file>