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6E29-D606-4593-A752-A06F424F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3024-34AE-4EDA-9864-10317D79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323B-A64B-4E52-B2D1-06261F8C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2C29-9E08-4A48-86EB-E62E493A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9E46-81A1-41E4-B998-B2B7E3EA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B41-B7A7-40C6-920C-7C70FB6F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C48D-977D-470D-A6B1-CFF45341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CCFD-294C-46D1-B020-A8E6B062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6142-48B1-45DA-926B-5695CA82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6897-575E-4D5F-A561-BB97C9A8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9F0B-B0BF-485E-8031-25059085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C963-F17B-4EC4-8FB1-D9458E8E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8F26-80A1-467B-AF52-6ABFA37171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igital Millennium Copyright 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vid S. Touretz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Science Depar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negie Mellon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mber, 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7351-CABF-4A83-A94E-3D5B07764A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brary Exemp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(1) says libraries, archives, and educational institutions may circumvent access controls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to gain access to a work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to decide whether to purchase i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But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21B6-8569-45AD-A897-7F33D6D6C0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ibrarians’ Catch-22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(4) says the exemption in (d)(1) cannot be used as a defense to a claim under the anti-trafficking provisions, and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raries may not manufacture, import, etc., any technology, product, service, etc., which circumvents a technological measur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how can they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qui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tools to circumvent under (d)(1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C562-1F0C-4580-AD1E-582EEBF4C6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verse Engine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f) - allows circumvention of access controls to permit reverse engineering of software program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o achieve interoperabil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ith other progra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n’t apply to hardware, such as DVD players and med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operability” does not mean bypassing another program’s access/copying contro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8DD5-41F4-4FA7-A627-8A4E86A1EC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cryption Re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g) - cracking permissible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fully obtained copy of the encrypted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 faith effort to obtain permission to cr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copyright infringement or computer ab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gained is disseminated in a manner calculated to advance state of 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cker has respectable credent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yright owner notified of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DB36-94BE-4E74-920F-9E13FCCDFA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brarian of Congress Repor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cases designated by the Librarian of Congress as exempt from 1201(a)(1)(A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Encrypted list of blocked sites used by censorware programs such as CyberPa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“Broken” access control mechanis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1201(a)(2) still applies, so providing the tools to make use of these exemptions is still illeg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98B5-F083-4181-9779-D0B81CB6AD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I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Is Code Protected Speech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67ED-6A3F-46DD-890D-01B9372464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Code Speech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rnstein v. U.S. Dept. of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Snuffle encryption algorithm (a “munition”) is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functional aspect”; maybe object code isn’t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nger v. Da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ryptography textbook with code also provided on disket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VD-CCA v. Bunner et 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alifornia DVD case:  1st Amdt. trumps trade secret la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al City Studios v. Reimer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2600 DVD case: even object code is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9472-4244-4294-94F4-8BA2C06035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’s Special About Cod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mb-making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not a bo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cip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LSD is not a dru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ra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gun is not a weap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re fully protected speec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py or lis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computer program is a computer pro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should that make code less prote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0A4F-32BD-4DF0-8C66-C52B8B8BFC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de is Dangerous” Argu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ware has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unc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spec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ware can instantly instruct computers to do antisocial thing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makes software more dangerous than other types of speech that only instruct slow, lazy hum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03F9-B621-41C8-9350-B335E8E5F6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t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od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Isn’t Dangero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programs don’t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th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merely expressions of idea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SS does not pirate DVD mov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s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ust insert the DVD into a drive, load DeCSS onto a digital computer, and run i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have we seen this argument befo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528-A284-4877-8EAC-7055EC4A9A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gital Millennium Copyright Ac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acted in 1998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ed new copyright regulation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Title 17, US Code) concern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ss controls/digital rights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ability limitations for IS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adcasting music on Internet radio s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2E53-FDB5-4015-9079-025C761488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uns Don’t Kill People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ople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F1E5-9973-4B8A-AA70-0CDAD9499F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 Software Like Gu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ions on possession of guns and controlled substances are constitut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n’t interfere with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ression of ide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we restrict publication of software without restricting the expression of ide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B54C-CFAE-4386-A9B4-D54ECE284F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“No Ideas Here”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im:  some programs ar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urely func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do not express id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object code purely function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ss_descramble.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urely functional because it relies on long boring tables of numbe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code published in textbooks or journal articles expresses idea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869B-4135-49C1-8FD0-3406737856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deas That Code Can Expr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” is possible: here’s an existence proof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way of doing “X” is better than the other guy’s 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s faster / Less memory / Shorter co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” is triv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stein &amp; Horowitz’ qrpff.pl is 472 byt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7738-E4A4-4574-A338-85EECED111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VD Decryption in Pe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!/usr/bin/per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472-byte qrpff, Keith Winstein and Marc Horowitz &lt;sipb-iap-dvd@mit.edu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MPEG 2 PS VOB file -&gt; descrambled output on stdou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usage: perl -I &lt;k1&gt;:&lt;k2&gt;:&lt;k3&gt;:&lt;k4&gt;:&lt;k5&gt; qrp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where k1..k5 are the title key bytes in least to most-significant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''$/=\2048;while(&lt;&gt;){G=29;R=142;if((@a=unqT="C*",_)[20]&amp;48){D=89;_=unqb24,qT,@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=map{ord qB8,unqb8,qT,_^$a[--D]}@INC;s/...$/1$&amp;/;Q=unqV,qb25,_;H=73;O=$b[4]&lt;&lt;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|256|$b[3];Q=Q&gt;&gt;8^(P=(E=255)&amp;(Q&gt;&gt;12^Q&gt;&gt;4^Q/8^Q))&lt;&lt;17,O=O&gt;&gt;8^(E&amp;(F=(S=O&gt;&gt;14&amp;7^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^S*8^S&lt;&lt;6))&lt;&lt;9,_=(map{U=_%16orE^=R^=110&amp;(S=(unqT,"\xb\ntd\xbz\x14d")[_/16%8]);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^=(72,@z=(64,72,G^=12*(U-2?0:S&amp;17)),H^=_%64?12:0,@z)[_%8]}(16..271))[_]^((D&gt;&gt;=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+=P+(~F&amp;E))for@a[128..$#a]}print+qT,@a}';s/[D-HO-U_]/\$$&amp;/g;s/q/pack+/g;ev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 is Illegal to Display This S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F14-F6DE-40F0-A685-5FFF6356FB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mminent Peril”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ts now accept that code is spee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speech that poses a specific and imminent threat of harm is not protec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’s kill all the lawyers” is protec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ll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a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awyer with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u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 is n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ld publishing computer code meet this test?  “Computers make crime too eas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3E40-4CB8-4D24-8798-011A749648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RNING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You are only 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e mouse click awa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om destroying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otion picture industry!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Times New Roman"/>
              </a:rPr>
              <a:t>her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 continue..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6944-29D5-4A53-947F-4734B8AB7A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unting Mouse Clic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ge Kaplan enjoined 2600 from distributing the DeCSS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600 responded by posting links to mirror si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ge Kaplan enjoined 2600 from linking to mirror sites: only a mouse click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2600 published the URLs as plaintex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nd Circuit:  now it takes four mouse clic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many mouse clicks are enoug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EA4-4830-4BE4-980D-D4B30841CD2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Does Cod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se an Imminent Dang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ecutable binary -- extremely dangerou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ilable source -- very dangero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een dump (a “picture” of the code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 printed on a t-shir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expressed in a formal language for which there is no compil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it’s not really “code”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581C-BA7B-405C-BC2A-9A782BF02C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Is Cod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Dangero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translated line-by-line into machine-generated Eng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es threat of reverse-trans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expressed in colloquial Eng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essor Felten, call your lawy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ure thoughts about an algorith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01(a)(1) says thou shalt not “manufacture”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8EBD-9E9C-44DB-9EB3-B716F64359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Circumvention Provi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a)(1)(A):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ircumvent a technological measu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effectivel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ontrols acc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a work protected under this tit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n’t watch encrypted DVDs at home using an unapproved (open-source) DVD play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n’t decrypt your lawfully purchased eBoo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95F-B913-41B1-8A1F-89DC7C1FF5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to Draw the Lin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rvative:  only ban binaries and compilable/interpretable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o easy to work around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eral:  ban anything that can potentially be turned into executable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mendment doesn’t permit th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4541-2F72-4737-A1B7-5922995D849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ing only the publication of imminently dangerous “code” will prove unworkable in pract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ing mouse clicks is si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can take many for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s will soon understand Englis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ly effective restrictions require the censorship of “dangerous idea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0F89-05D4-41BD-8E24-3D05932F0D1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ensorship of Idea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Intoler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3D78-3878-4909-BA7D-3D9DBA8DE39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Trafficking Provi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a)(2): 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nufacture, import, offer to the public, provide, or otherwise traffic 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 technology, product service, device, component, or part thereof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) is primarily designed or produced for the purpose of circumventing a technological measure that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ffectively controls acc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a work protected under this titl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E064-4E06-4E83-B9FC-B322D56538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B) has only limited commercially significant purpose or use other than to circumvent..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) is marketed by that person … for use in circumventing a technological measure that effectively controls access to a work protected under this tit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You can sell digital signal processors, but you can’t sell cable TV descrambl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2924-0D3A-437F-ACDF-A570CEC97E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Trafficking:  Copy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b)(1): 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nufacture, import, offer to the public, provide, or otherwise traffic 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 technology, product, service, device, component, or part thereof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) is primarily designed or produced for the purpose of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rcumventing protection afforded by a technological measure that effectively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protects a right of a copyright ow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der this title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CF6-E7B7-4BB2-BC97-20201D55A5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cape Clause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c)(1): Nothing in this section shall affect rights, remedies, limitations, o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fenses to copyright infringe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luding fair u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under this titl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01 isn’t about copyright infrin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if A circumvents, B can make fair use of the fruits of A’s cr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F2D3-473A-4BC1-BC34-94A6F5B15A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cape Clause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c)(4): Nothing in this section shall enlarge or diminish any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ights of free speech or the pr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activities using consumer electronics, telecommunications, or computing product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missed as “precatory language” (pleading) by 2nd Circuit Court of Appe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DEE4-18BE-404B-85FC-B7575F0CE8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xemptions to Anti-Circumven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 - Libr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e) - Law enfor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f) - Reverse engineering of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g) - Encryption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h) - Protect minors from the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i) - Protect personally identifying inf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j) - Security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8339-85AB-470C-AD85-7F132220B4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0:34:09Z</dcterms:created>
  <dc:creator>Dave Touretzky</dc:creator>
  <dc:description/>
  <dc:language>en-US</dc:language>
  <cp:lastModifiedBy>Dave Touretzky</cp:lastModifiedBy>
  <cp:lastPrinted>2001-10-22T04:05:25Z</cp:lastPrinted>
  <dcterms:modified xsi:type="dcterms:W3CDTF">2001-12-01T02:59:28Z</dcterms:modified>
  <cp:revision>51</cp:revision>
  <dc:subject/>
  <dc:title>The Digital Millennium Copyright A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cmu.edu/~dst</vt:lpwstr>
  </property>
  <property fmtid="{D5CDD505-2E9C-101B-9397-08002B2CF9AE}" pid="9" name="LinkColor">
    <vt:r8>16711782</vt:r8>
  </property>
  <property fmtid="{D5CDD505-2E9C-101B-9397-08002B2CF9AE}" pid="10" name="MailAddress">
    <vt:lpwstr>dst@cs.cmu.edu</vt:lpwstr>
  </property>
  <property fmtid="{D5CDD505-2E9C-101B-9397-08002B2CF9AE}" pid="11" name="NavBtnPos">
    <vt:r8>3</vt:r8>
  </property>
  <property fmtid="{D5CDD505-2E9C-101B-9397-08002B2CF9AE}" pid="12" name="Other">
    <vt:lpwstr>Transparencies from "A Great Debate:  Is Computer Code Protected Speech?", November 30, 2001, Carnegie Mellon University.    </vt:lpwstr>
  </property>
  <property fmtid="{D5CDD505-2E9C-101B-9397-08002B2CF9AE}" pid="13" name="OutputDir">
    <vt:lpwstr>C:\WINNT\Profiles\dst\Personal\Debate\slides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