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4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436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39440" y="4589640"/>
            <a:ext cx="860436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4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419868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48360" y="2101680"/>
            <a:ext cx="419868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39440" y="4589640"/>
            <a:ext cx="419868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48360" y="4589640"/>
            <a:ext cx="419868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4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277020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48600" y="2101680"/>
            <a:ext cx="277020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57760" y="2101680"/>
            <a:ext cx="277020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39440" y="4589640"/>
            <a:ext cx="277020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48600" y="4589640"/>
            <a:ext cx="277020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57760" y="4589640"/>
            <a:ext cx="277020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4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39440" y="2101680"/>
            <a:ext cx="860436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4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436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4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419868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48360" y="2101680"/>
            <a:ext cx="419868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4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39440" y="303120"/>
            <a:ext cx="8604360" cy="58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4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419868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48360" y="2101680"/>
            <a:ext cx="419868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39440" y="4589640"/>
            <a:ext cx="419868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4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419868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48360" y="2101680"/>
            <a:ext cx="419868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48360" y="4589640"/>
            <a:ext cx="419868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4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419868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48360" y="2101680"/>
            <a:ext cx="419868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39440" y="4589640"/>
            <a:ext cx="860436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404640" y="1893960"/>
            <a:ext cx="9671400" cy="5667480"/>
          </a:xfrm>
          <a:prstGeom prst="roundRect">
            <a:avLst>
              <a:gd name="adj" fmla="val 28"/>
            </a:avLst>
          </a:prstGeom>
          <a:solidFill>
            <a:srgbClr val="ffff00"/>
          </a:solidFill>
          <a:ln w="936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4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739440" y="2101680"/>
            <a:ext cx="860436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343080" indent="-343080">
              <a:lnSpc>
                <a:spcPct val="97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343080" indent="-343080">
              <a:lnSpc>
                <a:spcPct val="97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3" marL="343080" indent="-343080">
              <a:lnSpc>
                <a:spcPct val="97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4" marL="343080" indent="-343080">
              <a:lnSpc>
                <a:spcPct val="97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5" marL="343080" indent="-343080">
              <a:lnSpc>
                <a:spcPct val="97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6" marL="343080" indent="-343080">
              <a:lnSpc>
                <a:spcPct val="97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"/>
          <p:cNvSpPr/>
          <p:nvPr/>
        </p:nvSpPr>
        <p:spPr>
          <a:xfrm>
            <a:off x="0" y="238140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16856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21720" y="7391520"/>
            <a:ext cx="118728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9000" bIns="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D4ADF579-1464-4D91-AD60-A2C1F47BE62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39440" y="90360"/>
            <a:ext cx="8605800" cy="16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Ethics and Etiquette</a:t>
            </a:r>
            <a:br>
              <a:rPr sz="4400"/>
            </a:b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in Scientific Research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23400" y="2101320"/>
            <a:ext cx="8977320" cy="4821480"/>
          </a:xfrm>
          <a:prstGeom prst="rect">
            <a:avLst/>
          </a:prstGeom>
          <a:noFill/>
          <a:ln w="0">
            <a:noFill/>
          </a:ln>
        </p:spPr>
        <p:txBody>
          <a:bodyPr lIns="0" rIns="0" tIns="105480" bIns="0" anchor="t" anchorCtr="1">
            <a:normAutofit fontScale="98000"/>
          </a:bodyPr>
          <a:p>
            <a:pPr marL="335880" indent="0">
              <a:lnSpc>
                <a:spcPct val="81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Dingbats"/>
                <a:ea typeface="Dingbats"/>
              </a:rPr>
              <a:t>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Rules of conduct for persons in authority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358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Zapf Dingbats"/>
              </a:rPr>
              <a:t> </a:t>
            </a:r>
            <a:r>
              <a:rPr b="0" lang="en-US" sz="4400" spc="-1" strike="noStrike">
                <a:solidFill>
                  <a:srgbClr val="ff0000"/>
                </a:solidFill>
                <a:latin typeface="Dingbats"/>
                <a:ea typeface="Dingbats"/>
              </a:rPr>
              <a:t>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How to avoid improprieties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358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Zapf Dingbats"/>
              </a:rPr>
              <a:t>   </a:t>
            </a:r>
            <a:r>
              <a:rPr b="0" lang="en-US" sz="4400" spc="-1" strike="noStrike">
                <a:solidFill>
                  <a:srgbClr val="ff0000"/>
                </a:solidFill>
                <a:latin typeface="Dingbats"/>
                <a:ea typeface="Dingbats"/>
              </a:rPr>
              <a:t>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How to tell if you're being screwed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358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358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Bitstream Vera Sans"/>
              </a:rPr>
              <a:t>David S. Touretzky</a:t>
            </a:r>
            <a:endParaRPr b="0" lang="en-US" sz="4000" spc="-1" strike="noStrike">
              <a:solidFill>
                <a:srgbClr val="000000"/>
              </a:solidFill>
              <a:latin typeface="Bitstream Vera Sans"/>
            </a:endParaRPr>
          </a:p>
          <a:p>
            <a:pPr marL="3358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Computer Science Department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358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Carnegie Mellon University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358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April 2007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Issue #1: Allocation of Credit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Two forms of credit in a paper: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Co-authorship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Acknowledgment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-32364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Who gets listed as a co-author?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Lab director is co-author on all papers?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Student “owes” his advisor co-authorship on at least one journal paper?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Ordering of Author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How is the ordering of authors determined in your field?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-32364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First and last usually the key positions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-32364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Different disciplines/cultures follow different conventions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Co-Authorship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520092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9000"/>
          </a:bodyPr>
          <a:p>
            <a:pPr marL="427320" indent="-32040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Rule of thumb: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A co-author should have mad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Bitstream Vera Sans"/>
              </a:rPr>
              <a:t>direct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and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Bitstream Vera Sans"/>
              </a:rPr>
              <a:t>substantial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contributions to the work (not necessarily to the writing.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Co-authors share responsibility for the scientific integrity of the paper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Bitstream Vera Sans"/>
              </a:rPr>
              <a:t>    </a:t>
            </a:r>
            <a:r>
              <a:rPr b="1" lang="en-US" sz="2800" spc="-1" strike="noStrike">
                <a:solidFill>
                  <a:srgbClr val="ff0000"/>
                </a:solidFill>
                <a:latin typeface="Bitstream Vera Sans"/>
              </a:rPr>
              <a:t>Penalties may apply!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David Baltimore case: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Nobel laureate was co-author on a paper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Primary investigator accused of fraud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39440" y="90360"/>
            <a:ext cx="8605800" cy="16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Co-Authorship in</a:t>
            </a:r>
            <a:br>
              <a:rPr sz="4400"/>
            </a:b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Computer Science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Generally: authors ordered by the amount of their contribution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But in the Theory community, author list is sometimes alphabetical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-32364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Contributions may include: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Providing key ideas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Doing the implementation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Running experiments / collecting data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Analyzing the data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Writing up the results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Co-Authorship in C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509292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9000"/>
          </a:bodyPr>
          <a:p>
            <a:pPr marL="427320" indent="-32040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No special honor to be last author?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No general consensus on lab directors getting co-authorship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Papers typically have 1-4 authors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Rarely see large author lists as in physics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But many computer scientists do interdisciplinary work: HCI, computational neurosci.  Culture clash?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Acknowledgment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9000"/>
          </a:bodyPr>
          <a:p>
            <a:pPr marL="427320" indent="-32040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People who made contributions that don't merit co-authorship may (sometimes </a:t>
            </a:r>
            <a:r>
              <a:rPr b="1" lang="en-US" sz="3200" spc="-1" strike="noStrike">
                <a:solidFill>
                  <a:srgbClr val="000000"/>
                </a:solidFill>
                <a:latin typeface="Bitstream Vera Sans"/>
              </a:rPr>
              <a:t>must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) be acknowledged elsewhere in the paper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Not as good as co-authorship, since it doesn't go on a vita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But it's good manners, and costs nothing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Acknowledge People Who...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39800" y="2101320"/>
            <a:ext cx="919800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 fontScale="99000"/>
          </a:bodyPr>
          <a:p>
            <a:pPr lvl="1" marL="855000" indent="-284400">
              <a:lnSpc>
                <a:spcPct val="98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Contribute a good idea or coin a useful term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Provide pointers to papers for the bibliography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Help with debugging some tricky cod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Help with typesetting or illustration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Provide significant resources, e.g., loan of equipment, tissue samples, etc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94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Also acknowledge your funding agency!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Ask Your Advisor: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9000"/>
          </a:bodyPr>
          <a:p>
            <a:pPr marL="339480"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1. What are the authorship conventions in our field?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394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2. What are the authorship conventions in your lab?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394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3. Are students prohibited from submitting papers (even if sole-authored) without your approval?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394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4. Who owns the code/data/manuscript?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394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itstream Vera Sans"/>
              </a:rPr>
              <a:t>See CMU policy on intellectual property.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94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394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Some CMU cases: Godspell, SCRIBE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Example to Discus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521496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9000"/>
          </a:bodyPr>
          <a:p>
            <a:pPr marL="427320" indent="-32040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Professor Smith is invited to write an article for a special issue of The Big Important Journal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Smith invites grad student Jones to help with the article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Some of the most important results are the product of Jones' thesis research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What should the authorship be?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Issue #2: Misappropriating Text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Borrowing “just a sentence or two” without attribution is plagiarism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-32364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But plagiarism is easily avoided: give the citation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39440" y="90360"/>
            <a:ext cx="8605800" cy="16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Research Ethics Covers</a:t>
            </a:r>
            <a:br>
              <a:rPr sz="4400"/>
            </a:b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Many Area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520092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9000"/>
          </a:bodyPr>
          <a:p>
            <a:pPr marL="427320" indent="-32040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Use of human subjects in research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Informed consent, IRB oversigh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Use of animals in research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Appropriate care/use, IACUC oversigh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Moral debates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Stem cell research, impact of technology (nuclear weapons, genetic screening), etc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Professional issues (today's topic)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Authorship, IP rights, confidentiality, etc.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Misappropriation Example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Smith: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The parrot is a remarkable bird in many respects.  In terms of intelligence, humor, and manual dexterity, it is unequalled in the avian kingdom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Misappropriation Example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Jones, </a:t>
            </a:r>
            <a:r>
              <a:rPr b="1" lang="en-US" sz="3200" spc="-1" strike="noStrike">
                <a:solidFill>
                  <a:srgbClr val="000000"/>
                </a:solidFill>
                <a:latin typeface="Bitstream Vera Sans"/>
              </a:rPr>
              <a:t>wrong way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Parrots are excellent mimics. But</a:t>
            </a:r>
            <a:r>
              <a:rPr b="0" i="1" lang="en-US" sz="3200" spc="-1" strike="noStrike">
                <a:solidFill>
                  <a:srgbClr val="ff0000"/>
                </a:solidFill>
                <a:latin typeface="Bitstream Vera Sans"/>
              </a:rPr>
              <a:t> the parrot is a remarkable bird in many</a:t>
            </a: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 other </a:t>
            </a:r>
            <a:r>
              <a:rPr b="0" i="1" lang="en-US" sz="3200" spc="-1" strike="noStrike">
                <a:solidFill>
                  <a:srgbClr val="ff0000"/>
                </a:solidFill>
                <a:latin typeface="Bitstream Vera Sans"/>
              </a:rPr>
              <a:t>respects.  In terms of intelligence, humor, and</a:t>
            </a: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i="1" lang="en-US" sz="3200" spc="-1" strike="noStrike">
                <a:solidFill>
                  <a:srgbClr val="b3b3b3"/>
                </a:solidFill>
                <a:latin typeface="Bitstream Vera Sans"/>
              </a:rPr>
              <a:t>[manual]</a:t>
            </a: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Bitstream Vera Sans"/>
              </a:rPr>
              <a:t>dexterity, it is</a:t>
            </a: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i="1" lang="en-US" sz="3200" spc="-1" strike="noStrike">
                <a:solidFill>
                  <a:srgbClr val="0000ff"/>
                </a:solidFill>
                <a:latin typeface="Bitstream Vera Sans"/>
              </a:rPr>
              <a:t>unparalleled</a:t>
            </a: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Bitstream Vera Sans"/>
              </a:rPr>
              <a:t>in the avian kingdom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Proper Attribution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Jones, </a:t>
            </a:r>
            <a:r>
              <a:rPr b="1" lang="en-US" sz="3200" spc="-1" strike="noStrike">
                <a:solidFill>
                  <a:srgbClr val="000000"/>
                </a:solidFill>
                <a:latin typeface="Bitstream Vera Sans"/>
              </a:rPr>
              <a:t>right way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Parrots are excellent mimics. But in addition, as Smith (2005) observes, “</a:t>
            </a:r>
            <a:r>
              <a:rPr b="0" i="1" lang="en-US" sz="3200" spc="-1" strike="noStrike">
                <a:solidFill>
                  <a:srgbClr val="ff0000"/>
                </a:solidFill>
                <a:latin typeface="Bitstream Vera Sans"/>
              </a:rPr>
              <a:t>in terms of intelligence, humor, and manual dexterity,</a:t>
            </a: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br>
              <a:rPr sz="3200"/>
            </a:br>
            <a:r>
              <a:rPr b="0" i="1" lang="en-US" sz="3200" spc="-1" strike="noStrike">
                <a:solidFill>
                  <a:srgbClr val="0000ff"/>
                </a:solidFill>
                <a:latin typeface="Bitstream Vera Sans"/>
              </a:rPr>
              <a:t>[they are]</a:t>
            </a: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Bitstream Vera Sans"/>
              </a:rPr>
              <a:t>unequalled in the avian kingdom.</a:t>
            </a: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Citation Etiquette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99172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Cite other people's work freely and often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Avoid antagonizing your reviewers by failing to acknowledge their contributions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Demonstrate your mastery of the literature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Make new friends.  (Scholars love to be cited.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Encourage others to cite your work in return.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Misappropriation of Citation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Citations are good, but stealing citations is not good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Smith: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Rat head direction cells with cosine tuning curves have been found in parietal/retrosplenial cortex (Chen, 1989)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Misappropriation of Citation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84160" y="2101680"/>
            <a:ext cx="846144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Jones, </a:t>
            </a:r>
            <a:r>
              <a:rPr b="1" lang="en-US" sz="3200" spc="-1" strike="noStrike">
                <a:solidFill>
                  <a:srgbClr val="000000"/>
                </a:solidFill>
                <a:latin typeface="Bitstream Vera Sans"/>
              </a:rPr>
              <a:t>wrong way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Some robots use inertial guidance for maintaining heading information in unfamiliar environments.  There is evidence for a similar mechanism in the parietal/retrosplenial cortex of rats (Chen, 1989)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What's wrong?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Misappropriation of Citation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84160" y="2101680"/>
            <a:ext cx="8461440" cy="521496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9000"/>
          </a:bodyPr>
          <a:p>
            <a:pPr marL="339480"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Jones, </a:t>
            </a:r>
            <a:r>
              <a:rPr b="1" lang="en-US" sz="3200" spc="-1" strike="noStrike">
                <a:solidFill>
                  <a:srgbClr val="000000"/>
                </a:solidFill>
                <a:latin typeface="Bitstream Vera Sans"/>
              </a:rPr>
              <a:t>wrong way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394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Some robots use inertial guidance for maintaining heading information in unfamiliar environments.  There is evidence for a similar mechanism in the parietal/retrosplenial cortex of rats (Chen, 1989)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394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Bitstream Vera Sans"/>
              </a:rPr>
              <a:t>Chen (1989) turns out to be an unpublished PhD thesis that Jones has never seen, and wouldn't comprehend if he had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Misappropriation of Citation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84160" y="2101680"/>
            <a:ext cx="846144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Jones, </a:t>
            </a:r>
            <a:r>
              <a:rPr b="1" lang="en-US" sz="3200" spc="-1" strike="noStrike">
                <a:solidFill>
                  <a:srgbClr val="000000"/>
                </a:solidFill>
                <a:latin typeface="Bitstream Vera Sans"/>
              </a:rPr>
              <a:t>right way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Some robots use inertial guidance for maintaining heading information in unfamiliar environments.  There is evidence for a similar mechanism in the parietal/retrosplenial cortex of rats (</a:t>
            </a:r>
            <a:r>
              <a:rPr b="0" i="1" lang="en-US" sz="3200" spc="-1" strike="noStrike">
                <a:solidFill>
                  <a:srgbClr val="ff0000"/>
                </a:solidFill>
                <a:latin typeface="Bitstream Vera Sans"/>
              </a:rPr>
              <a:t>Smith, 2005, citing </a:t>
            </a: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Chen, 1989)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Misappropriation of </a:t>
            </a:r>
            <a:r>
              <a:rPr b="1" lang="en-US" sz="4400" spc="-1" strike="noStrike" u="sng">
                <a:solidFill>
                  <a:srgbClr val="0000ff"/>
                </a:solidFill>
                <a:uFillTx/>
                <a:latin typeface="Arial"/>
              </a:rPr>
              <a:t>Idea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A researcher must not present someone else's ideas as his or her own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Cite your source!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-32364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Even if the originator of the idea doesn't care about credit, it is improper to present their idea as one's own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Citing The Source of an Idea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505008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Right way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Adding “eye of newt” to the mixture produced a higher reaction rate and, ultimately, a far more potent product.</a:t>
            </a:r>
            <a:r>
              <a:rPr b="0" i="1" lang="en-US" sz="3200" spc="-1" strike="noStrike" baseline="33000">
                <a:solidFill>
                  <a:srgbClr val="000000"/>
                </a:solidFill>
                <a:latin typeface="Bitstream Vera Sans"/>
              </a:rPr>
              <a:t>1</a:t>
            </a:r>
            <a:br>
              <a:rPr sz="3200"/>
            </a:br>
            <a:br>
              <a:rPr sz="3200"/>
            </a:br>
            <a:r>
              <a:rPr b="0" i="1" lang="en-US" sz="3200" spc="-1" strike="noStrike" baseline="33000">
                <a:solidFill>
                  <a:srgbClr val="000000"/>
                </a:solidFill>
                <a:latin typeface="Bitstream Vera Sans"/>
              </a:rPr>
              <a:t>______________________</a:t>
            </a:r>
            <a:br>
              <a:rPr sz="3200"/>
            </a:br>
            <a:r>
              <a:rPr b="0" i="1" lang="en-US" sz="3200" spc="-1" strike="noStrike" baseline="33000">
                <a:solidFill>
                  <a:srgbClr val="000000"/>
                </a:solidFill>
                <a:latin typeface="Bitstream Vera Sans"/>
              </a:rPr>
              <a:t>1</a:t>
            </a: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We are grateful to Mr. A. E. Newman, a high school student who was visiting our lab for the day, for suggesting this important step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Avoiding Ethical Dilemma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923436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1. </a:t>
            </a:r>
            <a:r>
              <a:rPr b="1" lang="en-US" sz="3200" spc="-1" strike="noStrike">
                <a:solidFill>
                  <a:srgbClr val="000000"/>
                </a:solidFill>
                <a:latin typeface="Bitstream Vera Sans"/>
              </a:rPr>
              <a:t>Know the rules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How are researchers supposed to behave?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Who says so?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2. </a:t>
            </a:r>
            <a:r>
              <a:rPr b="1" lang="en-US" sz="3200" spc="-1" strike="noStrike">
                <a:solidFill>
                  <a:srgbClr val="000000"/>
                </a:solidFill>
                <a:latin typeface="Bitstream Vera Sans"/>
              </a:rPr>
              <a:t>Know your rights &amp; responsibilities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Co-authorship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Ownership of intellectual property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Conflicts of interest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39440" y="555120"/>
            <a:ext cx="885348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Fast Track to Academic Succes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923320" cy="521496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9000"/>
          </a:bodyPr>
          <a:p>
            <a:pPr marL="427320" indent="-320400">
              <a:lnSpc>
                <a:spcPct val="98000"/>
              </a:lnSpc>
              <a:buClr>
                <a:srgbClr val="0e594d"/>
              </a:buClr>
              <a:buFont typeface="Bitstream Vera Sans"/>
              <a:buAutoNum type="arabicParenR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Browse the web to find papers or tech reports you like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Font typeface="Bitstream Vera Sans"/>
              <a:buAutoNum type="arabicParenR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Download the source files, or OCR the printed document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Font typeface="Bitstream Vera Sans"/>
              <a:buAutoNum type="arabicParenR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Change the author and title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Font typeface="Bitstream Vera Sans"/>
              <a:buAutoNum type="arabicParenR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Change all occurrences of “I”/”we” or “my”/”our” accompanying citations of the true author's work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Font typeface="Bitstream Vera Sans"/>
              <a:buAutoNum type="arabicParenR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Resubmit to an obscure conference or journal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Font typeface="Bitstream Vera Sans"/>
              <a:buAutoNum type="arabicParenR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Repeat until fame and fortune achieved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Fast Track (cont.)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This technique was pioneered in the 1980s by C. V. Papadapoulos, University of Patras, Greece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-32364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Professor Jeannette Wing at CMU: new category in her vita: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Papers of mine published in a refereed journal under someone else's name.”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39440" y="127080"/>
            <a:ext cx="8605800" cy="16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Issue #3: Responsibilities</a:t>
            </a:r>
            <a:br>
              <a:rPr sz="4400"/>
            </a:b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of a Reviewer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From “Ethical Guidelines to Publications of Chemical Research”, </a:t>
            </a: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Accounts of Chemical Research </a:t>
            </a:r>
            <a:r>
              <a:rPr b="1" lang="en-US" sz="3200" spc="-1" strike="noStrike">
                <a:solidFill>
                  <a:srgbClr val="000000"/>
                </a:solidFill>
                <a:latin typeface="Bitstream Vera Sans"/>
              </a:rPr>
              <a:t>18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(12):355-357, December 1985: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1. Do your fair share of reviewing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2. Promptly return the manuscript if you are not qualified to review it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Reviewer Responsibilitie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81532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3. Judge quality objectively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With due regard to scientific standards, bu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With respect for the intellectual independence of the authors.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Reviewer Responsibilitie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4. Avoid potential conflicts of interest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Either decline to review the manuscript, or fully disclose the conflict to the editor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In some cases, it may be appropriate to submit 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Bitstream Vera Sans"/>
              </a:rPr>
              <a:t>signed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review, to prevent any accusation of bias.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Reviewer Responsibilitie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5. Do not review manuscripts where you have a personal or professional connection to the author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Your girlfriend / boyfriend / cousin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Your colleague down the hall.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Reviewer Responsibilitie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6. Treat manuscripts a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itstream Vera Sans"/>
              </a:rPr>
              <a:t>confidential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Don't turn the manuscript you just reviewed into a course handout, even if it's wonderfully relevant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Wait until it's published.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Reviewer Responsibilitie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7. Provide adequate support for your judgments, </a:t>
            </a: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including citations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itstream Vera Sans"/>
              </a:rPr>
              <a:t>Wrong way: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The author's result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itstream Vera Sans"/>
              </a:rPr>
              <a:t>must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be wrong, since they conflict with those of Bovik, who invented the field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39440" y="555120"/>
            <a:ext cx="897732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Adequate Support for Judgment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itstream Vera Sans"/>
              </a:rPr>
              <a:t>Right way: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The authors should explain the discrepancies between their results and the seminal work of Bovik (“Short messages over long distances,” </a:t>
            </a: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Journal of Hyperspace Zephygrams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, vol. 1, no. 1, pp. 1-22, January 2007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Responsibilites of a Reviewer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8. Know the literature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Point out missing citations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Call the editor's attention to any substantial similarity between this manuscript and one already published or currently submitted to another journal.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Avoiding Ethical Dilemma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52610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9000"/>
          </a:bodyPr>
          <a:p>
            <a:pPr marL="339480"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3. </a:t>
            </a:r>
            <a:r>
              <a:rPr b="1" lang="en-US" sz="3200" spc="-1" strike="noStrike">
                <a:solidFill>
                  <a:srgbClr val="000000"/>
                </a:solidFill>
                <a:latin typeface="Bitstream Vera Sans"/>
              </a:rPr>
              <a:t>Learn to recognize the most common ethical mistakes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Misappropriation of text or ideas.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Deceptive reporting of research results.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Breach of confidentiality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94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4. </a:t>
            </a:r>
            <a:r>
              <a:rPr b="1" lang="en-US" sz="3200" spc="-1" strike="noStrike">
                <a:solidFill>
                  <a:srgbClr val="000000"/>
                </a:solidFill>
                <a:latin typeface="Bitstream Vera Sans"/>
              </a:rPr>
              <a:t>Take steps now to avoid conflicts in your research group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Or resolve them quickly with minimal discomfort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94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5. </a:t>
            </a:r>
            <a:r>
              <a:rPr b="1" lang="en-US" sz="3200" spc="-1" strike="noStrike">
                <a:solidFill>
                  <a:srgbClr val="000000"/>
                </a:solidFill>
                <a:latin typeface="Bitstream Vera Sans"/>
              </a:rPr>
              <a:t>Learn from others' mistakes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Responsibilities of a Reviewer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9. Turn in all reviews promptly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itstream Vera Sans"/>
              </a:rPr>
              <a:t>Someone's tenure case may hang on your decision.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Responsibilities of a Reviewer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51390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9000"/>
          </a:bodyPr>
          <a:p>
            <a:pPr marL="339480"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10. Do not use the ideas or results in a manuscript except with permission of the author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394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You can abandon an approach the paper shows will be unsuccessful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But you cannot use a new technique disclosed in the paper without first obtaining the author's permission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Let the editor know what you are doing!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Contacting An Author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79600" y="2101680"/>
            <a:ext cx="915192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9000"/>
          </a:bodyPr>
          <a:p>
            <a:pPr marL="427320" indent="-32040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True story: scientist A submits a paper to a leading journal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Editor B assigns it to scientist C to review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C thinks the data are interesting, but the computer model is naïve and the results unimpressive.  Since the model is the focus of the paper, C recommends the paper be rejected, and explains why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Contacting An Author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521496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9000"/>
          </a:bodyPr>
          <a:p>
            <a:pPr marL="427320" indent="-32040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C is an experienced computer modeler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C believes that an approach he developed two years ago would be much better suited to modeling A's data, if extended in a certain direction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C would like access to A's data, but could do the experiment with simulated data, or data from someone else's lab, if necessary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Contacting An Author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C is very concerned about the appearance of impropriety, and wants to act in a responsible and professional manner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-32364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Bitstream Vera Sans"/>
              </a:rPr>
              <a:t>What should C do?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Reviews That Sting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521496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9000"/>
          </a:bodyPr>
          <a:p>
            <a:pPr marL="427320" indent="-32040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At some point in you career, a sharp-tongued reviewer is going to cut you to ribbons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At some later point, you will review a paper by some fool in desperate need of a clue, and will be sorely tempted to cut </a:t>
            </a: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them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to ribbons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Resist this urge.  Remember how it felt when someone did it to you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Issue #4: Research Fraud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Painting mice with a magic marker to fake the results of a genetic experiment.  (True case.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-32364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Fabricating some missing data points in order to complete a study in time for a deadline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Varieties of Data Fraud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521496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9000"/>
          </a:bodyPr>
          <a:p>
            <a:pPr marL="427320"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From Sigma Xi's </a:t>
            </a: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“Honor in Science”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Bitstream Vera Sans"/>
              </a:rPr>
              <a:t>Trimming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: smoothing irregularities to make the data appear extremely accurate and precise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Bitstream Vera Sans"/>
              </a:rPr>
              <a:t>Cooking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: retaining only those results that fit the theory, and discarding others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Bitstream Vera Sans"/>
              </a:rPr>
              <a:t>Forging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: inventing some or all of the research data that are reported; even reporting experiments that were never performed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39440" y="127080"/>
            <a:ext cx="8605800" cy="16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Favorite Excuses for</a:t>
            </a:r>
            <a:br>
              <a:rPr sz="4400"/>
            </a:b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Trimming and Cooking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those outlier points must be measurement error”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-32364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they would only confuse the reader”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-32364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everybody cleans up their data before publication”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Famous Fabricator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Mendel “cleaned up” his genetics data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-32364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Kepler fabricated data on planetary observations to support his controversial claim that the planets follow elliptical orbits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Ethics Education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Scientific integrity training is now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itstream Vera Sans"/>
              </a:rPr>
              <a:t>required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in many areas of the sciences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-32364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NIH and NSF training grants require it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-32364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Ethics training is a standard part of medical school and business school curricula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But not computer science?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Famous Fabricator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Pasteur gave a public demonstration of what wa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itstream Vera Sans"/>
              </a:rPr>
              <a:t>supposed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to be his new oxygen-attenuation approach to vaccine production.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In reality he was using a chemically treated vaccine, an idea h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itstream Vera Sans"/>
              </a:rPr>
              <a:t>stole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from Henri Toussaint (who suffered a nervous breakdown and died.)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43" name=""/>
          <p:cNvSpPr/>
          <p:nvPr/>
        </p:nvSpPr>
        <p:spPr>
          <a:xfrm>
            <a:off x="1752480" y="387360"/>
            <a:ext cx="18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Recent Case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Woo Suk Hwang (South Korea):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Faked results to support his claim to have cloned human stem cells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Coerced egg donations from female subordinate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-32364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Eric Poehlman (U. Vermont):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Faked data in 15 NIH grant applications worth $2.9 million over 10 years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Bitstream Vera Sans"/>
              </a:rPr>
              <a:t>Sentenced to 366 days in federal prison.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The Hall of Shame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521496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9000"/>
          </a:bodyPr>
          <a:p>
            <a:pPr marL="427320" indent="-32040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NIH Office of Research Integrity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    http://ori.dhhs.gov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Annual summaries of scientific misconduct cases, and the penalties applied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Typically: barred for 3-5 years from applying for federal funds or serving on any review/advisory panels.  (So ...)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Issue #5: Failure to Disclose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520092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9000"/>
          </a:bodyPr>
          <a:p>
            <a:pPr marL="427320" indent="-32040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Disclosure of potential conflicts of interest is always a good idea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It's insurance against accusations of misconduct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Failure to disclose may lead to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An appearance of impropriety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Jail time (e.g., for violating disclosure requirements in a stock offering.)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50" name=""/>
          <p:cNvSpPr/>
          <p:nvPr/>
        </p:nvSpPr>
        <p:spPr>
          <a:xfrm>
            <a:off x="5688000" y="3962520"/>
            <a:ext cx="14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Example of Poor Disclosure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521496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9000"/>
          </a:bodyPr>
          <a:p>
            <a:pPr marL="427320" indent="-32040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From the back of an MIT Press book jacket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“</a:t>
            </a: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This wonderfully lucid book describes what history may judge to be the second state in the evolution of &lt;stuff&gt;... It may take generations to unfold the implications of this new species of &lt;artifact&gt; -- but &lt;author&gt; and his colleagues have already made an impressive beginning.”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What's Not Disclosed?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The endorser is the author's thesis advisor, and hence one of the “colleagues” being lauded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-32364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The endorser has a financial interest in the company that is commercializing the artifact described in the book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Talking to the Public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In general, scientists should not announce discoveries to the public before they have undergone peer review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Fleishman and Pons “cold fusion” case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-32364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Deliberately avoiding peer review for personal gain may constitute professional misconduct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Talking to the Public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9000"/>
          </a:bodyPr>
          <a:p>
            <a:pPr marL="427320" indent="-32040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Technical issues sometimes have to be simplified when explaining research to the public, but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1) Don't oversell your results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2) Don't allow others (e.g., a reporter, or a company you're working with) to hype your results to make the story more exciting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Talking to the Public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521496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9000"/>
          </a:bodyPr>
          <a:p>
            <a:pPr marL="339480"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3) Make sure the technical details are available at the time of any public announcements, so the facts can be checked by any scientist who cares to do so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394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4) Don't present a shoddy and over-hyped undergraduate research project as “The Carnegie Mellon Study” unless the Provost gives permission to attach CMU's name to it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39440" y="127080"/>
            <a:ext cx="8605800" cy="16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Etiquette in the Scientific Community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-32364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Pointing out flaws in competing approaches is fine.  But be respectful of other researchers working in your area.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Who do you think is going to be reviewing your papers and grant proposals?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Resource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521496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9000"/>
          </a:bodyPr>
          <a:p>
            <a:pPr marL="427320" indent="-32040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National Academy of Sciences booklet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On Being a Scientist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AAAS booklet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Good Science and Responsible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       Scientists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Sigma Xi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Honor in Science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    The Responsible Researcher: Paths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       and Pitfalls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Etiquette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Praise good behavior in public.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Criticize bad behavior (e.g., failure to cite) in private.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-32364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If public criticism is necessary, stick to objective facts.  Personal attacks are never appropriate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3120" y="339840"/>
            <a:ext cx="959328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Dealing with Problem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Get your advisor's advice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-32364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If you have a problem with your advisor, discuss it with him or her before seeking outside opinions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-32364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If necessary, speak confidentially with some other senior scientist whose opinions you respect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Dealing with Problems (cont.)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9000"/>
          </a:bodyPr>
          <a:p>
            <a:pPr marL="427320" indent="-32040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Sometimes misunderstandings or unhappy situations can be cleaned up through mediation by a third party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In the event of serious misconduct, charges may be filed with the Provost's office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The university has a formal policy for handling misconduct allegations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Handling Misconduct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Handle allegations of misconduct with as much confidentiality as possible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People's careers are at stake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Remember that there are two sides to every story.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Conclusion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507852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9000"/>
          </a:bodyPr>
          <a:p>
            <a:pPr marL="427320" indent="-32040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Ethics education should help you to: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Understand the rules of professional behavior, and the reasons for them.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Know your rights.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Meet your responsibilities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Most basic rule of all: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Don't do anything that would embarrass you if people found out about it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(Thanks, mom.)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Resources (cont.)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50324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9000"/>
          </a:bodyPr>
          <a:p>
            <a:pPr marL="427320" indent="-32040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CMU's Center for the Advancement of Applied Ethics and Political Philosophy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Peter Madsen offers several ethics course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Many ethics education programs us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itstream Vera Sans"/>
              </a:rPr>
              <a:t>case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itstream Vera Sans"/>
              </a:rPr>
              <a:t>studies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to foster discussion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Lots of good material on the web, e.g.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   http://bioethics.od.nih.gov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   http://onlineethics.org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Official Policie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51390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9000"/>
          </a:bodyPr>
          <a:p>
            <a:pPr marL="427320" indent="-32040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CMU Faculty and Student Handbooks contain policies on: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Plagiarism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Conflict of interest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Use of human subjects in research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Handling of allegations of misconduct in research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Ownership of intellectual property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Privacy of computer accounts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Sexual harass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http://www.cmu.edu/policies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Official Policie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39800" y="2101320"/>
            <a:ext cx="8935920" cy="50850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9000"/>
          </a:bodyPr>
          <a:p>
            <a:pPr marL="427320" indent="-32040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Professional and scientific societies often have codes of ethics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282320" indent="-213480">
              <a:lnSpc>
                <a:spcPct val="97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itstream Vera Sans"/>
              </a:rPr>
              <a:t>ACM: don't mislead the public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282320" indent="-213480">
              <a:lnSpc>
                <a:spcPct val="97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itstream Vera Sans"/>
              </a:rPr>
              <a:t>APA: don't sleep with your patients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itstream Vera Sans"/>
              </a:rPr>
              <a:t>But are they enforced?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Many scientific journals impose ethical requirements on authors: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Release of data to other scientists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Compliance with NIH animal care guidelines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IRB approval for expts. on human subjects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Avoiding duplicate publication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31T08:11:24Z</dcterms:created>
  <dc:creator>David Touretzky</dc:creator>
  <dc:description>Lilac title area and left border with three blue-green accent elements on left border, gray background</dc:description>
  <dc:language>en-US</dc:language>
  <cp:lastModifiedBy>dst</cp:lastModifiedBy>
  <dcterms:modified xsi:type="dcterms:W3CDTF">2011-01-17T04:06:04Z</dcterms:modified>
  <cp:revision>23</cp:revision>
  <dc:subject/>
  <dc:title>Ethics and Etiquette in Scientific Research</dc:title>
</cp:coreProperties>
</file>