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9440" y="30312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04640" y="1893960"/>
            <a:ext cx="9671400" cy="5667480"/>
          </a:xfrm>
          <a:prstGeom prst="roundRect">
            <a:avLst>
              <a:gd name="adj" fmla="val 28"/>
            </a:avLst>
          </a:prstGeom>
          <a:solidFill>
            <a:srgbClr val="ffff00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21720" y="7391520"/>
            <a:ext cx="118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A17C4FB-81DA-43E2-AF7D-8272104E95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and Etiquette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 Scientific Research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3400" y="2101320"/>
            <a:ext cx="8977320" cy="4821480"/>
          </a:xfrm>
          <a:prstGeom prst="rect">
            <a:avLst/>
          </a:prstGeom>
          <a:noFill/>
          <a:ln w="0">
            <a:noFill/>
          </a:ln>
        </p:spPr>
        <p:txBody>
          <a:bodyPr lIns="0" rIns="0" tIns="105480" bIns="0" anchor="t" anchorCtr="1">
            <a:normAutofit fontScale="98000"/>
          </a:bodyPr>
          <a:p>
            <a:pPr marL="335880" indent="0">
              <a:lnSpc>
                <a:spcPct val="8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s of conduct for persons in authorit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avoid impropriet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tell if you're being screwed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itstream Vera Sans"/>
              </a:rPr>
              <a:t>David S. Touretzky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mputer Science Departmen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arnegie Mellon Univers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pril 2007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1: Allocation of Credi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wo forms of credit in a paper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cknowledg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gets listed as a co-author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b director is co-author on all papers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udent “owes” his advisor co-authorship on at least one journal paper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rdering of Auth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is the ordering of authors determined in your fiel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rst and last usually the key posit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fferent disciplines/cultures follow different conven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 of thumb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co-author should have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direc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ubstantial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contributions to the work (not necessarily to the writing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-authors share responsibility for the scientific integrity of the pape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Penalties may appl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avid Baltimore cas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Nobel laureate was co-author on a pap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mary investigator accused of fraud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mputer Scienc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nerally: authors ordered by the amount of their contribu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in the Theory community, author list is sometimes alphabetica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ntributions may includ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ing key idea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ing the implement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unning experiments / collecting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alyzing the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riting up the resul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 C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special honor to be last author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general consensus on lab directors getting co-authorshi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typically have 1-4 autho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arely see large author lists as in physic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many computer scientists do interdisciplinary work: HCI, computational neurosci.  Culture clash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eople who made contributions that don't merit co-authorship may (sometimes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) be acknowledged elsewhere in the pap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t as good as co-authorship, since it doesn't go on a vi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it's good manners, and costs noth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e People Who..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919800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 fontScale="99000"/>
          </a:bodyPr>
          <a:p>
            <a:pPr lvl="1" marL="855000" indent="-284400">
              <a:lnSpc>
                <a:spcPct val="98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tribute a good idea or coin a useful te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pointers to papers for the bibliograph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debugging some tricky cod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typesetting or illustr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significant resources, e.g., loan of equipment, tissue samples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lso acknowledge your funding agency!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sk Your Advisor: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What are the authorship conventions in our field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What are the authorship conventions in your lab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Are students prohibited from submitting papers (even if sole-authored) without your approval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Who owns the code/data/manuscript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ee CMU policy on intellectual propert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CMU cases: Godspell, SCRIB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to Discu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Smith is invited to write an article for a special issue of The Big Important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 invites grad student Jones to help with the artic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of the most important results are the product of Jones' thesis research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 should the authorship be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2: Misappropriating Tex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orrowing “just a sentence or two” without attribution is plagiaris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plagiarism is easily avoided: give the cita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earch Ethics Cover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any Ar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formed consent, IRB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animal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ropriate care/use, IACUC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ral debat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em cell research, impact of technology (nuclear weapons, genetic screening)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issues (today's topic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uthorship, IP rights, confidentiality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 parrot is a remarkable bird in many respects.  In terms of intelligence, humor, and manual dexterity, it is unequalled 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 the parrot is a remarkable bird in many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other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respects.  In terms of intelligence, humor, an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b3b3b3"/>
                </a:solidFill>
                <a:latin typeface="Bitstream Vera Sans"/>
              </a:rPr>
              <a:t>[manual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dexterity, it is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unparallele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oper Attribu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 in addition, as Smith (2005) observes, “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erms of intelligence, humor, and manual dexterity,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[they are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unequalled in the avian kingdom.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ation 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917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e other people's work freely and oft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 antagonizing your reviewers by failing to acknowledge their contribu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monstrate your mastery of the literatur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ake new friends.  (Scholars love to be cited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courage others to cite your work in retur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ations are good, but stealing citations is not goo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Rat head direction cells with cosine tuning curves have been found in parietal/retrosplenial cortex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's wrong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Chen (1989) turns out to be an unpublished PhD thesis that Jones has never seen, and wouldn't comprehend if he ha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Smith, 2005, citing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Id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 researcher must not present someone else's ideas as his or her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ite your sourc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n if the originator of the idea doesn't care about credit, it is improper to present their idea as one's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ing The Source of an Idea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050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dding “eye of newt” to the mixture produced a higher reaction rate and, ultimately, a far more potent product.</a:t>
            </a: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br>
              <a:rPr sz="3200"/>
            </a:b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______________________</a:t>
            </a: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We are grateful to Mr. A. E. Newman, a high school student who was visiting our lab for the day, for suggesting this important ste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23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the rul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are researchers supposed to behav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o says so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your rights &amp; responsibiliti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s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85348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to Academic Succe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2332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rowse the web to find papers or tech reports you lik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ownload the source files, or OCR the printed documen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the author and titl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all occurrences of “I”/”we” or “my”/”our” accompanying citations of the true author's wor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ubmit to an obscure conference or journal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peat until fame and fortune achiev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s technique was pioneered in the 1980s by C. V. Papadapoulos, University of Patras, Gree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Jeannette Wing at CMU: new category in her vita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of mine published in a refereed journal under someone else's name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3: Responsibilitie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“Ethical Guidelines to Publications of Chemical Research”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ccounts of Chemical Research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(12):355-357, December 1985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Do your fair share of review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Promptly return the manuscript if you are not qualified to review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8153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Judge quality objectivel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due regard to scientific standards, bu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respect for the intellectual independence of the author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Avoid potential conflicts of interes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ither decline to review the manuscript, or fully disclose the conflict to the edito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 some cases, it may be appropriate to submit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igned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review, to prevent any accusation of bi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Do not review manuscripts where you have a personal or professional connection to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girlfriend / boyfriend / cousi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colleague down the hal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6. Treat manuscripts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nfidential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turn the manuscript you just reviewed into a course handout, even if it's wonderfully releva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ait until it's published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7. Provide adequate support for your judgments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including citation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's resul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be wrong, since they conflict with those of Bovik, who invented the fiel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97732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dequate Support for Ju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s should explain the discrepancies between their results and the seminal work of Bovik (“Short messages over long distances,”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Journal of Hyperspace Zephygram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, vol. 1, no. 1, pp. 1-22, January 2007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8. Know the literatur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int out missing cita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ll the editor's attention to any substantial similarity between this manuscript and one already published or currently submitted to another journa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61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to recognize the most common ethical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isappropriation of text or ide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eptive reporting of research resul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reach of confidentialit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ake steps now to avoid conflicts in your research grou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r resolve them quickly with minimal discomfor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from others'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9. Turn in all reviews promptl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omeone's tenure case may hang on your decis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0. Do not use the ideas or results in a manuscript except with permission of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 can abandon an approach the paper shows will be unsuccessfu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you cannot use a new technique disclosed in the paper without first obtaining the author's permiss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the editor know what you are doing!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9600" y="2101680"/>
            <a:ext cx="91519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rue story: scientist A submits a paper to a leading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ditor B assigns it to scientist C to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thinks the data are interesting, but the computer model is naïve and the results unimpressive.  Since the model is the focus of the paper, C recommends the paper be rejected, and explains wh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an experienced computer model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believes that an approach he developed two years ago would be much better suited to modeling A's data, if extended in a certain direc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would like access to A's data, but could do the experiment with simulated data, or data from someone else's lab, if necessar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very concerned about the appearance of impropriety, and wants to act in a responsible and professional mann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What should C do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s That St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point in you career, a sharp-tongued reviewer is going to cut you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later point, you will review a paper by some fool in desperate need of a clue, and will be sorely tempted to cut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ist this urge.  Remember how it felt when someone did it to you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4: Research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inting mice with a magic marker to fake the results of a genetic experiment.  (True case.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bricating some missing data points in order to complete a study in time for a deadlin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Varieties of Data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Sigma Xi's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“Honor in Science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Trimm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smoothing irregularities to make the data appear extremely accurate and precis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ok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retaining only those results that fit the theory, and discarding othe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Forg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inventing some or all of the research data that are reported; even reporting experiments that were never perform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vorite Excuses for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rimming and Cook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ose outlier points must be measurement erro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y would only confuse the reade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rybody cleans up their data before publication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endel “cleaned up” his genetics da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Kepler fabricated data on planetary observations to support his controversial claim that the planets follow elliptical orbi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Educa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cientific integrity training is 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requir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in many areas of the scienc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and NSF training grants require i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training is a standard part of medical school and business school curricul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not computer scienc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steur gave a public demonstration of what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uppos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be his new oxygen-attenuation approach to vaccine productio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reality he was using a chemically treated vaccine, an idea 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ol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from Henri Toussaint (who suffered a nervous breakdown and died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38736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cent Cas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oo Suk Hwang (South Korea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results to support his claim to have cloned human stem cell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erced egg donations from female subordin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ric Poehlman (U. Vermont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data in 15 NIH grant applications worth $2.9 million over 10 year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Sentenced to 366 days in federal pris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Hall of Sham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Office of Research Integr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 http://ori.dhhs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nnual summaries of scientific misconduct cases, and the penalties appli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ypically: barred for 3-5 years from applying for federal funds or serving on any review/advisory panels.  (So ..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5: Failure to Disclos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sclosure of potential conflicts of interest is always a good ide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t's insurance against accusations of misconduc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ilure to disclose may lead to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 appearance of improprie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il time (e.g., for violating disclosure requirements in a stock offering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5688000" y="3962520"/>
            <a:ext cx="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of Poor Disclosur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the back of an MIT Press book jack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is wonderfully lucid book describes what history may judge to be the second state in the evolution of &lt;stuff&gt;... It may take generations to unfold the implications of this new species of &lt;artifact&gt; -- but &lt;author&gt; and his colleagues have already made an impressive beginning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hat's Not Disclosed?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is the author's thesis advisor, and hence one of the “colleagues” being laud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has a financial interest in the company that is commercializing the artifact described in the boo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general, scientists should not announce discoveries to the public before they have undergone peer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leishman and Pons “cold fusion” cas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eliberately avoiding peer review for personal gain may constitute professional miscondu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echnical issues sometimes have to be simplified when explaining research to the public, bu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) Don't oversell your resul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) Don't allow others (e.g., a reporter, or a company you're working with) to hype your results to make the story more excit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) Make sure the technical details are available at the time of any public announcements, so the facts can be checked by any scientist who cares to do s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) Don't present a shoddy and over-hyped undergraduate research project as “The Carnegie Mellon Study” unless the Provost gives permission to attach CMU's name to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 in the Scientific Community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ointing out flaws in competing approaches is fine.  But be respectful of other researchers working in your are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do you think is going to be reviewing your papers and grant proposals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ational Academy of Science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On Being a Scientis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AA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Good Science and Responsibl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Scientist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gma Xi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Honor in Sci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The Responsible Researcher: Path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and Pitfall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aise good behavior in public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riticize bad behavior (e.g., failure to cite) in privat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public criticism is necessary, stick to objective facts.  Personal attacks are never appropriat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3120" y="339840"/>
            <a:ext cx="95932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t your advisor's ad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you have a problem with your advisor, discuss it with him or her before seeking outside opin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necessary, speak confidentially with some other senior scientist whose opinions you respe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times misunderstandings or unhappy situations can be cleaned up through mediation by a third part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the event of serious misconduct, charges may be filed with the Provost's off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university has a formal policy for handling misconduct allega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andling Misconduc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andle allegations of misconduct with as much confidentiality as possi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ople's careers are at stak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member that there are two sides to every stor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education should help you to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nderstand the rules of professional behavior, and the reasons for them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Know your righ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eet your responsibiliti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st basic rule of all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do anything that would embarrass you if people found out about 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Thanks, mom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's Center for the Advancement of Applied Ethics and Political Philosoph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ter Madsen offers several ethics cours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ethics education programs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as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udie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foster discuss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Lots of good material on the web, e.g.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bioethics.od.nih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onlineethics.org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 Faculty and Student Handbooks contain policies on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andling of allegations of misconduct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vacy of computer accou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xual harass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ttp://www.cmu.edu/polic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935920" cy="5085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and scientific societies often have codes of ethic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CM: don't mislead the publ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PA: don't sleep with your patient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But are they enforced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scientific journals impose ethical requirements on authors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lease of data to other scientis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mpliance with NIH animal care guidelin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B approval for expts. on human subjec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ing duplicate public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08:11:24Z</dcterms:created>
  <dc:creator>David Touretzky</dc:creator>
  <dc:description>Lilac title area and left border with three blue-green accent elements on left border, gray background</dc:description>
  <dc:language>en-US</dc:language>
  <cp:lastModifiedBy>dst</cp:lastModifiedBy>
  <dcterms:modified xsi:type="dcterms:W3CDTF">2011-01-17T04:06:04Z</dcterms:modified>
  <cp:revision>23</cp:revision>
  <dc:subject/>
  <dc:title>Ethics and Etiquette in Scientific Research</dc:title>
</cp:coreProperties>
</file>