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39440" y="458964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836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4860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5776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3944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4860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5776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39440" y="303120"/>
            <a:ext cx="86043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4836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04640" y="1893960"/>
            <a:ext cx="9671400" cy="5667480"/>
          </a:xfrm>
          <a:prstGeom prst="roundRect">
            <a:avLst>
              <a:gd name="adj" fmla="val 28"/>
            </a:avLst>
          </a:prstGeom>
          <a:solidFill>
            <a:srgbClr val="ffff00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21720" y="7391520"/>
            <a:ext cx="11872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CAE4916-B5CE-4BA7-AC44-FA61479BC34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9440" y="9036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hics and Etiquette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n Scientific Research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23400" y="2101320"/>
            <a:ext cx="8977320" cy="4821480"/>
          </a:xfrm>
          <a:prstGeom prst="rect">
            <a:avLst/>
          </a:prstGeom>
          <a:noFill/>
          <a:ln w="0">
            <a:noFill/>
          </a:ln>
        </p:spPr>
        <p:txBody>
          <a:bodyPr lIns="0" rIns="0" tIns="105480" bIns="0" anchor="t" anchorCtr="1">
            <a:normAutofit fontScale="98000"/>
          </a:bodyPr>
          <a:p>
            <a:pPr marL="335880" indent="0">
              <a:lnSpc>
                <a:spcPct val="8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Dingbats"/>
                <a:ea typeface="Dingbats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ules of conduct for persons in authority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Zapf Dingbats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Dingbats"/>
                <a:ea typeface="Dingbats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ow to avoid improprieti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Zapf Dingbats"/>
              </a:rPr>
              <a:t>   </a:t>
            </a:r>
            <a:r>
              <a:rPr b="0" lang="en-US" sz="4400" spc="-1" strike="noStrike">
                <a:solidFill>
                  <a:srgbClr val="ff0000"/>
                </a:solidFill>
                <a:latin typeface="Dingbats"/>
                <a:ea typeface="Dingbats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ow to tell if you're being screwed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Bitstream Vera Sans"/>
              </a:rPr>
              <a:t>David S. Touretzky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omputer Science Department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arnegie Mellon Universit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pril 2007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1: Allocation of Credi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wo forms of credit in a paper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-authorship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cknowledgm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o gets listed as a co-author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ab director is co-author on all papers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udent “owes” his advisor co-authorship on at least one journal paper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rdering of Author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ow is the ordering of authors determined in your fiel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irst and last usually the key positi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ifferent disciplines/cultures follow different convention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-Authorship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200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ule of thumb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 co-author should have ma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itstream Vera Sans"/>
              </a:rPr>
              <a:t>direct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itstream Vera Sans"/>
              </a:rPr>
              <a:t>substantial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contributions to the work (not necessarily to the writing.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o-authors share responsibility for the scientific integrity of the paper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itstream Vera Sans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Bitstream Vera Sans"/>
              </a:rPr>
              <a:t>Penalties may apply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avid Baltimore case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Nobel laureate was co-author on a paper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imary investigator accused of fraud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9440" y="9036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-Authorship in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mputer Scienc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Generally: authors ordered by the amount of their contributio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ut in the Theory community, author list is sometimes alphabetical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ontributions may include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viding key idea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oing the implementation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unning experiments / collecting data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nalyzing the data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riting up the resul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-Authorship in C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o special honor to be last author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o general consensus on lab directors getting co-authorship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pers typically have 1-4 author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arely see large author lists as in physic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ut many computer scientists do interdisciplinary work: HCI, computational neurosci.  Culture clash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cknowledgment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eople who made contributions that don't merit co-authorship may (sometimes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) be acknowledged elsewhere in the pape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ot as good as co-authorship, since it doesn't go on a vita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ut it's good manners, and costs nothing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cknowledge People Who...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919800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 fontScale="99000"/>
          </a:bodyPr>
          <a:p>
            <a:pPr lvl="1" marL="855000" indent="-284400">
              <a:lnSpc>
                <a:spcPct val="98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ntribute a good idea or coin a useful ter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vide pointers to papers for the bibliograph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elp with debugging some tricky cod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elp with typesetting or illustra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vide significant resources, e.g., loan of equipment, tissue samples, etc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lso acknowledge your funding agency!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sk Your Advisor: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. What are the authorship conventions in our field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. What are the authorship conventions in your lab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. Are students prohibited from submitting papers (even if sole-authored) without your approval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. Who owns the code/data/manuscript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itstream Vera Sans"/>
              </a:rPr>
              <a:t>See CMU policy on intellectual property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ome CMU cases: Godspell, SCRIBE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xample to Discus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or Smith is invited to write an article for a special issue of The Big Important Journal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mith invites grad student Jones to help with the articl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ome of the most important results are the product of Jones' thesis research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at should the authorship be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2: Misappropriating Tex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orrowing “just a sentence or two” without attribution is plagiarism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ut plagiarism is easily avoided: give the citatio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39440" y="9036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earch Ethics Covers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any Are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200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Use of human subjects in research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nformed consent, IRB oversigh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Use of animals in research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ppropriate care/use, IACUC oversigh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oral debat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em cell research, impact of technology (nuclear weapons, genetic screening), etc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ional issues (today's topic)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uthorship, IP rights, confidentiality, etc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Exampl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mith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The parrot is a remarkable bird in many respects.  In terms of intelligence, humor, and manual dexterity, it is unequalled in the avian kingdom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Exampl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Parrots are excellent mimics. But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 the parrot is a remarkable bird in many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other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respects.  In terms of intelligence, humor, and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b3b3b3"/>
                </a:solidFill>
                <a:latin typeface="Bitstream Vera Sans"/>
              </a:rPr>
              <a:t>[manual]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dexterity, it is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0000ff"/>
                </a:solidFill>
                <a:latin typeface="Bitstream Vera Sans"/>
              </a:rPr>
              <a:t>unparalleled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in the avian kingdom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Proper Attribution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right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Parrots are excellent mimics. But in addition, as Smith (2005) observes, “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in terms of intelligence, humor, and manual dexterity,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Bitstream Vera Sans"/>
              </a:rPr>
              <a:t>[they are]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unequalled in the avian kingdom.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itation Etiquett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99172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ite other people's work freely and ofte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void antagonizing your reviewers by failing to acknowledge their contribution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emonstrate your mastery of the literatur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ake new friends.  (Scholars love to be cited.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ncourage others to cite your work in retur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itations are good, but stealing citations is not goo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mith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Rat head direction cells with cosine tuning curves have been found in parietal/retrosplenial cortex (Chen, 1989)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84160" y="2101680"/>
            <a:ext cx="84614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Some robots use inertial guidance for maintaining heading information in unfamiliar environments.  There is evidence for a similar mechanism in the parietal/retrosplenial cortex of rats (Chen, 1989)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at's wrong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84160" y="2101680"/>
            <a:ext cx="84614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Some robots use inertial guidance for maintaining heading information in unfamiliar environments.  There is evidence for a similar mechanism in the parietal/retrosplenial cortex of rats (Chen, 1989)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itstream Vera Sans"/>
              </a:rPr>
              <a:t>Chen (1989) turns out to be an unpublished PhD thesis that Jones has never seen, and wouldn't comprehend if he ha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84160" y="2101680"/>
            <a:ext cx="84614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right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Some robots use inertial guidance for maintaining heading information in unfamiliar environments.  There is evidence for a similar mechanism in the parietal/retrosplenial cortex of rats (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Smith, 2005, citing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Chen, 1989)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Ide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 researcher must not present someone else's ideas as his or her ow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ite your source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ven if the originator of the idea doesn't care about credit, it is improper to present their idea as one's ow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iting The Source of an Idea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0500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ight way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Adding “eye of newt” to the mixture produced a higher reaction rate and, ultimately, a far more potent product.</a:t>
            </a:r>
            <a:r>
              <a:rPr b="0" i="1" lang="en-US" sz="3200" spc="-1" strike="noStrike" baseline="33000">
                <a:solidFill>
                  <a:srgbClr val="000000"/>
                </a:solidFill>
                <a:latin typeface="Bitstream Vera Sans"/>
              </a:rPr>
              <a:t>1</a:t>
            </a:r>
            <a:br>
              <a:rPr sz="3200"/>
            </a:br>
            <a:br>
              <a:rPr sz="3200"/>
            </a:br>
            <a:r>
              <a:rPr b="0" i="1" lang="en-US" sz="3200" spc="-1" strike="noStrike" baseline="33000">
                <a:solidFill>
                  <a:srgbClr val="000000"/>
                </a:solidFill>
                <a:latin typeface="Bitstream Vera Sans"/>
              </a:rPr>
              <a:t>______________________</a:t>
            </a:r>
            <a:br>
              <a:rPr sz="3200"/>
            </a:br>
            <a:r>
              <a:rPr b="0" i="1" lang="en-US" sz="3200" spc="-1" strike="noStrike" baseline="33000">
                <a:solidFill>
                  <a:srgbClr val="000000"/>
                </a:solidFill>
                <a:latin typeface="Bitstream Vera Sans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We are grateful to Mr. A. E. Newman, a high school student who was visiting our lab for the day, for suggesting this important step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voiding Ethical Dilemm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923436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Know the rul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ow are researchers supposed to behave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ho says so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Know your rights &amp; responsibiliti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-authorship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wnership of intellectual property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nflicts of interest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39440" y="555120"/>
            <a:ext cx="885348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st Track to Academic Succes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92332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rowse the web to find papers or tech reports you lik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ownload the source files, or OCR the printed documen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hange the author and titl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hange all occurrences of “I”/”we” or “my”/”our” accompanying citations of the true author's work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esubmit to an obscure conference or journal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epeat until fame and fortune achieve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st Track (cont.)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is technique was pioneered in the 1980s by C. V. Papadapoulos, University of Patras, Gree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or Jeannette Wing at CMU: new category in her vita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pers of mine published in a refereed journal under someone else's name.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9440" y="12708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3: Responsibilities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rom “Ethical Guidelines to Publications of Chemical Research”,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Accounts of Chemical Research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18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(12):355-357, December 1985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. Do your fair share of reviewing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. Promptly return the manuscript if you are not qualified to review i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81532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. Judge quality objectivel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ith due regard to scientific standards, bu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ith respect for the intellectual independence of the author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. Avoid potential conflicts of interes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ither decline to review the manuscript, or fully disclose the conflict to the edito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n some cases, it may be appropriate to submit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itstream Vera Sans"/>
              </a:rPr>
              <a:t>signed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review, to prevent any accusation of bia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5. Do not review manuscripts where you have a personal or professional connection to the author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our girlfriend / boyfriend / cousi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our colleague down the hall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6. Treat manuscripts 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confidential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on't turn the manuscript you just reviewed into a course handout, even if it's wonderfully relevan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ait until it's published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7. Provide adequate support for your judgments,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including citations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author's resul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be wrong, since they conflict with those of Bovik, who invented the fiel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39440" y="555120"/>
            <a:ext cx="897732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dequate Support for Judgment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Right way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authors should explain the discrepancies between their results and the seminal work of Bovik (“Short messages over long distances,”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Journal of Hyperspace Zephygrams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, vol. 1, no. 1, pp. 1-22, January 2007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ponsibilites 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8. Know the literatur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oint out missing citation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all the editor's attention to any substantial similarity between this manuscript and one already published or currently submitted to another journal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voiding Ethical Dilemm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610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Learn to recognize the most common ethical mistak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isappropriation of text or idea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eceptive reporting of research result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reach of confidentiality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Take steps now to avoid conflicts in your research group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r resolve them quickly with minimal discomfor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5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Learn from others' mistak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ponsibilities 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9. Turn in all reviews promptly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itstream Vera Sans"/>
              </a:rPr>
              <a:t>Someone's tenure case may hang on your decisio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ponsibilities 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1390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0. Do not use the ideas or results in a manuscript except with permission of the author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ou can abandon an approach the paper shows will be unsuccessful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ut you cannot use a new technique disclosed in the paper without first obtaining the author's permissio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the editor know what you are doing!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tacting An Autho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9600" y="2101680"/>
            <a:ext cx="915192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rue story: scientist A submits a paper to a leading journal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ditor B assigns it to scientist C to review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thinks the data are interesting, but the computer model is naïve and the results unimpressive.  Since the model is the focus of the paper, C recommends the paper be rejected, and explains why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tacting An Autho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is an experienced computer modele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believes that an approach he developed two years ago would be much better suited to modeling A's data, if extended in a certain directi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would like access to A's data, but could do the experiment with simulated data, or data from someone else's lab, if necessary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tacting An Autho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is very concerned about the appearance of impropriety, and wants to act in a responsible and professional manne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itstream Vera Sans"/>
              </a:rPr>
              <a:t>What should C do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s That Sting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t some point in you career, a sharp-tongued reviewer is going to cut you to ribb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t some later point, you will review a paper by some fool in desperate need of a clue, and will be sorely tempted to cut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them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to ribb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esist this urge.  Remember how it felt when someone did it to you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4: Research Fraud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inting mice with a magic marker to fake the results of a genetic experiment.  (True case.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abricating some missing data points in order to complete a study in time for a deadlin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Varieties of Data Fraud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rom Sigma Xi's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“Honor in Science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Trimming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 smoothing irregularities to make the data appear extremely accurate and precis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Cooking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 retaining only those results that fit the theory, and discarding other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Forging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 inventing some or all of the research data that are reported; even reporting experiments that were never performe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39440" y="12708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vorite Excuses for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rimming and Cooking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ose outlier points must be measurement error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y would only confuse the reader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verybody cleans up their data before publication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mous Fabricator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endel “cleaned up” his genetics data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Kepler fabricated data on planetary observations to support his controversial claim that the planets follow elliptical orbit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hics Education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cientific integrity training is n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required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in many areas of the science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IH and NSF training grants require it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thics training is a standard part of medical school and business school curricula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ut not computer science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mous Fabricator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steur gave a public demonstration of what w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supposed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to be his new oxygen-attenuation approach to vaccine production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n reality he was using a chemically treated vaccine, an idea 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stole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from Henri Toussaint (who suffered a nervous breakdown and died.)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387360"/>
            <a:ext cx="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cent Cas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oo Suk Hwang (South Korea)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aked results to support his claim to have cloned human stem cell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erced egg donations from female subordinat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ric Poehlman (U. Vermont)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aked data in 15 NIH grant applications worth $2.9 million over 10 year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itstream Vera Sans"/>
              </a:rPr>
              <a:t>Sentenced to 366 days in federal priso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he Hall of Sham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IH Office of Research Integrity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 http://ori.dhhs.gov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nnual summaries of scientific misconduct cases, and the penalties applie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ypically: barred for 3-5 years from applying for federal funds or serving on any review/advisory panels.  (So ...)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5: Failure to Disclos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200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isclosure of potential conflicts of interest is always a good idea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t's insurance against accusations of misconduc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ailure to disclose may lead to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n appearance of improprie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Jail time (e.g., for violating disclosure requirements in a stock offering.)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0" name=""/>
          <p:cNvSpPr/>
          <p:nvPr/>
        </p:nvSpPr>
        <p:spPr>
          <a:xfrm>
            <a:off x="5688000" y="3962520"/>
            <a:ext cx="1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xample of Poor Disclosur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rom the back of an MIT Press book jacke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This wonderfully lucid book describes what history may judge to be the second state in the evolution of &lt;stuff&gt;... It may take generations to unfold the implications of this new species of &lt;artifact&gt; -- but &lt;author&gt; and his colleagues have already made an impressive beginning.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What's Not Disclosed?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endorser is the author's thesis advisor, and hence one of the “colleagues” being laude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endorser has a financial interest in the company that is commercializing the artifact described in the book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alking to the Public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n general, scientists should not announce discoveries to the public before they have undergone peer review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leishman and Pons “cold fusion” cas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eliberately avoiding peer review for personal gain may constitute professional misconduc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alking to the Public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echnical issues sometimes have to be simplified when explaining research to the public, bu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) Don't oversell your result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) Don't allow others (e.g., a reporter, or a company you're working with) to hype your results to make the story more exciting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alking to the Public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) Make sure the technical details are available at the time of any public announcements, so the facts can be checked by any scientist who cares to do so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) Don't present a shoddy and over-hyped undergraduate research project as “The Carnegie Mellon Study” unless the Provost gives permission to attach CMU's name to i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39440" y="12708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iquette in the Scientific Community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ointing out flaws in competing approaches is fine.  But be respectful of other researchers working in your area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o do you think is going to be reviewing your papers and grant proposals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ourc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ational Academy of Sciences bookle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On Being a Scientis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AAS bookle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Good Science and Responsibl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      Scientist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igma Xi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Honor in Scienc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   The Responsible Researcher: Path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      and Pitfall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iquett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aise good behavior in public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riticize bad behavior (e.g., failure to cite) in private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f public criticism is necessary, stick to objective facts.  Personal attacks are never appropriat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3120" y="339840"/>
            <a:ext cx="95932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Dealing with Problem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Get your advisor's advi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f you have a problem with your advisor, discuss it with him or her before seeking outside opini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f necessary, speak confidentially with some other senior scientist whose opinions you respec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Dealing with Problems (cont.)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ometimes misunderstandings or unhappy situations can be cleaned up through mediation by a third party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n the event of serious misconduct, charges may be filed with the Provost's offi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university has a formal policy for handling misconduct allegation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Handling Misconduc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andle allegations of misconduct with as much confidentiality as possibl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eople's careers are at stak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emember that there are two sides to every story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clusion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0785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thics education should help you to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Understand the rules of professional behavior, and the reasons for them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Know your right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eet your responsibilitie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ost basic rule of all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on't do anything that would embarrass you if people found out about i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Thanks, mom.)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ources (cont.)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MU's Center for the Advancement of Applied Ethics and Political Philosophy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eter Madsen offers several ethics cours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any ethics education programs u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case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studies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to foster discussi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Lots of good material on the web, e.g.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http://bioethics.od.nih.gov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http://onlineethics.org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fficial Polic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1390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MU Faculty and Student Handbooks contain policies on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lagiarism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nflict of interest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Use of human subjects in research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andling of allegations of misconduct in research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wnership of intellectual property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ivacy of computer accoun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xual harass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ttp://www.cmu.edu/polici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fficial Polic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8935920" cy="50850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ional and scientific societies often have codes of ethic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82320" indent="-21348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ACM: don't mislead the public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82320" indent="-21348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APA: don't sleep with your patient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itstream Vera Sans"/>
              </a:rPr>
              <a:t>But are they enforced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any scientific journals impose ethical requirements on authors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elease of data to other scientis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mpliance with NIH animal care guideline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RB approval for expts. on human subjec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voiding duplicate publication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1T08:11:24Z</dcterms:created>
  <dc:creator>David Touretzky</dc:creator>
  <dc:description>Lilac title area and left border with three blue-green accent elements on left border, gray background</dc:description>
  <dc:language>en-US</dc:language>
  <cp:lastModifiedBy>dst</cp:lastModifiedBy>
  <dcterms:modified xsi:type="dcterms:W3CDTF">2011-01-17T04:06:04Z</dcterms:modified>
  <cp:revision>23</cp:revision>
  <dc:subject/>
  <dc:title>Ethics and Etiquette in Scientific Research</dc:title>
</cp:coreProperties>
</file>