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8057-6CD6-4B67-8BF5-8D78479B8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11B0-E87C-4E01-87FB-BB435C00FE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67223-5A94-4D55-A299-C6F0F824A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D0DA-68CE-40B2-9917-2D78D404AE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BA75-AF90-46A8-A3DD-AF5E976BC6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A2C7-41A5-4656-8199-F56A2338D6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FA604-7E1A-4422-8835-0C566F81FF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9539-E030-4FCA-A8CB-DDE33D7584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621C4-96AC-4FBC-B2BD-5BF7BBFB55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8AFB-CFC0-44D2-92C8-2990C8D178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A904-5824-41F2-85B0-1ABCB71695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3271C-B537-4C87-8719-773C196ABD1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3A73F-2BCE-4759-B6D1-010545F7F8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DCD0-C2D6-4B76-BD6F-FBCD8C074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F470-0A33-4B48-9D62-A0D9A54295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048D6-2051-4E8C-8F83-273AE606AA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4D29-120B-42BA-8D88-B8F0B28DE9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0350-34F7-491D-AECA-810BB6D2A9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E01-B498-4254-AC1B-657E4A59AF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E27-1EC9-4EFC-8622-AC3D76751B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EDE4-9121-44F0-8690-6B89241EAF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8302-4FFA-472A-85BD-12B9126B32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6DAB-92BF-44D3-AE43-1BF25C16FF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1856-80E5-4B62-89AE-3ED87A559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9864-5CB4-416C-A8B8-552D57D1CE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4181-C3CF-4A1F-B5A1-FDB59A6DF5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4F1F-DD40-4DDD-A5CF-66D8255B16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637-AB2F-45E6-911B-2CAD720A70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214-553C-4D0B-84C1-95FC7A0844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30DF-DBB5-4E0F-871F-2D969271BF1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0CFA-B7E9-4EEC-9042-67A428D4B22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364A8-5047-42D0-935E-BB6A11FD6C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38C53-9756-4D94-9757-739C2E381C9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8F587-54AE-4438-8A77-E1F23D3F13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3E66-6A90-4EB0-BAC5-A1CF5F996EF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9C7C7-91C1-43A9-BC12-EE438CFF92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76350-5580-4E54-95FA-237FCC7DD3B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B4F88-80A6-461B-B660-3C22AE0944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F328E-D1D4-4649-AE94-F2E0A245FA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092D8-EC4C-402D-9BC9-97CC565D47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085B2-04D3-4B70-8945-C000FF4D1EA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617AD-58B0-4FD9-8077-5EDD3D61F2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62E3F-45C7-479A-BCF7-03257128F77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DA624-1BCA-4F78-99B6-56B0AE16E1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EE74-7F39-40C1-8CF5-C2B57C575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4B60-E307-4908-9528-7FA4D05592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70B1-0830-441C-8241-BBEC5662F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1C24-0068-4F19-AFD4-3A4F3B17C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79EB-9FEB-4620-8541-30C5231AF8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C84C-8B5C-4B10-9C97-5B4C1E05A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5D60-EABD-4848-B242-E011EA7E8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F65D-E1C3-4E60-9A54-F67DF5529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C784-0592-4DCC-B516-2FC13D7410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DF1-D782-40FF-B206-794A38B635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15F-1875-49CE-A902-00A320EDBC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F5C-C3C3-4450-BB00-3B5F31772A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0EE-5F84-46EF-BB9F-4543F74A8F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F0C-AA2A-47F7-8F7C-035B9311A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6E51-2903-483A-87DF-57CA62BB6E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CED-4FB0-484B-B3C4-0F452A9331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18D-518F-4F0E-ADA0-671E750B17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6CA-0859-4C8B-B464-6D18327BF2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408-763D-48C2-A5B1-E40F9015BD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4C2-E45C-4C91-A83F-1683DF7962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0CC-1476-4DA5-A201-82A4F4C3EA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EFA-AE97-4B4D-B005-29ECA0F8F2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BAD1-4B1C-4EC3-8910-F4742B7932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21B2F-5068-45A4-A559-507F05FC5F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51E3D-F333-4C4B-9B01-E668C975A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5F2D-BA43-452E-8EF8-91C95AFCFC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50752-3924-4562-8402-98C864C2D2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9C71-8AD5-4AB4-88D4-FFD888C941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290F3-8D09-4005-B9FA-D9EA91490A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A139-5B12-4471-A2BD-C2C4178BD7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E9EF-9F5F-4527-AF1E-535A3C9B71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854FA-41CB-4EE8-937B-E4A12EF3DD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7F77E-A414-4913-A0B0-523E208107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CAFF5-72E9-4C47-A9F5-96328AA613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9A46A-A2E7-49CE-AB63-4F481E8F0A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1D06-DCE7-4A21-B23D-DB06E62B84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5E23-8D1D-47CC-A3B3-3F0197E568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CE7B-BA6B-41A6-AEAD-AB0FA7FF07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9B88-00BA-45A2-A885-48F804C173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EF7A-6776-4CB7-8184-52DFC19E63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50560" y="517320"/>
            <a:ext cx="864396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893520" y="4030560"/>
            <a:ext cx="73580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4160" y="175428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9352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4160" y="4030560"/>
            <a:ext cx="359064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8148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69440" y="175428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9352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8148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69440" y="4030560"/>
            <a:ext cx="2369160" cy="2078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BCA9E984-7171-4770-B1C4-52D3D62A7096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5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5398A13C-7D7D-4242-ADAA-484A50D4FDAE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3520" y="1946160"/>
            <a:ext cx="354492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78000"/>
          </a:bodyPr>
          <a:p>
            <a:pPr marL="4172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905040" indent="-27108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14768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391760" indent="-270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53496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4780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60640" indent="-3477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47168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784520" indent="-3463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10987BE0-592A-4321-84B7-57CEC154EC05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93520" y="17892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465520" y="1946160"/>
            <a:ext cx="2786040" cy="4019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65000"/>
          </a:bodyPr>
          <a:p>
            <a:pPr marL="3474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5508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754200" indent="-22572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9565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159920" indent="-2250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3880" y="1679400"/>
            <a:ext cx="388296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46512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73728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009440" indent="-30240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28016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552320" indent="-300960">
              <a:spcBef>
                <a:spcPts val="26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7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86FD1969-D83B-43B9-95C4-400C329D0C41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588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180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1428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52712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839960" indent="-401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9A6A5015-83C2-4E54-B596-B1FA81D312EA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3/31/08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lick to edit the title text format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2/07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55E8F7E1-6EE0-457A-9278-05C7B98BBB20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296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893520" y="89352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6000"/>
          </a:bodyPr>
          <a:p>
            <a:pPr marL="50616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544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44000" indent="-34488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31328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582200" indent="-345240">
              <a:spcBef>
                <a:spcPts val="3376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567240" y="6510240"/>
            <a:ext cx="200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15-494 Cognitive Robo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6505560"/>
            <a:ext cx="758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</a:rPr>
              <a:t>04/01/06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4"/>
          </p:nvPr>
        </p:nvSpPr>
        <p:spPr>
          <a:xfrm>
            <a:off x="8572680" y="6509880"/>
            <a:ext cx="24120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9B405BCB-B0C0-45EF-861F-A633E4F3A76A}" type="slidenum">
              <a:rPr b="0" lang="en-US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93520" y="5180040"/>
            <a:ext cx="7358040" cy="11952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445680" y="336672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81000"/>
          </a:bodyPr>
          <a:p>
            <a:pPr indent="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45680" y="990360"/>
            <a:ext cx="4125960" cy="2322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3520" y="2089080"/>
            <a:ext cx="7358040" cy="26798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msl.cs.uiuc.edu/rrt/treemovie.gif" TargetMode="External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Manipulation By Pushing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15-494 Cognitive Robotics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vid S. Touretzky &amp;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than Tira-Thomps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arnegie Mellon 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pring 200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B4F5-88DA-42C6-A084-CBC49D85FB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 Taxonom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80722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ilateral - expressed by equality (e.g.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Unilateral - expressed by inequality (e.g.  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&gt; 0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6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cleronomic - independent of time (static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Rheonomic - changes over time (e.g. 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=2</a:t>
            </a:r>
            <a:r>
              <a:rPr b="0" lang="en-US" sz="2200" spc="-1" strike="noStrike">
                <a:solidFill>
                  <a:srgbClr val="000000"/>
                </a:solidFill>
                <a:latin typeface="ヒラギノ明朝 Pro W6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Gill Sans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Holonomic - all constraints are independent of rate of change and bilateral (direct mapping between configuration space and work space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41B2-44D4-4309-B850-3342F1ECA8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3480" y="132840"/>
            <a:ext cx="830412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Holonomic vs. Non-Holonomic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7000"/>
          </a:bodyPr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lonomic: robotic arms, unsteered mobile robots, omni-directional mobile robo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6120" indent="-3506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define configuration space such that returning to a configuration point implies returning to consistent point in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43960" indent="-349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Holonomic: commonly, mobile robots with constraints on their instantaneous motion, e.g. unicycles, steered carts (Ackerman steering) can’t go sideway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7F2F-BAF6-41EA-BF94-96D3A57C26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53680" y="1660320"/>
            <a:ext cx="8232840" cy="4554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t necessarily the same thing — depends on your friction model (next lectur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483160" y="4991040"/>
            <a:ext cx="1054080" cy="1233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384280" y="4991040"/>
            <a:ext cx="884520" cy="12337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52320" y="5192640"/>
            <a:ext cx="1651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m closure, but no force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653160" y="5192640"/>
            <a:ext cx="1830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friction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Force closure, but no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226C-4CE2-4225-A500-9D2FB1796F9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39840" y="1679400"/>
            <a:ext cx="7912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m closure is defined in increasing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orders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: position, velocity, acceleration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rce closure does not have orders (you have it or you don’t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rictionless force closure equates to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irst-order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(positional) form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313000" y="5099040"/>
            <a:ext cx="1347840" cy="10098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803760" y="5183280"/>
            <a:ext cx="3019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Example grasp with both force closure and first-order form closure, regardless of frictional model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4C0B-D54B-463A-BB65-E2975ADA5F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3840" y="1679400"/>
            <a:ext cx="78580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Original examples do not have force closur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ft figure can be moved infinitesimally up or down, although cannot be in motion vertically (so it has second-order form closure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599080" y="4125960"/>
            <a:ext cx="1054080" cy="123192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420228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ith no friction,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either example has force closure nor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Gill Sans"/>
              </a:rPr>
              <a:t>first-order</a:t>
            </a: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 form closure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500200" y="4125960"/>
            <a:ext cx="884520" cy="12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3E19-2137-4FD1-A983-12C92E71EE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hat does it mean to “hold”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m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object is “secure” — can’t move without moving a contact poi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7f7f7f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7f7f7f"/>
                </a:solidFill>
                <a:latin typeface="Gill Sans"/>
              </a:rPr>
              <a:t>Force closure</a:t>
            </a:r>
            <a:r>
              <a:rPr b="0" lang="en-US" sz="2700" spc="-1" strike="noStrike">
                <a:solidFill>
                  <a:srgbClr val="7f7f7f"/>
                </a:solidFill>
                <a:latin typeface="Gill Sans"/>
              </a:rPr>
              <a:t>: can apply any desired for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Equilibrium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can resist environmental forces (gravity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Stablity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: how much variance from the environment can be tolerated and still maintain equilibriu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BF03-094A-478E-96F5-A4330A440C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Taxonomy of Contac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217600" y="1370160"/>
            <a:ext cx="4707000" cy="4500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544480" y="603900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8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E8F-1D40-4410-A195-3C549C7AFE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r each constraint, divide the plane into areas which can hold positive or negative centers of rotation (IC’s - instantaneous centers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4108320" y="3173400"/>
            <a:ext cx="3970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±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6669-1B1E-4AB5-AC3F-E68189362A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2451240" y="3798720"/>
            <a:ext cx="1844640" cy="245124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018040" y="3801960"/>
            <a:ext cx="166212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295880" y="3801960"/>
            <a:ext cx="2384280" cy="24465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5460840" y="3906720"/>
            <a:ext cx="35424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E7E5-E14D-4F28-BB64-B0DDAA291043}" type="slidenum">
              <a:t>1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77344" presetSubtype="176444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tersect common reg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3735360" y="4653000"/>
            <a:ext cx="1925640" cy="88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2452680" y="3798720"/>
            <a:ext cx="1839960" cy="1285920"/>
          </a:xfrm>
          <a:prstGeom prst="rect">
            <a:avLst/>
          </a:prstGeom>
          <a:solidFill>
            <a:srgbClr val="00ff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18040" y="5078520"/>
            <a:ext cx="1662120" cy="11700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429588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13532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2921040" y="4013280"/>
            <a:ext cx="39672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5969160" y="5442120"/>
            <a:ext cx="353880" cy="674640"/>
          </a:xfrm>
          <a:prstGeom prst="rect">
            <a:avLst/>
          </a:prstGeom>
          <a:noFill/>
          <a:ln w="0">
            <a:noFill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5018040" y="363384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859280" y="554040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649680" y="5072040"/>
            <a:ext cx="2378160" cy="2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3405240" y="49356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2D0E-0D31-438F-B9B1-0756F1ACAC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ffordances are where we want to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b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inematics are where we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a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9CED-8DD0-4787-AF64-AE7A4AC139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s this completely constrained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4778280" y="475452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rot="14400000">
            <a:off x="5067360" y="3412800"/>
            <a:ext cx="31896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90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 rot="7199400">
            <a:off x="3755520" y="3823920"/>
            <a:ext cx="318960" cy="3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26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38E9-1989-4C8D-9861-629DDBB4AC8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77000"/>
          </a:bodyPr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other examp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1320" indent="-30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spin counter-clockwise around area in the middle — but not clockwise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00640" y="2840040"/>
            <a:ext cx="2143440" cy="2315880"/>
            <a:chOff x="3500640" y="2840040"/>
            <a:chExt cx="2143440" cy="2315880"/>
          </a:xfrm>
        </p:grpSpPr>
        <p:sp>
          <p:nvSpPr>
            <p:cNvPr id="648" name=""/>
            <p:cNvSpPr/>
            <p:nvPr/>
          </p:nvSpPr>
          <p:spPr>
            <a:xfrm>
              <a:off x="3769920" y="2840040"/>
              <a:ext cx="1806840" cy="1981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17960" y="2847960"/>
              <a:ext cx="0" cy="2054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7120" y="4825080"/>
              <a:ext cx="301680" cy="330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7840" y="3862080"/>
              <a:ext cx="374760" cy="700200"/>
            </a:xfrm>
            <a:prstGeom prst="rect">
              <a:avLst/>
            </a:prstGeom>
            <a:noFill/>
            <a:ln w="0">
              <a:noFill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500640" y="3425400"/>
              <a:ext cx="1904400" cy="1195920"/>
              <a:chOff x="3500640" y="3425400"/>
              <a:chExt cx="1904400" cy="1195920"/>
            </a:xfrm>
          </p:grpSpPr>
          <p:sp>
            <p:nvSpPr>
              <p:cNvPr id="653" name=""/>
              <p:cNvSpPr/>
              <p:nvPr/>
            </p:nvSpPr>
            <p:spPr>
              <a:xfrm flipV="1">
                <a:off x="3500640" y="3685320"/>
                <a:ext cx="1621440" cy="93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4400000">
                <a:off x="5025600" y="3492720"/>
                <a:ext cx="33084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738600" y="3851280"/>
              <a:ext cx="1905480" cy="1194480"/>
              <a:chOff x="3738600" y="3851280"/>
              <a:chExt cx="1905480" cy="1194480"/>
            </a:xfrm>
          </p:grpSpPr>
          <p:sp>
            <p:nvSpPr>
              <p:cNvPr id="656" name=""/>
              <p:cNvSpPr/>
              <p:nvPr/>
            </p:nvSpPr>
            <p:spPr>
              <a:xfrm flipH="1" flipV="1">
                <a:off x="4022280" y="4110120"/>
                <a:ext cx="1621800" cy="93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7199400">
                <a:off x="3786480" y="3918600"/>
                <a:ext cx="331200" cy="302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41" dir="7430403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rot="9000000">
              <a:off x="4362480" y="3947400"/>
              <a:ext cx="776520" cy="740520"/>
            </a:xfrm>
            <a:prstGeom prst="triangle">
              <a:avLst>
                <a:gd name="adj" fmla="val 50000"/>
              </a:avLst>
            </a:prstGeom>
            <a:solidFill>
              <a:srgbClr val="00ff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7BAC-0B22-4033-BD34-6C476B49B5B8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rmAutofit fontScale="90000"/>
          </a:bodyPr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How about now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62680" indent="-361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mmon intersections may indicate, but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do not guarante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at rotation is possibl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3724200" y="2840040"/>
            <a:ext cx="1909800" cy="19112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4680000" y="28386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4519440" y="4745160"/>
            <a:ext cx="317520" cy="31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41" dir="7430403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554640" y="3595680"/>
            <a:ext cx="2007000" cy="1251360"/>
            <a:chOff x="3554640" y="3595680"/>
            <a:chExt cx="2007000" cy="1251360"/>
          </a:xfrm>
        </p:grpSpPr>
        <p:sp>
          <p:nvSpPr>
            <p:cNvPr id="665" name=""/>
            <p:cNvSpPr/>
            <p:nvPr/>
          </p:nvSpPr>
          <p:spPr>
            <a:xfrm flipV="1">
              <a:off x="3554640" y="3857040"/>
              <a:ext cx="1714680" cy="990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4400000">
              <a:off x="5183280" y="365328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785040" y="3595680"/>
            <a:ext cx="2008080" cy="1249920"/>
            <a:chOff x="3785040" y="3595680"/>
            <a:chExt cx="2008080" cy="1249920"/>
          </a:xfrm>
        </p:grpSpPr>
        <p:sp>
          <p:nvSpPr>
            <p:cNvPr id="668" name=""/>
            <p:cNvSpPr/>
            <p:nvPr/>
          </p:nvSpPr>
          <p:spPr>
            <a:xfrm flipH="1" flipV="1">
              <a:off x="4078080" y="3855960"/>
              <a:ext cx="1715040" cy="989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99400">
              <a:off x="3844080" y="3653640"/>
              <a:ext cx="318960" cy="320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41" dir="7430403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70" name=""/>
          <p:cNvSpPr/>
          <p:nvPr/>
        </p:nvSpPr>
        <p:spPr>
          <a:xfrm rot="10800000">
            <a:off x="4652640" y="4170240"/>
            <a:ext cx="52200" cy="54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0159-900C-432B-8543-271D62750A5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rasp Analysis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euleaux’s Metho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uleaux’s Method is good for humans, not so good for machin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esn’t extend to three dimens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nalytical solution would require a lecture unto itsel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16-741:  Mechanics of Manipulation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Learn about screws, twists, wrenches, and mome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B471-5658-4D71-AB71-20B3126F1B9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 the set of configuration points around obstacles which would cause a collis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509920" y="3438360"/>
            <a:ext cx="4124160" cy="25988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2318400" y="570564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6332400" y="315900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7227720" y="4317840"/>
            <a:ext cx="14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red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052320" y="4777920"/>
            <a:ext cx="1157400" cy="212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455440" y="3633840"/>
            <a:ext cx="1714680" cy="107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>
            <a:off x="345960" y="3325680"/>
            <a:ext cx="3446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Notice how the Cspace formed by defining the origin of the robot in its center (red dot and outline) is merely a translated version of the Cspace formed by placing the origin at one of the robot’s corners (blue dot and outline).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7209000" y="5522760"/>
            <a:ext cx="146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Cspace from defining origin at blue point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6222960" y="5383080"/>
            <a:ext cx="1028880" cy="52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0071-3FA4-4CDB-9D93-77704E509B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: the area around obstacles which would cause a collision with the 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811160" y="3017880"/>
            <a:ext cx="5523120" cy="32511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727560" y="3195720"/>
            <a:ext cx="10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obo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63360" y="4695840"/>
            <a:ext cx="15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bstac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7326000" y="3008160"/>
            <a:ext cx="127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009560" y="3483000"/>
            <a:ext cx="722520" cy="455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036800" y="4340160"/>
            <a:ext cx="1382400" cy="39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544480" y="627228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4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893600" y="3465360"/>
            <a:ext cx="677880" cy="21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3511-7E6E-4459-B4FD-3FCD9F5EA4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Cspace Transform is not just for mobile robots’ outer hulls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2544480" y="57801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5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231920" y="2884320"/>
            <a:ext cx="667080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6600-DF86-44AF-A932-4EBE3504EE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, we know where we can’t go, but how do we avoid it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pproach 1: Visibility Grap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nect visible corners together, search the graph of connected edg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298520" y="4340160"/>
            <a:ext cx="6546960" cy="1554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553840" y="5994360"/>
            <a:ext cx="40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Figure 4.1 - Mason, Mechanics Of Robotic Manipul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544040" y="5419440"/>
            <a:ext cx="19285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5549-16DC-486C-BE2B-1BCB43DDD6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isibility Graph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eat for 2 dimensions, but not for mor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Voronoi graphs are similar, a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been generalized to higher dimensions (Choset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Instead of a graph of tangen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etween obstacles, use a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raph of the midpoint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ast search, safe path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ut suboptimal distanc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6518160" y="3724200"/>
            <a:ext cx="1054080" cy="1098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7894800" y="3679920"/>
            <a:ext cx="766440" cy="865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7143840" y="5099040"/>
            <a:ext cx="1214280" cy="4287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5956200" y="4786200"/>
            <a:ext cx="884160" cy="7956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5830920" y="4251240"/>
            <a:ext cx="946080" cy="820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776280" y="4840200"/>
            <a:ext cx="113508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6769080" y="5054760"/>
            <a:ext cx="32076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7660800" y="4009680"/>
            <a:ext cx="25884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7912080" y="4848120"/>
            <a:ext cx="100800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7081920" y="5429160"/>
            <a:ext cx="792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670880" y="3446640"/>
            <a:ext cx="125280" cy="59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8501040" y="4754520"/>
            <a:ext cx="411120" cy="40968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438160" y="4251240"/>
            <a:ext cx="401400" cy="48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5170320" y="4691160"/>
            <a:ext cx="374760" cy="37440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7207200" y="568152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Gill Sans"/>
              </a:rPr>
              <a:t>Voronoi Graph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9F92-12FE-4385-B753-1818664020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58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7000"/>
          </a:bodyPr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n’t explicitly solve all of Cspace before searchin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sically, keep a priority queue of unevaluated nodes, sorted by “score” (e.g. distance to goal, or distance to goal plus distance so far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Each iteration, expand the current “best” nod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606240" indent="-3891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hoice of scoring heuristic (if you have a choice!) can make tradeoffs between search speed and optimality of solution found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A0AC-EA95-4FAC-AA5E-31463CEF543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Introduction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9000"/>
          </a:bodyPr>
          <a:p>
            <a:pPr marL="61884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get from basic kinematics to actually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doing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somethin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figuration Space vs. Work Spac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onstraint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m Closure vs. Force Clos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sp Analysis (Reuleaux’s Metho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28440" indent="-3988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ath Plann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1236600" indent="-39708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space, visibility graph, best first, R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D35E-4851-4F8D-9FBE-70449FF2B33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93880" y="132840"/>
            <a:ext cx="78040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Best First Search (&amp; Friends)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2704320" y="3687840"/>
            <a:ext cx="274788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3997440" y="2598840"/>
            <a:ext cx="1452600" cy="214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3997440" y="2622600"/>
            <a:ext cx="1500120" cy="2131920"/>
          </a:xfrm>
          <a:prstGeom prst="pie">
            <a:avLst/>
          </a:prstGeom>
          <a:noFill/>
          <a:ln w="20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2076480" y="3289320"/>
            <a:ext cx="80784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3965400" y="3956040"/>
            <a:ext cx="2481480" cy="901800"/>
          </a:xfrm>
          <a:prstGeom prst="pi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6257880" y="3289320"/>
            <a:ext cx="808200" cy="79704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D45-0554-42C4-8237-281819FACAF0}" type="slidenum">
              <a:t>30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8920" y="132840"/>
            <a:ext cx="846468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5000"/>
          </a:bodyPr>
          <a:p>
            <a:pPr lvl="1" marL="891000" indent="-383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LaValle 1998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Repea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imes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ick a random configuration point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n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the closest tree node to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1186560" indent="-3812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Add new node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'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, some distance </a:t>
            </a:r>
            <a:r>
              <a:rPr b="0" lang="en-US" sz="2500" spc="-1" strike="noStrike">
                <a:solidFill>
                  <a:srgbClr val="000000"/>
                </a:solidFill>
                <a:latin typeface="ヒラギノ明朝 Pro W6"/>
              </a:rPr>
              <a:t>Δ 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rom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 toward </a:t>
            </a:r>
            <a:r>
              <a:rPr b="0" i="1" lang="en-US" sz="2500" spc="-1" strike="noStrike">
                <a:solidFill>
                  <a:srgbClr val="000000"/>
                </a:solidFill>
                <a:latin typeface="Gill Sans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Back to exploring entire configuration space?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91000" indent="-383040">
              <a:spcBef>
                <a:spcPts val="126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Not necessarily — bias the random target to pick the goal more ofte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F4B6-DFFC-488F-9106-ADFA1C62B60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280" y="132840"/>
            <a:ext cx="88394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Rapidly Exploring Random Tree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670120" y="2054160"/>
            <a:ext cx="3803760" cy="38037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055320" y="5919480"/>
            <a:ext cx="302580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msl.cs.uiuc.edu/rrt/treemovie.gif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60F-A3DA-4069-9413-DF68DE693EB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3000"/>
          </a:bodyPr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 far we’ve been assuming we already know the environment, and there aren’t other agents changing things arou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ant replanning is cost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when something is amis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72280" indent="-3747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replan only affected parts of existing plan (open research problem!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81400" indent="-3729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r… don’t make a plan in the first pl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F08E-71A3-45E0-AA94-878EF6C40C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89000"/>
          </a:bodyPr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fine a function </a:t>
            </a:r>
            <a:r>
              <a:rPr b="0" i="1" lang="en-US" sz="3000" spc="-1" strike="noStrike">
                <a:solidFill>
                  <a:srgbClr val="000000"/>
                </a:solidFill>
                <a:latin typeface="Gill Sans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mapping from a specified configuration to a score valu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.g. distance to goal plus distance to obstacl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56200" indent="-35712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ssentially just running heuristic from befor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valuate each of the currently available mov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34840" indent="-35856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Pick the one which maximizes score (or in example above, minimizes cost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223A-A28F-4731-AA1A-86BA63B87F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Potential Field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 fontScale="92000"/>
          </a:bodyPr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ownside: can get stuck in local minima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0">
              <a:spcBef>
                <a:spcPts val="1400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Workaround:  follow edges (“bug” method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575280" indent="-3690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pside: extremely quick and reactive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862920" indent="-3708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Popular in robosoccer for navigating to bal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4140360" y="2550960"/>
            <a:ext cx="1126800" cy="1602000"/>
          </a:xfrm>
          <a:prstGeom prst="pi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583884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626000" y="2921040"/>
            <a:ext cx="546120" cy="6238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168000" y="3351240"/>
            <a:ext cx="1717560" cy="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2695680" y="3051000"/>
            <a:ext cx="608040" cy="600120"/>
          </a:xfrm>
          <a:prstGeom prst="ellipse">
            <a:avLst/>
          </a:prstGeom>
          <a:solidFill>
            <a:srgbClr val="8d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1022-B8C6-40AF-A906-DDEEB26C65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Motion Path Planning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Summary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53680" y="1679400"/>
            <a:ext cx="769788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oad Maps (Visibility, Voronoi), A*, RRT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brushfi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nknown Environment, Deterministic Action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 Field, “Bug”, 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Gill Sans"/>
              </a:rPr>
              <a:t>Non-Deterministic and/or Unknown Environmen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80808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MDP, POMD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0709-8D15-4A4E-9FB4-4F1363E7C68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nder-actuated manipula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se the ground and other objects to help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n’t get hung up on grasp clos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we’re not handling nuclear waste — equilibrium is enough for our purpose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FF5B-1E2F-499B-92F2-8885DFFBD93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Getting Back to the AIBO: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Where we want to go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velop larger library of motion primitiv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How to push a banana?  One leg?  Two legs?  Head nuzzle?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938160" indent="-4032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Each strategy has advantages, but have to quantify these capabilities so planners can choose among the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earn models of the environment from experie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B6F0-2E9C-47DD-8323-7FC91E1D1B1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517320"/>
            <a:ext cx="8643960" cy="982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1800ff"/>
                </a:solidFill>
                <a:latin typeface="Gill Sans"/>
              </a:rPr>
              <a:t>Next Time:</a:t>
            </a:r>
            <a:endParaRPr b="0" lang="en-US" sz="59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93520" y="1754280"/>
            <a:ext cx="7358040" cy="43574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rm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Dynamics!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Friction, Forces, and Control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868400" y="5164920"/>
            <a:ext cx="5401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Thanks to: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741: Mechanics of Manipulation (Mason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16-830: Planning, Execution, and Learning (Rizzi, Veloso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02FB-C2BA-4993-9505-C7759E141F5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figuration Space</a:t>
            </a:r>
            <a:br>
              <a:rPr sz="4500"/>
            </a:b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vs. Work Space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a 2-link arm, with joint constraint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0° &lt;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&lt; 90° ,    -90° &lt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&lt; 90°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22960" y="2955960"/>
            <a:ext cx="3143160" cy="25272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79320" y="3071880"/>
            <a:ext cx="3303720" cy="2438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14320" y="5648400"/>
            <a:ext cx="303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Configuration Space: robot’s internal state space (e.g. joint angles)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553000" y="5656320"/>
            <a:ext cx="2679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ill Sans"/>
              </a:rPr>
              <a:t>Work Space: set of all possible end-effector position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D7D9-A065-4357-9C3F-80F0D7C9CC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traints can be your friend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Upside: Use the environment and the object itself to your advantage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Downside: Requires planning and </a:t>
            </a:r>
            <a:r>
              <a:rPr b="0" i="1" lang="en-US" sz="2700" spc="-1" strike="noStrike">
                <a:solidFill>
                  <a:srgbClr val="000000"/>
                </a:solidFill>
                <a:latin typeface="Gill Sans"/>
              </a:rPr>
              <a:t>accurate</a:t>
            </a: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 modeling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marL="568800" indent="-3650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53560" indent="-36684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an position/orient an ‘L’ shaped part with unknown initial configuration using nothing more than an actuated tray — no sensors!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2F8B-8F8C-44E3-A0C8-5FDBEB4BD0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SmartOrientWhiteS-6" descr=""/>
          <p:cNvPicPr/>
          <p:nvPr/>
        </p:nvPicPr>
        <p:blipFill>
          <a:blip r:embed="rId1"/>
          <a:stretch/>
        </p:blipFill>
        <p:spPr>
          <a:xfrm>
            <a:off x="1359000" y="2232000"/>
            <a:ext cx="6429240" cy="4286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Part Orient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357200" y="2232000"/>
            <a:ext cx="7103520" cy="4286160"/>
            <a:chOff x="1357200" y="2232000"/>
            <a:chExt cx="7103520" cy="4286160"/>
          </a:xfrm>
        </p:grpSpPr>
        <p:pic>
          <p:nvPicPr>
            <p:cNvPr id="563" name="" descr=""/>
            <p:cNvPicPr/>
            <p:nvPr/>
          </p:nvPicPr>
          <p:blipFill>
            <a:blip r:embed="rId2"/>
            <a:stretch/>
          </p:blipFill>
          <p:spPr>
            <a:xfrm>
              <a:off x="1357200" y="2232000"/>
              <a:ext cx="64296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481200" y="5836680"/>
              <a:ext cx="4979520" cy="63972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Fujimori, T.,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Gill Sans"/>
                </a:rPr>
                <a:t>Development of Flexible Assembly System “SMART”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Video of Sony SMART Cell demo system by Wes Huang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CMU Manipulation Lab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DEE6-E9E1-41BC-8751-1CBA4A7010FB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4440" y="1714680"/>
            <a:ext cx="7358040" cy="4179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Throwing (Kevin Lynch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911320" y="2946240"/>
            <a:ext cx="3192480" cy="26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04A0-0C24-4BD1-874B-03B13A0670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2JOC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0" name="2JOC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839600" y="5569200"/>
              <a:ext cx="1890360" cy="8528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Gill Sans"/>
                </a:rPr>
                <a:t>A Turn and Two Toppl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Tom A. Scharfeld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Kevin M. Lynch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"/>
                </a:rPr>
                <a:t>December 2, 1998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2 DOF Arm over a conveyor belt (2JOC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BB0C-66F1-4F86-B371-92C0FF3FD011}" type="slidenum">
              <a:t>8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SUHingeGrasp-3" descr=""/>
          <p:cNvPicPr/>
          <p:nvPr/>
        </p:nvPicPr>
        <p:blipFill>
          <a:blip r:embed="rId1"/>
          <a:stretch/>
        </p:blipFill>
        <p:spPr>
          <a:xfrm>
            <a:off x="1714680" y="2232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93520" y="132840"/>
            <a:ext cx="7358040" cy="1403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500" spc="-1" strike="noStrike">
                <a:solidFill>
                  <a:srgbClr val="1800ff"/>
                </a:solidFill>
                <a:latin typeface="Gill Sans"/>
              </a:rPr>
              <a:t>Constraints Are Your Friend</a:t>
            </a:r>
            <a:endParaRPr b="0" lang="en-US" sz="4500" spc="-1" strike="noStrike">
              <a:solidFill>
                <a:srgbClr val="1800ff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93520" y="1679400"/>
            <a:ext cx="7358040" cy="45532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625320" indent="-401400">
              <a:spcBef>
                <a:spcPts val="14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Hinge Assemb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14680" y="2232000"/>
            <a:ext cx="5715000" cy="4286160"/>
            <a:chOff x="1714680" y="2232000"/>
            <a:chExt cx="5715000" cy="4286160"/>
          </a:xfrm>
        </p:grpSpPr>
        <p:pic>
          <p:nvPicPr>
            <p:cNvPr id="578" name="SUHingeGrasp-4" descr=""/>
            <p:cNvPicPr/>
            <p:nvPr/>
          </p:nvPicPr>
          <p:blipFill>
            <a:blip r:embed="rId2"/>
            <a:stretch/>
          </p:blipFill>
          <p:spPr>
            <a:xfrm>
              <a:off x="1714680" y="223200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071960" y="2361600"/>
              <a:ext cx="3321720" cy="89244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Pingle, K., Paul, R., Bolles, R., "Programmable Assembly, Three Short Examples," Film,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ill Sans"/>
                </a:rPr>
                <a:t>Stanford Artificial Intelligence Laboratory, October 1974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1C54-C246-4008-AE56-4D9185C65B5D}" type="slidenum">
              <a:t>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st</cp:lastModifiedBy>
  <dcterms:modified xsi:type="dcterms:W3CDTF">2008-03-31T07:01:15Z</dcterms:modified>
  <cp:revision>7</cp:revision>
  <dc:subject/>
  <dc:title>Manipulation By Pushing</dc:title>
</cp:coreProperties>
</file>