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5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3B8F-F564-45B2-AF9D-C2E8284EE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F731-48E1-4926-8CDB-21A0B4C51F1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D4920-3B4A-4335-86A1-D9134F4A2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401C-17ED-4E3A-AD16-A4C2B0E260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B50BE-2940-45F6-A670-EB10D237E51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3AE3E-45D1-4506-B3DD-10A4B162233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8FFB9-27AC-46FF-B6BB-5F0CE35F1DD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AF50C-C541-4DDD-8B44-4A43DF64DD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ACE0B-D12C-4E6C-B1FF-F8AB78A54EA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7F60E-78A5-44E9-8861-C7039EF0055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6371F-A26F-44C1-AAFF-8539AE6C0BA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B93E9-E9CF-4D5A-A596-E448B5E1167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57B32-8316-4558-8873-37C8976EDF2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0A9F1-50C7-4D8B-8AC3-C8F8AB948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FA54-2CD9-43F6-83C6-B4B7DF13BFA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123EE-0F1F-470D-B9CC-6BC1CD68E46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A283-A14A-4CE5-BA54-33E1F47089E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A14B-284A-49BD-B831-BFBE14A41FC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2636-C4B9-4F48-BD0D-99AB9CBCE4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3934-72CF-4BFE-AAA0-F2C1C81280F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E2A3-E70D-4D62-A729-A9B0F9A710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7C63-2678-4072-9013-31AFA7C09A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B69F-8AA0-4A49-83B5-7FF76D133E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8892-50E0-41B3-BC32-91E5A1E47D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0D59-2B8B-4A76-B5C4-D7A18CB9FD1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47FF-D86C-4B6D-9D59-15C447739D2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E39A-D64E-4E63-8FA5-948BA57C248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94FC-29A3-447C-8B4B-7E27B58A4C0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D8EE-DF88-4822-8355-14ECF4DB1AA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37C7-34E6-4A51-969B-A28B0127129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CE2F-4B1E-4DAB-80D1-F026EC5CFC8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A03A9-6BCF-4B30-BFD2-78195010E0B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C46235-EDDD-420A-B437-AB2D710349E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380AF-C899-4A81-B023-B32B2D2B84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1156-E3B3-4798-8610-829B593C5F4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F956D-A6C6-44BC-A3D1-D148DE27794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64B87D-5A1B-4A29-8709-A81F914C5A7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85125-4189-4342-96BE-5E20E7708B1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10B022-8523-4917-98EE-7F59B0CC216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0885E6-D78F-454A-B64D-2E7B817439E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D6326-20EB-4B55-A2A4-835E35832B5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54251-09AA-4C81-BCD5-C73402B979E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769B4-0061-40F2-9CF8-27FCDF74E72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D1A7E-1FF0-427E-BA10-EEF02F95B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DFB1-2DBE-4A4E-8FB0-EF8C8E63B9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56C8-186D-4BCA-B7DB-EB9E355D43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D9B4-C577-4C8A-8259-4FF2C3054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14E9-B01C-4CDA-92C2-C9D77169E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5320-B1EF-410D-AA89-38B807A879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8D09-73B2-443C-8702-62073F4838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1D46-3899-4A70-93C2-530DFAD6A9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494B-546B-45D6-80A0-85D22925A0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4227-EAEF-4BFB-B462-39BC318F58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B02-0ED8-4034-932D-DFFE392634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1C7-04D2-4F4B-ACCF-888F595C9A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EE9-B660-48C1-9FF5-8B0AAF462D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8F5-B094-410F-B879-F19236A575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8C8-D6D8-4CA4-A24F-9A8941225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CDC4-C1A9-4365-914F-C7534B68D6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1D0-0D1C-4F59-8064-5C61FEEA1B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D37-7C72-4F08-A162-97443CB98A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C3E-6968-4039-94D3-26BD8A0AD1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C69-113E-4C24-95BB-9536683C25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BCB-8CFB-4795-AF3B-AA55A1BC25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E1E-7FFD-417F-9BF2-A6BC4764A3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C53-DDD1-4D1B-89A0-0B16535054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375F4-A5C3-47CF-A454-C610321D29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202D6-3EBB-446B-BBF5-11480A971B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179B7-24B5-4D7F-9003-5B7C35FB3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CD8F-AD16-452C-93FF-AE351BA6A6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37AA-B6E5-4666-8945-892D0B2548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1F6ED-0CD6-4AA9-8E1F-6846A0E4A6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1B38D-246C-428D-8EDA-AC491FDA1F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859F1-7B05-49C8-8791-C4AF11F604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13ECD-4A62-48B9-BAD1-E8437A12E0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48177-71C4-4124-9559-AB55D1945E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0EFCB-CE2D-4EAF-929C-023AD05B73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4363D-3EC6-4B16-A96C-CB4DD0546F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732B3-6D48-4E44-BE9D-782033CAAB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5B50-2187-4940-8F52-2F14C59977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31A7-19EF-4C57-806C-D78E6406ED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1CCE-FDB6-46B0-B742-D523D0217C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DE20-820F-4512-97B2-225B604CD6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2721-1C8B-481D-B422-880E3976A87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522C843B-180C-43BD-A6F9-B7BFE6C45840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3/31/08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1/06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5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0A7C5FB5-D312-44EC-94F3-A8FC147A879B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93520" y="17892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93520" y="1946160"/>
            <a:ext cx="3544920" cy="4019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78000"/>
          </a:bodyPr>
          <a:p>
            <a:pPr marL="417240" indent="-27108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7108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905040" indent="-27108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14768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39176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39176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39176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534960" indent="-3477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847800" indent="-3477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160640" indent="-3477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47168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78452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78452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78452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2/07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6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FC25F459-F17B-4A5B-B235-DF557C381CA2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93520" y="17892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5465520" y="1946160"/>
            <a:ext cx="2786040" cy="4019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65000"/>
          </a:bodyPr>
          <a:p>
            <a:pPr marL="347400" indent="-2257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550800" indent="-2257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754200" indent="-2257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9565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1599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1599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1599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93880" y="1679400"/>
            <a:ext cx="388296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7000"/>
          </a:bodyPr>
          <a:p>
            <a:pPr marL="465120" indent="-3024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737280" indent="-3024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009440" indent="-3024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28016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55232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55232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55232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7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02BFA240-FA7C-4A02-AEC1-48B237D64B0A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588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180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21428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52712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839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839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839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69CA33C3-4C19-4562-84F4-07446790FD26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3/31/08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2/07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3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9BEA6D21-D455-4C06-B7B1-14C11B7A7B98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81400" indent="-3729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729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52600" indent="-3729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743480" indent="-37332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893520" y="89352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6000"/>
          </a:bodyPr>
          <a:p>
            <a:pPr marL="50616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544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44000" indent="-34488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31328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58220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58220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58220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1/06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4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24679CFD-403E-40FE-B53F-49B23D021344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3520" y="5180040"/>
            <a:ext cx="7358040" cy="11952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93520" y="5180040"/>
            <a:ext cx="7358040" cy="11952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445680" y="336672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81000"/>
          </a:bodyPr>
          <a:p>
            <a:pPr indent="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45680" y="990360"/>
            <a:ext cx="4125960" cy="2322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445680" y="336672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81000"/>
          </a:bodyPr>
          <a:p>
            <a:pPr indent="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45680" y="990360"/>
            <a:ext cx="4125960" cy="2322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93520" y="2089080"/>
            <a:ext cx="7358040" cy="26798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msl.cs.uiuc.edu/rrt/treemovie.gif" TargetMode="External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1800ff"/>
                </a:solidFill>
                <a:latin typeface="Gill Sans"/>
              </a:rPr>
              <a:t>Manipulation By Pushing</a:t>
            </a: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15-494 Cognitive Robotics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avid S. Touretzky &amp;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Ethan Tira-Thompson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arnegie Mellon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pring 2008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E0CF-1521-4B92-BD55-CDD046491E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 Taxonomy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80722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ilateral - expressed by equality (e.g. </a:t>
            </a:r>
            <a:r>
              <a:rPr b="0" i="1" lang="en-US" sz="2200" spc="-1" strike="noStrike">
                <a:solidFill>
                  <a:srgbClr val="000000"/>
                </a:solidFill>
                <a:latin typeface="Gill Sans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= 0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Unilateral - expressed by inequality (e.g.  </a:t>
            </a:r>
            <a:r>
              <a:rPr b="0" i="1" lang="en-US" sz="2200" spc="-1" strike="noStrike">
                <a:solidFill>
                  <a:srgbClr val="000000"/>
                </a:solidFill>
                <a:latin typeface="Gill Sans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&gt; 0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lnSpc>
                <a:spcPct val="160000"/>
              </a:lnSpc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cleronomic - independent of time (static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Rheonomic - changes over time (e.g. </a:t>
            </a:r>
            <a:r>
              <a:rPr b="0" lang="en-US" sz="2200" spc="-1" strike="noStrike">
                <a:solidFill>
                  <a:srgbClr val="000000"/>
                </a:solidFill>
                <a:latin typeface="ヒラギノ明朝 Pro W6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=2</a:t>
            </a:r>
            <a:r>
              <a:rPr b="0" lang="en-US" sz="2200" spc="-1" strike="noStrike">
                <a:solidFill>
                  <a:srgbClr val="000000"/>
                </a:solidFill>
                <a:latin typeface="ヒラギノ明朝 Pro W6"/>
              </a:rPr>
              <a:t>π</a:t>
            </a:r>
            <a:r>
              <a:rPr b="0" i="1" lang="en-US" sz="2200" spc="-1" strike="noStrike">
                <a:solidFill>
                  <a:srgbClr val="000000"/>
                </a:solidFill>
                <a:latin typeface="Gill Sans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lnSpc>
                <a:spcPct val="120000"/>
              </a:lnSpc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Holonomic - all constraints are independent of rate of change and bilateral (direct mapping between configuration space and work space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0B8B-5860-4635-B539-028082D3F8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3480" y="132840"/>
            <a:ext cx="830412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Holonomic vs. Non-Holonomic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7000"/>
          </a:bodyPr>
          <a:p>
            <a:pPr marL="543960" indent="-349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lonomic: robotic arms, unsteered mobile robots, omni-directional mobile robo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6120" indent="-3506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an define configuration space such that returning to a configuration point implies returning to consistent point in work spa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43960" indent="-349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n-Holonomic: commonly, mobile robots with constraints on their instantaneous motion, e.g. unicycles, steered carts (Ackerman steering) can’t go sideway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8705-D2DC-4B52-8F0F-2CBFCD7AC9A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53680" y="1660320"/>
            <a:ext cx="8232840" cy="4554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does it mean to “hold”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Form closure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object is “secure” — can’t move without moving a contact poin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Force closure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can apply any desired for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t necessarily the same thing — depends on your friction model (next lecture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483160" y="4991040"/>
            <a:ext cx="1054080" cy="12337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384280" y="4991040"/>
            <a:ext cx="884520" cy="12337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52320" y="5192640"/>
            <a:ext cx="1651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No friction: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Form closure, but no force closur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6653160" y="5192640"/>
            <a:ext cx="1830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With friction: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Force closure, but no form closur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766E-4AA5-4602-B721-1C7BB4F22F8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339840" y="1679400"/>
            <a:ext cx="79120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rm closure is defined in increasing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orders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: position, velocity, acceleration, etc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rce closure does not have orders (you have it or you don’t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rictionless force closure equates to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first-order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(positional) form closu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2313000" y="5099040"/>
            <a:ext cx="1347840" cy="10098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3803760" y="5183280"/>
            <a:ext cx="3019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Example grasp with both force closure and first-order form closure, regardless of frictional model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28E3-6FDB-4479-89B9-9D0E208999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393840" y="1679400"/>
            <a:ext cx="78580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Original examples do not have force closur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Left figure can be moved infinitesimally up or down, although cannot be in motion vertically (so it has second-order form closure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5599080" y="4125960"/>
            <a:ext cx="1054080" cy="123192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3505320" y="4202280"/>
            <a:ext cx="1928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With no friction,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neither example has force closure nor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Gill Sans"/>
              </a:rPr>
              <a:t>first-order</a:t>
            </a: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 form closur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2500200" y="4125960"/>
            <a:ext cx="884520" cy="12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3DA7-22D5-4AFB-9C62-1DF1A6D9458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3000"/>
          </a:bodyPr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does it mean to “hold”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7f7f7f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7f7f7f"/>
                </a:solidFill>
                <a:latin typeface="Gill Sans"/>
              </a:rPr>
              <a:t>Form closure</a:t>
            </a:r>
            <a:r>
              <a:rPr b="0" lang="en-US" sz="2700" spc="-1" strike="noStrike">
                <a:solidFill>
                  <a:srgbClr val="7f7f7f"/>
                </a:solidFill>
                <a:latin typeface="Gill Sans"/>
              </a:rPr>
              <a:t>: object is “secure” — can’t move without moving a contact poin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7f7f7f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7f7f7f"/>
                </a:solidFill>
                <a:latin typeface="Gill Sans"/>
              </a:rPr>
              <a:t>Force closure</a:t>
            </a:r>
            <a:r>
              <a:rPr b="0" lang="en-US" sz="2700" spc="-1" strike="noStrike">
                <a:solidFill>
                  <a:srgbClr val="7f7f7f"/>
                </a:solidFill>
                <a:latin typeface="Gill Sans"/>
              </a:rPr>
              <a:t>: can apply any desired for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Equilibrium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can resist environmental forces (gravity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Stablity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how much variance from the environment can be tolerated and still maintain equilibrium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A962-88BA-418B-8181-9D58B1BAA9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Taxonomy of Contact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217600" y="1370160"/>
            <a:ext cx="4707000" cy="45003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544480" y="603900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8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63A-1559-4BA5-B5EA-822330766A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r each constraint, divide the plane into areas which can hold positive or negative centers of rotation (IC’s - instantaneous centers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3735360" y="4653000"/>
            <a:ext cx="1925640" cy="88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2451240" y="3798720"/>
            <a:ext cx="1844640" cy="2451240"/>
          </a:xfrm>
          <a:prstGeom prst="rect">
            <a:avLst/>
          </a:prstGeom>
          <a:solidFill>
            <a:srgbClr val="00ff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4295880" y="3801960"/>
            <a:ext cx="2384280" cy="24465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429588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413532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2921040" y="4013280"/>
            <a:ext cx="39672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5460840" y="3906720"/>
            <a:ext cx="35424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4108320" y="3173400"/>
            <a:ext cx="39708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±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AAB1-AB53-459D-9129-812EAA1A4DE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sect common reg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3735360" y="4653000"/>
            <a:ext cx="1925640" cy="88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2451240" y="3798720"/>
            <a:ext cx="1844640" cy="2451240"/>
          </a:xfrm>
          <a:prstGeom prst="rect">
            <a:avLst/>
          </a:prstGeom>
          <a:solidFill>
            <a:srgbClr val="00ff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018040" y="3801960"/>
            <a:ext cx="1662120" cy="24465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21040" y="4013280"/>
            <a:ext cx="39672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295880" y="3801960"/>
            <a:ext cx="2384280" cy="24465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5460840" y="3906720"/>
            <a:ext cx="35424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01804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485928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429588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413532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A15D-A145-4D5F-BE4A-0A99761AB37F}" type="slidenum">
              <a:t>18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77344" presetSubtype="176444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sect common reg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3735360" y="4653000"/>
            <a:ext cx="1925640" cy="88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2452680" y="3798720"/>
            <a:ext cx="1839960" cy="1285920"/>
          </a:xfrm>
          <a:prstGeom prst="rect">
            <a:avLst/>
          </a:prstGeom>
          <a:solidFill>
            <a:srgbClr val="00ff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5018040" y="5078520"/>
            <a:ext cx="1662120" cy="11700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429588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413532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2921040" y="4013280"/>
            <a:ext cx="39672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5969160" y="5442120"/>
            <a:ext cx="35388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501804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485928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649680" y="5072040"/>
            <a:ext cx="2378160" cy="22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3405240" y="4935600"/>
            <a:ext cx="31896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8082-38A1-4D4D-8D96-BD0F48461E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Introduction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ffordances are where we want to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b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Kinematics are where we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a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w do we get from basic kinematics to actually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3A71-2349-49AA-AF81-DAB29A4562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rmAutofit fontScale="77000"/>
          </a:bodyPr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other exampl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s this completely constrained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3724200" y="2840040"/>
            <a:ext cx="1909800" cy="19112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4778280" y="475452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 rot="14400000">
            <a:off x="5067360" y="3412800"/>
            <a:ext cx="31896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90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 rot="7199400">
            <a:off x="3755520" y="3823920"/>
            <a:ext cx="318960" cy="31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26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6831-C67C-4D01-9010-DEE767D6759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rmAutofit fontScale="77000"/>
          </a:bodyPr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other exampl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spin counter-clockwise around area in the middle — but not clockwise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500640" y="2840040"/>
            <a:ext cx="2143440" cy="2315880"/>
            <a:chOff x="3500640" y="2840040"/>
            <a:chExt cx="2143440" cy="2315880"/>
          </a:xfrm>
        </p:grpSpPr>
        <p:sp>
          <p:nvSpPr>
            <p:cNvPr id="648" name=""/>
            <p:cNvSpPr/>
            <p:nvPr/>
          </p:nvSpPr>
          <p:spPr>
            <a:xfrm>
              <a:off x="3769920" y="2840040"/>
              <a:ext cx="1806840" cy="1981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17960" y="2847960"/>
              <a:ext cx="0" cy="2054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67120" y="4825080"/>
              <a:ext cx="301680" cy="330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97840" y="3862080"/>
              <a:ext cx="374760" cy="700200"/>
            </a:xfrm>
            <a:prstGeom prst="rect">
              <a:avLst/>
            </a:prstGeom>
            <a:noFill/>
            <a:ln w="0">
              <a:noFill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500640" y="3425400"/>
              <a:ext cx="1904400" cy="1195920"/>
              <a:chOff x="3500640" y="3425400"/>
              <a:chExt cx="1904400" cy="1195920"/>
            </a:xfrm>
          </p:grpSpPr>
          <p:sp>
            <p:nvSpPr>
              <p:cNvPr id="653" name=""/>
              <p:cNvSpPr/>
              <p:nvPr/>
            </p:nvSpPr>
            <p:spPr>
              <a:xfrm flipV="1">
                <a:off x="3500640" y="3685320"/>
                <a:ext cx="1621440" cy="93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4400000">
                <a:off x="5025600" y="3492720"/>
                <a:ext cx="330840" cy="302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41" dir="7430403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738600" y="3851280"/>
              <a:ext cx="1905480" cy="1194480"/>
              <a:chOff x="3738600" y="3851280"/>
              <a:chExt cx="1905480" cy="1194480"/>
            </a:xfrm>
          </p:grpSpPr>
          <p:sp>
            <p:nvSpPr>
              <p:cNvPr id="656" name=""/>
              <p:cNvSpPr/>
              <p:nvPr/>
            </p:nvSpPr>
            <p:spPr>
              <a:xfrm flipH="1" flipV="1">
                <a:off x="4022280" y="4110120"/>
                <a:ext cx="1621800" cy="93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7199400">
                <a:off x="3786480" y="3918600"/>
                <a:ext cx="331200" cy="302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41" dir="7430403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rot="9000000">
              <a:off x="4362480" y="3947400"/>
              <a:ext cx="776520" cy="740520"/>
            </a:xfrm>
            <a:prstGeom prst="triangle">
              <a:avLst>
                <a:gd name="adj" fmla="val 50000"/>
              </a:avLst>
            </a:prstGeom>
            <a:solidFill>
              <a:srgbClr val="00ff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CDEE-DB21-4CAE-BEA0-CCB2EC24C98D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rmAutofit fontScale="90000"/>
          </a:bodyPr>
          <a:p>
            <a:pPr marL="562680" indent="-361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How about now?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-361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mmon intersections may indicate, but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do not guarantee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, that rotation is possibl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3724200" y="2840040"/>
            <a:ext cx="1909800" cy="19112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>
            <a:off x="4680000" y="28386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4519440" y="474516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554640" y="3595680"/>
            <a:ext cx="2007000" cy="1251360"/>
            <a:chOff x="3554640" y="3595680"/>
            <a:chExt cx="2007000" cy="1251360"/>
          </a:xfrm>
        </p:grpSpPr>
        <p:sp>
          <p:nvSpPr>
            <p:cNvPr id="665" name=""/>
            <p:cNvSpPr/>
            <p:nvPr/>
          </p:nvSpPr>
          <p:spPr>
            <a:xfrm flipV="1">
              <a:off x="3554640" y="3857040"/>
              <a:ext cx="1714680" cy="990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4400000">
              <a:off x="5183280" y="3653280"/>
              <a:ext cx="318960" cy="320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785040" y="3595680"/>
            <a:ext cx="2008080" cy="1249920"/>
            <a:chOff x="3785040" y="3595680"/>
            <a:chExt cx="2008080" cy="1249920"/>
          </a:xfrm>
        </p:grpSpPr>
        <p:sp>
          <p:nvSpPr>
            <p:cNvPr id="668" name=""/>
            <p:cNvSpPr/>
            <p:nvPr/>
          </p:nvSpPr>
          <p:spPr>
            <a:xfrm flipH="1" flipV="1">
              <a:off x="4078080" y="3855960"/>
              <a:ext cx="1715040" cy="989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99400">
              <a:off x="3844080" y="3653640"/>
              <a:ext cx="318960" cy="320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70" name=""/>
          <p:cNvSpPr/>
          <p:nvPr/>
        </p:nvSpPr>
        <p:spPr>
          <a:xfrm rot="10800000">
            <a:off x="4652640" y="4170240"/>
            <a:ext cx="52200" cy="54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3ED0-3732-49F5-9F9C-766E7E28B8E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uleaux’s Method is good for humans, not so good for machin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esn’t extend to three dimens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alytical solution would require a lecture unto itself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16-741:  Mechanics of Manipulation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Learn about screws, twists, wrenches, and moment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BA7B-4A9F-4DF9-806B-F5D92203134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Cspace Transform:  the set of configuration points around obstacles which would cause a collis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509920" y="3438360"/>
            <a:ext cx="4124160" cy="259884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76" name=""/>
          <p:cNvSpPr/>
          <p:nvPr/>
        </p:nvSpPr>
        <p:spPr>
          <a:xfrm>
            <a:off x="2318400" y="5705640"/>
            <a:ext cx="10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obo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6332400" y="3159000"/>
            <a:ext cx="156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bstac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7227720" y="4317840"/>
            <a:ext cx="14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Cspace from defining origin at red point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052320" y="4777920"/>
            <a:ext cx="1157400" cy="212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455440" y="3633840"/>
            <a:ext cx="1714680" cy="1071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>
            <a:off x="345960" y="3325680"/>
            <a:ext cx="3446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Notice how the Cspace formed by defining the origin of the robot in its center (red dot and outline) is merely a translated version of the Cspace formed by placing the origin at one of the robot’s corners (blue dot and outline).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"/>
          <p:cNvSpPr/>
          <p:nvPr/>
        </p:nvSpPr>
        <p:spPr>
          <a:xfrm>
            <a:off x="7209000" y="5522760"/>
            <a:ext cx="1465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Cspace from defining origin at blue point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6222960" y="5383080"/>
            <a:ext cx="1028880" cy="52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D9EF-C909-4948-AB92-B1FF8876315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Cspace Transform: the area around obstacles which would cause a collision with the robo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811160" y="3017880"/>
            <a:ext cx="5523120" cy="325116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87" name=""/>
          <p:cNvSpPr/>
          <p:nvPr/>
        </p:nvSpPr>
        <p:spPr>
          <a:xfrm>
            <a:off x="727560" y="3195720"/>
            <a:ext cx="10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obo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>
            <a:off x="63360" y="4695840"/>
            <a:ext cx="156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bstac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>
            <a:off x="7326000" y="3008160"/>
            <a:ext cx="127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sp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7009560" y="3483000"/>
            <a:ext cx="722520" cy="455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036800" y="4340160"/>
            <a:ext cx="1382400" cy="39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2544480" y="627228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4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893600" y="3465360"/>
            <a:ext cx="677880" cy="21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0F4F-2BB3-49D3-860D-E0186A61F74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Cspace Transform is not just for mobile robots’ outer hulls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2544480" y="578016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5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231920" y="2884320"/>
            <a:ext cx="6670800" cy="29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E84B-62FA-4E64-8DB4-C826799237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, we know where we can’t go, but how do we avoid it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pproach 1: Visibility Graph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onnect visible corners together, search the graph of connected edg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298520" y="4340160"/>
            <a:ext cx="6546960" cy="15541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2553840" y="599436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1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544040" y="5419440"/>
            <a:ext cx="19285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1334-92BD-4DB4-8543-EE4B862182B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Visibility Graph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reat for 2 dimensions, but not for mor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Voronoi graphs are similar, and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have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been generalized to higher dimensions (Choset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Instead of a graph of tangent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etween obstacles, use a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raph of the midpoint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ast search, safe path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ut suboptimal distanc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6518160" y="3724200"/>
            <a:ext cx="1054080" cy="1098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7894800" y="3679920"/>
            <a:ext cx="766440" cy="865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7143840" y="5099040"/>
            <a:ext cx="1214280" cy="4287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>
            <a:off x="5956200" y="4786200"/>
            <a:ext cx="884160" cy="7956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>
            <a:off x="5830920" y="4251240"/>
            <a:ext cx="946080" cy="820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776280" y="4840200"/>
            <a:ext cx="1135080" cy="23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"/>
          <p:cNvSpPr/>
          <p:nvPr/>
        </p:nvSpPr>
        <p:spPr>
          <a:xfrm>
            <a:off x="6769080" y="5054760"/>
            <a:ext cx="320760" cy="38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7660800" y="4009680"/>
            <a:ext cx="258840" cy="84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"/>
          <p:cNvSpPr/>
          <p:nvPr/>
        </p:nvSpPr>
        <p:spPr>
          <a:xfrm>
            <a:off x="7912080" y="4848120"/>
            <a:ext cx="100800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>
            <a:off x="7081920" y="5429160"/>
            <a:ext cx="7920" cy="41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670880" y="3446640"/>
            <a:ext cx="125280" cy="59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8501040" y="4754520"/>
            <a:ext cx="411120" cy="40968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438160" y="4251240"/>
            <a:ext cx="401400" cy="480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5170320" y="4691160"/>
            <a:ext cx="374760" cy="37440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7207200" y="5681520"/>
            <a:ext cx="107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Voronoi Graph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1B7F-D377-4C85-A0D0-E0D19346C58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93880" y="132840"/>
            <a:ext cx="785808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Best First Search (&amp; Friends)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7000"/>
          </a:bodyPr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on’t explicitly solve all of Cspace before searchin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asically, keep a priority queue of unevaluated nodes, sorted by “score” (e.g. distance to goal, or distance to goal plus distance so far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Each iteration, expand the current “best” nod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hoice of scoring heuristic (if you have a choice!) can make tradeoffs between search speed and optimality of solution found.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5FF3-870B-450B-AA42-EE263A5FB39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Introduction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9000"/>
          </a:bodyPr>
          <a:p>
            <a:pPr marL="61884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w do we get from basic kinematics to actually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28440" indent="-39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onfiguration Space vs. Work Spa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28440" indent="-39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onstraint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2" marL="123660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m Closure vs. Force Clos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3660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asp Analysis (Reuleaux’s Method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28440" indent="-39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Path Planning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2" marL="123660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space, visibility graph, best first, R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C274-2D86-4DF5-8F6B-FA280D7A52F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93880" y="132840"/>
            <a:ext cx="780408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Best First Search (&amp; Friends)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23" name=""/>
          <p:cNvSpPr/>
          <p:nvPr/>
        </p:nvSpPr>
        <p:spPr>
          <a:xfrm>
            <a:off x="2704320" y="3687840"/>
            <a:ext cx="2747880" cy="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>
            <a:off x="3997440" y="2598840"/>
            <a:ext cx="1452600" cy="214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>
            <a:off x="3997440" y="2622600"/>
            <a:ext cx="1500120" cy="2131920"/>
          </a:xfrm>
          <a:prstGeom prst="pie">
            <a:avLst/>
          </a:prstGeom>
          <a:noFill/>
          <a:ln w="20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2076480" y="3289320"/>
            <a:ext cx="807840" cy="79704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>
            <a:off x="3965400" y="3956040"/>
            <a:ext cx="2481480" cy="901800"/>
          </a:xfrm>
          <a:prstGeom prst="pie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6257880" y="3289320"/>
            <a:ext cx="808200" cy="79704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5AD-DD32-453B-865F-5AE62A120C29}" type="slidenum">
              <a:t>30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8920" y="132840"/>
            <a:ext cx="846468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apidly Exploring Random Tree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5000"/>
          </a:bodyPr>
          <a:p>
            <a:pPr lvl="1" marL="891000" indent="-3830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LaValle 1998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91000" indent="-3830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peat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times: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1186560" indent="-3812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ick a random configuration point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1186560" indent="-3812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nd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, the closest tree node to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1186560" indent="-3812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Add new node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N'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, some distance </a:t>
            </a:r>
            <a:r>
              <a:rPr b="0" lang="en-US" sz="2500" spc="-1" strike="noStrike">
                <a:solidFill>
                  <a:srgbClr val="000000"/>
                </a:solidFill>
                <a:latin typeface="ヒラギノ明朝 Pro W6"/>
              </a:rPr>
              <a:t>Δ 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rom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toward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91000" indent="-3830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ack to exploring entire configuration space?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91000" indent="-3830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Not necessarily — bias the random target to pick the goal more often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4222-323E-4BB9-A341-5F6587F8850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9280" y="132840"/>
            <a:ext cx="88394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apidly Exploring Random Tree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670120" y="2054160"/>
            <a:ext cx="3803760" cy="380376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3055320" y="5919480"/>
            <a:ext cx="302580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msl.cs.uiuc.edu/rrt/treemovie.gif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4BA-D449-44DA-BD87-20AAB69B013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Potential Field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3000"/>
          </a:bodyPr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 far we’ve been assuming we already know the environment, and there aren’t other agents changing things around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tant replanning is costl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replan only when something is amis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replan only affected parts of existing plan (open research problem!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r… don’t make a plan in the first pl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CA5B-E34F-4E12-8E1B-9EDB9536753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Potential Field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9000"/>
          </a:bodyPr>
          <a:p>
            <a:pPr marL="556200" indent="-35712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fine a function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mapping from a specified configuration to a score valu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840" indent="-3585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e.g. distance to goal plus distance to obstacl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56200" indent="-35712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ssentially just running heuristic from befor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840" indent="-3585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Evaluate each of the currently available mov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34840" indent="-3585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Pick the one which maximizes score (or in example above, minimizes cost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8514-BDB4-4065-B0E8-FCCD34B8977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Potential Field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2000"/>
          </a:bodyPr>
          <a:p>
            <a:pPr marL="575280" indent="-3690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ownside: can get stuck in local minima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-3690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Workaround:  follow edges (“bug” method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-3690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Upside: extremely quick and reactiv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62920" indent="-3708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opular in robosoccer for navigating to bal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"/>
          <p:cNvSpPr/>
          <p:nvPr/>
        </p:nvSpPr>
        <p:spPr>
          <a:xfrm>
            <a:off x="4140360" y="2550960"/>
            <a:ext cx="1126800" cy="1602000"/>
          </a:xfrm>
          <a:prstGeom prst="pi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"/>
          <p:cNvSpPr/>
          <p:nvPr/>
        </p:nvSpPr>
        <p:spPr>
          <a:xfrm>
            <a:off x="5838840" y="3051000"/>
            <a:ext cx="608040" cy="60012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626000" y="2921040"/>
            <a:ext cx="546120" cy="6238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168000" y="3351240"/>
            <a:ext cx="1717560" cy="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2695680" y="3051000"/>
            <a:ext cx="608040" cy="60012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BE49-A14D-4B03-AEEB-0A534488EB2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Summary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53680" y="1679400"/>
            <a:ext cx="76978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Known Environment, Deterministic Action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oad Maps (Visibility, Voronoi), A*, RRT, 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brushfi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Unknown Environment, Deterministic Action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 Field, “Bug”, 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D*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80808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ill Sans"/>
              </a:rPr>
              <a:t>Non-Deterministic and/or Unknown Environmen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80808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MDP, POMD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E059-B136-4BE0-89BE-3905C1C89C1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etting Back to the AIBO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nder-actuated manipulato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use the ground and other objects to help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n’t get hung up on grasp closu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we’re not handling nuclear waste — equilibrium is enough for our purposes!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0E8F-CE8D-4F42-A0BB-DE100204735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etting Back to the AIBO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Where we want to go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velop larger library of motion primitiv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How to push a banana?  One leg?  Two legs?  Head nuzzle?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Each strategy has advantages, but have to quantify these capabilities so planners can choose among them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Learn models of the environment from experie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FC47-7DEE-4FF6-946B-0BD142AE0E1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1800ff"/>
                </a:solidFill>
                <a:latin typeface="Gill Sans"/>
              </a:rPr>
              <a:t>Next Time:</a:t>
            </a: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Dynamics!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Friction, Forces, and Control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1868400" y="5164920"/>
            <a:ext cx="5401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Thanks to: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16-741: Mechanics of Manipulation (Mason)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16-830: Planning, Execution, and Learning (Rizzi, Veloso)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691B-195F-4B92-B01F-58B0326204C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figuration Space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vs. Work Space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ider a 2-link arm, with joint constraints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0° &lt;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</a:rPr>
              <a:t>0 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&lt; 90° ,    -90° &lt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&lt; 90°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322960" y="2955960"/>
            <a:ext cx="3143160" cy="25272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79320" y="3071880"/>
            <a:ext cx="3303720" cy="2438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814320" y="5648400"/>
            <a:ext cx="3035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Configuration Space: robot’s internal state space (e.g. joint angles)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5553000" y="5656320"/>
            <a:ext cx="2679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Work Space: set of all possible end-effector position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8B8D-3F16-495C-B943-9658AD0A63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marL="568800" indent="-3650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traints can be your friend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53560" indent="-3668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Upside: Use the environment and the object itself to your advantage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53560" indent="-3668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Downside: Requires planning and </a:t>
            </a: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accurate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 modeling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68800" indent="-3650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Part Orient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53560" indent="-3668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an position/orient an ‘L’ shaped part with unknown initial configuration using nothing more than an actuated tray — no sensors!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B14E-788A-44BC-B0F0-BA192287DB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SmartOrientWhiteS-6" descr=""/>
          <p:cNvPicPr/>
          <p:nvPr/>
        </p:nvPicPr>
        <p:blipFill>
          <a:blip r:embed="rId1"/>
          <a:stretch/>
        </p:blipFill>
        <p:spPr>
          <a:xfrm>
            <a:off x="1359000" y="2232000"/>
            <a:ext cx="6429240" cy="42861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Part Orient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357200" y="2232000"/>
            <a:ext cx="7103520" cy="4286160"/>
            <a:chOff x="1357200" y="2232000"/>
            <a:chExt cx="7103520" cy="4286160"/>
          </a:xfrm>
        </p:grpSpPr>
        <p:pic>
          <p:nvPicPr>
            <p:cNvPr id="563" name="" descr=""/>
            <p:cNvPicPr/>
            <p:nvPr/>
          </p:nvPicPr>
          <p:blipFill>
            <a:blip r:embed="rId2"/>
            <a:stretch/>
          </p:blipFill>
          <p:spPr>
            <a:xfrm>
              <a:off x="1357200" y="2232000"/>
              <a:ext cx="64296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3481200" y="5836680"/>
              <a:ext cx="4979520" cy="63972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Fujimori, T.,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Gill Sans"/>
                </a:rPr>
                <a:t>Development of Flexible Assembly System “SMART”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Video of Sony SMART Cell demo system by Wes Huang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CMU Manipulation Lab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5317-E34E-4DFF-BBEB-860DC9745734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74440" y="1714680"/>
            <a:ext cx="7358040" cy="4179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Throwing (Kevin Lynch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911320" y="2946240"/>
            <a:ext cx="3192480" cy="26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F6DE-96E4-4C09-8A02-03503C9CE4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2JOC-3" descr=""/>
          <p:cNvPicPr/>
          <p:nvPr/>
        </p:nvPicPr>
        <p:blipFill>
          <a:blip r:embed="rId1"/>
          <a:stretch/>
        </p:blipFill>
        <p:spPr>
          <a:xfrm>
            <a:off x="1714680" y="2232000"/>
            <a:ext cx="5715000" cy="4286160"/>
          </a:xfrm>
          <a:prstGeom prst="rect">
            <a:avLst/>
          </a:prstGeom>
          <a:ln w="0">
            <a:noFill/>
          </a:ln>
        </p:spPr>
      </p:pic>
      <p:grpSp>
        <p:nvGrpSpPr>
          <p:cNvPr id="569" name=""/>
          <p:cNvGrpSpPr/>
          <p:nvPr/>
        </p:nvGrpSpPr>
        <p:grpSpPr>
          <a:xfrm>
            <a:off x="1714680" y="2232000"/>
            <a:ext cx="5715000" cy="4286160"/>
            <a:chOff x="1714680" y="2232000"/>
            <a:chExt cx="5715000" cy="4286160"/>
          </a:xfrm>
        </p:grpSpPr>
        <p:pic>
          <p:nvPicPr>
            <p:cNvPr id="570" name="2JOC-4" descr=""/>
            <p:cNvPicPr/>
            <p:nvPr/>
          </p:nvPicPr>
          <p:blipFill>
            <a:blip r:embed="rId2"/>
            <a:stretch/>
          </p:blipFill>
          <p:spPr>
            <a:xfrm>
              <a:off x="1714680" y="223200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1839600" y="5569200"/>
              <a:ext cx="1890360" cy="85284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Gill Sans"/>
                </a:rPr>
                <a:t>A Turn and Two Toppl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"/>
                </a:rPr>
                <a:t>Tom A. Scharfeld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"/>
                </a:rPr>
                <a:t>Kevin M. Lynch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"/>
                </a:rPr>
                <a:t>December 2, 1998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2 DOF Arm over a conveyor belt (2JOC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A069-50F7-4B8E-A0E8-253528FF2C40}" type="slidenum">
              <a:t>8</a:t>
            </a:fld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SUHingeGrasp-3" descr=""/>
          <p:cNvPicPr/>
          <p:nvPr/>
        </p:nvPicPr>
        <p:blipFill>
          <a:blip r:embed="rId1"/>
          <a:stretch/>
        </p:blipFill>
        <p:spPr>
          <a:xfrm>
            <a:off x="1714680" y="2232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Hinge Assembl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714680" y="2232000"/>
            <a:ext cx="5715000" cy="4286160"/>
            <a:chOff x="1714680" y="2232000"/>
            <a:chExt cx="5715000" cy="4286160"/>
          </a:xfrm>
        </p:grpSpPr>
        <p:pic>
          <p:nvPicPr>
            <p:cNvPr id="578" name="SUHingeGrasp-4" descr=""/>
            <p:cNvPicPr/>
            <p:nvPr/>
          </p:nvPicPr>
          <p:blipFill>
            <a:blip r:embed="rId2"/>
            <a:stretch/>
          </p:blipFill>
          <p:spPr>
            <a:xfrm>
              <a:off x="1714680" y="223200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071960" y="2361600"/>
              <a:ext cx="3321720" cy="89244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Pingle, K., Paul, R., Bolles, R., "Programmable Assembly, Three Short Examples," Film,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Stanford Artificial Intelligence Laboratory, October 1974.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63F0-2125-4254-80F8-F6BABE6726AD}" type="slidenum">
              <a:t>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st</cp:lastModifiedBy>
  <dcterms:modified xsi:type="dcterms:W3CDTF">2008-03-31T07:01:15Z</dcterms:modified>
  <cp:revision>7</cp:revision>
  <dc:subject/>
  <dc:title>Manipulation By Pushing</dc:title>
</cp:coreProperties>
</file>