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2555-91F7-49F7-8F23-547F6C94E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4C12-0FD9-44F8-937E-84857D59A1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87D53-3CF5-4FB2-8788-2EF244B53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04A8-A7E1-4F8C-A2D4-CCA88B0F10A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5F9AE-C2C1-466F-9FA6-5EE73D7428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CAC72-192C-458A-BD50-5A63E3577A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46A6-8773-4499-AABD-F4E72C0778E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277B3-C3B8-4D59-AF93-2A3AB81DDC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39C09-33BA-4339-9813-7B6DD09DA5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77291-49B8-404A-B163-A027F79431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6AB27-035F-4129-B82A-111F6AC51B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9261A-CC48-403F-9D6F-82E5C32BF91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11BD8-77F2-4012-A60F-FDB0774395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4EBCA-CADF-4A1A-BB66-2239D2B7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C1E9-0782-443E-B560-A04E707008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8F96-50F7-4CB0-B32B-393E99F9749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78FC-3120-477E-ADD2-9E368AA61B0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CA4-AB52-4A0C-983E-9DA25C5148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7B58-3166-4186-93D1-92AC01FCFA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997-A948-4EDB-996D-484D074150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290E-1839-499E-89B4-7F2015B92A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274-A635-450C-84C8-E1FEE6927E9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954-B736-4174-8AE3-7432F11A5F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CBC2-A241-49FA-B413-153C88F79A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F781-5F87-4FFF-A900-C5A7A4A5D1C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2CD1-8366-43B7-AF92-FE5664165B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EB40-7BC1-4B8D-823B-824E42C3D0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BD7D-D7CA-4965-93A5-C00981D2C2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1632-06BC-4753-BB21-B1141DF276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088-0FAB-4019-ABAA-8CD1B490E9F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42BD-87F4-4448-818A-92E4441BAB5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5661B-5C41-4603-A6C8-EA170CD7DA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E48D6-1A85-4B0F-8B46-4D68E06E1E9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74A2B-90EC-4BE9-A4A9-9F38BA00C5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728B-F567-4223-B40B-9602D1590C7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13E2C8-F68E-4775-B1D4-415CEE13341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8E946-1505-4AAD-8942-9B4CD5B65FC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F0A35-FC9F-47FF-A790-D66E828B3E9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911D5-7753-493E-BF4B-40E0791B39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7A858-C7F3-4BE6-AAEE-9164F50015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B36E6-C954-436C-90B7-8C330142A58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584F6-0D97-4879-8F51-2D457566344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11FBE-CFDD-4CC8-837E-DB422EDACF6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5BE1A-2750-4F2D-9506-A75A5A92B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ACD0-357E-4722-986D-F2D496BF4D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C2BE-085C-4FF3-A706-C2B121992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3B91-FAA1-403A-B423-3837E67DF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65D8-8468-4BC5-BD36-23CDFCCFE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FAED-58B7-47E3-B96C-B821E2171C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C15B-3E7F-44D9-9741-D0D8136DA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3AA8-11A1-42FE-8552-844968922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1F0D-BC0E-4294-901D-3B21A8EF7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DF8B-452A-49ED-92CE-D6492100AE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FF9-7415-4632-AC76-81E6A68055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E9B-A02F-40BA-8E49-49E7914F1B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925-E78D-4D34-9DC0-420F4290A2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7AE-1AA8-4939-A4A2-5B7D76D7DA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AFC-7FB4-4717-AE0E-C0E035070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E52C-9ACF-4F66-9F88-2D0386E902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A04-40A5-49AD-BD4D-634D5DF33B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F30-2AD6-4C75-BA9F-015F594917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789-97C1-4CFC-90ED-4CE8ECAA82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5EA-187B-48DF-A36A-0A5DFBA6F3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F74-FEBC-4B28-B828-AFF0E6856D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71D-CD04-4AAE-B7EF-4A44430EC7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C7D-50CB-4C18-872D-85B1D062EF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A8E9-EA75-49FB-8381-0E113B9517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2886-0ACE-4E7A-BD1F-9C9E2C81A5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89E96-28EF-4920-9B8D-D431F58D5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F9C2-D4F3-4262-854E-81A317F161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B30DE-646E-4158-AEE0-6D4337178F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5BBF0-719E-492C-BC3F-8ADA2F5986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F02E-7F50-4412-A147-01FA8F1361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5CDBA-F779-4271-8DE7-D0C3E47278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3F3F-DCEB-46EE-983A-6435A13256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0D2B1-4DAE-4A39-9315-B5BA3E2698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6C70A-CB3F-4713-AC6A-D816DB9AC0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3E29-0706-4C1F-8889-03C6E53CC7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EC79-ED1D-45BF-B6F7-13F2132D0D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60DA-5900-4974-98C9-CEF90389CD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1C30-2A35-4615-8DE3-C261B3872B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C7C1-3533-43A2-ADDC-4AED918A9D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49C4-1165-45CE-BB6A-4EB43A2D18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E2B7-9BC1-49A1-93E5-65B4D6ABC8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E59D1BD4-DFCA-4DD6-826B-F83AA1521FAF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5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A4CE4241-E0FD-48B1-A6C3-1C4BF3B6604A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3520" y="1946160"/>
            <a:ext cx="354492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78000"/>
          </a:bodyPr>
          <a:p>
            <a:pPr marL="4172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9050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14768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53496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4780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6064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47168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A5B1CBF7-455C-4B37-8130-64E57B600744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465520" y="1946160"/>
            <a:ext cx="278604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65000"/>
          </a:bodyPr>
          <a:p>
            <a:pPr marL="3474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5508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7542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9565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3880" y="1679400"/>
            <a:ext cx="388296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46512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73728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00944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28016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7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20D3F662-B529-43EE-9767-7C5374B90275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588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180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1428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52712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4C4C1C03-00C9-4FDB-A4D6-FA90E258A7F0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8EF7605B-2ACE-4B29-9716-FB0581C515D0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893520" y="89352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6000"/>
          </a:bodyPr>
          <a:p>
            <a:pPr marL="50616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544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44000" indent="-34488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31328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4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8F3912F3-E13F-453A-9569-9E85ABF1C261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3520" y="2089080"/>
            <a:ext cx="7358040" cy="26798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msl.cs.uiuc.edu/rrt/treemovie.gif" TargetMode="External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Manipulation By Pushing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15-494 Cognitive Robotics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vid S. Touretzky &amp;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than Tira-Thomps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arnegie Mell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pring 200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2145-DE33-40E0-9750-01DD170C0D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 Taxonom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80722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ilateral - expressed by equality (e.g.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Unilateral - expressed by inequality (e.g. 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&gt;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6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cleronomic - independent of time (static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Rheonomic - changes over time (e.g. 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2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Holonomic - all constraints are independent of rate of change and bilateral (direct mapping between configuration space and work space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FD85-1BDA-4EF9-B375-3013779C20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3480" y="132840"/>
            <a:ext cx="830412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Holonomic vs. Non-Holonomic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lonomic: robotic arms, unsteered mobile robots, omni-directional mobile robo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6120" indent="-3506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define configuration space such that returning to a configuration point implies returning to consistent point in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Holonomic: commonly, mobile robots with constraints on their instantaneous motion, e.g. unicycles, steered carts (Ackerman steering) can’t go sideway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D1CD-9519-4E5F-B953-3AD111E796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53680" y="1660320"/>
            <a:ext cx="8232840" cy="4554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t necessarily the same thing — depends on your friction model (next lectur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483160" y="4991040"/>
            <a:ext cx="1054080" cy="1233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384280" y="4991040"/>
            <a:ext cx="884520" cy="12337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52320" y="5192640"/>
            <a:ext cx="1651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m closure, but no force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653160" y="5192640"/>
            <a:ext cx="1830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ce closure, but no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3484-C73B-4E02-BC36-E465FE385D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39840" y="1679400"/>
            <a:ext cx="7912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m closure is defined in increasing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orders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: position, velocity, acceleration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ce closure does not have orders (you have it or you don’t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rictionless force closure equates to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irst-order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(positional) form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313000" y="5099040"/>
            <a:ext cx="1347840" cy="10098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803760" y="5183280"/>
            <a:ext cx="3019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Example grasp with both force closure and first-order form closure, regardless of frictional model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A963-2D3B-4B0C-AB7D-E8D818E02F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3840" y="1679400"/>
            <a:ext cx="7858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Original examples do not have force closur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ft figure can be moved infinitesimally up or down, although cannot be in motion vertically (so it has second-order form closure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599080" y="4125960"/>
            <a:ext cx="1054080" cy="12319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420228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no friction,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either example has force closure nor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Gill Sans"/>
              </a:rPr>
              <a:t>first-order</a:t>
            </a: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500200" y="4125960"/>
            <a:ext cx="884520" cy="12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ED77-8B93-4991-8FEE-7FA5A403AD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Equilibrium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resist environmental forces (gravity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Stablity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how much variance from the environment can be tolerated and still maintain equilibriu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2EE6-0EEE-4E66-8C79-F322756050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Taxonomy of Contac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217600" y="1370160"/>
            <a:ext cx="4707000" cy="4500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544480" y="603900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8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B1A-87E3-49A2-B95F-B5A963C8735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r each constraint, divide the plane into areas which can hold positive or negative centers of rotation (IC’s - instantaneous centers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4108320" y="3173400"/>
            <a:ext cx="3970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±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BB36-354C-4FD1-94DE-49ED091792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018040" y="3801960"/>
            <a:ext cx="166212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5F23-41C9-4B65-84BB-6BB80DE54AC6}" type="slidenum">
              <a:t>1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77344" presetSubtype="17644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2452680" y="3798720"/>
            <a:ext cx="1839960" cy="128592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18040" y="5078520"/>
            <a:ext cx="1662120" cy="11700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5969160" y="5442120"/>
            <a:ext cx="3538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649680" y="5072040"/>
            <a:ext cx="2378160" cy="2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3405240" y="49356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C3EF-BCCC-4483-AB9E-2D5AE1196B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ffordances are where we want to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b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inematics are where we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a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5E00-ABB7-45BE-9EE2-00A869EF90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s this completely constrained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4778280" y="475452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rot="14400000">
            <a:off x="5067360" y="34128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90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 rot="7199400">
            <a:off x="3755520" y="3823920"/>
            <a:ext cx="318960" cy="3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26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514B-254A-4ABD-9A3F-5C00821295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spin counter-clockwise around area in the middle — but not clockwise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00640" y="2840040"/>
            <a:ext cx="2143440" cy="2315880"/>
            <a:chOff x="3500640" y="2840040"/>
            <a:chExt cx="2143440" cy="2315880"/>
          </a:xfrm>
        </p:grpSpPr>
        <p:sp>
          <p:nvSpPr>
            <p:cNvPr id="648" name=""/>
            <p:cNvSpPr/>
            <p:nvPr/>
          </p:nvSpPr>
          <p:spPr>
            <a:xfrm>
              <a:off x="3769920" y="2840040"/>
              <a:ext cx="1806840" cy="1981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17960" y="2847960"/>
              <a:ext cx="0" cy="2054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7120" y="4825080"/>
              <a:ext cx="301680" cy="330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7840" y="3862080"/>
              <a:ext cx="374760" cy="700200"/>
            </a:xfrm>
            <a:prstGeom prst="rect">
              <a:avLst/>
            </a:prstGeom>
            <a:noFill/>
            <a:ln w="0">
              <a:noFill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500640" y="3425400"/>
              <a:ext cx="1904400" cy="1195920"/>
              <a:chOff x="3500640" y="3425400"/>
              <a:chExt cx="1904400" cy="1195920"/>
            </a:xfrm>
          </p:grpSpPr>
          <p:sp>
            <p:nvSpPr>
              <p:cNvPr id="653" name=""/>
              <p:cNvSpPr/>
              <p:nvPr/>
            </p:nvSpPr>
            <p:spPr>
              <a:xfrm flipV="1">
                <a:off x="3500640" y="3685320"/>
                <a:ext cx="1621440" cy="93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4400000">
                <a:off x="5025600" y="3492720"/>
                <a:ext cx="33084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738600" y="3851280"/>
              <a:ext cx="1905480" cy="1194480"/>
              <a:chOff x="3738600" y="3851280"/>
              <a:chExt cx="1905480" cy="1194480"/>
            </a:xfrm>
          </p:grpSpPr>
          <p:sp>
            <p:nvSpPr>
              <p:cNvPr id="656" name=""/>
              <p:cNvSpPr/>
              <p:nvPr/>
            </p:nvSpPr>
            <p:spPr>
              <a:xfrm flipH="1" flipV="1">
                <a:off x="4022280" y="4110120"/>
                <a:ext cx="1621800" cy="93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7199400">
                <a:off x="3786480" y="3918600"/>
                <a:ext cx="33120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rot="9000000">
              <a:off x="4362480" y="3947400"/>
              <a:ext cx="776520" cy="740520"/>
            </a:xfrm>
            <a:prstGeom prst="triangle">
              <a:avLst>
                <a:gd name="adj" fmla="val 50000"/>
              </a:avLst>
            </a:prstGeom>
            <a:solidFill>
              <a:srgbClr val="00ff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8DCC-32EC-43C3-8C45-FD02FBE311CC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90000"/>
          </a:bodyPr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How about now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mmon intersections may indicate, but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do not guarante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at rotation is possibl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4680000" y="28386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4519440" y="474516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554640" y="3595680"/>
            <a:ext cx="2007000" cy="1251360"/>
            <a:chOff x="3554640" y="3595680"/>
            <a:chExt cx="2007000" cy="1251360"/>
          </a:xfrm>
        </p:grpSpPr>
        <p:sp>
          <p:nvSpPr>
            <p:cNvPr id="665" name=""/>
            <p:cNvSpPr/>
            <p:nvPr/>
          </p:nvSpPr>
          <p:spPr>
            <a:xfrm flipV="1">
              <a:off x="3554640" y="3857040"/>
              <a:ext cx="1714680" cy="990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4400000">
              <a:off x="5183280" y="365328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785040" y="3595680"/>
            <a:ext cx="2008080" cy="1249920"/>
            <a:chOff x="3785040" y="3595680"/>
            <a:chExt cx="2008080" cy="1249920"/>
          </a:xfrm>
        </p:grpSpPr>
        <p:sp>
          <p:nvSpPr>
            <p:cNvPr id="668" name=""/>
            <p:cNvSpPr/>
            <p:nvPr/>
          </p:nvSpPr>
          <p:spPr>
            <a:xfrm flipH="1" flipV="1">
              <a:off x="4078080" y="3855960"/>
              <a:ext cx="1715040" cy="989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99400">
              <a:off x="3844080" y="365364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70" name=""/>
          <p:cNvSpPr/>
          <p:nvPr/>
        </p:nvSpPr>
        <p:spPr>
          <a:xfrm rot="10800000">
            <a:off x="4652640" y="4170240"/>
            <a:ext cx="52200" cy="5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FE54-F257-41C6-97CF-AD53FC57482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uleaux’s Method is good for humans, not so good for machin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n’t extend to three dimens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alytical solution would require a lecture unto it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16-741:  Mechanics of Manipulation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arn about screws, twists, wrenches, and mome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045A-1AFC-420E-A2AD-EFD090756BA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 the set of configuration points around obstacles which would cause a collis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509920" y="3438360"/>
            <a:ext cx="4124160" cy="25988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2318400" y="570564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6332400" y="315900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7227720" y="4317840"/>
            <a:ext cx="14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red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052320" y="4777920"/>
            <a:ext cx="1157400" cy="212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455440" y="3633840"/>
            <a:ext cx="1714680" cy="107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>
            <a:off x="345960" y="3325680"/>
            <a:ext cx="3446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tice how the Cspace formed by defining the origin of the robot in its center (red dot and outline) is merely a translated version of the Cspace formed by placing the origin at one of the robot’s corners (blue dot and outline).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7209000" y="5522760"/>
            <a:ext cx="146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blue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6222960" y="5383080"/>
            <a:ext cx="1028880" cy="52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5793-D3B0-490B-8982-E0ABE3138D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the area around obstacles which would cause a collision with the 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811160" y="3017880"/>
            <a:ext cx="5523120" cy="32511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727560" y="319572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63360" y="469584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7326000" y="3008160"/>
            <a:ext cx="127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009560" y="3483000"/>
            <a:ext cx="722520" cy="455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036800" y="4340160"/>
            <a:ext cx="1382400" cy="39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544480" y="627228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4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893600" y="3465360"/>
            <a:ext cx="677880" cy="21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A06E-57AF-4EE2-A0A7-272CBC9B9C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 is not just for mobile robots’ outer hulls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2544480" y="57801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5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231920" y="2884320"/>
            <a:ext cx="667080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135E-691B-4656-8A2F-D85FEE4B41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, we know where we can’t go, but how do we avoid it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pproach 1: Visibility Grap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nect visible corners together, search the graph of connected edg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298520" y="4340160"/>
            <a:ext cx="6546960" cy="1554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553840" y="59943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1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544040" y="5419440"/>
            <a:ext cx="19285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5725-84D0-4E5E-8668-78D5590F175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isibility Graph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eat for 2 dimensions, but not for mor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Voronoi graphs are similar, a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been generalized to higher dimensions (Choset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Instead of a graph of tangen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etween obstacles, use a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aph of the midpoint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ast search, safe path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ut suboptimal distanc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6518160" y="3724200"/>
            <a:ext cx="1054080" cy="1098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7894800" y="3679920"/>
            <a:ext cx="766440" cy="865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7143840" y="5099040"/>
            <a:ext cx="1214280" cy="4287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5956200" y="4786200"/>
            <a:ext cx="884160" cy="7956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5830920" y="4251240"/>
            <a:ext cx="946080" cy="820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776280" y="4840200"/>
            <a:ext cx="113508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6769080" y="5054760"/>
            <a:ext cx="32076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7660800" y="4009680"/>
            <a:ext cx="25884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7912080" y="4848120"/>
            <a:ext cx="100800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7081920" y="5429160"/>
            <a:ext cx="792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670880" y="3446640"/>
            <a:ext cx="125280" cy="59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8501040" y="4754520"/>
            <a:ext cx="411120" cy="40968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38160" y="4251240"/>
            <a:ext cx="401400" cy="48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5170320" y="4691160"/>
            <a:ext cx="374760" cy="37440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7207200" y="568152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Voronoi Graph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3A59-718E-4393-AC66-3E032FE9E96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58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7000"/>
          </a:bodyPr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n’t explicitly solve all of Cspace before searchin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sically, keep a priority queue of unevaluated nodes, sorted by “score” (e.g. distance to goal, or distance to goal plus distance so far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ach iteration, expand the current “best” nod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hoice of scoring heuristic (if you have a choice!) can make tradeoffs between search speed and optimality of solution found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AC9D-9813-437E-9404-084ACCC38BE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9000"/>
          </a:bodyPr>
          <a:p>
            <a:pPr marL="61884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figuration Space vs.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strai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m Closure vs. Force Clos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sp Analysis (Reuleaux’s Metho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ath Plann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space, visibility graph, best first, R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B9F7-23F1-4400-AE41-10E103EE8EB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04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2704320" y="3687840"/>
            <a:ext cx="274788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3997440" y="2598840"/>
            <a:ext cx="1452600" cy="21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3997440" y="2622600"/>
            <a:ext cx="1500120" cy="2131920"/>
          </a:xfrm>
          <a:prstGeom prst="pie">
            <a:avLst/>
          </a:prstGeom>
          <a:noFill/>
          <a:ln w="20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2076480" y="3289320"/>
            <a:ext cx="80784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3965400" y="3956040"/>
            <a:ext cx="2481480" cy="901800"/>
          </a:xfrm>
          <a:prstGeom prst="pi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6257880" y="3289320"/>
            <a:ext cx="80820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234-9F94-463A-AF6A-7A33491D289A}" type="slidenum">
              <a:t>30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8920" y="132840"/>
            <a:ext cx="84646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5000"/>
          </a:bodyPr>
          <a:p>
            <a:pPr lvl="1" marL="891000" indent="-383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LaValle 199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pea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imes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ick a random configuration poin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e closest tree node to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Add new node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'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some distance </a:t>
            </a:r>
            <a:r>
              <a:rPr b="0" lang="en-US" sz="2500" spc="-1" strike="noStrike">
                <a:solidFill>
                  <a:srgbClr val="000000"/>
                </a:solidFill>
                <a:latin typeface="ヒラギノ明朝 Pro W6"/>
              </a:rPr>
              <a:t>Δ 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rom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owar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ck to exploring entire configuration space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Not necessarily — bias the random target to pick the goal more ofte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CAF5-4D30-4CA9-BA99-D72A1027990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280" y="132840"/>
            <a:ext cx="88394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670120" y="2054160"/>
            <a:ext cx="3803760" cy="38037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055320" y="5919480"/>
            <a:ext cx="302580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msl.cs.uiuc.edu/rrt/treemovie.gif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90B-7471-47ED-AF7E-E4D49A63B0A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 far we’ve been assuming we already know the environment, and there aren’t other agents changing things arou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ant replanning is cost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when something is amis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affected parts of existing plan (open research problem!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r… don’t make a plan in the first pl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44E4-CEE9-47DF-B9F2-267502EEEF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9000"/>
          </a:bodyPr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fine a function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mapping from a specified configuration to a score valu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.g. distance to goal plus distance to obstacl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ssentially just running heuristic from befor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valuate each of the currently available mov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ick the one which maximizes score (or in example above, minimizes cost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61F6-5D24-424A-AE84-41A30EEF207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2000"/>
          </a:bodyPr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wnside: can get stuck in local minima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Workaround:  follow edges (“bug” method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pside: extremely quick and reactiv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62920" indent="-3708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opular in robosoccer for navigating to bal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4140360" y="2550960"/>
            <a:ext cx="1126800" cy="1602000"/>
          </a:xfrm>
          <a:prstGeom prst="pi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583884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626000" y="2921040"/>
            <a:ext cx="546120" cy="6238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168000" y="3351240"/>
            <a:ext cx="171756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269568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6C9B-D136-4B15-A2BE-30E3E053E8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Summar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53680" y="1679400"/>
            <a:ext cx="76978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oad Maps (Visibility, Voronoi), A*, RRT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brushfi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n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 Field, “Bug”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ill Sans"/>
              </a:rPr>
              <a:t>Non-Deterministic and/or Unknown Environme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MDP, POMD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F163-0975-4A93-B541-19AE91E3359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nder-actuated manipula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se the ground and other objects to help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n’t get hung up on grasp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we’re not handling nuclear waste — equilibrium is enough for our purpose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2BBA-5F74-4CC1-B03A-A705B488E70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Where we want to g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velop larger library of motion primitiv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How to push a banana?  One leg?  Two legs?  Head nuzzle?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ach strategy has advantages, but have to quantify these capabilities so planners can choose among the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earn models of the environment from experi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98CD-6965-4869-ACE7-C852D5C93FF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Next Time: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Dynamics!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Friction, Forces, and Control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868400" y="5164920"/>
            <a:ext cx="5401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Thanks to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741: Mechanics of Manipulation (Mason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830: Planning, Execution, and Learning (Rizzi, Veloso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C19D-91DF-4155-819B-0BD002169B9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figuration Space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s. Work Space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a 2-link arm, with joint constraint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0° &lt;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&lt; 90° ,    -90° &lt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&lt; 90°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22960" y="2955960"/>
            <a:ext cx="3143160" cy="25272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79320" y="3071880"/>
            <a:ext cx="3303720" cy="2438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14320" y="5648400"/>
            <a:ext cx="303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Configuration Space: robot’s internal state space (e.g. joint angles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553000" y="5656320"/>
            <a:ext cx="2679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ork Space: set of all possible end-effector position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FC3C-6E81-4F1F-8D1B-54CE84FA8F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raints can be your frie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pside: Use the environment and the object itself to your advantage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Downside: Requires planning and </a:t>
            </a: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accurat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 model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position/orient an ‘L’ shaped part with unknown initial configuration using nothing more than an actuated tray — no sensor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F54F-6400-440C-BAE9-E5FF08F219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SmartOrientWhiteS-6" descr=""/>
          <p:cNvPicPr/>
          <p:nvPr/>
        </p:nvPicPr>
        <p:blipFill>
          <a:blip r:embed="rId1"/>
          <a:stretch/>
        </p:blipFill>
        <p:spPr>
          <a:xfrm>
            <a:off x="1359000" y="2232000"/>
            <a:ext cx="6429240" cy="4286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357200" y="2232000"/>
            <a:ext cx="7103520" cy="4286160"/>
            <a:chOff x="1357200" y="2232000"/>
            <a:chExt cx="7103520" cy="4286160"/>
          </a:xfrm>
        </p:grpSpPr>
        <p:pic>
          <p:nvPicPr>
            <p:cNvPr id="563" name="" descr=""/>
            <p:cNvPicPr/>
            <p:nvPr/>
          </p:nvPicPr>
          <p:blipFill>
            <a:blip r:embed="rId2"/>
            <a:stretch/>
          </p:blipFill>
          <p:spPr>
            <a:xfrm>
              <a:off x="1357200" y="2232000"/>
              <a:ext cx="64296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481200" y="5836680"/>
              <a:ext cx="4979520" cy="63972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Fujimori, T.,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Gill Sans"/>
                </a:rPr>
                <a:t>Development of Flexible Assembly System “SMART”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Video of Sony SMART Cell demo system by Wes Huang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CMU Manipulation Lab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1C48-BCF8-4A24-9A4F-92923272198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4440" y="1714680"/>
            <a:ext cx="7358040" cy="4179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Throwing (Kevin Lynch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911320" y="2946240"/>
            <a:ext cx="3192480" cy="26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340B-F6E2-4C84-B012-EC323DCA48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2JOC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0" name="2JOC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839600" y="5569200"/>
              <a:ext cx="1890360" cy="8528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Gill Sans"/>
                </a:rPr>
                <a:t>A Turn and Two Toppl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Tom A. Scharfeld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Kevin M. Lynch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December 2, 1998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2 DOF Arm over a conveyor belt (2JOC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0178-2C2A-4D3B-B5A9-F6C2511473ED}" type="slidenum">
              <a:t>8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SUHingeGrasp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Hinge Assemb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8" name="SUHingeGrasp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071960" y="2361600"/>
              <a:ext cx="3321720" cy="8924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Pingle, K., Paul, R., Bolles, R., "Programmable Assembly, Three Short Examples," Film,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Stanford Artificial Intelligence Laboratory, October 1974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B08C-833F-477F-A933-AC177EBE6B20}" type="slidenum">
              <a:t>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st</cp:lastModifiedBy>
  <dcterms:modified xsi:type="dcterms:W3CDTF">2008-03-31T07:01:15Z</dcterms:modified>
  <cp:revision>7</cp:revision>
  <dc:subject/>
  <dc:title>Manipulation By Pushing</dc:title>
</cp:coreProperties>
</file>