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9.png" ContentType="image/png"/>
  <Override PartName="/ppt/media/image14.wmf" ContentType="image/x-wmf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18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20.wmf" ContentType="image/x-wmf"/>
  <Override PartName="/ppt/media/image5.jpeg" ContentType="image/jpeg"/>
  <Override PartName="/ppt/media/image50.png" ContentType="image/png"/>
  <Override PartName="/ppt/media/image6.jpeg" ContentType="image/jpeg"/>
  <Override PartName="/ppt/media/image16.wmf" ContentType="image/x-wmf"/>
  <Override PartName="/ppt/media/image8.png" ContentType="image/png"/>
  <Override PartName="/ppt/media/image38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53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43.png" ContentType="image/png"/>
  <Override PartName="/ppt/media/image57.jpeg" ContentType="image/jpeg"/>
  <Override PartName="/ppt/media/image46.png" ContentType="image/png"/>
  <Override PartName="/ppt/media/image35.png" ContentType="image/png"/>
  <Override PartName="/ppt/media/image47.png" ContentType="image/png"/>
  <Override PartName="/ppt/media/image41.png" ContentType="image/png"/>
  <Override PartName="/ppt/media/image32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13.wmf" ContentType="image/x-wmf"/>
  <Override PartName="/ppt/media/image10.jpeg" ContentType="image/jpeg"/>
  <Override PartName="/ppt/media/image28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56.png" ContentType="image/png"/>
  <Override PartName="/ppt/media/image12.png" ContentType="image/png"/>
  <Override PartName="/ppt/media/image49.png" ContentType="image/png"/>
  <Override PartName="/ppt/media/image7.png" ContentType="image/png"/>
  <Override PartName="/ppt/media/image37.png" ContentType="image/png"/>
  <Override PartName="/ppt/media/image15.wmf" ContentType="image/x-wmf"/>
  <Override PartName="/ppt/media/image51.pct" ContentType="image/x-pict"/>
  <Override PartName="/ppt/media/image5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E55-A3D4-459E-9837-0A80D27D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C52-9072-4A00-969A-A35FA1DF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A94-844A-4796-B214-AAD4E243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CCF-9931-40F2-9D5F-D6880C35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C27-8C25-4390-A04E-919C7EBB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4AD-8445-4306-82BA-196ADBC7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F88-1632-4DDA-8B3E-FDD8DD83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D84-E4FB-4287-9D76-47FBEB84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D68-A41F-4B80-9E8A-F12C72ED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E5F-4E94-48D6-8A19-61ECD2C1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DB2-B5A1-47D1-992B-EDAB6F51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371-9CB0-4EF8-B579-D78EC20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AB30-7E96-4EFE-82D8-E34E7D44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www.neiu.edu/~lruecker/smrm.htm" TargetMode="External"/><Relationship Id="rId3" Type="http://schemas.openxmlformats.org/officeDocument/2006/relationships/hyperlink" Target="http://www.neiu.edu/~lruecker/smrm.htm" TargetMode="External"/><Relationship Id="rId4" Type="http://schemas.openxmlformats.org/officeDocument/2006/relationships/hyperlink" Target="http://www.neiu.edu/~lruecker/smrm.htm" TargetMode="Externa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image" Target="../media/image56.pn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e, AIBO; Run!</a:t>
            </a:r>
            <a:br>
              <a:rPr sz="44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IBO Motion and Vision Algorith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m Advisor: Ethan J. Tira-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ching Assistant: P. Matt Jen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am Members: Haoqian C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na Glassman, Chengjou Lia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antian Martin, Lisa Shank, Jon Stahl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590920" cy="17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celero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ch consists of a mass/spr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 force and displacement on joints as robot w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 graphed the way force varies with time to evaluate stability of new walk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igure596"/>
          <p:cNvPicPr/>
          <p:nvPr/>
        </p:nvPicPr>
        <p:blipFill>
          <a:blip r:embed="rId1"/>
          <a:stretch/>
        </p:blipFill>
        <p:spPr>
          <a:xfrm>
            <a:off x="4876920" y="1523880"/>
            <a:ext cx="3781440" cy="1809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3809880" cy="20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38840" cy="264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828800"/>
            <a:ext cx="4038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3962160" cy="255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735720" y="57150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arte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038840" cy="2438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429000" cy="2432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5360" y="5715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Half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76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265560"/>
            <a:ext cx="3429000" cy="234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778200" cy="232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8520" y="57913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ree Quarte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Upright Walk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s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MU RoboCup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5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Cup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190760" cy="2444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429000" cy="250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038840" y="57913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ull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ee,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AIBO,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veloped an algorithm that allows AIBO to follow a pink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adually improved algorithm based on perceive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9625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oes AIBO 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76360" y="4191120"/>
            <a:ext cx="28191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D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YU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14800" y="2438280"/>
          <a:ext cx="110484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438280"/>
                    <a:ext cx="11048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28600" y="2286000"/>
          <a:ext cx="230652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0"/>
                    <a:ext cx="23065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90920" y="3200400"/>
            <a:ext cx="12952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34320" y="2590920"/>
          <a:ext cx="167616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2590920"/>
                    <a:ext cx="1676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781680" y="4114800"/>
            <a:ext cx="213372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572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w Image Translated on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3200400"/>
            <a:ext cx="1295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5867280"/>
            <a:ext cx="1905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64832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I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egmented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91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IBO camera captures YUV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itmapped images are too large to send over network efficiently, so the images must be com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Video image after capture."/>
          <p:cNvPicPr/>
          <p:nvPr/>
        </p:nvPicPr>
        <p:blipFill>
          <a:blip r:embed="rId1"/>
          <a:stretch/>
        </p:blipFill>
        <p:spPr>
          <a:xfrm>
            <a:off x="5181480" y="121932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Video image after classification."/>
          <p:cNvPicPr/>
          <p:nvPr/>
        </p:nvPicPr>
        <p:blipFill>
          <a:blip r:embed="rId2"/>
          <a:stretch/>
        </p:blipFill>
        <p:spPr>
          <a:xfrm>
            <a:off x="5257800" y="426708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81680" y="3429000"/>
            <a:ext cx="0" cy="838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LE (Run-Length Encod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data is then converted into a series of color run tri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iplets are sent to the computer, where they are placed into an 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sion segmentation and run-length encoding is performed on board the AI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ne Following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gh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ck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2162160" cy="130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67280" y="304812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IB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4100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Leg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2935440" cy="34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52680" y="464832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o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ugh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resent a line in an image in a different way: Parameter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ample – a line in image space can be represent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 = mx + 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Hough method “transforms” this equation to parameter 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y - 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ugh Transform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discrete parameter space called an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ccumulato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s created.  All points in the original image are converted using Hough Transform into this parame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ints with the same slope and y-intercept are accumulated into the same cell of the accum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ighest cell is found, thus finding the most prominent line (marked in 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5029200"/>
            <a:ext cx="16765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486400" y="3733920"/>
          <a:ext cx="273384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733920"/>
                    <a:ext cx="273384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38080" y="3733920"/>
          <a:ext cx="2667240" cy="29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733920"/>
                    <a:ext cx="26672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838080" y="3733920"/>
          <a:ext cx="2657520" cy="29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6575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486400" y="3733920"/>
          <a:ext cx="2724120" cy="292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733920"/>
                    <a:ext cx="27241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838080" y="3733920"/>
          <a:ext cx="2657520" cy="292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3733920"/>
                    <a:ext cx="26575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ugh Transformation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ll almost always find the most prominen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gnores static and foreign objects (unless they have defined ed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1148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9625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lementation in a robot is too computationall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esses too slow for a real-time image, like the AIB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Hack Gains Grea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hac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is defined as an inelegant and usually temporary solution to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ronically, the hack line following algorithm we developed (with the help of Alok Ladsariya) became our best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asic Line Follow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ake in decoded segment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eate Region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rst each pixel is set to pink or not-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ive each pink region a unique number… remember PaintBuc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urn toward largest region on horizontal cent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48320" y="2117880"/>
          <a:ext cx="40384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17880"/>
                    <a:ext cx="40384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Basic Line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llowing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target – displayed as blue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intersection of largest region &amp;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rection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rns L if blue dot to L of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urns R if blue dot to R of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few fundamental assumptions allow us to keep the algorithm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ine will be the larges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line will cross the center row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tion: Lost = no regions exist in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lost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stop forward motion &amp; 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termine rotation direction by which side of image contained dot more common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 last 15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just direction with speed proportional to blue dot’s distance from cent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24280" y="2030400"/>
            <a:ext cx="3848400" cy="3148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905120"/>
          <a:ext cx="716256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16256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Dashed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breaks in the line trigger the ‘lost’ behavior brie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t even so, the break is not long enough to lose the dog comple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438640" cy="199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2438280" cy="1995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400800" y="3809880"/>
            <a:ext cx="2438280" cy="1995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971800" y="4800600"/>
            <a:ext cx="380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800600"/>
            <a:ext cx="3808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58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alking along happi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5943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HH!! BREAK IN THE LIN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5943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und line, walking along happi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15238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ranching 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anch recognized as on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average taken of all x values of region’s pixels in center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ce the shorter branch gets below center row, target jumps to longer branch (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4400" y="4876920"/>
            <a:ext cx="1828800" cy="1496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657600" y="4876920"/>
            <a:ext cx="1828800" cy="149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324480" y="4876920"/>
            <a:ext cx="1828800" cy="1496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895480" y="5562720"/>
            <a:ext cx="6098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562720"/>
            <a:ext cx="609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istory of A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ny’s Entertainment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IBO – Artificially Intelligent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 aibo – Japanese for “compan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iginally intended for purchase by hom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nd to be a relatively cheap, versatile platform that could be used by educators and resear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g can lose line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ecial case: line slopes toward center of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lope-Opposite-Direc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more blue do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bove and below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d to find slope of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special case tr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promise and g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raig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361960" cy="193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2361960" cy="1932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238880" y="3429000"/>
            <a:ext cx="0" cy="7621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nsolved Algorithm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tremely sharp curves (&lt; 90 de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ilar to branching issue (but more troubles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rrent algorithm averages X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ds for center between two intersections of line with center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76720" y="4557600"/>
            <a:ext cx="2438280" cy="19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: Follow the Li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means don’t follow 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possible solution:  Shape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ature Ex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scribe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476800" cy="2025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638680" y="4114800"/>
            <a:ext cx="2438640" cy="1995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58000" y="365760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0080" y="5105520"/>
            <a:ext cx="190512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56386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ILU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the Future: Feature Ex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atures easy to mea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anularity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how can their measurements be combined </a:t>
            </a:r>
            <a:r>
              <a:rPr b="1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eci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pothesis: AIBO should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st elong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ast gra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on in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lon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tio of Perimeter to Area of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computer vision, called “Compact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 = (P^2) /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rcle = most co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y to differentiate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re compact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nd th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378160"/>
            <a:ext cx="4038480" cy="297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ranularity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rpose: distinguish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ear lines and grainy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om each pixel at the boundary of 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ray extends until another pink pixel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anularity Measurement = sum of all rays’ leng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48320" y="1987560"/>
          <a:ext cx="403848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7560"/>
                    <a:ext cx="4038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ndar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 pick the best region, one can combine the thre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argeness, Compactness, &amp; Grainy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have their own scales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standardizatio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levant </a:t>
            </a:r>
            <a:r>
              <a:rPr b="1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easurement for a region relative to all other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257800" y="2643120"/>
            <a:ext cx="2819520" cy="2438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60720" y="5257800"/>
            <a:ext cx="37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eiu.edu/~lruecker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mrm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2960" y="2133720"/>
            <a:ext cx="29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fferent is this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rformance vs.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658880" y="1600200"/>
          <a:ext cx="58262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600200"/>
                    <a:ext cx="58262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Live</a:t>
            </a:r>
            <a:br>
              <a:rPr sz="9600"/>
            </a:b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Different Walk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ffect Line-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ow velocity vs. high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nter of gravity affects slip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mera level a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se of getting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cision of lin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IBO: Technical Specif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 bit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0 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le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frared Distance Sen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ssure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Kitchen 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429000" cy="28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al 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lok Ladsar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. David Touretz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eg Kes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MU School of Computer Science and Robotics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ela Veloso &amp; CMU Robo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M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038480" cy="225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y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562720" y="3657600"/>
            <a:ext cx="207000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1170000" cy="151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2862360" cy="1692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2209680" y="152388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1523880" y="3200400"/>
            <a:ext cx="171468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4267080" y="3048120"/>
            <a:ext cx="1629000" cy="162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age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ai.ed.ac.uk/HIPR2/hough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ai.ed.ac.uk/CVonline/LOCAL_COPIES/MARBLE/medium/contours/feature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physik.uni-osnabrueck.de/nonlinop/Hough/LineHough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ri.cmu.edu/labs/lab_60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nynatur.dk/artikler/artikel_tekster/robo_pet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003.upp.so_net.ne.jp/studio_mm/kameo/kameo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opus.co.jp/products/aib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generation5.org/aibo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ohta-kyoko.com/aibo/aibo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vdelnevo.co.uk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d2.dion.ne.jp/~narumifu/diar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21stcentury.co.uk/robotics/aibo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gitalcamera.gr.jp/html/HotNews/backno/HotNews001001-31.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.seaple.icc.ne.jp/~somari/aib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ww-2.cs.cmu.edu/afs/cs/project/robosoccer/www/legged/legged-team.html#pub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crma-www.stanford.edu/CCRMA/Courses/252/sensors/node9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http://www.icaen.uiowa.edu/~dip/LECTURE/Shape3.html#sca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ekkot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 framework for AI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der development at CMU’s Robotic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kkotsuMon - server-side interface to code running on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accomplish our goals, we built upon Tekkotsu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r advisor, Ethan Tira-Thompson, is a chief researcher for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un,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AIBO,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iginally attempted to stabilize image from AIBO’s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ftwar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w walking 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dified wal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d performance using acceler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bility vs.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96252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Our Walk Was Develo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4038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kkotsu’s default walk is taken from CMU’s RoboCup socc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r new motion was created by modifying this walk’s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895480"/>
            <a:ext cx="4190760" cy="255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t Your Move 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3810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the TekkotsuMon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429000" cy="2432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4141800" cy="223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2819520"/>
            <a:ext cx="4332240" cy="345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3535"/>
            </a:gs>
            <a:gs pos="50000">
              <a:srgbClr val="6db1fb"/>
            </a:gs>
            <a:gs pos="100000">
              <a:srgbClr val="35353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ging Things Up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343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f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wn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f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w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Height/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ition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p and S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593880" cy="270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1:39:08Z</dcterms:created>
  <dc:creator>cjliao</dc:creator>
  <dc:description/>
  <dc:language>en-US</dc:language>
  <cp:lastModifiedBy>Computing Services</cp:lastModifiedBy>
  <dcterms:modified xsi:type="dcterms:W3CDTF">2003-08-01T19:38:52Z</dcterms:modified>
  <cp:revision>51</cp:revision>
  <dc:subject/>
  <dc:title>See, AIBO; Run AIBO Motion and Vision Algorithms</dc:title>
</cp:coreProperties>
</file>