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9.png" ContentType="image/png"/>
  <Override PartName="/ppt/media/image14.wmf" ContentType="image/x-wmf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18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20.wmf" ContentType="image/x-wmf"/>
  <Override PartName="/ppt/media/image5.jpeg" ContentType="image/jpeg"/>
  <Override PartName="/ppt/media/image50.png" ContentType="image/png"/>
  <Override PartName="/ppt/media/image6.jpeg" ContentType="image/jpeg"/>
  <Override PartName="/ppt/media/image16.wmf" ContentType="image/x-wmf"/>
  <Override PartName="/ppt/media/image8.png" ContentType="image/png"/>
  <Override PartName="/ppt/media/image38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53.jpeg" ContentType="image/jpeg"/>
  <Override PartName="/ppt/media/image44.png" ContentType="image/png"/>
  <Override PartName="/ppt/media/image33.png" ContentType="image/png"/>
  <Override PartName="/ppt/media/image45.png" ContentType="image/png"/>
  <Override PartName="/ppt/media/image43.png" ContentType="image/png"/>
  <Override PartName="/ppt/media/image57.jpeg" ContentType="image/jpeg"/>
  <Override PartName="/ppt/media/image46.png" ContentType="image/png"/>
  <Override PartName="/ppt/media/image35.png" ContentType="image/png"/>
  <Override PartName="/ppt/media/image47.png" ContentType="image/png"/>
  <Override PartName="/ppt/media/image41.png" ContentType="image/png"/>
  <Override PartName="/ppt/media/image32.png" ContentType="image/png"/>
  <Override PartName="/ppt/media/image11.png" ContentType="image/png"/>
  <Override PartName="/ppt/media/image48.png" ContentType="image/png"/>
  <Override PartName="/ppt/media/image52.png" ContentType="image/png"/>
  <Override PartName="/ppt/media/image13.wmf" ContentType="image/x-wmf"/>
  <Override PartName="/ppt/media/image10.jpeg" ContentType="image/jpeg"/>
  <Override PartName="/ppt/media/image28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56.png" ContentType="image/png"/>
  <Override PartName="/ppt/media/image12.png" ContentType="image/png"/>
  <Override PartName="/ppt/media/image49.png" ContentType="image/png"/>
  <Override PartName="/ppt/media/image7.png" ContentType="image/png"/>
  <Override PartName="/ppt/media/image37.png" ContentType="image/png"/>
  <Override PartName="/ppt/media/image15.wmf" ContentType="image/x-wmf"/>
  <Override PartName="/ppt/media/image51.pct" ContentType="image/x-pict"/>
  <Override PartName="/ppt/media/image5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793-F41A-4C12-AEB7-BABF353D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359-F99F-44EC-B349-A0C36716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0EC-5BCA-4946-9E44-6A35878B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D9F-A58E-4F49-859B-0E23996F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66B-F24A-4E03-A1F9-9CC671B3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E33-A333-441F-BC2D-CDC58811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EDE-2AF9-4D1D-B723-B26423B4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91D-1757-4CCC-80D8-E50E8A07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6FF-75C9-4CAE-86D7-1E9C43B6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1C4-FFF9-4A90-AE5B-22D2D46A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AA7-D71D-476A-8F59-DB304DF9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955-9D7F-4D2D-953B-1E270C5A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2187-3BD1-4153-BD83-41B327969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www.neiu.edu/~lruecker/smrm.htm" TargetMode="External"/><Relationship Id="rId3" Type="http://schemas.openxmlformats.org/officeDocument/2006/relationships/hyperlink" Target="http://www.neiu.edu/~lruecker/smrm.htm" TargetMode="External"/><Relationship Id="rId4" Type="http://schemas.openxmlformats.org/officeDocument/2006/relationships/hyperlink" Target="http://www.neiu.edu/~lruecker/smrm.htm" TargetMode="Externa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e, AIBO; Run!</a:t>
            </a:r>
            <a:br>
              <a:rPr sz="44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IBO Motion and Vision Algorith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03848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am Advisor: Ethan J. Tira-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aching Assistant: P. Matt Jen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am Members: Haoqian Ch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na Glassman, Chengjou Lia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ntian Martin, Lisa Shank, Jon Stah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590920" cy="17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celero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ch consists of a mass/spr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 force and displacement on joints as robot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 graphed the way force varies with time to evaluate stability of new walk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figure596"/>
          <p:cNvPicPr/>
          <p:nvPr/>
        </p:nvPicPr>
        <p:blipFill>
          <a:blip r:embed="rId1"/>
          <a:stretch/>
        </p:blipFill>
        <p:spPr>
          <a:xfrm>
            <a:off x="4876920" y="1523880"/>
            <a:ext cx="3781440" cy="1809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809880" cy="20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038840" cy="264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828800"/>
            <a:ext cx="4038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3962160" cy="2557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35720" y="57150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arter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038840" cy="243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429000" cy="2432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5360" y="57150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alf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3265560"/>
            <a:ext cx="3429000" cy="2349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778200" cy="232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8520" y="579132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ree Quarter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55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190760" cy="2444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429000" cy="250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840" y="57913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ull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ee,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AIBO,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ed an algorithm that allows AIBO to follow a pi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adually improved algorithm based on perceive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96252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oes AIBO 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76360" y="4191120"/>
            <a:ext cx="2819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D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YU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114800" y="2438280"/>
          <a:ext cx="110484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438280"/>
                    <a:ext cx="11048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28600" y="2286000"/>
          <a:ext cx="230652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86000"/>
                    <a:ext cx="23065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590920" y="3200400"/>
            <a:ext cx="1295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934320" y="2590920"/>
          <a:ext cx="167616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2590920"/>
                    <a:ext cx="1676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781680" y="4114800"/>
            <a:ext cx="213372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572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w Image Translated on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200400"/>
            <a:ext cx="12956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5867280"/>
            <a:ext cx="1905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RG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64832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I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gmented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91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IBO camera captures YUV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tmapped images are too large to send over network efficiently, so the images must be com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Video image after capture."/>
          <p:cNvPicPr/>
          <p:nvPr/>
        </p:nvPicPr>
        <p:blipFill>
          <a:blip r:embed="rId1"/>
          <a:stretch/>
        </p:blipFill>
        <p:spPr>
          <a:xfrm>
            <a:off x="5181480" y="121932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Video image after classification."/>
          <p:cNvPicPr/>
          <p:nvPr/>
        </p:nvPicPr>
        <p:blipFill>
          <a:blip r:embed="rId2"/>
          <a:stretch/>
        </p:blipFill>
        <p:spPr>
          <a:xfrm>
            <a:off x="5257800" y="42670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781680" y="3429000"/>
            <a:ext cx="0" cy="838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LE (Run-Length Encod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data is then converted into a series of color run tri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iplets are sent to the computer, where they are placed into an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sion segmentation and run-length encoding is performed on board the AI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ne Following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gh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ck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2162160" cy="130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67280" y="3048120"/>
            <a:ext cx="167652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B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54100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Leg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24080" y="1143000"/>
            <a:ext cx="293544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52680" y="464832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o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ugh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present a line in an image in a different way: Paramete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 – a line in image space can be represen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 = mx + y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Hough method “transforms” this equation to parameter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y - 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ugh Transformation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discrete parameter space called an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ccumulato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s created.  All points in the original image are converted using Hough Transform into this parame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ints with the same slope and y-intercept are accumulated into the same cell of the accum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ighest cell is found, thus finding the most prominent line (marked in 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5029200"/>
            <a:ext cx="16765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486400" y="3733920"/>
          <a:ext cx="273384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733920"/>
                    <a:ext cx="273384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38080" y="3733920"/>
          <a:ext cx="2667240" cy="29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733920"/>
                    <a:ext cx="266724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838080" y="3733920"/>
          <a:ext cx="2657520" cy="29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733920"/>
                    <a:ext cx="26575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486400" y="3733920"/>
          <a:ext cx="2724120" cy="292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733920"/>
                    <a:ext cx="27241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38080" y="3733920"/>
          <a:ext cx="2657520" cy="292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3733920"/>
                    <a:ext cx="26575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ugh Transformatio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ll almost always find the most prominen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gnores static and foreign objects (unless they have defined ed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1148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9625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lementation in a robot is too computationall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cesses too slow for a real-time image, like the AIB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Hack Gains Grea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hac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s defined as an inelegant and usually temporary solution to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ronically, the hack line following algorithm we developed (with the help of Alok Ladsariya) became our best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Basic Line Follow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ke in decoded segmente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eate Region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rst each pixel is set to pink or not-p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ive each pink region a unique number… remember PaintBu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rn toward largest region on horizontal cent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48320" y="2117880"/>
          <a:ext cx="403848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17880"/>
                    <a:ext cx="403848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Basic Line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llow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target – displayed as blue 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intersection of largest region &amp; center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rection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urns L if blue dot to L of cent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urns R if blue dot to R of cent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few fundamental assumptions allow us to keep the algorithm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ine will be the larges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ine will cross the center row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tion: Lost = no regions exist in center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lost </a:t>
            </a: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stop forward motion &amp; r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termine rotation direction by which side of image contained dot more comm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 last 15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just direction with speed proportional to blue dot’s distance from cent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24280" y="2030400"/>
            <a:ext cx="3848400" cy="3148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905120"/>
          <a:ext cx="71625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1625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Dashe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breaks in the line trigger the ‘lost’ behavior brie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t even so, the break is not long enough to lose the dog comple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438640" cy="1995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2438280" cy="1995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438280" cy="1995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71800" y="4800600"/>
            <a:ext cx="3808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800600"/>
            <a:ext cx="3808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58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lking along happi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5943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HH!! BREAK IN THE LIN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5943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und line, walking along happi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15238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ranching 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anch recognized as on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average taken of all x values of region’s pixels in center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the shorter branch gets below center row, target jumps to longer branch (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4876920"/>
            <a:ext cx="1828800" cy="1496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657600" y="4876920"/>
            <a:ext cx="1828800" cy="149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324480" y="4876920"/>
            <a:ext cx="1828800" cy="1496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895480" y="5562720"/>
            <a:ext cx="6098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5627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istory of AI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ny’s Entertainment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IBO – Artificially Intelligent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 aibo – Japanese for “compan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iginally intended for purchase by hom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und to be a relatively cheap, versatile platform that could be used by educators and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g can lose line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pecial case: line slopes toward center of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lope-Opposite-Dir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more blue do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bove and below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d to find slope of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special case tr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mpromise and go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traig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361960" cy="193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2361960" cy="1932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238880" y="3429000"/>
            <a:ext cx="0" cy="7621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nsolved 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tremely sharp curves (&lt; 90 de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ilar to branching issue (but more troubles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rrent algorithm averages X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ads for center between two intersections of line with center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76720" y="4557600"/>
            <a:ext cx="2438280" cy="19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: Follow the Li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means don’t follow 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possible solution:  Shape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ature Ex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cribe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476800" cy="2025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2438640" cy="1995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58000" y="365760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10080" y="5105520"/>
            <a:ext cx="190512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5638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IL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the Future: Feature Ex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atures easy to mea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anularity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how can their measurements be combined </a:t>
            </a:r>
            <a:r>
              <a:rPr b="1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ec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pothesis: AIBO should cho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st elon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ast gra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on in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tio of Perimeter to Area of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computer vision, called “Compactn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 = (P^2)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ircle = most co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ay to differentiate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re compact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d th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378160"/>
            <a:ext cx="4038480" cy="297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ranularity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rpose: distinguish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ear lines and grainy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om each pixel at the boundary of 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ray extends until another pink pixel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anularity Measurement = sum of all rays’ leng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48320" y="1987560"/>
          <a:ext cx="4038480" cy="37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7560"/>
                    <a:ext cx="403848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andard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 pick the best region, one can combine the thre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rgeness, Compactness, &amp; Grainy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have their own scales </a:t>
            </a: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standardizatio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levant </a:t>
            </a: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easurement for a region relative to all other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257800" y="2643120"/>
            <a:ext cx="2819520" cy="2438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60720" y="5257800"/>
            <a:ext cx="37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eiu.edu/~lruecker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mrm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2960" y="2133720"/>
            <a:ext cx="29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fferent is this poi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erformance vs.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58880" y="1600200"/>
          <a:ext cx="58262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600200"/>
                    <a:ext cx="5826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Live</a:t>
            </a:r>
            <a:br>
              <a:rPr sz="9600"/>
            </a:b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Different Walk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ffect Line-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w velocity vs. high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nter of gravity affects slip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mera level a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se of getting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cision of lin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BO: Technical Spec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 bit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 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l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frared Distance Se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ssure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Kitchen 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429000" cy="28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al Thank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ok Ladsar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r. David Touretz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eg Kes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MU School of Computer Science and Robotics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ela Veloso &amp; CMU Robo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M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038480" cy="225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y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562720" y="3657600"/>
            <a:ext cx="20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1170000" cy="151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2862360" cy="16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2209680" y="15238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1523880" y="3200400"/>
            <a:ext cx="171468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4267080" y="3048120"/>
            <a:ext cx="1629000" cy="162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age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dai.ed.ac.uk/HIPR2/hough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dai.ed.ac.uk/CVonline/LOCAL_COPIES/MARBLE/medium/contours/feature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physik.uni-osnabrueck.de/nonlinop/Hough/LineHough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ri.cmu.edu/labs/lab_60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nynatur.dk/artikler/artikel_tekster/robo_pet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003.upp.so_net.ne.jp/studio_mm/kameo/kameo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opus.co.jp/products/aib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generation5.org/aibo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ohta-kyoko.com/aibo/aibo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vdelnevo.co.uk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d2.dion.ne.jp/~narumifu/diary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21stcentury.co.uk/robotics/aibo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gitalcamera.gr.jp/html/HotNews/backno/HotNews001001-31.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seaple.icc.ne.jp/~somari/aibo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-2.cs.cmu.edu/afs/cs/project/robosoccer/www/legged/legged-team.html#pub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crma-www.stanford.edu/CCRMA/Courses/252/sensors/node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http://www.icaen.uiowa.edu/~dip/LECTURE/Shape3.html#sca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kkot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lication framework for AI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der development at CMU’s Robotic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kkotsuMon - server-side interface to code running on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accomplish our goals, we built upon Tekkotsu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r advisor, Ethan Tira-Thompson, is a chief researcher for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un,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AIBO,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iginally attempted to stabilize image from AIBO’s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oftwar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w walking 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dified walk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d performance using accelero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bility vs.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96252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Our Walk Was Develo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4038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kkotsu’s default walk is taken from CMU’s RoboCup soccer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r new motion was created by modifying this walk’s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190760" cy="255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t Your Move 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3810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the TekkotsuMon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429000" cy="2432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3886200"/>
            <a:ext cx="4141800" cy="223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280" y="2819520"/>
            <a:ext cx="4332240" cy="34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ging Things Up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ift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wn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if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w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dy Height/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sition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op and S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3593880" cy="270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1:39:08Z</dcterms:created>
  <dc:creator>cjliao</dc:creator>
  <dc:description/>
  <dc:language>en-US</dc:language>
  <cp:lastModifiedBy>Computing Services</cp:lastModifiedBy>
  <dcterms:modified xsi:type="dcterms:W3CDTF">2003-08-01T19:38:52Z</dcterms:modified>
  <cp:revision>51</cp:revision>
  <dc:subject/>
  <dc:title>See, AIBO; Run AIBO Motion and Vision Algorithms</dc:title>
</cp:coreProperties>
</file>