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8C3-FED9-4B49-8B57-28C94354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32B-BA34-4B89-B2ED-068BFAE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FEF-F67A-4DF5-9215-C46B784A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4B-8097-48C8-8CBC-61D80266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F028-0A00-4FEF-908A-844407A9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D16C-C8E0-4FF6-A0E0-91A5503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7740-FB4F-44BC-9DD3-3745A40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5469-D488-4B6E-88F5-AD97099A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C9F-D791-4F3C-BC0C-8484CB5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2F96-BF3F-4233-8385-5B4F70BE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4064-3B90-4617-AD32-A7F7473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1B1-020E-4D88-B943-D610F15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BF9-5189-4483-A4AE-BA2DFB83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E554-92D6-4F01-A474-07575CE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C06D-B6F6-4F0B-A605-C750224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E891-EF20-4DDB-A6FE-DB530D70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020-5465-43D2-9E49-82CDF2A4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6D4-9244-4D38-8595-09A79F47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5A4-3D34-4346-8457-4A5FC2B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254-FE24-4C16-A62E-B323FFB1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D12-1224-4C68-83DC-AD3F13B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017-70FC-42BE-8EBD-9D7E2FF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4F1-3F2F-41C1-800D-040E80A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2BF-CEF7-43D5-A9F1-D9896ED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7DB-E79B-4DBE-8FD4-431A860000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1B4E-7D9D-40A5-9269-9478A26C5D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utomatic Panorama Gener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klos Bergo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1: Find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ter each using a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eigenvalues of [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at each pix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 given by pixels with two large eigenvalues, ratio between them close t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124440" cy="223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76720" y="4495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2: Match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ute force search over feature points (SS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AC (RANdom SAmple Consens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subsets of matched points to calculate ho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which feature points line 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matched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168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424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1680" y="430056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94240" y="4300560"/>
            <a:ext cx="250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end into compos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level b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Gaussian blur of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placian = Original –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Gaussian using linear weig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Laplacian by taking higher alp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Gaussian and Laplacian back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Blended Panora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19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4647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13:22Z</dcterms:created>
  <dc:creator>Miklos Bergou</dc:creator>
  <dc:description/>
  <dc:language>en-US</dc:language>
  <cp:lastModifiedBy>Miklos Bergou</cp:lastModifiedBy>
  <dcterms:modified xsi:type="dcterms:W3CDTF">2004-12-09T13:39:39Z</dcterms:modified>
  <cp:revision>2</cp:revision>
  <dc:subject/>
  <dc:title>Automatic Panorama Generation</dc:title>
</cp:coreProperties>
</file>