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996-3162-475D-ACDE-DAB32E5F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F24-E5B8-4A62-8EDD-61886E81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C92-5E1F-455F-AEC6-EFC45BCD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2167-F397-431E-B479-0B5E72A0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AC9E-2A53-4F77-B0D5-690D84CB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A29C-1949-4F61-98CE-E64C8CE0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17F7-C004-4E82-8D01-7006D273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AF98-EF47-40EC-9209-59A67AB9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E79B-3A18-47F9-85DB-05D76DDE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7666-A82A-4016-AABF-DA0A36D0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116E-046F-4A2A-ACE9-A83F98E0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C51-2AE1-4057-9A6C-923B380F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60CB-A863-4FEF-9192-1B7F76AD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7B93-A56D-4F18-8E47-30C1A3D1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9B51-BF8E-4AC8-AEDB-26BB4320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97F9-4716-4A29-8456-12685B53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8DBB-92F5-475B-9A8A-6072D16D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814-6D5D-4C9B-8884-0789EB77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587-4B92-4A28-B48B-AE99405F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25B-AF0C-4EB9-8427-EAB924E3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CDE-09F7-4776-98D6-620C8752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8F1-A2F0-42B2-8E93-0887083E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2D0-460F-47F6-8380-84697D67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701-8FA4-4653-B448-7FFBD965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710E-396B-41AE-8BB7-3ADD243496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AB5D-3547-43B5-AFDC-83031793D11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utomatic Panorama Gener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klos Bergou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p 1: Find feature po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cul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each im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lter each using a Gaussi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eigenvalues of [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y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] at each pix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atures given by pixels with two large eigenvalues, ratio between them close to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3124440" cy="2230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feature po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76720" y="4495680"/>
            <a:ext cx="32763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p 2: Match feature po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ute force search over feature points (SS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NSAC (RANdom SAmple Consensu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e subsets of matched points to calculate homograp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which feature points line 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matched po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1680" y="2362320"/>
            <a:ext cx="2502000" cy="178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94240" y="2362320"/>
            <a:ext cx="2502000" cy="178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471680" y="4300560"/>
            <a:ext cx="2502000" cy="178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94240" y="4300560"/>
            <a:ext cx="2502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lend into compos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level blen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culate Gaussian blur of each im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placian = Original – Gaussi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end Gaussian using linear weigh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end Laplacian by taking higher alph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Gaussian and Laplacian back toge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Blended Panora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647960" cy="1985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46479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3:13:22Z</dcterms:created>
  <dc:creator>Miklos Bergou</dc:creator>
  <dc:description/>
  <dc:language>en-US</dc:language>
  <cp:lastModifiedBy>Miklos Bergou</cp:lastModifiedBy>
  <dcterms:modified xsi:type="dcterms:W3CDTF">2004-12-09T13:39:39Z</dcterms:modified>
  <cp:revision>2</cp:revision>
  <dc:subject/>
  <dc:title>Automatic Panorama Generation</dc:title>
</cp:coreProperties>
</file>