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70B-FC5C-44CB-994E-D6D513D1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262F-8A0E-4668-A1FA-E9AE418B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34E-078D-450B-A578-B0C3B89C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F0C4-8EF7-42D6-9D1E-4D37B814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ECD8-E26E-450A-A6E8-9883AD7A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F06B-1780-4ACE-9BE5-87023CCE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0B66-0E07-448C-866A-BCEF49C9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784E-5E7B-4AEF-86F7-4F0F38FF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9F51-206E-4DE1-9375-E2EBCC4B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CE32-DF7D-42BB-B1D5-8E2DA221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234A-C898-44DF-B7FE-B13CC932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8D90-0334-4E54-817A-FFC0E82A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F439-126E-4BB2-83D9-184755F4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FA73-5001-4129-AD3D-D3821338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2CFA-9714-4A56-B4AA-EAD90E4E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DB78-29AE-412A-A69A-41F3FF10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4C5B-3BEF-4DEE-B2E1-C8311EC6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131-8F1C-4ECD-A1C3-8D3EC05F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B40-2CC1-4F13-8EFC-A2F49BFD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526C-4DBD-474F-89E7-8434388E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EB7C-DDB5-4ACB-ACD8-EF631BFD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150A-DFBC-43BE-AA03-E78C0362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57D-5499-475E-9521-725C30C3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DA7-91B0-4B56-87E7-56CC9F86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0435-77F8-4BB7-A2FC-0A61F3CA2F8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7406-D0C3-4F97-ABA6-99C58ACD390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utomatic Panorama Gener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iklos Bergou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ep 1: Find feature po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lculat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x</a:t>
            </a:r>
            <a:r>
              <a:rPr b="0" i="1" lang="en-US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y</a:t>
            </a:r>
            <a:r>
              <a:rPr b="0" i="1" lang="en-US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 each im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lter each using a Gaussi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d eigenvalues of [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x</a:t>
            </a:r>
            <a:r>
              <a:rPr b="0" i="1" lang="en-US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y</a:t>
            </a:r>
            <a:r>
              <a:rPr b="0" i="1" lang="en-US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] at each pix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atures given by pixels with two large eigenvalues, ratio between them close to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3124440" cy="2230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feature po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410080" y="2362320"/>
            <a:ext cx="320040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276720" y="4495680"/>
            <a:ext cx="32763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ep 2: Match feature po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ute force search over feature points (SS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NSAC (RANdom SAmple Consensu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ose subsets of matched points to calculate homograp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e which feature points line 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matched po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71680" y="2362320"/>
            <a:ext cx="2502000" cy="178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94240" y="2362320"/>
            <a:ext cx="2502000" cy="1785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471680" y="4300560"/>
            <a:ext cx="2502000" cy="1785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394240" y="4300560"/>
            <a:ext cx="2502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lend into compos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level blen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lculate Gaussian blur of each im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placian = Original – Gaussi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lend Gaussian using linear weigh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lend Laplacian by taking higher alph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Gaussian and Laplacian back toget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Blended Panora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4647960" cy="1985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133720" y="4419720"/>
            <a:ext cx="46479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3:13:22Z</dcterms:created>
  <dc:creator>Miklos Bergou</dc:creator>
  <dc:description/>
  <dc:language>en-US</dc:language>
  <cp:lastModifiedBy>Miklos Bergou</cp:lastModifiedBy>
  <dcterms:modified xsi:type="dcterms:W3CDTF">2004-12-09T13:39:39Z</dcterms:modified>
  <cp:revision>2</cp:revision>
  <dc:subject/>
  <dc:title>Automatic Panorama Generation</dc:title>
</cp:coreProperties>
</file>