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7B8-8238-4795-A515-4BB7F650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F4B-7E04-4953-A99D-94214E4B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3CA-FD06-4F9C-B1A9-AAFEBB47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D49-A1DF-40AB-BBF1-942A6D18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0E61-7C89-4D92-AD89-F1316249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2FF8-9B5F-473E-B3E2-29E4067C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8952-A545-4A60-A513-F9B929E1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1917-0210-441F-B411-A4B15DFE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DC4C-B2C5-4022-BDA7-F1A910A3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DCF4-C01D-44B3-9E4B-68EDF398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F415-D26D-445C-8086-E8939C44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B2D-92C7-4F2C-8A73-64989FC1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79E1-B77E-4D28-A909-29BB2464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244-97CE-47F5-81E9-82331C85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E1D6-960A-4C0B-9331-5962C554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7D81-A7C2-40EB-A86A-39759C57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AA27-36C7-4059-B1A7-D4561617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47A-814A-420E-B5E8-9D4B5A4A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1EE-3A13-4B1E-9F0E-8B94BABA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224-247E-4DDC-B927-A7A21E99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6BE-30C6-461C-9A1D-7BE9CD99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21B-6368-40A1-B028-9B0ED80B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B69-24A0-49F6-9E6B-69E635B2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3E4-133B-47A0-992D-67209435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0838-66A0-49C8-9135-6C67AA9666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254E-8E22-4F85-904F-087874801A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amera Calibration and Better Cylindrical Panoram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u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cameras have barrel distortion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2548080" cy="190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651640" y="3141720"/>
            <a:ext cx="2417760" cy="1125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068360" y="386064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724360" y="4292640"/>
            <a:ext cx="1173240" cy="500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173240" cy="500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724360" y="4869000"/>
            <a:ext cx="1173240" cy="5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does this $800 Camera perform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016160" cy="3013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18880" y="5013360"/>
            <a:ext cx="287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id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. focal length: 28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%” Barrel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7240" y="5013360"/>
            <a:ext cx="29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ele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. focal length: 2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2880" y="62373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Source: dprevie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b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oolbox by Jean-Yves Bougu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6134040" cy="43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 &amp; Resul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kc = [-0.25349 0.11868 0.00028 0.00005 0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alpha_c = 0.00042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fc = [657.30254 657.74391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cc = [302.71656 242.33386]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91976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distorted Im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26420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981680" y="4448160"/>
            <a:ext cx="3605040" cy="9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60400" y="4422600"/>
            <a:ext cx="2840040" cy="76320"/>
          </a:xfrm>
          <a:custGeom>
            <a:avLst/>
            <a:gdLst/>
            <a:ahLst/>
            <a:rect l="l" t="t" r="r" b="b"/>
            <a:pathLst>
              <a:path w="1789" h="48">
                <a:moveTo>
                  <a:pt x="0" y="0"/>
                </a:moveTo>
                <a:cubicBezTo>
                  <a:pt x="302" y="16"/>
                  <a:pt x="604" y="32"/>
                  <a:pt x="902" y="40"/>
                </a:cubicBezTo>
                <a:cubicBezTo>
                  <a:pt x="1200" y="48"/>
                  <a:pt x="1494" y="47"/>
                  <a:pt x="1789" y="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nora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time, no vertical offset allow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the “error” with and without calib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when is the deadline again? (w/o using any late days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57:33Z</dcterms:created>
  <dc:creator>kpc</dc:creator>
  <dc:description/>
  <dc:language>en-US</dc:language>
  <cp:lastModifiedBy>kpc</cp:lastModifiedBy>
  <dcterms:modified xsi:type="dcterms:W3CDTF">2004-12-09T15:12:48Z</dcterms:modified>
  <cp:revision>21</cp:revision>
  <dc:subject/>
  <dc:title>Camera Calibration and Better Cylindrical Panorama</dc:title>
</cp:coreProperties>
</file>