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4FC-03F4-4AF4-B128-BEA20947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71E-4B1D-4286-B5EC-431331D1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9D0-417F-4F9D-9422-277A599D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595-1E1E-4638-AD61-3300F4E0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7FE6-7DA1-4CA5-984D-DC70090A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FCE7-F0D6-4D68-8120-EFE5A6B1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5B46-7207-4413-BA75-6BBE41DC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1432-AD39-41AA-9A5B-EDB53343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8244-B671-467B-8727-92C3718D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2CF9-E533-4485-A12B-7B8D11B3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5C44-136B-4A64-9C65-E01AF95A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B31-0C05-4810-AB44-1FDB39C9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B39C-DF70-4F46-BD14-D561B99E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3789-38AD-4414-84D3-899A4638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CA1A-2A1D-4B35-A676-74560468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2BCF-A34B-4956-BA5A-B17DE210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7F42-8467-4230-A10D-63A743BD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691-FEB5-4C8A-AB9E-B92EE41D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EB0-2FA8-4750-B3FA-9314A11E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DDB-6DF4-48B8-B504-601D7EC6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9E4-123B-4DA5-9651-417601C5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7547-C441-4C71-9FBD-58032893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2B2-1A05-42EE-B84D-40227433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3FB-5A7D-4CF0-81F1-7BA63B6C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64CF-E043-41B0-BBC2-4187010C02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99EE-CFD4-4F38-9A04-DE87146A58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amera Calibration and Better Cylindrical Panoram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u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cameras have barrel distortion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87280" y="3141720"/>
            <a:ext cx="2548080" cy="190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651640" y="3141720"/>
            <a:ext cx="2417760" cy="1125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068360" y="386064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724360" y="4292640"/>
            <a:ext cx="1173240" cy="500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1173240" cy="500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724360" y="4869000"/>
            <a:ext cx="1173240" cy="50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does this $800 Camera perform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016160" cy="3013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18880" y="5013360"/>
            <a:ext cx="287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id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. focal length: 28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%” Barrel 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7240" y="5013360"/>
            <a:ext cx="29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ele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. focal length: 2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2880" y="623736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Source: dprevie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b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oolbox by Jean-Yves Bougu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6134040" cy="43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ula &amp; Resul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kc = [-0.25349 0.11868 0.00028 0.00005 0]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alpha_c = 0.00042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fc = [657.30254 657.74391]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cc = [302.71656 242.33386]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4919760" cy="27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distorted Im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264200" cy="3197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981680" y="4448160"/>
            <a:ext cx="3605040" cy="9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60400" y="4422600"/>
            <a:ext cx="2840040" cy="76320"/>
          </a:xfrm>
          <a:custGeom>
            <a:avLst/>
            <a:gdLst/>
            <a:ahLst/>
            <a:rect l="l" t="t" r="r" b="b"/>
            <a:pathLst>
              <a:path w="1789" h="48">
                <a:moveTo>
                  <a:pt x="0" y="0"/>
                </a:moveTo>
                <a:cubicBezTo>
                  <a:pt x="302" y="16"/>
                  <a:pt x="604" y="32"/>
                  <a:pt x="902" y="40"/>
                </a:cubicBezTo>
                <a:cubicBezTo>
                  <a:pt x="1200" y="48"/>
                  <a:pt x="1494" y="47"/>
                  <a:pt x="1789" y="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nora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time, no vertical offset allow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 the “error” with and without calib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when is the deadline again? (w/o using any late days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3:57:33Z</dcterms:created>
  <dc:creator>kpc</dc:creator>
  <dc:description/>
  <dc:language>en-US</dc:language>
  <cp:lastModifiedBy>kpc</cp:lastModifiedBy>
  <dcterms:modified xsi:type="dcterms:W3CDTF">2004-12-09T15:12:48Z</dcterms:modified>
  <cp:revision>21</cp:revision>
  <dc:subject/>
  <dc:title>Camera Calibration and Better Cylindrical Panorama</dc:title>
</cp:coreProperties>
</file>