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E78-1C93-49E3-8440-62D79273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54F-EF0C-418B-8AA4-30A04319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807-0979-4DD4-B7E1-B9706732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4D5-6CD0-4738-B803-B7E0C86C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8A51-B42C-4964-9C52-38C45F26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A1A8-3242-4395-A4C3-85C008C9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483B-4180-4050-994D-639C8EFC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6CAD-56F0-41E7-B57F-D81A5ED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865D-0BC1-4C58-A0FF-F82E6B5F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B07D-D3DD-4898-80B9-0EDAC94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62EF-F3BD-4581-AA55-DCCE7D9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48B-91A5-45DF-AEDD-5CE9841B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F9E7-A0EF-4FA2-AEAE-B662C9B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1CF9-FD0A-4193-AED8-0F6FE989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829E-7C46-4119-B0AE-5E75C998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08F1-6C23-49D5-9E23-B0665AA5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C9E-3384-45B4-91CB-8E6A303E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F82-E45C-47F9-9100-074AFC7F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812-AE8E-4138-8236-14A78A3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608-00AC-414C-897B-0A9A88D9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136-DDA2-4D59-B826-0A29FEDF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E89-5983-4D61-B5AD-48758BA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13A-7696-4F86-8254-A934C34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474-6147-4375-B34A-BF08155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0AC-DD19-4C51-8415-7CCF577395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648-EF38-4EBC-BFBB-ECB9C248F7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amera Calibration and Better Cylindrical Panora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u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ameras have barrel distortio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2548080" cy="190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2417760" cy="112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68360" y="3860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24360" y="4292640"/>
            <a:ext cx="1173240" cy="500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173240" cy="500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724360" y="4869000"/>
            <a:ext cx="117324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es this $800 Camera perfor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8880" y="5013360"/>
            <a:ext cx="28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id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. focal length: 28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%” Barrel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7240" y="501336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ele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. focal length: 2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2880" y="6237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Source: dprevie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b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olbox by Jean-Yves Bougu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13404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 &amp; Resul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kc = [-0.25349 0.11868 0.00028 0.00005 0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alpha_c = 0.00042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fc = [657.30254 657.74391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cc = [302.71656 242.33386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91976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distorted Im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26420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981680" y="4448160"/>
            <a:ext cx="360504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0400" y="4422600"/>
            <a:ext cx="2840040" cy="76320"/>
          </a:xfrm>
          <a:custGeom>
            <a:avLst/>
            <a:gdLst/>
            <a:ahLst/>
            <a:rect l="l" t="t" r="r" b="b"/>
            <a:pathLst>
              <a:path w="1789" h="48">
                <a:moveTo>
                  <a:pt x="0" y="0"/>
                </a:moveTo>
                <a:cubicBezTo>
                  <a:pt x="302" y="16"/>
                  <a:pt x="604" y="32"/>
                  <a:pt x="902" y="40"/>
                </a:cubicBezTo>
                <a:cubicBezTo>
                  <a:pt x="1200" y="48"/>
                  <a:pt x="1494" y="47"/>
                  <a:pt x="1789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nora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time, no vertical offset allow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“error” with and without calib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hen is the deadline again? (w/o using any late days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7:33Z</dcterms:created>
  <dc:creator>kpc</dc:creator>
  <dc:description/>
  <dc:language>en-US</dc:language>
  <cp:lastModifiedBy>kpc</cp:lastModifiedBy>
  <dcterms:modified xsi:type="dcterms:W3CDTF">2004-12-09T15:12:48Z</dcterms:modified>
  <cp:revision>21</cp:revision>
  <dc:subject/>
  <dc:title>Camera Calibration and Better Cylindrical Panorama</dc:title>
</cp:coreProperties>
</file>