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94055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9408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932280" y="-360"/>
            <a:ext cx="300816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8080" y="679320"/>
            <a:ext cx="4545000" cy="34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932280" y="8626320"/>
            <a:ext cx="3008160" cy="4543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311B6B1-6141-4032-BED2-CE648CAD6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ARCH-FROM described in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reasons for fail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Grid too coa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State transition model inac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Problem unsolv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more intelligent possibilities for what to do if search fail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’ll get into that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x interpolation: relatively quick interpolation method in which every interpolation takes O(d log d) time, and which gives you a continuous though not particularly smooth function over the entire spa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show Hill-car vid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kinds of problems that controllers wind up hav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with a perfect model, inaccurate value functions can cause controllers to get stuck in loo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limits he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ably better to mention later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, as discussed before, accurate V(x)’s are hard to come by, and inaccurate ones can lead to very suboptimal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Gary’s stuff in conjunction with the limited-action-switching stu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 s isn’t too hard to pick by domain exp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tivate why more than one action switch won’t help much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ynamics in search region are smooth enough, in general only makes sense to switch actions at most (|A|-1) tim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, in discounted problems, the largest error in the value fun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d by a factor of (gamma)^(d-1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pefully, for well-chosen s, the “value function” which the search algorith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itly uses is pretty close to the full-blown B^(d-1)V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uning: assumed similarity between points within a parti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borrowed from robot motion planning, sort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8440" y="67932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25200" y="4312800"/>
            <a:ext cx="5089320" cy="4087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it to show video until right before empirical resul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24431-C454-408C-9C3D-927474BD54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023CB-DC9D-4FA4-A8E5-259F36285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02DCC-C2AB-461D-B499-20B2CB893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F6DA6-D423-4EE7-BCB9-558034C57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DD9D4-156A-498F-A69B-37B5FAF28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C05ED-B60E-48BF-9235-C0DA1F5BD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7567F-F7F9-44EC-893C-90D6528F5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7CE0F-E36E-45DF-B788-CEEC750118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7F079-E1B6-433B-A73E-7CC6E728FA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CB0DF-6EB4-45EE-8D29-1D43964E71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ED409-32B9-4791-9967-9579B2ECD6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4EFA5-4B84-42E3-8145-EA72BD727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62120" y="1143000"/>
            <a:ext cx="7696080" cy="3049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2514600"/>
            <a:ext cx="7315200" cy="60948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ying Online Search Techniques to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inforcement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ott Davies, Andrew Ng, and Andrew Mo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negie Mellon Univer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approximate value funct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guide the selection of which points to search from n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sonably accura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ll cause search to stay along optimal path to goal: dramatic reduction in search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an help choose effective points within each partition from which to search, thereby improving solution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iformed Global Search same as “Informed” Global Search wit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3596F-E647-4582-9022-B3F50F5FDA2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current state,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be the grid element containin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’s “representative state” 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and ad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to priority queu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th priorit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il goal state found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mp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e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top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no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’s “representative stat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al found, execute trajectory; otherwise signal fail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F1B07-6C15-4905-BC3D-3854145F3394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ed Global Search Algorithm, cont’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ARCH-FR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, 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ing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perform “local search” as described earlier, but prune the search wherever it reaches a different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time another grid ele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eached a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EARCHED-FRO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do noth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ver previously reached, ad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priority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he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s “representative state” to 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viously reached but previous priority is low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pd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 priority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…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+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|T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(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set “representative state” 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 Record trajectory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B3729-11E0-4DFE-AE26-3F173D22B2D5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formed Global Search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crappyVFGlobalSearch.grid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2" name="goodVFGlobalSearch.grid" descr=""/>
          <p:cNvPicPr/>
          <p:nvPr/>
        </p:nvPicPr>
        <p:blipFill>
          <a:blip r:embed="rId2"/>
          <a:stretch/>
        </p:blipFill>
        <p:spPr>
          <a:xfrm>
            <a:off x="4724280" y="18288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060560" y="5562720"/>
            <a:ext cx="29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*7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69720" y="5562720"/>
            <a:ext cx="321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3*13 simplex-interpolat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898360" y="5943600"/>
            <a:ext cx="321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ll-car Search Tre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4BB09-D7E0-4C60-B342-B35128D1119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d Global Search a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is essentially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earch using the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s a search 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ith 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mist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uristic function normally guarantees optimal path to the go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effectively uses trivially optimistic heuristic V(s) = 0.  Might we expect better solution quality with uninformed search than with non-optimistic crude approximate value function 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!  A crude approximate non-optimistic value function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mprove solution qual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y helping the algorithm avoid pruning wrong parts of search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863C-E477-4AB0-A920-782B452F164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 on steep 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variables: position and velocity (2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forward or backw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: park near t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hillcar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38862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B98E-34B3-405A-9F0B-68EA31F253F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742840" y="1905120"/>
            <a:ext cx="62485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-link planar robot acting in vertical plane under gra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deractuated joint at elbow; unactuated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ngular positions &amp; their velocities (4-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raise tip at least one link’s height above shoul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actions: full torque clockwise / counterclockwi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 starting po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20840" y="3633840"/>
            <a:ext cx="181080" cy="2048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98560" y="4521240"/>
            <a:ext cx="12060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858680" y="3770280"/>
            <a:ext cx="422280" cy="81936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1015920" y="4111560"/>
            <a:ext cx="843120" cy="47808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41440" y="3701880"/>
            <a:ext cx="0" cy="109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13400" y="417816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1436400" y="4589640"/>
            <a:ext cx="422280" cy="820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03560" y="4419720"/>
            <a:ext cx="42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33520" y="2633760"/>
            <a:ext cx="2133360" cy="33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20400" y="2098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0E561-1B8F-4301-B94C-8C459B8CE60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267080" y="1981080"/>
            <a:ext cx="45720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right pole attached to cart by unactuated j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: horizontal position of cart, angle of pole, and associated velocities (4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ons: accelerate left or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al configuration: cart moved, pole balan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rand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-step cost quadratic in distance from goal configu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penalty if pole falls 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09480" y="4191120"/>
            <a:ext cx="35816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3809880"/>
            <a:ext cx="1143000" cy="2286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2400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33480" y="3960720"/>
            <a:ext cx="228600" cy="22860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1600200" y="2666520"/>
            <a:ext cx="762120" cy="1219320"/>
          </a:xfrm>
          <a:prstGeom prst="line">
            <a:avLst/>
          </a:prstGeom>
          <a:ln cap="sq"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3809880"/>
            <a:ext cx="152640" cy="1526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600200" y="251460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78320" y="266688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4343400"/>
            <a:ext cx="0" cy="8380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600200" y="4343400"/>
            <a:ext cx="0" cy="38088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495680"/>
            <a:ext cx="762120" cy="0"/>
          </a:xfrm>
          <a:prstGeom prst="line">
            <a:avLst/>
          </a:prstGeom>
          <a:ln cap="rnd" w="1260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52280" y="4460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971800" y="2666520"/>
            <a:ext cx="1143000" cy="1522800"/>
            <a:chOff x="2971800" y="2666520"/>
            <a:chExt cx="1143000" cy="1522800"/>
          </a:xfrm>
        </p:grpSpPr>
        <p:sp>
          <p:nvSpPr>
            <p:cNvPr id="168" name=""/>
            <p:cNvSpPr/>
            <p:nvPr/>
          </p:nvSpPr>
          <p:spPr>
            <a:xfrm>
              <a:off x="2971800" y="3809880"/>
              <a:ext cx="1143000" cy="228600"/>
            </a:xfrm>
            <a:prstGeom prst="rect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2912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38600" y="3960720"/>
              <a:ext cx="228600" cy="22860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3505320" y="266652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29000" y="3809880"/>
              <a:ext cx="152640" cy="152640"/>
            </a:xfrm>
            <a:prstGeom prst="ellipse">
              <a:avLst/>
            </a:prstGeom>
            <a:solidFill>
              <a:srgbClr val="c8c8c8"/>
            </a:solidFill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41960" y="4343400"/>
            <a:ext cx="172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al 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062A82-A7C4-480A-86C6-22C4AD286D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38120" y="1980720"/>
            <a:ext cx="4496040" cy="441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ck sliding on bumpy 2-d su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spatial variables &amp; their velocities (4-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ons: accelerate NW, NE, SW, or 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al in NW cor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ndom start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: total time to go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beta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2971800" cy="2971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3820F-0201-4A21-94F0-B9F3F333F48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720" y="4952880"/>
            <a:ext cx="7772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imits imposed on number of action switch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ion 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80880" y="1828800"/>
          <a:ext cx="4327560" cy="302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4327560" cy="302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4648320" y="1905120"/>
          <a:ext cx="403848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905120"/>
                    <a:ext cx="403848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2974320" y="1447920"/>
            <a:ext cx="315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0274F-5EE0-478D-B5AA-8C0B9CC42F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Agony of Continuous State Spa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useful value functions for continuous-state optimal control problems can be difficul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inaccuracies/inconsistencies in approximated value functions can cause simple controllers to fail miserab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urate value functions can be very expensive to compute even in relatively low-dimensional spaces with perfectly accurate state transition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3E5F1-9021-4A2D-9EC6-77638C168AC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 Experi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U Time and Solution cost vs. search dep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. number of action switches fixed at 2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 function: 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28600" y="1828800"/>
          <a:ext cx="441972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28800"/>
                    <a:ext cx="441972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4572000" y="1828800"/>
          <a:ext cx="4191120" cy="283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828800"/>
                    <a:ext cx="4191120" cy="28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3736440" y="137160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ill-c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E37AE-20AE-4801-986B-B00E748FC3B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experiments: Hill-Ca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3352320"/>
            <a:ext cx="777240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6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search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 between grid elements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685800" y="1676520"/>
          <a:ext cx="7772400" cy="137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0176F-0F21-4E7A-99B8-BAB1B172BEE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ll-Car results cont’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4191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prunes wrong trajec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search grid to 1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this doesn’t happ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nformed does near-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ormed doesn’t: crude value function not optimis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685800" y="4572000"/>
          <a:ext cx="7772400" cy="135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572000"/>
                    <a:ext cx="777240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"/>
          <p:cNvSpPr/>
          <p:nvPr/>
        </p:nvSpPr>
        <p:spPr>
          <a:xfrm>
            <a:off x="5190480" y="2590920"/>
            <a:ext cx="312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iled search trajectory pictur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32300-8AB8-4684-9F44-73C3D866945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ative Results: Four-d dom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240" y="1676160"/>
            <a:ext cx="716292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value functions: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mplex interpo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local searches between global search elemen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th 20, with at max. 1 action switch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rob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4; no action switch restrictio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5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-Cart-Pole: same as Acrob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l Search: depth 10; max. 1 action switch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0,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lobal: 2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C1CF5-95BE-4D08-9271-8DA3B20B1B6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robo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440" y="3886200"/>
            <a:ext cx="792468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significantly improves solution quality, but increases CPU time by order of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global search takes even more time; poor solution quality indicates suboptimal trajectory pru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 finds much better solutions in relatively little time.  Value function drastically reduces search, and better pruning leads to better sol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889280" y="3048120"/>
            <a:ext cx="57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LS: number of local searches performed to find pa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tween elements of global search gr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E2845-DA3D-4628-B206-F720CA88555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ve-Cart-Po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pole often falls, incurring large penalties; overall poor solution qu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improves things a b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finds better solutions than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 grid cells in which pruning i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 function not optimistic, so informed search solutions suboptim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reduces costs by order of magnitude with no increase in required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06789-6C92-4331-92A9-9E0682B53A5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nar Slid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62120" y="1676520"/>
          <a:ext cx="7772400" cy="131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77724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"/>
          <p:cNvSpPr/>
          <p:nvPr/>
        </p:nvSpPr>
        <p:spPr>
          <a:xfrm>
            <a:off x="1905120" y="30481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3352680"/>
            <a:ext cx="830556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 almost useless, and incurs massive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nformed search decreases solution cost by 50%, but at even greater CPU exp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search decreases solution cost by factor of 4, at no increase in CPU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6E012-42FE-4C9B-A4A4-50A16CB4EA2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y Example: Hill-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plex-interpolated value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nearest-neighbor function approximator per possible action used to learn 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sufficiently far away from nearest neighbor optimistically assumed to be absorbing to encourage expl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erage costs over first few hundred tri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earch: 2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search: 12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ed global search: 1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F12E7-825F-43AE-940B-1EA230F93D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Search with Learned Mod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 do arise when using learned mode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curacies in models may cause global searches to fail.  Not clear then if failure should be blamed on model inaccuracies or on insufficiently fine state space partit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jectories found will be in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adaptive closed-loop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tunately, we will get new data with which to increase the accuracy of our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approximators must be fast and accu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34E3-9D93-47ED-B257-430826D7E5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venues for Future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nsions to nondeterministic syst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-dimensional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function approximators for model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ble-resolution search gri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timistic value function gener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F4A17-30DF-4EB9-8CFF-1DF187DC37B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bining Value Functions With Online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ead of modeling the value function accurately everywhere, we can perform online searches for good trajectories from the agent’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current posi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compensate for value function inaccurac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examine two different types of searc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” searches in which the agent performs a finite-depth look-ahead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” searches in which the agent searches for trajectories all the way to goal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B8200-2B4F-48A8-B03C-F67F56C5372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ypical One-Step “Search”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7772400" cy="205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value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over the state space, an agent typically uses a model to predict where each possible one-step trajector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kes it, then chooses the trajectory that maxim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981720" y="502920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tak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 time, wher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the set of possible 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830600" y="3581280"/>
            <a:ext cx="5560200" cy="1459440"/>
            <a:chOff x="1830600" y="3581280"/>
            <a:chExt cx="5560200" cy="1459440"/>
          </a:xfrm>
        </p:grpSpPr>
        <p:grpSp>
          <p:nvGrpSpPr>
            <p:cNvPr id="98" name=""/>
            <p:cNvGrpSpPr/>
            <p:nvPr/>
          </p:nvGrpSpPr>
          <p:grpSpPr>
            <a:xfrm>
              <a:off x="2732760" y="4073400"/>
              <a:ext cx="3651120" cy="967320"/>
              <a:chOff x="2732760" y="4073400"/>
              <a:chExt cx="3651120" cy="967320"/>
            </a:xfrm>
          </p:grpSpPr>
          <p:sp>
            <p:nvSpPr>
              <p:cNvPr id="99" name=""/>
              <p:cNvSpPr/>
              <p:nvPr/>
            </p:nvSpPr>
            <p:spPr>
              <a:xfrm>
                <a:off x="2732760" y="4073400"/>
                <a:ext cx="3059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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is the discount fact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761920" y="4530600"/>
                <a:ext cx="362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T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is the state at the end of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830600" y="3581280"/>
              <a:ext cx="5560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is the reward accumulated along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981360" y="5562720"/>
            <a:ext cx="72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 perf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, this would lead to optimal behav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5600" y="3048120"/>
            <a:ext cx="1799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3EAFF-B6EF-4196-AF7A-CFBD316C442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7000"/>
          </a:bodyPr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bvious possible extension: consider all possibl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selecting the one that maximiz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: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|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5400" indent="-275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make deeper searches more computationally tractable, we can limit agent to considering only trajectories in which the action is switched at mos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ational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483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considerably cheaper than fu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search 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&lt;&lt;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4495680" y="5191200"/>
                <a:ext cx="1524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(</m:t>
                    </m:r>
                    <m:r>
                      <m:t xml:space="preserve">dalignl</m:t>
                    </m:r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d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3FA66-386E-4860-A670-961048F633A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cal Search: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4571640"/>
            <a:ext cx="3809880" cy="1523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dimensional state space (position + veloc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120" indent="-2221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 must back up to take “running start” to make 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hillcar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327672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0" name=""/>
          <p:cNvGrpSpPr/>
          <p:nvPr/>
        </p:nvGrpSpPr>
        <p:grpSpPr>
          <a:xfrm>
            <a:off x="4648320" y="1752480"/>
            <a:ext cx="3975120" cy="3660120"/>
            <a:chOff x="4648320" y="1752480"/>
            <a:chExt cx="3975120" cy="3660120"/>
          </a:xfrm>
        </p:grpSpPr>
        <p:pic>
          <p:nvPicPr>
            <p:cNvPr id="111" name="localSearch" descr=""/>
            <p:cNvPicPr/>
            <p:nvPr/>
          </p:nvPicPr>
          <p:blipFill>
            <a:blip r:embed="rId2"/>
            <a:stretch/>
          </p:blipFill>
          <p:spPr>
            <a:xfrm>
              <a:off x="4648320" y="1752480"/>
              <a:ext cx="342900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868000" y="4952880"/>
              <a:ext cx="118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01000" y="2743200"/>
              <a:ext cx="622440" cy="12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elo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4565160" y="5486400"/>
            <a:ext cx="36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over 20-step traject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at most one switch in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64A1B-F44B-4128-8F33-F9B9C65B47B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Local Search On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current state, consider all possi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step trajectori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n which the action is changed at mos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the first action in the trajectory that maximiz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note the “parallel backup operator” such tha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460600" y="3886200"/>
                <a:ext cx="391788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a</m:t>
                        </m:r>
                        <m:r>
                          <m:t xml:space="preserve">∈</m:t>
                        </m:r>
                        <m:r>
                          <m:t xml:space="preserve">A</m:t>
                        </m:r>
                      </m:lim>
                    </m:limLow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δ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41960" y="4572000"/>
            <a:ext cx="7659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), Local Search is formally equivalent to behaving greedi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the new value func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d-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c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typically arrived at through iterations of a much cruder back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, this value function is often much more accurat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C9A83-32D5-41DA-B8B8-C58EBA940DE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 fontScale="99000"/>
          </a:bodyPr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pose we have a minimum-cost-to-goal problem in a continuous state space with nonnegative costs.  Why not forget about explicitly calculating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just extend the search from the current position all the way to the go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: combinatorial explo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19600" indent="-219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solu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eak state space into partitions, e.g. a uniform grid.  (Can be represented sparsely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reviously discussed local search procedure to find trajectories between part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-282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une all but least-cost trajectory entering any given part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86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0C57D-A21D-4C7B-B081-FD0709F7B19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informed Global 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computationally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 with fine partitioning of state space, pruning the wrong trajectories can cause search to fail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VFGlobalSearch.grid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5DBD-8A51-4AFC-A059-3A179D995D2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29T05:01:20Z</dcterms:created>
  <dc:creator>Scott Davies</dc:creator>
  <dc:description/>
  <dc:language>en-US</dc:language>
  <cp:lastModifiedBy>Scott Davies</cp:lastModifiedBy>
  <cp:lastPrinted>1997-07-09T05:52:16Z</cp:lastPrinted>
  <dcterms:modified xsi:type="dcterms:W3CDTF">1998-07-15T17:39:04Z</dcterms:modified>
  <cp:revision>41</cp:revision>
  <dc:subject/>
  <dc:title>Applying Online Search Techniques to  Reinforcement Learning</dc:title>
</cp:coreProperties>
</file>