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60720" y="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74320" y="6948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60720" y="8818560"/>
            <a:ext cx="3030480" cy="4636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733DA62-62E9-4E6C-A5B2-4DF9EFB56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43640" cy="3483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B67E9-7629-4A28-99C7-CEE7636FF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F8038-3769-4524-A3F6-F682F84214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6286E-088D-4E1B-AB7B-E1BBDD785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5C78A-E6F5-4E73-951B-A6C696A1B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F72E3-E732-4874-A866-D4F539A75C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6FFA4-A869-4E7D-822A-10D6D385A3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811D-F8B4-4D2D-ACB7-35DDEA476C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C5FE3-7CDE-4010-87D1-5E93F543D8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257A5-31CF-4EE7-A0E6-012A69E0FD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FCC43-A579-4A7F-A7A1-A6B75CFCC0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F1B9B-FE99-4309-8228-987F68304E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C1DE3-B36B-4E24-ACBC-57DB4B3668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895480"/>
            <a:ext cx="7315200" cy="6098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72000" y="54864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981080"/>
            <a:ext cx="243864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981080"/>
            <a:ext cx="2590560" cy="25146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1981080"/>
            <a:ext cx="2057400" cy="243864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47600" y="52992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pics: s=0, s=1, s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08B02-4412-459B-815E-C28816A9AC0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hunting for a “goal state”, why not just do one big uniform-cost search from the current state all the way to the go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side: don’t need a value fun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766A8-73F7-4941-A3D8-B502212BF52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wnside: too many possible trajectori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1981080"/>
            <a:ext cx="5486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84440" y="2784600"/>
            <a:ext cx="26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n to its illog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38513-F5DB-4E10-84B1-2B1746698E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row a technique from Robot Motion Plann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ition state space into a gr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earch from least-cost trajectory entering any given partition; prune all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380988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2240" y="4876920"/>
            <a:ext cx="30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of 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8E2F0-1C8D-4444-BC11-DA48E8604D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495320" y="16761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g advantages over classical discretization-based DP metho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all cells need be visited / represen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ell only visited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model is accurate, the solution will work: one continuous trajectory; no “aliasing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2743200"/>
            <a:ext cx="3200400" cy="2743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6120" y="3581280"/>
            <a:ext cx="207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arch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lobal Search: Locale-Based Pru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BAFB8-DEF3-4BC0-ADFF-CC15D7354F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ization-based algorith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 continuous-state problem into discrete-state 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methods of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rrespond to different methods of making this trans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discrete-state problem with favorite dynamic programming method (e.g., modified policy iter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iscrete problem has a solution, DP will converge to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executing in the actual continuous-state environment, agent maps continuous states to (possibly combinations of) discrete states and uses the discrete states’ value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33520" y="380880"/>
            <a:ext cx="7315200" cy="57150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914400" y="685440"/>
            <a:ext cx="7391520" cy="52578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03974-84CF-43F6-BEA0-E2603F6019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 Grid-Based Discretizat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990720" y="4114800"/>
            <a:ext cx="2743200" cy="2514600"/>
            <a:chOff x="990720" y="4114800"/>
            <a:chExt cx="2743200" cy="2514600"/>
          </a:xfrm>
        </p:grpSpPr>
        <p:sp>
          <p:nvSpPr>
            <p:cNvPr id="175" name=""/>
            <p:cNvSpPr/>
            <p:nvPr/>
          </p:nvSpPr>
          <p:spPr>
            <a:xfrm>
              <a:off x="990720" y="4114800"/>
              <a:ext cx="2743200" cy="251460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623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8120" y="4114800"/>
              <a:ext cx="0" cy="25113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676520" y="4114800"/>
              <a:ext cx="0" cy="25146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90720" y="533412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90720" y="472428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90720" y="5943600"/>
              <a:ext cx="27432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38240" y="4300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24040" y="42958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1488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319560" y="49482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6240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938240" y="49482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52440" y="49579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62160" y="43052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28880" y="55627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14680" y="55576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05160" y="5567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62103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46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28880" y="62103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243080" y="62197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252440" y="5567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2014560" y="4572000"/>
              <a:ext cx="152280" cy="45720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2019240" y="4876560"/>
              <a:ext cx="45720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2133360" y="502920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 flipV="1">
              <a:off x="2590560" y="4572000"/>
              <a:ext cx="7596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flipV="1">
              <a:off x="1447560" y="5486040"/>
              <a:ext cx="533160" cy="15228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1981080" y="5486040"/>
              <a:ext cx="533520" cy="152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2695680" y="5186520"/>
              <a:ext cx="0" cy="45720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2514240" y="5638680"/>
              <a:ext cx="152280" cy="533520"/>
            </a:xfrm>
            <a:prstGeom prst="line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638680" y="4267080"/>
            <a:ext cx="2252520" cy="2076480"/>
            <a:chOff x="5638680" y="4267080"/>
            <a:chExt cx="2252520" cy="2076480"/>
          </a:xfrm>
        </p:grpSpPr>
        <p:sp>
          <p:nvSpPr>
            <p:cNvPr id="207" name=""/>
            <p:cNvSpPr/>
            <p:nvPr/>
          </p:nvSpPr>
          <p:spPr>
            <a:xfrm>
              <a:off x="6357600" y="42717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43400" y="426708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73424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738920" y="49194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0434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357600" y="491940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671800" y="492912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681520" y="427644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4824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46640" y="552888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724520" y="553860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729200" y="6181560"/>
              <a:ext cx="15264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466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48240" y="618156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2440" y="6190920"/>
              <a:ext cx="152280" cy="1526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638680" y="5533920"/>
              <a:ext cx="152280" cy="1522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3" name=""/>
            <p:cNvCxnSpPr>
              <a:stCxn id="212" idx="0"/>
              <a:endCxn id="207" idx="4"/>
            </p:cNvCxnSpPr>
            <p:nvPr/>
          </p:nvCxnSpPr>
          <p:spPr>
            <a:xfrm flipV="1">
              <a:off x="6433560" y="4423680"/>
              <a:ext cx="1080" cy="496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4" name=""/>
            <p:cNvCxnSpPr>
              <a:stCxn id="211" idx="0"/>
              <a:endCxn id="208" idx="4"/>
            </p:cNvCxnSpPr>
            <p:nvPr/>
          </p:nvCxnSpPr>
          <p:spPr>
            <a:xfrm flipV="1">
              <a:off x="7119360" y="4418640"/>
              <a:ext cx="1080" cy="500760"/>
            </a:xfrm>
            <a:prstGeom prst="curvedConnector2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5" name=""/>
            <p:cNvCxnSpPr>
              <a:stCxn id="215" idx="2"/>
              <a:endCxn id="222" idx="6"/>
            </p:cNvCxnSpPr>
            <p:nvPr/>
          </p:nvCxnSpPr>
          <p:spPr>
            <a:xfrm rot="10800000">
              <a:off x="5790240" y="5609160"/>
              <a:ext cx="558000" cy="108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6" name=""/>
            <p:cNvCxnSpPr>
              <a:stCxn id="215" idx="6"/>
              <a:endCxn id="216" idx="2"/>
            </p:cNvCxnSpPr>
            <p:nvPr/>
          </p:nvCxnSpPr>
          <p:spPr>
            <a:xfrm flipV="1">
              <a:off x="6500160" y="5604480"/>
              <a:ext cx="546480" cy="5400"/>
            </a:xfrm>
            <a:prstGeom prst="curvedConnector5">
              <a:avLst>
                <a:gd name="adj1" fmla="val 49967"/>
                <a:gd name="adj2" fmla="val 50000"/>
                <a:gd name="adj3" fmla="val 49967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7" name=""/>
            <p:cNvCxnSpPr>
              <a:stCxn id="212" idx="7"/>
              <a:endCxn id="211" idx="1"/>
            </p:cNvCxnSpPr>
            <p:nvPr/>
          </p:nvCxnSpPr>
          <p:spPr>
            <a:xfrm flipH="1" rot="16200000">
              <a:off x="6775920" y="4653360"/>
              <a:ext cx="2160" cy="578520"/>
            </a:xfrm>
            <a:prstGeom prst="curvedConnector5">
              <a:avLst>
                <a:gd name="adj1" fmla="val -9500000"/>
                <a:gd name="adj2" fmla="val 50000"/>
                <a:gd name="adj3" fmla="val -950000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28" name=""/>
            <p:cNvCxnSpPr>
              <a:stCxn id="211" idx="3"/>
              <a:endCxn id="212" idx="5"/>
            </p:cNvCxnSpPr>
            <p:nvPr/>
          </p:nvCxnSpPr>
          <p:spPr>
            <a:xfrm rot="5400000">
              <a:off x="6775200" y="4761360"/>
              <a:ext cx="2160" cy="578520"/>
            </a:xfrm>
            <a:prstGeom prst="curvedConnector5">
              <a:avLst>
                <a:gd name="adj1" fmla="val 7880000"/>
                <a:gd name="adj2" fmla="val 50000"/>
                <a:gd name="adj3" fmla="val 7880000"/>
              </a:avLst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  <p:cxnSp>
          <p:nvCxnSpPr>
            <p:cNvPr id="229" name=""/>
            <p:cNvCxnSpPr>
              <a:stCxn id="216" idx="0"/>
              <a:endCxn id="211" idx="4"/>
            </p:cNvCxnSpPr>
            <p:nvPr/>
          </p:nvCxnSpPr>
          <p:spPr>
            <a:xfrm flipV="1" rot="16200000">
              <a:off x="6892200" y="5298120"/>
              <a:ext cx="457920" cy="3960"/>
            </a:xfrm>
            <a:prstGeom prst="curvedConnector5">
              <a:avLst>
                <a:gd name="adj1" fmla="val 49960"/>
                <a:gd name="adj2" fmla="val 50000"/>
                <a:gd name="adj3" fmla="val 49960"/>
              </a:avLst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230" name=""/>
            <p:cNvCxnSpPr>
              <a:stCxn id="216" idx="4"/>
              <a:endCxn id="219" idx="0"/>
            </p:cNvCxnSpPr>
            <p:nvPr/>
          </p:nvCxnSpPr>
          <p:spPr>
            <a:xfrm flipV="1" rot="10800000">
              <a:off x="7122240" y="5681160"/>
              <a:ext cx="1080" cy="500760"/>
            </a:xfrm>
            <a:prstGeom prst="curvedConnector2">
              <a:avLst/>
            </a:prstGeom>
            <a:ln cap="sq" w="12600">
              <a:solidFill>
                <a:srgbClr val="ff0033"/>
              </a:solidFill>
              <a:miter/>
              <a:tailEnd len="med" type="triangle" w="med"/>
            </a:ln>
          </p:spPr>
        </p:cxnSp>
      </p:grpSp>
      <p:sp>
        <p:nvSpPr>
          <p:cNvPr id="231" name=""/>
          <p:cNvSpPr/>
          <p:nvPr/>
        </p:nvSpPr>
        <p:spPr>
          <a:xfrm>
            <a:off x="4038480" y="4952880"/>
            <a:ext cx="1219320" cy="914400"/>
          </a:xfrm>
          <a:prstGeom prst="rightArrow">
            <a:avLst>
              <a:gd name="adj1" fmla="val 50000"/>
              <a:gd name="adj2" fmla="val 33337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6280" y="1641600"/>
            <a:ext cx="6873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state space into uniform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“representative state” fo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possible action from each rep. state, integrate forward until you reach a different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approxim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constant over each gri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5B374-C025-4CF7-9B2C-94B583D2B2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linear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824040" y="2171880"/>
            <a:ext cx="2300040" cy="2147760"/>
            <a:chOff x="824040" y="2171880"/>
            <a:chExt cx="2300040" cy="2147760"/>
          </a:xfrm>
        </p:grpSpPr>
        <p:sp>
          <p:nvSpPr>
            <p:cNvPr id="235" name=""/>
            <p:cNvSpPr/>
            <p:nvPr/>
          </p:nvSpPr>
          <p:spPr>
            <a:xfrm>
              <a:off x="933480" y="2309760"/>
              <a:ext cx="2043000" cy="1844640"/>
            </a:xfrm>
            <a:prstGeom prst="rect">
              <a:avLst/>
            </a:prstGeom>
            <a:solidFill>
              <a:srgbClr val="ffffff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558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976480" y="2309760"/>
              <a:ext cx="0" cy="184464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027080" y="323208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027080" y="4154400"/>
              <a:ext cx="194940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30160" y="2201760"/>
              <a:ext cx="277920" cy="2779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820880" y="21798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41320" y="312120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14400" y="31021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846520" y="2171880"/>
              <a:ext cx="27756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840040" y="309096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4040" y="4038480"/>
              <a:ext cx="277560" cy="27648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814400" y="4043520"/>
              <a:ext cx="277920" cy="27612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40040" y="4035600"/>
              <a:ext cx="277920" cy="2775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933480" y="3785760"/>
              <a:ext cx="1393920" cy="3682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 flipV="1">
              <a:off x="1955880" y="3231720"/>
              <a:ext cx="37152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327400" y="3231720"/>
              <a:ext cx="649080" cy="55404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1955880" y="3786120"/>
              <a:ext cx="37152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27400" y="3786120"/>
              <a:ext cx="649080" cy="368280"/>
            </a:xfrm>
            <a:prstGeom prst="line">
              <a:avLst/>
            </a:prstGeom>
            <a:ln cap="sq" w="12600">
              <a:solidFill>
                <a:srgbClr val="c8c8c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633840" y="24796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at end of trajectory is interpo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 weighted average of th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rounding corner points’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568840" y="435924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559560" y="43369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580000" y="527832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59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5200" y="4329000"/>
            <a:ext cx="27756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578720" y="524844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619596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553080" y="62006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78720" y="619272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4" name=""/>
          <p:cNvCxnSpPr>
            <a:stCxn id="261" idx="5"/>
            <a:endCxn id="262" idx="2"/>
          </p:cNvCxnSpPr>
          <p:nvPr/>
        </p:nvCxnSpPr>
        <p:spPr>
          <a:xfrm flipV="1">
            <a:off x="5799240" y="6338520"/>
            <a:ext cx="75456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5" name=""/>
          <p:cNvCxnSpPr>
            <a:stCxn id="261" idx="0"/>
            <a:endCxn id="258" idx="3"/>
          </p:cNvCxnSpPr>
          <p:nvPr/>
        </p:nvCxnSpPr>
        <p:spPr>
          <a:xfrm flipV="1">
            <a:off x="5702400" y="549504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6" name=""/>
          <p:cNvCxnSpPr>
            <a:stCxn id="261" idx="7"/>
            <a:endCxn id="260" idx="3"/>
          </p:cNvCxnSpPr>
          <p:nvPr/>
        </p:nvCxnSpPr>
        <p:spPr>
          <a:xfrm flipV="1">
            <a:off x="5799240" y="5484240"/>
            <a:ext cx="1821600" cy="751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267" name=""/>
          <p:cNvCxnSpPr>
            <a:stCxn id="261" idx="6"/>
            <a:endCxn id="263" idx="0"/>
          </p:cNvCxnSpPr>
          <p:nvPr/>
        </p:nvCxnSpPr>
        <p:spPr>
          <a:xfrm flipV="1">
            <a:off x="5839920" y="6192000"/>
            <a:ext cx="1878840" cy="142200"/>
          </a:xfrm>
          <a:prstGeom prst="curvedConnector5">
            <a:avLst>
              <a:gd name="adj1" fmla="val 37849"/>
              <a:gd name="adj2" fmla="val 109390"/>
              <a:gd name="adj3" fmla="val 37849"/>
            </a:avLst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268" name=""/>
          <p:cNvSpPr/>
          <p:nvPr/>
        </p:nvSpPr>
        <p:spPr>
          <a:xfrm>
            <a:off x="451800" y="4572000"/>
            <a:ext cx="4981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each state/action pai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ssible successor stat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 transition probabilities eq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838080" y="228240"/>
            <a:ext cx="7543800" cy="617220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914040" y="380880"/>
            <a:ext cx="7620120" cy="60199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F63ED-7434-4AC3-B09F-C521FE6388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mplex-Based Interpo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70000" y="1730520"/>
            <a:ext cx="2043000" cy="1844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1924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13000" y="1730520"/>
            <a:ext cx="0" cy="1844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63600" y="265284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263600" y="3575160"/>
            <a:ext cx="1949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066680" y="1622520"/>
            <a:ext cx="277920" cy="2775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57400" y="16002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077840" y="25416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050920" y="25225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83040" y="15922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076560" y="25113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0560" y="345924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50920" y="34639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76560" y="345600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1150920" y="1706400"/>
            <a:ext cx="2057400" cy="19051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1227240" y="1706400"/>
            <a:ext cx="99036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2141640" y="2620800"/>
            <a:ext cx="1066680" cy="9907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150920" y="2925360"/>
            <a:ext cx="1295280" cy="685800"/>
          </a:xfrm>
          <a:prstGeom prst="line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 flipV="1">
            <a:off x="2217240" y="2696760"/>
            <a:ext cx="2286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446200" y="2696760"/>
            <a:ext cx="685800" cy="22860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217240" y="2925720"/>
            <a:ext cx="228600" cy="609480"/>
          </a:xfrm>
          <a:prstGeom prst="line">
            <a:avLst/>
          </a:prstGeom>
          <a:ln cap="sq" w="12600">
            <a:solidFill>
              <a:srgbClr val="c8c8c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1600200"/>
            <a:ext cx="4511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grid cell implicitly decomposed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 simplexes based on the Kuh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nd of trajectory is interpolated as weighted sum of the values at th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corner points of enclosing simple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66680" indent="-166680">
              <a:buClr>
                <a:srgbClr val="000000"/>
              </a:buClr>
              <a:buFont typeface="Times New Roman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quivalent to discrete problem in which each state/action pair results in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) possible successor states, with transition probabilities equal to corresponding interpolation weigh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041480" y="4424400"/>
            <a:ext cx="27756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31840" y="440208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52640" y="5343480"/>
            <a:ext cx="27756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025720" y="532440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057480" y="439416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051000" y="5313240"/>
            <a:ext cx="277920" cy="27648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35000" y="626112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25720" y="6265800"/>
            <a:ext cx="277920" cy="2761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051000" y="6257880"/>
            <a:ext cx="277920" cy="27792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>
            <a:stCxn id="300" idx="5"/>
            <a:endCxn id="301" idx="2"/>
          </p:cNvCxnSpPr>
          <p:nvPr/>
        </p:nvCxnSpPr>
        <p:spPr>
          <a:xfrm flipV="1">
            <a:off x="1271160" y="6403680"/>
            <a:ext cx="754920" cy="943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0" idx="0"/>
            <a:endCxn id="297" idx="3"/>
          </p:cNvCxnSpPr>
          <p:nvPr/>
        </p:nvCxnSpPr>
        <p:spPr>
          <a:xfrm flipV="1">
            <a:off x="1174680" y="5560200"/>
            <a:ext cx="892800" cy="70092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stCxn id="300" idx="7"/>
            <a:endCxn id="299" idx="3"/>
          </p:cNvCxnSpPr>
          <p:nvPr/>
        </p:nvCxnSpPr>
        <p:spPr>
          <a:xfrm flipV="1">
            <a:off x="1271520" y="5549400"/>
            <a:ext cx="1821600" cy="751680"/>
          </a:xfrm>
          <a:prstGeom prst="straightConnector1">
            <a:avLst/>
          </a:prstGeom>
          <a:ln cap="sq" w="12600">
            <a:solidFill>
              <a:srgbClr val="3366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905120" y="3809880"/>
            <a:ext cx="53316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4E212-A25C-4652-8E08-174B701D7F5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useful, bu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; lots of cells vis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lead to suboptimal solutions or complete fail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816120" y="1413000"/>
            <a:ext cx="418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 to include goal stat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6B535-1B25-4BFD-820B-0484F47011E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47242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can be in one of a finite number of discrete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ent gets to choose a discrete 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t each time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on affects state transition probabilities between current and next time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vironment punishes/rewards agent depending on current state and 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aximize long-term rewar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AT_WORK9" descr=""/>
          <p:cNvPicPr/>
          <p:nvPr/>
        </p:nvPicPr>
        <p:blipFill>
          <a:blip r:embed="rId1"/>
          <a:stretch/>
        </p:blipFill>
        <p:spPr>
          <a:xfrm>
            <a:off x="5562720" y="3200400"/>
            <a:ext cx="914400" cy="757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crete 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81680" y="1905120"/>
            <a:ext cx="1067040" cy="99036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543800" y="3200400"/>
            <a:ext cx="1143000" cy="12193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3"/>
            <a:endCxn id="95" idx="7"/>
          </p:cNvCxnSpPr>
          <p:nvPr/>
        </p:nvCxnSpPr>
        <p:spPr>
          <a:xfrm flipH="1">
            <a:off x="6386040" y="2765520"/>
            <a:ext cx="551520" cy="3589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2" idx="5"/>
            <a:endCxn id="93" idx="1"/>
          </p:cNvCxnSpPr>
          <p:nvPr/>
        </p:nvCxnSpPr>
        <p:spPr>
          <a:xfrm>
            <a:off x="7693200" y="2765520"/>
            <a:ext cx="18000" cy="59868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93" idx="4"/>
            <a:endCxn id="93" idx="7"/>
          </p:cNvCxnSpPr>
          <p:nvPr/>
        </p:nvCxnSpPr>
        <p:spPr>
          <a:xfrm flipH="1" flipV="1" rot="5400000">
            <a:off x="7782480" y="3696120"/>
            <a:ext cx="1070640" cy="405360"/>
          </a:xfrm>
          <a:prstGeom prst="curvedConnector5">
            <a:avLst>
              <a:gd name="adj1" fmla="val -20013"/>
              <a:gd name="adj2" fmla="val 98755"/>
              <a:gd name="adj3" fmla="val -20013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6781680" y="4724280"/>
            <a:ext cx="1067040" cy="990720"/>
          </a:xfrm>
          <a:prstGeom prst="ellipse">
            <a:avLst/>
          </a:prstGeom>
          <a:solidFill>
            <a:srgbClr val="ffffff"/>
          </a:solidFill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9" name=""/>
          <p:cNvCxnSpPr>
            <a:stCxn id="95" idx="5"/>
            <a:endCxn id="98" idx="1"/>
          </p:cNvCxnSpPr>
          <p:nvPr/>
        </p:nvCxnSpPr>
        <p:spPr>
          <a:xfrm>
            <a:off x="6386400" y="3962520"/>
            <a:ext cx="551520" cy="89280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8" idx="4"/>
            <a:endCxn id="98" idx="6"/>
          </p:cNvCxnSpPr>
          <p:nvPr/>
        </p:nvCxnSpPr>
        <p:spPr>
          <a:xfrm flipH="1" flipV="1" rot="5400000">
            <a:off x="7332840" y="5200200"/>
            <a:ext cx="510480" cy="548280"/>
          </a:xfrm>
          <a:prstGeom prst="curvedConnector5">
            <a:avLst>
              <a:gd name="adj1" fmla="val -41990"/>
              <a:gd name="adj2" fmla="val 69513"/>
              <a:gd name="adj3" fmla="val -41990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5" idx="6"/>
            <a:endCxn id="93" idx="2"/>
          </p:cNvCxnSpPr>
          <p:nvPr/>
        </p:nvCxnSpPr>
        <p:spPr>
          <a:xfrm>
            <a:off x="6567480" y="3543480"/>
            <a:ext cx="962640" cy="267120"/>
          </a:xfrm>
          <a:prstGeom prst="straightConnector1">
            <a:avLst/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5" idx="2"/>
            <a:endCxn id="95" idx="4"/>
          </p:cNvCxnSpPr>
          <p:nvPr/>
        </p:nvCxnSpPr>
        <p:spPr>
          <a:xfrm flipH="1" flipV="1" rot="10800000">
            <a:off x="5394960" y="3542400"/>
            <a:ext cx="586440" cy="586440"/>
          </a:xfrm>
          <a:prstGeom prst="curvedConnector5">
            <a:avLst>
              <a:gd name="adj1" fmla="val -36547"/>
              <a:gd name="adj2" fmla="val 68243"/>
              <a:gd name="adj3" fmla="val -36547"/>
            </a:avLst>
          </a:prstGeom>
          <a:ln cap="sq" w="316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3" name=""/>
          <p:cNvGrpSpPr/>
          <p:nvPr/>
        </p:nvGrpSpPr>
        <p:grpSpPr>
          <a:xfrm>
            <a:off x="6934320" y="2057400"/>
            <a:ext cx="761400" cy="609120"/>
            <a:chOff x="6934320" y="2057400"/>
            <a:chExt cx="761400" cy="609120"/>
          </a:xfrm>
        </p:grpSpPr>
        <p:grpSp>
          <p:nvGrpSpPr>
            <p:cNvPr id="104" name=""/>
            <p:cNvGrpSpPr/>
            <p:nvPr/>
          </p:nvGrpSpPr>
          <p:grpSpPr>
            <a:xfrm>
              <a:off x="6934320" y="2057400"/>
              <a:ext cx="692640" cy="516960"/>
              <a:chOff x="6934320" y="2057400"/>
              <a:chExt cx="692640" cy="516960"/>
            </a:xfrm>
          </p:grpSpPr>
          <p:sp>
            <p:nvSpPr>
              <p:cNvPr id="105" name=""/>
              <p:cNvSpPr/>
              <p:nvPr/>
            </p:nvSpPr>
            <p:spPr>
              <a:xfrm rot="5376600">
                <a:off x="7108560" y="2193480"/>
                <a:ext cx="343440" cy="4154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9631" y="3168"/>
                      <a:pt x="17661" y="5080"/>
                      <a:pt x="17661" y="10800"/>
                    </a:cubicBezTo>
                    <a:cubicBezTo>
                      <a:pt x="17661" y="16520"/>
                      <a:pt x="19631" y="1843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cap="sq" w="31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4320" y="2057400"/>
                <a:ext cx="692640" cy="343800"/>
              </a:xfrm>
              <a:prstGeom prst="diamond">
                <a:avLst/>
              </a:prstGeom>
              <a:solidFill>
                <a:srgbClr val="000000"/>
              </a:solidFill>
              <a:ln cap="sq"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7280280" y="2143440"/>
              <a:ext cx="415440" cy="343800"/>
            </a:xfrm>
            <a:custGeom>
              <a:avLst/>
              <a:gdLst/>
              <a:ahLst/>
              <a:rect l="l" t="t" r="r" b="b"/>
              <a:pathLst>
                <a:path w="392" h="336">
                  <a:moveTo>
                    <a:pt x="0" y="48"/>
                  </a:moveTo>
                  <a:cubicBezTo>
                    <a:pt x="140" y="24"/>
                    <a:pt x="280" y="0"/>
                    <a:pt x="336" y="48"/>
                  </a:cubicBezTo>
                  <a:cubicBezTo>
                    <a:pt x="392" y="96"/>
                    <a:pt x="336" y="256"/>
                    <a:pt x="336" y="336"/>
                  </a:cubicBezTo>
                </a:path>
              </a:pathLst>
            </a:custGeom>
            <a:noFill/>
            <a:ln cap="sq" w="19080">
              <a:solidFill>
                <a:srgbClr val="3366ff"/>
              </a:solidFill>
              <a:round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7554600" y="2490840"/>
              <a:ext cx="66240" cy="17568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26960" y="2487600"/>
              <a:ext cx="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26960" y="2487600"/>
              <a:ext cx="68760" cy="171720"/>
            </a:xfrm>
            <a:prstGeom prst="line">
              <a:avLst/>
            </a:prstGeom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7086600" y="518148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010280" y="4800600"/>
            <a:ext cx="56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$$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0080" y="2971800"/>
            <a:ext cx="1143000" cy="1143000"/>
          </a:xfrm>
          <a:prstGeom prst="ellipse">
            <a:avLst/>
          </a:pr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7696080" y="3657600"/>
            <a:ext cx="838080" cy="609480"/>
            <a:chOff x="7696080" y="3657600"/>
            <a:chExt cx="838080" cy="609480"/>
          </a:xfrm>
        </p:grpSpPr>
        <p:grpSp>
          <p:nvGrpSpPr>
            <p:cNvPr id="114" name=""/>
            <p:cNvGrpSpPr/>
            <p:nvPr/>
          </p:nvGrpSpPr>
          <p:grpSpPr>
            <a:xfrm>
              <a:off x="8139240" y="3657600"/>
              <a:ext cx="345240" cy="609480"/>
              <a:chOff x="8139240" y="3657600"/>
              <a:chExt cx="345240" cy="609480"/>
            </a:xfrm>
          </p:grpSpPr>
          <p:sp>
            <p:nvSpPr>
              <p:cNvPr id="115" name=""/>
              <p:cNvSpPr/>
              <p:nvPr/>
            </p:nvSpPr>
            <p:spPr>
              <a:xfrm flipH="1" rot="5400000">
                <a:off x="803376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rot="5400000">
                <a:off x="805860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5400000">
                <a:off x="808272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7745400" y="3657600"/>
              <a:ext cx="345240" cy="609480"/>
              <a:chOff x="7745400" y="3657600"/>
              <a:chExt cx="345240" cy="609480"/>
            </a:xfrm>
          </p:grpSpPr>
          <p:sp>
            <p:nvSpPr>
              <p:cNvPr id="119" name=""/>
              <p:cNvSpPr/>
              <p:nvPr/>
            </p:nvSpPr>
            <p:spPr>
              <a:xfrm rot="16200000">
                <a:off x="7738200" y="3762720"/>
                <a:ext cx="457200" cy="246600"/>
              </a:xfrm>
              <a:prstGeom prst="parallelogram">
                <a:avLst>
                  <a:gd name="adj" fmla="val 83688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16200000">
                <a:off x="7714080" y="3814560"/>
                <a:ext cx="457200" cy="295920"/>
              </a:xfrm>
              <a:prstGeom prst="parallelogram">
                <a:avLst>
                  <a:gd name="adj" fmla="val 47745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16200000">
                <a:off x="7689240" y="3865680"/>
                <a:ext cx="457200" cy="345240"/>
              </a:xfrm>
              <a:prstGeom prst="parallelogram">
                <a:avLst>
                  <a:gd name="adj" fmla="val 20459"/>
                </a:avLst>
              </a:prstGeom>
              <a:solidFill>
                <a:srgbClr val="ffffff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 rot="16200000">
              <a:off x="763992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041320" y="3886200"/>
              <a:ext cx="147600" cy="380880"/>
            </a:xfrm>
            <a:prstGeom prst="rect">
              <a:avLst/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5400000">
              <a:off x="8132400" y="3865680"/>
              <a:ext cx="457200" cy="345240"/>
            </a:xfrm>
            <a:prstGeom prst="parallelogram">
              <a:avLst>
                <a:gd name="adj" fmla="val 20459"/>
              </a:avLst>
            </a:prstGeom>
            <a:solidFill>
              <a:srgbClr val="ff0033"/>
            </a:solidFill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7924680" y="3276720"/>
            <a:ext cx="457200" cy="457200"/>
          </a:xfrm>
          <a:prstGeom prst="smileyFace">
            <a:avLst>
              <a:gd name="adj" fmla="val 9282"/>
            </a:avLst>
          </a:prstGeom>
          <a:solidFill>
            <a:srgbClr val="fff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C40E0-DDF4-43D5-913A-19FA38AF55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3059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, use fast approximators to automatically learn relatively crud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, u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guide global search with locale-based pruning, much in the styl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3809880"/>
            <a:ext cx="3352680" cy="28195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5983C5-00C4-4770-9C8D-923E07DA02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316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1072800" y="5562720"/>
            <a:ext cx="2404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y approxim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7*7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882320" y="5562720"/>
            <a:ext cx="26085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accu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3*13 simplex interpol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59436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973080" y="3317760"/>
            <a:ext cx="203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 this pi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34CDC-F24F-45C0-89E3-11A379838DE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89B21-42C5-4C02-8FA7-F32D9AAD8D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34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2B546-C1B3-453C-813F-47850835181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25F08-2F71-4B3E-A91E-B78181FA5F3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BECB1-D495-460D-B704-956AAC089C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13DCD-C2C7-484B-80A9-6D21C54814C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0967EF-964C-4917-8490-3ED61E68465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846AD-CE19-416F-9DA6-D4BC0442031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215BD-9DFC-4563-AFA6-C2A3FE53BC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lving Discrete RL 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ll-known methods exist for solving such problems with either known or unknown state transitions and re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iteration, policy iteration, and modified policy iteration can be used with eith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 prior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learned models of the problem dynam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l-free methods such as Q-learning and TD-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be used straightforwardly in either c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4854F-4BF2-4D5A-B4E5-A348A9CD078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90BA2-9605-487D-8595-8D72AFD781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5E4CC-725A-41F0-BE9A-2E0633BEBDB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9C223-0B0F-42AC-9215-700CFE5B7BA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E9B2D-7811-4BFA-820D-43004D00E3B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E2B92-C0A7-4F3E-801B-40EB45C9D34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DF801-E125-4EC0-9CD3-F94B940CF26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methods learn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alue fun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11120" y="2286000"/>
                <a:ext cx="6459840" cy="80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nary>
                      <m:naryPr>
                        <m:chr m:val="∑"/>
                        <m:supHide m:val="1"/>
                      </m:naryPr>
                      <m: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∈</m:t>
                        </m:r>
                        <m:r>
                          <m:t xml:space="preserve">X</m:t>
                        </m:r>
                      </m:sub>
                      <m:sup/>
                      <m:e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</m:nary>
                    <m:sSup>
                      <m:e>
                        <m:r>
                          <m:t xml:space="preserve">V</m:t>
                        </m:r>
                      </m:e>
                      <m:sup/>
                    </m:sSup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369080" y="3048120"/>
            <a:ext cx="702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starting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1840" y="4038480"/>
            <a:ext cx="78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, equivalently (sort of),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-function, 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3480" y="4724280"/>
            <a:ext cx="72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,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iscounted total reward the agent w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rue if it acts optimally after taking 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st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x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A24A2-59C4-4246-8FCE-0ACA38F6A6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ous-State R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urally, we’d also like to solve RL problems with continuous sta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: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V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must be approx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248520" y="2895480"/>
            <a:ext cx="2666880" cy="23623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llcar V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hillcar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2819520" cy="2427480"/>
          </a:xfrm>
          <a:prstGeom prst="rect">
            <a:avLst/>
          </a:prstGeom>
          <a:ln w="0">
            <a:noFill/>
          </a:ln>
        </p:spPr>
      </p:pic>
      <p:pic>
        <p:nvPicPr>
          <p:cNvPr id="138" name="phase" descr=""/>
          <p:cNvPicPr/>
          <p:nvPr/>
        </p:nvPicPr>
        <p:blipFill>
          <a:blip r:embed="rId2"/>
          <a:stretch/>
        </p:blipFill>
        <p:spPr>
          <a:xfrm>
            <a:off x="3200400" y="2895480"/>
            <a:ext cx="2581200" cy="243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3C9EC-FB88-4DB6-A634-0163694C629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Value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81480" y="3505320"/>
            <a:ext cx="282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x interpo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24280" y="2666880"/>
            <a:ext cx="3657600" cy="2438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ED3A2-F6A3-409C-BB78-AB24428F15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31FCB-62CA-479F-B41C-7B8522673A8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strict our attention to discrete-action, discrete-time noiseless environ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40C21-A324-4A66-A347-F61D9851636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idea borrowed from classical game-playing AI: limited-depth lookahe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 of all possibl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perform the first action in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maximiz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ward accumulated 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tate at the end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lso constrain search to trajectori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which action is switched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imes.  Considerably cheaper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22C35-8B01-4848-AECE-DA7B7DDC21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d</cp:lastModifiedBy>
  <cp:lastPrinted>1998-07-19T03:30:17Z</cp:lastPrinted>
  <dcterms:modified xsi:type="dcterms:W3CDTF">1998-07-19T07:28:28Z</dcterms:modified>
  <cp:revision>59</cp:revision>
  <dc:subject/>
  <dc:title>Applying Online Search Techniques to  Reinforcement Learning</dc:title>
</cp:coreProperties>
</file>