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91200" cy="928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160" y="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76480" y="694800"/>
            <a:ext cx="4641840" cy="348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17120"/>
            <a:ext cx="30290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160" y="8817120"/>
            <a:ext cx="30286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C740BD1-F6EC-4ADF-9F2E-115C5F171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at we’ve figured out how to evaluate how good a specified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 is, let’s consider learning simple network structures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.  In particular, let’s consider networks where each bit is conditioned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ctly one other bit, except one bit that serves as the root of the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se I start off with no arcs.  Now, suppose we were to consider ad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rc from, say, x17 to x22.  How much would the total network score go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before the arc is added, x22’s contribution to the score is minu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conditional entropy of x22.  After the arc is added, then its con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conditional entropy of X22 given X17.  So the increase in the scor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inus this, which is the MUTUAL INFORMATION of x17 and x2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ugh it’s not obvious from these equation here, the mutual inform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metr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unwittingly reinvented by Baluja and Davies thirty year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ou can either have a real honest-to-goodness noisy dataset to start wit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start off with a uniform prior; it doesn’t usually make too much difference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til we run out of time or the algorithm is generating the same solution 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ver agai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… using the maximum spanning tree algorithm we just describ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uts exponentially decreasing weight on datapoints that were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 a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generate bitstrings?  Depth-first traversal of t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ctually have to remember old bitstrings: just keep around O(n^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fficient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.  So, now we know how to use the maximum spanning tree algorithm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best Bayesian network in which each node has at most one parent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o use such models for optimization.  How about more complic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?  For example, how about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fortunately, though K=1 is relatively easy, as we just saw, when you b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up to 2 the problem suddenly becomes NP-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ever, as is often the case with NP-complete problems, you can use se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 to come with what are hopefully reasonably good solution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people have tried using hillclimbing and simulated anne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search for good network structures.   Obvious question now is, what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do you use during this search over network structur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now, just to be wild and crazy, let’s consider using hillclimbing over Bayesi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s in order to find more complex probabilistic models of the go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tstrings generated so far during combinatorial optimization ru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before, we start with a dataset taken from uniform distribution, but 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lso start with an empty Bayesian network (containing no arcs) from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begin our first hillclimbing run over Bayesian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again, we loop until we get bored or the algorithm conver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ach iteration, first we start a search for a network that is a lo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timal model of our current dataset.  We use steepest-descent hillclimb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every single step is an edge addition, removal, or reversal.  After w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a locally optimal network, we do the same thing we did with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: generate a bunch of bitstrings, evaluate them, and stick them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taset after decaying the weight of the old data by a b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 a bit better on some problems, about the same as the Tree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gorithm on others (and the tree-based algorithm seems to wor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tty well).  However, it is much more of a CPU and memory ho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it’s not clear it’s worth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are our results only a little bett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that more complex networks start putting too much emphasis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oitation rather than exploration.  Or, maybe we’re just not find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ight network structu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, so far we’ve shown the tree algorithm works well on problems up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256 bits.  Why haven’t we talked about any real problems ye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possible approach: instead of  generating candidate solutions exclus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the probabilistic models used here, like the tree-shaped models, we c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models to select good starting points for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here’s an algorithm that does just that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, we tried this algorithm out on some larger optimization probl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used a stochastic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ompared COMIT against hillclimbers using completely random restar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against hillclimbers that choose the best string of many randomly gene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ings and then start hillclimbing on tha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/SA: candidate solution generation typically stoch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versions of simulated annealing model how sensitive the eval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 is to particular parameter settings and then adjust the candi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and acceptance criteria accordingly,  although this is typ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done in domains where you’re maximizing over a real-valu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ther than a set of bitstr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lternative approach we’ll be exploring in this tal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pproaches we’ll be looking at all have the following in comm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ain an explicit blah blah blah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explore three or four different classes of probability distributions in th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date rule: similar to update rule used in unsupervised competitive lear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le thing is very similar to a team of cooperative learning automata in whi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isions are made independently but the reinforcement depends on all of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omata’s chosen actions.  Update rule is just reward-inaction upd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76480" y="695160"/>
            <a:ext cx="4641840" cy="34815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27480" cy="41781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is, find the single probability model with the greatest posterior likelih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etically, of course, we might want to average over all ALL of the Pi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ighted by their posterior likelihoods, but that’s impossible in practice si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t of possible models is way, way too bi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Bayes’ rule and ignoring the P(D) on the bottom because it’s a constan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, for the moment let’s assume we have uniform priors over the allow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twork structures, and concentrate on this te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A0B-A2AC-4D4A-98DA-968B147FE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3DE8-F474-48C4-9ADE-EC4FE1D1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8CEC-B1FC-4E5E-9C32-9DBCB901A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3869-2EBF-45D2-BF89-97BFEB43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3FAA5-82A8-4726-8B6E-ADAE6C10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506FB-FF5A-48A6-B4C5-3605E386C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74FE-D28F-40AF-A2CE-B99465EA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1BB2E-536A-4AF3-B6B9-FF2CA98C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7D7E9-EF53-4B17-872B-F63B9699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DDBED-6C74-474E-AB0D-2A236C798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CD460-A81B-4611-8D73-D05DEFB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ED17-841F-44FA-B79B-960509A4C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8180-4D51-4E6D-821B-39BC050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B93B-3FFB-46A4-A93E-AB56DBA7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F31E-CF5D-4CDA-B3BE-9E167896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CEF9F-F466-4D4C-AFA2-97095E927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44792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55960"/>
            <a:ext cx="263340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3B9A-0161-4A65-B19C-F6997DB8C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A8F8-3C35-4881-B1E5-27A176CF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86A-DFE1-44A0-9487-1349C310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71B-400D-4884-AC7F-91476D90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AAF5A-E2C8-4EB9-8EEE-72643C6CC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2212-3306-4BD5-B5CC-7E5629A6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5596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1792-BD46-425D-AA96-AE67807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447920"/>
            <a:ext cx="399096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55960"/>
            <a:ext cx="8178840" cy="21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42F4-027A-458E-9E38-4D797124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66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8F5B-2416-459F-B836-FB1A3F249B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1066680"/>
            <a:ext cx="8458200" cy="22860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373CD-D023-43E4-92D3-D25E91E8B6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981080"/>
            <a:ext cx="8458200" cy="304920"/>
          </a:xfrm>
          <a:prstGeom prst="rect">
            <a:avLst/>
          </a:prstGeom>
          <a:gradFill rotWithShape="0">
            <a:gsLst>
              <a:gs pos="0">
                <a:srgbClr val="004675"/>
              </a:gs>
              <a:gs pos="50000">
                <a:srgbClr val="0099ff"/>
              </a:gs>
              <a:gs pos="100000">
                <a:srgbClr val="004675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66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robabilistic Modeling for 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133720" y="30481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tt Dav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hool of Computer Sci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and Justsystem Pittsburgh Research Cen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int work with Shumeet Balu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88480" y="186696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reduces to maximiz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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 the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’s parents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…) is the average entropy of an empirical distribution exhibited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3352680" y="2590920"/>
                <a:ext cx="210996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H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’s allow each bit to be conditioned on at most one other b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208960" y="2057400"/>
            <a:ext cx="4801680" cy="2362320"/>
            <a:chOff x="2208960" y="2057400"/>
            <a:chExt cx="4801680" cy="2362320"/>
          </a:xfrm>
        </p:grpSpPr>
        <p:sp>
          <p:nvSpPr>
            <p:cNvPr id="151" name=""/>
            <p:cNvSpPr/>
            <p:nvPr/>
          </p:nvSpPr>
          <p:spPr>
            <a:xfrm>
              <a:off x="4191120" y="20574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4197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48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34120" y="281952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95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5268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623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8" name=""/>
            <p:cNvCxnSpPr>
              <a:stCxn id="151" idx="4"/>
              <a:endCxn id="152" idx="0"/>
            </p:cNvCxnSpPr>
            <p:nvPr/>
          </p:nvCxnSpPr>
          <p:spPr>
            <a:xfrm>
              <a:off x="4419360" y="2528640"/>
              <a:ext cx="229320" cy="2768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9" name=""/>
            <p:cNvCxnSpPr>
              <a:stCxn id="151" idx="3"/>
              <a:endCxn id="153" idx="7"/>
            </p:cNvCxnSpPr>
            <p:nvPr/>
          </p:nvCxnSpPr>
          <p:spPr>
            <a:xfrm flipH="1">
              <a:off x="343800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0" name=""/>
            <p:cNvCxnSpPr>
              <a:stCxn id="151" idx="5"/>
              <a:endCxn id="154" idx="1"/>
            </p:cNvCxnSpPr>
            <p:nvPr/>
          </p:nvCxnSpPr>
          <p:spPr>
            <a:xfrm>
              <a:off x="4581360" y="2462040"/>
              <a:ext cx="820080" cy="4104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1" name=""/>
            <p:cNvCxnSpPr>
              <a:stCxn id="153" idx="3"/>
              <a:endCxn id="157" idx="0"/>
            </p:cNvCxnSpPr>
            <p:nvPr/>
          </p:nvCxnSpPr>
          <p:spPr>
            <a:xfrm flipH="1">
              <a:off x="2590560" y="3224160"/>
              <a:ext cx="52416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53" idx="5"/>
              <a:endCxn id="156" idx="0"/>
            </p:cNvCxnSpPr>
            <p:nvPr/>
          </p:nvCxnSpPr>
          <p:spPr>
            <a:xfrm>
              <a:off x="3438000" y="3224160"/>
              <a:ext cx="143640" cy="4197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3" name=""/>
            <p:cNvSpPr/>
            <p:nvPr/>
          </p:nvSpPr>
          <p:spPr>
            <a:xfrm>
              <a:off x="556272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400800" y="3657600"/>
              <a:ext cx="457200" cy="45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65" name=""/>
            <p:cNvCxnSpPr>
              <a:stCxn id="154" idx="4"/>
              <a:endCxn id="163" idx="0"/>
            </p:cNvCxnSpPr>
            <p:nvPr/>
          </p:nvCxnSpPr>
          <p:spPr>
            <a:xfrm>
              <a:off x="5562360" y="3290400"/>
              <a:ext cx="22932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6" name=""/>
            <p:cNvCxnSpPr>
              <a:stCxn id="154" idx="5"/>
              <a:endCxn id="164" idx="1"/>
            </p:cNvCxnSpPr>
            <p:nvPr/>
          </p:nvCxnSpPr>
          <p:spPr>
            <a:xfrm>
              <a:off x="5724360" y="3224160"/>
              <a:ext cx="743760" cy="486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7" name=""/>
            <p:cNvCxnSpPr>
              <a:stCxn id="157" idx="3"/>
            </p:cNvCxnSpPr>
            <p:nvPr/>
          </p:nvCxnSpPr>
          <p:spPr>
            <a:xfrm flipH="1">
              <a:off x="2208960" y="4061880"/>
              <a:ext cx="2199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8" name=""/>
            <p:cNvCxnSpPr>
              <a:stCxn id="155" idx="5"/>
            </p:cNvCxnSpPr>
            <p:nvPr/>
          </p:nvCxnSpPr>
          <p:spPr>
            <a:xfrm>
              <a:off x="488592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9" name=""/>
            <p:cNvCxnSpPr>
              <a:stCxn id="163" idx="4"/>
            </p:cNvCxnSpPr>
            <p:nvPr/>
          </p:nvCxnSpPr>
          <p:spPr>
            <a:xfrm>
              <a:off x="5790960" y="4128840"/>
              <a:ext cx="1080" cy="291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0" name=""/>
            <p:cNvCxnSpPr>
              <a:stCxn id="164" idx="3"/>
            </p:cNvCxnSpPr>
            <p:nvPr/>
          </p:nvCxnSpPr>
          <p:spPr>
            <a:xfrm flipH="1">
              <a:off x="617220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1" name=""/>
            <p:cNvCxnSpPr>
              <a:stCxn id="155" idx="3"/>
            </p:cNvCxnSpPr>
            <p:nvPr/>
          </p:nvCxnSpPr>
          <p:spPr>
            <a:xfrm flipH="1">
              <a:off x="4419000" y="4061880"/>
              <a:ext cx="14364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2" name=""/>
            <p:cNvCxnSpPr>
              <a:stCxn id="164" idx="5"/>
            </p:cNvCxnSpPr>
            <p:nvPr/>
          </p:nvCxnSpPr>
          <p:spPr>
            <a:xfrm>
              <a:off x="6791400" y="4061880"/>
              <a:ext cx="21960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56" idx="3"/>
            </p:cNvCxnSpPr>
            <p:nvPr/>
          </p:nvCxnSpPr>
          <p:spPr>
            <a:xfrm flipH="1">
              <a:off x="3123360" y="4061880"/>
              <a:ext cx="29628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stCxn id="156" idx="5"/>
            </p:cNvCxnSpPr>
            <p:nvPr/>
          </p:nvCxnSpPr>
          <p:spPr>
            <a:xfrm>
              <a:off x="3743280" y="4061880"/>
              <a:ext cx="295560" cy="3582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52" idx="4"/>
              <a:endCxn id="155" idx="0"/>
            </p:cNvCxnSpPr>
            <p:nvPr/>
          </p:nvCxnSpPr>
          <p:spPr>
            <a:xfrm>
              <a:off x="4647960" y="3290400"/>
              <a:ext cx="76680" cy="3531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76" name=""/>
          <p:cNvSpPr/>
          <p:nvPr/>
        </p:nvSpPr>
        <p:spPr>
          <a:xfrm>
            <a:off x="82224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4724280"/>
            <a:ext cx="85345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ing an arc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creases network score 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information gain”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   (not necessarily obvious, but tru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utual inform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Single-Parent Tree-Shaped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255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find optimal single-parent tree-shaped network, just find maximum spanning tree us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as the weight for the edge betwee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               [Chow and Liu, 1968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done in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ime (assum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has already been reduced to sufficient statist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al Dependency Trees for Combinatorial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Baluja &amp; Davies, 1997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t with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itialized from the uniform distrib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probability distribution represent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Evaluat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tring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fter decaying the weight of all datapoints already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a factor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tween 0 and 1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*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per ite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523880" y="2743200"/>
            <a:ext cx="6553440" cy="38862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-Color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isy Graph-Coloring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ach edge connected to vertices of different colors, add +1 to evaluation function with probability 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ogp" descr=""/>
          <p:cNvPicPr/>
          <p:nvPr/>
        </p:nvPicPr>
        <p:blipFill>
          <a:blip r:embed="rId1"/>
          <a:stretch/>
        </p:blipFill>
        <p:spPr>
          <a:xfrm>
            <a:off x="1600200" y="2819520"/>
            <a:ext cx="6400800" cy="37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al Dependency Tree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d following optimization algoirthms on variety of small problems, up to 256 bits lo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optimal dependency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with chain-shaped networks (ala MIM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 tren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&amp; GAs did relatively poor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ong probabilistic methods, PBIL &lt; Chains &lt; Trees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accurate models are b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Higher-Order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ximum spanning tree algorithm gives us the optimal Bayesian Network in which each node has at most one par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bout finding the best network in which each node has at mo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arents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gt;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P-complete problem! [Chickering, et al., 1995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can use search heuristics to look for “good” network structures (e.g., [Heckerman, et al., 1995]), e.g. hillclimb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Bayesian Network-Based Combinatorial Optimiz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uniform distribution, and Bayesian network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empty network containing no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steepest-ascent hillclimbing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find locally optimal network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peat until no changes increase sco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how each possible edge addition, removal or deletion would affect penalized log-likelihood sc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change that maximizes increase in sco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and evalu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ay weight of datapoints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cently generated datapoints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best bit string ever evaluat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6360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better than Tree-based optimization algorithm on some toy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ghly the same as Tree-based algorithm on other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ly more computation than Tree-based algorithm, however, despite efficiency h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not much better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much emphasis on exploitation rather than explor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eepest-ascent hillclimbing over network structures not good enough, particularly when starting from old network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9194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ing Probabilistic Models for Intelligent Resta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e-based algorithm’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execution time per iteration very expensive for large 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more so for algorithm based on more complicated Bayesian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possible approach: use probabilistic models to select good starting points for faster optimization algorithms, e.g. hillclimbing or P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orial Opt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“evaluation function”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(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: fixed-length bitstr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…,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: real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ght represen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ob shop sche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SP t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retized numeric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focus: “Black Box” opt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domain-dependent heu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48520" y="3586320"/>
            <a:ext cx="1544400" cy="8888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324240"/>
            <a:ext cx="2006640" cy="262080"/>
          </a:xfrm>
          <a:prstGeom prst="parallelogram">
            <a:avLst>
              <a:gd name="adj" fmla="val 191415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rot="5392800">
            <a:off x="7471080" y="3637080"/>
            <a:ext cx="1150920" cy="517680"/>
          </a:xfrm>
          <a:prstGeom prst="parallelogram">
            <a:avLst>
              <a:gd name="adj" fmla="val 48592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711840" y="3794040"/>
            <a:ext cx="571680" cy="444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66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f(x)</a:t>
            </a:r>
            <a:endParaRPr b="0" i="1" lang="en-US" sz="2400" spc="1" strike="noStrike">
              <a:ln w="9360">
                <a:solidFill>
                  <a:srgbClr val="0066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6711840" y="3375000"/>
            <a:ext cx="1131840" cy="157320"/>
          </a:xfrm>
          <a:prstGeom prst="parallelogram">
            <a:avLst>
              <a:gd name="adj" fmla="val 179863"/>
            </a:avLst>
          </a:prstGeom>
          <a:solidFill>
            <a:srgbClr val="000000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20000" y="3375000"/>
            <a:ext cx="0" cy="157320"/>
          </a:xfrm>
          <a:prstGeom prst="line">
            <a:avLst/>
          </a:prstGeom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762600" y="2590920"/>
            <a:ext cx="1081080" cy="261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x=1001001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7277040" y="2957400"/>
            <a:ext cx="0" cy="312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77040" y="4578480"/>
            <a:ext cx="0" cy="260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7072200" y="4943520"/>
            <a:ext cx="411120" cy="314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37.4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ing Optimizers with Mutual Information Trees [Baluja and Davies, 1998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datas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bitstrings drawn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d optimal dependency tre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which to mode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.  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Execute a fast-search procedure, initialized with the best solutions generated from </a:t>
            </a:r>
            <a:r>
              <a:rPr b="0" i="1" lang="en-US" sz="2000" spc="-1" strike="noStrike">
                <a:solidFill>
                  <a:srgbClr val="ff66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up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the worst bitstrings i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the best bitstrings found during the fast-search run just execu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Hill-climb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single best bitstring generated by tree as starting point of a stochastic hillclimbing algorithm that allows at most PATIENCE moves to points of equal value before giving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et to 10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ompare COMIT vs.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itstrings 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llclimbing with restarts from best bitstring ou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sen randomly from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1981080"/>
            <a:ext cx="8076960" cy="43434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7375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Example of Behavi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SP domain: 100 cities, 700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HCperf.lite" descr=""/>
          <p:cNvPicPr/>
          <p:nvPr/>
        </p:nvPicPr>
        <p:blipFill>
          <a:blip r:embed="rId1"/>
          <a:stretch/>
        </p:blipFill>
        <p:spPr>
          <a:xfrm>
            <a:off x="1676520" y="2133720"/>
            <a:ext cx="6643440" cy="1676160"/>
          </a:xfrm>
          <a:prstGeom prst="rect">
            <a:avLst/>
          </a:prstGeom>
          <a:ln w="0">
            <a:noFill/>
          </a:ln>
        </p:spPr>
      </p:pic>
      <p:pic>
        <p:nvPicPr>
          <p:cNvPr id="204" name="Tperf.lite" descr=""/>
          <p:cNvPicPr/>
          <p:nvPr/>
        </p:nvPicPr>
        <p:blipFill>
          <a:blip r:embed="rId2"/>
          <a:stretch/>
        </p:blipFill>
        <p:spPr>
          <a:xfrm>
            <a:off x="1676520" y="3962520"/>
            <a:ext cx="6656400" cy="16761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503880" y="5790240"/>
            <a:ext cx="277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ion Number *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15840" y="2594880"/>
            <a:ext cx="54612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ur Length *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76920" y="2285280"/>
            <a:ext cx="123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llcli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9760" y="41904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10490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Hillclimbing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25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2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each non-COMIT hillclimber with confidence &gt; 95%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HCxxx: pick best of xxx randomly generated starting points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ITxxx: pick best of xxx starting points generated by tree before hillclimb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80880" y="3124080"/>
          <a:ext cx="8382240" cy="348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8382240" cy="34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ith PB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amples fro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 PBIL’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ctor according to the unconditional distributions contained in the bes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% of these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BIL run terminated after 5000 evaluations without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kept at 1000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t to 100 (as bef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BIL parameters: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.15; updat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single best example out of 50 each iteration; some “mutation” of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as w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IT w/PBIL: Resul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295280" y="3124080"/>
          <a:ext cx="68281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124080"/>
                    <a:ext cx="68281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0102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number is average over at least 50 ru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lgorithm given 600,000 evaluation function c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lighted: better than opposing algorithm(s) with confidence &gt; 95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BIL+R: PBIL with restart after 5000 evaluations without improvement (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reinitialized to 0.5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clusions &amp; 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makes probabilistic modeling applicable to much larg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IT led to significant improvements over baseline search algorithm in most problems tes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ing COMIT to more interesting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orporating domain knowle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ture 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algorithm based on complex Bayesian Networks more pract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w/simpler search algorithms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OM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ying COMIT to more interesting problems and other baselin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LKSA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more sophisticated probabilistic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COMIT to combine results of multiple search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monly Used Approa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limbing, simulated annea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andidate solutions “neighboring” single current working solution (e.g. differing by one b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make no attempt to model how particular bits affect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tempt to implicitly capture dependency of solution quality on bit values by maintaining a population of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crossover and mutation operators on population members to generate new candidate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Explicit Probabilistic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n explicit probability distribu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which we generate new candidat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uniform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chastically gener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didate solution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make it more likely to generate solutions “similar” to the “good”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best bitstring ever evalu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different choices for what sorts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use and how to update it after candidate solution evalu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pulation-Based Incremental Lear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-Based Incremental Learning (PBIL) [Baluja, 1995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s a vector of probabilities: o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babilit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 for each b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 (Each initialized to 0.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til termination criteria me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e a population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aluate th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of the be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trings of the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dju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make that bitstring more like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8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0600" indent="-21456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sometimes uses “mutation” and/or pushes P away from bad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works very well (compared to hillclimbing and GAs) despite its independence assum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981080" y="4572000"/>
                <a:ext cx="36576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'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5791320" y="447408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048120" y="4910040"/>
                <a:ext cx="213336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791320" y="4839120"/>
            <a:ext cx="1587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set to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514960" y="4875840"/>
            <a:ext cx="39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ing Inter-Bit Dependen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MIC [De Bonet, et al., 1997]: sort bits into Markov Chain in which each bit’s distribution is conditionalized on value of previous bit in ch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: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te chain from be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% of bitstrings evaluated so far; generate new bitstrings from chain; rep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general framework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257800"/>
            <a:ext cx="81788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3962160"/>
            <a:ext cx="8178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P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*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056680" y="1447920"/>
            <a:ext cx="5106240" cy="2285640"/>
            <a:chOff x="2056680" y="1447920"/>
            <a:chExt cx="5106240" cy="2285640"/>
          </a:xfrm>
        </p:grpSpPr>
        <p:sp>
          <p:nvSpPr>
            <p:cNvPr id="122" name=""/>
            <p:cNvSpPr/>
            <p:nvPr/>
          </p:nvSpPr>
          <p:spPr>
            <a:xfrm>
              <a:off x="3812400" y="14479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45840" y="151308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775240" y="20354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09800" y="236232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80644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95320" y="3146040"/>
              <a:ext cx="717840" cy="587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8" name=""/>
            <p:cNvCxnSpPr>
              <a:stCxn id="122" idx="3"/>
              <a:endCxn id="124" idx="7"/>
            </p:cNvCxnSpPr>
            <p:nvPr/>
          </p:nvCxnSpPr>
          <p:spPr>
            <a:xfrm flipH="1">
              <a:off x="3387600" y="1961640"/>
              <a:ext cx="528840" cy="1472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22" idx="5"/>
              <a:endCxn id="125" idx="1"/>
            </p:cNvCxnSpPr>
            <p:nvPr/>
          </p:nvCxnSpPr>
          <p:spPr>
            <a:xfrm>
              <a:off x="4425480" y="1961640"/>
              <a:ext cx="289440" cy="474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0" name=""/>
            <p:cNvCxnSpPr>
              <a:stCxn id="124" idx="4"/>
              <a:endCxn id="127" idx="0"/>
            </p:cNvCxnSpPr>
            <p:nvPr/>
          </p:nvCxnSpPr>
          <p:spPr>
            <a:xfrm flipH="1">
              <a:off x="3053880" y="2635200"/>
              <a:ext cx="80280" cy="49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5" idx="3"/>
              <a:endCxn id="127" idx="7"/>
            </p:cNvCxnSpPr>
            <p:nvPr/>
          </p:nvCxnSpPr>
          <p:spPr>
            <a:xfrm flipH="1">
              <a:off x="3308760" y="2876760"/>
              <a:ext cx="140580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stCxn id="123" idx="3"/>
              <a:endCxn id="125" idx="7"/>
            </p:cNvCxnSpPr>
            <p:nvPr/>
          </p:nvCxnSpPr>
          <p:spPr>
            <a:xfrm flipH="1">
              <a:off x="5222520" y="2027160"/>
              <a:ext cx="927720" cy="408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3" idx="4"/>
              <a:endCxn id="126" idx="0"/>
            </p:cNvCxnSpPr>
            <p:nvPr/>
          </p:nvCxnSpPr>
          <p:spPr>
            <a:xfrm flipH="1">
              <a:off x="6165000" y="2113200"/>
              <a:ext cx="239760" cy="1020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4" name=""/>
            <p:cNvCxnSpPr>
              <a:stCxn id="125" idx="5"/>
              <a:endCxn id="126" idx="1"/>
            </p:cNvCxnSpPr>
            <p:nvPr/>
          </p:nvCxnSpPr>
          <p:spPr>
            <a:xfrm>
              <a:off x="5223240" y="2876760"/>
              <a:ext cx="687960" cy="34344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"/>
            <p:cNvCxnSpPr>
              <a:stCxn id="123" idx="5"/>
            </p:cNvCxnSpPr>
            <p:nvPr/>
          </p:nvCxnSpPr>
          <p:spPr>
            <a:xfrm>
              <a:off x="6659280" y="2027160"/>
              <a:ext cx="504000" cy="59616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6" name=""/>
            <p:cNvCxnSpPr>
              <a:stCxn id="124" idx="3"/>
            </p:cNvCxnSpPr>
            <p:nvPr/>
          </p:nvCxnSpPr>
          <p:spPr>
            <a:xfrm flipH="1">
              <a:off x="2056680" y="2549880"/>
              <a:ext cx="823320" cy="46584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137" name=""/>
            <p:cNvCxnSpPr>
              <a:stCxn id="125" idx="4"/>
            </p:cNvCxnSpPr>
            <p:nvPr/>
          </p:nvCxnSpPr>
          <p:spPr>
            <a:xfrm flipH="1">
              <a:off x="4768920" y="2961720"/>
              <a:ext cx="199800" cy="772200"/>
            </a:xfrm>
            <a:prstGeom prst="straightConnector1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</p:grpSp>
      <p:sp>
        <p:nvSpPr>
          <p:cNvPr id="138" name=""/>
          <p:cNvSpPr/>
          <p:nvPr/>
        </p:nvSpPr>
        <p:spPr>
          <a:xfrm>
            <a:off x="990720" y="4724280"/>
            <a:ext cx="78483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fi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tructure (must be a DA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bility distribution for each variable (bit) given each possible combination of its parents’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ation with Bayesian Net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178840" cy="46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operations we need to perform during optimiza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network, generate bitstrings from the probability distribution represented by that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vial with Bayesian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ven a set of “good” bitstrings, find the network most likely to have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n a fixed network structure, trivial to fill in the probability tables optim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99"/>
              </a:spcBef>
              <a:buClr>
                <a:srgbClr val="0066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ut what structure should we use?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arning Network Structures from Da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 statement: given a data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a set of allowable Bayesian networks, find the network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the maximum posterior probabil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295280" y="3505320"/>
                <a:ext cx="644868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|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057400" y="4343400"/>
                <a:ext cx="52243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argmax</m:t>
                        </m:r>
                      </m:e>
                      <m:lim>
                        <m:r>
                          <m:t xml:space="preserve">B</m:t>
                        </m:r>
                      </m:lim>
                    </m:limLow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5T00:35:01Z</dcterms:created>
  <dc:creator>Scott Davies</dc:creator>
  <dc:description/>
  <dc:language>en-US</dc:language>
  <cp:lastModifiedBy>Scott Davies</cp:lastModifiedBy>
  <cp:lastPrinted>1997-11-19T08:05:56Z</cp:lastPrinted>
  <dcterms:modified xsi:type="dcterms:W3CDTF">1998-07-20T05:32:28Z</dcterms:modified>
  <cp:revision>114</cp:revision>
  <dc:subject/>
  <dc:title>No Slide Title</dc:title>
</cp:coreProperties>
</file>