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B763-24CC-40A5-9C32-4292EAC7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DC2B-1EEF-4E4B-BD2D-7C0DCC07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E189-6C8A-4FC0-BEBE-8E67368B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9473-0963-4011-A28E-167C03DC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9960-B327-4BD7-B346-DA09C4B5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1709-03D8-417F-8BEC-3E8EA4E0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2D10-0896-4EC9-827E-96E75A59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0D56-089B-4997-A254-A3C5B844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6FF2-CAB9-4050-A48B-BB143D3A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EA9C-EF36-4421-BF92-0C780BFC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5DC1-BE1B-4A62-9FCC-25E750E3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3299-9C8A-4B62-97E1-F5962D35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49C2-2281-47A2-913E-C1C8180874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Digital Millennium Copyright A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vid S. Touretz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 Science Depar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negie Mellon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vember, 20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E376-2E19-4AD3-BDF2-F89AB9CE0F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brary Exemp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d)(1) says libraries, archives, and educational institutions may circumvent access controls…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to gain access to a work…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to decide whether to purchase it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But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8827-8B02-415C-A1E3-B511CE89D1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Librarians’ Catch-22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d)(4) says the exemption in (d)(1) cannot be used as a defense to a claim under the anti-trafficking provisions, and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braries may not manufacture, import, etc., any technology, product, service, etc., which circumvents a technological measure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how can they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cqui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tools to circumvent under (d)(1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4AF2-E455-4A80-A5AF-92853A5B63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verse Engine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f) - allows circumvention of access controls to permit reverse engineering of software program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o achieve interoperabili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ith other progra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n’t apply to hardware, such as DVD players and med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operability” does not mean bypassing another program’s access/copying contro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E1DC-2834-4A2B-AE77-DDEA4E3E4D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ncryption Rese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g) - cracking permissible wh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fully obtained copy of the encrypted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 faith effort to obtain permission to cr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copyright infringement or computer ab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gained is disseminated in a manner calculated to advance state of knowl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cker has respectable credenti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pyright owner notified of 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0725-0B5C-4C2D-A61F-75CD71B92A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brarian of Congress Repor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 cases designated by the Librarian of Congress as exempt from 1201(a)(1)(A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Encrypted list of blocked sites used by censorware programs such as CyberPa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“Broken” access control mechanis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1201(a)(2) still applies, so providing the tools to make use of these exemptions is still illeg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B456-06F0-48AD-BBBE-B7071411E9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II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Is Code Protected Speech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5004-218C-4E8E-AE6D-B890F5A7A2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Code Speech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rnstein v. U.S. Dept. of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Snuffle encryption algorithm (a “munition”) is spe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functional aspect”; maybe object code isn’t spe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nger v. Dal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cryptography textbook with code also provided on disket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VD-CCA v. Bunner et 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California DVD case:  1st Amdt. trumps trade secret la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versal City Studios v. Reimer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2600 DVD case: even object code is spe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3AA6-930D-49D9-9BD4-F152FC5828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’s Special About Cod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mb-making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structio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not a bo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cip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LSD is not a dru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ra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 gun is not a weap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are fully protected speech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a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py or list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 computer program is a computer progr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should that make code less protec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9B5E-F3CF-469A-9B07-AE51449AB3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de is Dangerous” Argu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ftware has 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unction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spec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ftware can instantly instruct computers to do antisocial thing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makes software more dangerous than other types of speech that only instruct slow, lazy huma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4B0D-394D-4B45-90EE-5E6BC455C6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ut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Cod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Isn’t Dangero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 programs don’t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ythin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merely expressions of idea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SS does not pirate DVD mov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s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ust insert the DVD into a drive, load DeCSS onto a digital computer, and run i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have we seen this argument befo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BBA9-BA98-4F18-849B-E26A0BED68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gital Millennium Copyright Ac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acted in 1998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ed new copyright regulation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Title 17, US Code) concern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ess controls/digital rights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ability limitations for IS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adcasting music on Internet radio s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0C03-73D8-4FC9-8C82-61359C984A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uns Don’t Kill People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ople 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53DC-BD3E-405B-AC9F-265808DB48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eat Software Like Gun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rictions on possession of guns and controlled substances are constitutio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n’t interfere with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ression of ide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we restrict publication of software without restricting the expression of idea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905A-7FAC-4BE7-A341-230C7E9EDC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“No Ideas Here” Strate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im:  some programs are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urely function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do not express ide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object code purely functiona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ss_descramble.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urely functional because it relies on long boring tables of numbe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y code published in textbooks or journal articles expresses idea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0AAC-9378-4410-A491-C8CB3AEF77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deas That Code Can Expr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” is possible: here’s an existence proof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 way of doing “X” is better than the other guy’s 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s faster / Less memory / Shorter cod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” is triv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stein &amp; Horowitz’ qrpff.pl is 472 byte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D567-F9B4-4C8B-B493-534FE0132A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VD Decryption in Pe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!/usr/bin/per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472-byte qrpff, Keith Winstein and Marc Horowitz &lt;sipb-iap-dvd@mit.edu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MPEG 2 PS VOB file -&gt; descrambled output on stdou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usage: perl -I &lt;k1&gt;:&lt;k2&gt;:&lt;k3&gt;:&lt;k4&gt;:&lt;k5&gt; qrp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where k1..k5 are the title key bytes in least to most-significant o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''$/=\2048;while(&lt;&gt;){G=29;R=142;if((@a=unqT="C*",_)[20]&amp;48){D=89;_=unqb24,qT,@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=map{ord qB8,unqb8,qT,_^$a[--D]}@INC;s/...$/1$&amp;/;Q=unqV,qb25,_;H=73;O=$b[4]&lt;&lt;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|256|$b[3];Q=Q&gt;&gt;8^(P=(E=255)&amp;(Q&gt;&gt;12^Q&gt;&gt;4^Q/8^Q))&lt;&lt;17,O=O&gt;&gt;8^(E&amp;(F=(S=O&gt;&gt;14&amp;7^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^S*8^S&lt;&lt;6))&lt;&lt;9,_=(map{U=_%16orE^=R^=110&amp;(S=(unqT,"\xb\ntd\xbz\x14d")[_/16%8]);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^=(72,@z=(64,72,G^=12*(U-2?0:S&amp;17)),H^=_%64?12:0,@z)[_%8]}(16..271))[_]^((D&gt;&gt;=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+=P+(~F&amp;E))for@a[128..$#a]}print+qT,@a}';s/[D-HO-U_]/\$$&amp;/g;s/q/pack+/g;ev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 is Illegal to Display This S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0076-8621-4D92-9A7A-2B6DAEFE1B5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mminent Peril” Strate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rts now accept that code is spee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speech that poses a specific and imminent threat of harm is not protec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t’s kill all the lawyers” is protec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ll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a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awyer with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un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 is n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ld publishing computer code meet this test?  “Computers make crime too easy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2E95-F701-4B83-AE0A-51EA885935F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RNING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You are only 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e mouse click away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om destroying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motion picture industry!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Times New Roman"/>
              </a:rPr>
              <a:t>here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 continue..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B42D-8806-4E53-B84A-4C547FAD450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unting Mouse Click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dge Kaplan enjoined 2600 from distributing the DeCSS sou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600 responded by posting links to mirror si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dge Kaplan enjoined 2600 from linking to mirror sites: only a mouse click a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2600 published the URLs as plaintex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nd Circuit:  now it takes four mouse clic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many mouse clicks are enough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C1BB-5314-4321-B89F-D10FF519704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Does Code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No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se an Imminent Dange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ecutable binary -- extremely dangerou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ilable source -- very dangero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reen dump (a “picture” of the code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de printed on a t-shir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expressed in a formal language for which there is no compil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it’s not really “code”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2CCE-B260-4909-9BB6-A76A6AE7280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Is Code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No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Dangerou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translated line-by-line into machine-generated Englis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es threat of reverse-trans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expressed in colloquial Englis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essor Felten, call your lawy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ure thoughts about an algorith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01(a)(1) says thou shalt not “manufacture”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43C3-05F5-4A20-A92B-801B95E4430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-Circumvention Provi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a)(1)(A): No person shal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ircumvent a technological measu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at effectivel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ontrols acce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a work protected under this tit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an’t watch encrypted DVDs at home using an unapproved (open-source) DVD play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an’t decrypt your lawfully purchased eBoo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64BE-A719-4E20-A2C5-8FC4081A0D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re to Draw the Lin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rvative:  only ban binaries and compilable/interpretable sou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o easy to work around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beral:  ban anything that can potentially be turned into executable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mendment doesn’t permit th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6B46-F459-4A23-A85A-2DCAF649AC9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ricting only the publication of imminently dangerous “code” will prove unworkable in practi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ting mouse clicks is sil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de can take many for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s will soon understand English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uly effective restrictions require the censorship of “dangerous ideas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C8F6-0436-4C05-A1AC-E89AD9AE689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Censorship of Idea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Intoler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3AFC-0C35-43F7-B6B8-39C29E941D6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-Trafficking Provi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a)(2):  No person shal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nufacture, import, offer to the public, provide, or otherwise traffic 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y technology, product service, device, component, or part thereof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) is primarily designed or produced for the purpose of circumventing a technological measure that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effectively controls acce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a work protected under this titl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C84C-83B4-4891-8928-38741A082B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B) has only limited commercially significant purpose or use other than to circumvent..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) is marketed by that person … for use in circumventing a technological measure that effectively controls access to a work protected under this tit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You can sell digital signal processors, but you can’t sell cable TV descrambl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33AD-C91E-4F94-B14B-2EAB436577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-Trafficking:  Copy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b)(1):  No person shal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nufacture, import, offer to the public, provide, or otherwise traffic 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y technology, product, service, device, component, or part thereof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) is primarily designed or produced for the purpose of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rcumventing protection afforded by a technological measure that effectively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protects a right of a copyright own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nder this title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8D35-4B00-4D6C-B5BD-ED32E482C2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scape Clause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c)(1): Nothing in this section shall affect rights, remedies, limitations, o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fenses to copyright infringem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cluding fair u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under this title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01 isn’t about copyright infring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if A circumvents, B can make fair use of the fruits of A’s cr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AD0B-335D-4DB3-8047-B2A52209CD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scape Clause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c)(4): Nothing in this section shall enlarge or diminish any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ights of free speech or the pre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activities using consumer electronics, telecommunications, or computing product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missed as “precatory language” (pleading) by 2nd Circuit Court of Appe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3A94-EA25-4BDA-A45A-1BFFD5178A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xemptions to Anti-Circumven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d) - Libr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e) - Law enforc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f) - Reverse engineering of soft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g) - Encryption re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h) - Protect minors from the 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i) - Protect personally identifying inf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j) - Security te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7450-AACE-4BC3-906C-ED514504B3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0:34:09Z</dcterms:created>
  <dc:creator>Dave Touretzky</dc:creator>
  <dc:description/>
  <dc:language>en-US</dc:language>
  <cp:lastModifiedBy>Dave Touretzky</cp:lastModifiedBy>
  <cp:lastPrinted>2001-10-22T04:05:25Z</cp:lastPrinted>
  <dcterms:modified xsi:type="dcterms:W3CDTF">2001-12-01T02:59:28Z</dcterms:modified>
  <cp:revision>51</cp:revision>
  <dc:subject/>
  <dc:title>The Digital Millennium Copyright A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cmu.edu/~dst</vt:lpwstr>
  </property>
  <property fmtid="{D5CDD505-2E9C-101B-9397-08002B2CF9AE}" pid="9" name="LinkColor">
    <vt:r8>16711782</vt:r8>
  </property>
  <property fmtid="{D5CDD505-2E9C-101B-9397-08002B2CF9AE}" pid="10" name="MailAddress">
    <vt:lpwstr>dst@cs.cmu.edu</vt:lpwstr>
  </property>
  <property fmtid="{D5CDD505-2E9C-101B-9397-08002B2CF9AE}" pid="11" name="NavBtnPos">
    <vt:r8>3</vt:r8>
  </property>
  <property fmtid="{D5CDD505-2E9C-101B-9397-08002B2CF9AE}" pid="12" name="Other">
    <vt:lpwstr>Transparencies from "A Great Debate:  Is Computer Code Protected Speech?", November 30, 2001, Carnegie Mellon University.    </vt:lpwstr>
  </property>
  <property fmtid="{D5CDD505-2E9C-101B-9397-08002B2CF9AE}" pid="13" name="OutputDir">
    <vt:lpwstr>C:\WINNT\Profiles\dst\Personal\Debate\slides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