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446-DDA1-4458-AAD8-4A24418E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905-B9B4-46C8-AEE9-4EF6D45C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1E5-46CE-4E37-80C5-014F58FA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6DD-9BCB-4436-9AFC-EE157436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CDB-C2A8-4DDF-8ECB-0D8F8A61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A52-E65C-4CA4-98C5-500A4F90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837-B573-4C67-93C4-46DED72E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78E-D808-4728-A81B-2064066B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871-4250-4C67-98F4-BE557694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434-E800-4AC9-80A5-B09A3CE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B31-1299-438D-B6D7-1DAD14A9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22A-7D43-4345-ABC0-52CEC6C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B5C6-61ED-466F-8BEE-42C4D255E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gital Millennium Copyright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S. Touret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C1D-D24B-4B03-BF59-244ECC90BB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y Exem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1) says libraries, archives, and educational institutions may circumvent access controls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to gain access to a work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to decide whether to purchase i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u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027-C18E-4711-822E-6D88775119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brarians’ Catch-22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(4) says the exemption in (d)(1) cannot be used as a defense to a claim under the anti-trafficking provisions, and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ies may not manufacture, import, etc., any technology, product, service, etc., which circumvents a technological measu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ow can the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qui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ols to circumvent under (d)(1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84D-DBFA-457B-AB6F-C2C7D12DA3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Engine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allows circumvention of access controls to permit reverse engineering of software progr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 achieve interoperabi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ther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apply to hardware, such as DVD players and me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operability” does not mean bypassing another program’s access/copying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A25-711D-45A2-9612-3ED2E50FFC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cryption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cracking permissible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fully obtained copy of the encrypted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faith effort to obtain permission to cr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pyright infringement or computer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gained is disseminated in a manner calculated to advance state of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cker has respectable credent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owner notified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D21-9B6B-4B1D-92EA-5E43EFB8B8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brarian of Congress Repo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s designated by the Librarian of Congress as exempt from 1201(a)(1)(A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Encrypted list of blocked sites used by censorware programs such as CyberPa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“Broken” access control mech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1201(a)(2) still applies, so providing the tools to make use of these exemptions is still illeg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63D-BB55-49F1-AA0B-BF4D038144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II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Is Code Protected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DB6-A7CA-454E-9FDA-39FA027755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Code Speech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nstein v. U.S. Dept. of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nuffle encryption algorithm (a “munition”)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functional aspect”; maybe object code isn’t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ger v. Da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ryptography textbook with code also provided on diske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D-CCA v. Bunner et 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lifornia DVD case:  1st Amdt. trumps trade secret l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al City Studios v. Reimer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0520" indent="-221400">
              <a:spcBef>
                <a:spcPts val="499"/>
              </a:spcBef>
              <a:buClr>
                <a:srgbClr val="00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600 DVD case: even object code is 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06A-A5A8-45DD-8208-BE9CC14005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Special About Cod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mb-mak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not a bo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ci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LSD is not a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a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gun is not a weap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re fully protected speec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py or lis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computer program is a computer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hould that make code less prote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A84-7672-4930-9EB0-E89723402A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de is Dangerous” Argu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ha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pec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 can instantly instruct computers to do antisocial thing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kes software more dangerous than other types of speech that only instruct slow, laz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209-84D1-4F67-A212-0E94F685F9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d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sn’t Dangero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programs don’t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th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merely expressions of idea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SS does not pirate DVD mov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insert the DVD into a drive, load DeCSS onto a digital computer, and run i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have we seen this argument befo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9F7-7E09-443A-BC2D-E8A035FA81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gital Millennium Copyright A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cted in 1998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d new copyright reg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itle 17, US Code)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controls/digital right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ability limitations fo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 music on Internet radio 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67C-ED14-477A-8134-FBB4214301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uns Don’t Kill Peopl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ople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368-5517-46B8-8B78-0366CB3636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 Software Like Gu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ons on possession of guns and controlled substances are constitut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n’t interfere with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ression of ide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restrict publication of software without restricting the expression of id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641-8F73-4BD8-831A-D7F52807E1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“No Ideas Here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:  some programs ar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ely func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do not express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object code purely func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ss_descramble.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rely functional because it relies on long boring tables of numb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code published in textbooks or journal articles expresses ide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F7D-B9ED-4C6E-9D1E-F908A9999C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deas That Code Can Expr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possible: here’s an existence proo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way of doing “X” is better than the other guy’s 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faster / Less memory / Shorter co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” is triv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stein &amp; Horowitz’ qrpff.pl is 472 by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6ED-A858-44DE-B445-8B45835DA4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D Decryption in Pe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!/usr/bin/per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472-byte qrpff, Keith Winstein and Marc Horowitz &lt;sipb-iap-dvd@mit.edu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MPEG 2 PS VOB file -&gt; descrambled output on stdo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usage: perl -I &lt;k1&gt;:&lt;k2&gt;:&lt;k3&gt;:&lt;k4&gt;:&lt;k5&gt; qrp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 where k1..k5 are the title key bytes in least to most-significant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''$/=\2048;while(&lt;&gt;){G=29;R=142;if((@a=unqT="C*",_)[20]&amp;48){D=89;_=unqb24,qT,@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=map{ord qB8,unqb8,qT,_^$a[--D]}@INC;s/...$/1$&amp;/;Q=unqV,qb25,_;H=73;O=$b[4]&lt;&lt;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|256|$b[3];Q=Q&gt;&gt;8^(P=(E=255)&amp;(Q&gt;&gt;12^Q&gt;&gt;4^Q/8^Q))&lt;&lt;17,O=O&gt;&gt;8^(E&amp;(F=(S=O&gt;&gt;14&amp;7^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S*8^S&lt;&lt;6))&lt;&lt;9,_=(map{U=_%16orE^=R^=110&amp;(S=(unqT,"\xb\ntd\xbz\x14d")[_/16%8]);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^=(72,@z=(64,72,G^=12*(U-2?0:S&amp;17)),H^=_%64?12:0,@z)[_%8]}(16..271))[_]^((D&gt;&gt;=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+=P+(~F&amp;E))for@a[128..$#a]}print+qT,@a}';s/[D-HO-U_]/\$$&amp;/g;s/q/pack+/g;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 is Illegal to Display This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97F-63EF-493B-8D4E-0D844F5205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minent Peril”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 now accept that code is spee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peech that poses a specific and imminent threat of harm is not prot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kill all the lawyers” is prot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yer wit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u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is n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publishing computer code meet this test?  “Computers make crime too eas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8E7-9C72-4A38-9E0B-96A2D879E7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RN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ou are only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mouse click awa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destroy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tion picture industry!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her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continue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0D1-C654-463D-9129-F64FC4E4CA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Mouse Cli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distributing the DeCSS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00 responded by posting links to mirror si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 Kaplan enjoined 2600 from linking to mirror sites: only a mouse click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2600 published the URLs as plain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nd Circuit:  now it takes four mouse cli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mouse clicks are enoug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185-830A-426A-A8F2-B310D3B436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oe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se an Imminent Dang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able binary -- extremely dangerou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ilable source -- very dangero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dump (a “picture” of the code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printed on a t-shi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a formal language for which there is no compil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really “cod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ADA-C149-4F98-A884-2B12367260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Is Code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ranslated line-by-line into machine-generated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es threat of reverse-trans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expressed in colloquial Eng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Felten, call your law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re thoughts about an algorith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(a)(1) says thou shalt not “manufacture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E49-4E57-438C-AD88-33A94F1D18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Circumvention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1)(A):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ircumvent a technological meas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effectivel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rols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work protected under this ti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watch encrypted DVDs at home using an unapproved (open-source) DVD play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n’t decrypt your lawfully purchased e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0CA-2FD0-4226-95C9-554C1E61FB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to Draw the Lin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:  only ban binaries and compilable/interpretable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easy to work aroun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eral:  ban anything that can potentially be turned into executabl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mendment doesn’t permit th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B27-C8FA-4898-9605-3E9CA03455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ng only the publication of imminently dangerous “code” will prove unworkable in pract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ing mouse clicks is si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can take many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s will soon understand Englis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ly effective restrictions require the censorship of “dangerous ide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683-16BB-4DC7-90BF-F9115FD8EE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ensorship of Idea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Intolera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AB5-95A0-4A1D-87DA-FA8436B887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 Provi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a)(2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 circumventing a technological measure tha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ffectively controls 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a work protected under this titl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E9A-23B7-49B9-B024-FB842C4C05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has only limited commercially significant purpose or use other than to circumvent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is marketed by that person … for use in circumventing a technological measure that effectively controls access to a work protected under this tit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You can sell digital signal processors, but you can’t sell cable TV descrambl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76A-558D-4C92-8CEF-83E3147004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-Trafficking:  Copy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b)(1):  No person shal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nufacture, import, offer to the public, provide, or otherwise traffic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y technology, product, service, device, component, or part thereof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is primarily designed or produced for the purpose of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venting protection afforded by a technological measure that effectively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protects a right of a copyright ow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der this title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E44-BBA7-4D80-870E-ABAB4738B5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1): Nothing in this section shall affect rights, remedies, limitations, o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enses to copyright infring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ing fair u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under this titl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1 isn’t about copyright infrin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if A circumvents, B can make fair use of the fruits of A’s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221-6AB8-4A15-9A8C-2CBE81BFC6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cape Claus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 USC 1201(c)(4): Nothing in this section shall enlarge or diminish an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ights of free speech or the p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activities using consumer electronics, telecommunications, or computing produc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missed as “precatory language” (pleading) by 2nd Circuit Court of App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676-6F42-4983-BE23-561123A383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emptions to Anti-Circum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d) -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e) - Law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f) - Reverse engineering of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g) - Encryption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h) - Protect minors from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i) - Protect personally identifying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01(j) - Security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DAE-9C9C-406F-9276-16AEE77523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0:34:09Z</dcterms:created>
  <dc:creator>Dave Touretzky</dc:creator>
  <dc:description/>
  <dc:language>en-US</dc:language>
  <cp:lastModifiedBy>Dave Touretzky</cp:lastModifiedBy>
  <cp:lastPrinted>2001-10-22T04:05:25Z</cp:lastPrinted>
  <dcterms:modified xsi:type="dcterms:W3CDTF">2001-12-01T02:59:28Z</dcterms:modified>
  <cp:revision>51</cp:revision>
  <dc:subject/>
  <dc:title>The Digital Millennium Copyright 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dst</vt:lpwstr>
  </property>
  <property fmtid="{D5CDD505-2E9C-101B-9397-08002B2CF9AE}" pid="9" name="LinkColor">
    <vt:r8>16711782</vt:r8>
  </property>
  <property fmtid="{D5CDD505-2E9C-101B-9397-08002B2CF9AE}" pid="10" name="MailAddress">
    <vt:lpwstr>dst@cs.cmu.edu</vt:lpwstr>
  </property>
  <property fmtid="{D5CDD505-2E9C-101B-9397-08002B2CF9AE}" pid="11" name="NavBtnPos">
    <vt:r8>3</vt:r8>
  </property>
  <property fmtid="{D5CDD505-2E9C-101B-9397-08002B2CF9AE}" pid="12" name="Other">
    <vt:lpwstr>Transparencies from "A Great Debate:  Is Computer Code Protected Speech?", November 30, 2001, Carnegie Mellon University.    </vt:lpwstr>
  </property>
  <property fmtid="{D5CDD505-2E9C-101B-9397-08002B2CF9AE}" pid="13" name="OutputDir">
    <vt:lpwstr>C:\WINNT\Profiles\dst\Personal\Debate\slide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