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9440" y="303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04640" y="1893960"/>
            <a:ext cx="9671400" cy="5667480"/>
          </a:xfrm>
          <a:prstGeom prst="roundRect">
            <a:avLst>
              <a:gd name="adj" fmla="val 28"/>
            </a:avLst>
          </a:prstGeom>
          <a:solidFill>
            <a:srgbClr val="ffff0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21720" y="7391520"/>
            <a:ext cx="118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5AA0C41-310A-4249-990E-5AFB440DBA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and Etiquette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 Scientific Research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3400" y="2101320"/>
            <a:ext cx="8977320" cy="4821480"/>
          </a:xfrm>
          <a:prstGeom prst="rect">
            <a:avLst/>
          </a:prstGeom>
          <a:noFill/>
          <a:ln w="0">
            <a:noFill/>
          </a:ln>
        </p:spPr>
        <p:txBody>
          <a:bodyPr lIns="0" rIns="0" tIns="105480" bIns="0" anchor="t" anchorCtr="1">
            <a:normAutofit fontScale="98000"/>
          </a:bodyPr>
          <a:p>
            <a:pPr marL="335880" indent="0">
              <a:lnSpc>
                <a:spcPct val="8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s of conduct for persons in autho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avoid impropriet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apf Dingbats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Dingbats"/>
                <a:ea typeface="Dingbats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to tell if you're being screwe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itstream Vera Sans"/>
              </a:rPr>
              <a:t>David S. Touretzky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mputer Science Departmen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arnegie Mellon Univers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ril 2007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1: Allocation of Credi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wo forms of credit in a paper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cknowledg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gets listed as a co-author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b director is co-author on all paper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udent “owes” his advisor co-authorship on at least one journal paper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rdering of Auth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is the ordering of authors determined in your fiel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rst and last usually the key posi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fferent disciplines/cultures follow different conven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co-author should have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ubstantia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ntributions to the work (not necessarily to the writing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-authors share responsibility for the scientific integrity of the pape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Penalties may apply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vid Baltimore cas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obel laureate was co-author on a pap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mary investigator accused of frau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uter Scienc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nerally: authors ordered by the amount of their contribu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in the Theory community, author list is sometimes alphabetica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ontributions may include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ing key ide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ing the implement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unning experiments / collecting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alyzing the 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riting up the resul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-Authorship in C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special honor to be last autho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 general consensus on lab directors getting co-authorshi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typically have 1-4 autho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arely see large author lists as in physic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many computer scientists do interdisciplinary work: HCI, computational neurosci.  Culture clash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eople who made contributions that don't merit co-authorship may (sometimes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) be acknowledged elsewhere in the pap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 as good as co-authorship, since it doesn't go on a vi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it's good manners, and costs noth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cknowledge People Who..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9800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99000"/>
          </a:bodyPr>
          <a:p>
            <a:pPr lvl="1" marL="855000" indent="-284400">
              <a:lnSpc>
                <a:spcPct val="98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tribute a good idea or coin a useful te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pointers to papers for the bibl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debugging some tricky c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elp with typesetting or illust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vide significant resources, e.g., loan of equipment, tissue samples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lso acknowledge your funding agency!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sk Your Advisor: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What are the authorship conventions in our field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What are the authorship conventions in your lab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Are students prohibited from submitting papers (even if sole-authored) without your approval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Who owns the code/data/manuscript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ee CMU policy on intellectual propert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CMU cases: Godspell, SCRIB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to Discu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Smith is invited to write an article for a special issue of The Big Important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 invites grad student Jones to help with the artic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 of the most important results are the product of Jones' thesis researc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 should the authorship be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2: Misappropriating Tex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orrowing “just a sentence or two” without attribution is plagiaris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ut plagiarism is easily avoided: give the citatio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9036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earch Ethics Cover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ny Ar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formed consent, IRB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se of animals in research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ropriate care/use, IACUC over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ral deb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em cell research, impact of technology (nuclear weapons, genetic screening), et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issues (today's topic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uthorship, IP rights, confidentiality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 parrot is a remarkable bird in many respects.  In terms of intelligence, humor, and manual dexterity, it is unequalled 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Exampl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 the parrot is a remarkable bird in many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other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respects.  In terms of intelligence, humor, an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b3b3b3"/>
                </a:solidFill>
                <a:latin typeface="Bitstream Vera Sans"/>
              </a:rPr>
              <a:t>[manual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dexterity, it is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unparalleled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he avian kingdom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er Attribu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Parrots are excellent mimics. But in addition, as Smith (2005) observes, “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in terms of intelligence, humor, and manual dexterity,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Bitstream Vera Sans"/>
              </a:rPr>
              <a:t>[they are]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unequalled in the avian kingdom.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ation 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917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e other people's work freely and of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 antagonizing your reviewers by failing to acknowledge their contribu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monstrate your mastery of the literatu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ake new friends.  (Scholars love to be ci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courage others to cite your work in retur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itations are good, but stealing citations is not goo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mith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Rat head direction cells with cosine tuning curves have been found in parietal/retrosplenial cortex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at's wrong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Chen (1989) turns out to be an unpublished PhD thesis that Jones has never seen, and wouldn't comprehend if he ha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Cita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4160" y="2101680"/>
            <a:ext cx="84614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Jones,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Some robots use inertial guidance for maintaining heading information in unfamiliar environments.  There is evidence for a similar mechanism in the parietal/retrosplenial cortex of rats (</a:t>
            </a:r>
            <a:r>
              <a:rPr b="0" i="1" lang="en-US" sz="3200" spc="-1" strike="noStrike">
                <a:solidFill>
                  <a:srgbClr val="ff0000"/>
                </a:solidFill>
                <a:latin typeface="Bitstream Vera Sans"/>
              </a:rPr>
              <a:t>Smith, 2005, citing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Chen, 1989)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isappropriation of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Ide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 researcher must not present someone else's ideas as his or her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ite your sour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n if the originator of the idea doesn't care about credit, it is improper to present their idea as one's own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iting The Source of an Idea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050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dding “eye of newt” to the mixture produced a higher reaction rate and, ultimately, a far more potent product.</a:t>
            </a: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br>
              <a:rPr sz="3200"/>
            </a:b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______________________</a:t>
            </a:r>
            <a:br>
              <a:rPr sz="3200"/>
            </a:br>
            <a:r>
              <a:rPr b="0" i="1" lang="en-US" sz="3200" spc="-1" strike="noStrike" baseline="33000">
                <a:solidFill>
                  <a:srgbClr val="000000"/>
                </a:solidFill>
                <a:latin typeface="Bitstream Vera Sans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We are grateful to Mr. A. E. Newman, a high school student who was visiting our lab for the day, for suggesting this important ste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3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the rul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are researchers supposed to behav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o says so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Know your rights &amp; responsibiliti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-authorshi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s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85348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to Academic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233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rowse the web to find papers or tech reports you lik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ownload the source files, or OCR the printed documen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the author and titl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hange all occurrences of “I”/”we” or “my”/”our” accompanying citations of the true author's wor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ubmit to an obscure conference or journal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Font typeface="Bitstream Vera Sans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peat until fame and fortune achiev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st Track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s technique was pioneered in the 1980s by C. V. Papadapoulos, University of Patras, Gree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or Jeannette Wing at CMU: new category in her vita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pers of mine published in a refereed journal under someone else's name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3: Responsibilities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“Ethical Guidelines to Publications of Chemical Research”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Accounts of Chemical Research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(12):355-357, December 1985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. Do your fair share of review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. Promptly return the manuscript if you are not qualified to review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8153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Judge quality objectivel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due regard to scientific standards, b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ith respect for the intellectual independence of the author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Avoid potential conflicts of interes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ither decline to review the manuscript, or fully disclose the conflict to the edi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some cases, it may be appropriate to submit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review, to prevent any accusation of bi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Do not review manuscripts where you have a personal or professional connection to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girlfriend / boyfriend / cous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r colleague down the hal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6. Treat manuscripts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nfidential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turn the manuscript you just reviewed into a course handout, even if it's wonderfully relevan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it until it's published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er Responsibilit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7. Provide adequate support for your judgments,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including citation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Wrong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's resul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be wrong, since they conflict with those of Bovik, who invented the fiel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555120"/>
            <a:ext cx="897732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dequate Support for Judgment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Right way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authors should explain the discrepancies between their results and the seminal work of Bovik (“Short messages over long distances,”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Journal of Hyperspace Zephygram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, vol. 1, no. 1, pp. 1-22, January 2007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8. Know the literatur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int out missing cit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ll the editor's attention to any substantial similarity between this manuscript and one already published or currently submitted to another journal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voiding Ethical Dilemma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to recognize the most common ethical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isappropriation of text or idea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eptive reporting of research resul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reach of confidentialit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ake steps now to avoid conflicts in your research group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 resolve them quickly with minimal discomfor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Learn from others' mistake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9. Turn in all reviews promptl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Someone's tenure case may hang on your decis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ponsibilities of a Reviewe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0. Do not use the ideas or results in a manuscript except with permission of the author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ou can abandon an approach the paper shows will be unsuccessfu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you cannot use a new technique disclosed in the paper without first obtaining the author's permi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the editor know what you are doing!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600" y="2101680"/>
            <a:ext cx="915192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rue story: scientist A submits a paper to a leading journal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ditor B assigns it to scientist C to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thinks the data are interesting, but the computer model is naïve and the results unimpressive.  Since the model is the focus of the paper, C recommends the paper be rejected, and explains wh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an experienced computer model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believes that an approach he developed two years ago would be much better suited to modeling A's data, if extended in a certain direc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would like access to A's data, but could do the experiment with simulated data, or data from someone else's lab, if necessary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acting An Autho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 is very concerned about the appearance of impropriety, and wants to act in a responsible and professional mann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itstream Vera Sans"/>
              </a:rPr>
              <a:t>What should C do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views That St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point in you career, a sharp-tongued reviewer is going to cut you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t some later point, you will review a paper by some fool in desperate need of a clue, and will be sorely tempted to cut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ribb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sist this urge.  Remember how it felt when someone did it to you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4: Research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inting mice with a magic marker to fake the results of a genetic experiment.  (True case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bricating some missing data points in order to complete a study in time for a deadlin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Varieties of Data Fraud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Sigma Xi's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“Honor in Science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Trimm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smoothing irregularities to make the data appear extremely accurate and precis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ook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retaining only those results that fit the theory, and discarding other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Forging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: inventing some or all of the research data that are reported; even reporting experiments that were never performed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vorite Excuses for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rimming and Cooking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ose outlier points must be measurement erro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y would only confuse the reader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verybody cleans up their data before publication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endel “cleaned up” his genetics dat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Kepler fabricated data on planetary observations to support his controversial claim that the planets follow elliptical orbi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hics Educat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cientific integrity training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in many areas of the scien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and NSF training grants requir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training is a standard part of medical school and business school curricul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ut not computer science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amous Fabricator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steur gave a public demonstration of wha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upposed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be his new oxygen-attenuation approach to vaccine productio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reality he was using a chemically treated vaccine, an idea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ol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from Henri Toussaint (who suffered a nervous breakdown and died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8736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cent Cas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oo Suk Hwang (South Korea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results to support his claim to have cloned human stem cel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erced egg donations from female subordin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ric Poehlman (U. Vermont)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aked data in 15 NIH grant applications worth $2.9 million over 10 yea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itstream Vera Sans"/>
              </a:rPr>
              <a:t>Sentenced to 366 days in federal pris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Hall of Sham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IH Office of Research Integr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 http://ori.dhhs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nual summaries of scientific misconduct cases, and the penalties appli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ypically: barred for 3-5 years from applying for federal funds or serving on any review/advisory panels.  (So ...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sue #5: Failure to Disclos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isclosure of potential conflicts of interest is always a good idea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t's insurance against accusations of misconduc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ailure to disclose may lead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 appearance of improprie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il time (e.g., for violating disclosure requirements in a stock offering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962520"/>
            <a:ext cx="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of Poor Disclosur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om the back of an MIT Press book jack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This wonderfully lucid book describes what history may judge to be the second state in the evolution of &lt;stuff&gt;... It may take generations to unfold the implications of this new species of &lt;artifact&gt; -- but &lt;author&gt; and his colleagues have already made an impressive beginning.”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's Not Disclosed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is the author's thesis advisor, and hence one of the “colleagues” being laud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endorser has a financial interest in the company that is commercializing the artifact described in the book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general, scientists should not announce discoveries to the public before they have undergone peer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leishman and Pons “cold fusion” ca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liberately avoiding peer review for personal gain may constitute professional miscondu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echnical issues sometimes have to be simplified when explaining research to the public, bu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1) Don't oversell your result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2) Don't allow others (e.g., a reporter, or a company you're working with) to hype your results to make the story more exciting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lking to the Public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3394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3) Make sure the technical details are available at the time of any public announcements, so the facts can be checked by any scientist who cares to do s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4) Don't present a shoddy and over-hyped undergraduate research project as “The Carnegie Mellon Study” unless the Provost gives permission to attach CMU's name to i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127080"/>
            <a:ext cx="86058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 in the Scientific Community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ointing out flaws in competing approaches is fine.  But be respectful of other researchers working in your are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ho do you think is going to be reviewing your papers and grant proposal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ational Academy of Science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On Being a Scientis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AAS bookl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Good Science and Responsibl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Scientist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gma X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Honor in Sci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The Responsible Researcher: Path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Bitstream Vera Sans"/>
              </a:rPr>
              <a:t>       and Pitfal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tiquett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aise good behavior in public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riticize bad behavior (e.g., failure to cite) in priv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public criticism is necessary, stick to objective facts.  Personal attacks are never appropriate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3120" y="339840"/>
            <a:ext cx="95932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et your advisor's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you have a problem with your advisor, discuss it with him or her before seeking outside opin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f necessary, speak confidentially with some other senior scientist whose opinions you respect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ealing with Problem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metimes misunderstandings or unhappy situations can be cleaned up through mediation by a third part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n the event of serious misconduct, charges may be filed with the Provost's off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e university has a formal policy for handling misconduct allegation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andling Misconduc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andle allegations of misconduct with as much confidentiality as poss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ople's careers are at stak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member that there are two sides to every stor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Ethics education should help you to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derstand the rules of professional behavior, and the reasons for them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Know your righ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eet your responsibil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st basic rule of all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on't do anything that would embarrass you if people found out about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Thanks, mom.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sources (cont.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's Center for the Advancement of Applied Ethics and Political Philosoph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eter Madsen offers several ethics cour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ethics education program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itstream Vera Sans"/>
              </a:rPr>
              <a:t>studies</a:t>
            </a: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to foster discus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Lots of good material on the web, e.g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bioethics.od.nih.go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    http://onlineethics.or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1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MU Faculty and Student Handbooks contain policies on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nflict of interes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se of human subjects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ndling of allegations of misconduct in resear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wnership of intellectual proper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vacy of computer accou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xual harass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ttp://www.cmu.edu/polici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fficial Polici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35920" cy="5085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fessional and scientific societies often have codes of ethics.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CM: don't mislead the publ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82320" indent="-21348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APA: don't sleep with your patient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But are they enforced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7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any scientific journals impose ethical requirements on authors: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lease of data to other scienti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mpliance with NIH animal care guidelin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B approval for expts. on human subjec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7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voiding duplicate publicat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8:11:24Z</dcterms:created>
  <dc:creator>David Touretzky</dc:creator>
  <dc:description>Lilac title area and left border with three blue-green accent elements on left border, gray background</dc:description>
  <dc:language>en-US</dc:language>
  <cp:lastModifiedBy>dst</cp:lastModifiedBy>
  <dcterms:modified xsi:type="dcterms:W3CDTF">2011-01-17T04:06:04Z</dcterms:modified>
  <cp:revision>23</cp:revision>
  <dc:subject/>
  <dc:title>Ethics and Etiquette in Scientific Research</dc:title>
</cp:coreProperties>
</file>